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4A96-4A17-4D9F-AFA4-346D9E79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C496-1414-418D-B0C2-A96ED53E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B218-5B48-42FF-8CE5-D655BF64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B7DB-6E22-4F5D-9A87-E3FAE57D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FD23-CCDA-4EBD-9F50-2E9A3061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1DA6-2323-45F1-A081-DCB23699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FC87-0036-42A9-9CE0-09ACBB6A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39B9-03ED-4CCC-AE87-C2219B9F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3412-088F-4501-84E3-08481BF5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47E6-7391-4C44-8264-63026D38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EAFB-2715-460A-9FA2-912CECD8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F548-1BF1-4072-830D-32F21D72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6F42-272E-407E-8DC4-E8511B7D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B3FF-DF44-444F-A195-78071FA6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8802-8411-44A0-941C-EA82955D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1BB3-ED22-4872-B308-33213116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6B77-67B5-434C-A739-50BC0F53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9F1-4D6E-492A-9CFB-6D029B4E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561-9BBB-411E-93DA-1DF15B3E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EBD4-6AE8-4C2C-B1C0-B4368C92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256-DCDD-47B9-92CB-B9AC6B8B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3552-AA86-42A0-B0BD-A298033B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D2FC-6D72-4F1C-88DF-1813D915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DE89-D1CD-49EB-8B49-614059BC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E3BA-E102-48C0-998B-487D853DF8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EF8C-8257-4A90-AF44-C789BC8E6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Урок по теме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«Исследование функций с помощью производной»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щук Наталья Юр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лицей №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од Ступи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’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/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’(x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ак как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=f’(x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,k=-2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то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’=0.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адача 4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ямая, проходящая через точку A(2;2), касается графика функции в точке B (-3,5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дите значение производной функции f(x) в точке с абсциссой x=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 как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=f’(x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=-0.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адача 5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ункция y=f(x) определена на промежутке (-4,4). На рисунке изображен график ее производной. Укажите количество точек в которых касательная к графику функции f(x) параллельна прямой y=2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273640" y="2637000"/>
            <a:ext cx="3870360" cy="2376360"/>
            <a:chOff x="5273640" y="2637000"/>
            <a:chExt cx="3870360" cy="237636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5273640" y="2637000"/>
              <a:ext cx="38703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 txBox="1"/>
            <p:nvPr/>
          </p:nvSpPr>
          <p:spPr>
            <a:xfrm>
              <a:off x="5273640" y="2637000"/>
              <a:ext cx="3870360" cy="23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ffcc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273640" y="2637000"/>
            <a:ext cx="3870360" cy="2376360"/>
            <a:chOff x="5273640" y="2637000"/>
            <a:chExt cx="3870360" cy="2376360"/>
          </a:xfrm>
        </p:grpSpPr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5273640" y="2637000"/>
              <a:ext cx="38703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 txBox="1"/>
            <p:nvPr/>
          </p:nvSpPr>
          <p:spPr>
            <a:xfrm>
              <a:off x="5273640" y="2637000"/>
              <a:ext cx="3870360" cy="23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ffcc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 ка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=2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 прям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2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секает граф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яти точ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84720" y="2205000"/>
            <a:ext cx="485928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адача 6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движении тела по прямой расстоя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в метрах ) до точка отсчета изменялась по закону 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=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ремя в секундах ,прошедшее от начала движения . Вычислите скорость тела (в м/с) через 4 секунды после начала движ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ешение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(t)=S’(t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+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(4)=32+7=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адача 7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 движении тела по прямой расстояние S до точки отсчёта изменялось по закону S=S(t),где t-время в секундах ,прошедшее от начала движения. На данном ниже рисунке изображен график функции S=S(t).Определите , сколько раз на протяжении первых 12 секунд движения скорости тела обращалась в ноль ( момент начала движения не учитываетс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2709720"/>
            <a:ext cx="4194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ешение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 ка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(t)=S’(t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поэтому скорость тела равна 0 при тех значения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когда производна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’(t)=0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то ест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=0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значит касательная параллельна оси абци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 :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43280" y="2733840"/>
            <a:ext cx="4194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91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Самостоятельная работа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Вариант-1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57000"/>
            <a:ext cx="5278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ункция y=f(x) определена на промежутке(-4,3). На рисунке изображен ее график и касательная к этому графику в точке с абсциссой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ычислите значен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зводной f ′(x) в точк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ямая проходящая через точку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-1,0) касает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в точк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(-6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.Найдите значение производной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(x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очке с абсциссой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-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движении тела по прямой расстояни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метрах)до точки отсчета изменялось по закону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6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ремя в секундах прошедшее от начала движения. Вычислить скорость тела через 7 сек. После начала дви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724360" y="1989000"/>
            <a:ext cx="3186360" cy="2376720"/>
            <a:chOff x="5724360" y="1989000"/>
            <a:chExt cx="3186360" cy="237672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724360" y="1989000"/>
              <a:ext cx="318636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5724360" y="1989000"/>
              <a:ext cx="3186360" cy="23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ffcc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бщить изученный материал по теме исследование функции с помощью производ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репить понятия :нахождение значения производно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’(x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очк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нахождение тангенса угла наклона касательной графику функ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f (x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очк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нахождение углового коэффициента касательной графику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f(x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точке с абсциссо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готовка учащихся к сдачи ЕГЭ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ариант-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кция определена на промежутк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-3,4)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На рисунке изображен график и касательная к этому графику с абсциссой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-1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Вычислите значении производной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’(x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в точк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-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ямая проходящая через точк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(1.2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асается графика функци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=f(x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в точк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-3,4). Найдите значение производной функци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(x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в точке с абсциссой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=-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движении тела по прямой расстояни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метрах ) до точки отсчета изменялось по закон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(t)=3t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-2t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время в секундах прошедшее от начала движения. Вычислите ускорение тела через 4 секунды после начала движ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716360" y="1341360"/>
            <a:ext cx="3600720" cy="2160720"/>
            <a:chOff x="4716360" y="1341360"/>
            <a:chExt cx="3600720" cy="2160720"/>
          </a:xfrm>
        </p:grpSpPr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4716360" y="1341360"/>
              <a:ext cx="360072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 txBox="1"/>
            <p:nvPr/>
          </p:nvSpPr>
          <p:spPr>
            <a:xfrm>
              <a:off x="4716360" y="1341360"/>
              <a:ext cx="3600720" cy="216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cc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Ход уро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тный сч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шение зада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стоятельн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машнее зад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Устный счет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ти производну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исать уравнение касательной графику фун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адача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y =f(x) определена на промежутке (-3,4). На рисунке изображен ее график и касательная к этому графику в точке с абсциссо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Вычислите значение производной 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x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очк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292720" y="2565360"/>
            <a:ext cx="3382920" cy="2952720"/>
            <a:chOff x="5292720" y="2565360"/>
            <a:chExt cx="3382920" cy="295272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5292720" y="2565360"/>
              <a:ext cx="338292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 txBox="1"/>
            <p:nvPr/>
          </p:nvSpPr>
          <p:spPr>
            <a:xfrm>
              <a:off x="5292720" y="2565360"/>
              <a:ext cx="3382920" cy="29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cc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 как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 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/(x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x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а касательная проходит через точки (1,-2) ,(5,0), то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= 0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же задание можно решить по графику найдем прямоугольный треугольник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(1.-2), B(5.0), C(1.0) tg a=2/4 (tg=0.5 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это и есть коэффициен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адача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 определена на промежутке (-5,4). На рисунке изображен ее график и касательная к этому графику в точке с абсциссой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0 Вычислите значение производной f′(x) в точк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43280" y="2781360"/>
            <a:ext cx="4194360" cy="2879640"/>
            <a:chOff x="4643280" y="2781360"/>
            <a:chExt cx="4194360" cy="287964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4643280" y="2781360"/>
              <a:ext cx="419436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 txBox="1"/>
            <p:nvPr/>
          </p:nvSpPr>
          <p:spPr>
            <a:xfrm>
              <a:off x="4643280" y="2781360"/>
              <a:ext cx="4194360" cy="28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cc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ешение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=-2.5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чему ?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адача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ункция y =f(x) определена на промежутке (-3,4) ). На рисунке изображен ее график и касательная к этому графику в точке с абсциссо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-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Вычислите значение производно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1/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-6 в точк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43280" y="2492280"/>
            <a:ext cx="4194360" cy="2449440"/>
            <a:chOff x="4643280" y="2492280"/>
            <a:chExt cx="4194360" cy="244944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4643280" y="2492280"/>
              <a:ext cx="419436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 txBox="1"/>
            <p:nvPr/>
          </p:nvSpPr>
          <p:spPr>
            <a:xfrm>
              <a:off x="4643280" y="2492280"/>
              <a:ext cx="4194360" cy="244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ffcc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3T18:30:01Z</dcterms:created>
  <dc:creator>Наталья</dc:creator>
  <dc:description/>
  <dc:language>en-US</dc:language>
  <cp:lastModifiedBy>Пользователь</cp:lastModifiedBy>
  <dcterms:modified xsi:type="dcterms:W3CDTF">2012-12-24T02:19:41Z</dcterms:modified>
  <cp:revision>3</cp:revision>
  <dc:subject/>
  <dc:title>Слайд 1</dc:title>
</cp:coreProperties>
</file>