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4.gif" ContentType="image/gif"/>
  <Override PartName="/ppt/media/image1.gif" ContentType="image/gif"/>
  <Override PartName="/ppt/media/image2.wmf" ContentType="image/x-wmf"/>
  <Override PartName="/ppt/media/image3.gif" ContentType="image/gif"/>
  <Override PartName="/ppt/media/image7.gif" ContentType="image/gif"/>
  <Override PartName="/ppt/media/image12.gif" ContentType="image/gif"/>
  <Override PartName="/ppt/media/image15.wmf" ContentType="image/x-wmf"/>
  <Override PartName="/ppt/media/image4.gif" ContentType="image/gif"/>
  <Override PartName="/ppt/media/image6.gif" ContentType="image/gif"/>
  <Override PartName="/ppt/media/image11.gif" ContentType="image/gif"/>
  <Override PartName="/ppt/media/image8.gif" ContentType="image/gif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D295-8DB0-4916-B00F-82E616C7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9A46-E61B-4E63-B6FD-C42D1EAE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608-5A52-4C0C-A481-84B8324E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041-22FF-449C-BC31-A218D3CD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70AA-7592-4076-B332-791B6B1E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300-CBF0-4D2D-B373-BE26BF07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893-AB6E-4A8B-A82F-FDB2D51F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799-7F7C-4A38-AA62-DA417BFC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61C5-7C8E-482A-A192-84BEC088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160-3640-450F-8CE7-3628F0DD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4CF-22D7-465C-B95A-7E70CB38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6E9-2D95-4212-88D7-52ACEB33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A698-A962-4B5A-A0C8-6636C3950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609480"/>
            <a:ext cx="6781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2700000" blurRad="0" rotWithShape="0">
                    <a:srgbClr val="000099"/>
                  </a:outerShdw>
                </a:effectLst>
                <a:latin typeface="Impact"/>
              </a:rPr>
              <a:t>Математика в школ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27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95480" y="2209680"/>
            <a:ext cx="2781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еометр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8800" y="3429000"/>
            <a:ext cx="519120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ема «Четырехугольники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7 клас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6019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: Ярковая В. 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934320" y="4952880"/>
            <a:ext cx="127296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3000" y="228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ТВЕТЫ:  1)-г;    2)- в;   3)- 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8380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114300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26920" y="1628280"/>
            <a:ext cx="2971800" cy="914400"/>
          </a:xfrm>
          <a:prstGeom prst="parallelogram">
            <a:avLst>
              <a:gd name="adj" fmla="val 81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7360" y="18432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2971800"/>
            <a:ext cx="2514600" cy="1295280"/>
          </a:xfrm>
          <a:prstGeom prst="parallelogram">
            <a:avLst>
              <a:gd name="adj" fmla="val 485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51960" y="1438200"/>
            <a:ext cx="47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а+5а=10,8;  9а=10,8;   а=1,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29480" y="905040"/>
            <a:ext cx="747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усть  а- коэффициент пропорциональнос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4114800"/>
            <a:ext cx="6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4038480"/>
            <a:ext cx="2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2757600"/>
            <a:ext cx="4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3880" y="2743200"/>
            <a:ext cx="2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1240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048120" y="2971800"/>
            <a:ext cx="759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71800" y="266688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51960" y="2657520"/>
            <a:ext cx="688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сть уго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PNE=x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гда уго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PE= 5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x+x=90;  6x=90;  x=15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P=10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010280" y="4267080"/>
            <a:ext cx="1349640" cy="15433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404360" y="1125360"/>
            <a:ext cx="3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31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458200" cy="4805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139392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set>
                                      <p:cBhvr>
                                        <p:cTn id="329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90720" y="990720"/>
            <a:ext cx="63244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Повторить признаки и свойства параллелограм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. Решить задачи № 375, 37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По желанию: №37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851280" y="278136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5" dur="2000" fill="hold"/>
                                        <p:tgtEl>
                                          <p:spTgt spid="2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228600"/>
            <a:ext cx="580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7600" y="1143000"/>
            <a:ext cx="76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Повторение ранее изученно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Тест № 1 по повторению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Изучение новой темы «Свойства параллелограмм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Закрепление темы.Решение задач на готовых чертеж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Подведение итогов урока. Выставление оцен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Домашнее задание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2502" t="0" r="0" b="0"/>
          <a:stretch/>
        </p:blipFill>
        <p:spPr>
          <a:xfrm>
            <a:off x="5867280" y="3505320"/>
            <a:ext cx="2887920" cy="2971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16923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59320" y="681120"/>
            <a:ext cx="3016440" cy="2038320"/>
          </a:xfrm>
          <a:custGeom>
            <a:avLst/>
            <a:gdLst/>
            <a:ahLst/>
            <a:rect l="l" t="t" r="r" b="b"/>
            <a:pathLst>
              <a:path w="1900" h="1284">
                <a:moveTo>
                  <a:pt x="1900" y="0"/>
                </a:moveTo>
                <a:lnTo>
                  <a:pt x="786" y="1284"/>
                </a:lnTo>
                <a:lnTo>
                  <a:pt x="0" y="342"/>
                </a:lnTo>
                <a:lnTo>
                  <a:pt x="1900" y="0"/>
                </a:lnTo>
                <a:close/>
              </a:path>
            </a:pathLst>
          </a:custGeom>
          <a:solidFill>
            <a:srgbClr val="6060ff"/>
          </a:solidFill>
          <a:ln w="0">
            <a:solidFill>
              <a:srgbClr val="606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27600" y="2719440"/>
            <a:ext cx="3014640" cy="2028600"/>
          </a:xfrm>
          <a:custGeom>
            <a:avLst/>
            <a:gdLst/>
            <a:ahLst/>
            <a:rect l="l" t="t" r="r" b="b"/>
            <a:pathLst>
              <a:path w="1899" h="1278">
                <a:moveTo>
                  <a:pt x="1899" y="935"/>
                </a:moveTo>
                <a:lnTo>
                  <a:pt x="1121" y="0"/>
                </a:lnTo>
                <a:lnTo>
                  <a:pt x="0" y="1278"/>
                </a:lnTo>
                <a:lnTo>
                  <a:pt x="1899" y="935"/>
                </a:lnTo>
                <a:close/>
              </a:path>
            </a:pathLst>
          </a:custGeom>
          <a:solidFill>
            <a:srgbClr val="6060ff"/>
          </a:solidFill>
          <a:ln w="0">
            <a:solidFill>
              <a:srgbClr val="606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692280"/>
            <a:ext cx="3548160" cy="4066920"/>
          </a:xfrm>
          <a:custGeom>
            <a:avLst/>
            <a:gdLst/>
            <a:ahLst/>
            <a:rect l="l" t="t" r="r" b="b"/>
            <a:pathLst>
              <a:path w="2235" h="2562">
                <a:moveTo>
                  <a:pt x="1899" y="2219"/>
                </a:moveTo>
                <a:lnTo>
                  <a:pt x="2235" y="0"/>
                </a:lnTo>
                <a:lnTo>
                  <a:pt x="335" y="342"/>
                </a:lnTo>
                <a:lnTo>
                  <a:pt x="0" y="2562"/>
                </a:lnTo>
                <a:lnTo>
                  <a:pt x="1899" y="2219"/>
                </a:lnTo>
                <a:close/>
              </a:path>
            </a:pathLst>
          </a:custGeom>
          <a:solidFill>
            <a:srgbClr val="a0a0ff"/>
          </a:solidFill>
          <a:ln w="0">
            <a:solidFill>
              <a:srgbClr val="a0a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827600" y="4203720"/>
            <a:ext cx="3014640" cy="544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827240" y="1224000"/>
            <a:ext cx="531720" cy="352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9320" y="1224000"/>
            <a:ext cx="2482920" cy="2979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358960" y="681120"/>
            <a:ext cx="3016440" cy="542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842240" y="681120"/>
            <a:ext cx="533520" cy="3522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827600" y="681120"/>
            <a:ext cx="3548160" cy="4066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1447920"/>
            <a:ext cx="202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380880"/>
            <a:ext cx="3651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85120" y="2697120"/>
            <a:ext cx="55440" cy="572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53440" y="658800"/>
            <a:ext cx="55440" cy="554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3840" y="4726080"/>
            <a:ext cx="57240" cy="554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19920" y="4181400"/>
            <a:ext cx="57240" cy="572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7000" y="1201680"/>
            <a:ext cx="57240" cy="572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467480" y="152280"/>
            <a:ext cx="617760" cy="571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5791320"/>
            <a:ext cx="617400" cy="571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772400" y="5791320"/>
            <a:ext cx="617400" cy="571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533520"/>
            <a:ext cx="617400" cy="571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41360" y="1981080"/>
            <a:ext cx="3216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араллелограмм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зываетс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четырехугольни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у которого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отиволежащ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тороны параллельн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1981080"/>
            <a:ext cx="27147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араллелограммом 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7 0.017 0.02133 0.021 0.03467 C 0.025 0.04933 0.027 0.06667 0.029 0.084 C 0.031 0.10133 0.029 0.116 0.027 0.132 C 0.025 0.14667 0.022 0.16267 0.015 0.176 C 0.009 0.18933 -0.001 0.2 -0.012 0.208 C -0.022 0.216 -0.034 0.22133 -0.046 0.224 C -0.058 0.22667 -0.07 0.22667 -0.081 0.224 C -0.093 0.22133 -0.104 0.21467 -0.113 0.204 C -0.122 0.19467 -0.13 0.18267 -0.134 0.168 C -0.139 0.15467 -0.141 0.136 -0.141 0.12133 C -0.142 0.10667 -0.141 0.08933 -0.136 0.07467 C -0.131 0.06133 -0.122 0.05067 -0.11 0.04533 C -0.098 0.04133 -0.086 0.04667 -0.078 0.056 C -0.071 0.06533 -0.066 0.08 -0.065 0.09733 C -0.065 0.11467 -0.066 0.13067 -0.071 0.144 C -0.076 0.15733 -0.075 0.16 -0.095 0.17733 C -0.113 0.196 -0.131 0.19067 -0.142 0.192 C -0.153 0.192 -0.162 0.18667 -0.173 0.18133 C -0.185 0.17467 -0.195 0.16267 -0.202 0.152 C -0.209 0.14133 -0.212 0.128 -0.216 0.10667 C -0.219 0.08533 -0.219 0.07467 -0.219 0.05867 C -0.219 0.04267 -0.219 0.02667 -0.219 0.01067 E">
                                      <p:cBhvr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200640" y="1454040"/>
            <a:ext cx="2724120" cy="1575000"/>
          </a:xfrm>
          <a:custGeom>
            <a:avLst/>
            <a:gdLst/>
            <a:ahLst/>
            <a:rect l="l" t="t" r="r" b="b"/>
            <a:pathLst>
              <a:path w="1716" h="992">
                <a:moveTo>
                  <a:pt x="1716" y="484"/>
                </a:moveTo>
                <a:lnTo>
                  <a:pt x="556" y="992"/>
                </a:lnTo>
                <a:lnTo>
                  <a:pt x="0" y="0"/>
                </a:lnTo>
                <a:lnTo>
                  <a:pt x="1716" y="484"/>
                </a:lnTo>
                <a:close/>
              </a:path>
            </a:pathLst>
          </a:custGeom>
          <a:solidFill>
            <a:srgbClr val="6060ff"/>
          </a:solidFill>
          <a:ln w="0">
            <a:solidFill>
              <a:srgbClr val="606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41960" y="3029040"/>
            <a:ext cx="2724120" cy="1560600"/>
          </a:xfrm>
          <a:custGeom>
            <a:avLst/>
            <a:gdLst/>
            <a:ahLst/>
            <a:rect l="l" t="t" r="r" b="b"/>
            <a:pathLst>
              <a:path w="1716" h="983">
                <a:moveTo>
                  <a:pt x="1716" y="983"/>
                </a:moveTo>
                <a:lnTo>
                  <a:pt x="1160" y="0"/>
                </a:lnTo>
                <a:lnTo>
                  <a:pt x="0" y="499"/>
                </a:lnTo>
                <a:lnTo>
                  <a:pt x="1716" y="983"/>
                </a:lnTo>
                <a:close/>
              </a:path>
            </a:pathLst>
          </a:custGeom>
          <a:solidFill>
            <a:srgbClr val="6060ff"/>
          </a:solidFill>
          <a:ln w="0">
            <a:solidFill>
              <a:srgbClr val="606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2720" y="1413000"/>
            <a:ext cx="3683160" cy="3135240"/>
          </a:xfrm>
          <a:custGeom>
            <a:avLst/>
            <a:gdLst/>
            <a:ahLst/>
            <a:rect l="l" t="t" r="r" b="b"/>
            <a:pathLst>
              <a:path w="2320" h="1975">
                <a:moveTo>
                  <a:pt x="1716" y="1975"/>
                </a:moveTo>
                <a:lnTo>
                  <a:pt x="2320" y="484"/>
                </a:lnTo>
                <a:lnTo>
                  <a:pt x="604" y="0"/>
                </a:lnTo>
                <a:lnTo>
                  <a:pt x="0" y="1491"/>
                </a:lnTo>
                <a:lnTo>
                  <a:pt x="1716" y="1975"/>
                </a:lnTo>
                <a:close/>
              </a:path>
            </a:pathLst>
          </a:custGeom>
          <a:solidFill>
            <a:srgbClr val="a0a0ff"/>
          </a:solidFill>
          <a:ln w="0">
            <a:solidFill>
              <a:srgbClr val="a0a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3809880"/>
            <a:ext cx="2724120" cy="76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41600" y="1454040"/>
            <a:ext cx="95868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00640" y="1454040"/>
            <a:ext cx="1765440" cy="313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00640" y="1454040"/>
            <a:ext cx="2724120" cy="76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7965720" y="2222640"/>
            <a:ext cx="95868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241960" y="2222640"/>
            <a:ext cx="3682800" cy="15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1680" y="5140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8720" y="3808440"/>
            <a:ext cx="408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Tеорем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9160" y="1523880"/>
            <a:ext cx="539712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В любом параллелограмме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противоположные стороны  равн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2) противоположные углы равн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3) диагонали точкой пересеч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делятся пополам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3640" y="990720"/>
            <a:ext cx="116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Tеорем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228600"/>
            <a:ext cx="3124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Параллелограм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58160" y="3002040"/>
            <a:ext cx="63360" cy="651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899560" y="2195640"/>
            <a:ext cx="63360" cy="648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14960" y="3795840"/>
            <a:ext cx="65160" cy="648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40520" y="4564080"/>
            <a:ext cx="63720" cy="633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5440" y="1428840"/>
            <a:ext cx="63360" cy="633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 rot="10800000">
            <a:off x="304560" y="4418640"/>
            <a:ext cx="7467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Четырехугольник является параллелограмм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есл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1.две его стороны параллельны и равн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2.противоположные углы равн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3. диагонали точкой пересечения делятся попола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4. противоположные стороны рав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352680" y="1295280"/>
            <a:ext cx="1752840" cy="762120"/>
          </a:xfrm>
          <a:custGeom>
            <a:avLst/>
            <a:gdLst>
              <a:gd name="textAreaLeft" fmla="*/ 385200 w 1752840"/>
              <a:gd name="textAreaRight" fmla="*/ 1367640 w 1752840"/>
              <a:gd name="textAreaTop" fmla="*/ 167400 h 762120"/>
              <a:gd name="textAreaBottom" fmla="*/ 5947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рапе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2514600"/>
            <a:ext cx="2057400" cy="609480"/>
          </a:xfrm>
          <a:prstGeom prst="parallelogram">
            <a:avLst>
              <a:gd name="adj" fmla="val 843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араллелограм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133720" y="3580560"/>
            <a:ext cx="14475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ямоугольни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3276720"/>
            <a:ext cx="1295280" cy="12952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м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5029200"/>
            <a:ext cx="13716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вадр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971440" y="31240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31240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43434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343400" y="426708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2133720"/>
            <a:ext cx="1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19810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34320" y="5029200"/>
            <a:ext cx="752400" cy="971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752400" cy="971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828800" y="304920"/>
            <a:ext cx="5486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четырехугольников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32000" y="549360"/>
            <a:ext cx="637200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1.BC=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&lt;A=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&lt;A+&lt;B=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AO=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В параллелограмм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тивоположные сторо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тивоположные угл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сумма углов, прилежащих к одной сторо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диагона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2.Призна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-Если в четырехугольнике противолежащие сторо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d60093"/>
                </a:solidFill>
                <a:latin typeface="Times New Roman"/>
              </a:rPr>
              <a:t>Если в четырехугольнике противолежащие угл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-Если в четырехугольнике диагона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Если в четырехугольнике две противолежащие сторо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49600" y="15228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Параллелограм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228600"/>
            <a:ext cx="1905120" cy="914400"/>
          </a:xfrm>
          <a:prstGeom prst="parallelogram">
            <a:avLst>
              <a:gd name="adj" fmla="val 520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106668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29560" y="1004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63080" y="14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33920" y="-61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2286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95680" y="228600"/>
            <a:ext cx="1905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33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5410080"/>
            <a:ext cx="14475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5486400"/>
            <a:ext cx="1371600" cy="91440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5410080"/>
            <a:ext cx="12952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5410080"/>
            <a:ext cx="14475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62120" y="5410080"/>
            <a:ext cx="14475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5943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5486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541008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943600" y="541008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96080" y="1905120"/>
            <a:ext cx="1235160" cy="12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H="1">
            <a:off x="478800" y="914400"/>
            <a:ext cx="74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Свойства параллелограм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1413000"/>
            <a:ext cx="2133360" cy="685800"/>
          </a:xfrm>
          <a:prstGeom prst="parallelogram">
            <a:avLst>
              <a:gd name="adj" fmla="val 777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304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1295280"/>
            <a:ext cx="2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4280" y="121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60880" y="1260360"/>
            <a:ext cx="52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 углы В, С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2514600"/>
            <a:ext cx="2133360" cy="1066680"/>
          </a:xfrm>
          <a:prstGeom prst="parallelogram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9840" y="347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48280" y="33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21320" y="2362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2209680"/>
            <a:ext cx="5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62120" y="2514240"/>
            <a:ext cx="21333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36840" y="2251080"/>
            <a:ext cx="466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2209680"/>
            <a:ext cx="4496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А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С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 углы параллелограм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4419720"/>
            <a:ext cx="2133720" cy="1143000"/>
          </a:xfrm>
          <a:prstGeom prst="parallelogram">
            <a:avLst>
              <a:gd name="adj" fmla="val 466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4419720"/>
            <a:ext cx="1447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9520" y="5486400"/>
            <a:ext cx="2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9520" y="5334120"/>
            <a:ext cx="35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419112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884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45720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4038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=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=2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E=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62760" y="4038480"/>
            <a:ext cx="21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F=3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52578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, E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525780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B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B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5562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5562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5257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5943600"/>
            <a:ext cx="1828800" cy="762120"/>
          </a:xfrm>
          <a:prstGeom prst="parallelogram">
            <a:avLst>
              <a:gd name="adj" fmla="val 599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7960" y="640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47920" y="6518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571500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5715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9436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09120" y="6858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6858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990720" y="594360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67040" y="60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624852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16040" y="6172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6019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6172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азать, ч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=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752480" y="457200"/>
            <a:ext cx="3733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Задачи на готовых чертежах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5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60093"/>
                                      </p:to>
                                    </p:animClr>
                                    <p:set>
                                      <p:cBhvr>
                                        <p:cTn id="16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16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7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7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7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90720" y="1523880"/>
            <a:ext cx="2133360" cy="914400"/>
          </a:xfrm>
          <a:prstGeom prst="parallelogram">
            <a:avLst>
              <a:gd name="adj" fmla="val 583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376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2362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1371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219320" y="1278720"/>
            <a:ext cx="380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12952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Microsoft Sans Serif"/>
              </a:rPr>
              <a:t>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icrosoft Sans Serif"/>
              </a:rPr>
              <a:t>BAC=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Microsoft Sans Serif"/>
              </a:rPr>
              <a:t>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icrosoft Sans Serif"/>
              </a:rPr>
              <a:t>A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27640" y="1197000"/>
            <a:ext cx="31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Microsoft Sans Serif"/>
              </a:rPr>
              <a:t>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icrosoft Sans Serif"/>
              </a:rPr>
              <a:t>BCA =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icrosoft Sans Serif"/>
              </a:rPr>
              <a:t>D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12952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600200" y="228600"/>
            <a:ext cx="6172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и на готовых чертежа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теме» Признаки параллелограмма»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295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990720" y="15238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191120" y="98748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144792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2819520"/>
            <a:ext cx="2286000" cy="838080"/>
          </a:xfrm>
          <a:prstGeom prst="parallelogram">
            <a:avLst>
              <a:gd name="adj" fmla="val 681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38080" y="2819520"/>
            <a:ext cx="2286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8195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3505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2590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89000" y="251460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41760" y="2529000"/>
            <a:ext cx="397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P=MN, MK=P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2743200"/>
            <a:ext cx="251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304812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азать , чт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KPN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раллелограм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4114800"/>
            <a:ext cx="1905120" cy="685800"/>
          </a:xfrm>
          <a:prstGeom prst="parallelogram">
            <a:avLst>
              <a:gd name="adj" fmla="val 694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1760" y="46623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4648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3809880"/>
            <a:ext cx="4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89000" y="380988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41144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676160" y="41148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09480" y="47386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51120" y="3809880"/>
            <a:ext cx="2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61120" y="3933720"/>
            <a:ext cx="437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N=NR=EM=M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азать, чт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M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раллелограм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5181480"/>
            <a:ext cx="1752480" cy="914400"/>
          </a:xfrm>
          <a:prstGeom prst="parallelogram">
            <a:avLst>
              <a:gd name="adj" fmla="val 479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990720" y="5181480"/>
            <a:ext cx="17524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5181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518148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86728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548640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5943600"/>
            <a:ext cx="3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5943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29160" y="4967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4876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4876920"/>
            <a:ext cx="609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79440" y="5791320"/>
            <a:ext cx="4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93840" y="5410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5105520"/>
            <a:ext cx="47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CD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раллелограмм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=CN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оказать, чт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DNB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раллелограм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08360" y="1628640"/>
            <a:ext cx="512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казать, чт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48360" y="1628640"/>
            <a:ext cx="31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CD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раллелограм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990720" cy="6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39640" y="35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22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500"/>
                            </p:stCondLst>
                            <p:childTnLst>
                              <p:par>
                                <p:cTn id="22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500"/>
                            </p:stCondLst>
                            <p:childTnLst>
                              <p:par>
                                <p:cTn id="22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9500"/>
                            </p:stCondLst>
                            <p:childTnLst>
                              <p:par>
                                <p:cTn id="23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23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23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24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24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4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5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5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1500"/>
                            </p:stCondLst>
                            <p:childTnLst>
                              <p:par>
                                <p:cTn id="25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3500"/>
                            </p:stCondLst>
                            <p:childTnLst>
                              <p:par>
                                <p:cTn id="25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500"/>
                            </p:stCondLst>
                            <p:childTnLst>
                              <p:par>
                                <p:cTn id="26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26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7500"/>
                            </p:stCondLst>
                            <p:childTnLst>
                              <p:par>
                                <p:cTn id="26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26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7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27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60093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990720" y="228600"/>
            <a:ext cx="7124760" cy="3581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ест по теме «Параллелограмм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1828800"/>
            <a:ext cx="617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Стороны параллелограмма пропорциональн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числам 4 и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Найдите большую сторон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если 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периметр треугольника равен 10,8 с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28195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а)4см;  б)2,4см;  в) 3,6см;  г)3 с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320040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2. В параллелограмме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NPK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проведена высота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E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ичем угол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NE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в 5 раз больше угла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17600" y="3809880"/>
            <a:ext cx="6149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Найти угол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MN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Times New Roman"/>
              </a:rPr>
              <a:t>а)80 град.  б)75град.  в)105 град.  Г)100 гра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93920" y="4800600"/>
            <a:ext cx="66834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. Сколько параллелограммов с вершинами в трех данны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точках, не лежащих на одной прямой, мож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острои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93"/>
                </a:solidFill>
                <a:latin typeface="Times New Roman"/>
              </a:rPr>
              <a:t>А) 1;  б) 2;  в) 3; г)  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467480" y="2895480"/>
            <a:ext cx="149724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3:16:12Z</dcterms:created>
  <dc:creator>Администратор</dc:creator>
  <dc:description/>
  <dc:language>en-US</dc:language>
  <cp:lastModifiedBy>Ученик</cp:lastModifiedBy>
  <dcterms:modified xsi:type="dcterms:W3CDTF">2008-03-18T14:29:15Z</dcterms:modified>
  <cp:revision>26</cp:revision>
  <dc:subject/>
  <dc:title>Презентация PowerPoint</dc:title>
</cp:coreProperties>
</file>