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224-8922-4490-B150-D13441A1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099-8CA8-45B4-92D8-D62F7B0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ADB-56A3-4C8F-BE7E-EFE5FA5A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4A6-2148-47E5-B154-C5D2CB6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B18B-8F72-443C-9C24-283F4275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E5A8-F865-42F7-9553-C168072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3F9-97EB-4E1B-9C24-721FA5D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F95E-3730-4353-92AB-30188DF0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7973-36CF-4B01-95E4-065022DE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046-DE42-445B-AF1F-4A8BB6C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1D3-71C1-4A87-9FB3-848A871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F1F-25A9-44D1-9733-B4006C5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454-FEDF-4350-AB7A-EDA00A9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C77-D999-4D44-96AB-19FF4CC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5E4B-6100-446F-9576-5373AE9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D795-1243-48C2-A983-481E9A5E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D83-A87D-46AC-866A-08723DBB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5F7-2B76-4289-AFF3-4D136C2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4D8-C5D3-4A36-8ABF-B10437C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650-B255-4E6D-AF45-F00284CD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B76-B4C6-44D7-A141-D8F7611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1DF-9E23-413B-B01C-E685C9D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F7B-5D33-4741-B970-3E24714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BB6-F99E-43EB-B858-2868FCA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1DAF-B88B-4BA1-B5EE-0DDED2AB54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C86-15FD-4649-9FB4-A2A36761EF4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Элементарные функции и графики</a:t>
            </a:r>
            <a:endParaRPr b="1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(название,формула, 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график).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роение график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=kx(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астный случай линейной при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=0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y=kx+b(k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b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данные числ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48320" y="1600200"/>
          <a:ext cx="4037760" cy="2150640"/>
        </p:xfrm>
        <a:graphic>
          <a:graphicData uri="http://schemas.openxmlformats.org/drawingml/2006/table">
            <a:tbl>
              <a:tblPr/>
              <a:tblGrid>
                <a:gridCol w="1711800"/>
                <a:gridCol w="1150920"/>
                <a:gridCol w="117504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648320" y="3903840"/>
          <a:ext cx="4038120" cy="2152080"/>
        </p:xfrm>
        <a:graphic>
          <a:graphicData uri="http://schemas.openxmlformats.org/drawingml/2006/table">
            <a:tbl>
              <a:tblPr/>
              <a:tblGrid>
                <a:gridCol w="1792080"/>
                <a:gridCol w="1112760"/>
                <a:gridCol w="1133280"/>
              </a:tblGrid>
              <a:tr h="105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у=к/х,к≠0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≠0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у=ах+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x+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a≠0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(схем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у=х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48320" y="1600200"/>
          <a:ext cx="4037400" cy="2150640"/>
        </p:xfrm>
        <a:graphic>
          <a:graphicData uri="http://schemas.openxmlformats.org/drawingml/2006/table">
            <a:tbl>
              <a:tblPr/>
              <a:tblGrid>
                <a:gridCol w="4037400"/>
              </a:tblGrid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648320" y="1628640"/>
          <a:ext cx="4038120" cy="1223640"/>
        </p:xfrm>
        <a:graphic>
          <a:graphicData uri="http://schemas.openxmlformats.org/drawingml/2006/table">
            <a:tbl>
              <a:tblPr/>
              <a:tblGrid>
                <a:gridCol w="577800"/>
                <a:gridCol w="576000"/>
                <a:gridCol w="577440"/>
                <a:gridCol w="576000"/>
                <a:gridCol w="577440"/>
                <a:gridCol w="496800"/>
                <a:gridCol w="656640"/>
              </a:tblGrid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11280" y="4076640"/>
            <a:ext cx="66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356000" y="4221000"/>
          <a:ext cx="4537080" cy="1239840"/>
        </p:xfrm>
        <a:graphic>
          <a:graphicData uri="http://schemas.openxmlformats.org/drawingml/2006/table">
            <a:tbl>
              <a:tblPr/>
              <a:tblGrid>
                <a:gridCol w="567000"/>
                <a:gridCol w="567360"/>
                <a:gridCol w="567000"/>
                <a:gridCol w="567000"/>
                <a:gridCol w="567360"/>
                <a:gridCol w="567000"/>
                <a:gridCol w="567000"/>
                <a:gridCol w="567360"/>
              </a:tblGrid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403280" y="836640"/>
                <a:ext cx="230508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627280" y="1557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335772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971280" y="2133720"/>
            <a:ext cx="936360" cy="1224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2133720"/>
            <a:ext cx="935280" cy="1224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57336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3357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=2k,x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  <a:ea typeface="Arial"/>
              </a:rPr>
              <a:t>≥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76360" y="3645000"/>
            <a:ext cx="142920" cy="71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34290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=2k+1,x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-любое числ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39640" y="4653000"/>
          <a:ext cx="7488360" cy="1035000"/>
        </p:xfrm>
        <a:graphic>
          <a:graphicData uri="http://schemas.openxmlformats.org/drawingml/2006/table">
            <a:tbl>
              <a:tblPr/>
              <a:tblGrid>
                <a:gridCol w="1497240"/>
                <a:gridCol w="1498320"/>
                <a:gridCol w="1497240"/>
                <a:gridCol w="1498680"/>
                <a:gridCol w="14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835280" y="1341360"/>
          <a:ext cx="2736720" cy="26640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=x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m-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целое число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258920" y="2133720"/>
            <a:ext cx="936720" cy="1295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2133720"/>
            <a:ext cx="4464000" cy="1366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357336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&gt;0,x-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любое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378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&lt;0,x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371628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900000" y="4437000"/>
          <a:ext cx="4751640" cy="1656000"/>
        </p:xfrm>
        <a:graphic>
          <a:graphicData uri="http://schemas.openxmlformats.org/drawingml/2006/table">
            <a:tbl>
              <a:tblPr/>
              <a:tblGrid>
                <a:gridCol w="493200"/>
                <a:gridCol w="709200"/>
                <a:gridCol w="711360"/>
                <a:gridCol w="707760"/>
                <a:gridCol w="711000"/>
                <a:gridCol w="709200"/>
                <a:gridCol w="70992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83" name=""/>
          <p:cNvCxnSpPr>
            <a:stCxn id="276" idx="0"/>
            <a:endCxn id="276" idx="0"/>
          </p:cNvCxnSpPr>
          <p:nvPr/>
        </p:nvCxnSpPr>
        <p:spPr>
          <a:xfrm flipH="1" rot="16200000">
            <a:off x="2476440" y="159984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6699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35280" y="1628640"/>
                <a:ext cx="720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1.Прямая пропорциональность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Y=kx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5715000" cy="5157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748560" y="2770200"/>
            <a:ext cx="9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068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6920" y="4149720"/>
            <a:ext cx="12974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7280" y="407664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930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ru-RU" sz="5400" spc="-1" strike="noStrike">
                <a:solidFill>
                  <a:srgbClr val="006666"/>
                </a:solidFill>
                <a:latin typeface="Arial"/>
              </a:rPr>
              <a:t>Линейна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Y=kx+b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800440"/>
            <a:ext cx="352728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419640" y="3541680"/>
            <a:ext cx="3240000" cy="3316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3457800" cy="2365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2852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450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28000" y="206064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=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157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45957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2708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0000" y="450864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61440" y="501336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.Обратная пропорциональност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64000" y="1413000"/>
                <a:ext cx="2520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743280" cy="4005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4427640" cy="3933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836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2997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4.Квадратична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71640" y="1413000"/>
                <a:ext cx="50403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494080" cy="3573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3068640"/>
            <a:ext cx="256860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916360" y="2924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4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=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2637000"/>
            <a:ext cx="107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&g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&g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28000" y="2997360"/>
            <a:ext cx="11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&lt;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&lt;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6165720"/>
            <a:ext cx="136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414600"/>
                <a:ext cx="865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5.Кубическа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1477800"/>
                <a:ext cx="5688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732040"/>
            <a:ext cx="4572000" cy="4125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433680" cy="34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95280" y="3141720"/>
                <a:ext cx="1366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340000" y="0"/>
                <a:ext cx="441648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4356000" cy="3019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87280" y="2708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=2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475000"/>
            <a:ext cx="939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278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=2k+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Степенна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948360" y="1700280"/>
                <a:ext cx="1297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80000" y="4292640"/>
            <a:ext cx="2664000" cy="2343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68360" y="4562640"/>
            <a:ext cx="2953080" cy="2295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280836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443640" y="4334040"/>
                <a:ext cx="1152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68360" y="3808440"/>
                <a:ext cx="1079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9640" y="5950080"/>
                <a:ext cx="1535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292720" y="257040"/>
                <a:ext cx="31669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∈</m:t>
                    </m:r>
                    <m:r>
                      <m:t xml:space="preserve">Ζ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Тригонометрическ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419200" y="25671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97720" y="2604960"/>
                <a:ext cx="13968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3961080" cy="2144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073320" cy="3073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1700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=sin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5813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=cos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148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=tg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0000" y="58053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=ctg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4797360"/>
            <a:ext cx="92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03480" y="3562200"/>
            <a:ext cx="9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948360" y="2852640"/>
                <a:ext cx="165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003640" y="278136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732720" y="5661000"/>
                <a:ext cx="176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451640" y="3716280"/>
                <a:ext cx="1154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43280" y="292428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11280" y="2924280"/>
                <a:ext cx="36036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771640" y="5661000"/>
                <a:ext cx="23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547640" y="5661000"/>
                <a:ext cx="35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27280" y="3789360"/>
                <a:ext cx="1008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516720" y="6093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651640" y="5661000"/>
                <a:ext cx="55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0:45:25Z</dcterms:created>
  <dc:creator>Жукова Людмила Ивановна</dc:creator>
  <dc:description/>
  <dc:language>en-US</dc:language>
  <cp:lastModifiedBy>Жукова Людмила Ивановна</cp:lastModifiedBy>
  <dcterms:modified xsi:type="dcterms:W3CDTF">2007-12-09T17:41:19Z</dcterms:modified>
  <cp:revision>10</cp:revision>
  <dc:subject/>
  <dc:title>Элементарные функции и графики</dc:title>
</cp:coreProperties>
</file>