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9DA-AA9D-4D33-9AA0-8CF1C588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6DF-AE07-4BFA-8477-76C08037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30F-0E2A-45EA-BD5C-E950D563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88E-2009-4879-92C8-1D74D9A1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E68-6AF0-4A78-982A-6ECDEF99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235-8168-462C-ABD4-8607DE3C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682-2C9C-4FE1-9782-F8A75CBC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CD5-CC53-47B3-A2FD-4B9CE36B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957-B96B-451D-8679-E3DD2B1C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9CD-BB64-4A5C-B25E-489D5B75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E7E-30D2-4329-B024-3ED448AE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ABB-D03C-476D-BC3D-76FCF30D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9231-6750-41A9-BDE3-804B8D3E6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Функции и граф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симптоты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Если      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ризонтальная асимпт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Если функция имеет разрыв пр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= 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и        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пряма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= 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ертикальная асимпто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Если существуют следующие пределы                        ,                            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 пряма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kx + 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наклонная асимпто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Проверим                                     ,   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ит, горизонтальной асимптоты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Проверим                                     ,                                     .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ит,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–1 – вертикальная асимпт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Проверим                                      ,                     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чит, наклонная асимптота –         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5950080"/>
            <a:ext cx="792360" cy="5745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83" h="21600">
                <a:moveTo>
                  <a:pt x="0" y="0"/>
                </a:moveTo>
                <a:lnTo>
                  <a:pt x="29783" y="0"/>
                </a:lnTo>
                <a:lnTo>
                  <a:pt x="29783" y="21600"/>
                </a:lnTo>
                <a:lnTo>
                  <a:pt x="0" y="21600"/>
                </a:lnTo>
                <a:close/>
              </a:path>
              <a:path fill="lightenLess" w="29783" h="21600">
                <a:moveTo>
                  <a:pt x="0" y="0"/>
                </a:moveTo>
                <a:lnTo>
                  <a:pt x="29783" y="0"/>
                </a:lnTo>
                <a:lnTo>
                  <a:pt x="28383" y="1400"/>
                </a:lnTo>
                <a:lnTo>
                  <a:pt x="1400" y="1400"/>
                </a:lnTo>
                <a:close/>
              </a:path>
              <a:path fill="darken" w="29783" h="21600">
                <a:moveTo>
                  <a:pt x="29783" y="0"/>
                </a:moveTo>
                <a:lnTo>
                  <a:pt x="29783" y="21600"/>
                </a:lnTo>
                <a:lnTo>
                  <a:pt x="28383" y="20200"/>
                </a:lnTo>
                <a:lnTo>
                  <a:pt x="28383" y="1400"/>
                </a:lnTo>
                <a:close/>
              </a:path>
              <a:path fill="darkenLess" w="29783" h="21600">
                <a:moveTo>
                  <a:pt x="29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83" y="20200"/>
                </a:lnTo>
                <a:close/>
              </a:path>
              <a:path fill="lighten" w="29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83" h="21600">
                <a:moveTo>
                  <a:pt x="7885" y="7493"/>
                </a:moveTo>
                <a:lnTo>
                  <a:pt x="11393" y="7493"/>
                </a:lnTo>
                <a:lnTo>
                  <a:pt x="11393" y="12828"/>
                </a:lnTo>
                <a:cubicBezTo>
                  <a:pt x="11393" y="13751"/>
                  <a:pt x="12193" y="14482"/>
                  <a:pt x="13229" y="14482"/>
                </a:cubicBezTo>
                <a:lnTo>
                  <a:pt x="14891" y="14482"/>
                </a:lnTo>
                <a:cubicBezTo>
                  <a:pt x="15927" y="14482"/>
                  <a:pt x="16728" y="13751"/>
                  <a:pt x="16728" y="12828"/>
                </a:cubicBezTo>
                <a:lnTo>
                  <a:pt x="16728" y="7493"/>
                </a:lnTo>
                <a:lnTo>
                  <a:pt x="14891" y="7493"/>
                </a:lnTo>
                <a:lnTo>
                  <a:pt x="18399" y="3985"/>
                </a:lnTo>
                <a:lnTo>
                  <a:pt x="22072" y="7493"/>
                </a:lnTo>
                <a:lnTo>
                  <a:pt x="20235" y="7493"/>
                </a:lnTo>
                <a:lnTo>
                  <a:pt x="20235" y="12828"/>
                </a:lnTo>
                <a:cubicBezTo>
                  <a:pt x="20235" y="15596"/>
                  <a:pt x="17659" y="18155"/>
                  <a:pt x="14891" y="18155"/>
                </a:cubicBezTo>
                <a:lnTo>
                  <a:pt x="13229" y="18155"/>
                </a:lnTo>
                <a:cubicBezTo>
                  <a:pt x="10461" y="18155"/>
                  <a:pt x="7885" y="15596"/>
                  <a:pt x="7885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076480" y="3408480"/>
                <a:ext cx="1495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32280" y="3421080"/>
                <a:ext cx="14986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843440" y="1541520"/>
                <a:ext cx="11286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79640" y="4076640"/>
                <a:ext cx="15937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719600" y="1986120"/>
                <a:ext cx="10764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360440" y="895320"/>
                <a:ext cx="1081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79640" y="5084640"/>
                <a:ext cx="17287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995640" y="5013360"/>
                <a:ext cx="237672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608880" y="2179800"/>
                <a:ext cx="1744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978360" y="4124160"/>
                <a:ext cx="153648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759120" y="5611680"/>
                <a:ext cx="1008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2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2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2000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2000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2000"/>
                                        <p:tgtEl>
                                          <p:spTgt spid="1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81000"/>
            <a:ext cx="818028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онотонность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4920" y="744120"/>
            <a:ext cx="8209080" cy="59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еорема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Если во всех точках открытого промежутк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ыпол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авенств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`(x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о функц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озраст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промежут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еорема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Если во всех точках открытого промежутка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ыполн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авенств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f`(x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о функц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быва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 промежут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Теорема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Если функция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меет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экстрему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= х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о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й точке производная функции либо равна нулю, либо не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йдем производную заданн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так, производная функци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 определения производной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ули производной –                  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следуем знаки производной на полученных промежут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72360" y="6093000"/>
            <a:ext cx="792360" cy="5745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83" h="21600">
                <a:moveTo>
                  <a:pt x="0" y="0"/>
                </a:moveTo>
                <a:lnTo>
                  <a:pt x="29783" y="0"/>
                </a:lnTo>
                <a:lnTo>
                  <a:pt x="29783" y="21600"/>
                </a:lnTo>
                <a:lnTo>
                  <a:pt x="0" y="21600"/>
                </a:lnTo>
                <a:close/>
              </a:path>
              <a:path fill="lightenLess" w="29783" h="21600">
                <a:moveTo>
                  <a:pt x="0" y="0"/>
                </a:moveTo>
                <a:lnTo>
                  <a:pt x="29783" y="0"/>
                </a:lnTo>
                <a:lnTo>
                  <a:pt x="28383" y="1400"/>
                </a:lnTo>
                <a:lnTo>
                  <a:pt x="1400" y="1400"/>
                </a:lnTo>
                <a:close/>
              </a:path>
              <a:path fill="darken" w="29783" h="21600">
                <a:moveTo>
                  <a:pt x="29783" y="0"/>
                </a:moveTo>
                <a:lnTo>
                  <a:pt x="29783" y="21600"/>
                </a:lnTo>
                <a:lnTo>
                  <a:pt x="28383" y="20200"/>
                </a:lnTo>
                <a:lnTo>
                  <a:pt x="28383" y="1400"/>
                </a:lnTo>
                <a:close/>
              </a:path>
              <a:path fill="darkenLess" w="29783" h="21600">
                <a:moveTo>
                  <a:pt x="29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83" y="20200"/>
                </a:lnTo>
                <a:close/>
              </a:path>
              <a:path fill="lighten" w="29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83" h="21600">
                <a:moveTo>
                  <a:pt x="7885" y="7493"/>
                </a:moveTo>
                <a:lnTo>
                  <a:pt x="11393" y="7493"/>
                </a:lnTo>
                <a:lnTo>
                  <a:pt x="11393" y="12828"/>
                </a:lnTo>
                <a:cubicBezTo>
                  <a:pt x="11393" y="13751"/>
                  <a:pt x="12193" y="14482"/>
                  <a:pt x="13229" y="14482"/>
                </a:cubicBezTo>
                <a:lnTo>
                  <a:pt x="14891" y="14482"/>
                </a:lnTo>
                <a:cubicBezTo>
                  <a:pt x="15927" y="14482"/>
                  <a:pt x="16728" y="13751"/>
                  <a:pt x="16728" y="12828"/>
                </a:cubicBezTo>
                <a:lnTo>
                  <a:pt x="16728" y="7493"/>
                </a:lnTo>
                <a:lnTo>
                  <a:pt x="14891" y="7493"/>
                </a:lnTo>
                <a:lnTo>
                  <a:pt x="18399" y="3985"/>
                </a:lnTo>
                <a:lnTo>
                  <a:pt x="22072" y="7493"/>
                </a:lnTo>
                <a:lnTo>
                  <a:pt x="20235" y="7493"/>
                </a:lnTo>
                <a:lnTo>
                  <a:pt x="20235" y="12828"/>
                </a:lnTo>
                <a:cubicBezTo>
                  <a:pt x="20235" y="15596"/>
                  <a:pt x="17659" y="18155"/>
                  <a:pt x="14891" y="18155"/>
                </a:cubicBezTo>
                <a:lnTo>
                  <a:pt x="13229" y="18155"/>
                </a:lnTo>
                <a:cubicBezTo>
                  <a:pt x="10461" y="18155"/>
                  <a:pt x="7885" y="15596"/>
                  <a:pt x="7885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933480" y="3392640"/>
                <a:ext cx="698328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36880" y="4290840"/>
                <a:ext cx="1095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641840" y="5083200"/>
                <a:ext cx="15526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795760" y="5423040"/>
                <a:ext cx="6238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676680" y="5423040"/>
                <a:ext cx="488880" cy="25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20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2000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2000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2000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2000"/>
                                        <p:tgtEl>
                                          <p:spTgt spid="1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90080" y="188640"/>
            <a:ext cx="4243320" cy="65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Исследовать функцию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построить ее граф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Область определения функ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Непрерыв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я непрерывна на промежут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      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терпевает разрыв в точке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–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Чет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я общего по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Периодич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я непериодическ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очки пересечения с координатными ося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ункция имеет одну точку пересечения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ям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0, 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омежутки знакопостоянства функ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 функция отрицатель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0 функция положитель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368520" y="87480"/>
                <a:ext cx="959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357200" y="1471680"/>
                <a:ext cx="128592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30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07880" y="2170080"/>
                <a:ext cx="80820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498680" y="2166840"/>
                <a:ext cx="812880" cy="2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6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643280" y="1341360"/>
                <a:ext cx="936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00720" y="3860640"/>
            <a:ext cx="4392000" cy="2017800"/>
            <a:chOff x="4500720" y="3860640"/>
            <a:chExt cx="4392000" cy="2017800"/>
          </a:xfrm>
        </p:grpSpPr>
        <p:sp>
          <p:nvSpPr>
            <p:cNvPr id="68" name=""/>
            <p:cNvSpPr/>
            <p:nvPr/>
          </p:nvSpPr>
          <p:spPr>
            <a:xfrm>
              <a:off x="8342640" y="5214240"/>
              <a:ext cx="5500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27480" y="5214240"/>
              <a:ext cx="51480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46440" y="5214240"/>
              <a:ext cx="5806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77360" y="5214240"/>
              <a:ext cx="4690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7000" y="5214240"/>
              <a:ext cx="63036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84760" y="5214240"/>
              <a:ext cx="4618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50440" y="5214240"/>
              <a:ext cx="63432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00720" y="5214240"/>
              <a:ext cx="54972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42640" y="4535280"/>
              <a:ext cx="55008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27480" y="4535280"/>
              <a:ext cx="5148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46440" y="4535280"/>
              <a:ext cx="58068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77360" y="4535280"/>
              <a:ext cx="46908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47000" y="4535280"/>
              <a:ext cx="63036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84760" y="4535280"/>
              <a:ext cx="46188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0440" y="4535280"/>
              <a:ext cx="63432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00720" y="4535280"/>
              <a:ext cx="54972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` (x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2640" y="3860640"/>
              <a:ext cx="5500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27480" y="3860640"/>
              <a:ext cx="5148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46440" y="3860640"/>
              <a:ext cx="580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77360" y="3860640"/>
              <a:ext cx="4690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47000" y="3860640"/>
              <a:ext cx="6303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84760" y="3860640"/>
              <a:ext cx="4618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50440" y="3860640"/>
              <a:ext cx="634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00720" y="3860640"/>
              <a:ext cx="5497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00720" y="3860640"/>
              <a:ext cx="4392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00720" y="4535280"/>
              <a:ext cx="43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00720" y="5214240"/>
              <a:ext cx="43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00720" y="5878440"/>
              <a:ext cx="4392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00720" y="3860640"/>
              <a:ext cx="0" cy="20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50440" y="3860640"/>
              <a:ext cx="0" cy="20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84760" y="3860640"/>
              <a:ext cx="0" cy="20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47000" y="3860640"/>
              <a:ext cx="0" cy="20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77360" y="3860640"/>
              <a:ext cx="0" cy="20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46440" y="3860640"/>
              <a:ext cx="0" cy="20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27480" y="3860640"/>
              <a:ext cx="0" cy="20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2640" y="3860640"/>
              <a:ext cx="0" cy="20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2720" y="3860640"/>
              <a:ext cx="0" cy="20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050440" y="4129200"/>
                  <a:ext cx="587880" cy="20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6163920" y="4105080"/>
                  <a:ext cx="536040" cy="20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;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7310160" y="4116960"/>
                  <a:ext cx="443160" cy="20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;</m:t>
                          </m:r>
                          <m:r>
                            <m:t xml:space="preserve">0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8360280" y="4105080"/>
                  <a:ext cx="484200" cy="20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5703480" y="5339880"/>
                  <a:ext cx="41400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110" name=""/>
            <p:cNvGrpSpPr/>
            <p:nvPr/>
          </p:nvGrpSpPr>
          <p:grpSpPr>
            <a:xfrm>
              <a:off x="5227560" y="5388840"/>
              <a:ext cx="3616560" cy="306360"/>
              <a:chOff x="5227560" y="5388840"/>
              <a:chExt cx="3616560" cy="306360"/>
            </a:xfrm>
          </p:grpSpPr>
          <p:sp>
            <p:nvSpPr>
              <p:cNvPr id="111" name=""/>
              <p:cNvSpPr/>
              <p:nvPr/>
            </p:nvSpPr>
            <p:spPr>
              <a:xfrm flipV="1">
                <a:off x="5227560" y="5388840"/>
                <a:ext cx="329040" cy="26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8515080" y="5409000"/>
                <a:ext cx="329040" cy="26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7426800" y="5429160"/>
                <a:ext cx="329040" cy="26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27360" y="5421600"/>
                <a:ext cx="329040" cy="26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4572000" y="272880"/>
            <a:ext cx="4243320" cy="65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Асимптоты графи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оризонтальной асимптоты 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– 1     – вертикальная асимпт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клонная асимпт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Монотонность функ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зультаты исследования производ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 знак, запишем в виде таблиц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4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4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4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4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2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606600" y="1041480"/>
            <a:ext cx="8194680" cy="4946400"/>
            <a:chOff x="606600" y="1041480"/>
            <a:chExt cx="8194680" cy="494640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606600" y="1133640"/>
              <a:ext cx="7949880" cy="48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356680" y="2679840"/>
              <a:ext cx="444600" cy="533160"/>
            </a:xfrm>
            <a:prstGeom prst="wedgeRectCallout">
              <a:avLst>
                <a:gd name="adj1" fmla="val -46069"/>
                <a:gd name="adj2" fmla="val 714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26160" y="1041480"/>
              <a:ext cx="444240" cy="533160"/>
            </a:xfrm>
            <a:prstGeom prst="wedgeRectCallout">
              <a:avLst>
                <a:gd name="adj1" fmla="val -14643"/>
                <a:gd name="adj2" fmla="val 142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4838760" y="1142640"/>
              <a:ext cx="17280" cy="48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50880" y="2633760"/>
              <a:ext cx="793260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392720" y="1111320"/>
            <a:ext cx="1440" cy="4905360"/>
          </a:xfrm>
          <a:prstGeom prst="line">
            <a:avLst/>
          </a:prstGeom>
          <a:ln w="25560">
            <a:solidFill>
              <a:srgbClr val="96969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24040" y="1220400"/>
            <a:ext cx="7716600" cy="3886200"/>
          </a:xfrm>
          <a:prstGeom prst="line">
            <a:avLst/>
          </a:prstGeom>
          <a:ln w="25560">
            <a:solidFill>
              <a:srgbClr val="96969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4720" y="3441600"/>
            <a:ext cx="3543120" cy="2578320"/>
          </a:xfrm>
          <a:custGeom>
            <a:avLst/>
            <a:gdLst/>
            <a:ahLst/>
            <a:rect l="l" t="t" r="r" b="b"/>
            <a:pathLst>
              <a:path w="2232" h="1624">
                <a:moveTo>
                  <a:pt x="0" y="1088"/>
                </a:moveTo>
                <a:cubicBezTo>
                  <a:pt x="2096" y="0"/>
                  <a:pt x="2152" y="336"/>
                  <a:pt x="2232" y="162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94160" y="1092240"/>
            <a:ext cx="4254480" cy="4952880"/>
          </a:xfrm>
          <a:custGeom>
            <a:avLst/>
            <a:gdLst/>
            <a:ahLst/>
            <a:rect l="l" t="t" r="r" b="b"/>
            <a:pathLst>
              <a:path w="2680" h="3120">
                <a:moveTo>
                  <a:pt x="48" y="3120"/>
                </a:moveTo>
                <a:cubicBezTo>
                  <a:pt x="64" y="1608"/>
                  <a:pt x="0" y="960"/>
                  <a:pt x="280" y="976"/>
                </a:cubicBezTo>
                <a:cubicBezTo>
                  <a:pt x="800" y="992"/>
                  <a:pt x="2128" y="280"/>
                  <a:pt x="2680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08520" y="26049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75080" y="40910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57160" y="4686480"/>
            <a:ext cx="1403280" cy="68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51280" y="4543560"/>
            <a:ext cx="374760" cy="140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600440" y="4132440"/>
            <a:ext cx="184320" cy="1769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83200" y="1017720"/>
            <a:ext cx="3132000" cy="137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1003320"/>
            <a:ext cx="444240" cy="533520"/>
          </a:xfrm>
          <a:prstGeom prst="wedgeRectCallout">
            <a:avLst>
              <a:gd name="adj1" fmla="val -46069"/>
              <a:gd name="adj2" fmla="val 71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27680" y="1041480"/>
            <a:ext cx="444600" cy="533160"/>
          </a:xfrm>
          <a:prstGeom prst="wedgeRectCallout">
            <a:avLst>
              <a:gd name="adj1" fmla="val -46069"/>
              <a:gd name="adj2" fmla="val 71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Область определения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ластью определ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уществова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и называется множество всех действительных зна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 которых она имеет действительные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значаетс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у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лучае, когда функция задана аналитически, область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я устанавливается исходя из правил выпол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матических операций, входящих в формул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жение, определяющее заданную функци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ставля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ой дробь. Дробь имеет смысл, если ее знаменатель не ра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у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чит, заданная функция определена, если 2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0, то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ываю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132000" y="5373720"/>
                <a:ext cx="2592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7812000" y="5950080"/>
            <a:ext cx="792360" cy="5745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83" h="21600">
                <a:moveTo>
                  <a:pt x="0" y="0"/>
                </a:moveTo>
                <a:lnTo>
                  <a:pt x="29783" y="0"/>
                </a:lnTo>
                <a:lnTo>
                  <a:pt x="29783" y="21600"/>
                </a:lnTo>
                <a:lnTo>
                  <a:pt x="0" y="21600"/>
                </a:lnTo>
                <a:close/>
              </a:path>
              <a:path fill="lightenLess" w="29783" h="21600">
                <a:moveTo>
                  <a:pt x="0" y="0"/>
                </a:moveTo>
                <a:lnTo>
                  <a:pt x="29783" y="0"/>
                </a:lnTo>
                <a:lnTo>
                  <a:pt x="28383" y="1400"/>
                </a:lnTo>
                <a:lnTo>
                  <a:pt x="1400" y="1400"/>
                </a:lnTo>
                <a:close/>
              </a:path>
              <a:path fill="darken" w="29783" h="21600">
                <a:moveTo>
                  <a:pt x="29783" y="0"/>
                </a:moveTo>
                <a:lnTo>
                  <a:pt x="29783" y="21600"/>
                </a:lnTo>
                <a:lnTo>
                  <a:pt x="28383" y="20200"/>
                </a:lnTo>
                <a:lnTo>
                  <a:pt x="28383" y="1400"/>
                </a:lnTo>
                <a:close/>
              </a:path>
              <a:path fill="darkenLess" w="29783" h="21600">
                <a:moveTo>
                  <a:pt x="29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83" y="20200"/>
                </a:lnTo>
                <a:close/>
              </a:path>
              <a:path fill="lighten" w="29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83" h="21600">
                <a:moveTo>
                  <a:pt x="7885" y="7493"/>
                </a:moveTo>
                <a:lnTo>
                  <a:pt x="11393" y="7493"/>
                </a:lnTo>
                <a:lnTo>
                  <a:pt x="11393" y="12828"/>
                </a:lnTo>
                <a:cubicBezTo>
                  <a:pt x="11393" y="13751"/>
                  <a:pt x="12193" y="14482"/>
                  <a:pt x="13229" y="14482"/>
                </a:cubicBezTo>
                <a:lnTo>
                  <a:pt x="14891" y="14482"/>
                </a:lnTo>
                <a:cubicBezTo>
                  <a:pt x="15927" y="14482"/>
                  <a:pt x="16728" y="13751"/>
                  <a:pt x="16728" y="12828"/>
                </a:cubicBezTo>
                <a:lnTo>
                  <a:pt x="16728" y="7493"/>
                </a:lnTo>
                <a:lnTo>
                  <a:pt x="14891" y="7493"/>
                </a:lnTo>
                <a:lnTo>
                  <a:pt x="18399" y="3985"/>
                </a:lnTo>
                <a:lnTo>
                  <a:pt x="22072" y="7493"/>
                </a:lnTo>
                <a:lnTo>
                  <a:pt x="20235" y="7493"/>
                </a:lnTo>
                <a:lnTo>
                  <a:pt x="20235" y="12828"/>
                </a:lnTo>
                <a:cubicBezTo>
                  <a:pt x="20235" y="15596"/>
                  <a:pt x="17659" y="18155"/>
                  <a:pt x="14891" y="18155"/>
                </a:cubicBezTo>
                <a:lnTo>
                  <a:pt x="13229" y="18155"/>
                </a:lnTo>
                <a:cubicBezTo>
                  <a:pt x="10461" y="18155"/>
                  <a:pt x="7885" y="15596"/>
                  <a:pt x="7885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Непреры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Функци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прерывной в то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= 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если выполняется соотношение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Функци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прерывной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множеств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если она непрерывна в каждой точке эт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ж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еорем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Если выраж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оставлено из рациональн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рациональных, тригонометрических выражений, то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 = f(x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прерывна в любой точке, в которой определ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ж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чит, заданная функция непрерывна, если 2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1)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 ес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записать в виде числовых промежутков: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976640" y="1886040"/>
                <a:ext cx="19544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159760" y="6102360"/>
            <a:ext cx="792000" cy="5745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69" h="21600">
                <a:moveTo>
                  <a:pt x="0" y="0"/>
                </a:moveTo>
                <a:lnTo>
                  <a:pt x="29769" y="0"/>
                </a:lnTo>
                <a:lnTo>
                  <a:pt x="29769" y="21600"/>
                </a:lnTo>
                <a:lnTo>
                  <a:pt x="0" y="21600"/>
                </a:lnTo>
                <a:close/>
              </a:path>
              <a:path fill="lightenLess" w="29769" h="21600">
                <a:moveTo>
                  <a:pt x="0" y="0"/>
                </a:moveTo>
                <a:lnTo>
                  <a:pt x="29769" y="0"/>
                </a:lnTo>
                <a:lnTo>
                  <a:pt x="28369" y="1400"/>
                </a:lnTo>
                <a:lnTo>
                  <a:pt x="1400" y="1400"/>
                </a:lnTo>
                <a:close/>
              </a:path>
              <a:path fill="darken" w="29769" h="21600">
                <a:moveTo>
                  <a:pt x="29769" y="0"/>
                </a:moveTo>
                <a:lnTo>
                  <a:pt x="29769" y="21600"/>
                </a:lnTo>
                <a:lnTo>
                  <a:pt x="28369" y="20200"/>
                </a:lnTo>
                <a:lnTo>
                  <a:pt x="28369" y="1400"/>
                </a:lnTo>
                <a:close/>
              </a:path>
              <a:path fill="darkenLess" w="29769" h="21600">
                <a:moveTo>
                  <a:pt x="2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9" y="20200"/>
                </a:lnTo>
                <a:close/>
              </a:path>
              <a:path fill="lighten" w="2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9" h="21600">
                <a:moveTo>
                  <a:pt x="7878" y="7493"/>
                </a:moveTo>
                <a:lnTo>
                  <a:pt x="11386" y="7493"/>
                </a:lnTo>
                <a:lnTo>
                  <a:pt x="11386" y="12828"/>
                </a:lnTo>
                <a:cubicBezTo>
                  <a:pt x="11386" y="13751"/>
                  <a:pt x="12187" y="14482"/>
                  <a:pt x="13222" y="14482"/>
                </a:cubicBezTo>
                <a:lnTo>
                  <a:pt x="14885" y="14482"/>
                </a:lnTo>
                <a:cubicBezTo>
                  <a:pt x="15920" y="14482"/>
                  <a:pt x="16721" y="13751"/>
                  <a:pt x="16721" y="12828"/>
                </a:cubicBezTo>
                <a:lnTo>
                  <a:pt x="16721" y="7493"/>
                </a:lnTo>
                <a:lnTo>
                  <a:pt x="14885" y="7493"/>
                </a:lnTo>
                <a:lnTo>
                  <a:pt x="18392" y="3985"/>
                </a:lnTo>
                <a:lnTo>
                  <a:pt x="22065" y="7493"/>
                </a:lnTo>
                <a:lnTo>
                  <a:pt x="20229" y="7493"/>
                </a:lnTo>
                <a:lnTo>
                  <a:pt x="20229" y="12828"/>
                </a:lnTo>
                <a:cubicBezTo>
                  <a:pt x="20229" y="15596"/>
                  <a:pt x="17652" y="18155"/>
                  <a:pt x="14885" y="18155"/>
                </a:cubicBezTo>
                <a:lnTo>
                  <a:pt x="13222" y="18155"/>
                </a:lnTo>
                <a:cubicBezTo>
                  <a:pt x="10454" y="18155"/>
                  <a:pt x="7878" y="15596"/>
                  <a:pt x="7878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946840" y="5616720"/>
                <a:ext cx="9986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202520" y="5619600"/>
                <a:ext cx="1023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2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войство четности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1600" y="1052640"/>
            <a:ext cx="8804160" cy="56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Функция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че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сли ее область определения представляет собой промежуток, симметричный относительно начала координат и для люб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области определения выполняется равен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Функция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че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сли ее область определения представляет собой промежуток, симметричный относительно начала координат и для любы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 области определения выполняется равен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=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Если ее область определения представляет собой промежуток, несимметричный относительно начала координат или любое из услови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 = 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ется не для всех значени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или не выполняется ни для каки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то функц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ункцией общего поло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ли общего 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нной функ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полняется определение функции общего положения, поскольку ее область определения представляет собой промежуток, несимметричный относительно начала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8172360" y="6033960"/>
            <a:ext cx="792360" cy="57492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9764" h="21600">
                <a:moveTo>
                  <a:pt x="0" y="0"/>
                </a:moveTo>
                <a:lnTo>
                  <a:pt x="29764" y="0"/>
                </a:lnTo>
                <a:lnTo>
                  <a:pt x="29764" y="21600"/>
                </a:lnTo>
                <a:lnTo>
                  <a:pt x="0" y="21600"/>
                </a:lnTo>
                <a:close/>
              </a:path>
              <a:path fill="lightenLess" w="29764" h="21600">
                <a:moveTo>
                  <a:pt x="0" y="0"/>
                </a:moveTo>
                <a:lnTo>
                  <a:pt x="29764" y="0"/>
                </a:lnTo>
                <a:lnTo>
                  <a:pt x="28364" y="1400"/>
                </a:lnTo>
                <a:lnTo>
                  <a:pt x="1400" y="1400"/>
                </a:lnTo>
                <a:close/>
              </a:path>
              <a:path fill="darken" w="29764" h="21600">
                <a:moveTo>
                  <a:pt x="29764" y="0"/>
                </a:moveTo>
                <a:lnTo>
                  <a:pt x="29764" y="21600"/>
                </a:lnTo>
                <a:lnTo>
                  <a:pt x="28364" y="20200"/>
                </a:lnTo>
                <a:lnTo>
                  <a:pt x="28364" y="1400"/>
                </a:lnTo>
                <a:close/>
              </a:path>
              <a:path fill="darkenLess" w="29764" h="21600">
                <a:moveTo>
                  <a:pt x="29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64" y="20200"/>
                </a:lnTo>
                <a:close/>
              </a:path>
              <a:path fill="lighten" w="29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64" h="21600">
                <a:moveTo>
                  <a:pt x="7876" y="7493"/>
                </a:moveTo>
                <a:lnTo>
                  <a:pt x="11383" y="7493"/>
                </a:lnTo>
                <a:lnTo>
                  <a:pt x="11383" y="12828"/>
                </a:lnTo>
                <a:cubicBezTo>
                  <a:pt x="11383" y="13751"/>
                  <a:pt x="12184" y="14482"/>
                  <a:pt x="13220" y="14482"/>
                </a:cubicBezTo>
                <a:lnTo>
                  <a:pt x="14882" y="14482"/>
                </a:lnTo>
                <a:cubicBezTo>
                  <a:pt x="15918" y="14482"/>
                  <a:pt x="16719" y="13751"/>
                  <a:pt x="16719" y="12828"/>
                </a:cubicBezTo>
                <a:lnTo>
                  <a:pt x="16719" y="7493"/>
                </a:lnTo>
                <a:lnTo>
                  <a:pt x="14882" y="7493"/>
                </a:lnTo>
                <a:lnTo>
                  <a:pt x="18390" y="3985"/>
                </a:lnTo>
                <a:lnTo>
                  <a:pt x="22063" y="7493"/>
                </a:lnTo>
                <a:lnTo>
                  <a:pt x="20226" y="7493"/>
                </a:lnTo>
                <a:lnTo>
                  <a:pt x="20226" y="12828"/>
                </a:lnTo>
                <a:cubicBezTo>
                  <a:pt x="20226" y="15596"/>
                  <a:pt x="17650" y="18155"/>
                  <a:pt x="14882" y="18155"/>
                </a:cubicBezTo>
                <a:lnTo>
                  <a:pt x="13220" y="18155"/>
                </a:lnTo>
                <a:cubicBezTo>
                  <a:pt x="10452" y="18155"/>
                  <a:pt x="7876" y="15596"/>
                  <a:pt x="7876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ериодич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Функция 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ериодическ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ществует такое число , что для любого значени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зятого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и определения, значения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+ 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– 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также принадлеж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и определения и выполняется равенство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+ 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верим заданную функцию на периодичность по определ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евидно, что 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удет выполняться только пр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0. То есть 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иодической функции не вы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7812000" y="5950080"/>
            <a:ext cx="792360" cy="5745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83" h="21600">
                <a:moveTo>
                  <a:pt x="0" y="0"/>
                </a:moveTo>
                <a:lnTo>
                  <a:pt x="29783" y="0"/>
                </a:lnTo>
                <a:lnTo>
                  <a:pt x="29783" y="21600"/>
                </a:lnTo>
                <a:lnTo>
                  <a:pt x="0" y="21600"/>
                </a:lnTo>
                <a:close/>
              </a:path>
              <a:path fill="lightenLess" w="29783" h="21600">
                <a:moveTo>
                  <a:pt x="0" y="0"/>
                </a:moveTo>
                <a:lnTo>
                  <a:pt x="29783" y="0"/>
                </a:lnTo>
                <a:lnTo>
                  <a:pt x="28383" y="1400"/>
                </a:lnTo>
                <a:lnTo>
                  <a:pt x="1400" y="1400"/>
                </a:lnTo>
                <a:close/>
              </a:path>
              <a:path fill="darken" w="29783" h="21600">
                <a:moveTo>
                  <a:pt x="29783" y="0"/>
                </a:moveTo>
                <a:lnTo>
                  <a:pt x="29783" y="21600"/>
                </a:lnTo>
                <a:lnTo>
                  <a:pt x="28383" y="20200"/>
                </a:lnTo>
                <a:lnTo>
                  <a:pt x="28383" y="1400"/>
                </a:lnTo>
                <a:close/>
              </a:path>
              <a:path fill="darkenLess" w="29783" h="21600">
                <a:moveTo>
                  <a:pt x="29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83" y="20200"/>
                </a:lnTo>
                <a:close/>
              </a:path>
              <a:path fill="lighten" w="29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83" h="21600">
                <a:moveTo>
                  <a:pt x="7885" y="7493"/>
                </a:moveTo>
                <a:lnTo>
                  <a:pt x="11393" y="7493"/>
                </a:lnTo>
                <a:lnTo>
                  <a:pt x="11393" y="12828"/>
                </a:lnTo>
                <a:cubicBezTo>
                  <a:pt x="11393" y="13751"/>
                  <a:pt x="12193" y="14482"/>
                  <a:pt x="13229" y="14482"/>
                </a:cubicBezTo>
                <a:lnTo>
                  <a:pt x="14891" y="14482"/>
                </a:lnTo>
                <a:cubicBezTo>
                  <a:pt x="15927" y="14482"/>
                  <a:pt x="16728" y="13751"/>
                  <a:pt x="16728" y="12828"/>
                </a:cubicBezTo>
                <a:lnTo>
                  <a:pt x="16728" y="7493"/>
                </a:lnTo>
                <a:lnTo>
                  <a:pt x="14891" y="7493"/>
                </a:lnTo>
                <a:lnTo>
                  <a:pt x="18399" y="3985"/>
                </a:lnTo>
                <a:lnTo>
                  <a:pt x="22072" y="7493"/>
                </a:lnTo>
                <a:lnTo>
                  <a:pt x="20235" y="7493"/>
                </a:lnTo>
                <a:lnTo>
                  <a:pt x="20235" y="12828"/>
                </a:lnTo>
                <a:cubicBezTo>
                  <a:pt x="20235" y="15596"/>
                  <a:pt x="17659" y="18155"/>
                  <a:pt x="14891" y="18155"/>
                </a:cubicBezTo>
                <a:lnTo>
                  <a:pt x="13229" y="18155"/>
                </a:lnTo>
                <a:cubicBezTo>
                  <a:pt x="10461" y="18155"/>
                  <a:pt x="7885" y="15596"/>
                  <a:pt x="7885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908000" y="3860640"/>
                <a:ext cx="13608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859280" y="3860640"/>
                <a:ext cx="2036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708360" y="4797360"/>
                <a:ext cx="2036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Точки пересечения с координатными ос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и пересечения с осью абсци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ходим из уравн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Отсюда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и пересечения с осью ордин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ходим подстанов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059280" y="2997360"/>
                <a:ext cx="12016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7812000" y="5950080"/>
            <a:ext cx="792360" cy="5745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83" h="21600">
                <a:moveTo>
                  <a:pt x="0" y="0"/>
                </a:moveTo>
                <a:lnTo>
                  <a:pt x="29783" y="0"/>
                </a:lnTo>
                <a:lnTo>
                  <a:pt x="29783" y="21600"/>
                </a:lnTo>
                <a:lnTo>
                  <a:pt x="0" y="21600"/>
                </a:lnTo>
                <a:close/>
              </a:path>
              <a:path fill="lightenLess" w="29783" h="21600">
                <a:moveTo>
                  <a:pt x="0" y="0"/>
                </a:moveTo>
                <a:lnTo>
                  <a:pt x="29783" y="0"/>
                </a:lnTo>
                <a:lnTo>
                  <a:pt x="28383" y="1400"/>
                </a:lnTo>
                <a:lnTo>
                  <a:pt x="1400" y="1400"/>
                </a:lnTo>
                <a:close/>
              </a:path>
              <a:path fill="darken" w="29783" h="21600">
                <a:moveTo>
                  <a:pt x="29783" y="0"/>
                </a:moveTo>
                <a:lnTo>
                  <a:pt x="29783" y="21600"/>
                </a:lnTo>
                <a:lnTo>
                  <a:pt x="28383" y="20200"/>
                </a:lnTo>
                <a:lnTo>
                  <a:pt x="28383" y="1400"/>
                </a:lnTo>
                <a:close/>
              </a:path>
              <a:path fill="darkenLess" w="29783" h="21600">
                <a:moveTo>
                  <a:pt x="29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83" y="20200"/>
                </a:lnTo>
                <a:close/>
              </a:path>
              <a:path fill="lighten" w="29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83" h="21600">
                <a:moveTo>
                  <a:pt x="7885" y="7493"/>
                </a:moveTo>
                <a:lnTo>
                  <a:pt x="11393" y="7493"/>
                </a:lnTo>
                <a:lnTo>
                  <a:pt x="11393" y="12828"/>
                </a:lnTo>
                <a:cubicBezTo>
                  <a:pt x="11393" y="13751"/>
                  <a:pt x="12193" y="14482"/>
                  <a:pt x="13229" y="14482"/>
                </a:cubicBezTo>
                <a:lnTo>
                  <a:pt x="14891" y="14482"/>
                </a:lnTo>
                <a:cubicBezTo>
                  <a:pt x="15927" y="14482"/>
                  <a:pt x="16728" y="13751"/>
                  <a:pt x="16728" y="12828"/>
                </a:cubicBezTo>
                <a:lnTo>
                  <a:pt x="16728" y="7493"/>
                </a:lnTo>
                <a:lnTo>
                  <a:pt x="14891" y="7493"/>
                </a:lnTo>
                <a:lnTo>
                  <a:pt x="18399" y="3985"/>
                </a:lnTo>
                <a:lnTo>
                  <a:pt x="22072" y="7493"/>
                </a:lnTo>
                <a:lnTo>
                  <a:pt x="20235" y="7493"/>
                </a:lnTo>
                <a:lnTo>
                  <a:pt x="20235" y="12828"/>
                </a:lnTo>
                <a:cubicBezTo>
                  <a:pt x="20235" y="15596"/>
                  <a:pt x="17659" y="18155"/>
                  <a:pt x="14891" y="18155"/>
                </a:cubicBezTo>
                <a:lnTo>
                  <a:pt x="13229" y="18155"/>
                </a:lnTo>
                <a:cubicBezTo>
                  <a:pt x="10461" y="18155"/>
                  <a:pt x="7885" y="15596"/>
                  <a:pt x="7885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324240" y="5064120"/>
                <a:ext cx="1835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2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омежутки знакопостоянства фун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межутками знакопостоянств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ется множество значений аргумента, при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ются нераве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lt;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им для заданной функции неравен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кольку знаменатель дроби на области определения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имает только положительные значения, знак 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ет числитель. Значит, есл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12000" y="5950080"/>
            <a:ext cx="792360" cy="5745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9783" h="21600">
                <a:moveTo>
                  <a:pt x="0" y="0"/>
                </a:moveTo>
                <a:lnTo>
                  <a:pt x="29783" y="0"/>
                </a:lnTo>
                <a:lnTo>
                  <a:pt x="29783" y="21600"/>
                </a:lnTo>
                <a:lnTo>
                  <a:pt x="0" y="21600"/>
                </a:lnTo>
                <a:close/>
              </a:path>
              <a:path fill="lightenLess" w="29783" h="21600">
                <a:moveTo>
                  <a:pt x="0" y="0"/>
                </a:moveTo>
                <a:lnTo>
                  <a:pt x="29783" y="0"/>
                </a:lnTo>
                <a:lnTo>
                  <a:pt x="28383" y="1400"/>
                </a:lnTo>
                <a:lnTo>
                  <a:pt x="1400" y="1400"/>
                </a:lnTo>
                <a:close/>
              </a:path>
              <a:path fill="darken" w="29783" h="21600">
                <a:moveTo>
                  <a:pt x="29783" y="0"/>
                </a:moveTo>
                <a:lnTo>
                  <a:pt x="29783" y="21600"/>
                </a:lnTo>
                <a:lnTo>
                  <a:pt x="28383" y="20200"/>
                </a:lnTo>
                <a:lnTo>
                  <a:pt x="28383" y="1400"/>
                </a:lnTo>
                <a:close/>
              </a:path>
              <a:path fill="darkenLess" w="29783" h="21600">
                <a:moveTo>
                  <a:pt x="29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83" y="20200"/>
                </a:lnTo>
                <a:close/>
              </a:path>
              <a:path fill="lighten" w="29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83" h="21600">
                <a:moveTo>
                  <a:pt x="7885" y="7493"/>
                </a:moveTo>
                <a:lnTo>
                  <a:pt x="11393" y="7493"/>
                </a:lnTo>
                <a:lnTo>
                  <a:pt x="11393" y="12828"/>
                </a:lnTo>
                <a:cubicBezTo>
                  <a:pt x="11393" y="13751"/>
                  <a:pt x="12193" y="14482"/>
                  <a:pt x="13229" y="14482"/>
                </a:cubicBezTo>
                <a:lnTo>
                  <a:pt x="14891" y="14482"/>
                </a:lnTo>
                <a:cubicBezTo>
                  <a:pt x="15927" y="14482"/>
                  <a:pt x="16728" y="13751"/>
                  <a:pt x="16728" y="12828"/>
                </a:cubicBezTo>
                <a:lnTo>
                  <a:pt x="16728" y="7493"/>
                </a:lnTo>
                <a:lnTo>
                  <a:pt x="14891" y="7493"/>
                </a:lnTo>
                <a:lnTo>
                  <a:pt x="18399" y="3985"/>
                </a:lnTo>
                <a:lnTo>
                  <a:pt x="22072" y="7493"/>
                </a:lnTo>
                <a:lnTo>
                  <a:pt x="20235" y="7493"/>
                </a:lnTo>
                <a:lnTo>
                  <a:pt x="20235" y="12828"/>
                </a:lnTo>
                <a:cubicBezTo>
                  <a:pt x="20235" y="15596"/>
                  <a:pt x="17659" y="18155"/>
                  <a:pt x="14891" y="18155"/>
                </a:cubicBezTo>
                <a:lnTo>
                  <a:pt x="13229" y="18155"/>
                </a:lnTo>
                <a:cubicBezTo>
                  <a:pt x="10461" y="18155"/>
                  <a:pt x="7885" y="15596"/>
                  <a:pt x="7885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780000" y="3645000"/>
                <a:ext cx="1223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wheel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2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2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0T12:53:06Z</dcterms:created>
  <dc:creator>Elena</dc:creator>
  <dc:description/>
  <dc:language>en-US</dc:language>
  <cp:lastModifiedBy>слушатель</cp:lastModifiedBy>
  <dcterms:modified xsi:type="dcterms:W3CDTF">2006-10-16T09:03:39Z</dcterms:modified>
  <cp:revision>121</cp:revision>
  <dc:subject/>
  <dc:title>Функции и графики</dc:title>
</cp:coreProperties>
</file>