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9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17.png" ContentType="image/png"/>
  <Override PartName="/ppt/media/image1.png" ContentType="image/png"/>
  <Override PartName="/ppt/media/image3.jpeg" ContentType="image/jpeg"/>
  <Override PartName="/ppt/media/image25.wmf" ContentType="image/x-wmf"/>
  <Override PartName="/ppt/media/image2.wmf" ContentType="image/x-wmf"/>
  <Override PartName="/ppt/media/image4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5AE-7BE3-4CA2-8F7B-7F6E406A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801-1BE6-4A66-A2BD-35FFD0F4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84B-3D61-4A88-A356-7E321867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22D-1B07-41E9-A962-9F907623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AC6-9DB3-4351-AA8C-DC465DF1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3706-98B6-48BD-A23F-EBC25E51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6F2B-E5E3-4304-BD15-6BD87957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0FD0-EF9F-45E6-BABD-39F58BAF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A773-EA07-45A9-96DC-85B1777F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5644-2095-48C2-A0AD-242B7B4E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36BD-69F3-43B8-85A6-0188811A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1B0-EC09-4DD3-A41B-E2472482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1B6D-D3F9-46AF-8963-0CF966D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625C-176A-4D42-B109-71F5E239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DD87-E54C-4057-BBB0-1E00F9F8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5CBF-912C-4944-8CD0-749DF93E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4054-9BD8-4852-BB4E-DBD5CB71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8086-8303-48FD-B6EF-F19FFE0D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2A23-4F7F-4349-A484-BF8F591D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E8D2-05EE-4AAD-A386-BB0B9754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916A-9B9D-44EA-8FD9-B8236357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5B4A-8FA9-448E-BBC0-4318D625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A42-6E4D-4218-A5E3-C9E47112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8B00-0110-418C-9B72-F1415758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C759-4744-4A41-B67D-1FE736CF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3633-C1B1-4B21-BE06-39C4F4C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9F36-E708-46B5-8409-A213E79E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0B19C-12BB-46B3-9B8E-48853E78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C00D-5CA1-4E17-94C6-DE531085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990E-62F6-45B8-9F5C-7394CE2B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685-CB37-4918-B124-4452554B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34B-69C1-4D97-BF2F-F6A154B4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5A8-829A-45BB-989F-A1FF2A77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6EC-EE43-4449-8C84-066D912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126-9209-4DC7-9E09-23D5461B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22A-E04F-4C98-A91E-7D25B24D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8F65-C1E9-4A12-9BAF-2DCD1195A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31FC-A18D-4047-9122-152E562AD0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F4EC-E8CC-4999-913B-C2406FC303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42920" y="1052640"/>
            <a:ext cx="741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тырёхугольники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835280" y="3573360"/>
            <a:ext cx="5832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ngal"/>
              </a:rPr>
              <a:t>-парллелограмм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ngal"/>
              <a:ea typeface="Mang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ngal"/>
              </a:rPr>
              <a:t>-прямоугольник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ngal"/>
              <a:ea typeface="Mang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ngal"/>
              </a:rPr>
              <a:t>-ромб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ngal"/>
              <a:ea typeface="Mang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950080"/>
            <a:ext cx="504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 проекта Фокина Надежд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СОШ №7 г. Лоб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иагонали взаимно перпендикулярны и делят его углы попол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987640" y="5013360"/>
                <a:ext cx="2664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AC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DA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ahoma"/>
              </a:rPr>
              <a:t>Ромб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1944720" cy="3313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172360" y="5516640"/>
            <a:ext cx="77148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ahoma"/>
              </a:rPr>
              <a:t>Квадрат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4453200" cy="43210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ямоугольник, у которого все стороны рав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B=BC=CD=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740720" y="5516640"/>
            <a:ext cx="118116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141640" y="2087640"/>
            <a:ext cx="1896840" cy="1846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Все углы прям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Диагонали рав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Диагонали взаимно перпендикулярны, точкой пересечения делятся пополам и делят углы  попол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124000" y="4149720"/>
                <a:ext cx="194796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A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DAC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BAC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ahoma"/>
              </a:rPr>
              <a:t>Квадрат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812000" y="5516640"/>
            <a:ext cx="118116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Arnprior"/>
              </a:rPr>
              <a:t>Задача</a:t>
            </a:r>
            <a:r>
              <a:rPr b="1" i="1" lang="en-US" sz="4400" spc="-1" strike="noStrike">
                <a:solidFill>
                  <a:srgbClr val="0066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Berylium"/>
              </a:rPr>
              <a:t>    </a:t>
            </a:r>
            <a:r>
              <a:rPr b="0" lang="ru-RU" sz="2400" spc="-1" strike="noStrike">
                <a:solidFill>
                  <a:srgbClr val="009900"/>
                </a:solidFill>
                <a:latin typeface="Berylium"/>
              </a:rPr>
              <a:t>Найдите боковые стороны равнобедренной трапеции, основания которой равны 14см и 8см, а один из углов равен 120</a:t>
            </a:r>
            <a:r>
              <a:rPr b="0" lang="en-US" sz="2400" spc="-1" strike="noStrike">
                <a:solidFill>
                  <a:srgbClr val="009900"/>
                </a:solidFill>
                <a:latin typeface="Berylium"/>
                <a:ea typeface="Arial"/>
              </a:rPr>
              <a:t>°</a:t>
            </a:r>
            <a:r>
              <a:rPr b="0" lang="ru-RU" sz="800" spc="-1" strike="noStrike">
                <a:solidFill>
                  <a:srgbClr val="009900"/>
                </a:solidFill>
                <a:latin typeface="Berylium"/>
                <a:ea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1076040" cy="1171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49236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: 6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195640" y="3068640"/>
            <a:ext cx="3552840" cy="2060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139920" y="34290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27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18360" y="4889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Arnprior"/>
              </a:rPr>
              <a:t>Задача</a:t>
            </a:r>
            <a:r>
              <a:rPr b="1" i="1" lang="en-US" sz="4400" spc="-1" strike="noStrike">
                <a:solidFill>
                  <a:srgbClr val="006600"/>
                </a:solidFill>
                <a:latin typeface="Arial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8000"/>
                </a:solidFill>
                <a:latin typeface="Berylium"/>
              </a:rPr>
              <a:t>Угол между диагоналями прямоугольника равны 80</a:t>
            </a:r>
            <a:r>
              <a:rPr b="0" lang="en-US" sz="2000" spc="-1" strike="noStrike">
                <a:solidFill>
                  <a:srgbClr val="008000"/>
                </a:solidFill>
                <a:latin typeface="Berylium"/>
                <a:ea typeface="Arial"/>
              </a:rPr>
              <a:t>°</a:t>
            </a:r>
            <a:r>
              <a:rPr b="0" lang="ru-RU" sz="2000" spc="-1" strike="noStrike">
                <a:solidFill>
                  <a:srgbClr val="008000"/>
                </a:solidFill>
                <a:latin typeface="Berylium"/>
                <a:ea typeface="Arial"/>
              </a:rPr>
              <a:t>.</a:t>
            </a:r>
            <a:r>
              <a:rPr b="0" lang="ru-RU" sz="2000" spc="-1" strike="noStrike">
                <a:solidFill>
                  <a:srgbClr val="008000"/>
                </a:solidFill>
                <a:latin typeface="Ariac"/>
                <a:ea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Berylium"/>
                <a:ea typeface="Arial"/>
              </a:rPr>
              <a:t>Найдите углы между диагональю прямоугольника и его сторо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885080" y="5516640"/>
            <a:ext cx="1076400" cy="1171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56000" y="53006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: 5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4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419640" y="3068640"/>
            <a:ext cx="2323800" cy="1554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780000" y="3645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Arnprior"/>
              </a:rPr>
              <a:t>Задача</a:t>
            </a:r>
            <a:r>
              <a:rPr b="1" i="1" lang="en-US" sz="4400" spc="-1" strike="noStrike">
                <a:solidFill>
                  <a:srgbClr val="006600"/>
                </a:solidFill>
                <a:latin typeface="Arial"/>
              </a:rPr>
              <a:t>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8000"/>
                </a:solidFill>
                <a:latin typeface="Berylium"/>
              </a:rPr>
              <a:t>Найдите периметр ромба </a:t>
            </a:r>
            <a:r>
              <a:rPr b="0" lang="en-US" sz="2000" spc="-1" strike="noStrike">
                <a:solidFill>
                  <a:srgbClr val="008000"/>
                </a:solidFill>
                <a:latin typeface="Berylium"/>
              </a:rPr>
              <a:t>ABCD,</a:t>
            </a:r>
            <a:r>
              <a:rPr b="0" lang="ru-RU" sz="2000" spc="-1" strike="noStrike">
                <a:solidFill>
                  <a:srgbClr val="008000"/>
                </a:solidFill>
                <a:latin typeface="Berylium"/>
              </a:rPr>
              <a:t> если уголВ=120</a:t>
            </a:r>
            <a:r>
              <a:rPr b="0" lang="en-US" sz="2000" spc="-1" strike="noStrike">
                <a:solidFill>
                  <a:srgbClr val="008000"/>
                </a:solidFill>
                <a:latin typeface="Berylium"/>
                <a:ea typeface="Arial"/>
              </a:rPr>
              <a:t>°</a:t>
            </a:r>
            <a:r>
              <a:rPr b="0" lang="ru-RU" sz="2000" spc="-1" strike="noStrike">
                <a:solidFill>
                  <a:srgbClr val="008000"/>
                </a:solidFill>
                <a:latin typeface="Berylium"/>
                <a:ea typeface="Arial"/>
              </a:rPr>
              <a:t>, В</a:t>
            </a:r>
            <a:r>
              <a:rPr b="0" lang="en-US" sz="2000" spc="-1" strike="noStrike">
                <a:solidFill>
                  <a:srgbClr val="008000"/>
                </a:solidFill>
                <a:latin typeface="Berylium"/>
                <a:ea typeface="Arial"/>
              </a:rPr>
              <a:t>D</a:t>
            </a:r>
            <a:r>
              <a:rPr b="0" lang="ru-RU" sz="2000" spc="-1" strike="noStrike">
                <a:solidFill>
                  <a:srgbClr val="008000"/>
                </a:solidFill>
                <a:latin typeface="Berylium"/>
                <a:ea typeface="Arial"/>
              </a:rPr>
              <a:t>=8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956720" y="5516640"/>
            <a:ext cx="1076040" cy="1171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64000" y="551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вет: 32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19640" y="2276640"/>
            <a:ext cx="1866600" cy="2995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716280" y="3573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Arnprior"/>
              </a:rPr>
              <a:t>Задача</a:t>
            </a:r>
            <a:r>
              <a:rPr b="1" i="1" lang="en-US" sz="4400" spc="-1" strike="noStrike">
                <a:solidFill>
                  <a:srgbClr val="006600"/>
                </a:solidFill>
                <a:latin typeface="Arial"/>
              </a:rPr>
              <a:t>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Berylium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Berylium"/>
              </a:rPr>
              <a:t>Меньшая сторона параллелограмма 4см. Биссектрисы  углов, прилежащих к большей стороне, пересекаются в точке, лежащей на противоположной стороне. Найдите периметр параллелограмм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1076040" cy="1171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134880" y="5681520"/>
            <a:ext cx="24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твет: 24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843280" y="3789360"/>
            <a:ext cx="331308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6600"/>
                </a:solidFill>
                <a:latin typeface="Arnprior"/>
              </a:rPr>
              <a:t>Молодцы!</a:t>
            </a:r>
            <a:br>
              <a:rPr sz="8000"/>
            </a:br>
            <a:br>
              <a:rPr sz="8000"/>
            </a:br>
            <a:r>
              <a:rPr b="1" i="1" lang="en-US" sz="8000" spc="-1" strike="noStrike">
                <a:solidFill>
                  <a:srgbClr val="006600"/>
                </a:solidFill>
                <a:latin typeface="Arnprior"/>
              </a:rPr>
              <a:t>До свиданья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63640" y="476280"/>
            <a:ext cx="590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 ур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835280" y="2852640"/>
            <a:ext cx="6408720" cy="3095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параллелограмм,определение,свойства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96969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прямоугольник, определение, свойства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96969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трапеция, определение, свойства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96969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ромб, определение, свойства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96969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квадрат, определение, свойства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96969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задачи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96969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2924280"/>
            <a:ext cx="719280" cy="287280"/>
          </a:xfrm>
          <a:prstGeom prst="parallelogram">
            <a:avLst>
              <a:gd name="adj" fmla="val 62594"/>
            </a:avLst>
          </a:prstGeom>
          <a:gradFill rotWithShape="0">
            <a:gsLst>
              <a:gs pos="0">
                <a:srgbClr val="996600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3429000"/>
            <a:ext cx="647640" cy="2872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005360"/>
            <a:ext cx="647640" cy="287280"/>
          </a:xfrm>
          <a:custGeom>
            <a:avLst/>
            <a:gdLst>
              <a:gd name="textAreaLeft" fmla="*/ 142200 w 647640"/>
              <a:gd name="textAreaRight" fmla="*/ 505440 w 64764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2000" y="4437000"/>
            <a:ext cx="360360" cy="504720"/>
          </a:xfrm>
          <a:prstGeom prst="diamond">
            <a:avLst/>
          </a:prstGeom>
          <a:gradFill rotWithShape="0">
            <a:gsLst>
              <a:gs pos="0">
                <a:srgbClr val="cc9900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5084640"/>
            <a:ext cx="360360" cy="3603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5661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Eras Bold ITC"/>
              </a:rPr>
              <a:t>Параллелограмм 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258920" y="2924280"/>
            <a:ext cx="3457440" cy="1765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Arnprior"/>
              </a:rPr>
              <a:t>четырёхугольник, у которого противоположные стороны попарно параллель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94292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nprior"/>
              </a:rPr>
              <a:t>Свойств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3457800" cy="1765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тивоположные стороны равны и противоположные углы рав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B=CD,AD=C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иагонали точкой пересечения делятся попол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BO=OD,AO=O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24000" y="5445000"/>
            <a:ext cx="1114200" cy="1086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Century Schoolbook"/>
              </a:rPr>
              <a:t>Трапеция 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3960720" cy="2340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Четырёхугольник, у которого две стороны параллельны, а две другие стороны не параллель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BC,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D –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осн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B, CD –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боковые сторо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24000" y="5445000"/>
            <a:ext cx="1400040" cy="1095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4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411156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cc"/>
                </a:solidFill>
                <a:latin typeface="Georgia"/>
              </a:rPr>
              <a:t>Равнобедрен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Georgia"/>
              </a:rPr>
              <a:t>AB=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2800" spc="-1" strike="noStrike">
                <a:solidFill>
                  <a:srgbClr val="6600cc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6600cc"/>
                </a:solidFill>
                <a:latin typeface="Georgia"/>
              </a:rPr>
              <a:t>Прямоугольная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067280" y="4365720"/>
            <a:ext cx="3605040" cy="1614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4056120" cy="1614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Century Schoolbook"/>
              </a:rPr>
              <a:t>Трапеция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244000" y="5661000"/>
            <a:ext cx="72396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00"/>
                </a:solidFill>
                <a:latin typeface="Century Gothic"/>
              </a:rPr>
              <a:t>Прямоугольник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4105080" cy="216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39720" y="4757760"/>
                <a:ext cx="30988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244000" y="5661000"/>
            <a:ext cx="723960" cy="1000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64000" y="2492280"/>
            <a:ext cx="35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, у которого все углы прямые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00"/>
                </a:solidFill>
                <a:latin typeface="Century Gothic"/>
              </a:rPr>
              <a:t>Прямоугольник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88944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агонали рав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=B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101080" y="5661000"/>
            <a:ext cx="72396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ahoma"/>
              </a:rPr>
              <a:t>Ромб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3168720" cy="4103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раллелограмм, у которого все стороны рав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=BC=DC=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8244000" y="5589720"/>
            <a:ext cx="77148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2:17:44Z</dcterms:created>
  <dc:creator>Ученик</dc:creator>
  <dc:description/>
  <dc:language>en-US</dc:language>
  <cp:lastModifiedBy>Ученик</cp:lastModifiedBy>
  <dcterms:modified xsi:type="dcterms:W3CDTF">2008-03-12T12:37:27Z</dcterms:modified>
  <cp:revision>36</cp:revision>
  <dc:subject/>
  <dc:title>Четырёхугольники.</dc:title>
</cp:coreProperties>
</file>