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13.png" ContentType="image/png"/>
  <Override PartName="/ppt/media/image5.gif" ContentType="image/gif"/>
  <Override PartName="/ppt/media/image8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4EFD-DB63-418F-B4FD-A793A5DC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783F-4C14-410A-9F22-F44BD23A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BE6F-6ED9-4D8A-A27F-6D4BEA13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717F-082D-4B37-81FA-3B5B412F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2840-D974-4AD9-A045-14236787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9323-1422-475B-AE71-E13C49C3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3EEE-30AC-4CD9-AE32-69A4ABD9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1671-6D31-4F9B-8326-D6027856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A399-4D60-4EED-BF41-592EEE68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A445-6906-42EC-877F-3BADB501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7E0C-4848-4625-9540-AF8D67CC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5768-AFE1-41F2-ACEE-8DE11469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8F5E-E845-46DA-8CF7-A7D2115A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6061-29A4-42A0-9529-36137BE9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20E5-4FFB-4854-8F81-544D2143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6429-6F39-4AEC-A5EF-5A8C37B1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CD9D-FA92-467C-A18A-2A536E2B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3DCD-E82D-411B-A551-10FE826C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AE61-7B9C-45D8-8AB0-7D7D5052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238A-B3B5-47C2-94A4-9783E831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4472-4F90-4F7F-9F33-01ED4782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3BEF-978B-43B6-9EF8-D4D8CCA8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BBD4-9D0F-48E8-B655-C1A3F9EB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53FF-75BA-4D2D-ACDB-D8AC4CA0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94CF-FE48-416C-A3DF-50EE325C67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68EC-D00C-4663-86AC-BB2902A14C1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" Target="slide10.xm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468360" y="333360"/>
            <a:ext cx="806436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769"/>
              </a:avLst>
            </a:prstTxWarp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зика в школе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WordArt 7" descr=""/>
          <p:cNvPicPr/>
          <p:nvPr/>
        </p:nvPicPr>
        <p:blipFill>
          <a:blip r:embed="rId1"/>
          <a:stretch/>
        </p:blipFill>
        <p:spPr>
          <a:xfrm>
            <a:off x="628560" y="2693880"/>
            <a:ext cx="802800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57120" y="0"/>
            <a:ext cx="8786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Тест . Явление электромагнитной инду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Металлический стержень движется со скоростью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однородном магнитном поле так, как показано на рисунке . Какие заряды образуются на краях стержн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1 — отрицательные, 2 — положитель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1 — положительные, 2 — отрицатель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Определенного ответа дать нельз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ороткозамкнутую катушку первый раз быстро, второй раз медленно вводят магнит. В каком случае заряд, который переносится индукционным током, больш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первом случае заряд больше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Б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о втором случае заряд боль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В обоих случаях заряды одинако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 магнитном поле с индукцией 0,25 Тл перпендикулярно линиям индукции со скоростью 5 м/с движется проводник длиной 2 м. Чему равна ЭДС индукции в проводнике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250 В.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2,5 В.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0,4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За 3 с магнитный поток, пронизывающий проволочную рамку, равномерно увеличился с 6 Вб до 9 Вб. Чему равно при этом значение ЭДС индукции в рамк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          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ЗВ.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6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При каком направлении движения контура в магнитном поле (рис.) в нем возникает индукционный ток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движении в плоскости рисунка впра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При движении в плоскости рисунка от н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При повороте вокруг стороны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6572160" y="1214280"/>
            <a:ext cx="1905120" cy="993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2"/>
          <a:stretch/>
        </p:blipFill>
        <p:spPr>
          <a:xfrm>
            <a:off x="6572160" y="5715000"/>
            <a:ext cx="1643040" cy="974880"/>
          </a:xfrm>
          <a:prstGeom prst="rect">
            <a:avLst/>
          </a:prstGeom>
          <a:ln w="0">
            <a:noFill/>
          </a:ln>
        </p:spPr>
      </p:pic>
      <p:sp>
        <p:nvSpPr>
          <p:cNvPr id="198" name="Управляющая кнопка: настраиваемая 8"/>
          <p:cNvSpPr/>
          <p:nvPr/>
        </p:nvSpPr>
        <p:spPr>
          <a:xfrm>
            <a:off x="8643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57120" y="0"/>
            <a:ext cx="8786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Металлический стержень движется со скоростью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днородном магнитном поле так, как показано на рисунке. Какие заряды образуются на краях стержн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1 — отрицательные, 2 — положительны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2 — положительные, 2 — отрицатель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пределенного ответа дать нельз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 короткозамкнутую катушку первый раз быстро, второй раз медленно вводят магнит. В каком случае работа, совершенная возникающей ЭДС, больш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первом случае работа боль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Б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о втором случае работа боль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В обоих случаях работа одинак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 магнитном поле с индукцией 0,5 Тл перпендикулярно линиям индукции со скоростью 4 м/с движется проводник длиной 0,5 м. Чему равна ЭДС индукции в проводник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0 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         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10 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           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1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2 с магнитный поток, пронизывающий проволочную рамку, равномерно уменьшился с 9 Вб до 3 Вб. Чему равно при этом значение ЭДС индукции в рамк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4 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               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ЗВ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В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При каком направлении движения 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контура в магнитном поле (рис. )  в нем возникает индукционный ток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При движении плоскости рисунка впра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При движении плоскости рисунка от н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При повороте вокруг стороны В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6643800" y="785880"/>
            <a:ext cx="1857240" cy="928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6500880" y="5143680"/>
            <a:ext cx="1582560" cy="1357200"/>
          </a:xfrm>
          <a:prstGeom prst="rect">
            <a:avLst/>
          </a:prstGeom>
          <a:ln w="0">
            <a:noFill/>
          </a:ln>
        </p:spPr>
      </p:pic>
      <p:sp>
        <p:nvSpPr>
          <p:cNvPr id="202" name="Управляющая кнопка: настраиваемая 6"/>
          <p:cNvSpPr/>
          <p:nvPr/>
        </p:nvSpPr>
        <p:spPr>
          <a:xfrm>
            <a:off x="8643960" y="6286680"/>
            <a:ext cx="285840" cy="28548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356760"/>
            <a:ext cx="8400960" cy="57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204" name="Прямоугольник 4" descr=""/>
          <p:cNvPicPr/>
          <p:nvPr/>
        </p:nvPicPr>
        <p:blipFill>
          <a:blip r:embed="rId1"/>
          <a:stretch/>
        </p:blipFill>
        <p:spPr>
          <a:xfrm>
            <a:off x="1504800" y="231840"/>
            <a:ext cx="583416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428760" y="1714680"/>
          <a:ext cx="8429400" cy="2714400"/>
        </p:xfrm>
        <a:graphic>
          <a:graphicData uri="http://schemas.openxmlformats.org/drawingml/2006/table">
            <a:tbl>
              <a:tblPr/>
              <a:tblGrid>
                <a:gridCol w="1404720"/>
                <a:gridCol w="1405080"/>
                <a:gridCol w="1404720"/>
                <a:gridCol w="1405080"/>
                <a:gridCol w="1405080"/>
                <a:gridCol w="1404720"/>
              </a:tblGrid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206" name="TextBox 6"/>
          <p:cNvSpPr/>
          <p:nvPr/>
        </p:nvSpPr>
        <p:spPr>
          <a:xfrm>
            <a:off x="2143080" y="2500200"/>
            <a:ext cx="928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3500280" y="257184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8"/>
          <p:cNvSpPr/>
          <p:nvPr/>
        </p:nvSpPr>
        <p:spPr>
          <a:xfrm>
            <a:off x="4857840" y="2571840"/>
            <a:ext cx="92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9"/>
          <p:cNvSpPr/>
          <p:nvPr/>
        </p:nvSpPr>
        <p:spPr>
          <a:xfrm>
            <a:off x="6215040" y="257184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0"/>
          <p:cNvSpPr/>
          <p:nvPr/>
        </p:nvSpPr>
        <p:spPr>
          <a:xfrm>
            <a:off x="7715160" y="257184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1"/>
          <p:cNvSpPr/>
          <p:nvPr/>
        </p:nvSpPr>
        <p:spPr>
          <a:xfrm>
            <a:off x="2143080" y="357192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2"/>
          <p:cNvSpPr/>
          <p:nvPr/>
        </p:nvSpPr>
        <p:spPr>
          <a:xfrm>
            <a:off x="3429000" y="357192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4857840" y="3571920"/>
            <a:ext cx="92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4"/>
          <p:cNvSpPr/>
          <p:nvPr/>
        </p:nvSpPr>
        <p:spPr>
          <a:xfrm>
            <a:off x="6215040" y="357192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5"/>
          <p:cNvSpPr/>
          <p:nvPr/>
        </p:nvSpPr>
        <p:spPr>
          <a:xfrm>
            <a:off x="7643880" y="357192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6"/>
          <p:cNvSpPr/>
          <p:nvPr/>
        </p:nvSpPr>
        <p:spPr>
          <a:xfrm>
            <a:off x="2071800" y="2571840"/>
            <a:ext cx="92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Управляющая кнопка: настраиваемая 17"/>
          <p:cNvSpPr/>
          <p:nvPr/>
        </p:nvSpPr>
        <p:spPr>
          <a:xfrm>
            <a:off x="8643960" y="6143760"/>
            <a:ext cx="285840" cy="35712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7"/>
          <p:cNvSpPr txBox="1"/>
          <p:nvPr/>
        </p:nvSpPr>
        <p:spPr>
          <a:xfrm>
            <a:off x="2643120" y="549360"/>
            <a:ext cx="4357800" cy="87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одержа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00040" y="60004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">
            <a:hlinkClick r:id="rId3" action="ppaction://hlinksldjump"/>
          </p:cNvPr>
          <p:cNvSpPr/>
          <p:nvPr/>
        </p:nvSpPr>
        <p:spPr>
          <a:xfrm>
            <a:off x="714240" y="1571760"/>
            <a:ext cx="821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Открытие электромагнитной инду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785880" y="214308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ыты М.Фараде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785880" y="271476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он электромагнитной индукции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1"/>
          <p:cNvSpPr/>
          <p:nvPr/>
        </p:nvSpPr>
        <p:spPr>
          <a:xfrm>
            <a:off x="857160" y="3214800"/>
            <a:ext cx="67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Управляющая кнопка: настраиваемая 12">
            <a:hlinkClick r:id="rId4" action="ppaction://hlinksldjump"/>
          </p:cNvPr>
          <p:cNvSpPr/>
          <p:nvPr/>
        </p:nvSpPr>
        <p:spPr>
          <a:xfrm>
            <a:off x="928800" y="3357720"/>
            <a:ext cx="214200" cy="357120"/>
          </a:xfrm>
          <a:custGeom>
            <a:avLst/>
            <a:gdLst>
              <a:gd name="textAreaLeft" fmla="*/ 13680 w 214200"/>
              <a:gd name="textAreaRight" fmla="*/ 200520 w 214200"/>
              <a:gd name="textAreaTop" fmla="*/ 13680 h 357120"/>
              <a:gd name="textAreaBottom" fmla="*/ 343440 h 357120"/>
            </a:gdLst>
            <a:ahLst/>
            <a:rect l="textAreaLeft" t="textAreaTop" r="textAreaRight" b="textAreaBottom"/>
            <a:pathLst>
              <a:path w="21600" h="35988">
                <a:moveTo>
                  <a:pt x="0" y="0"/>
                </a:moveTo>
                <a:lnTo>
                  <a:pt x="21600" y="0"/>
                </a:lnTo>
                <a:lnTo>
                  <a:pt x="21600" y="35988"/>
                </a:lnTo>
                <a:lnTo>
                  <a:pt x="0" y="35988"/>
                </a:lnTo>
                <a:close/>
              </a:path>
              <a:path fill="lightenLess" w="21600" h="359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88">
                <a:moveTo>
                  <a:pt x="21600" y="0"/>
                </a:moveTo>
                <a:lnTo>
                  <a:pt x="21600" y="35988"/>
                </a:lnTo>
                <a:lnTo>
                  <a:pt x="20200" y="34588"/>
                </a:lnTo>
                <a:lnTo>
                  <a:pt x="20200" y="1400"/>
                </a:lnTo>
                <a:close/>
              </a:path>
              <a:path fill="darkenLess" w="21600" h="35988">
                <a:moveTo>
                  <a:pt x="21600" y="35988"/>
                </a:moveTo>
                <a:lnTo>
                  <a:pt x="0" y="35988"/>
                </a:lnTo>
                <a:lnTo>
                  <a:pt x="1400" y="34588"/>
                </a:lnTo>
                <a:lnTo>
                  <a:pt x="20200" y="34588"/>
                </a:lnTo>
                <a:close/>
              </a:path>
              <a:path fill="lighten" w="21600" h="35988">
                <a:moveTo>
                  <a:pt x="0" y="35988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8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Управляющая кнопка: настраиваемая 13"/>
          <p:cNvSpPr/>
          <p:nvPr/>
        </p:nvSpPr>
        <p:spPr>
          <a:xfrm>
            <a:off x="857160" y="2857680"/>
            <a:ext cx="214560" cy="285480"/>
          </a:xfrm>
          <a:custGeom>
            <a:avLst/>
            <a:gdLst>
              <a:gd name="textAreaLeft" fmla="*/ 13680 w 214560"/>
              <a:gd name="textAreaRight" fmla="*/ 200880 w 214560"/>
              <a:gd name="textAreaTop" fmla="*/ 13680 h 285480"/>
              <a:gd name="textAreaBottom" fmla="*/ 271800 h 285480"/>
            </a:gdLst>
            <a:ahLst/>
            <a:rect l="textAreaLeft" t="textAreaTop" r="textAreaRight" b="textAreaBottom"/>
            <a:pathLst>
              <a:path w="21600" h="28728">
                <a:moveTo>
                  <a:pt x="0" y="0"/>
                </a:moveTo>
                <a:lnTo>
                  <a:pt x="21600" y="0"/>
                </a:lnTo>
                <a:lnTo>
                  <a:pt x="21600" y="28728"/>
                </a:lnTo>
                <a:lnTo>
                  <a:pt x="0" y="28728"/>
                </a:lnTo>
                <a:close/>
              </a:path>
              <a:path fill="lightenLess" w="21600" h="287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28">
                <a:moveTo>
                  <a:pt x="21600" y="0"/>
                </a:moveTo>
                <a:lnTo>
                  <a:pt x="21600" y="28728"/>
                </a:lnTo>
                <a:lnTo>
                  <a:pt x="20200" y="27328"/>
                </a:lnTo>
                <a:lnTo>
                  <a:pt x="20200" y="1400"/>
                </a:lnTo>
                <a:close/>
              </a:path>
              <a:path fill="darkenLess" w="21600" h="28728">
                <a:moveTo>
                  <a:pt x="21600" y="28728"/>
                </a:moveTo>
                <a:lnTo>
                  <a:pt x="0" y="28728"/>
                </a:lnTo>
                <a:lnTo>
                  <a:pt x="1400" y="27328"/>
                </a:lnTo>
                <a:lnTo>
                  <a:pt x="20200" y="27328"/>
                </a:lnTo>
                <a:close/>
              </a:path>
              <a:path fill="lighten" w="21600" h="28728">
                <a:moveTo>
                  <a:pt x="0" y="287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Управляющая кнопка: настраиваемая 14"/>
          <p:cNvSpPr/>
          <p:nvPr/>
        </p:nvSpPr>
        <p:spPr>
          <a:xfrm>
            <a:off x="857160" y="2214720"/>
            <a:ext cx="214560" cy="357120"/>
          </a:xfrm>
          <a:custGeom>
            <a:avLst/>
            <a:gdLst>
              <a:gd name="textAreaLeft" fmla="*/ 13680 w 214560"/>
              <a:gd name="textAreaRight" fmla="*/ 200880 w 214560"/>
              <a:gd name="textAreaTop" fmla="*/ 13680 h 357120"/>
              <a:gd name="textAreaBottom" fmla="*/ 343440 h 357120"/>
            </a:gdLst>
            <a:ahLst/>
            <a:rect l="textAreaLeft" t="textAreaTop" r="textAreaRight" b="textAreaBottom"/>
            <a:pathLst>
              <a:path w="21600" h="35928">
                <a:moveTo>
                  <a:pt x="0" y="0"/>
                </a:moveTo>
                <a:lnTo>
                  <a:pt x="21600" y="0"/>
                </a:lnTo>
                <a:lnTo>
                  <a:pt x="21600" y="35928"/>
                </a:lnTo>
                <a:lnTo>
                  <a:pt x="0" y="35928"/>
                </a:lnTo>
                <a:close/>
              </a:path>
              <a:path fill="lightenLess" w="21600" h="359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28">
                <a:moveTo>
                  <a:pt x="21600" y="0"/>
                </a:moveTo>
                <a:lnTo>
                  <a:pt x="21600" y="35928"/>
                </a:lnTo>
                <a:lnTo>
                  <a:pt x="20200" y="34528"/>
                </a:lnTo>
                <a:lnTo>
                  <a:pt x="20200" y="1400"/>
                </a:lnTo>
                <a:close/>
              </a:path>
              <a:path fill="darkenLess" w="21600" h="35928">
                <a:moveTo>
                  <a:pt x="21600" y="35928"/>
                </a:moveTo>
                <a:lnTo>
                  <a:pt x="0" y="35928"/>
                </a:lnTo>
                <a:lnTo>
                  <a:pt x="1400" y="34528"/>
                </a:lnTo>
                <a:lnTo>
                  <a:pt x="20200" y="34528"/>
                </a:lnTo>
                <a:close/>
              </a:path>
              <a:path fill="lighten" w="21600" h="35928">
                <a:moveTo>
                  <a:pt x="0" y="35928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Управляющая кнопка: настраиваемая 15"/>
          <p:cNvSpPr/>
          <p:nvPr/>
        </p:nvSpPr>
        <p:spPr>
          <a:xfrm>
            <a:off x="857160" y="1714680"/>
            <a:ext cx="214560" cy="285480"/>
          </a:xfrm>
          <a:custGeom>
            <a:avLst/>
            <a:gdLst>
              <a:gd name="textAreaLeft" fmla="*/ 13680 w 214560"/>
              <a:gd name="textAreaRight" fmla="*/ 200880 w 214560"/>
              <a:gd name="textAreaTop" fmla="*/ 13680 h 285480"/>
              <a:gd name="textAreaBottom" fmla="*/ 271800 h 285480"/>
            </a:gdLst>
            <a:ahLst/>
            <a:rect l="textAreaLeft" t="textAreaTop" r="textAreaRight" b="textAreaBottom"/>
            <a:pathLst>
              <a:path w="21600" h="28728">
                <a:moveTo>
                  <a:pt x="0" y="0"/>
                </a:moveTo>
                <a:lnTo>
                  <a:pt x="21600" y="0"/>
                </a:lnTo>
                <a:lnTo>
                  <a:pt x="21600" y="28728"/>
                </a:lnTo>
                <a:lnTo>
                  <a:pt x="0" y="28728"/>
                </a:lnTo>
                <a:close/>
              </a:path>
              <a:path fill="lightenLess" w="21600" h="287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28">
                <a:moveTo>
                  <a:pt x="21600" y="0"/>
                </a:moveTo>
                <a:lnTo>
                  <a:pt x="21600" y="28728"/>
                </a:lnTo>
                <a:lnTo>
                  <a:pt x="20200" y="27328"/>
                </a:lnTo>
                <a:lnTo>
                  <a:pt x="20200" y="1400"/>
                </a:lnTo>
                <a:close/>
              </a:path>
              <a:path fill="darkenLess" w="21600" h="28728">
                <a:moveTo>
                  <a:pt x="21600" y="28728"/>
                </a:moveTo>
                <a:lnTo>
                  <a:pt x="0" y="28728"/>
                </a:lnTo>
                <a:lnTo>
                  <a:pt x="1400" y="27328"/>
                </a:lnTo>
                <a:lnTo>
                  <a:pt x="20200" y="27328"/>
                </a:lnTo>
                <a:close/>
              </a:path>
              <a:path fill="lighten" w="21600" h="28728">
                <a:moveTo>
                  <a:pt x="0" y="287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2" descr="E:\pr28\globus.gif"/>
          <p:cNvPicPr/>
          <p:nvPr/>
        </p:nvPicPr>
        <p:blipFill>
          <a:blip r:embed="rId5"/>
          <a:stretch/>
        </p:blipFill>
        <p:spPr>
          <a:xfrm>
            <a:off x="6215040" y="3786120"/>
            <a:ext cx="180036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Цель урока:</a:t>
            </a:r>
            <a:br>
              <a:rPr sz="2400"/>
            </a:b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ознакомить учащихся с явлением электромагнитной индукции;</a:t>
            </a:r>
            <a:br>
              <a:rPr sz="2400"/>
            </a:b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 - сформулировать закон электромагнитной индукции;</a:t>
            </a:r>
            <a:br>
              <a:rPr sz="2400"/>
            </a:b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 - отработка практических навыков при решении задач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2643120"/>
            <a:ext cx="8229600" cy="38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д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. Организационный мо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. Изучение нов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. Закрепление изучен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. Решение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. Подведение итогов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E:\pr28\kniga.gif"/>
          <p:cNvPicPr/>
          <p:nvPr/>
        </p:nvPicPr>
        <p:blipFill>
          <a:blip r:embed="rId1"/>
          <a:stretch/>
        </p:blipFill>
        <p:spPr>
          <a:xfrm>
            <a:off x="5840280" y="3000240"/>
            <a:ext cx="28450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16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56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56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64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964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28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фарадей"/>
          <p:cNvPicPr/>
          <p:nvPr/>
        </p:nvPicPr>
        <p:blipFill>
          <a:blip r:embed="rId1"/>
          <a:stretch/>
        </p:blipFill>
        <p:spPr>
          <a:xfrm>
            <a:off x="611280" y="2060640"/>
            <a:ext cx="3130560" cy="3483000"/>
          </a:xfrm>
          <a:prstGeom prst="rect">
            <a:avLst/>
          </a:prstGeom>
          <a:ln w="0">
            <a:noFill/>
          </a:ln>
        </p:spPr>
      </p:pic>
      <p:sp>
        <p:nvSpPr>
          <p:cNvPr id="175" name="WordArt 6"/>
          <p:cNvSpPr txBox="1"/>
          <p:nvPr/>
        </p:nvSpPr>
        <p:spPr>
          <a:xfrm>
            <a:off x="4859280" y="2997360"/>
            <a:ext cx="35053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йкл  Фарадей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1791-1867)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WordArt 7"/>
          <p:cNvSpPr txBox="1"/>
          <p:nvPr/>
        </p:nvSpPr>
        <p:spPr>
          <a:xfrm>
            <a:off x="684360" y="476280"/>
            <a:ext cx="8229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крытие электромагнитной индукции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7" name="Управляющая кнопка: назад 5"/>
          <p:cNvSpPr/>
          <p:nvPr/>
        </p:nvSpPr>
        <p:spPr>
          <a:xfrm>
            <a:off x="8643960" y="6286680"/>
            <a:ext cx="285840" cy="35712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-214200" y="285480"/>
            <a:ext cx="464328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жным шагом в развитии электродинамики после опытов Ампера было открытие явление электромагнитной индукции. Открыл явление электромагнитной индукции английский физик М. Фарад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радей знал об открытии Ампера, что он превратил электричество в магнетизм. Раздумывая над этим открытием, Фарадей пришел к мысли, что если «электричество создает магнетизм», то и «магнетизм должен создавать электричество». В течение восьми лет  Фарадей работал над решением поставленной зада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гое время его преследовали неудачи, и, наконец, в 1831 г. он решил ее - открыл явление электромагнитной инд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-первых, Фарадей обнаружил явление электромагнитной индукции для случая, когда катушки намотаны на один и тот же барабан. Если в одной катушке возникает или пропадает Долгое время его преследовали неудачи, и, наконец, в 1831 г. он решил ее - открыл явление электромагнитной инд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5800" y="357120"/>
            <a:ext cx="46436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-первых, Фарадей обнаружил явление электромагнитной индукции для случая, когда катушки намотаны на один и тот же барабан. Если в одной катушке возникает или пропадает электрический ток в результате подключения к ней или отключения от нее гальванической батареи, то в другой катушке в этот момент возникает кратковременный ток. Этот ток обнаруживается гальванометром, который присоединен ко второй катуш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ем Фарадей установил наличие индукционного тока в катушке, когда к ней приближали или удаляли от нее катушку, в которой протекал электрический т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конец, третий случай электромагнитной индукции, который обнаружил Фарадей, заключался в том, что в катушке появлялся ток, когда в нее вносили или же удаляли из нее магни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крытие Фарадея привлекло внимание многих физиков, которые также стали изучать особенности явления электромагнитной инд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Управляющая кнопка: настраиваемая 6"/>
          <p:cNvSpPr/>
          <p:nvPr/>
        </p:nvSpPr>
        <p:spPr>
          <a:xfrm>
            <a:off x="8572680" y="6286680"/>
            <a:ext cx="214200" cy="357120"/>
          </a:xfrm>
          <a:custGeom>
            <a:avLst/>
            <a:gdLst>
              <a:gd name="textAreaLeft" fmla="*/ 13680 w 214200"/>
              <a:gd name="textAreaRight" fmla="*/ 200520 w 214200"/>
              <a:gd name="textAreaTop" fmla="*/ 13680 h 357120"/>
              <a:gd name="textAreaBottom" fmla="*/ 343440 h 357120"/>
            </a:gdLst>
            <a:ahLst/>
            <a:rect l="textAreaLeft" t="textAreaTop" r="textAreaRight" b="textAreaBottom"/>
            <a:pathLst>
              <a:path w="21600" h="35988">
                <a:moveTo>
                  <a:pt x="0" y="0"/>
                </a:moveTo>
                <a:lnTo>
                  <a:pt x="21600" y="0"/>
                </a:lnTo>
                <a:lnTo>
                  <a:pt x="21600" y="35988"/>
                </a:lnTo>
                <a:lnTo>
                  <a:pt x="0" y="35988"/>
                </a:lnTo>
                <a:close/>
              </a:path>
              <a:path fill="lightenLess" w="21600" h="359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88">
                <a:moveTo>
                  <a:pt x="21600" y="0"/>
                </a:moveTo>
                <a:lnTo>
                  <a:pt x="21600" y="35988"/>
                </a:lnTo>
                <a:lnTo>
                  <a:pt x="20200" y="34588"/>
                </a:lnTo>
                <a:lnTo>
                  <a:pt x="20200" y="1400"/>
                </a:lnTo>
                <a:close/>
              </a:path>
              <a:path fill="darkenLess" w="21600" h="35988">
                <a:moveTo>
                  <a:pt x="21600" y="35988"/>
                </a:moveTo>
                <a:lnTo>
                  <a:pt x="0" y="35988"/>
                </a:lnTo>
                <a:lnTo>
                  <a:pt x="1400" y="34588"/>
                </a:lnTo>
                <a:lnTo>
                  <a:pt x="20200" y="34588"/>
                </a:lnTo>
                <a:close/>
              </a:path>
              <a:path fill="lighten" w="21600" h="35988">
                <a:moveTo>
                  <a:pt x="0" y="35988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88"/>
                </a:ln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214200" y="357120"/>
            <a:ext cx="86788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ыты Фарадея по электромагнитной индукции были выполнены в 30-е годы 19 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ение электромагнитной индукции заключается в возникновении электрического тока в замкнутом проводящем контуре (катушке) при изменении магнитного потока, пронизывающего катуш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нитным потоком Ф через площадь S контура называют величину где B - модуль вектора магнитной индукции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угол между вектором  и нормалью  к плоскости конту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=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os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лучае длинной катушки полный магнитный поток складывается из магнитных потоков, пронизывающих отдельные витки кат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нитный поток, пронизывающий катушку, может изменяться по двум причин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а счет изменения магнитного поля, в котором находится неподвижная катуш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 за счет движения самой катушки в магнитном п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оих случаях явление электромагнитной индукции протекает одинак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Управляющая кнопка: настраиваемая 4"/>
          <p:cNvSpPr/>
          <p:nvPr/>
        </p:nvSpPr>
        <p:spPr>
          <a:xfrm>
            <a:off x="8643960" y="621504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0"/>
                            </p:stCondLst>
                            <p:childTnLst>
                              <p:par>
                                <p:cTn id="1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rcRect l="22552" t="29256" r="45240" b="37323"/>
          <a:stretch/>
        </p:blipFill>
        <p:spPr>
          <a:xfrm>
            <a:off x="395280" y="1413000"/>
            <a:ext cx="3456000" cy="2305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"/>
          <p:cNvPicPr/>
          <p:nvPr/>
        </p:nvPicPr>
        <p:blipFill>
          <a:blip r:embed="rId2"/>
          <a:srcRect l="22751" t="29409" r="44815" b="38342"/>
          <a:stretch/>
        </p:blipFill>
        <p:spPr>
          <a:xfrm>
            <a:off x="5148360" y="1413000"/>
            <a:ext cx="2914560" cy="2303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3"/>
          <a:srcRect l="22208" t="30137" r="46218" b="38155"/>
          <a:stretch/>
        </p:blipFill>
        <p:spPr>
          <a:xfrm>
            <a:off x="3132000" y="3860640"/>
            <a:ext cx="2952720" cy="2592720"/>
          </a:xfrm>
          <a:prstGeom prst="rect">
            <a:avLst/>
          </a:prstGeom>
          <a:ln w="0">
            <a:noFill/>
          </a:ln>
        </p:spPr>
      </p:pic>
      <p:pic>
        <p:nvPicPr>
          <p:cNvPr id="187" name="Прямоугольник 7" descr=""/>
          <p:cNvPicPr/>
          <p:nvPr/>
        </p:nvPicPr>
        <p:blipFill>
          <a:blip r:embed="rId4"/>
          <a:stretch/>
        </p:blipFill>
        <p:spPr>
          <a:xfrm>
            <a:off x="1285920" y="19080"/>
            <a:ext cx="65833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"/>
          <p:cNvPicPr/>
          <p:nvPr/>
        </p:nvPicPr>
        <p:blipFill>
          <a:blip r:embed="rId1"/>
          <a:srcRect l="24973" t="29542" r="39566" b="34144"/>
          <a:stretch/>
        </p:blipFill>
        <p:spPr>
          <a:xfrm>
            <a:off x="250920" y="1268280"/>
            <a:ext cx="3457440" cy="4105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"/>
          <p:cNvPicPr/>
          <p:nvPr/>
        </p:nvPicPr>
        <p:blipFill>
          <a:blip r:embed="rId2"/>
          <a:srcRect l="18989" t="41064" r="42848" b="23340"/>
          <a:stretch/>
        </p:blipFill>
        <p:spPr>
          <a:xfrm>
            <a:off x="4572000" y="1341360"/>
            <a:ext cx="3887640" cy="3959280"/>
          </a:xfrm>
          <a:prstGeom prst="rect">
            <a:avLst/>
          </a:prstGeom>
          <a:ln w="0">
            <a:noFill/>
          </a:ln>
        </p:spPr>
      </p:pic>
      <p:pic>
        <p:nvPicPr>
          <p:cNvPr id="190" name="Прямоугольник 6" descr=""/>
          <p:cNvPicPr/>
          <p:nvPr/>
        </p:nvPicPr>
        <p:blipFill>
          <a:blip r:embed="rId3"/>
          <a:stretch/>
        </p:blipFill>
        <p:spPr>
          <a:xfrm>
            <a:off x="933480" y="19080"/>
            <a:ext cx="7137360" cy="1150920"/>
          </a:xfrm>
          <a:prstGeom prst="rect">
            <a:avLst/>
          </a:prstGeom>
          <a:ln w="0">
            <a:noFill/>
          </a:ln>
        </p:spPr>
      </p:pic>
      <p:sp>
        <p:nvSpPr>
          <p:cNvPr id="191" name="Управляющая кнопка: настраиваемая 7"/>
          <p:cNvSpPr/>
          <p:nvPr/>
        </p:nvSpPr>
        <p:spPr>
          <a:xfrm>
            <a:off x="8572680" y="6072120"/>
            <a:ext cx="285480" cy="357120"/>
          </a:xfrm>
          <a:custGeom>
            <a:avLst/>
            <a:gdLst>
              <a:gd name="textAreaLeft" fmla="*/ 18360 w 285480"/>
              <a:gd name="textAreaRight" fmla="*/ 267120 w 28548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7014">
                <a:moveTo>
                  <a:pt x="0" y="0"/>
                </a:moveTo>
                <a:lnTo>
                  <a:pt x="21600" y="0"/>
                </a:lnTo>
                <a:lnTo>
                  <a:pt x="21600" y="27014"/>
                </a:lnTo>
                <a:lnTo>
                  <a:pt x="0" y="27014"/>
                </a:lnTo>
                <a:close/>
              </a:path>
              <a:path fill="lightenLess" w="21600" h="270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14">
                <a:moveTo>
                  <a:pt x="21600" y="0"/>
                </a:moveTo>
                <a:lnTo>
                  <a:pt x="21600" y="27014"/>
                </a:lnTo>
                <a:lnTo>
                  <a:pt x="20200" y="25614"/>
                </a:lnTo>
                <a:lnTo>
                  <a:pt x="20200" y="1400"/>
                </a:lnTo>
                <a:close/>
              </a:path>
              <a:path fill="darkenLess" w="21600" h="27014">
                <a:moveTo>
                  <a:pt x="21600" y="27014"/>
                </a:moveTo>
                <a:lnTo>
                  <a:pt x="0" y="27014"/>
                </a:lnTo>
                <a:lnTo>
                  <a:pt x="1400" y="25614"/>
                </a:lnTo>
                <a:lnTo>
                  <a:pt x="20200" y="25614"/>
                </a:lnTo>
                <a:close/>
              </a:path>
              <a:path fill="lighten" w="21600" h="27014">
                <a:moveTo>
                  <a:pt x="0" y="270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14"/>
                </a:ln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Закон электромагнитной инду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500040" y="1428480"/>
            <a:ext cx="8215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гнитный поток наглядно истолковывается как число линий магнитной индукции, пронизывающих поверхность площадью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Если за малое время   магнитный поток меняется на, то скорость изменения пото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  <a:ea typeface="Arial"/>
              </a:rPr>
              <a:t>∆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  <a:ea typeface="Arial"/>
              </a:rPr>
              <a:t>Ф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  <a:ea typeface="Arial"/>
              </a:rPr>
              <a:t>/∆t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  <a:ea typeface="Arial"/>
              </a:rPr>
              <a:t>;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  <a:ea typeface="Arial"/>
              </a:rPr>
              <a:t>I=∆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  <a:ea typeface="Arial"/>
              </a:rPr>
              <a:t>Ф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  <a:ea typeface="Arial"/>
              </a:rPr>
              <a:t>/∆t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вестно, что в цепи появляется электрический ток в том случае, если на свободные заряды действуют сторонние силы. При изменении магнитного потока появляются сторонние силы , действие которых оказывает ЭД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I=</a:t>
            </a:r>
            <a:r>
              <a:rPr b="1" lang="el-GR" sz="1800" spc="-1" strike="noStrike">
                <a:solidFill>
                  <a:srgbClr val="660033"/>
                </a:solidFill>
                <a:latin typeface="Arial"/>
                <a:ea typeface="Arial"/>
              </a:rPr>
              <a:t>ε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  <a:ea typeface="Arial"/>
              </a:rPr>
              <a:t>/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противление зависит от изменения магнитного потока. Закон электромагнитной индукции формулируется для ЭД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660033"/>
                </a:solidFill>
                <a:latin typeface="Arial"/>
                <a:ea typeface="Arial"/>
              </a:rPr>
              <a:t>ε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  <a:ea typeface="Arial"/>
              </a:rPr>
              <a:t>=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  <a:ea typeface="Arial"/>
              </a:rPr>
              <a:t>|∆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  <a:ea typeface="Arial"/>
              </a:rPr>
              <a:t>Ф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  <a:ea typeface="Arial"/>
              </a:rPr>
              <a:t>/∆t|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коном в таком виде можно пользоваться при равномерном изменении магнитного потока . В противном случа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ahoma"/>
              </a:rPr>
              <a:t>ع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</a:rPr>
              <a:t>=Ф</a:t>
            </a: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’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Управляющая кнопка: настраиваемая 6"/>
          <p:cNvSpPr/>
          <p:nvPr/>
        </p:nvSpPr>
        <p:spPr>
          <a:xfrm>
            <a:off x="8643960" y="621504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2:43:29Z</dcterms:created>
  <dc:creator>Ученик</dc:creator>
  <dc:description/>
  <dc:language>en-US</dc:language>
  <cp:lastModifiedBy>user</cp:lastModifiedBy>
  <dcterms:modified xsi:type="dcterms:W3CDTF">2008-03-12T10:31:57Z</dcterms:modified>
  <cp:revision>46</cp:revision>
  <dc:subject/>
  <dc:title>Слайд 1</dc:title>
</cp:coreProperties>
</file>