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554-1C25-4051-B497-D96817D4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C19-8F23-4795-A56D-26129800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B69-E613-44CC-B191-84E6298B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54C-96E5-4DFE-8386-BDE317C4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5FAA-6386-4156-99F3-FE2B6EC2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A1EF-1599-495B-A0AD-15000507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8A03-6F09-4376-9560-EEBFF2C2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3D30-8413-40B1-92DB-55FE2C08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F83A-6EB0-4DA4-B670-A6B4B0F4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8FA4-C815-449F-84BE-A74786E3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9129-62C1-446D-9625-D8632331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2CF-21E6-4AD8-A4CA-B91BF974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0040-1D2C-40ED-A007-69EBCCD1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5A88-8315-46C0-AFE0-4D2E65C5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9F8F-2375-43D7-9FE4-BF23EEC1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6706-A199-4869-B4AA-50C04554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B70A-9C20-42DD-8514-CA4B94E2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261-5F55-4749-83C0-614C6591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CBE-40BA-47DA-B9B0-19473601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387-82E9-44D3-BA98-FF39B971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BB3-8912-4E95-8F6E-DE2937B4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49B-E9D3-42DB-8220-C5FFD3FC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FAF-26F2-4BC0-87FC-902A50B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D00-D13A-4CCD-A028-2F3AD49D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0E0F-31B3-4554-B1F0-3879841220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1AF8-25D3-43BB-8E3D-97E55DA6ED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6312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00"/>
                </a:solidFill>
                <a:latin typeface="Garamond"/>
              </a:rPr>
              <a:t>Урок обобщающего повтор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гебра, 9 клас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: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Филимонова Антонина Андрее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24000" y="170028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Уравнения и системы уравнений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Тестовая работа №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76" name="Object 13"/>
          <p:cNvGraphicFramePr/>
          <p:nvPr/>
        </p:nvGraphicFramePr>
        <p:xfrm>
          <a:off x="585720" y="1571760"/>
          <a:ext cx="3660840" cy="48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571760"/>
                    <a:ext cx="366084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4"/>
          <p:cNvGraphicFramePr/>
          <p:nvPr/>
        </p:nvGraphicFramePr>
        <p:xfrm>
          <a:off x="5003640" y="1528920"/>
          <a:ext cx="3711600" cy="49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8920"/>
                    <a:ext cx="37116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3"/>
          <p:cNvGraphicFramePr/>
          <p:nvPr/>
        </p:nvGraphicFramePr>
        <p:xfrm>
          <a:off x="500040" y="1473120"/>
          <a:ext cx="3828960" cy="50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473120"/>
                    <a:ext cx="382896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4"/>
          <p:cNvGraphicFramePr/>
          <p:nvPr/>
        </p:nvGraphicFramePr>
        <p:xfrm>
          <a:off x="5003640" y="1500120"/>
          <a:ext cx="3822840" cy="50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00120"/>
                    <a:ext cx="382284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Тестовая работа №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Тестовая работа №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900000" y="1989000"/>
          <a:ext cx="334656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89000"/>
                    <a:ext cx="334656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4"/>
          <p:cNvGraphicFramePr/>
          <p:nvPr/>
        </p:nvGraphicFramePr>
        <p:xfrm>
          <a:off x="5003640" y="1989000"/>
          <a:ext cx="3365640" cy="44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989000"/>
                    <a:ext cx="336564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5"/>
          <p:cNvGrpSpPr/>
          <p:nvPr/>
        </p:nvGrpSpPr>
        <p:grpSpPr>
          <a:xfrm>
            <a:off x="841320" y="2838600"/>
            <a:ext cx="7589880" cy="3726000"/>
            <a:chOff x="841320" y="2838600"/>
            <a:chExt cx="7589880" cy="3726000"/>
          </a:xfrm>
        </p:grpSpPr>
        <p:sp>
          <p:nvSpPr>
            <p:cNvPr id="191" name="Oval 6"/>
            <p:cNvSpPr/>
            <p:nvPr/>
          </p:nvSpPr>
          <p:spPr>
            <a:xfrm>
              <a:off x="841320" y="2867040"/>
              <a:ext cx="28908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Oval 7"/>
            <p:cNvSpPr/>
            <p:nvPr/>
          </p:nvSpPr>
          <p:spPr>
            <a:xfrm>
              <a:off x="5521320" y="2838600"/>
              <a:ext cx="28908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1403280" y="3284640"/>
              <a:ext cx="86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0; -1/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5522760" y="3270240"/>
              <a:ext cx="86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0; 5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1778040" y="59641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3 решени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1806480" y="3838680"/>
              <a:ext cx="20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б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3708360" y="6381720"/>
              <a:ext cx="647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Verdana"/>
                </a:rPr>
                <a:t>±</a:t>
              </a: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√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2930400" y="384012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а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4081320" y="384012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в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6012000" y="3840120"/>
              <a:ext cx="20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б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7034040" y="384012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а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8201160" y="384012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в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5940360" y="59641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3 решени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Text Box 19"/>
            <p:cNvSpPr/>
            <p:nvPr/>
          </p:nvSpPr>
          <p:spPr>
            <a:xfrm>
              <a:off x="7567560" y="6381720"/>
              <a:ext cx="86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Verdana"/>
                </a:rPr>
                <a:t>±</a:t>
              </a: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√3; </a:t>
              </a:r>
              <a:r>
                <a:rPr b="1" lang="en-US" sz="1200" spc="-1" strike="noStrike">
                  <a:solidFill>
                    <a:srgbClr val="ff6600"/>
                  </a:solidFill>
                  <a:latin typeface="Verdana"/>
                </a:rPr>
                <a:t>±</a:t>
              </a: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5" name="Text Box 20"/>
          <p:cNvSpPr/>
          <p:nvPr/>
        </p:nvSpPr>
        <p:spPr>
          <a:xfrm>
            <a:off x="468360" y="155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Verdana"/>
              </a:rPr>
              <a:t>Отве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01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2"/>
          <p:cNvGraphicFramePr/>
          <p:nvPr/>
        </p:nvGraphicFramePr>
        <p:xfrm>
          <a:off x="957240" y="2075040"/>
          <a:ext cx="3371760" cy="44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2075040"/>
                    <a:ext cx="337176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3"/>
          <p:cNvGraphicFramePr/>
          <p:nvPr/>
        </p:nvGraphicFramePr>
        <p:xfrm>
          <a:off x="5003640" y="2060640"/>
          <a:ext cx="3400560" cy="45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40056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Тестовая работа №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490760" y="2924280"/>
            <a:ext cx="6970680" cy="3697560"/>
            <a:chOff x="1490760" y="2924280"/>
            <a:chExt cx="6970680" cy="3697560"/>
          </a:xfrm>
        </p:grpSpPr>
        <p:sp>
          <p:nvSpPr>
            <p:cNvPr id="212" name="Oval 6"/>
            <p:cNvSpPr/>
            <p:nvPr/>
          </p:nvSpPr>
          <p:spPr>
            <a:xfrm>
              <a:off x="2238480" y="292428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Oval 7"/>
            <p:cNvSpPr/>
            <p:nvPr/>
          </p:nvSpPr>
          <p:spPr>
            <a:xfrm>
              <a:off x="5622840" y="2924280"/>
              <a:ext cx="28908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1490760" y="3313080"/>
              <a:ext cx="86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0; 7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5595840" y="3341520"/>
              <a:ext cx="86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0; -0,5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1851120" y="6021360"/>
              <a:ext cx="107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3 решени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1879560" y="3881520"/>
              <a:ext cx="20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б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Text Box 12"/>
            <p:cNvSpPr/>
            <p:nvPr/>
          </p:nvSpPr>
          <p:spPr>
            <a:xfrm>
              <a:off x="3781440" y="6438960"/>
              <a:ext cx="647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Verdana"/>
                </a:rPr>
                <a:t>±</a:t>
              </a: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√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3003480" y="388296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а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4154400" y="388296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в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Text Box 15"/>
            <p:cNvSpPr/>
            <p:nvPr/>
          </p:nvSpPr>
          <p:spPr>
            <a:xfrm>
              <a:off x="6041880" y="3911760"/>
              <a:ext cx="20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б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064280" y="391176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а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8231040" y="391176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в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Text Box 18"/>
            <p:cNvSpPr/>
            <p:nvPr/>
          </p:nvSpPr>
          <p:spPr>
            <a:xfrm>
              <a:off x="5970600" y="604980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3 решени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7597800" y="6438960"/>
              <a:ext cx="86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Verdana"/>
                </a:rPr>
                <a:t>±</a:t>
              </a: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√3; </a:t>
              </a:r>
              <a:r>
                <a:rPr b="1" lang="en-US" sz="1200" spc="-1" strike="noStrike">
                  <a:solidFill>
                    <a:srgbClr val="ff6600"/>
                  </a:solidFill>
                  <a:latin typeface="Verdana"/>
                </a:rPr>
                <a:t>±</a:t>
              </a: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6" name="Text Box 20"/>
          <p:cNvSpPr/>
          <p:nvPr/>
        </p:nvSpPr>
        <p:spPr>
          <a:xfrm>
            <a:off x="468360" y="155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Verdana"/>
              </a:rPr>
              <a:t>Отве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401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Оценочный лист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468360" y="1790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несите результаты тестовой работы №2 в выделенные поля оценочного лис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023920" y="3232080"/>
          <a:ext cx="5097600" cy="3086280"/>
        </p:xfrm>
        <a:graphic>
          <a:graphicData uri="http://schemas.openxmlformats.org/drawingml/2006/table">
            <a:tbl>
              <a:tblPr/>
              <a:tblGrid>
                <a:gridCol w="1211400"/>
                <a:gridCol w="2171880"/>
                <a:gridCol w="799920"/>
                <a:gridCol w="914400"/>
              </a:tblGrid>
              <a:tr h="32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а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230" name="Group 42"/>
          <p:cNvGrpSpPr/>
          <p:nvPr/>
        </p:nvGrpSpPr>
        <p:grpSpPr>
          <a:xfrm>
            <a:off x="6218280" y="4503600"/>
            <a:ext cx="892080" cy="863640"/>
            <a:chOff x="6218280" y="4503600"/>
            <a:chExt cx="892080" cy="863640"/>
          </a:xfrm>
        </p:grpSpPr>
        <p:sp>
          <p:nvSpPr>
            <p:cNvPr id="231" name="Rectangle 37"/>
            <p:cNvSpPr/>
            <p:nvPr/>
          </p:nvSpPr>
          <p:spPr>
            <a:xfrm>
              <a:off x="6218280" y="4503600"/>
              <a:ext cx="892080" cy="43200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8"/>
            <p:cNvSpPr/>
            <p:nvPr/>
          </p:nvSpPr>
          <p:spPr>
            <a:xfrm>
              <a:off x="6218280" y="4935600"/>
              <a:ext cx="892080" cy="43164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3" name="Rectangle 39"/>
          <p:cNvSpPr/>
          <p:nvPr/>
        </p:nvSpPr>
        <p:spPr>
          <a:xfrm>
            <a:off x="5416560" y="5402160"/>
            <a:ext cx="1692360" cy="449280"/>
          </a:xfrm>
          <a:prstGeom prst="rect">
            <a:avLst/>
          </a:prstGeom>
          <a:noFill/>
          <a:ln w="381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41"/>
          <p:cNvSpPr/>
          <p:nvPr/>
        </p:nvSpPr>
        <p:spPr>
          <a:xfrm>
            <a:off x="468360" y="2565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читайте сумму баллов за все рабо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121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121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121"/>
                            </p:stCondLst>
                            <p:childTnLst>
                              <p:par>
                                <p:cTn id="230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1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121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182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182"/>
                            </p:stCondLst>
                            <p:childTnLst>
                              <p:par>
                                <p:cTn id="239" nodeType="afterEffect" fill="hold" presetClass="emph" presetID="3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fbc1"/>
                                      </p:to>
                                    </p:animClr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fbc1"/>
                                      </p:to>
                                    </p:animClr>
                                    <p:set>
                                      <p:cBhvr>
                                        <p:cTn id="242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Барометр настро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68360" y="1989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тавь крестик, как ты провел уро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7" name="Group 85"/>
          <p:cNvGrpSpPr/>
          <p:nvPr/>
        </p:nvGrpSpPr>
        <p:grpSpPr>
          <a:xfrm>
            <a:off x="6370560" y="4473720"/>
            <a:ext cx="610920" cy="615240"/>
            <a:chOff x="6370560" y="4473720"/>
            <a:chExt cx="610920" cy="615240"/>
          </a:xfrm>
        </p:grpSpPr>
        <p:sp>
          <p:nvSpPr>
            <p:cNvPr id="238" name="Oval 57"/>
            <p:cNvSpPr/>
            <p:nvPr/>
          </p:nvSpPr>
          <p:spPr>
            <a:xfrm>
              <a:off x="6370560" y="4473720"/>
              <a:ext cx="610920" cy="61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Oval 58"/>
            <p:cNvSpPr/>
            <p:nvPr/>
          </p:nvSpPr>
          <p:spPr>
            <a:xfrm>
              <a:off x="6522840" y="4625640"/>
              <a:ext cx="101520" cy="1011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Oval 59"/>
            <p:cNvSpPr/>
            <p:nvPr/>
          </p:nvSpPr>
          <p:spPr>
            <a:xfrm>
              <a:off x="6727680" y="4625640"/>
              <a:ext cx="101520" cy="1011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Line 60"/>
            <p:cNvSpPr/>
            <p:nvPr/>
          </p:nvSpPr>
          <p:spPr>
            <a:xfrm>
              <a:off x="6675120" y="4738320"/>
              <a:ext cx="1800" cy="12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Arc 61"/>
            <p:cNvSpPr/>
            <p:nvPr/>
          </p:nvSpPr>
          <p:spPr>
            <a:xfrm flipH="1" rot="13635000">
              <a:off x="6577200" y="4826880"/>
              <a:ext cx="212040" cy="219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Arc 62"/>
            <p:cNvSpPr/>
            <p:nvPr/>
          </p:nvSpPr>
          <p:spPr>
            <a:xfrm flipH="1" rot="13816800">
              <a:off x="6530040" y="4793040"/>
              <a:ext cx="259560" cy="209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Group 84"/>
          <p:cNvGrpSpPr/>
          <p:nvPr/>
        </p:nvGrpSpPr>
        <p:grpSpPr>
          <a:xfrm>
            <a:off x="4265640" y="4473720"/>
            <a:ext cx="611280" cy="610920"/>
            <a:chOff x="4265640" y="4473720"/>
            <a:chExt cx="611280" cy="610920"/>
          </a:xfrm>
        </p:grpSpPr>
        <p:sp>
          <p:nvSpPr>
            <p:cNvPr id="245" name="Oval 65"/>
            <p:cNvSpPr/>
            <p:nvPr/>
          </p:nvSpPr>
          <p:spPr>
            <a:xfrm>
              <a:off x="4265640" y="4473720"/>
              <a:ext cx="611280" cy="61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Oval 66"/>
            <p:cNvSpPr/>
            <p:nvPr/>
          </p:nvSpPr>
          <p:spPr>
            <a:xfrm>
              <a:off x="4417920" y="4625640"/>
              <a:ext cx="101880" cy="10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Oval 67"/>
            <p:cNvSpPr/>
            <p:nvPr/>
          </p:nvSpPr>
          <p:spPr>
            <a:xfrm>
              <a:off x="4622760" y="4625640"/>
              <a:ext cx="101520" cy="10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Line 68"/>
            <p:cNvSpPr/>
            <p:nvPr/>
          </p:nvSpPr>
          <p:spPr>
            <a:xfrm>
              <a:off x="4570560" y="4738320"/>
              <a:ext cx="1440" cy="12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69"/>
            <p:cNvSpPr/>
            <p:nvPr/>
          </p:nvSpPr>
          <p:spPr>
            <a:xfrm>
              <a:off x="4470480" y="498276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0" name="Group 83"/>
          <p:cNvGrpSpPr/>
          <p:nvPr/>
        </p:nvGrpSpPr>
        <p:grpSpPr>
          <a:xfrm>
            <a:off x="2158920" y="4465080"/>
            <a:ext cx="611280" cy="619560"/>
            <a:chOff x="2158920" y="4465080"/>
            <a:chExt cx="611280" cy="619560"/>
          </a:xfrm>
        </p:grpSpPr>
        <p:sp>
          <p:nvSpPr>
            <p:cNvPr id="251" name="Oval 72"/>
            <p:cNvSpPr/>
            <p:nvPr/>
          </p:nvSpPr>
          <p:spPr>
            <a:xfrm>
              <a:off x="2158920" y="4473720"/>
              <a:ext cx="611280" cy="61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Oval 73"/>
            <p:cNvSpPr/>
            <p:nvPr/>
          </p:nvSpPr>
          <p:spPr>
            <a:xfrm>
              <a:off x="2311200" y="4625640"/>
              <a:ext cx="101520" cy="101160"/>
            </a:xfrm>
            <a:prstGeom prst="ellipse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Oval 74"/>
            <p:cNvSpPr/>
            <p:nvPr/>
          </p:nvSpPr>
          <p:spPr>
            <a:xfrm>
              <a:off x="2516040" y="4625640"/>
              <a:ext cx="101520" cy="101160"/>
            </a:xfrm>
            <a:prstGeom prst="ellipse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2463480" y="4727160"/>
              <a:ext cx="1800" cy="12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Freeform 76"/>
            <p:cNvSpPr/>
            <p:nvPr/>
          </p:nvSpPr>
          <p:spPr>
            <a:xfrm flipH="1" flipV="1">
              <a:off x="2363760" y="4932000"/>
              <a:ext cx="203040" cy="55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Arc 77"/>
            <p:cNvSpPr/>
            <p:nvPr/>
          </p:nvSpPr>
          <p:spPr>
            <a:xfrm flipH="1" flipV="1" rot="7965000">
              <a:off x="2389680" y="4496040"/>
              <a:ext cx="151920" cy="152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Arc 78"/>
            <p:cNvSpPr/>
            <p:nvPr/>
          </p:nvSpPr>
          <p:spPr>
            <a:xfrm flipH="1" flipV="1" rot="7965000">
              <a:off x="2414160" y="4556880"/>
              <a:ext cx="99720" cy="101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" name="Group 89"/>
          <p:cNvGrpSpPr/>
          <p:nvPr/>
        </p:nvGrpSpPr>
        <p:grpSpPr>
          <a:xfrm>
            <a:off x="1690560" y="3178080"/>
            <a:ext cx="5761080" cy="1152360"/>
            <a:chOff x="1690560" y="3178080"/>
            <a:chExt cx="5761080" cy="1152360"/>
          </a:xfrm>
        </p:grpSpPr>
        <p:grpSp>
          <p:nvGrpSpPr>
            <p:cNvPr id="259" name="Group 55"/>
            <p:cNvGrpSpPr/>
            <p:nvPr/>
          </p:nvGrpSpPr>
          <p:grpSpPr>
            <a:xfrm>
              <a:off x="1690560" y="3850920"/>
              <a:ext cx="5761080" cy="479520"/>
              <a:chOff x="1690560" y="3850920"/>
              <a:chExt cx="5761080" cy="479520"/>
            </a:xfrm>
          </p:grpSpPr>
          <p:sp>
            <p:nvSpPr>
              <p:cNvPr id="260" name="Line 40"/>
              <p:cNvSpPr/>
              <p:nvPr/>
            </p:nvSpPr>
            <p:spPr>
              <a:xfrm>
                <a:off x="1690560" y="3922560"/>
                <a:ext cx="1152720" cy="0"/>
              </a:xfrm>
              <a:prstGeom prst="line">
                <a:avLst/>
              </a:prstGeom>
              <a:ln w="44280">
                <a:solidFill>
                  <a:srgbClr val="66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Line 41"/>
              <p:cNvSpPr/>
              <p:nvPr/>
            </p:nvSpPr>
            <p:spPr>
              <a:xfrm>
                <a:off x="2841840" y="3922560"/>
                <a:ext cx="1152360" cy="0"/>
              </a:xfrm>
              <a:prstGeom prst="line">
                <a:avLst/>
              </a:prstGeom>
              <a:ln w="44280">
                <a:solidFill>
                  <a:srgbClr val="99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>
                <a:off x="3994200" y="3922560"/>
                <a:ext cx="1152360" cy="0"/>
              </a:xfrm>
              <a:prstGeom prst="line">
                <a:avLst/>
              </a:prstGeom>
              <a:ln w="442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Line 43"/>
              <p:cNvSpPr/>
              <p:nvPr/>
            </p:nvSpPr>
            <p:spPr>
              <a:xfrm>
                <a:off x="5146560" y="3922560"/>
                <a:ext cx="1152720" cy="0"/>
              </a:xfrm>
              <a:prstGeom prst="line">
                <a:avLst/>
              </a:prstGeom>
              <a:ln w="44280">
                <a:solidFill>
                  <a:srgbClr val="cc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Line 44"/>
              <p:cNvSpPr/>
              <p:nvPr/>
            </p:nvSpPr>
            <p:spPr>
              <a:xfrm>
                <a:off x="6299280" y="3922560"/>
                <a:ext cx="1152360" cy="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Line 45"/>
              <p:cNvSpPr/>
              <p:nvPr/>
            </p:nvSpPr>
            <p:spPr>
              <a:xfrm>
                <a:off x="4570560" y="3850920"/>
                <a:ext cx="0" cy="144720"/>
              </a:xfrm>
              <a:prstGeom prst="line">
                <a:avLst/>
              </a:prstGeom>
              <a:ln w="442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Line 46"/>
              <p:cNvSpPr/>
              <p:nvPr/>
            </p:nvSpPr>
            <p:spPr>
              <a:xfrm>
                <a:off x="2266920" y="3850920"/>
                <a:ext cx="0" cy="144720"/>
              </a:xfrm>
              <a:prstGeom prst="line">
                <a:avLst/>
              </a:prstGeom>
              <a:ln w="44280">
                <a:solidFill>
                  <a:srgbClr val="66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3419640" y="3850920"/>
                <a:ext cx="0" cy="144720"/>
              </a:xfrm>
              <a:prstGeom prst="line">
                <a:avLst/>
              </a:prstGeom>
              <a:ln w="44280">
                <a:solidFill>
                  <a:srgbClr val="99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Line 48"/>
              <p:cNvSpPr/>
              <p:nvPr/>
            </p:nvSpPr>
            <p:spPr>
              <a:xfrm>
                <a:off x="5722920" y="3850920"/>
                <a:ext cx="0" cy="144720"/>
              </a:xfrm>
              <a:prstGeom prst="line">
                <a:avLst/>
              </a:prstGeom>
              <a:ln w="44280">
                <a:solidFill>
                  <a:srgbClr val="cc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Line 49"/>
              <p:cNvSpPr/>
              <p:nvPr/>
            </p:nvSpPr>
            <p:spPr>
              <a:xfrm>
                <a:off x="6875640" y="3850920"/>
                <a:ext cx="0" cy="14472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Text Box 50"/>
              <p:cNvSpPr/>
              <p:nvPr/>
            </p:nvSpPr>
            <p:spPr>
              <a:xfrm>
                <a:off x="4259160" y="3993840"/>
                <a:ext cx="6112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99cc00"/>
                    </a:solidFill>
                    <a:latin typeface="Verdana"/>
                  </a:rPr>
                  <a:t>0</a:t>
                </a:r>
                <a:r>
                  <a:rPr b="1" lang="ru-RU" sz="1600" spc="-1" strike="noStrike">
                    <a:solidFill>
                      <a:srgbClr val="99cc00"/>
                    </a:solidFill>
                    <a:latin typeface="Symbol"/>
                    <a:ea typeface="Symbol"/>
                  </a:rPr>
                  <a:t>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Text Box 51"/>
              <p:cNvSpPr/>
              <p:nvPr/>
            </p:nvSpPr>
            <p:spPr>
              <a:xfrm>
                <a:off x="2986200" y="3993840"/>
                <a:ext cx="9000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999900"/>
                    </a:solidFill>
                    <a:latin typeface="Verdana"/>
                  </a:rPr>
                  <a:t>-50 </a:t>
                </a:r>
                <a:r>
                  <a:rPr b="1" lang="ru-RU" sz="1800" spc="-1" strike="noStrike">
                    <a:solidFill>
                      <a:srgbClr val="999900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Text Box 52"/>
              <p:cNvSpPr/>
              <p:nvPr/>
            </p:nvSpPr>
            <p:spPr>
              <a:xfrm>
                <a:off x="1706760" y="3993840"/>
                <a:ext cx="1103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666600"/>
                    </a:solidFill>
                    <a:latin typeface="Verdana"/>
                  </a:rPr>
                  <a:t>-100 </a:t>
                </a:r>
                <a:r>
                  <a:rPr b="1" lang="ru-RU" sz="1800" spc="-1" strike="noStrike">
                    <a:solidFill>
                      <a:srgbClr val="666600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Text Box 53"/>
              <p:cNvSpPr/>
              <p:nvPr/>
            </p:nvSpPr>
            <p:spPr>
              <a:xfrm>
                <a:off x="5146560" y="3993840"/>
                <a:ext cx="1163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cccc66"/>
                    </a:solidFill>
                    <a:latin typeface="Verdana"/>
                  </a:rPr>
                  <a:t>+50 </a:t>
                </a:r>
                <a:r>
                  <a:rPr b="1" lang="ru-RU" sz="1800" spc="-1" strike="noStrike">
                    <a:solidFill>
                      <a:srgbClr val="cccc66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Text Box 54"/>
              <p:cNvSpPr/>
              <p:nvPr/>
            </p:nvSpPr>
            <p:spPr>
              <a:xfrm>
                <a:off x="6321600" y="3993840"/>
                <a:ext cx="10922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cc00"/>
                    </a:solidFill>
                    <a:latin typeface="Verdana"/>
                  </a:rPr>
                  <a:t>+100 </a:t>
                </a:r>
                <a:r>
                  <a:rPr b="1" lang="ru-RU" sz="1800" spc="-1" strike="noStrike">
                    <a:solidFill>
                      <a:srgbClr val="ffcc00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5" name="Text Box 86"/>
            <p:cNvSpPr/>
            <p:nvPr/>
          </p:nvSpPr>
          <p:spPr>
            <a:xfrm>
              <a:off x="5872320" y="3178080"/>
              <a:ext cx="136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«закипел»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Text Box 87"/>
            <p:cNvSpPr/>
            <p:nvPr/>
          </p:nvSpPr>
          <p:spPr>
            <a:xfrm>
              <a:off x="3784680" y="31780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«равнодушен»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Text Box 88"/>
            <p:cNvSpPr/>
            <p:nvPr/>
          </p:nvSpPr>
          <p:spPr>
            <a:xfrm>
              <a:off x="2050920" y="3178080"/>
              <a:ext cx="136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«примерз»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01"/>
                            </p:stCondLst>
                            <p:childTnLst>
                              <p:par>
                                <p:cTn id="2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401"/>
                            </p:stCondLst>
                            <p:childTnLst>
                              <p:par>
                                <p:cTn id="2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401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401"/>
                            </p:stCondLst>
                            <p:childTnLst>
                              <p:par>
                                <p:cTn id="2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"/>
              <p:cNvSpPr txBox="1"/>
              <p:nvPr/>
            </p:nvSpPr>
            <p:spPr>
              <a:xfrm>
                <a:off x="2643120" y="1714680"/>
                <a:ext cx="3721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2500200" y="2714760"/>
                <a:ext cx="4834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χ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χ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χ</m:t>
                        </m:r>
                      </m:num>
                      <m:den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χ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2286000" y="4214880"/>
                <a:ext cx="5051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χ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χ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Box 17"/>
          <p:cNvSpPr/>
          <p:nvPr/>
        </p:nvSpPr>
        <p:spPr>
          <a:xfrm>
            <a:off x="1214280" y="28584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500040" y="1667160"/>
            <a:ext cx="4214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       2,-2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      -0,3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       0; 2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      1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       -4;   3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        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7        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8        корней н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9       корней нет 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0      корней н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428760" y="6429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тве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6286680" y="6000840"/>
            <a:ext cx="1857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Verdana"/>
                <a:hlinkClick r:id="rId1" action="ppaction://hlinksldjump"/>
              </a:rPr>
              <a:t>Наза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4"/>
          <p:cNvSpPr/>
          <p:nvPr/>
        </p:nvSpPr>
        <p:spPr>
          <a:xfrm>
            <a:off x="642960" y="257364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         1; 3;                            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3405240" y="2357280"/>
                <a:ext cx="26668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Rectangle 15"/>
          <p:cNvSpPr/>
          <p:nvPr/>
        </p:nvSpPr>
        <p:spPr>
          <a:xfrm>
            <a:off x="742320" y="3148560"/>
            <a:ext cx="606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3        2; 3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4       -4; -3; -2; -1; 0; 1; 2; 3;4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Box 18"/>
          <p:cNvSpPr/>
          <p:nvPr/>
        </p:nvSpPr>
        <p:spPr>
          <a:xfrm>
            <a:off x="642960" y="171468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                     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8"/>
              <p:cNvSpPr txBox="1"/>
              <p:nvPr/>
            </p:nvSpPr>
            <p:spPr>
              <a:xfrm>
                <a:off x="2279520" y="1643040"/>
                <a:ext cx="257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3" name="TextBox 23"/>
          <p:cNvSpPr/>
          <p:nvPr/>
        </p:nvSpPr>
        <p:spPr>
          <a:xfrm>
            <a:off x="428760" y="6429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тве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24"/>
          <p:cNvSpPr/>
          <p:nvPr/>
        </p:nvSpPr>
        <p:spPr>
          <a:xfrm>
            <a:off x="6286680" y="6000840"/>
            <a:ext cx="1857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Verdana"/>
                <a:hlinkClick r:id="rId1" action="ppaction://hlinksldjump"/>
              </a:rPr>
              <a:t>Наза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Цель урок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040" y="192204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бщить, систематизировать и углубить знания учащихся по изучаемой тем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особствовать формированию умений применять разные способы решения уравнений и систем уравнен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учеников путем решения уравнений 3-й и 4-й степен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буждать учеников к самоконтролю, взаимоконтролю, самоанализу своей учебной деятельности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Решение уравнений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(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устная работа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6" name="Group 88"/>
          <p:cNvGrpSpPr/>
          <p:nvPr/>
        </p:nvGrpSpPr>
        <p:grpSpPr>
          <a:xfrm>
            <a:off x="1069920" y="2492280"/>
            <a:ext cx="6381720" cy="3472200"/>
            <a:chOff x="1069920" y="2492280"/>
            <a:chExt cx="6381720" cy="3472200"/>
          </a:xfrm>
        </p:grpSpPr>
        <p:sp>
          <p:nvSpPr>
            <p:cNvPr id="97" name="Text Box 74"/>
            <p:cNvSpPr/>
            <p:nvPr/>
          </p:nvSpPr>
          <p:spPr>
            <a:xfrm>
              <a:off x="1069920" y="2492280"/>
              <a:ext cx="504720" cy="34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1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lnSpc>
                  <a:spcPct val="1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2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lnSpc>
                  <a:spcPct val="1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3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lnSpc>
                  <a:spcPct val="1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4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lnSpc>
                  <a:spcPct val="1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5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Text Box 75"/>
            <p:cNvSpPr/>
            <p:nvPr/>
          </p:nvSpPr>
          <p:spPr>
            <a:xfrm>
              <a:off x="4815000" y="2492280"/>
              <a:ext cx="720720" cy="34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6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lnSpc>
                  <a:spcPct val="1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7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lnSpc>
                  <a:spcPct val="1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8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lnSpc>
                  <a:spcPct val="1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9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lnSpc>
                  <a:spcPct val="1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10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Object 76"/>
                <p:cNvSpPr txBox="1"/>
                <p:nvPr/>
              </p:nvSpPr>
              <p:spPr>
                <a:xfrm>
                  <a:off x="1574640" y="2679480"/>
                  <a:ext cx="116532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77"/>
                <p:cNvSpPr txBox="1"/>
                <p:nvPr/>
              </p:nvSpPr>
              <p:spPr>
                <a:xfrm>
                  <a:off x="1552680" y="3263760"/>
                  <a:ext cx="1230120" cy="66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0,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Object 78"/>
                <p:cNvSpPr txBox="1"/>
                <p:nvPr/>
              </p:nvSpPr>
              <p:spPr>
                <a:xfrm>
                  <a:off x="1563840" y="4092480"/>
                  <a:ext cx="148896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Object 79"/>
                <p:cNvSpPr txBox="1"/>
                <p:nvPr/>
              </p:nvSpPr>
              <p:spPr>
                <a:xfrm>
                  <a:off x="1574640" y="4662360"/>
                  <a:ext cx="129384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80"/>
                <p:cNvSpPr txBox="1"/>
                <p:nvPr/>
              </p:nvSpPr>
              <p:spPr>
                <a:xfrm>
                  <a:off x="1554120" y="5532120"/>
                  <a:ext cx="18558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81"/>
                <p:cNvSpPr txBox="1"/>
                <p:nvPr/>
              </p:nvSpPr>
              <p:spPr>
                <a:xfrm>
                  <a:off x="5595840" y="2679480"/>
                  <a:ext cx="185580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82"/>
                <p:cNvSpPr txBox="1"/>
                <p:nvPr/>
              </p:nvSpPr>
              <p:spPr>
                <a:xfrm>
                  <a:off x="5597640" y="3403440"/>
                  <a:ext cx="88416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83"/>
                <p:cNvSpPr txBox="1"/>
                <p:nvPr/>
              </p:nvSpPr>
              <p:spPr>
                <a:xfrm>
                  <a:off x="5607000" y="3919320"/>
                  <a:ext cx="107784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84"/>
                <p:cNvSpPr txBox="1"/>
                <p:nvPr/>
              </p:nvSpPr>
              <p:spPr>
                <a:xfrm>
                  <a:off x="5607000" y="4682880"/>
                  <a:ext cx="120816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Object 85"/>
                <p:cNvSpPr txBox="1"/>
                <p:nvPr/>
              </p:nvSpPr>
              <p:spPr>
                <a:xfrm>
                  <a:off x="5607000" y="5532120"/>
                  <a:ext cx="166068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ите уравнения №1 - №1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6072120" y="6000840"/>
            <a:ext cx="2214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Verdana"/>
                <a:hlinkClick r:id="rId1" action="ppaction://hlinksldjump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81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амостоятельная работа №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олните таблицу-сх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Классификация рациональных уравнений по видам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7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6649920" cy="38653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7"/>
          <p:cNvGrpSpPr/>
          <p:nvPr/>
        </p:nvGrpSpPr>
        <p:grpSpPr>
          <a:xfrm>
            <a:off x="1692360" y="4483080"/>
            <a:ext cx="6192720" cy="1983240"/>
            <a:chOff x="1692360" y="4483080"/>
            <a:chExt cx="6192720" cy="1983240"/>
          </a:xfrm>
        </p:grpSpPr>
        <p:sp>
          <p:nvSpPr>
            <p:cNvPr id="115" name="Text Box 18"/>
            <p:cNvSpPr/>
            <p:nvPr/>
          </p:nvSpPr>
          <p:spPr>
            <a:xfrm>
              <a:off x="1971720" y="483084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2, 8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19"/>
            <p:cNvSpPr/>
            <p:nvPr/>
          </p:nvSpPr>
          <p:spPr>
            <a:xfrm>
              <a:off x="1692360" y="5602320"/>
              <a:ext cx="79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5, 6, 1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2627280" y="628344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3830760" y="627048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4944960" y="625788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749920" y="5334120"/>
              <a:ext cx="647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1, 5, 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236000" y="5300640"/>
              <a:ext cx="64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3, 7, 1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6659640" y="448308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6600"/>
                  </a:solidFill>
                  <a:latin typeface="Verdana"/>
                </a:rPr>
                <a:t>4, 9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3" name="Text Box 26"/>
          <p:cNvSpPr/>
          <p:nvPr/>
        </p:nvSpPr>
        <p:spPr>
          <a:xfrm>
            <a:off x="539640" y="2637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Verdana"/>
              </a:rPr>
              <a:t>Отве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81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42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1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Оценочный лист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468360" y="17002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несите результаты самостоятельной работы в выделенное поле оценочного лис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023920" y="3232080"/>
          <a:ext cx="5097600" cy="3086280"/>
        </p:xfrm>
        <a:graphic>
          <a:graphicData uri="http://schemas.openxmlformats.org/drawingml/2006/table">
            <a:tbl>
              <a:tblPr/>
              <a:tblGrid>
                <a:gridCol w="1211400"/>
                <a:gridCol w="2171880"/>
                <a:gridCol w="799920"/>
                <a:gridCol w="914400"/>
              </a:tblGrid>
              <a:tr h="32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а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309"/>
          <p:cNvSpPr/>
          <p:nvPr/>
        </p:nvSpPr>
        <p:spPr>
          <a:xfrm>
            <a:off x="5397480" y="3586320"/>
            <a:ext cx="1728720" cy="4460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311"/>
          <p:cNvSpPr/>
          <p:nvPr/>
        </p:nvSpPr>
        <p:spPr>
          <a:xfrm>
            <a:off x="468360" y="24084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Verdana"/>
              </a:rPr>
              <a:t>Критерий оценивания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за правильную классификацию – </a:t>
            </a:r>
            <a:r>
              <a:rPr b="1" lang="ru-RU" sz="1800" spc="-1" strike="noStrike">
                <a:solidFill>
                  <a:srgbClr val="99cc00"/>
                </a:solidFill>
                <a:latin typeface="Verdana"/>
              </a:rPr>
              <a:t>16</a:t>
            </a:r>
            <a:r>
              <a:rPr b="0" lang="ru-RU" sz="1800" spc="-1" strike="noStrike">
                <a:solidFill>
                  <a:srgbClr val="99cc00"/>
                </a:solidFill>
                <a:latin typeface="Verdana"/>
              </a:rPr>
              <a:t> балло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за каждую допущенную ошибку – </a:t>
            </a:r>
            <a:r>
              <a:rPr b="0" lang="ru-RU" sz="1800" spc="-1" strike="noStrike">
                <a:solidFill>
                  <a:srgbClr val="99cc00"/>
                </a:solidFill>
                <a:latin typeface="Verdana"/>
              </a:rPr>
              <a:t>минус </a:t>
            </a:r>
            <a:r>
              <a:rPr b="1" lang="ru-RU" sz="1800" spc="-1" strike="noStrike">
                <a:solidFill>
                  <a:srgbClr val="99cc00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99cc00"/>
                </a:solidFill>
                <a:latin typeface="Verdana"/>
              </a:rPr>
              <a:t> бал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21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642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142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142"/>
                            </p:stCondLst>
                            <p:childTnLst>
                              <p:par>
                                <p:cTn id="106" nodeType="afterEffect" fill="remove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07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ить уравне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                                            (2 балл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                                            (6 бал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                                            (6 бал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                                             (6 бал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ние: найти все целые значения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и которых уравнение имеет два корня: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1763640" y="1700280"/>
                <a:ext cx="3527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1835280" y="2637000"/>
                <a:ext cx="35287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4"/>
              <p:cNvSpPr txBox="1"/>
              <p:nvPr/>
            </p:nvSpPr>
            <p:spPr>
              <a:xfrm>
                <a:off x="1763640" y="3357720"/>
                <a:ext cx="4176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6"/>
              <p:cNvSpPr txBox="1"/>
              <p:nvPr/>
            </p:nvSpPr>
            <p:spPr>
              <a:xfrm>
                <a:off x="2050920" y="5661000"/>
                <a:ext cx="25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Box 17"/>
          <p:cNvSpPr/>
          <p:nvPr/>
        </p:nvSpPr>
        <p:spPr>
          <a:xfrm>
            <a:off x="6143760" y="6000840"/>
            <a:ext cx="2214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Verdana"/>
                <a:hlinkClick r:id="rId1" action="ppaction://hlinksldjump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Тестовая работа №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808200" y="1987560"/>
          <a:ext cx="3260520" cy="44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1987560"/>
                    <a:ext cx="326052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888080" y="1959120"/>
          <a:ext cx="3346200" cy="44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080" y="1959120"/>
                    <a:ext cx="3346200" cy="44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9"/>
          <p:cNvSpPr/>
          <p:nvPr/>
        </p:nvSpPr>
        <p:spPr>
          <a:xfrm>
            <a:off x="468360" y="155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Verdana"/>
              </a:rPr>
              <a:t>Отве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0"/>
          <p:cNvGrpSpPr/>
          <p:nvPr/>
        </p:nvGrpSpPr>
        <p:grpSpPr>
          <a:xfrm>
            <a:off x="1763640" y="3098880"/>
            <a:ext cx="5630760" cy="3297240"/>
            <a:chOff x="1763640" y="3098880"/>
            <a:chExt cx="5630760" cy="3297240"/>
          </a:xfrm>
        </p:grpSpPr>
        <p:sp>
          <p:nvSpPr>
            <p:cNvPr id="150" name="Oval 10"/>
            <p:cNvSpPr/>
            <p:nvPr/>
          </p:nvSpPr>
          <p:spPr>
            <a:xfrm>
              <a:off x="2814480" y="3112920"/>
              <a:ext cx="289080" cy="2876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Oval 11"/>
            <p:cNvSpPr/>
            <p:nvPr/>
          </p:nvSpPr>
          <p:spPr>
            <a:xfrm>
              <a:off x="1763640" y="3774960"/>
              <a:ext cx="28908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Oval 12"/>
            <p:cNvSpPr/>
            <p:nvPr/>
          </p:nvSpPr>
          <p:spPr>
            <a:xfrm>
              <a:off x="1792440" y="4422600"/>
              <a:ext cx="288720" cy="2876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Oval 13"/>
            <p:cNvSpPr/>
            <p:nvPr/>
          </p:nvSpPr>
          <p:spPr>
            <a:xfrm>
              <a:off x="1835280" y="515772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Oval 14"/>
            <p:cNvSpPr/>
            <p:nvPr/>
          </p:nvSpPr>
          <p:spPr>
            <a:xfrm>
              <a:off x="1835280" y="610884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Oval 15"/>
            <p:cNvSpPr/>
            <p:nvPr/>
          </p:nvSpPr>
          <p:spPr>
            <a:xfrm>
              <a:off x="4830840" y="309888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Oval 16"/>
            <p:cNvSpPr/>
            <p:nvPr/>
          </p:nvSpPr>
          <p:spPr>
            <a:xfrm>
              <a:off x="7105680" y="374508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Oval 17"/>
            <p:cNvSpPr/>
            <p:nvPr/>
          </p:nvSpPr>
          <p:spPr>
            <a:xfrm>
              <a:off x="7093080" y="44085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Oval 18"/>
            <p:cNvSpPr/>
            <p:nvPr/>
          </p:nvSpPr>
          <p:spPr>
            <a:xfrm>
              <a:off x="4830840" y="515772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Oval 19"/>
            <p:cNvSpPr/>
            <p:nvPr/>
          </p:nvSpPr>
          <p:spPr>
            <a:xfrm>
              <a:off x="5983200" y="6021360"/>
              <a:ext cx="289080" cy="28728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1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Оценочный лист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68360" y="17002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несите результаты тестовой работы №1 в выделенное поле оценочного лис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23920" y="3089160"/>
          <a:ext cx="5097600" cy="3086280"/>
        </p:xfrm>
        <a:graphic>
          <a:graphicData uri="http://schemas.openxmlformats.org/drawingml/2006/table">
            <a:tbl>
              <a:tblPr/>
              <a:tblGrid>
                <a:gridCol w="1211400"/>
                <a:gridCol w="2171880"/>
                <a:gridCol w="799920"/>
                <a:gridCol w="914400"/>
              </a:tblGrid>
              <a:tr h="32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а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37"/>
          <p:cNvSpPr/>
          <p:nvPr/>
        </p:nvSpPr>
        <p:spPr>
          <a:xfrm>
            <a:off x="5397480" y="3887640"/>
            <a:ext cx="1728720" cy="4464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468360" y="24084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Verdana"/>
              </a:rPr>
              <a:t>Критерий оценивания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за каждый правильный ответ – </a:t>
            </a:r>
            <a:r>
              <a:rPr b="1" lang="ru-RU" sz="1800" spc="-1" strike="noStrike">
                <a:solidFill>
                  <a:srgbClr val="99cc00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99cc00"/>
                </a:solidFill>
                <a:latin typeface="Verdana"/>
              </a:rPr>
              <a:t> бал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41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882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382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382"/>
                            </p:stCondLst>
                            <p:childTnLst>
                              <p:par>
                                <p:cTn id="147" nodeType="afterEffect" fill="remove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48" dur="1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ить систему уравнени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                                       (2 балл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                                     (4 балл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                                     (4 балл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                                     (6 баллов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2286000" y="1500120"/>
                <a:ext cx="2519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2214720" y="2492280"/>
                <a:ext cx="288108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2268360" y="4076640"/>
                <a:ext cx="3095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2286000" y="5214960"/>
                <a:ext cx="29289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5:35:24Z</dcterms:created>
  <dc:creator>filimonova</dc:creator>
  <dc:description/>
  <cp:keywords>20.12.2010</cp:keywords>
  <dc:language>en-US</dc:language>
  <cp:lastModifiedBy>Филимонов</cp:lastModifiedBy>
  <dcterms:modified xsi:type="dcterms:W3CDTF">2010-12-19T18:24:34Z</dcterms:modified>
  <cp:revision>53</cp:revision>
  <dc:subject>зачет</dc:subject>
  <dc:title>Слайд 1</dc:title>
</cp:coreProperties>
</file>