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369-7B71-48C7-9AB3-C6D09C28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9CA-7B2C-4FB9-9B67-D0B178A0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040E-8B45-418B-A4BC-6978C26B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CFAE-9112-4F7E-BD9F-216C84E7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525-4BA6-4276-B706-93090246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3603-F009-46D6-B97C-4B1683DD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279-44FB-4D2E-A63B-71876E6E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A04-2CF0-49DE-84A2-284F72A6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8EE0-B180-458B-8D22-91B359EE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258-DB69-4175-B591-36B63E00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2083-58BA-4877-B2E0-E931F9D8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CC7-F75C-47DF-A753-407987C6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A938-0209-4DDB-A35F-51CE74783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700280"/>
            <a:ext cx="57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Шар и его част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67280" y="5300640"/>
            <a:ext cx="482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ыполнила рабо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русова Наталья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осковский областной сельскохозяйственный колледж, 2010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141720"/>
            <a:ext cx="80661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специаль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Хозяйка усадьбы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адово- парковое и ландшафтное строитель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40000" y="2637000"/>
            <a:ext cx="41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смотр ролика из диска ОТКРЫТАЯ СТЕРЕОМЕТРИЯ. Запись в тетради. Выполнение чертежа ш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26920" y="1484280"/>
            <a:ext cx="648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вайте вспомн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численные предм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подумаем, какие из 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 являются шар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40000" y="2276640"/>
            <a:ext cx="46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годня на уроке мы научимся применять основные формулы, позволяющие вычислять объемы и поверхности шара и его ч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2708280"/>
            <a:ext cx="3666960" cy="3887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907920"/>
            <a:ext cx="7634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дача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колько литров грунта необходимо, чтобы заполнить им стойку данной формы для оформления кабинета, если длина каждой ячейки равна 15 см, а при первом поливе грунт дает усадку в 1,5 ра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26028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69228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числим объем одной ячейки. Каждая ячейка представляет собой четверть ша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26920" y="1413000"/>
                <a:ext cx="2160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,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2781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Всего в стойке 10 ячеек. Значит общий объем необходимого грунта вычисляется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826920" y="2060640"/>
                <a:ext cx="5761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ячейк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7,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75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26920" y="3573360"/>
                <a:ext cx="74170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тойк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ячейк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6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39</m:t>
                    </m:r>
                    <m:r>
                      <m:t xml:space="preserve">,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394</m:t>
                    </m:r>
                    <m:r>
                      <m:t xml:space="preserve">л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572000" y="6237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 3,96 ли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076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Так как при первом поливе грунт дает усадку, то его потребуется в 1,5 раза больш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332000" y="4797360"/>
                <a:ext cx="3311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рунт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⋅</m:t>
                    </m:r>
                    <m:r>
                      <m:t xml:space="preserve">1,5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(</m:t>
                    </m:r>
                    <m:r>
                      <m:t xml:space="preserve">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0" y="3716280"/>
            <a:ext cx="4325760" cy="2871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692280"/>
            <a:ext cx="792180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дача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отность посадки растений для оформления шарообразной клумбы составляет 4шт на 10см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Сколько растений нужно приобрести для оформления шарообразной клумбы диаметром 1м, если для ее создания необходимо иметь 10% посадочного материала для коррекции неприжившихся растений в ближайшую недел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0920" y="26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84360" y="1268280"/>
                <a:ext cx="338292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м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40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90680" y="2781360"/>
                <a:ext cx="23317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4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6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ш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95360" y="3933720"/>
                <a:ext cx="22510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6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6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ш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870200" y="5210280"/>
                <a:ext cx="27730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6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5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816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ш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9079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Найдем площадь, которую нужно засадить растени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349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Вычислим, количество растений, необходимое для посадки на данную площад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50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Вычислим количество растений, необходимое для коррекции клумб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653000"/>
            <a:ext cx="78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Итак общее количество корней для формирования клумбы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609300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: 13816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635280" y="249228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9280" y="260280"/>
            <a:ext cx="615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актически, когда вы засаживаете недорогими растениями клумбу, или стойку  в кабинете многие расчеты не производятся или прикидываются «на глаз», но когда речь идет о значительных расходах, здесь без математики не обойт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321300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пример при засевании газоном больших площа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340000" y="2060640"/>
            <a:ext cx="3413160" cy="2560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79280" y="333360"/>
            <a:ext cx="6121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ли при оформлении небольшими корзинами большого по протяженности просп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требуется большое количество грунта и посадочного материа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340000" y="1916280"/>
            <a:ext cx="3429000" cy="3565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95640" y="501336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рзинами конической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40000" y="5877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форме шарового сл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16000" y="1628640"/>
            <a:ext cx="59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 сожалению, не всегда окружающие нас предметы имеют форму тех или иных геометрических тел. В этом случае мы стараемся либо разбить его на части, имеющие форму известных тел, или хотя бы на части, которые напоминают знакомые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42920" y="1916280"/>
            <a:ext cx="6769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ар- понятие не новое, представление о нем мы имеем с начальной школы, даже с детск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вайте вспомним предметы из окружающего нас мира, имеющие форму ш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602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арное искусство – изменение естественной формы растений путем стрижки, форм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716360" y="3573360"/>
            <a:ext cx="3816360" cy="2970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716360" y="3573360"/>
            <a:ext cx="4176720" cy="297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24000" y="1413000"/>
            <a:ext cx="3600360" cy="2319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24000" y="1413000"/>
            <a:ext cx="36003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771640" y="3068640"/>
            <a:ext cx="1562400" cy="2089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116000" y="3068640"/>
            <a:ext cx="1562040" cy="2087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116000" y="2924280"/>
            <a:ext cx="3240000" cy="2422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1042920" y="285264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4716360" y="2881440"/>
            <a:ext cx="3743280" cy="2441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13680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оследнее время классическое топиарное искусство во всем мире уступает место новому направлению – созданию фигур из однолетников или лиан на проволочном каркасе. Можно использовать также некоторые многолетники, например, очитки, молодила, злаки. В сложных климатических условиях нашей страны это направление является очень перспективным, так как позволяет получить результат быстро, вне зависимости от капризов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484360" y="2492280"/>
            <a:ext cx="4626000" cy="291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95280" y="765000"/>
            <a:ext cx="568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, давайте попробуем расчитать площадь поверхности головы крота (без носа) если ее высота равна 1м, а радиус основания выглядывающей из-под земли части 80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87280" y="1125360"/>
            <a:ext cx="53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лову крота по форме можно разбить на цилиндр на котором стоит половина ш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276720" y="2205000"/>
            <a:ext cx="2315880" cy="2724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84360" y="551664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комая площадь будет складываться из боковой поверхности цилиндра и площади полусф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476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1890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диус шара равен радиусу цилиндра и равен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68360" y="549360"/>
                <a:ext cx="2016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79280" y="1125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сота цилиндра 100-40=70 (с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39640" y="1557360"/>
                <a:ext cx="18003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79280" y="191628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перь найдем площадь боковой поверхности цилинд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9640" y="2349360"/>
                <a:ext cx="496908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584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50920" y="292428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площадь полусф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9640" y="3429000"/>
                <a:ext cx="4969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лусферы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48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324000" y="400536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щая площадь поверхности головы крота рав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971640" y="4508640"/>
                <a:ext cx="33130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58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4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63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4572000" y="4508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508720" y="4508640"/>
                <a:ext cx="7747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sSup>
                      <m:e>
                        <m:r>
                          <m:t xml:space="preserve">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916360" y="5300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067280" y="5373720"/>
                <a:ext cx="7747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sSup>
                      <m:e>
                        <m:r>
                          <m:t xml:space="preserve">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333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ведение итог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91320" y="1123560"/>
            <a:ext cx="3059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сегодня я узнал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было интересно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было трудно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я выполнял задания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я понял, что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теперь я могу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я почувствовал, что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я приобрел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я научился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у меня получилось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я смог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я попробую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меня удивило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урок дал мне для жизни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мне захотелось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76360" y="350028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333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т лишь некоторые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1873080" cy="184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132000" y="1628640"/>
            <a:ext cx="1806840" cy="187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877080" y="4076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724360" y="1341360"/>
            <a:ext cx="1944720" cy="1895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203640" y="4365720"/>
            <a:ext cx="1873080" cy="1792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64000" y="98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я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31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утб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35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мна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24360" y="32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я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3640" y="6165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сса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587700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нни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333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т лишь некоторые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341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лочные укра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0000" y="2852640"/>
            <a:ext cx="2616120" cy="2895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24000" y="2205000"/>
            <a:ext cx="1560240" cy="1249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651640" y="3357720"/>
            <a:ext cx="3173400" cy="3238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5364000" y="1197000"/>
            <a:ext cx="167832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333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т лишь некоторые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3024000" cy="226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867280" y="4365720"/>
            <a:ext cx="2880000" cy="2160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908000" y="3789360"/>
            <a:ext cx="3097440" cy="2065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8360" y="162864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душ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а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333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т лишь некоторые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1371600" cy="1352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284720" y="45813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124000" y="4292640"/>
            <a:ext cx="1747800" cy="1747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2340000" y="90792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7278840" y="3573360"/>
            <a:ext cx="1704960" cy="3097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92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пель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2852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льярдный ш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3789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як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л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рдц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здел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5580000" y="836640"/>
            <a:ext cx="1379520" cy="2119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64000" y="292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лектрическая ламп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333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т лишь некоторые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2305080" cy="2241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55640" y="2205000"/>
            <a:ext cx="2664000" cy="2657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651640" y="2421000"/>
            <a:ext cx="2160360" cy="216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981000"/>
            <a:ext cx="51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наконец, земной шар, который нам с вами по роду деятельности, нужно будет укра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5003640" y="2421000"/>
            <a:ext cx="33181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333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т лишь некоторые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124000" y="2205000"/>
            <a:ext cx="3665520" cy="367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1052640"/>
            <a:ext cx="7489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но из понятий, связанных с шаром можно рассмотреть именно на земном шаре. Это понятие сфе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де вы слышали слово похожее на слово сф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7640" y="2349360"/>
            <a:ext cx="230508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вершенно верно. Сфера- это оболочка ш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воря математическим языком, это его поверх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так, поверхность шара называют сферической поверхностью или просто сфе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835280" y="2205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метим, что многие предметы, которые мы назвали с точки зрения геометрии шарами не являютс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393372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 же такое ша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4:25:11Z</dcterms:created>
  <dc:creator>Натали</dc:creator>
  <dc:description/>
  <dc:language>en-US</dc:language>
  <cp:lastModifiedBy>Наталья</cp:lastModifiedBy>
  <dcterms:modified xsi:type="dcterms:W3CDTF">2010-05-23T17:56:55Z</dcterms:modified>
  <cp:revision>16</cp:revision>
  <dc:subject/>
  <dc:title>Слайд 1</dc:title>
</cp:coreProperties>
</file>