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6F0-7085-4E1E-86E0-0C6012B709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12A-5411-4D3F-8199-81E605EDE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657-3899-4682-8C43-F1BAE32E4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CF65-997D-4A91-97C1-15635ABF8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FE1-91CE-42C5-B488-29D7E1CA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64C-5D31-4E07-9DBE-D332BCCD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7FD92-F461-46C8-A0C7-F98C71D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5CFC7-E6B3-4DB8-8F72-AB377A46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3B0B3-D806-44F0-A741-2B3E073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91B8A-FFDF-4EB9-B473-7DA1E85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571B0-3518-46A7-ACB7-6BE461D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FF930-0BEA-4475-A757-D1444D9C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352C-43C9-4D3E-9DCF-1613BEF0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39454-3AEF-4A4A-9A99-C25ADFF2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FBBAC-8D35-48CA-982B-CC3DEA0A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0FE56-10C6-4DA2-8380-BD9FD143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678-1D96-41EE-AFD9-9BDD8E5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324A8-23A0-4CF4-9F67-8D97611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2614C-D231-4B99-AD7D-404ED72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5B2C-C868-4616-9EC9-757BFD3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7DD9-825C-4A48-AA6E-52102A6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0BBB6-17A4-4402-8208-6A0F7FD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1EF5-B465-40D3-AB17-701FFB2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7B10-31D0-47A9-AA49-79C1745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2B2F9-1DCB-4820-BD40-7BA04D76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27D41-2F57-46D2-A125-D8733060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6C2DE-2544-4C4A-8C2E-2028023B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B44-C135-448A-BD7C-06F8D6F2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65D29-720F-4B9E-8ED0-30936D34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AA7B58-114B-4914-8260-F4776501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D4816B-C5D3-4C6A-9E89-EB9F15E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4CCEC5-0C0F-4EEF-AFD6-9E7D0CE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630075-B08B-4909-8114-B0B2E5F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07F6D6-2D2A-4D3A-BB9F-DFF5F3DA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723C4B-72DE-46B7-8195-DBB842C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82F2F6-4CE0-4F02-BAD5-9744F6C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0836AE-21CC-4442-BF9A-98557C7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B567F4-C447-4264-9A57-B693E30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C28-7C4B-4A33-A268-79E75B35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94DDB1-B0B8-430A-AA0B-FD46E5C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466DA2-A1AF-4F1F-A123-43B9B9EF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57E0D8-192A-4441-8A74-F4AE58CF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9FDDC-7D77-45CD-BE47-42098D8E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0A476-95C7-4EC1-B055-D2544170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E4ED8-E29A-4B83-804D-CDD15D5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6BD2B-E5CB-4680-BE2C-1E49D82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DAC76-34A7-4CAC-BDFD-C12972F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8777C-4B98-4540-A3DB-7E2B269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33A45-2C3F-4E53-8E7D-B514942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EA16-0C78-44EF-AAF2-DF03B98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0DF16-BC62-45E7-A722-8796B41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FBE39-1F70-47D0-8908-CC42784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3A445-F884-4C2E-86C3-D07B58F0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1A8EA-A98B-429E-87EA-345FCF1B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08001-0C6A-4F82-BC62-4EC60E4D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41542-5DC2-431A-A130-F848BBC0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7886B-4410-4142-BD80-1ADADC3C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FECDE-6D2C-4C43-B16D-C0D0AD0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EAF22-764B-4E96-920B-0316F29F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9D826-8B08-4539-B09B-881D2F13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F6A9-7AAE-4C5C-988C-7563B175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98E39-0124-48E9-8F6C-31CB78BD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3D6D2-7F59-400D-9047-0E5E674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D5C7B-D47F-4254-919F-3E4D77A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D044B-E2FB-475C-AFCA-102FF86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2ACE2-995D-41B8-905E-E7D9DDE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4B0A3-51F4-400B-B2C0-AB046BF3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2EBDA-6BEF-419B-B3E4-F8828D6B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741E89-A6E1-4E45-AB61-A43C125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BB9B53-F9E6-4D21-904E-DFEAD8F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A3B34B-0191-4F9C-95C9-5B0ADE3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8B4-4E5F-4CE3-94B9-E9E4BD1C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110E0-E85B-497F-AE5A-9A13CBF0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6870DB-0A9B-4D6A-B331-6A1FB937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708C0A-869E-419E-91EF-EF8059A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380411-A50A-43A7-8D64-93338873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DACCA6-1459-43F8-9390-A3F2C0D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F9AF14-BAC2-4BBF-ACC5-611500C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7920C6-4A4B-4F98-9469-16CC187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AF0418-9885-4329-A1A2-74C40E5A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6ACC30-BB11-4CEC-952F-7D9552F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C8B-F045-4B86-ADC7-708C91B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C826-731C-462F-B946-6C0DB10E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691-573C-4727-A0AA-790AC7F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C26-661B-4953-AB59-7092566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0BB-A31E-4396-BFCB-EC028BA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D993-E8C5-4859-921C-F459860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DCEE-32E8-43EC-8D22-21037F9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AC53-B176-49DC-9D87-642DC427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D59-7ECF-43F1-8F21-5CDA3EAC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22A4-258A-4B6F-98F9-375C506D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8E6A-B5BF-4BDD-9811-9CC59C6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25B7-C8F1-45DA-AB71-51BAC78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88DC-8CE2-4DBD-8195-1641BC5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0071-58CF-4FEF-A3CE-49E5975C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885-659F-436C-A417-47BE5C1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4D16-E9F3-4A20-BA13-35EB203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3B60-63B8-4420-BB62-A9C0066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66CD-290E-4B77-87E5-7F03F1C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1556-1431-4F1A-9037-7446BDBD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CA50-91DB-4C65-8CC7-9D93065F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D700-83AA-4288-815B-81C32FF8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75DC-3FC9-4EEA-812A-BB6B637A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86B1-FC16-4A94-9E26-3480346B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0269-45B7-4CE3-A845-96E639B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B3E8-E73F-4306-9D01-FB228D6B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6BC-73CE-44F4-84DA-76778F0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81AB-4572-4CAE-9406-1FECE82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C950-8FDD-4349-8595-60EAE662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9EDF-04F7-4AC3-BB52-C137D46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1D7E3-A71D-486F-85AC-02F8E5A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D137-B04E-413B-806D-4E50D18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E3DD-5616-4BA3-9A52-0A5DAF7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6417-1129-41D3-BC16-049ECE1D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A665-B43E-4E80-BC68-E17A9229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481D-D76F-496B-BDAF-97A67F99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0AA5-4841-400D-9BE8-5BBD2F86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53D-4D24-49F8-BDA7-707EF51C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FBC69-B0C4-4409-8C23-38B1E96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341F2-ECE8-47E2-9522-0FAD05C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0764-0EA4-4F4A-8BA4-A86FABA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D3F2-47F5-4E4D-AED0-F72B8D7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BFA6-C34F-4322-9A01-55EE5F4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0834-B7EC-46E3-A51A-76BD007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522F-0295-4D08-9BD1-183B6A8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364E-82B2-4387-B9A6-32230F0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1B2F-76F4-4186-957A-AE0F85AD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3B2F-5DEA-4DD6-A9CE-BE623171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C19-9A71-487B-8BD3-A71C116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37B06-A96C-4AA8-B327-889B10AB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7128-7274-4824-8A23-5A24BD89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6CB6-DCF4-41F1-B76C-84F2556F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BE683-F58B-4C4B-8799-0E9F140E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D1B8-EE11-4898-B5E7-E91B8C8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E7E1-144C-403A-A1D7-B42815EA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640C0-FCB3-45A2-8CCE-F0376E7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C34E-C695-4041-BF2A-98CDC2C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B840-6073-491C-AC4E-B2F0CA1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E83C9-AAC4-4FBC-91AC-EF73DDF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B8F-69A3-4825-84B7-EF522C6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D10D-164A-4105-B062-2AA484CB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7950-847E-4BAF-BBCA-4C3AEC84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0B1C-6140-4F6F-9DD0-E0A7FEE5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7AED-5BF1-4FD0-B94F-8A332074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5442-84F7-4C26-B18A-AB63D71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33E2-8286-498C-9EAF-0C76F97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E61D-923B-46BE-BB51-704B176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9FEA7-FCB8-4012-9B34-6FB3F70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CDD73-33D8-4A71-89CC-8D2EE279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F4C92-A386-47EF-9831-66C8D8D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73B-EFB4-42E4-AFB6-D8DFEF6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F019-00C8-4196-9449-812A9744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68EC-B57F-441E-B2EA-2A7F022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92FD-CEEA-4054-B4D2-3DFE114F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9FD7-3A24-4ECF-ABB0-621E6459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EC5D-1C99-43AE-A0B7-3FE69A8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B5BB-F829-49D3-A986-AA3DA37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4CBC-50A2-45DD-B56E-545D1510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9230-1844-4A78-8410-E0EB4F7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32F5-6BF1-489B-BA64-DFABF82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2A62B-4607-44F9-8AA1-C714067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89C-CC99-46CF-9B8D-5C17C64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A4BB-00E4-40AE-A621-5B92355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80184-0996-4206-8E24-7547AD2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0236-0870-462D-A2A4-BE401E1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4F34-29EF-424F-8AA3-E68E4C5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7BB3-EBA0-480A-A156-FB52B56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B6AE4-35EA-4A60-8FE1-73E45F4D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151C-082B-481D-BE82-57C35C6D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4DBE-DF40-48C6-8497-807F9E93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1FAD-C232-43CE-9DF9-04FC5B2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E143-9D7D-4A96-863B-0AA425FD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AC7-5D70-4680-B845-9D6751891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A84-2147-4324-A0F5-A411CB60AC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5D6-D84D-4C91-AEC4-9CE67F7D9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881-C7F0-423B-82A8-181862B4E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0628-9193-4CB3-914F-121F4E280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6216-B7A9-473A-A517-AF1A302EF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1B4-5E98-465B-871D-ED3857B34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E46-D344-409F-B67A-C6731627C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9ECB-9B44-4C44-A905-FF176C28C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406-F2EC-45F5-92BB-9C35EBA38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5F6-E592-467A-A368-9B9DC6E6E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573-059C-4AFF-BF14-DFAAB06B4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C73-82B2-432D-9588-376C6311B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D39F-FCCA-4A59-A349-2C14602A4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685800" y="3962160"/>
            <a:ext cx="7772400" cy="1600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ОСТАВИ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ЧИТЕЛЬ МАТЕМАТИКИ МОУ «СОШ №6»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. ЛОБ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ТУПЧИК Т.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905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Исследование свойств функции заданной графически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3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3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3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3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Управляющая кнопка: домой 1"/>
          <p:cNvSpPr/>
          <p:nvPr/>
        </p:nvSpPr>
        <p:spPr>
          <a:xfrm>
            <a:off x="76320" y="6248520"/>
            <a:ext cx="1447560" cy="609480"/>
          </a:xfrm>
          <a:custGeom>
            <a:avLst/>
            <a:gdLst>
              <a:gd name="textAreaLeft" fmla="*/ 39240 w 1447560"/>
              <a:gd name="textAreaRight" fmla="*/ 1408320 w 1447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884" y="1400"/>
                </a:lnTo>
                <a:lnTo>
                  <a:pt x="1400" y="140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884" y="20200"/>
                </a:lnTo>
                <a:lnTo>
                  <a:pt x="49884" y="140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4" y="2020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4" h="21600">
                <a:moveTo>
                  <a:pt x="25642" y="3837"/>
                </a:moveTo>
                <a:lnTo>
                  <a:pt x="28218" y="6448"/>
                </a:lnTo>
                <a:lnTo>
                  <a:pt x="28218" y="4707"/>
                </a:lnTo>
                <a:lnTo>
                  <a:pt x="29994" y="4707"/>
                </a:lnTo>
                <a:lnTo>
                  <a:pt x="29994" y="8224"/>
                </a:lnTo>
                <a:lnTo>
                  <a:pt x="32605" y="10800"/>
                </a:lnTo>
                <a:lnTo>
                  <a:pt x="30951" y="10800"/>
                </a:lnTo>
                <a:lnTo>
                  <a:pt x="30951" y="17989"/>
                </a:lnTo>
                <a:lnTo>
                  <a:pt x="20333" y="17989"/>
                </a:lnTo>
                <a:lnTo>
                  <a:pt x="20333" y="10800"/>
                </a:lnTo>
                <a:lnTo>
                  <a:pt x="18679" y="10800"/>
                </a:lnTo>
                <a:close/>
              </a:path>
              <a:path fill="darkenLess" w="51284" h="21600">
                <a:moveTo>
                  <a:pt x="28218" y="6448"/>
                </a:moveTo>
                <a:lnTo>
                  <a:pt x="28218" y="4707"/>
                </a:lnTo>
                <a:lnTo>
                  <a:pt x="29994" y="4707"/>
                </a:lnTo>
                <a:lnTo>
                  <a:pt x="29994" y="8224"/>
                </a:lnTo>
                <a:close/>
              </a:path>
              <a:path fill="darkenLess" w="51284" h="21600">
                <a:moveTo>
                  <a:pt x="24719" y="14299"/>
                </a:moveTo>
                <a:lnTo>
                  <a:pt x="26565" y="14299"/>
                </a:lnTo>
                <a:lnTo>
                  <a:pt x="26565" y="17989"/>
                </a:lnTo>
                <a:lnTo>
                  <a:pt x="30951" y="17989"/>
                </a:lnTo>
                <a:lnTo>
                  <a:pt x="30951" y="10800"/>
                </a:lnTo>
                <a:lnTo>
                  <a:pt x="20333" y="10800"/>
                </a:lnTo>
                <a:lnTo>
                  <a:pt x="20333" y="17989"/>
                </a:lnTo>
                <a:lnTo>
                  <a:pt x="2471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Заголовок 1"/>
          <p:cNvSpPr/>
          <p:nvPr/>
        </p:nvSpPr>
        <p:spPr>
          <a:xfrm>
            <a:off x="609480" y="228600"/>
            <a:ext cx="7772400" cy="23623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фик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кции симметричен относительно оси ОУ, а график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кции симметричен относительно начала координат. В обеих случаях область определения должна быть  симметрична относительно начала координа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нет симметрии в области определения или в графике, то функци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 является ни чётной , ни не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Прямая со стрелкой 4"/>
          <p:cNvCxnSpPr/>
          <p:nvPr/>
        </p:nvCxnSpPr>
        <p:spPr>
          <a:xfrm flipV="1">
            <a:off x="1827360" y="2896920"/>
            <a:ext cx="360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8" name="Прямая со стрелкой 5"/>
          <p:cNvCxnSpPr/>
          <p:nvPr/>
        </p:nvCxnSpPr>
        <p:spPr>
          <a:xfrm>
            <a:off x="380880" y="4800600"/>
            <a:ext cx="2820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9" name="Прямая со стрелкой 6"/>
          <p:cNvCxnSpPr/>
          <p:nvPr/>
        </p:nvCxnSpPr>
        <p:spPr>
          <a:xfrm flipV="1">
            <a:off x="4572000" y="2971440"/>
            <a:ext cx="216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0" name="Прямая со стрелкой 7"/>
          <p:cNvCxnSpPr/>
          <p:nvPr/>
        </p:nvCxnSpPr>
        <p:spPr>
          <a:xfrm>
            <a:off x="3428640" y="4800600"/>
            <a:ext cx="2591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1" name="Прямая со стрелкой 8"/>
          <p:cNvCxnSpPr/>
          <p:nvPr/>
        </p:nvCxnSpPr>
        <p:spPr>
          <a:xfrm flipV="1">
            <a:off x="7313760" y="2896920"/>
            <a:ext cx="36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2" name="Прямая со стрелкой 9"/>
          <p:cNvCxnSpPr/>
          <p:nvPr/>
        </p:nvCxnSpPr>
        <p:spPr>
          <a:xfrm>
            <a:off x="6171840" y="4800600"/>
            <a:ext cx="2439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3" name="Скругленная соединительная линия 10"/>
          <p:cNvCxnSpPr/>
          <p:nvPr/>
        </p:nvCxnSpPr>
        <p:spPr>
          <a:xfrm flipH="1" flipV="1" rot="5400000">
            <a:off x="685800" y="3276000"/>
            <a:ext cx="991080" cy="9914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4" name="Скругленная соединительная линия 11"/>
          <p:cNvCxnSpPr/>
          <p:nvPr/>
        </p:nvCxnSpPr>
        <p:spPr>
          <a:xfrm flipH="1" rot="16200000">
            <a:off x="1942200" y="3314520"/>
            <a:ext cx="915120" cy="839160"/>
          </a:xfrm>
          <a:prstGeom prst="curvedConnector5">
            <a:avLst>
              <a:gd name="adj1" fmla="val 55962"/>
              <a:gd name="adj2" fmla="val 50000"/>
              <a:gd name="adj3" fmla="val 55962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5" name="Скругленная соединительная линия 12"/>
          <p:cNvCxnSpPr/>
          <p:nvPr/>
        </p:nvCxnSpPr>
        <p:spPr>
          <a:xfrm flipV="1">
            <a:off x="3428640" y="4799880"/>
            <a:ext cx="114372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6" name="Скругленная соединительная линия 13"/>
          <p:cNvCxnSpPr/>
          <p:nvPr/>
        </p:nvCxnSpPr>
        <p:spPr>
          <a:xfrm flipV="1">
            <a:off x="4571640" y="4037760"/>
            <a:ext cx="122004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7" name="Скругленная соединительная линия 14"/>
          <p:cNvCxnSpPr/>
          <p:nvPr/>
        </p:nvCxnSpPr>
        <p:spPr>
          <a:xfrm flipH="1" rot="16200000">
            <a:off x="6018840" y="3962160"/>
            <a:ext cx="1829520" cy="122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8" name="Скругленная соединительная линия 15"/>
          <p:cNvCxnSpPr/>
          <p:nvPr/>
        </p:nvCxnSpPr>
        <p:spPr>
          <a:xfrm flipH="1" flipV="1" rot="5400000">
            <a:off x="6742800" y="3619440"/>
            <a:ext cx="2667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sp>
        <p:nvSpPr>
          <p:cNvPr id="879" name="Блок-схема: перфолента 16"/>
          <p:cNvSpPr/>
          <p:nvPr/>
        </p:nvSpPr>
        <p:spPr>
          <a:xfrm>
            <a:off x="1371600" y="5715000"/>
            <a:ext cx="914400" cy="5335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ё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Блок-схема: перфолента 17"/>
          <p:cNvSpPr/>
          <p:nvPr/>
        </p:nvSpPr>
        <p:spPr>
          <a:xfrm>
            <a:off x="3962520" y="5715000"/>
            <a:ext cx="1218960" cy="6094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чё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Блок-схема: перфолента 18"/>
          <p:cNvSpPr/>
          <p:nvPr/>
        </p:nvSpPr>
        <p:spPr>
          <a:xfrm>
            <a:off x="6324480" y="5638680"/>
            <a:ext cx="2438640" cy="68580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 является ни чётной, ни нечё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9"/>
          <p:cNvSpPr/>
          <p:nvPr/>
        </p:nvSpPr>
        <p:spPr>
          <a:xfrm>
            <a:off x="1907640" y="2743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0"/>
          <p:cNvSpPr/>
          <p:nvPr/>
        </p:nvSpPr>
        <p:spPr>
          <a:xfrm>
            <a:off x="312660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21"/>
          <p:cNvSpPr/>
          <p:nvPr/>
        </p:nvSpPr>
        <p:spPr>
          <a:xfrm>
            <a:off x="4648320" y="2819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571752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7394040" y="281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838440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lvl="2" marL="1428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т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ли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ежутки знакопостоянства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тон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чки экстремума и экстремумы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ь значений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Область определения функц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стоит из значений переменной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х точек, учавствующих в построении графика функции. Обозначаетс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Управляющая кнопка: домой 4"/>
          <p:cNvSpPr/>
          <p:nvPr/>
        </p:nvSpPr>
        <p:spPr>
          <a:xfrm>
            <a:off x="0" y="63244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24673" y="3837"/>
                </a:moveTo>
                <a:lnTo>
                  <a:pt x="27250" y="6448"/>
                </a:lnTo>
                <a:lnTo>
                  <a:pt x="27250" y="4707"/>
                </a:lnTo>
                <a:lnTo>
                  <a:pt x="29025" y="4707"/>
                </a:lnTo>
                <a:lnTo>
                  <a:pt x="29025" y="8224"/>
                </a:lnTo>
                <a:lnTo>
                  <a:pt x="31636" y="10800"/>
                </a:lnTo>
                <a:lnTo>
                  <a:pt x="29982" y="10800"/>
                </a:lnTo>
                <a:lnTo>
                  <a:pt x="29982" y="17989"/>
                </a:lnTo>
                <a:lnTo>
                  <a:pt x="19364" y="17989"/>
                </a:lnTo>
                <a:lnTo>
                  <a:pt x="19364" y="10800"/>
                </a:lnTo>
                <a:lnTo>
                  <a:pt x="17710" y="10800"/>
                </a:lnTo>
                <a:close/>
              </a:path>
              <a:path fill="darkenLess" w="49346" h="21600">
                <a:moveTo>
                  <a:pt x="27250" y="6448"/>
                </a:moveTo>
                <a:lnTo>
                  <a:pt x="27250" y="4707"/>
                </a:lnTo>
                <a:lnTo>
                  <a:pt x="29025" y="4707"/>
                </a:lnTo>
                <a:lnTo>
                  <a:pt x="29025" y="8224"/>
                </a:lnTo>
                <a:close/>
              </a:path>
              <a:path fill="darkenLess" w="49346" h="21600">
                <a:moveTo>
                  <a:pt x="23751" y="14299"/>
                </a:moveTo>
                <a:lnTo>
                  <a:pt x="25596" y="14299"/>
                </a:lnTo>
                <a:lnTo>
                  <a:pt x="25596" y="17989"/>
                </a:lnTo>
                <a:lnTo>
                  <a:pt x="29982" y="17989"/>
                </a:lnTo>
                <a:lnTo>
                  <a:pt x="29982" y="10800"/>
                </a:lnTo>
                <a:lnTo>
                  <a:pt x="19364" y="10800"/>
                </a:lnTo>
                <a:lnTo>
                  <a:pt x="19364" y="17989"/>
                </a:lnTo>
                <a:lnTo>
                  <a:pt x="2375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Object 2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732560" cy="465948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ая соединительная линия 11"/>
          <p:cNvSpPr/>
          <p:nvPr/>
        </p:nvSpPr>
        <p:spPr>
          <a:xfrm>
            <a:off x="4114800" y="3809880"/>
            <a:ext cx="4495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762120" y="3124080"/>
            <a:ext cx="2895480" cy="520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(-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иод функции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длина отрезка, которую занимает повторяющаяся часть г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7" name="Прямая со стрелкой 15"/>
          <p:cNvCxnSpPr/>
          <p:nvPr/>
        </p:nvCxnSpPr>
        <p:spPr>
          <a:xfrm flipV="1">
            <a:off x="2513160" y="1906200"/>
            <a:ext cx="3600" cy="365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Прямая со стрелкой 17"/>
          <p:cNvCxnSpPr/>
          <p:nvPr/>
        </p:nvCxnSpPr>
        <p:spPr>
          <a:xfrm>
            <a:off x="533160" y="4191120"/>
            <a:ext cx="388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Прямая со стрелкой 19"/>
          <p:cNvCxnSpPr/>
          <p:nvPr/>
        </p:nvCxnSpPr>
        <p:spPr>
          <a:xfrm flipV="1">
            <a:off x="6627960" y="1982160"/>
            <a:ext cx="3600" cy="38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Прямая со стрелкой 21"/>
          <p:cNvCxnSpPr/>
          <p:nvPr/>
        </p:nvCxnSpPr>
        <p:spPr>
          <a:xfrm>
            <a:off x="4800240" y="4114800"/>
            <a:ext cx="3810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Прямая соединительная линия 23"/>
          <p:cNvSpPr/>
          <p:nvPr/>
        </p:nvSpPr>
        <p:spPr>
          <a:xfrm>
            <a:off x="4564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ая соединительная линия 26"/>
          <p:cNvSpPr/>
          <p:nvPr/>
        </p:nvSpPr>
        <p:spPr>
          <a:xfrm flipV="1">
            <a:off x="11422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28"/>
          <p:cNvSpPr/>
          <p:nvPr/>
        </p:nvSpPr>
        <p:spPr>
          <a:xfrm>
            <a:off x="18280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30"/>
          <p:cNvSpPr/>
          <p:nvPr/>
        </p:nvSpPr>
        <p:spPr>
          <a:xfrm flipV="1">
            <a:off x="25138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32"/>
          <p:cNvSpPr/>
          <p:nvPr/>
        </p:nvSpPr>
        <p:spPr>
          <a:xfrm>
            <a:off x="31996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34"/>
          <p:cNvSpPr/>
          <p:nvPr/>
        </p:nvSpPr>
        <p:spPr>
          <a:xfrm flipV="1">
            <a:off x="3885480" y="2819520"/>
            <a:ext cx="60948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36"/>
          <p:cNvSpPr/>
          <p:nvPr/>
        </p:nvSpPr>
        <p:spPr>
          <a:xfrm>
            <a:off x="4724280" y="2743200"/>
            <a:ext cx="53352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38"/>
          <p:cNvSpPr/>
          <p:nvPr/>
        </p:nvSpPr>
        <p:spPr>
          <a:xfrm flipV="1">
            <a:off x="5257800" y="2743200"/>
            <a:ext cx="38088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40"/>
          <p:cNvSpPr/>
          <p:nvPr/>
        </p:nvSpPr>
        <p:spPr>
          <a:xfrm>
            <a:off x="5638680" y="2743200"/>
            <a:ext cx="144792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42"/>
          <p:cNvSpPr/>
          <p:nvPr/>
        </p:nvSpPr>
        <p:spPr>
          <a:xfrm flipV="1">
            <a:off x="7086600" y="2286000"/>
            <a:ext cx="53352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ая соединительная линия 44"/>
          <p:cNvSpPr/>
          <p:nvPr/>
        </p:nvSpPr>
        <p:spPr>
          <a:xfrm>
            <a:off x="7619400" y="2286000"/>
            <a:ext cx="53316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Блок-схема: перфолента 45"/>
          <p:cNvSpPr/>
          <p:nvPr/>
        </p:nvSpPr>
        <p:spPr>
          <a:xfrm>
            <a:off x="1523880" y="5638680"/>
            <a:ext cx="2210040" cy="91440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ункция перио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Блок-схема: перфолента 46"/>
          <p:cNvSpPr/>
          <p:nvPr/>
        </p:nvSpPr>
        <p:spPr>
          <a:xfrm>
            <a:off x="5715000" y="5638680"/>
            <a:ext cx="1981080" cy="83844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ункция неперио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Управляющая кнопка: домой 47"/>
          <p:cNvSpPr/>
          <p:nvPr/>
        </p:nvSpPr>
        <p:spPr>
          <a:xfrm>
            <a:off x="0" y="63244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26210" y="3837"/>
                </a:moveTo>
                <a:lnTo>
                  <a:pt x="28786" y="6448"/>
                </a:lnTo>
                <a:lnTo>
                  <a:pt x="28786" y="4707"/>
                </a:lnTo>
                <a:lnTo>
                  <a:pt x="30562" y="4707"/>
                </a:lnTo>
                <a:lnTo>
                  <a:pt x="30562" y="8224"/>
                </a:lnTo>
                <a:lnTo>
                  <a:pt x="33173" y="10800"/>
                </a:lnTo>
                <a:lnTo>
                  <a:pt x="31519" y="10800"/>
                </a:lnTo>
                <a:lnTo>
                  <a:pt x="31519" y="17989"/>
                </a:lnTo>
                <a:lnTo>
                  <a:pt x="20901" y="17989"/>
                </a:lnTo>
                <a:lnTo>
                  <a:pt x="20901" y="10800"/>
                </a:lnTo>
                <a:lnTo>
                  <a:pt x="19247" y="10800"/>
                </a:lnTo>
                <a:close/>
              </a:path>
              <a:path fill="darkenLess" w="52420" h="21600">
                <a:moveTo>
                  <a:pt x="28786" y="6448"/>
                </a:moveTo>
                <a:lnTo>
                  <a:pt x="28786" y="4707"/>
                </a:lnTo>
                <a:lnTo>
                  <a:pt x="30562" y="4707"/>
                </a:lnTo>
                <a:lnTo>
                  <a:pt x="30562" y="8224"/>
                </a:lnTo>
                <a:close/>
              </a:path>
              <a:path fill="darkenLess" w="52420" h="21600">
                <a:moveTo>
                  <a:pt x="25287" y="14299"/>
                </a:moveTo>
                <a:lnTo>
                  <a:pt x="27132" y="14299"/>
                </a:lnTo>
                <a:lnTo>
                  <a:pt x="27132" y="17989"/>
                </a:lnTo>
                <a:lnTo>
                  <a:pt x="31519" y="17989"/>
                </a:lnTo>
                <a:lnTo>
                  <a:pt x="31519" y="10800"/>
                </a:lnTo>
                <a:lnTo>
                  <a:pt x="20901" y="10800"/>
                </a:lnTo>
                <a:lnTo>
                  <a:pt x="20901" y="17989"/>
                </a:lnTo>
                <a:lnTo>
                  <a:pt x="2528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2"/>
          <p:cNvSpPr/>
          <p:nvPr/>
        </p:nvSpPr>
        <p:spPr>
          <a:xfrm>
            <a:off x="3733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25146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25"/>
          <p:cNvSpPr/>
          <p:nvPr/>
        </p:nvSpPr>
        <p:spPr>
          <a:xfrm>
            <a:off x="9144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27"/>
          <p:cNvSpPr/>
          <p:nvPr/>
        </p:nvSpPr>
        <p:spPr>
          <a:xfrm>
            <a:off x="2516760" y="1905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9"/>
          <p:cNvSpPr/>
          <p:nvPr/>
        </p:nvSpPr>
        <p:spPr>
          <a:xfrm>
            <a:off x="411732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31"/>
          <p:cNvSpPr/>
          <p:nvPr/>
        </p:nvSpPr>
        <p:spPr>
          <a:xfrm>
            <a:off x="6707880" y="1981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33"/>
          <p:cNvSpPr/>
          <p:nvPr/>
        </p:nvSpPr>
        <p:spPr>
          <a:xfrm>
            <a:off x="830844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5"/>
          <p:cNvSpPr/>
          <p:nvPr/>
        </p:nvSpPr>
        <p:spPr>
          <a:xfrm>
            <a:off x="5032800" y="411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7"/>
          <p:cNvSpPr/>
          <p:nvPr/>
        </p:nvSpPr>
        <p:spPr>
          <a:xfrm>
            <a:off x="6936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39"/>
          <p:cNvSpPr/>
          <p:nvPr/>
        </p:nvSpPr>
        <p:spPr>
          <a:xfrm>
            <a:off x="80038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ли функ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абсциссы точек пересечения графика функции с осью О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6" name="Прямая со стрелкой 7"/>
          <p:cNvCxnSpPr/>
          <p:nvPr/>
        </p:nvCxnSpPr>
        <p:spPr>
          <a:xfrm>
            <a:off x="609480" y="3809520"/>
            <a:ext cx="3658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7" name="Управляющая кнопка: домой 21"/>
          <p:cNvSpPr/>
          <p:nvPr/>
        </p:nvSpPr>
        <p:spPr>
          <a:xfrm>
            <a:off x="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9298" y="3837"/>
                </a:moveTo>
                <a:lnTo>
                  <a:pt x="31874" y="6448"/>
                </a:ln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lnTo>
                  <a:pt x="36261" y="10800"/>
                </a:lnTo>
                <a:lnTo>
                  <a:pt x="34607" y="10800"/>
                </a:lnTo>
                <a:lnTo>
                  <a:pt x="34607" y="17989"/>
                </a:lnTo>
                <a:lnTo>
                  <a:pt x="23988" y="17989"/>
                </a:lnTo>
                <a:lnTo>
                  <a:pt x="23988" y="10800"/>
                </a:lnTo>
                <a:lnTo>
                  <a:pt x="22335" y="10800"/>
                </a:lnTo>
                <a:close/>
              </a:path>
              <a:path fill="darkenLess" w="58595" h="21600">
                <a:moveTo>
                  <a:pt x="31874" y="6448"/>
                </a:move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close/>
              </a:path>
              <a:path fill="darkenLess" w="58595" h="21600">
                <a:moveTo>
                  <a:pt x="28375" y="14299"/>
                </a:moveTo>
                <a:lnTo>
                  <a:pt x="30220" y="14299"/>
                </a:lnTo>
                <a:lnTo>
                  <a:pt x="30220" y="17989"/>
                </a:lnTo>
                <a:lnTo>
                  <a:pt x="34607" y="17989"/>
                </a:lnTo>
                <a:lnTo>
                  <a:pt x="34607" y="10800"/>
                </a:lnTo>
                <a:lnTo>
                  <a:pt x="23988" y="10800"/>
                </a:lnTo>
                <a:lnTo>
                  <a:pt x="23988" y="17989"/>
                </a:lnTo>
                <a:lnTo>
                  <a:pt x="2837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Прямая со стрелкой 29"/>
          <p:cNvCxnSpPr/>
          <p:nvPr/>
        </p:nvCxnSpPr>
        <p:spPr>
          <a:xfrm>
            <a:off x="4647960" y="3809520"/>
            <a:ext cx="3886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9" name="Полилиния 30"/>
          <p:cNvSpPr/>
          <p:nvPr/>
        </p:nvSpPr>
        <p:spPr>
          <a:xfrm>
            <a:off x="750960" y="2666880"/>
            <a:ext cx="620640" cy="16765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Shape 32"/>
          <p:cNvCxnSpPr>
            <a:stCxn id="739" idx="3"/>
          </p:cNvCxnSpPr>
          <p:nvPr/>
        </p:nvCxnSpPr>
        <p:spPr>
          <a:xfrm>
            <a:off x="1371240" y="2666880"/>
            <a:ext cx="686520" cy="1524960"/>
          </a:xfrm>
          <a:prstGeom prst="bentConnector2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41" name="Полилиния 33"/>
          <p:cNvSpPr/>
          <p:nvPr/>
        </p:nvSpPr>
        <p:spPr>
          <a:xfrm>
            <a:off x="2057400" y="2976480"/>
            <a:ext cx="1730520" cy="12366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олилиния 34"/>
          <p:cNvSpPr/>
          <p:nvPr/>
        </p:nvSpPr>
        <p:spPr>
          <a:xfrm>
            <a:off x="4876920" y="1687680"/>
            <a:ext cx="3538440" cy="1665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Прямая со стрелкой 37"/>
          <p:cNvCxnSpPr/>
          <p:nvPr/>
        </p:nvCxnSpPr>
        <p:spPr>
          <a:xfrm flipV="1">
            <a:off x="2514600" y="1906200"/>
            <a:ext cx="2160" cy="312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4" name="Прямая со стрелкой 39"/>
          <p:cNvCxnSpPr/>
          <p:nvPr/>
        </p:nvCxnSpPr>
        <p:spPr>
          <a:xfrm flipV="1">
            <a:off x="6627960" y="1829880"/>
            <a:ext cx="3600" cy="3201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5" name="Выноска со стрелкой вверх 40"/>
          <p:cNvSpPr/>
          <p:nvPr/>
        </p:nvSpPr>
        <p:spPr>
          <a:xfrm>
            <a:off x="1600200" y="5105520"/>
            <a:ext cx="1828800" cy="9144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ли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=а, х=в, х=с, х=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Выноска со стрелкой вверх 41"/>
          <p:cNvSpPr/>
          <p:nvPr/>
        </p:nvSpPr>
        <p:spPr>
          <a:xfrm>
            <a:off x="5715000" y="5105520"/>
            <a:ext cx="1905120" cy="914400"/>
          </a:xfrm>
          <a:prstGeom prst="upArrowCallout">
            <a:avLst>
              <a:gd name="adj1" fmla="val 25004"/>
              <a:gd name="adj2" fmla="val 25002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лей функ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42"/>
          <p:cNvSpPr/>
          <p:nvPr/>
        </p:nvSpPr>
        <p:spPr>
          <a:xfrm>
            <a:off x="916560" y="37339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3"/>
          <p:cNvSpPr/>
          <p:nvPr/>
        </p:nvSpPr>
        <p:spPr>
          <a:xfrm>
            <a:off x="17524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4"/>
          <p:cNvSpPr/>
          <p:nvPr/>
        </p:nvSpPr>
        <p:spPr>
          <a:xfrm>
            <a:off x="2136600" y="37339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5"/>
          <p:cNvSpPr/>
          <p:nvPr/>
        </p:nvSpPr>
        <p:spPr>
          <a:xfrm>
            <a:off x="3352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9"/>
          <p:cNvSpPr/>
          <p:nvPr/>
        </p:nvSpPr>
        <p:spPr>
          <a:xfrm>
            <a:off x="2516760" y="1828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0"/>
          <p:cNvSpPr/>
          <p:nvPr/>
        </p:nvSpPr>
        <p:spPr>
          <a:xfrm>
            <a:off x="40410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2"/>
          <p:cNvSpPr/>
          <p:nvPr/>
        </p:nvSpPr>
        <p:spPr>
          <a:xfrm>
            <a:off x="6631560" y="175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3"/>
          <p:cNvSpPr/>
          <p:nvPr/>
        </p:nvSpPr>
        <p:spPr>
          <a:xfrm>
            <a:off x="830844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оложительн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ри тех значениях х, где график функции выше оси ОХ и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отрицательн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ам, где график функции ниже оси О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647960" y="2666880"/>
            <a:ext cx="4267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&gt;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хє(а;в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;+∞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7" name="Прямая со стрелкой 8"/>
          <p:cNvCxnSpPr/>
          <p:nvPr/>
        </p:nvCxnSpPr>
        <p:spPr>
          <a:xfrm flipH="1" flipV="1">
            <a:off x="2474280" y="1600920"/>
            <a:ext cx="3960" cy="4527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8" name="Прямая со стрелкой 10"/>
          <p:cNvCxnSpPr/>
          <p:nvPr/>
        </p:nvCxnSpPr>
        <p:spPr>
          <a:xfrm>
            <a:off x="609480" y="4114800"/>
            <a:ext cx="37346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9" name="TextBox 12"/>
          <p:cNvSpPr/>
          <p:nvPr/>
        </p:nvSpPr>
        <p:spPr>
          <a:xfrm>
            <a:off x="4117320" y="4114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4"/>
          <p:cNvSpPr/>
          <p:nvPr/>
        </p:nvSpPr>
        <p:spPr>
          <a:xfrm>
            <a:off x="1069200" y="40384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5"/>
          <p:cNvSpPr/>
          <p:nvPr/>
        </p:nvSpPr>
        <p:spPr>
          <a:xfrm>
            <a:off x="1983600" y="40496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6"/>
          <p:cNvSpPr/>
          <p:nvPr/>
        </p:nvSpPr>
        <p:spPr>
          <a:xfrm>
            <a:off x="3355560" y="40384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олилиния 17"/>
          <p:cNvSpPr/>
          <p:nvPr/>
        </p:nvSpPr>
        <p:spPr>
          <a:xfrm>
            <a:off x="785880" y="4110120"/>
            <a:ext cx="376200" cy="117144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олилиния 18"/>
          <p:cNvSpPr/>
          <p:nvPr/>
        </p:nvSpPr>
        <p:spPr>
          <a:xfrm>
            <a:off x="1150920" y="2514600"/>
            <a:ext cx="968400" cy="16257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олилиния 19"/>
          <p:cNvSpPr/>
          <p:nvPr/>
        </p:nvSpPr>
        <p:spPr>
          <a:xfrm>
            <a:off x="2119320" y="4110120"/>
            <a:ext cx="1236600" cy="183204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олилиния 20"/>
          <p:cNvSpPr/>
          <p:nvPr/>
        </p:nvSpPr>
        <p:spPr>
          <a:xfrm>
            <a:off x="3355920" y="2013120"/>
            <a:ext cx="743040" cy="21063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олилиния 21"/>
          <p:cNvSpPr/>
          <p:nvPr/>
        </p:nvSpPr>
        <p:spPr>
          <a:xfrm>
            <a:off x="1152360" y="2514600"/>
            <a:ext cx="968400" cy="162576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олилиния 22"/>
          <p:cNvSpPr/>
          <p:nvPr/>
        </p:nvSpPr>
        <p:spPr>
          <a:xfrm>
            <a:off x="3362400" y="2008080"/>
            <a:ext cx="741240" cy="21067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олилиния 23"/>
          <p:cNvSpPr/>
          <p:nvPr/>
        </p:nvSpPr>
        <p:spPr>
          <a:xfrm>
            <a:off x="773280" y="4114800"/>
            <a:ext cx="376200" cy="11732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29"/>
          <p:cNvSpPr/>
          <p:nvPr/>
        </p:nvSpPr>
        <p:spPr>
          <a:xfrm>
            <a:off x="4648320" y="4952880"/>
            <a:ext cx="4267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&lt;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х є (в;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олилиния 30"/>
          <p:cNvSpPr/>
          <p:nvPr/>
        </p:nvSpPr>
        <p:spPr>
          <a:xfrm>
            <a:off x="2127240" y="4114800"/>
            <a:ext cx="1236600" cy="18320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Управляющая кнопка: домой 34"/>
          <p:cNvSpPr/>
          <p:nvPr/>
        </p:nvSpPr>
        <p:spPr>
          <a:xfrm>
            <a:off x="228600" y="6019920"/>
            <a:ext cx="1828800" cy="585720"/>
          </a:xfrm>
          <a:custGeom>
            <a:avLst/>
            <a:gdLst>
              <a:gd name="textAreaLeft" fmla="*/ 37800 w 1828800"/>
              <a:gd name="textAreaRight" fmla="*/ 1791000 w 1828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67414" h="21600">
                <a:moveTo>
                  <a:pt x="0" y="0"/>
                </a:moveTo>
                <a:lnTo>
                  <a:pt x="67414" y="0"/>
                </a:lnTo>
                <a:lnTo>
                  <a:pt x="67414" y="21600"/>
                </a:lnTo>
                <a:lnTo>
                  <a:pt x="0" y="21600"/>
                </a:lnTo>
                <a:close/>
              </a:path>
              <a:path fill="lightenLess" w="67414" h="21600">
                <a:moveTo>
                  <a:pt x="0" y="0"/>
                </a:moveTo>
                <a:lnTo>
                  <a:pt x="67414" y="0"/>
                </a:lnTo>
                <a:lnTo>
                  <a:pt x="66014" y="1400"/>
                </a:lnTo>
                <a:lnTo>
                  <a:pt x="1400" y="1400"/>
                </a:lnTo>
                <a:close/>
              </a:path>
              <a:path fill="darken" w="67414" h="21600">
                <a:moveTo>
                  <a:pt x="67414" y="0"/>
                </a:moveTo>
                <a:lnTo>
                  <a:pt x="67414" y="21600"/>
                </a:lnTo>
                <a:lnTo>
                  <a:pt x="66014" y="20200"/>
                </a:lnTo>
                <a:lnTo>
                  <a:pt x="66014" y="1400"/>
                </a:lnTo>
                <a:close/>
              </a:path>
              <a:path fill="darkenLess" w="67414" h="21600">
                <a:moveTo>
                  <a:pt x="67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14" y="20200"/>
                </a:lnTo>
                <a:close/>
              </a:path>
              <a:path fill="lighten" w="67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14" h="21600">
                <a:moveTo>
                  <a:pt x="33707" y="3837"/>
                </a:moveTo>
                <a:lnTo>
                  <a:pt x="36283" y="6448"/>
                </a:lnTo>
                <a:lnTo>
                  <a:pt x="36283" y="4707"/>
                </a:lnTo>
                <a:lnTo>
                  <a:pt x="38059" y="4707"/>
                </a:lnTo>
                <a:lnTo>
                  <a:pt x="38059" y="8224"/>
                </a:lnTo>
                <a:lnTo>
                  <a:pt x="40670" y="10800"/>
                </a:lnTo>
                <a:lnTo>
                  <a:pt x="39016" y="10800"/>
                </a:lnTo>
                <a:lnTo>
                  <a:pt x="39016" y="17989"/>
                </a:lnTo>
                <a:lnTo>
                  <a:pt x="28398" y="17989"/>
                </a:lnTo>
                <a:lnTo>
                  <a:pt x="28398" y="10800"/>
                </a:lnTo>
                <a:lnTo>
                  <a:pt x="26744" y="10800"/>
                </a:lnTo>
                <a:close/>
              </a:path>
              <a:path fill="darkenLess" w="67414" h="21600">
                <a:moveTo>
                  <a:pt x="36283" y="6448"/>
                </a:moveTo>
                <a:lnTo>
                  <a:pt x="36283" y="4707"/>
                </a:lnTo>
                <a:lnTo>
                  <a:pt x="38059" y="4707"/>
                </a:lnTo>
                <a:lnTo>
                  <a:pt x="38059" y="8224"/>
                </a:lnTo>
                <a:close/>
              </a:path>
              <a:path fill="darkenLess" w="67414" h="21600">
                <a:moveTo>
                  <a:pt x="32784" y="14299"/>
                </a:moveTo>
                <a:lnTo>
                  <a:pt x="34629" y="14299"/>
                </a:lnTo>
                <a:lnTo>
                  <a:pt x="34629" y="17989"/>
                </a:lnTo>
                <a:lnTo>
                  <a:pt x="39016" y="17989"/>
                </a:lnTo>
                <a:lnTo>
                  <a:pt x="39016" y="10800"/>
                </a:lnTo>
                <a:lnTo>
                  <a:pt x="28398" y="10800"/>
                </a:lnTo>
                <a:lnTo>
                  <a:pt x="28398" y="17989"/>
                </a:lnTo>
                <a:lnTo>
                  <a:pt x="3278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4"/>
          <p:cNvSpPr/>
          <p:nvPr/>
        </p:nvSpPr>
        <p:spPr>
          <a:xfrm>
            <a:off x="2440800" y="1600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следование функции на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монотонност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нахождение промежутков возрастания и убывания функ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648320" y="16002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6"/>
          <p:cNvSpPr/>
          <p:nvPr/>
        </p:nvSpPr>
        <p:spPr>
          <a:xfrm>
            <a:off x="4876920" y="4267080"/>
            <a:ext cx="403848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быва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ли  при увеличении значений аргумента х , график функции плавно опускаетс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8"/>
          <p:cNvCxnSpPr/>
          <p:nvPr/>
        </p:nvCxnSpPr>
        <p:spPr>
          <a:xfrm flipV="1">
            <a:off x="2513160" y="1753560"/>
            <a:ext cx="3600" cy="419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8" name="Прямая со стрелкой 10"/>
          <p:cNvCxnSpPr/>
          <p:nvPr/>
        </p:nvCxnSpPr>
        <p:spPr>
          <a:xfrm>
            <a:off x="609480" y="4038120"/>
            <a:ext cx="38109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9" name="Управляющая кнопка: домой 11"/>
          <p:cNvSpPr/>
          <p:nvPr/>
        </p:nvSpPr>
        <p:spPr>
          <a:xfrm>
            <a:off x="228600" y="6272280"/>
            <a:ext cx="1600200" cy="585720"/>
          </a:xfrm>
          <a:custGeom>
            <a:avLst/>
            <a:gdLst>
              <a:gd name="textAreaLeft" fmla="*/ 37800 w 1600200"/>
              <a:gd name="textAreaRight" fmla="*/ 1562400 w 16002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58989" h="21600">
                <a:moveTo>
                  <a:pt x="0" y="0"/>
                </a:moveTo>
                <a:lnTo>
                  <a:pt x="58989" y="0"/>
                </a:lnTo>
                <a:lnTo>
                  <a:pt x="58989" y="21600"/>
                </a:lnTo>
                <a:lnTo>
                  <a:pt x="0" y="21600"/>
                </a:lnTo>
                <a:close/>
              </a:path>
              <a:path fill="lightenLess" w="58989" h="21600">
                <a:moveTo>
                  <a:pt x="0" y="0"/>
                </a:moveTo>
                <a:lnTo>
                  <a:pt x="58989" y="0"/>
                </a:lnTo>
                <a:lnTo>
                  <a:pt x="57589" y="1400"/>
                </a:lnTo>
                <a:lnTo>
                  <a:pt x="1400" y="1400"/>
                </a:lnTo>
                <a:close/>
              </a:path>
              <a:path fill="darken" w="58989" h="21600">
                <a:moveTo>
                  <a:pt x="58989" y="0"/>
                </a:moveTo>
                <a:lnTo>
                  <a:pt x="58989" y="21600"/>
                </a:lnTo>
                <a:lnTo>
                  <a:pt x="57589" y="20200"/>
                </a:lnTo>
                <a:lnTo>
                  <a:pt x="57589" y="1400"/>
                </a:lnTo>
                <a:close/>
              </a:path>
              <a:path fill="darkenLess" w="58989" h="21600">
                <a:moveTo>
                  <a:pt x="5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589" y="20200"/>
                </a:lnTo>
                <a:close/>
              </a:path>
              <a:path fill="lighten" w="5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989" h="21600">
                <a:moveTo>
                  <a:pt x="29494" y="3837"/>
                </a:moveTo>
                <a:lnTo>
                  <a:pt x="32071" y="6448"/>
                </a:lnTo>
                <a:lnTo>
                  <a:pt x="32071" y="4707"/>
                </a:lnTo>
                <a:lnTo>
                  <a:pt x="33846" y="4707"/>
                </a:lnTo>
                <a:lnTo>
                  <a:pt x="33846" y="8224"/>
                </a:lnTo>
                <a:lnTo>
                  <a:pt x="36457" y="10800"/>
                </a:lnTo>
                <a:lnTo>
                  <a:pt x="34804" y="10800"/>
                </a:lnTo>
                <a:lnTo>
                  <a:pt x="34804" y="17989"/>
                </a:lnTo>
                <a:lnTo>
                  <a:pt x="24185" y="17989"/>
                </a:lnTo>
                <a:lnTo>
                  <a:pt x="24185" y="10800"/>
                </a:lnTo>
                <a:lnTo>
                  <a:pt x="22531" y="10800"/>
                </a:lnTo>
                <a:close/>
              </a:path>
              <a:path fill="darkenLess" w="58989" h="21600">
                <a:moveTo>
                  <a:pt x="32071" y="6448"/>
                </a:moveTo>
                <a:lnTo>
                  <a:pt x="32071" y="4707"/>
                </a:lnTo>
                <a:lnTo>
                  <a:pt x="33846" y="4707"/>
                </a:lnTo>
                <a:lnTo>
                  <a:pt x="33846" y="8224"/>
                </a:lnTo>
                <a:close/>
              </a:path>
              <a:path fill="darkenLess" w="58989" h="21600">
                <a:moveTo>
                  <a:pt x="28572" y="14299"/>
                </a:moveTo>
                <a:lnTo>
                  <a:pt x="30417" y="14299"/>
                </a:lnTo>
                <a:lnTo>
                  <a:pt x="30417" y="17989"/>
                </a:lnTo>
                <a:lnTo>
                  <a:pt x="34804" y="17989"/>
                </a:lnTo>
                <a:lnTo>
                  <a:pt x="34804" y="10800"/>
                </a:lnTo>
                <a:lnTo>
                  <a:pt x="24185" y="10800"/>
                </a:lnTo>
                <a:lnTo>
                  <a:pt x="24185" y="17989"/>
                </a:lnTo>
                <a:lnTo>
                  <a:pt x="2857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4876920" y="1676520"/>
            <a:ext cx="403848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озраста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ли  при увеличении значений аргумента х , график функции плавно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19"/>
          <p:cNvSpPr/>
          <p:nvPr/>
        </p:nvSpPr>
        <p:spPr>
          <a:xfrm>
            <a:off x="741240" y="1746360"/>
            <a:ext cx="1306800" cy="3375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21"/>
          <p:cNvSpPr/>
          <p:nvPr/>
        </p:nvSpPr>
        <p:spPr>
          <a:xfrm>
            <a:off x="2038320" y="1746360"/>
            <a:ext cx="1006560" cy="3301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олилиния 23"/>
          <p:cNvSpPr/>
          <p:nvPr/>
        </p:nvSpPr>
        <p:spPr>
          <a:xfrm>
            <a:off x="3044880" y="3895560"/>
            <a:ext cx="850680" cy="11336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ая соединительная линия 27"/>
          <p:cNvSpPr/>
          <p:nvPr/>
        </p:nvSpPr>
        <p:spPr>
          <a:xfrm>
            <a:off x="2048040" y="1746360"/>
            <a:ext cx="9360" cy="229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ая соединительная линия 29"/>
          <p:cNvSpPr/>
          <p:nvPr/>
        </p:nvSpPr>
        <p:spPr>
          <a:xfrm flipV="1">
            <a:off x="3044880" y="4038480"/>
            <a:ext cx="3240" cy="1000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0"/>
          <p:cNvSpPr/>
          <p:nvPr/>
        </p:nvSpPr>
        <p:spPr>
          <a:xfrm>
            <a:off x="190764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31"/>
          <p:cNvSpPr/>
          <p:nvPr/>
        </p:nvSpPr>
        <p:spPr>
          <a:xfrm>
            <a:off x="2898000" y="37339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2"/>
          <p:cNvSpPr/>
          <p:nvPr/>
        </p:nvSpPr>
        <p:spPr>
          <a:xfrm>
            <a:off x="419364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3"/>
          <p:cNvSpPr/>
          <p:nvPr/>
        </p:nvSpPr>
        <p:spPr>
          <a:xfrm>
            <a:off x="2516760" y="175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34"/>
          <p:cNvSpPr/>
          <p:nvPr/>
        </p:nvSpPr>
        <p:spPr>
          <a:xfrm>
            <a:off x="3886200" y="38671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5"/>
          <p:cNvSpPr/>
          <p:nvPr/>
        </p:nvSpPr>
        <p:spPr>
          <a:xfrm>
            <a:off x="373608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ая соединительная линия 37"/>
          <p:cNvSpPr/>
          <p:nvPr/>
        </p:nvSpPr>
        <p:spPr>
          <a:xfrm flipV="1">
            <a:off x="3884760" y="396252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Выноска со стрелкой вверх 39"/>
          <p:cNvSpPr/>
          <p:nvPr/>
        </p:nvSpPr>
        <p:spPr>
          <a:xfrm>
            <a:off x="5105520" y="3276720"/>
            <a:ext cx="3429000" cy="761760"/>
          </a:xfrm>
          <a:prstGeom prst="upArrowCallout">
            <a:avLst>
              <a:gd name="adj1" fmla="val 25010"/>
              <a:gd name="adj2" fmla="val 25008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зрастает н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-∞;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;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Выноска со стрелкой вверх 40"/>
          <p:cNvSpPr/>
          <p:nvPr/>
        </p:nvSpPr>
        <p:spPr>
          <a:xfrm>
            <a:off x="5181480" y="5867280"/>
            <a:ext cx="3505320" cy="762120"/>
          </a:xfrm>
          <a:prstGeom prst="upArrowCallout">
            <a:avLst>
              <a:gd name="adj1" fmla="val 25001"/>
              <a:gd name="adj2" fmla="val 24999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бывает на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;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олилиния 41"/>
          <p:cNvSpPr/>
          <p:nvPr/>
        </p:nvSpPr>
        <p:spPr>
          <a:xfrm>
            <a:off x="739800" y="1752480"/>
            <a:ext cx="1308240" cy="337356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олилиния 42"/>
          <p:cNvSpPr/>
          <p:nvPr/>
        </p:nvSpPr>
        <p:spPr>
          <a:xfrm>
            <a:off x="3048120" y="3886200"/>
            <a:ext cx="850680" cy="11336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олилиния 43"/>
          <p:cNvSpPr/>
          <p:nvPr/>
        </p:nvSpPr>
        <p:spPr>
          <a:xfrm>
            <a:off x="2046240" y="1752480"/>
            <a:ext cx="1006560" cy="33004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2133720"/>
          </a:xfrm>
          <a:prstGeom prst="rect">
            <a:avLst/>
          </a:prstGeom>
          <a:solidFill>
            <a:srgbClr val="f2dcdb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Calibri"/>
              </a:rPr>
              <a:t>Точки экстремум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«заметные» точки графика функции. В окрестности 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точки максимума (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фик имеет вид гладкого «холма» или заострённого «пика», в окрестности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точки минимума(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ик изображается в виде гладкой или заострённой «впадины». Значения функции в этих точках называют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аксимумами и минимумами функции (          и 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бщее название - </a:t>
            </a:r>
            <a:r>
              <a:rPr b="0" lang="ru-RU" sz="2200" spc="-1" strike="noStrike">
                <a:solidFill>
                  <a:srgbClr val="00b050"/>
                </a:solidFill>
                <a:latin typeface="Calibri"/>
              </a:rPr>
              <a:t>экстремумы функ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0880" y="2514600"/>
            <a:ext cx="42674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800240" y="2590920"/>
            <a:ext cx="3886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Управляющая кнопка: домой 4"/>
          <p:cNvSpPr/>
          <p:nvPr/>
        </p:nvSpPr>
        <p:spPr>
          <a:xfrm>
            <a:off x="152280" y="6095880"/>
            <a:ext cx="1219320" cy="586080"/>
          </a:xfrm>
          <a:custGeom>
            <a:avLst/>
            <a:gdLst>
              <a:gd name="textAreaLeft" fmla="*/ 37800 w 1219320"/>
              <a:gd name="textAreaRight" fmla="*/ 1181520 w 12193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44924" h="21600">
                <a:moveTo>
                  <a:pt x="0" y="0"/>
                </a:moveTo>
                <a:lnTo>
                  <a:pt x="44924" y="0"/>
                </a:lnTo>
                <a:lnTo>
                  <a:pt x="44924" y="21600"/>
                </a:lnTo>
                <a:lnTo>
                  <a:pt x="0" y="21600"/>
                </a:lnTo>
                <a:close/>
              </a:path>
              <a:path fill="lightenLess" w="44924" h="21600">
                <a:moveTo>
                  <a:pt x="0" y="0"/>
                </a:moveTo>
                <a:lnTo>
                  <a:pt x="44924" y="0"/>
                </a:lnTo>
                <a:lnTo>
                  <a:pt x="43524" y="1400"/>
                </a:lnTo>
                <a:lnTo>
                  <a:pt x="1400" y="1400"/>
                </a:lnTo>
                <a:close/>
              </a:path>
              <a:path fill="darken" w="44924" h="21600">
                <a:moveTo>
                  <a:pt x="44924" y="0"/>
                </a:moveTo>
                <a:lnTo>
                  <a:pt x="44924" y="21600"/>
                </a:lnTo>
                <a:lnTo>
                  <a:pt x="43524" y="20200"/>
                </a:lnTo>
                <a:lnTo>
                  <a:pt x="43524" y="1400"/>
                </a:lnTo>
                <a:close/>
              </a:path>
              <a:path fill="darkenLess" w="44924" h="21600">
                <a:moveTo>
                  <a:pt x="44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24" y="20200"/>
                </a:lnTo>
                <a:close/>
              </a:path>
              <a:path fill="lighten" w="44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24" h="21600">
                <a:moveTo>
                  <a:pt x="22462" y="3837"/>
                </a:moveTo>
                <a:lnTo>
                  <a:pt x="25038" y="6448"/>
                </a:lnTo>
                <a:lnTo>
                  <a:pt x="25038" y="4707"/>
                </a:lnTo>
                <a:lnTo>
                  <a:pt x="26814" y="4707"/>
                </a:lnTo>
                <a:lnTo>
                  <a:pt x="26814" y="8224"/>
                </a:lnTo>
                <a:lnTo>
                  <a:pt x="29425" y="10800"/>
                </a:lnTo>
                <a:lnTo>
                  <a:pt x="27771" y="10800"/>
                </a:lnTo>
                <a:lnTo>
                  <a:pt x="27771" y="17989"/>
                </a:lnTo>
                <a:lnTo>
                  <a:pt x="17153" y="17989"/>
                </a:lnTo>
                <a:lnTo>
                  <a:pt x="17153" y="10800"/>
                </a:lnTo>
                <a:lnTo>
                  <a:pt x="15499" y="10800"/>
                </a:lnTo>
                <a:close/>
              </a:path>
              <a:path fill="darkenLess" w="44924" h="21600">
                <a:moveTo>
                  <a:pt x="25038" y="6448"/>
                </a:moveTo>
                <a:lnTo>
                  <a:pt x="25038" y="4707"/>
                </a:lnTo>
                <a:lnTo>
                  <a:pt x="26814" y="4707"/>
                </a:lnTo>
                <a:lnTo>
                  <a:pt x="26814" y="8224"/>
                </a:lnTo>
                <a:close/>
              </a:path>
              <a:path fill="darkenLess" w="44924" h="21600">
                <a:moveTo>
                  <a:pt x="21539" y="14299"/>
                </a:moveTo>
                <a:lnTo>
                  <a:pt x="23384" y="14299"/>
                </a:lnTo>
                <a:lnTo>
                  <a:pt x="23384" y="17989"/>
                </a:lnTo>
                <a:lnTo>
                  <a:pt x="27771" y="17989"/>
                </a:lnTo>
                <a:lnTo>
                  <a:pt x="27771" y="10800"/>
                </a:lnTo>
                <a:lnTo>
                  <a:pt x="17153" y="10800"/>
                </a:lnTo>
                <a:lnTo>
                  <a:pt x="17153" y="17989"/>
                </a:lnTo>
                <a:lnTo>
                  <a:pt x="2153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6" descr=""/>
          <p:cNvPicPr/>
          <p:nvPr/>
        </p:nvPicPr>
        <p:blipFill>
          <a:blip r:embed="rId1"/>
          <a:stretch/>
        </p:blipFill>
        <p:spPr>
          <a:xfrm>
            <a:off x="3048120" y="5335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8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10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11" descr=""/>
          <p:cNvPicPr/>
          <p:nvPr/>
        </p:nvPicPr>
        <p:blipFill>
          <a:blip r:embed="rId3"/>
          <a:stretch/>
        </p:blipFill>
        <p:spPr>
          <a:xfrm>
            <a:off x="2057400" y="1905120"/>
            <a:ext cx="457200" cy="30456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13" descr=""/>
          <p:cNvPicPr/>
          <p:nvPr/>
        </p:nvPicPr>
        <p:blipFill>
          <a:blip r:embed="rId4"/>
          <a:stretch/>
        </p:blipFill>
        <p:spPr>
          <a:xfrm>
            <a:off x="2895480" y="1905120"/>
            <a:ext cx="457200" cy="3045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Прямая со стрелкой 17"/>
          <p:cNvCxnSpPr>
            <a:stCxn id="799" idx="2"/>
            <a:endCxn id="799" idx="2"/>
          </p:cNvCxnSpPr>
          <p:nvPr/>
        </p:nvCxnSpPr>
        <p:spPr>
          <a:xfrm flipH="1">
            <a:off x="2514240" y="6125760"/>
            <a:ext cx="2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3" name="Прямая со стрелкой 22"/>
          <p:cNvCxnSpPr>
            <a:stCxn id="799" idx="2"/>
            <a:endCxn id="799" idx="0"/>
          </p:cNvCxnSpPr>
          <p:nvPr/>
        </p:nvCxnSpPr>
        <p:spPr>
          <a:xfrm flipH="1" flipV="1">
            <a:off x="2512800" y="2515320"/>
            <a:ext cx="3600" cy="361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4" name="Прямая со стрелкой 24"/>
          <p:cNvCxnSpPr/>
          <p:nvPr/>
        </p:nvCxnSpPr>
        <p:spPr>
          <a:xfrm>
            <a:off x="533520" y="4114800"/>
            <a:ext cx="3962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5" name="Полилиния 26"/>
          <p:cNvSpPr/>
          <p:nvPr/>
        </p:nvSpPr>
        <p:spPr>
          <a:xfrm>
            <a:off x="849240" y="3087720"/>
            <a:ext cx="2389320" cy="2367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28"/>
          <p:cNvSpPr/>
          <p:nvPr/>
        </p:nvSpPr>
        <p:spPr>
          <a:xfrm>
            <a:off x="3233880" y="310212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0"/>
          <p:cNvSpPr/>
          <p:nvPr/>
        </p:nvSpPr>
        <p:spPr>
          <a:xfrm>
            <a:off x="1938240" y="5149800"/>
            <a:ext cx="76320" cy="763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2"/>
          <p:cNvSpPr/>
          <p:nvPr/>
        </p:nvSpPr>
        <p:spPr>
          <a:xfrm>
            <a:off x="1417680" y="3214800"/>
            <a:ext cx="84240" cy="619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3"/>
          <p:cNvSpPr/>
          <p:nvPr/>
        </p:nvSpPr>
        <p:spPr>
          <a:xfrm>
            <a:off x="3225960" y="3084480"/>
            <a:ext cx="75960" cy="763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4"/>
          <p:cNvSpPr/>
          <p:nvPr/>
        </p:nvSpPr>
        <p:spPr>
          <a:xfrm>
            <a:off x="129816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5"/>
          <p:cNvSpPr/>
          <p:nvPr/>
        </p:nvSpPr>
        <p:spPr>
          <a:xfrm>
            <a:off x="1755000" y="40384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6"/>
          <p:cNvSpPr/>
          <p:nvPr/>
        </p:nvSpPr>
        <p:spPr>
          <a:xfrm>
            <a:off x="327888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7"/>
          <p:cNvSpPr/>
          <p:nvPr/>
        </p:nvSpPr>
        <p:spPr>
          <a:xfrm>
            <a:off x="426960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38"/>
          <p:cNvSpPr/>
          <p:nvPr/>
        </p:nvSpPr>
        <p:spPr>
          <a:xfrm>
            <a:off x="2516760" y="243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9"/>
          <p:cNvSpPr/>
          <p:nvPr/>
        </p:nvSpPr>
        <p:spPr>
          <a:xfrm>
            <a:off x="221256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0"/>
          <p:cNvSpPr/>
          <p:nvPr/>
        </p:nvSpPr>
        <p:spPr>
          <a:xfrm>
            <a:off x="251748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1"/>
          <p:cNvSpPr/>
          <p:nvPr/>
        </p:nvSpPr>
        <p:spPr>
          <a:xfrm>
            <a:off x="25167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45" descr=""/>
          <p:cNvPicPr/>
          <p:nvPr/>
        </p:nvPicPr>
        <p:blipFill>
          <a:blip r:embed="rId5"/>
          <a:stretch/>
        </p:blipFill>
        <p:spPr>
          <a:xfrm>
            <a:off x="6629400" y="3048120"/>
            <a:ext cx="914400" cy="3427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47" descr=""/>
          <p:cNvPicPr/>
          <p:nvPr/>
        </p:nvPicPr>
        <p:blipFill>
          <a:blip r:embed="rId6"/>
          <a:stretch/>
        </p:blipFill>
        <p:spPr>
          <a:xfrm>
            <a:off x="6629400" y="4648320"/>
            <a:ext cx="914400" cy="38088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49" descr=""/>
          <p:cNvPicPr/>
          <p:nvPr/>
        </p:nvPicPr>
        <p:blipFill>
          <a:blip r:embed="rId7"/>
          <a:stretch/>
        </p:blipFill>
        <p:spPr>
          <a:xfrm>
            <a:off x="5257800" y="3809880"/>
            <a:ext cx="838080" cy="4194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5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52" descr=""/>
          <p:cNvPicPr/>
          <p:nvPr/>
        </p:nvPicPr>
        <p:blipFill>
          <a:blip r:embed="rId8"/>
          <a:stretch/>
        </p:blipFill>
        <p:spPr>
          <a:xfrm>
            <a:off x="5257800" y="3048120"/>
            <a:ext cx="838080" cy="3427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54" descr=""/>
          <p:cNvPicPr/>
          <p:nvPr/>
        </p:nvPicPr>
        <p:blipFill>
          <a:blip r:embed="rId9"/>
          <a:stretch/>
        </p:blipFill>
        <p:spPr>
          <a:xfrm>
            <a:off x="5257800" y="4648320"/>
            <a:ext cx="838080" cy="41904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5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7" descr=""/>
          <p:cNvPicPr/>
          <p:nvPr/>
        </p:nvPicPr>
        <p:blipFill>
          <a:blip r:embed="rId10"/>
          <a:stretch/>
        </p:blipFill>
        <p:spPr>
          <a:xfrm>
            <a:off x="6629400" y="3809880"/>
            <a:ext cx="914400" cy="419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500"/>
                            </p:stCondLst>
                            <p:childTnLst>
                              <p:par>
                                <p:cTn id="370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ласть значений функц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ит из значений переменной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точек учавствующих в построении графика функции. Обозначается Е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486400" y="3352680"/>
            <a:ext cx="2743200" cy="6098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(-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Управляющая кнопка: домой 4"/>
          <p:cNvSpPr/>
          <p:nvPr/>
        </p:nvSpPr>
        <p:spPr>
          <a:xfrm>
            <a:off x="739152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24297" y="3837"/>
                </a:moveTo>
                <a:lnTo>
                  <a:pt x="26873" y="6448"/>
                </a:lnTo>
                <a:lnTo>
                  <a:pt x="26873" y="4707"/>
                </a:lnTo>
                <a:lnTo>
                  <a:pt x="28649" y="4707"/>
                </a:lnTo>
                <a:lnTo>
                  <a:pt x="28649" y="8224"/>
                </a:lnTo>
                <a:lnTo>
                  <a:pt x="31260" y="10800"/>
                </a:lnTo>
                <a:lnTo>
                  <a:pt x="29606" y="10800"/>
                </a:lnTo>
                <a:lnTo>
                  <a:pt x="29606" y="17989"/>
                </a:lnTo>
                <a:lnTo>
                  <a:pt x="18988" y="17989"/>
                </a:lnTo>
                <a:lnTo>
                  <a:pt x="18988" y="10800"/>
                </a:lnTo>
                <a:lnTo>
                  <a:pt x="17334" y="10800"/>
                </a:lnTo>
                <a:close/>
              </a:path>
              <a:path fill="darkenLess" w="48594" h="21600">
                <a:moveTo>
                  <a:pt x="26873" y="6448"/>
                </a:moveTo>
                <a:lnTo>
                  <a:pt x="26873" y="4707"/>
                </a:lnTo>
                <a:lnTo>
                  <a:pt x="28649" y="4707"/>
                </a:lnTo>
                <a:lnTo>
                  <a:pt x="28649" y="8224"/>
                </a:lnTo>
                <a:close/>
              </a:path>
              <a:path fill="darkenLess" w="48594" h="21600">
                <a:moveTo>
                  <a:pt x="23374" y="14299"/>
                </a:moveTo>
                <a:lnTo>
                  <a:pt x="25219" y="14299"/>
                </a:lnTo>
                <a:lnTo>
                  <a:pt x="25219" y="17989"/>
                </a:lnTo>
                <a:lnTo>
                  <a:pt x="29606" y="17989"/>
                </a:lnTo>
                <a:lnTo>
                  <a:pt x="29606" y="10800"/>
                </a:lnTo>
                <a:lnTo>
                  <a:pt x="18988" y="10800"/>
                </a:lnTo>
                <a:lnTo>
                  <a:pt x="18988" y="17989"/>
                </a:lnTo>
                <a:lnTo>
                  <a:pt x="233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Прямая со стрелкой 6"/>
          <p:cNvCxnSpPr/>
          <p:nvPr/>
        </p:nvCxnSpPr>
        <p:spPr>
          <a:xfrm flipV="1">
            <a:off x="2514600" y="1677240"/>
            <a:ext cx="2160" cy="472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5" name="Прямая со стрелкой 8"/>
          <p:cNvCxnSpPr/>
          <p:nvPr/>
        </p:nvCxnSpPr>
        <p:spPr>
          <a:xfrm>
            <a:off x="228600" y="4114800"/>
            <a:ext cx="4649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6" name="TextBox 9"/>
          <p:cNvSpPr/>
          <p:nvPr/>
        </p:nvSpPr>
        <p:spPr>
          <a:xfrm>
            <a:off x="45720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0"/>
          <p:cNvSpPr/>
          <p:nvPr/>
        </p:nvSpPr>
        <p:spPr>
          <a:xfrm>
            <a:off x="251460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олилиния 15"/>
          <p:cNvSpPr/>
          <p:nvPr/>
        </p:nvSpPr>
        <p:spPr>
          <a:xfrm>
            <a:off x="722160" y="2270160"/>
            <a:ext cx="3802320" cy="4583160"/>
          </a:xfrm>
          <a:prstGeom prst="pie">
            <a:avLst/>
          </a:prstGeom>
          <a:noFill/>
          <a:ln w="190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6"/>
          <p:cNvSpPr/>
          <p:nvPr/>
        </p:nvSpPr>
        <p:spPr>
          <a:xfrm>
            <a:off x="3737520" y="5867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7"/>
          <p:cNvSpPr/>
          <p:nvPr/>
        </p:nvSpPr>
        <p:spPr>
          <a:xfrm>
            <a:off x="25174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19"/>
          <p:cNvSpPr/>
          <p:nvPr/>
        </p:nvSpPr>
        <p:spPr>
          <a:xfrm flipH="1" flipV="1">
            <a:off x="2514600" y="231732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ая соединительная линия 23"/>
          <p:cNvSpPr/>
          <p:nvPr/>
        </p:nvSpPr>
        <p:spPr>
          <a:xfrm flipH="1" flipV="1">
            <a:off x="2514600" y="231732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24"/>
          <p:cNvSpPr/>
          <p:nvPr/>
        </p:nvSpPr>
        <p:spPr>
          <a:xfrm>
            <a:off x="2478240" y="233532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ая соединительная линия 26"/>
          <p:cNvSpPr/>
          <p:nvPr/>
        </p:nvSpPr>
        <p:spPr>
          <a:xfrm flipV="1">
            <a:off x="2514600" y="2411280"/>
            <a:ext cx="1440" cy="3913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9T06:40:40Z</dcterms:modified>
  <cp:revision>86</cp:revision>
  <dc:subject/>
  <dc:title>Исследование функции по графику</dc:title>
</cp:coreProperties>
</file>