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2042-B54F-4B7B-A7C2-97DC94220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B64C-5B1D-4635-92B0-A68DF51818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65ED-FE12-4958-A9D8-5199FC6C06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B015-6966-455C-AAC5-2D90AD693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DDA-1E07-4E48-855C-E8C3DEB0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C28-368F-4167-B726-240B3EA8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08B1D-87B1-4AF5-89B8-A27DC0FF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155CC-1E58-4D52-B014-72C1E723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BC588-9C34-4AAF-A8FD-E7BA51B4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AFF21-F449-4CF5-973B-2901AB7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28FF0-93E6-4F10-99E3-7EBDDE09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6F728-E399-4AD3-93BA-67D9E63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19C99-7568-4D67-B806-7F10A552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DE84-8F8E-42CB-B8A6-AEFEF6B8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23B4E-B6C7-403D-88C7-E62FE89A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24ADF-BBD7-41C2-BB2E-07C1C353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0BF-1468-445C-AA6D-BF5402C9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293C9-5F68-4934-AA42-24E18609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4169-AA78-4E57-B92A-C075889B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DFF24-1E31-47FD-843D-8439B17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2BD8D-BBF8-4F22-A103-8CDB68AD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45A65-F3E5-47AE-878B-99A7903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D8B8A-116D-463F-8084-6F19A19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93B13-04C1-435C-A61D-BF52D62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01093-D5C4-45DB-A4FD-B87712C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0FB8D-BFC2-4F5E-8875-6B3504AB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5EF5A-366B-4572-8B36-76E19BBA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042-9C7F-40EA-9EBE-4856A34D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188D5-ECB3-4831-96B0-0F9DE133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71AF4D-CFE4-4823-8899-AC949A9E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06172D-B93C-4E02-91E7-CB99BD19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854C7F-33C4-4CBF-80AB-E85BBB66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734AD8-6DAE-422C-BDD0-3F3ACD0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E5D2FA-F887-4971-B378-73ACC01E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3BCD74-8047-421D-B877-7B9A33A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9EA4B0-9034-411D-AE39-95A26DA4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B4579B-481A-48BD-A599-B2E58A3E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2D00CF-505A-4B90-A0A4-A1DE850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E7FB-5216-4291-A287-51D3EBFD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5D39D0-1B5D-4E6A-BA6E-66C2842E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37C105-8F38-49AF-B1FD-A10D0EBA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A83872-62C7-4A7F-9D0B-DE76BB91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AC909-EE40-4D48-8A19-27DFD311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5864B-35A9-4244-9CD0-3650F0B5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31602-48EB-45F8-AF24-E43C63A2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AD1B9-987E-42B3-910B-DD932002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8608B-373D-4540-B4FB-3FD216DA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688D0-BD74-4CA3-8F44-338E3136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639AF-9380-4ED7-832B-93FD340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1E01-F83B-4975-A865-63020A2D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F5DCD-F616-4F23-8204-668F8B0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508CB-C63B-4434-8845-5DDED3A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6A926-8B3A-406D-B6F3-215AEDF2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2BD0A-BE8C-4AE0-9717-E97AC6DD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8983A-87DF-4539-A018-63B539D3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2114F-2089-46E4-99CD-7AA5FD0C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7503A-EA98-4A86-8CB5-A0E9DB92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7BDC0-9DBE-426F-A00A-CEAA3A0E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F70BE-96B6-46D5-8BDF-2F6F74A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D87B9-D074-44D1-BC80-01D02A0E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3DFE-C765-4EBC-8EFC-079227D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0BF92-042C-46B3-8AC9-99C9D14D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D768C-CDE0-473E-A50B-5A38579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4E8C4-1AE9-4229-8F98-8C49FA1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1B7D6-8D34-4BF9-B27D-AF17FD8B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D632A-483D-4395-8CE6-87C788A1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92CB1-0BCC-4EE5-9B1C-4A8B557A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62CA0-4CF8-4B1D-B83D-62B015F0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4C1F01-0FE6-4293-89FE-1B6528E4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DC817D-E216-48EF-9C1F-3CC0C66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CE6168-E850-4982-889C-AFACFACF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3F52-E099-4B29-A080-725541DF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049484-2DF5-42BD-9CFA-3F32426A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DB2F0B-F860-4E49-958D-659FED72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15FF27-2971-47B7-A015-C01D36A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61488D-F37E-4E80-B559-6F2B9B5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CDC2C9-AE65-4977-9D5E-06D67E7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CD8801-0BCB-4E44-AEA6-6E7ED78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D16F3D-C8BD-41D4-A822-D55EC4BC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1E7203-FE8F-43C1-8EDC-B2A9F0C9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3A90E1-661C-460A-830B-DCF82FE9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7B95-3294-45AB-B6B6-12BB02EE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4EA2-CC0C-47F7-A870-F5B62A3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FC64-ED81-44B2-BC51-3261BDF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34F-B507-4D98-94CB-64FD446A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BB30-36C2-4A20-A249-2A8F7085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8CB5-C386-46EB-9C28-048C5B35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7865-F8CA-4E5C-8737-3A0AF913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913-CB1B-4D7D-B34B-5315257E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E42B-7077-448E-9BF5-8C28CA0E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A6A4-1F55-4E52-A2D6-7F641E8F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F82D-8FEC-48CF-9B46-942E9C28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F598-E450-4A25-ADCB-4A20C039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028A-1FC3-4D56-8BE6-3D83EE14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BDDE-38F7-4888-82CA-8A0DB112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9C7-4C83-4B94-95C4-561B5C7B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CFED-42DE-47A4-8444-E7124120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8DF9-657E-41A1-A812-EFE1276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7614-C561-4805-8211-A4962B1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ECB0-93E7-4342-A007-D3F3CA66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CBC9-856B-4296-BCB0-B8A3DAB6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5246-AAC0-436C-86D3-6E6FB769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E877-5228-494F-9195-50C51E6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6933-29A0-4614-BD48-49682998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E711-4F37-42B7-A3BE-99D27891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C5F8-1DE0-435D-B775-99AD0C44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472-1DFA-411D-932B-BE206DC0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AC31-8164-4C52-9C9E-CDB83F5E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2A3A-BB7E-4095-BB9A-8ACA366C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607B-C0F3-4831-9E14-880CF10A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6560-1E09-415E-99AF-3BCB9F0B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8812D-D8E4-4D38-B293-9DC421E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82B3-6C5F-497F-82AA-64779CAC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197B-CDA4-4E41-A59C-EE8A7E6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FE35-C123-4F28-ABBB-7AAED4AE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90C7-DAF5-41DA-A52B-5351B67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92309-7A71-4AD1-9527-24F05786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A17-AFAC-4FD9-882F-FC2B9A5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9E382-C9B5-485E-8866-11682DED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A8E1-9D01-4880-A1B9-73DE4A35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4845-C562-4E92-AB24-BD00D009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75AAD-94B6-47CF-8604-5441F26F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AFFC-75F7-40DB-83B7-EEFB080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874DE-E7CD-4449-A5DA-30B420A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9D8EA-A06E-4A08-AC8E-344666D6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2C22-1203-4648-8E40-FE792BF9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C2DBE-3B12-462A-A0E5-241D3BF3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151D-D6F1-49C2-94C0-5A51D71D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BC9-9CB3-4655-9D7A-73CDD17E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6FB2A-6149-455B-86B7-6C8ABA60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3FF27-E62B-424A-8BE7-0F5CDAA1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A9947-D8D5-4DDD-A31E-4B82169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51967-7EDB-4BFD-84FE-1FBBDD26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0CA91-9D57-4BAC-A032-BF5ADE7F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BDBD-2BE1-4901-94E1-0F2F0556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84C7E-9480-4FA7-A4BF-19B2501A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2DA0-073D-42A5-A8E7-38382427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5939-0C12-4413-951E-F3A8469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649A1-C76A-4846-A07E-64FB53F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16E-12BD-435F-8463-19E3963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C2FBC-7DF6-4618-BAE3-12AB84BE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59BAF-CB36-4472-9D46-B628BB1E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84C4F-AA2F-4551-AAE9-0DACF699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98055-3560-4A4A-9331-69776223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B254-9665-49DC-B5E4-60F3B995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03D15-E40D-47B8-92DB-3F8CCB2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00AB0-F65B-4839-8FDF-C38E8348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CB9C9-A09F-4D14-8FE7-AA5151ED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F8D78-F745-47CE-8F35-68E94F55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650A-FB1B-4FF4-8418-93DFEDB5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0FC-5C0A-40DC-909A-1A5330D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67BC-7C2C-455D-B581-6B42437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918F-BC90-4A1A-A67E-BFE6040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CE8E-0D87-4604-AE57-30DA2A3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AEF92-AAC6-4CC0-BD4C-9C4A0AD1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4AE7-EB1C-44CC-BC6D-4B5892D5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39CEC-A52A-474B-825A-A62B7B1E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62A01-43C4-416D-924B-E467004D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F8122-BAA9-495D-9B3D-AD0C6F23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D7B17-73AC-4113-83AA-31E9F09E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D7D67-02FC-4AB8-819E-ED3FAD4B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362-00C1-4522-BC33-9C1D2F5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BC1C-704C-4F9F-8534-ECBCB98E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BFAC-E5CF-4EA6-B0A6-2BFAEA3A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5A2E4-6573-47E3-A267-74AD615A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C0DA-90EE-4490-96FC-AB4EE19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FE14-BAF8-4230-92EA-14C45FD3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9F451-422E-4A0D-97E9-814F1588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9364-926F-4B8C-AAC0-CABBF0AA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01057-19F2-4F90-9109-E950C782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F8226-0DE3-4D26-9EC9-5AE82CF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510DA-9488-4069-B9D7-8F745C09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D66-61B9-4035-A57B-C517DA8B3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7DB-8AB1-475D-8257-339B08B80B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C4BC-964D-441B-B60A-89C624760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F8DE-8D76-48CE-A6CD-4ADD7D19F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F57-D319-4FBA-9200-EDD817BE0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B2BF-01A4-455D-9B24-1BEB2E038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FD1F-C1EF-44C2-B64C-B0F11CDB0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3049-5B48-4B43-966B-F7B5BE93D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C5AC-DA83-4BB9-BD42-47629E5D9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7C25-62AB-4F9A-8654-7466DDC48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6E5-8430-4B64-B506-00F82EF45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0910-487C-4478-9762-38D1515F4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6CF5-C4F7-44E7-9136-03619DF9B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C83F-A573-473E-BCE6-85049270F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685800" y="3962160"/>
            <a:ext cx="7772400" cy="160020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ОСТАВИЛА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ЧИТЕЛЬ МАТЕМАТИКИ МОУ «СОШ №6»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. ЛОБ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ТУПЧИК Т.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905120"/>
          </a:xfrm>
          <a:prstGeom prst="rect">
            <a:avLst/>
          </a:prstGeom>
          <a:solidFill>
            <a:srgbClr val="e3bc9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Исследование свойств функции заданной графически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3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3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3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3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Управляющая кнопка: домой 1"/>
          <p:cNvSpPr/>
          <p:nvPr/>
        </p:nvSpPr>
        <p:spPr>
          <a:xfrm>
            <a:off x="76320" y="6248520"/>
            <a:ext cx="1447560" cy="609480"/>
          </a:xfrm>
          <a:custGeom>
            <a:avLst/>
            <a:gdLst>
              <a:gd name="textAreaLeft" fmla="*/ 39240 w 1447560"/>
              <a:gd name="textAreaRight" fmla="*/ 1408320 w 1447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84" h="21600">
                <a:moveTo>
                  <a:pt x="0" y="0"/>
                </a:moveTo>
                <a:lnTo>
                  <a:pt x="51284" y="0"/>
                </a:lnTo>
                <a:lnTo>
                  <a:pt x="51284" y="21600"/>
                </a:lnTo>
                <a:lnTo>
                  <a:pt x="0" y="21600"/>
                </a:lnTo>
                <a:close/>
              </a:path>
              <a:path fill="lightenLess" w="51284" h="21600">
                <a:moveTo>
                  <a:pt x="0" y="0"/>
                </a:moveTo>
                <a:lnTo>
                  <a:pt x="51284" y="0"/>
                </a:lnTo>
                <a:lnTo>
                  <a:pt x="49884" y="1400"/>
                </a:lnTo>
                <a:lnTo>
                  <a:pt x="1400" y="1400"/>
                </a:lnTo>
                <a:close/>
              </a:path>
              <a:path fill="darken" w="51284" h="21600">
                <a:moveTo>
                  <a:pt x="51284" y="0"/>
                </a:moveTo>
                <a:lnTo>
                  <a:pt x="51284" y="21600"/>
                </a:lnTo>
                <a:lnTo>
                  <a:pt x="49884" y="20200"/>
                </a:lnTo>
                <a:lnTo>
                  <a:pt x="49884" y="1400"/>
                </a:lnTo>
                <a:close/>
              </a:path>
              <a:path fill="darkenLess" w="51284" h="21600">
                <a:moveTo>
                  <a:pt x="51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84" y="20200"/>
                </a:lnTo>
                <a:close/>
              </a:path>
              <a:path fill="lighten" w="51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84" h="21600">
                <a:moveTo>
                  <a:pt x="25642" y="3837"/>
                </a:moveTo>
                <a:lnTo>
                  <a:pt x="28218" y="6448"/>
                </a:lnTo>
                <a:lnTo>
                  <a:pt x="28218" y="4707"/>
                </a:lnTo>
                <a:lnTo>
                  <a:pt x="29994" y="4707"/>
                </a:lnTo>
                <a:lnTo>
                  <a:pt x="29994" y="8224"/>
                </a:lnTo>
                <a:lnTo>
                  <a:pt x="32605" y="10800"/>
                </a:lnTo>
                <a:lnTo>
                  <a:pt x="30951" y="10800"/>
                </a:lnTo>
                <a:lnTo>
                  <a:pt x="30951" y="17989"/>
                </a:lnTo>
                <a:lnTo>
                  <a:pt x="20333" y="17989"/>
                </a:lnTo>
                <a:lnTo>
                  <a:pt x="20333" y="10800"/>
                </a:lnTo>
                <a:lnTo>
                  <a:pt x="18679" y="10800"/>
                </a:lnTo>
                <a:close/>
              </a:path>
              <a:path fill="darkenLess" w="51284" h="21600">
                <a:moveTo>
                  <a:pt x="28218" y="6448"/>
                </a:moveTo>
                <a:lnTo>
                  <a:pt x="28218" y="4707"/>
                </a:lnTo>
                <a:lnTo>
                  <a:pt x="29994" y="4707"/>
                </a:lnTo>
                <a:lnTo>
                  <a:pt x="29994" y="8224"/>
                </a:lnTo>
                <a:close/>
              </a:path>
              <a:path fill="darkenLess" w="51284" h="21600">
                <a:moveTo>
                  <a:pt x="24719" y="14299"/>
                </a:moveTo>
                <a:lnTo>
                  <a:pt x="26565" y="14299"/>
                </a:lnTo>
                <a:lnTo>
                  <a:pt x="26565" y="17989"/>
                </a:lnTo>
                <a:lnTo>
                  <a:pt x="30951" y="17989"/>
                </a:lnTo>
                <a:lnTo>
                  <a:pt x="30951" y="10800"/>
                </a:lnTo>
                <a:lnTo>
                  <a:pt x="20333" y="10800"/>
                </a:lnTo>
                <a:lnTo>
                  <a:pt x="20333" y="17989"/>
                </a:lnTo>
                <a:lnTo>
                  <a:pt x="2471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Заголовок 1"/>
          <p:cNvSpPr/>
          <p:nvPr/>
        </p:nvSpPr>
        <p:spPr>
          <a:xfrm>
            <a:off x="609480" y="228600"/>
            <a:ext cx="7772400" cy="23623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фик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ёт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ункции симметричен относительно оси ОУ, а график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чёт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ункции симметричен относительно начала координат. В обеих случаях область определения должна быть  симметрична относительно начала координа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нет симметрии в области определения или в графике, то функция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 является ни чётной , ни нечёт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Прямая со стрелкой 4"/>
          <p:cNvCxnSpPr/>
          <p:nvPr/>
        </p:nvCxnSpPr>
        <p:spPr>
          <a:xfrm flipV="1">
            <a:off x="1827360" y="2896920"/>
            <a:ext cx="3600" cy="31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3" name="Прямая со стрелкой 5"/>
          <p:cNvCxnSpPr/>
          <p:nvPr/>
        </p:nvCxnSpPr>
        <p:spPr>
          <a:xfrm>
            <a:off x="380880" y="4800600"/>
            <a:ext cx="2820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4" name="Прямая со стрелкой 6"/>
          <p:cNvCxnSpPr/>
          <p:nvPr/>
        </p:nvCxnSpPr>
        <p:spPr>
          <a:xfrm flipV="1">
            <a:off x="4572000" y="2971440"/>
            <a:ext cx="2160" cy="31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5" name="Прямая со стрелкой 7"/>
          <p:cNvCxnSpPr/>
          <p:nvPr/>
        </p:nvCxnSpPr>
        <p:spPr>
          <a:xfrm>
            <a:off x="3428640" y="4800600"/>
            <a:ext cx="2591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6" name="Прямая со стрелкой 8"/>
          <p:cNvCxnSpPr/>
          <p:nvPr/>
        </p:nvCxnSpPr>
        <p:spPr>
          <a:xfrm flipV="1">
            <a:off x="7313760" y="2896920"/>
            <a:ext cx="360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7" name="Прямая со стрелкой 9"/>
          <p:cNvCxnSpPr/>
          <p:nvPr/>
        </p:nvCxnSpPr>
        <p:spPr>
          <a:xfrm>
            <a:off x="6171840" y="4800600"/>
            <a:ext cx="2439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8" name="Скругленная соединительная линия 10"/>
          <p:cNvCxnSpPr/>
          <p:nvPr/>
        </p:nvCxnSpPr>
        <p:spPr>
          <a:xfrm flipH="1" flipV="1" rot="5400000">
            <a:off x="685800" y="3276000"/>
            <a:ext cx="991080" cy="9914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79" name="Скругленная соединительная линия 11"/>
          <p:cNvCxnSpPr/>
          <p:nvPr/>
        </p:nvCxnSpPr>
        <p:spPr>
          <a:xfrm flipH="1" rot="16200000">
            <a:off x="1942200" y="3314520"/>
            <a:ext cx="915120" cy="839160"/>
          </a:xfrm>
          <a:prstGeom prst="curvedConnector5">
            <a:avLst>
              <a:gd name="adj1" fmla="val 55962"/>
              <a:gd name="adj2" fmla="val 50000"/>
              <a:gd name="adj3" fmla="val 55962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80" name="Скругленная соединительная линия 12"/>
          <p:cNvCxnSpPr/>
          <p:nvPr/>
        </p:nvCxnSpPr>
        <p:spPr>
          <a:xfrm flipV="1">
            <a:off x="3428640" y="4799880"/>
            <a:ext cx="1143720" cy="762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81" name="Скругленная соединительная линия 13"/>
          <p:cNvCxnSpPr/>
          <p:nvPr/>
        </p:nvCxnSpPr>
        <p:spPr>
          <a:xfrm flipV="1">
            <a:off x="4571640" y="4037760"/>
            <a:ext cx="1220040" cy="762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82" name="Скругленная соединительная линия 14"/>
          <p:cNvCxnSpPr/>
          <p:nvPr/>
        </p:nvCxnSpPr>
        <p:spPr>
          <a:xfrm flipH="1" rot="16200000">
            <a:off x="6018840" y="3962160"/>
            <a:ext cx="1829520" cy="12200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376092"/>
            </a:solidFill>
            <a:miter/>
          </a:ln>
        </p:spPr>
      </p:cxnSp>
      <p:cxnSp>
        <p:nvCxnSpPr>
          <p:cNvPr id="883" name="Скругленная соединительная линия 15"/>
          <p:cNvCxnSpPr/>
          <p:nvPr/>
        </p:nvCxnSpPr>
        <p:spPr>
          <a:xfrm flipH="1" flipV="1" rot="5400000">
            <a:off x="6742800" y="3619440"/>
            <a:ext cx="266724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76092"/>
            </a:solidFill>
            <a:miter/>
          </a:ln>
        </p:spPr>
      </p:cxnSp>
      <p:sp>
        <p:nvSpPr>
          <p:cNvPr id="884" name="Блок-схема: перфолента 16"/>
          <p:cNvSpPr/>
          <p:nvPr/>
        </p:nvSpPr>
        <p:spPr>
          <a:xfrm>
            <a:off x="1371600" y="5715000"/>
            <a:ext cx="914400" cy="53352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ё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Блок-схема: перфолента 17"/>
          <p:cNvSpPr/>
          <p:nvPr/>
        </p:nvSpPr>
        <p:spPr>
          <a:xfrm>
            <a:off x="3962520" y="5715000"/>
            <a:ext cx="1218960" cy="6094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чё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Блок-схема: перфолента 18"/>
          <p:cNvSpPr/>
          <p:nvPr/>
        </p:nvSpPr>
        <p:spPr>
          <a:xfrm>
            <a:off x="6324480" y="5638680"/>
            <a:ext cx="2438640" cy="68580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 является ни чётной, ни нечё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9"/>
          <p:cNvSpPr/>
          <p:nvPr/>
        </p:nvSpPr>
        <p:spPr>
          <a:xfrm>
            <a:off x="1907640" y="2743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0"/>
          <p:cNvSpPr/>
          <p:nvPr/>
        </p:nvSpPr>
        <p:spPr>
          <a:xfrm>
            <a:off x="312660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1"/>
          <p:cNvSpPr/>
          <p:nvPr/>
        </p:nvSpPr>
        <p:spPr>
          <a:xfrm>
            <a:off x="4648320" y="2819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2"/>
          <p:cNvSpPr/>
          <p:nvPr/>
        </p:nvSpPr>
        <p:spPr>
          <a:xfrm>
            <a:off x="571752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3"/>
          <p:cNvSpPr/>
          <p:nvPr/>
        </p:nvSpPr>
        <p:spPr>
          <a:xfrm>
            <a:off x="7394040" y="281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4"/>
          <p:cNvSpPr/>
          <p:nvPr/>
        </p:nvSpPr>
        <p:spPr>
          <a:xfrm>
            <a:off x="838440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фун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838080" y="1447560"/>
            <a:ext cx="7848720" cy="510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Autofit/>
          </a:bodyPr>
          <a:p>
            <a:pPr lvl="2" marL="1428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ь определения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тность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ичность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ли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ежутки знакопостоянства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отонность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чки экстремума и экстремумы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ь значений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Область определения функци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остоит из значений переменной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х точек, учавствующих в построении графика функции. Обозначаетс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352320" y="12949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Управляющая кнопка: домой 4"/>
          <p:cNvSpPr/>
          <p:nvPr/>
        </p:nvSpPr>
        <p:spPr>
          <a:xfrm>
            <a:off x="0" y="63244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6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6" y="20200"/>
                </a:lnTo>
                <a:lnTo>
                  <a:pt x="47946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6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46" h="21600">
                <a:moveTo>
                  <a:pt x="24673" y="3837"/>
                </a:moveTo>
                <a:lnTo>
                  <a:pt x="27250" y="6448"/>
                </a:lnTo>
                <a:lnTo>
                  <a:pt x="27250" y="4707"/>
                </a:lnTo>
                <a:lnTo>
                  <a:pt x="29025" y="4707"/>
                </a:lnTo>
                <a:lnTo>
                  <a:pt x="29025" y="8224"/>
                </a:lnTo>
                <a:lnTo>
                  <a:pt x="31636" y="10800"/>
                </a:lnTo>
                <a:lnTo>
                  <a:pt x="29982" y="10800"/>
                </a:lnTo>
                <a:lnTo>
                  <a:pt x="29982" y="17989"/>
                </a:lnTo>
                <a:lnTo>
                  <a:pt x="19364" y="17989"/>
                </a:lnTo>
                <a:lnTo>
                  <a:pt x="19364" y="10800"/>
                </a:lnTo>
                <a:lnTo>
                  <a:pt x="17710" y="10800"/>
                </a:lnTo>
                <a:close/>
              </a:path>
              <a:path fill="darkenLess" w="49346" h="21600">
                <a:moveTo>
                  <a:pt x="27250" y="6448"/>
                </a:moveTo>
                <a:lnTo>
                  <a:pt x="27250" y="4707"/>
                </a:lnTo>
                <a:lnTo>
                  <a:pt x="29025" y="4707"/>
                </a:lnTo>
                <a:lnTo>
                  <a:pt x="29025" y="8224"/>
                </a:lnTo>
                <a:close/>
              </a:path>
              <a:path fill="darkenLess" w="49346" h="21600">
                <a:moveTo>
                  <a:pt x="23751" y="14299"/>
                </a:moveTo>
                <a:lnTo>
                  <a:pt x="25596" y="14299"/>
                </a:lnTo>
                <a:lnTo>
                  <a:pt x="25596" y="17989"/>
                </a:lnTo>
                <a:lnTo>
                  <a:pt x="29982" y="17989"/>
                </a:lnTo>
                <a:lnTo>
                  <a:pt x="29982" y="10800"/>
                </a:lnTo>
                <a:lnTo>
                  <a:pt x="19364" y="10800"/>
                </a:lnTo>
                <a:lnTo>
                  <a:pt x="19364" y="17989"/>
                </a:lnTo>
                <a:lnTo>
                  <a:pt x="2375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Object 2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4732560" cy="4659480"/>
          </a:xfrm>
          <a:prstGeom prst="rect">
            <a:avLst/>
          </a:prstGeom>
          <a:ln w="0">
            <a:noFill/>
          </a:ln>
        </p:spPr>
      </p:pic>
      <p:sp>
        <p:nvSpPr>
          <p:cNvPr id="703" name="Прямая соединительная линия 11"/>
          <p:cNvSpPr/>
          <p:nvPr/>
        </p:nvSpPr>
        <p:spPr>
          <a:xfrm>
            <a:off x="4114800" y="3809880"/>
            <a:ext cx="4495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6"/>
          <p:cNvSpPr/>
          <p:nvPr/>
        </p:nvSpPr>
        <p:spPr>
          <a:xfrm>
            <a:off x="762120" y="3124080"/>
            <a:ext cx="2895480" cy="5205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(-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иод функции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длина отрезка, которую занимает повторяющаяся часть граф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6002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8" name="Прямая со стрелкой 15"/>
          <p:cNvCxnSpPr/>
          <p:nvPr/>
        </p:nvCxnSpPr>
        <p:spPr>
          <a:xfrm flipV="1">
            <a:off x="2513160" y="1906200"/>
            <a:ext cx="3600" cy="3658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Прямая со стрелкой 17"/>
          <p:cNvCxnSpPr/>
          <p:nvPr/>
        </p:nvCxnSpPr>
        <p:spPr>
          <a:xfrm>
            <a:off x="533160" y="4191120"/>
            <a:ext cx="38869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Прямая со стрелкой 19"/>
          <p:cNvCxnSpPr/>
          <p:nvPr/>
        </p:nvCxnSpPr>
        <p:spPr>
          <a:xfrm flipV="1">
            <a:off x="6627960" y="1982160"/>
            <a:ext cx="3600" cy="38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1" name="Прямая со стрелкой 21"/>
          <p:cNvCxnSpPr/>
          <p:nvPr/>
        </p:nvCxnSpPr>
        <p:spPr>
          <a:xfrm>
            <a:off x="4800240" y="4114800"/>
            <a:ext cx="38106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2" name="Прямая соединительная линия 23"/>
          <p:cNvSpPr/>
          <p:nvPr/>
        </p:nvSpPr>
        <p:spPr>
          <a:xfrm>
            <a:off x="4564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ая соединительная линия 26"/>
          <p:cNvSpPr/>
          <p:nvPr/>
        </p:nvSpPr>
        <p:spPr>
          <a:xfrm flipV="1">
            <a:off x="11422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28"/>
          <p:cNvSpPr/>
          <p:nvPr/>
        </p:nvSpPr>
        <p:spPr>
          <a:xfrm>
            <a:off x="18280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30"/>
          <p:cNvSpPr/>
          <p:nvPr/>
        </p:nvSpPr>
        <p:spPr>
          <a:xfrm flipV="1">
            <a:off x="25138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32"/>
          <p:cNvSpPr/>
          <p:nvPr/>
        </p:nvSpPr>
        <p:spPr>
          <a:xfrm>
            <a:off x="3199680" y="28195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34"/>
          <p:cNvSpPr/>
          <p:nvPr/>
        </p:nvSpPr>
        <p:spPr>
          <a:xfrm flipV="1">
            <a:off x="3885480" y="2819520"/>
            <a:ext cx="60948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36"/>
          <p:cNvSpPr/>
          <p:nvPr/>
        </p:nvSpPr>
        <p:spPr>
          <a:xfrm>
            <a:off x="4724280" y="2743200"/>
            <a:ext cx="53352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38"/>
          <p:cNvSpPr/>
          <p:nvPr/>
        </p:nvSpPr>
        <p:spPr>
          <a:xfrm flipV="1">
            <a:off x="5257800" y="2743200"/>
            <a:ext cx="38088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ая соединительная линия 40"/>
          <p:cNvSpPr/>
          <p:nvPr/>
        </p:nvSpPr>
        <p:spPr>
          <a:xfrm>
            <a:off x="5638680" y="2743200"/>
            <a:ext cx="144792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ая соединительная линия 42"/>
          <p:cNvSpPr/>
          <p:nvPr/>
        </p:nvSpPr>
        <p:spPr>
          <a:xfrm flipV="1">
            <a:off x="7086600" y="2286000"/>
            <a:ext cx="533520" cy="18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ая соединительная линия 44"/>
          <p:cNvSpPr/>
          <p:nvPr/>
        </p:nvSpPr>
        <p:spPr>
          <a:xfrm>
            <a:off x="7619400" y="2286000"/>
            <a:ext cx="533160" cy="18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Блок-схема: перфолента 45"/>
          <p:cNvSpPr/>
          <p:nvPr/>
        </p:nvSpPr>
        <p:spPr>
          <a:xfrm>
            <a:off x="1523880" y="5638680"/>
            <a:ext cx="2210040" cy="91440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ункция перио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Блок-схема: перфолента 46"/>
          <p:cNvSpPr/>
          <p:nvPr/>
        </p:nvSpPr>
        <p:spPr>
          <a:xfrm>
            <a:off x="5715000" y="5638680"/>
            <a:ext cx="1981080" cy="83844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ункция неперио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Управляющая кнопка: домой 47"/>
          <p:cNvSpPr/>
          <p:nvPr/>
        </p:nvSpPr>
        <p:spPr>
          <a:xfrm>
            <a:off x="0" y="63244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420" h="21600">
                <a:moveTo>
                  <a:pt x="26210" y="3837"/>
                </a:moveTo>
                <a:lnTo>
                  <a:pt x="28786" y="6448"/>
                </a:lnTo>
                <a:lnTo>
                  <a:pt x="28786" y="4707"/>
                </a:lnTo>
                <a:lnTo>
                  <a:pt x="30562" y="4707"/>
                </a:lnTo>
                <a:lnTo>
                  <a:pt x="30562" y="8224"/>
                </a:lnTo>
                <a:lnTo>
                  <a:pt x="33173" y="10800"/>
                </a:lnTo>
                <a:lnTo>
                  <a:pt x="31519" y="10800"/>
                </a:lnTo>
                <a:lnTo>
                  <a:pt x="31519" y="17989"/>
                </a:lnTo>
                <a:lnTo>
                  <a:pt x="20901" y="17989"/>
                </a:lnTo>
                <a:lnTo>
                  <a:pt x="20901" y="10800"/>
                </a:lnTo>
                <a:lnTo>
                  <a:pt x="19247" y="10800"/>
                </a:lnTo>
                <a:close/>
              </a:path>
              <a:path fill="darkenLess" w="52420" h="21600">
                <a:moveTo>
                  <a:pt x="28786" y="6448"/>
                </a:moveTo>
                <a:lnTo>
                  <a:pt x="28786" y="4707"/>
                </a:lnTo>
                <a:lnTo>
                  <a:pt x="30562" y="4707"/>
                </a:lnTo>
                <a:lnTo>
                  <a:pt x="30562" y="8224"/>
                </a:lnTo>
                <a:close/>
              </a:path>
              <a:path fill="darkenLess" w="52420" h="21600">
                <a:moveTo>
                  <a:pt x="25287" y="14299"/>
                </a:moveTo>
                <a:lnTo>
                  <a:pt x="27132" y="14299"/>
                </a:lnTo>
                <a:lnTo>
                  <a:pt x="27132" y="17989"/>
                </a:lnTo>
                <a:lnTo>
                  <a:pt x="31519" y="17989"/>
                </a:lnTo>
                <a:lnTo>
                  <a:pt x="31519" y="10800"/>
                </a:lnTo>
                <a:lnTo>
                  <a:pt x="20901" y="10800"/>
                </a:lnTo>
                <a:lnTo>
                  <a:pt x="20901" y="17989"/>
                </a:lnTo>
                <a:lnTo>
                  <a:pt x="2528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22"/>
          <p:cNvSpPr/>
          <p:nvPr/>
        </p:nvSpPr>
        <p:spPr>
          <a:xfrm>
            <a:off x="37339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24"/>
          <p:cNvSpPr/>
          <p:nvPr/>
        </p:nvSpPr>
        <p:spPr>
          <a:xfrm>
            <a:off x="251460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25"/>
          <p:cNvSpPr/>
          <p:nvPr/>
        </p:nvSpPr>
        <p:spPr>
          <a:xfrm>
            <a:off x="9144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7"/>
          <p:cNvSpPr/>
          <p:nvPr/>
        </p:nvSpPr>
        <p:spPr>
          <a:xfrm>
            <a:off x="2516760" y="1905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29"/>
          <p:cNvSpPr/>
          <p:nvPr/>
        </p:nvSpPr>
        <p:spPr>
          <a:xfrm>
            <a:off x="411732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31"/>
          <p:cNvSpPr/>
          <p:nvPr/>
        </p:nvSpPr>
        <p:spPr>
          <a:xfrm>
            <a:off x="6707880" y="1981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830844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5"/>
          <p:cNvSpPr/>
          <p:nvPr/>
        </p:nvSpPr>
        <p:spPr>
          <a:xfrm>
            <a:off x="5032800" y="4114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6936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39"/>
          <p:cNvSpPr/>
          <p:nvPr/>
        </p:nvSpPr>
        <p:spPr>
          <a:xfrm>
            <a:off x="800388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ули функ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то абсциссы точек пересечения графика функции с осью О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9" name="Прямая со стрелкой 7"/>
          <p:cNvCxnSpPr/>
          <p:nvPr/>
        </p:nvCxnSpPr>
        <p:spPr>
          <a:xfrm>
            <a:off x="609480" y="3809520"/>
            <a:ext cx="36583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0" name="Управляющая кнопка: домой 21"/>
          <p:cNvSpPr/>
          <p:nvPr/>
        </p:nvSpPr>
        <p:spPr>
          <a:xfrm>
            <a:off x="0" y="63244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95" h="21600">
                <a:moveTo>
                  <a:pt x="29298" y="3837"/>
                </a:moveTo>
                <a:lnTo>
                  <a:pt x="31874" y="6448"/>
                </a:lnTo>
                <a:lnTo>
                  <a:pt x="31874" y="4707"/>
                </a:lnTo>
                <a:lnTo>
                  <a:pt x="33649" y="4707"/>
                </a:lnTo>
                <a:lnTo>
                  <a:pt x="33649" y="8224"/>
                </a:lnTo>
                <a:lnTo>
                  <a:pt x="36261" y="10800"/>
                </a:lnTo>
                <a:lnTo>
                  <a:pt x="34607" y="10800"/>
                </a:lnTo>
                <a:lnTo>
                  <a:pt x="34607" y="17989"/>
                </a:lnTo>
                <a:lnTo>
                  <a:pt x="23988" y="17989"/>
                </a:lnTo>
                <a:lnTo>
                  <a:pt x="23988" y="10800"/>
                </a:lnTo>
                <a:lnTo>
                  <a:pt x="22335" y="10800"/>
                </a:lnTo>
                <a:close/>
              </a:path>
              <a:path fill="darkenLess" w="58595" h="21600">
                <a:moveTo>
                  <a:pt x="31874" y="6448"/>
                </a:moveTo>
                <a:lnTo>
                  <a:pt x="31874" y="4707"/>
                </a:lnTo>
                <a:lnTo>
                  <a:pt x="33649" y="4707"/>
                </a:lnTo>
                <a:lnTo>
                  <a:pt x="33649" y="8224"/>
                </a:lnTo>
                <a:close/>
              </a:path>
              <a:path fill="darkenLess" w="58595" h="21600">
                <a:moveTo>
                  <a:pt x="28375" y="14299"/>
                </a:moveTo>
                <a:lnTo>
                  <a:pt x="30220" y="14299"/>
                </a:lnTo>
                <a:lnTo>
                  <a:pt x="30220" y="17989"/>
                </a:lnTo>
                <a:lnTo>
                  <a:pt x="34607" y="17989"/>
                </a:lnTo>
                <a:lnTo>
                  <a:pt x="34607" y="10800"/>
                </a:lnTo>
                <a:lnTo>
                  <a:pt x="23988" y="10800"/>
                </a:lnTo>
                <a:lnTo>
                  <a:pt x="23988" y="17989"/>
                </a:lnTo>
                <a:lnTo>
                  <a:pt x="2837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Прямая со стрелкой 29"/>
          <p:cNvCxnSpPr/>
          <p:nvPr/>
        </p:nvCxnSpPr>
        <p:spPr>
          <a:xfrm>
            <a:off x="4647960" y="3809520"/>
            <a:ext cx="3886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2" name="Полилиния 30"/>
          <p:cNvSpPr/>
          <p:nvPr/>
        </p:nvSpPr>
        <p:spPr>
          <a:xfrm>
            <a:off x="750960" y="2666880"/>
            <a:ext cx="620640" cy="16765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Shape 32"/>
          <p:cNvCxnSpPr>
            <a:stCxn id="742" idx="3"/>
          </p:cNvCxnSpPr>
          <p:nvPr/>
        </p:nvCxnSpPr>
        <p:spPr>
          <a:xfrm>
            <a:off x="1371240" y="2666880"/>
            <a:ext cx="686520" cy="1524960"/>
          </a:xfrm>
          <a:prstGeom prst="bentConnector2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44" name="Полилиния 33"/>
          <p:cNvSpPr/>
          <p:nvPr/>
        </p:nvSpPr>
        <p:spPr>
          <a:xfrm>
            <a:off x="2057400" y="2976480"/>
            <a:ext cx="1730520" cy="12366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олилиния 34"/>
          <p:cNvSpPr/>
          <p:nvPr/>
        </p:nvSpPr>
        <p:spPr>
          <a:xfrm>
            <a:off x="4876920" y="1687680"/>
            <a:ext cx="3538440" cy="16650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Прямая со стрелкой 37"/>
          <p:cNvCxnSpPr/>
          <p:nvPr/>
        </p:nvCxnSpPr>
        <p:spPr>
          <a:xfrm flipV="1">
            <a:off x="2514600" y="1906200"/>
            <a:ext cx="2160" cy="3123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7" name="Прямая со стрелкой 39"/>
          <p:cNvCxnSpPr/>
          <p:nvPr/>
        </p:nvCxnSpPr>
        <p:spPr>
          <a:xfrm flipV="1">
            <a:off x="6627960" y="1829880"/>
            <a:ext cx="3600" cy="3201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8" name="Выноска со стрелкой вверх 40"/>
          <p:cNvSpPr/>
          <p:nvPr/>
        </p:nvSpPr>
        <p:spPr>
          <a:xfrm>
            <a:off x="1600200" y="5105520"/>
            <a:ext cx="1828800" cy="91440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ли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=а, х=в, х=с, х=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Выноска со стрелкой вверх 41"/>
          <p:cNvSpPr/>
          <p:nvPr/>
        </p:nvSpPr>
        <p:spPr>
          <a:xfrm>
            <a:off x="5715000" y="5105520"/>
            <a:ext cx="1905120" cy="914400"/>
          </a:xfrm>
          <a:prstGeom prst="upArrowCallout">
            <a:avLst>
              <a:gd name="adj1" fmla="val 25004"/>
              <a:gd name="adj2" fmla="val 25002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лей функ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2"/>
          <p:cNvSpPr/>
          <p:nvPr/>
        </p:nvSpPr>
        <p:spPr>
          <a:xfrm>
            <a:off x="916560" y="37339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3"/>
          <p:cNvSpPr/>
          <p:nvPr/>
        </p:nvSpPr>
        <p:spPr>
          <a:xfrm>
            <a:off x="17524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4"/>
          <p:cNvSpPr/>
          <p:nvPr/>
        </p:nvSpPr>
        <p:spPr>
          <a:xfrm>
            <a:off x="2136600" y="37339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5"/>
          <p:cNvSpPr/>
          <p:nvPr/>
        </p:nvSpPr>
        <p:spPr>
          <a:xfrm>
            <a:off x="33526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9"/>
          <p:cNvSpPr/>
          <p:nvPr/>
        </p:nvSpPr>
        <p:spPr>
          <a:xfrm>
            <a:off x="2516760" y="1828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0"/>
          <p:cNvSpPr/>
          <p:nvPr/>
        </p:nvSpPr>
        <p:spPr>
          <a:xfrm>
            <a:off x="40410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2"/>
          <p:cNvSpPr/>
          <p:nvPr/>
        </p:nvSpPr>
        <p:spPr>
          <a:xfrm>
            <a:off x="6631560" y="1752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23"/>
          <p:cNvSpPr/>
          <p:nvPr/>
        </p:nvSpPr>
        <p:spPr>
          <a:xfrm>
            <a:off x="830844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положительн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ри тех значениях х, где график функции выше оси ОХ и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отрицательн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ам, где график функции ниже оси О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647960" y="2666880"/>
            <a:ext cx="42670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&gt;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хє(а;в)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;+∞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1" name="Прямая со стрелкой 8"/>
          <p:cNvCxnSpPr>
            <a:stCxn id="759" idx="2"/>
            <a:endCxn id="759" idx="0"/>
          </p:cNvCxnSpPr>
          <p:nvPr/>
        </p:nvCxnSpPr>
        <p:spPr>
          <a:xfrm flipH="1" flipV="1">
            <a:off x="2474280" y="1600920"/>
            <a:ext cx="3960" cy="4527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2" name="Прямая со стрелкой 10"/>
          <p:cNvCxnSpPr/>
          <p:nvPr/>
        </p:nvCxnSpPr>
        <p:spPr>
          <a:xfrm>
            <a:off x="609480" y="4114800"/>
            <a:ext cx="37346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3" name="TextBox 12"/>
          <p:cNvSpPr/>
          <p:nvPr/>
        </p:nvSpPr>
        <p:spPr>
          <a:xfrm>
            <a:off x="4117320" y="4114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14"/>
          <p:cNvSpPr/>
          <p:nvPr/>
        </p:nvSpPr>
        <p:spPr>
          <a:xfrm>
            <a:off x="1069200" y="40384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15"/>
          <p:cNvSpPr/>
          <p:nvPr/>
        </p:nvSpPr>
        <p:spPr>
          <a:xfrm>
            <a:off x="1983600" y="404964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6"/>
          <p:cNvSpPr/>
          <p:nvPr/>
        </p:nvSpPr>
        <p:spPr>
          <a:xfrm>
            <a:off x="3355560" y="40384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олилиния 17"/>
          <p:cNvSpPr/>
          <p:nvPr/>
        </p:nvSpPr>
        <p:spPr>
          <a:xfrm>
            <a:off x="785880" y="4110120"/>
            <a:ext cx="376200" cy="117144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олилиния 18"/>
          <p:cNvSpPr/>
          <p:nvPr/>
        </p:nvSpPr>
        <p:spPr>
          <a:xfrm>
            <a:off x="1150920" y="2514600"/>
            <a:ext cx="968400" cy="16257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олилиния 19"/>
          <p:cNvSpPr/>
          <p:nvPr/>
        </p:nvSpPr>
        <p:spPr>
          <a:xfrm>
            <a:off x="2119320" y="4110120"/>
            <a:ext cx="1236600" cy="183204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олилиния 20"/>
          <p:cNvSpPr/>
          <p:nvPr/>
        </p:nvSpPr>
        <p:spPr>
          <a:xfrm>
            <a:off x="3355920" y="2013120"/>
            <a:ext cx="743040" cy="2106360"/>
          </a:xfrm>
          <a:prstGeom prst="pi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олилиния 21"/>
          <p:cNvSpPr/>
          <p:nvPr/>
        </p:nvSpPr>
        <p:spPr>
          <a:xfrm>
            <a:off x="1152360" y="2514600"/>
            <a:ext cx="968400" cy="162576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олилиния 22"/>
          <p:cNvSpPr/>
          <p:nvPr/>
        </p:nvSpPr>
        <p:spPr>
          <a:xfrm>
            <a:off x="3362400" y="2008080"/>
            <a:ext cx="741240" cy="210672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олилиния 23"/>
          <p:cNvSpPr/>
          <p:nvPr/>
        </p:nvSpPr>
        <p:spPr>
          <a:xfrm>
            <a:off x="773280" y="4114800"/>
            <a:ext cx="376200" cy="117324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9"/>
          <p:cNvSpPr/>
          <p:nvPr/>
        </p:nvSpPr>
        <p:spPr>
          <a:xfrm>
            <a:off x="4648320" y="4952880"/>
            <a:ext cx="4267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&lt;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х є (в;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олилиния 30"/>
          <p:cNvSpPr/>
          <p:nvPr/>
        </p:nvSpPr>
        <p:spPr>
          <a:xfrm>
            <a:off x="2127240" y="4114800"/>
            <a:ext cx="1236600" cy="183204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Управляющая кнопка: домой 34"/>
          <p:cNvSpPr/>
          <p:nvPr/>
        </p:nvSpPr>
        <p:spPr>
          <a:xfrm>
            <a:off x="228600" y="6019920"/>
            <a:ext cx="1828800" cy="585720"/>
          </a:xfrm>
          <a:custGeom>
            <a:avLst/>
            <a:gdLst>
              <a:gd name="textAreaLeft" fmla="*/ 37800 w 1828800"/>
              <a:gd name="textAreaRight" fmla="*/ 1791000 w 18288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67414" h="21600">
                <a:moveTo>
                  <a:pt x="0" y="0"/>
                </a:moveTo>
                <a:lnTo>
                  <a:pt x="67414" y="0"/>
                </a:lnTo>
                <a:lnTo>
                  <a:pt x="67414" y="21600"/>
                </a:lnTo>
                <a:lnTo>
                  <a:pt x="0" y="21600"/>
                </a:lnTo>
                <a:close/>
              </a:path>
              <a:path fill="lightenLess" w="67414" h="21600">
                <a:moveTo>
                  <a:pt x="0" y="0"/>
                </a:moveTo>
                <a:lnTo>
                  <a:pt x="67414" y="0"/>
                </a:lnTo>
                <a:lnTo>
                  <a:pt x="66014" y="1400"/>
                </a:lnTo>
                <a:lnTo>
                  <a:pt x="1400" y="1400"/>
                </a:lnTo>
                <a:close/>
              </a:path>
              <a:path fill="darken" w="67414" h="21600">
                <a:moveTo>
                  <a:pt x="67414" y="0"/>
                </a:moveTo>
                <a:lnTo>
                  <a:pt x="67414" y="21600"/>
                </a:lnTo>
                <a:lnTo>
                  <a:pt x="66014" y="20200"/>
                </a:lnTo>
                <a:lnTo>
                  <a:pt x="66014" y="1400"/>
                </a:lnTo>
                <a:close/>
              </a:path>
              <a:path fill="darkenLess" w="67414" h="21600">
                <a:moveTo>
                  <a:pt x="67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14" y="20200"/>
                </a:lnTo>
                <a:close/>
              </a:path>
              <a:path fill="lighten" w="67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14" h="21600">
                <a:moveTo>
                  <a:pt x="33707" y="3837"/>
                </a:moveTo>
                <a:lnTo>
                  <a:pt x="36283" y="6448"/>
                </a:lnTo>
                <a:lnTo>
                  <a:pt x="36283" y="4707"/>
                </a:lnTo>
                <a:lnTo>
                  <a:pt x="38059" y="4707"/>
                </a:lnTo>
                <a:lnTo>
                  <a:pt x="38059" y="8224"/>
                </a:lnTo>
                <a:lnTo>
                  <a:pt x="40670" y="10800"/>
                </a:lnTo>
                <a:lnTo>
                  <a:pt x="39016" y="10800"/>
                </a:lnTo>
                <a:lnTo>
                  <a:pt x="39016" y="17989"/>
                </a:lnTo>
                <a:lnTo>
                  <a:pt x="28398" y="17989"/>
                </a:lnTo>
                <a:lnTo>
                  <a:pt x="28398" y="10800"/>
                </a:lnTo>
                <a:lnTo>
                  <a:pt x="26744" y="10800"/>
                </a:lnTo>
                <a:close/>
              </a:path>
              <a:path fill="darkenLess" w="67414" h="21600">
                <a:moveTo>
                  <a:pt x="36283" y="6448"/>
                </a:moveTo>
                <a:lnTo>
                  <a:pt x="36283" y="4707"/>
                </a:lnTo>
                <a:lnTo>
                  <a:pt x="38059" y="4707"/>
                </a:lnTo>
                <a:lnTo>
                  <a:pt x="38059" y="8224"/>
                </a:lnTo>
                <a:close/>
              </a:path>
              <a:path fill="darkenLess" w="67414" h="21600">
                <a:moveTo>
                  <a:pt x="32784" y="14299"/>
                </a:moveTo>
                <a:lnTo>
                  <a:pt x="34629" y="14299"/>
                </a:lnTo>
                <a:lnTo>
                  <a:pt x="34629" y="17989"/>
                </a:lnTo>
                <a:lnTo>
                  <a:pt x="39016" y="17989"/>
                </a:lnTo>
                <a:lnTo>
                  <a:pt x="39016" y="10800"/>
                </a:lnTo>
                <a:lnTo>
                  <a:pt x="28398" y="10800"/>
                </a:lnTo>
                <a:lnTo>
                  <a:pt x="28398" y="17989"/>
                </a:lnTo>
                <a:lnTo>
                  <a:pt x="3278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24"/>
          <p:cNvSpPr/>
          <p:nvPr/>
        </p:nvSpPr>
        <p:spPr>
          <a:xfrm>
            <a:off x="2440800" y="1600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следование функции на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монотонност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это нахождение промежутков возрастания и убывания функ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48320" y="16002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6"/>
          <p:cNvSpPr/>
          <p:nvPr/>
        </p:nvSpPr>
        <p:spPr>
          <a:xfrm>
            <a:off x="4876920" y="4267080"/>
            <a:ext cx="4038480" cy="1557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убыва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ли  при увеличении значений аргумента х , график функции плавно опускается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Прямая со стрелкой 8"/>
          <p:cNvCxnSpPr/>
          <p:nvPr/>
        </p:nvCxnSpPr>
        <p:spPr>
          <a:xfrm flipV="1">
            <a:off x="2513160" y="1753560"/>
            <a:ext cx="3600" cy="419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3" name="Прямая со стрелкой 10"/>
          <p:cNvCxnSpPr/>
          <p:nvPr/>
        </p:nvCxnSpPr>
        <p:spPr>
          <a:xfrm>
            <a:off x="609480" y="4038120"/>
            <a:ext cx="38109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4" name="Управляющая кнопка: домой 11"/>
          <p:cNvSpPr/>
          <p:nvPr/>
        </p:nvSpPr>
        <p:spPr>
          <a:xfrm>
            <a:off x="228600" y="6272280"/>
            <a:ext cx="1600200" cy="585720"/>
          </a:xfrm>
          <a:custGeom>
            <a:avLst/>
            <a:gdLst>
              <a:gd name="textAreaLeft" fmla="*/ 37800 w 1600200"/>
              <a:gd name="textAreaRight" fmla="*/ 1562400 w 16002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58989" h="21600">
                <a:moveTo>
                  <a:pt x="0" y="0"/>
                </a:moveTo>
                <a:lnTo>
                  <a:pt x="58989" y="0"/>
                </a:lnTo>
                <a:lnTo>
                  <a:pt x="58989" y="21600"/>
                </a:lnTo>
                <a:lnTo>
                  <a:pt x="0" y="21600"/>
                </a:lnTo>
                <a:close/>
              </a:path>
              <a:path fill="lightenLess" w="58989" h="21600">
                <a:moveTo>
                  <a:pt x="0" y="0"/>
                </a:moveTo>
                <a:lnTo>
                  <a:pt x="58989" y="0"/>
                </a:lnTo>
                <a:lnTo>
                  <a:pt x="57589" y="1400"/>
                </a:lnTo>
                <a:lnTo>
                  <a:pt x="1400" y="1400"/>
                </a:lnTo>
                <a:close/>
              </a:path>
              <a:path fill="darken" w="58989" h="21600">
                <a:moveTo>
                  <a:pt x="58989" y="0"/>
                </a:moveTo>
                <a:lnTo>
                  <a:pt x="58989" y="21600"/>
                </a:lnTo>
                <a:lnTo>
                  <a:pt x="57589" y="20200"/>
                </a:lnTo>
                <a:lnTo>
                  <a:pt x="57589" y="1400"/>
                </a:lnTo>
                <a:close/>
              </a:path>
              <a:path fill="darkenLess" w="58989" h="21600">
                <a:moveTo>
                  <a:pt x="5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589" y="20200"/>
                </a:lnTo>
                <a:close/>
              </a:path>
              <a:path fill="lighten" w="5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989" h="21600">
                <a:moveTo>
                  <a:pt x="29494" y="3837"/>
                </a:moveTo>
                <a:lnTo>
                  <a:pt x="32071" y="6448"/>
                </a:lnTo>
                <a:lnTo>
                  <a:pt x="32071" y="4707"/>
                </a:lnTo>
                <a:lnTo>
                  <a:pt x="33846" y="4707"/>
                </a:lnTo>
                <a:lnTo>
                  <a:pt x="33846" y="8224"/>
                </a:lnTo>
                <a:lnTo>
                  <a:pt x="36457" y="10800"/>
                </a:lnTo>
                <a:lnTo>
                  <a:pt x="34804" y="10800"/>
                </a:lnTo>
                <a:lnTo>
                  <a:pt x="34804" y="17989"/>
                </a:lnTo>
                <a:lnTo>
                  <a:pt x="24185" y="17989"/>
                </a:lnTo>
                <a:lnTo>
                  <a:pt x="24185" y="10800"/>
                </a:lnTo>
                <a:lnTo>
                  <a:pt x="22531" y="10800"/>
                </a:lnTo>
                <a:close/>
              </a:path>
              <a:path fill="darkenLess" w="58989" h="21600">
                <a:moveTo>
                  <a:pt x="32071" y="6448"/>
                </a:moveTo>
                <a:lnTo>
                  <a:pt x="32071" y="4707"/>
                </a:lnTo>
                <a:lnTo>
                  <a:pt x="33846" y="4707"/>
                </a:lnTo>
                <a:lnTo>
                  <a:pt x="33846" y="8224"/>
                </a:lnTo>
                <a:close/>
              </a:path>
              <a:path fill="darkenLess" w="58989" h="21600">
                <a:moveTo>
                  <a:pt x="28572" y="14299"/>
                </a:moveTo>
                <a:lnTo>
                  <a:pt x="30417" y="14299"/>
                </a:lnTo>
                <a:lnTo>
                  <a:pt x="30417" y="17989"/>
                </a:lnTo>
                <a:lnTo>
                  <a:pt x="34804" y="17989"/>
                </a:lnTo>
                <a:lnTo>
                  <a:pt x="34804" y="10800"/>
                </a:lnTo>
                <a:lnTo>
                  <a:pt x="24185" y="10800"/>
                </a:lnTo>
                <a:lnTo>
                  <a:pt x="24185" y="17989"/>
                </a:lnTo>
                <a:lnTo>
                  <a:pt x="2857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4876920" y="1676520"/>
            <a:ext cx="4038480" cy="1557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озраста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сли  при увеличении значений аргумента х , график функции плавно поднимаетс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олилиния 19"/>
          <p:cNvSpPr/>
          <p:nvPr/>
        </p:nvSpPr>
        <p:spPr>
          <a:xfrm>
            <a:off x="741240" y="1746360"/>
            <a:ext cx="1306800" cy="33750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олилиния 21"/>
          <p:cNvSpPr/>
          <p:nvPr/>
        </p:nvSpPr>
        <p:spPr>
          <a:xfrm>
            <a:off x="2038320" y="1746360"/>
            <a:ext cx="1006560" cy="3301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олилиния 23"/>
          <p:cNvSpPr/>
          <p:nvPr/>
        </p:nvSpPr>
        <p:spPr>
          <a:xfrm>
            <a:off x="3044880" y="3895560"/>
            <a:ext cx="850680" cy="11336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ая соединительная линия 27"/>
          <p:cNvSpPr/>
          <p:nvPr/>
        </p:nvSpPr>
        <p:spPr>
          <a:xfrm>
            <a:off x="2048040" y="1746360"/>
            <a:ext cx="9360" cy="229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ая соединительная линия 29"/>
          <p:cNvSpPr/>
          <p:nvPr/>
        </p:nvSpPr>
        <p:spPr>
          <a:xfrm flipV="1">
            <a:off x="3044880" y="4038480"/>
            <a:ext cx="3240" cy="1000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0"/>
          <p:cNvSpPr/>
          <p:nvPr/>
        </p:nvSpPr>
        <p:spPr>
          <a:xfrm>
            <a:off x="1907640" y="396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31"/>
          <p:cNvSpPr/>
          <p:nvPr/>
        </p:nvSpPr>
        <p:spPr>
          <a:xfrm>
            <a:off x="2898000" y="37339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2"/>
          <p:cNvSpPr/>
          <p:nvPr/>
        </p:nvSpPr>
        <p:spPr>
          <a:xfrm>
            <a:off x="419364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33"/>
          <p:cNvSpPr/>
          <p:nvPr/>
        </p:nvSpPr>
        <p:spPr>
          <a:xfrm>
            <a:off x="2516760" y="1752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34"/>
          <p:cNvSpPr/>
          <p:nvPr/>
        </p:nvSpPr>
        <p:spPr>
          <a:xfrm>
            <a:off x="3886200" y="38671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35"/>
          <p:cNvSpPr/>
          <p:nvPr/>
        </p:nvSpPr>
        <p:spPr>
          <a:xfrm>
            <a:off x="3736080" y="396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ая соединительная линия 37"/>
          <p:cNvSpPr/>
          <p:nvPr/>
        </p:nvSpPr>
        <p:spPr>
          <a:xfrm flipV="1">
            <a:off x="3884760" y="396252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Выноска со стрелкой вверх 39"/>
          <p:cNvSpPr/>
          <p:nvPr/>
        </p:nvSpPr>
        <p:spPr>
          <a:xfrm>
            <a:off x="5105520" y="3276720"/>
            <a:ext cx="3429000" cy="761760"/>
          </a:xfrm>
          <a:prstGeom prst="upArrowCallout">
            <a:avLst>
              <a:gd name="adj1" fmla="val 25010"/>
              <a:gd name="adj2" fmla="val 25008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зрастает н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-∞;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;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Выноска со стрелкой вверх 40"/>
          <p:cNvSpPr/>
          <p:nvPr/>
        </p:nvSpPr>
        <p:spPr>
          <a:xfrm>
            <a:off x="5181480" y="5867280"/>
            <a:ext cx="3505320" cy="762120"/>
          </a:xfrm>
          <a:prstGeom prst="upArrowCallout">
            <a:avLst>
              <a:gd name="adj1" fmla="val 25001"/>
              <a:gd name="adj2" fmla="val 24999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бывает на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;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олилиния 41"/>
          <p:cNvSpPr/>
          <p:nvPr/>
        </p:nvSpPr>
        <p:spPr>
          <a:xfrm>
            <a:off x="739800" y="1752480"/>
            <a:ext cx="1308240" cy="337356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олилиния 42"/>
          <p:cNvSpPr/>
          <p:nvPr/>
        </p:nvSpPr>
        <p:spPr>
          <a:xfrm>
            <a:off x="3048120" y="3886200"/>
            <a:ext cx="850680" cy="113364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олилиния 43"/>
          <p:cNvSpPr/>
          <p:nvPr/>
        </p:nvSpPr>
        <p:spPr>
          <a:xfrm>
            <a:off x="2046240" y="1752480"/>
            <a:ext cx="1006560" cy="33004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2133720"/>
          </a:xfrm>
          <a:prstGeom prst="rect">
            <a:avLst/>
          </a:prstGeom>
          <a:solidFill>
            <a:srgbClr val="f2dcdb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Calibri"/>
              </a:rPr>
              <a:t>Точки экстремум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«заметные» точки графика функции. В окрестности 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точки максимума (        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рафик имеет вид гладкого «холма» или заострённого «пика», в окрестности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точки минимума(        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фик изображается в виде гладкой или заострённой «впадины». Значения функции в этих точках называют 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максимумами и минимумами функции (          и         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общее название - </a:t>
            </a:r>
            <a:r>
              <a:rPr b="0" lang="ru-RU" sz="2200" spc="-1" strike="noStrike">
                <a:solidFill>
                  <a:srgbClr val="00b050"/>
                </a:solidFill>
                <a:latin typeface="Calibri"/>
              </a:rPr>
              <a:t>экстремумы функ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80880" y="2514600"/>
            <a:ext cx="42674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4800240" y="2590920"/>
            <a:ext cx="3886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Управляющая кнопка: домой 4"/>
          <p:cNvSpPr/>
          <p:nvPr/>
        </p:nvSpPr>
        <p:spPr>
          <a:xfrm>
            <a:off x="152280" y="6095880"/>
            <a:ext cx="1219320" cy="586080"/>
          </a:xfrm>
          <a:custGeom>
            <a:avLst/>
            <a:gdLst>
              <a:gd name="textAreaLeft" fmla="*/ 37800 w 1219320"/>
              <a:gd name="textAreaRight" fmla="*/ 1181520 w 12193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44924" h="21600">
                <a:moveTo>
                  <a:pt x="0" y="0"/>
                </a:moveTo>
                <a:lnTo>
                  <a:pt x="44924" y="0"/>
                </a:lnTo>
                <a:lnTo>
                  <a:pt x="44924" y="21600"/>
                </a:lnTo>
                <a:lnTo>
                  <a:pt x="0" y="21600"/>
                </a:lnTo>
                <a:close/>
              </a:path>
              <a:path fill="lightenLess" w="44924" h="21600">
                <a:moveTo>
                  <a:pt x="0" y="0"/>
                </a:moveTo>
                <a:lnTo>
                  <a:pt x="44924" y="0"/>
                </a:lnTo>
                <a:lnTo>
                  <a:pt x="43524" y="1400"/>
                </a:lnTo>
                <a:lnTo>
                  <a:pt x="1400" y="1400"/>
                </a:lnTo>
                <a:close/>
              </a:path>
              <a:path fill="darken" w="44924" h="21600">
                <a:moveTo>
                  <a:pt x="44924" y="0"/>
                </a:moveTo>
                <a:lnTo>
                  <a:pt x="44924" y="21600"/>
                </a:lnTo>
                <a:lnTo>
                  <a:pt x="43524" y="20200"/>
                </a:lnTo>
                <a:lnTo>
                  <a:pt x="43524" y="1400"/>
                </a:lnTo>
                <a:close/>
              </a:path>
              <a:path fill="darkenLess" w="44924" h="21600">
                <a:moveTo>
                  <a:pt x="44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24" y="20200"/>
                </a:lnTo>
                <a:close/>
              </a:path>
              <a:path fill="lighten" w="44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24" h="21600">
                <a:moveTo>
                  <a:pt x="22462" y="3837"/>
                </a:moveTo>
                <a:lnTo>
                  <a:pt x="25038" y="6448"/>
                </a:lnTo>
                <a:lnTo>
                  <a:pt x="25038" y="4707"/>
                </a:lnTo>
                <a:lnTo>
                  <a:pt x="26814" y="4707"/>
                </a:lnTo>
                <a:lnTo>
                  <a:pt x="26814" y="8224"/>
                </a:lnTo>
                <a:lnTo>
                  <a:pt x="29425" y="10800"/>
                </a:lnTo>
                <a:lnTo>
                  <a:pt x="27771" y="10800"/>
                </a:lnTo>
                <a:lnTo>
                  <a:pt x="27771" y="17989"/>
                </a:lnTo>
                <a:lnTo>
                  <a:pt x="17153" y="17989"/>
                </a:lnTo>
                <a:lnTo>
                  <a:pt x="17153" y="10800"/>
                </a:lnTo>
                <a:lnTo>
                  <a:pt x="15499" y="10800"/>
                </a:lnTo>
                <a:close/>
              </a:path>
              <a:path fill="darkenLess" w="44924" h="21600">
                <a:moveTo>
                  <a:pt x="25038" y="6448"/>
                </a:moveTo>
                <a:lnTo>
                  <a:pt x="25038" y="4707"/>
                </a:lnTo>
                <a:lnTo>
                  <a:pt x="26814" y="4707"/>
                </a:lnTo>
                <a:lnTo>
                  <a:pt x="26814" y="8224"/>
                </a:lnTo>
                <a:close/>
              </a:path>
              <a:path fill="darkenLess" w="44924" h="21600">
                <a:moveTo>
                  <a:pt x="21539" y="14299"/>
                </a:moveTo>
                <a:lnTo>
                  <a:pt x="23384" y="14299"/>
                </a:lnTo>
                <a:lnTo>
                  <a:pt x="23384" y="17989"/>
                </a:lnTo>
                <a:lnTo>
                  <a:pt x="27771" y="17989"/>
                </a:lnTo>
                <a:lnTo>
                  <a:pt x="27771" y="10800"/>
                </a:lnTo>
                <a:lnTo>
                  <a:pt x="17153" y="10800"/>
                </a:lnTo>
                <a:lnTo>
                  <a:pt x="17153" y="17989"/>
                </a:lnTo>
                <a:lnTo>
                  <a:pt x="2153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6" descr=""/>
          <p:cNvPicPr/>
          <p:nvPr/>
        </p:nvPicPr>
        <p:blipFill>
          <a:blip r:embed="rId1"/>
          <a:stretch/>
        </p:blipFill>
        <p:spPr>
          <a:xfrm>
            <a:off x="3048120" y="5335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8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10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1" descr=""/>
          <p:cNvPicPr/>
          <p:nvPr/>
        </p:nvPicPr>
        <p:blipFill>
          <a:blip r:embed="rId3"/>
          <a:stretch/>
        </p:blipFill>
        <p:spPr>
          <a:xfrm>
            <a:off x="2057400" y="1905120"/>
            <a:ext cx="457200" cy="30456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13" descr=""/>
          <p:cNvPicPr/>
          <p:nvPr/>
        </p:nvPicPr>
        <p:blipFill>
          <a:blip r:embed="rId4"/>
          <a:stretch/>
        </p:blipFill>
        <p:spPr>
          <a:xfrm>
            <a:off x="2895480" y="1905120"/>
            <a:ext cx="457200" cy="3045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1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Прямая со стрелкой 17"/>
          <p:cNvCxnSpPr>
            <a:stCxn id="804" idx="2"/>
            <a:endCxn id="804" idx="2"/>
          </p:cNvCxnSpPr>
          <p:nvPr/>
        </p:nvCxnSpPr>
        <p:spPr>
          <a:xfrm flipH="1">
            <a:off x="2514240" y="6125760"/>
            <a:ext cx="2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8" name="Прямая со стрелкой 22"/>
          <p:cNvCxnSpPr>
            <a:stCxn id="804" idx="2"/>
            <a:endCxn id="804" idx="0"/>
          </p:cNvCxnSpPr>
          <p:nvPr/>
        </p:nvCxnSpPr>
        <p:spPr>
          <a:xfrm flipH="1" flipV="1">
            <a:off x="2512800" y="2515320"/>
            <a:ext cx="3600" cy="361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9" name="Прямая со стрелкой 24"/>
          <p:cNvCxnSpPr/>
          <p:nvPr/>
        </p:nvCxnSpPr>
        <p:spPr>
          <a:xfrm>
            <a:off x="533520" y="4114800"/>
            <a:ext cx="3962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Полилиния 26"/>
          <p:cNvSpPr/>
          <p:nvPr/>
        </p:nvSpPr>
        <p:spPr>
          <a:xfrm>
            <a:off x="849240" y="3087720"/>
            <a:ext cx="2389320" cy="236700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28"/>
          <p:cNvSpPr/>
          <p:nvPr/>
        </p:nvSpPr>
        <p:spPr>
          <a:xfrm>
            <a:off x="3233880" y="3102120"/>
            <a:ext cx="914400" cy="9144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30"/>
          <p:cNvSpPr/>
          <p:nvPr/>
        </p:nvSpPr>
        <p:spPr>
          <a:xfrm>
            <a:off x="1938240" y="5149800"/>
            <a:ext cx="76320" cy="7632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32"/>
          <p:cNvSpPr/>
          <p:nvPr/>
        </p:nvSpPr>
        <p:spPr>
          <a:xfrm>
            <a:off x="1417680" y="3214800"/>
            <a:ext cx="84240" cy="6192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Овал 33"/>
          <p:cNvSpPr/>
          <p:nvPr/>
        </p:nvSpPr>
        <p:spPr>
          <a:xfrm>
            <a:off x="3225960" y="3084480"/>
            <a:ext cx="75960" cy="7632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4"/>
          <p:cNvSpPr/>
          <p:nvPr/>
        </p:nvSpPr>
        <p:spPr>
          <a:xfrm>
            <a:off x="129816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5"/>
          <p:cNvSpPr/>
          <p:nvPr/>
        </p:nvSpPr>
        <p:spPr>
          <a:xfrm>
            <a:off x="1755000" y="40384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6"/>
          <p:cNvSpPr/>
          <p:nvPr/>
        </p:nvSpPr>
        <p:spPr>
          <a:xfrm>
            <a:off x="327888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7"/>
          <p:cNvSpPr/>
          <p:nvPr/>
        </p:nvSpPr>
        <p:spPr>
          <a:xfrm>
            <a:off x="426960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8"/>
          <p:cNvSpPr/>
          <p:nvPr/>
        </p:nvSpPr>
        <p:spPr>
          <a:xfrm>
            <a:off x="2516760" y="243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9"/>
          <p:cNvSpPr/>
          <p:nvPr/>
        </p:nvSpPr>
        <p:spPr>
          <a:xfrm>
            <a:off x="221256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0"/>
          <p:cNvSpPr/>
          <p:nvPr/>
        </p:nvSpPr>
        <p:spPr>
          <a:xfrm>
            <a:off x="251748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41"/>
          <p:cNvSpPr/>
          <p:nvPr/>
        </p:nvSpPr>
        <p:spPr>
          <a:xfrm>
            <a:off x="25167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2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45" descr=""/>
          <p:cNvPicPr/>
          <p:nvPr/>
        </p:nvPicPr>
        <p:blipFill>
          <a:blip r:embed="rId5"/>
          <a:stretch/>
        </p:blipFill>
        <p:spPr>
          <a:xfrm>
            <a:off x="6629400" y="3048120"/>
            <a:ext cx="914400" cy="3427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47" descr=""/>
          <p:cNvPicPr/>
          <p:nvPr/>
        </p:nvPicPr>
        <p:blipFill>
          <a:blip r:embed="rId6"/>
          <a:stretch/>
        </p:blipFill>
        <p:spPr>
          <a:xfrm>
            <a:off x="6629400" y="4648320"/>
            <a:ext cx="914400" cy="38088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9" descr=""/>
          <p:cNvPicPr/>
          <p:nvPr/>
        </p:nvPicPr>
        <p:blipFill>
          <a:blip r:embed="rId7"/>
          <a:stretch/>
        </p:blipFill>
        <p:spPr>
          <a:xfrm>
            <a:off x="5257800" y="3809880"/>
            <a:ext cx="838080" cy="41940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51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2" descr=""/>
          <p:cNvPicPr/>
          <p:nvPr/>
        </p:nvPicPr>
        <p:blipFill>
          <a:blip r:embed="rId8"/>
          <a:stretch/>
        </p:blipFill>
        <p:spPr>
          <a:xfrm>
            <a:off x="5257800" y="3048120"/>
            <a:ext cx="838080" cy="3427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4" descr=""/>
          <p:cNvPicPr/>
          <p:nvPr/>
        </p:nvPicPr>
        <p:blipFill>
          <a:blip r:embed="rId9"/>
          <a:stretch/>
        </p:blipFill>
        <p:spPr>
          <a:xfrm>
            <a:off x="5257800" y="4648320"/>
            <a:ext cx="838080" cy="41904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56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57" descr=""/>
          <p:cNvPicPr/>
          <p:nvPr/>
        </p:nvPicPr>
        <p:blipFill>
          <a:blip r:embed="rId10"/>
          <a:stretch/>
        </p:blipFill>
        <p:spPr>
          <a:xfrm>
            <a:off x="6629400" y="3809880"/>
            <a:ext cx="914400" cy="41940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5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000"/>
                            </p:stCondLst>
                            <p:childTnLst>
                              <p:par>
                                <p:cTn id="396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9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ласть значений функц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ит из значений переменной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х точек учавствующих в построении графика функции. Обозначается Е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486400" y="3352680"/>
            <a:ext cx="2743200" cy="6098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(-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Управляющая кнопка: домой 4"/>
          <p:cNvSpPr/>
          <p:nvPr/>
        </p:nvSpPr>
        <p:spPr>
          <a:xfrm>
            <a:off x="7391520" y="62485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94" h="21600">
                <a:moveTo>
                  <a:pt x="24297" y="3837"/>
                </a:moveTo>
                <a:lnTo>
                  <a:pt x="26873" y="6448"/>
                </a:lnTo>
                <a:lnTo>
                  <a:pt x="26873" y="4707"/>
                </a:lnTo>
                <a:lnTo>
                  <a:pt x="28649" y="4707"/>
                </a:lnTo>
                <a:lnTo>
                  <a:pt x="28649" y="8224"/>
                </a:lnTo>
                <a:lnTo>
                  <a:pt x="31260" y="10800"/>
                </a:lnTo>
                <a:lnTo>
                  <a:pt x="29606" y="10800"/>
                </a:lnTo>
                <a:lnTo>
                  <a:pt x="29606" y="17989"/>
                </a:lnTo>
                <a:lnTo>
                  <a:pt x="18988" y="17989"/>
                </a:lnTo>
                <a:lnTo>
                  <a:pt x="18988" y="10800"/>
                </a:lnTo>
                <a:lnTo>
                  <a:pt x="17334" y="10800"/>
                </a:lnTo>
                <a:close/>
              </a:path>
              <a:path fill="darkenLess" w="48594" h="21600">
                <a:moveTo>
                  <a:pt x="26873" y="6448"/>
                </a:moveTo>
                <a:lnTo>
                  <a:pt x="26873" y="4707"/>
                </a:lnTo>
                <a:lnTo>
                  <a:pt x="28649" y="4707"/>
                </a:lnTo>
                <a:lnTo>
                  <a:pt x="28649" y="8224"/>
                </a:lnTo>
                <a:close/>
              </a:path>
              <a:path fill="darkenLess" w="48594" h="21600">
                <a:moveTo>
                  <a:pt x="23374" y="14299"/>
                </a:moveTo>
                <a:lnTo>
                  <a:pt x="25219" y="14299"/>
                </a:lnTo>
                <a:lnTo>
                  <a:pt x="25219" y="17989"/>
                </a:lnTo>
                <a:lnTo>
                  <a:pt x="29606" y="17989"/>
                </a:lnTo>
                <a:lnTo>
                  <a:pt x="29606" y="10800"/>
                </a:lnTo>
                <a:lnTo>
                  <a:pt x="18988" y="10800"/>
                </a:lnTo>
                <a:lnTo>
                  <a:pt x="18988" y="17989"/>
                </a:lnTo>
                <a:lnTo>
                  <a:pt x="233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нуться об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Прямая со стрелкой 6"/>
          <p:cNvCxnSpPr/>
          <p:nvPr/>
        </p:nvCxnSpPr>
        <p:spPr>
          <a:xfrm flipV="1">
            <a:off x="2514600" y="1677240"/>
            <a:ext cx="2160" cy="472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0" name="Прямая со стрелкой 8"/>
          <p:cNvCxnSpPr/>
          <p:nvPr/>
        </p:nvCxnSpPr>
        <p:spPr>
          <a:xfrm>
            <a:off x="228600" y="4114800"/>
            <a:ext cx="4649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1" name="TextBox 9"/>
          <p:cNvSpPr/>
          <p:nvPr/>
        </p:nvSpPr>
        <p:spPr>
          <a:xfrm>
            <a:off x="45720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0"/>
          <p:cNvSpPr/>
          <p:nvPr/>
        </p:nvSpPr>
        <p:spPr>
          <a:xfrm>
            <a:off x="251460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олилиния 15"/>
          <p:cNvSpPr/>
          <p:nvPr/>
        </p:nvSpPr>
        <p:spPr>
          <a:xfrm>
            <a:off x="722160" y="2270160"/>
            <a:ext cx="3802320" cy="4583160"/>
          </a:xfrm>
          <a:prstGeom prst="pie">
            <a:avLst/>
          </a:prstGeom>
          <a:noFill/>
          <a:ln w="190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6"/>
          <p:cNvSpPr/>
          <p:nvPr/>
        </p:nvSpPr>
        <p:spPr>
          <a:xfrm>
            <a:off x="3737520" y="5867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7"/>
          <p:cNvSpPr/>
          <p:nvPr/>
        </p:nvSpPr>
        <p:spPr>
          <a:xfrm>
            <a:off x="25174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ая соединительная линия 19"/>
          <p:cNvSpPr/>
          <p:nvPr/>
        </p:nvSpPr>
        <p:spPr>
          <a:xfrm flipH="1" flipV="1">
            <a:off x="2514600" y="2317320"/>
            <a:ext cx="1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ая соединительная линия 23"/>
          <p:cNvSpPr/>
          <p:nvPr/>
        </p:nvSpPr>
        <p:spPr>
          <a:xfrm flipH="1" flipV="1">
            <a:off x="2514600" y="2317320"/>
            <a:ext cx="1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4"/>
          <p:cNvSpPr/>
          <p:nvPr/>
        </p:nvSpPr>
        <p:spPr>
          <a:xfrm>
            <a:off x="2478240" y="233532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ая соединительная линия 26"/>
          <p:cNvSpPr/>
          <p:nvPr/>
        </p:nvSpPr>
        <p:spPr>
          <a:xfrm flipV="1">
            <a:off x="2514600" y="2411280"/>
            <a:ext cx="1440" cy="3913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500"/>
                            </p:stCondLst>
                            <p:childTnLst>
                              <p:par>
                                <p:cTn id="457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имус великий</cp:lastModifiedBy>
  <dcterms:modified xsi:type="dcterms:W3CDTF">2007-12-08T09:12:13Z</dcterms:modified>
  <cp:revision>85</cp:revision>
  <dc:subject/>
  <dc:title>Исследование функции по графику</dc:title>
</cp:coreProperties>
</file>