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DA8-7B01-4979-BC8B-AA6E3223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734-4889-4720-9872-86537C11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23F-9604-4CAE-9DBA-8149229D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742-19DC-43F8-8531-C482C1A5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B00D-9AC2-43FB-A5C2-9957193C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9259-1688-48F9-9A7B-C2776A19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D8C4-DD25-49BA-8E6E-F27593DE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C760-5AEB-4D83-ADC3-36BF8002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9930-178B-4BBD-AF34-3CFD15ED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8587-29F4-4F0B-BE79-941B9CEE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48AA-0979-4B98-803A-C71A6D38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E38-A0CB-4B15-A0DB-DADC6AD2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E83C-723B-424C-8793-A3D72D7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AAB7-5458-4C78-B7FC-9E8A2238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25EA-9E45-4B7D-A3DE-048B7AD4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1177-3D4B-49BD-BFF3-C7E99F26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91AA-5E4D-4B55-B5BA-C78117BF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307-CAB1-4AA6-9285-1DC0634D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3E7-36B6-48C1-B73E-6E9B70FB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989-0BB6-4AAA-ADED-4DFF2544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5BC-DAD6-4E36-90AD-155059CB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446-7753-46BF-A784-4DA9DB17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C92-D8DB-4335-88A8-D4F6B6A2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631-47A9-460B-BC5B-49968CCB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DA38-14F7-4618-8EED-DDD931144F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F84F-4CA8-4EC7-8658-CEB869D016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32000" y="333360"/>
            <a:ext cx="5827680" cy="1038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Устная работ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95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ма: Сложение и вычитание дробей с разными знаменателя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79640" y="1052640"/>
            <a:ext cx="5040360" cy="482436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70480" y="1044720"/>
            <a:ext cx="14040" cy="484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2205000"/>
            <a:ext cx="4351320" cy="2497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95080" y="2060640"/>
            <a:ext cx="4149720" cy="2728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16200" y="2185920"/>
            <a:ext cx="2663640" cy="2611440"/>
          </a:xfrm>
          <a:custGeom>
            <a:avLst/>
            <a:gdLst/>
            <a:ahLst/>
            <a:rect l="l" t="t" r="r" b="b"/>
            <a:pathLst>
              <a:path w="1678" h="1645">
                <a:moveTo>
                  <a:pt x="375" y="1645"/>
                </a:moveTo>
                <a:cubicBezTo>
                  <a:pt x="813" y="1375"/>
                  <a:pt x="1148" y="1150"/>
                  <a:pt x="1678" y="785"/>
                </a:cubicBezTo>
                <a:cubicBezTo>
                  <a:pt x="1193" y="493"/>
                  <a:pt x="818" y="265"/>
                  <a:pt x="342" y="0"/>
                </a:cubicBezTo>
                <a:cubicBezTo>
                  <a:pt x="16" y="401"/>
                  <a:pt x="0" y="1177"/>
                  <a:pt x="375" y="1645"/>
                </a:cubicBezTo>
                <a:close/>
              </a:path>
            </a:pathLst>
          </a:custGeom>
          <a:solidFill>
            <a:srgbClr val="d60000"/>
          </a:solidFill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3432240"/>
            <a:ext cx="2067120" cy="2544840"/>
          </a:xfrm>
          <a:custGeom>
            <a:avLst/>
            <a:gdLst/>
            <a:ahLst/>
            <a:rect l="l" t="t" r="r" b="b"/>
            <a:pathLst>
              <a:path w="1302" h="1603">
                <a:moveTo>
                  <a:pt x="1294" y="1528"/>
                </a:moveTo>
                <a:cubicBezTo>
                  <a:pt x="1302" y="1044"/>
                  <a:pt x="1286" y="660"/>
                  <a:pt x="1286" y="0"/>
                </a:cubicBezTo>
                <a:cubicBezTo>
                  <a:pt x="814" y="313"/>
                  <a:pt x="443" y="552"/>
                  <a:pt x="0" y="868"/>
                </a:cubicBezTo>
                <a:cubicBezTo>
                  <a:pt x="125" y="1127"/>
                  <a:pt x="710" y="1603"/>
                  <a:pt x="1294" y="1528"/>
                </a:cubicBezTo>
                <a:close/>
              </a:path>
            </a:pathLst>
          </a:custGeom>
          <a:solidFill>
            <a:srgbClr val="ff1717">
              <a:alpha val="96000"/>
            </a:srgbClr>
          </a:solidFill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89560" y="2081160"/>
            <a:ext cx="2728800" cy="2621160"/>
          </a:xfrm>
          <a:custGeom>
            <a:avLst/>
            <a:gdLst/>
            <a:ahLst/>
            <a:rect l="l" t="t" r="r" b="b"/>
            <a:pathLst>
              <a:path w="1719" h="1651">
                <a:moveTo>
                  <a:pt x="1369" y="1651"/>
                </a:moveTo>
                <a:cubicBezTo>
                  <a:pt x="918" y="1403"/>
                  <a:pt x="548" y="1190"/>
                  <a:pt x="0" y="852"/>
                </a:cubicBezTo>
                <a:cubicBezTo>
                  <a:pt x="469" y="536"/>
                  <a:pt x="832" y="289"/>
                  <a:pt x="1294" y="0"/>
                </a:cubicBezTo>
                <a:cubicBezTo>
                  <a:pt x="1640" y="384"/>
                  <a:pt x="1719" y="1164"/>
                  <a:pt x="1369" y="1651"/>
                </a:cubicBezTo>
                <a:close/>
              </a:path>
            </a:pathLst>
          </a:custGeom>
          <a:solidFill>
            <a:srgbClr val="ffebeb"/>
          </a:solidFill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71680" y="981000"/>
            <a:ext cx="2133720" cy="2459160"/>
          </a:xfrm>
          <a:custGeom>
            <a:avLst/>
            <a:gdLst/>
            <a:ahLst/>
            <a:rect l="l" t="t" r="r" b="b"/>
            <a:pathLst>
              <a:path w="1344" h="1549">
                <a:moveTo>
                  <a:pt x="1294" y="50"/>
                </a:moveTo>
                <a:cubicBezTo>
                  <a:pt x="1311" y="542"/>
                  <a:pt x="1344" y="889"/>
                  <a:pt x="1340" y="1549"/>
                </a:cubicBezTo>
                <a:cubicBezTo>
                  <a:pt x="847" y="1247"/>
                  <a:pt x="441" y="1069"/>
                  <a:pt x="0" y="750"/>
                </a:cubicBezTo>
                <a:cubicBezTo>
                  <a:pt x="125" y="509"/>
                  <a:pt x="693" y="0"/>
                  <a:pt x="1294" y="50"/>
                </a:cubicBezTo>
                <a:close/>
              </a:path>
            </a:pathLst>
          </a:custGeom>
          <a:solidFill>
            <a:srgbClr val="b60000"/>
          </a:solidFill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5400" y="3432240"/>
            <a:ext cx="2133360" cy="2450880"/>
          </a:xfrm>
          <a:custGeom>
            <a:avLst/>
            <a:gdLst/>
            <a:ahLst/>
            <a:rect l="l" t="t" r="r" b="b"/>
            <a:pathLst>
              <a:path w="1344" h="1544">
                <a:moveTo>
                  <a:pt x="8" y="1544"/>
                </a:moveTo>
                <a:cubicBezTo>
                  <a:pt x="0" y="1060"/>
                  <a:pt x="0" y="660"/>
                  <a:pt x="0" y="0"/>
                </a:cubicBezTo>
                <a:cubicBezTo>
                  <a:pt x="472" y="313"/>
                  <a:pt x="868" y="534"/>
                  <a:pt x="1344" y="818"/>
                </a:cubicBezTo>
                <a:cubicBezTo>
                  <a:pt x="1186" y="1110"/>
                  <a:pt x="668" y="1536"/>
                  <a:pt x="8" y="1544"/>
                </a:cubicBezTo>
                <a:close/>
              </a:path>
            </a:pathLst>
          </a:custGeom>
          <a:solidFill>
            <a:srgbClr val="ffc9c9"/>
          </a:solidFill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41680" y="1031760"/>
            <a:ext cx="2132280" cy="2394000"/>
          </a:xfrm>
          <a:custGeom>
            <a:avLst/>
            <a:gdLst/>
            <a:ahLst/>
            <a:rect l="l" t="t" r="r" b="b"/>
            <a:pathLst>
              <a:path w="1343" h="1508">
                <a:moveTo>
                  <a:pt x="1343" y="677"/>
                </a:moveTo>
                <a:cubicBezTo>
                  <a:pt x="942" y="947"/>
                  <a:pt x="581" y="1150"/>
                  <a:pt x="27" y="1508"/>
                </a:cubicBezTo>
                <a:cubicBezTo>
                  <a:pt x="18" y="968"/>
                  <a:pt x="9" y="566"/>
                  <a:pt x="0" y="17"/>
                </a:cubicBezTo>
                <a:cubicBezTo>
                  <a:pt x="259" y="0"/>
                  <a:pt x="892" y="35"/>
                  <a:pt x="1343" y="677"/>
                </a:cubicBezTo>
                <a:close/>
              </a:path>
            </a:pathLst>
          </a:custGeom>
          <a:solidFill>
            <a:srgbClr val="800000"/>
          </a:solidFill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Молодцы!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9451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имер 1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Восстановите недостающие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79640" y="3141720"/>
                <a:ext cx="472104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881360" y="4148280"/>
            <a:ext cx="687240" cy="641160"/>
          </a:xfrm>
          <a:prstGeom prst="wedgeRectCallout">
            <a:avLst>
              <a:gd name="adj1" fmla="val -18361"/>
              <a:gd name="adj2" fmla="val 247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62280" y="4043520"/>
            <a:ext cx="792000" cy="939600"/>
          </a:xfrm>
          <a:prstGeom prst="wedgeRectCallout">
            <a:avLst>
              <a:gd name="adj1" fmla="val -34569"/>
              <a:gd name="adj2" fmla="val 329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81600" y="3127320"/>
            <a:ext cx="792000" cy="939960"/>
          </a:xfrm>
          <a:prstGeom prst="wedgeRectCallout">
            <a:avLst>
              <a:gd name="adj1" fmla="val -38175"/>
              <a:gd name="adj2" fmla="val 62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0" y="5445000"/>
            <a:ext cx="1835280" cy="1413000"/>
          </a:xfrm>
          <a:custGeom>
            <a:avLst/>
            <a:gdLst>
              <a:gd name="textAreaLeft" fmla="*/ 91440 w 1835280"/>
              <a:gd name="textAreaRight" fmla="*/ 1743840 w 183528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28054" h="21600">
                <a:moveTo>
                  <a:pt x="0" y="0"/>
                </a:moveTo>
                <a:lnTo>
                  <a:pt x="28054" y="0"/>
                </a:lnTo>
                <a:lnTo>
                  <a:pt x="28054" y="21600"/>
                </a:lnTo>
                <a:lnTo>
                  <a:pt x="0" y="21600"/>
                </a:lnTo>
                <a:close/>
              </a:path>
              <a:path fill="lightenLess" w="28054" h="21600">
                <a:moveTo>
                  <a:pt x="0" y="0"/>
                </a:moveTo>
                <a:lnTo>
                  <a:pt x="28054" y="0"/>
                </a:lnTo>
                <a:lnTo>
                  <a:pt x="26654" y="1400"/>
                </a:lnTo>
                <a:lnTo>
                  <a:pt x="1400" y="1400"/>
                </a:lnTo>
                <a:close/>
              </a:path>
              <a:path fill="darken" w="28054" h="21600">
                <a:moveTo>
                  <a:pt x="28054" y="0"/>
                </a:moveTo>
                <a:lnTo>
                  <a:pt x="28054" y="21600"/>
                </a:lnTo>
                <a:lnTo>
                  <a:pt x="26654" y="20200"/>
                </a:lnTo>
                <a:lnTo>
                  <a:pt x="26654" y="1400"/>
                </a:lnTo>
                <a:close/>
              </a:path>
              <a:path fill="darkenLess" w="28054" h="21600">
                <a:moveTo>
                  <a:pt x="28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54" y="20200"/>
                </a:lnTo>
                <a:close/>
              </a:path>
              <a:path fill="lighten" w="28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4800" y="73080"/>
            <a:ext cx="1460520" cy="2568600"/>
          </a:xfrm>
          <a:custGeom>
            <a:avLst/>
            <a:gdLst>
              <a:gd name="textAreaLeft" fmla="*/ 94680 w 1460520"/>
              <a:gd name="textAreaRight" fmla="*/ 1365840 w 1460520"/>
              <a:gd name="textAreaTop" fmla="*/ 94680 h 2568600"/>
              <a:gd name="textAreaBottom" fmla="*/ 2473920 h 2568600"/>
            </a:gdLst>
            <a:ahLst/>
            <a:rect l="textAreaLeft" t="textAreaTop" r="textAreaRight" b="textAreaBottom"/>
            <a:pathLst>
              <a:path w="21600" h="37984">
                <a:moveTo>
                  <a:pt x="0" y="0"/>
                </a:moveTo>
                <a:lnTo>
                  <a:pt x="21600" y="0"/>
                </a:lnTo>
                <a:lnTo>
                  <a:pt x="21600" y="37984"/>
                </a:lnTo>
                <a:lnTo>
                  <a:pt x="0" y="37984"/>
                </a:lnTo>
                <a:close/>
              </a:path>
              <a:path fill="lightenLess" w="21600" h="379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84">
                <a:moveTo>
                  <a:pt x="21600" y="0"/>
                </a:moveTo>
                <a:lnTo>
                  <a:pt x="21600" y="37984"/>
                </a:lnTo>
                <a:lnTo>
                  <a:pt x="20200" y="36584"/>
                </a:lnTo>
                <a:lnTo>
                  <a:pt x="20200" y="1400"/>
                </a:lnTo>
                <a:close/>
              </a:path>
              <a:path fill="darkenLess" w="21600" h="37984">
                <a:moveTo>
                  <a:pt x="21600" y="37984"/>
                </a:moveTo>
                <a:lnTo>
                  <a:pt x="0" y="37984"/>
                </a:lnTo>
                <a:lnTo>
                  <a:pt x="1400" y="36584"/>
                </a:lnTo>
                <a:lnTo>
                  <a:pt x="20200" y="36584"/>
                </a:lnTo>
                <a:close/>
              </a:path>
              <a:path fill="lighten" w="21600" h="37984">
                <a:moveTo>
                  <a:pt x="0" y="37984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му может быть равен общий знаменател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пишем дроби с одинаковым знаменателем и определим дополнительный множитель ко второй дроб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перь мы имеем пример на вычитание дробей с одинаковыми знаменателя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помним правило выполнения этого действ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му должен быть равен числитель второй дроб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81320" y="2044800"/>
                <a:ext cx="30258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660920" y="1916280"/>
            <a:ext cx="392040" cy="347400"/>
          </a:xfrm>
          <a:custGeom>
            <a:avLst/>
            <a:gdLst/>
            <a:ahLst/>
            <a:rect l="l" t="t" r="r" b="b"/>
            <a:pathLst>
              <a:path w="247" h="219">
                <a:moveTo>
                  <a:pt x="0" y="0"/>
                </a:moveTo>
                <a:cubicBezTo>
                  <a:pt x="37" y="183"/>
                  <a:pt x="156" y="219"/>
                  <a:pt x="247" y="2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18080" y="1728720"/>
            <a:ext cx="617400" cy="549360"/>
          </a:xfrm>
          <a:prstGeom prst="wedgeRectCallout">
            <a:avLst>
              <a:gd name="adj1" fmla="val -37402"/>
              <a:gd name="adj2" fmla="val -33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276720" y="5373720"/>
                <a:ext cx="30258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5445000"/>
            <a:ext cx="1835280" cy="1413000"/>
          </a:xfrm>
          <a:custGeom>
            <a:avLst/>
            <a:gdLst>
              <a:gd name="textAreaLeft" fmla="*/ 91440 w 1835280"/>
              <a:gd name="textAreaRight" fmla="*/ 1743840 w 183528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28054" h="21600">
                <a:moveTo>
                  <a:pt x="0" y="0"/>
                </a:moveTo>
                <a:lnTo>
                  <a:pt x="28054" y="0"/>
                </a:lnTo>
                <a:lnTo>
                  <a:pt x="28054" y="21600"/>
                </a:lnTo>
                <a:lnTo>
                  <a:pt x="0" y="21600"/>
                </a:lnTo>
                <a:close/>
              </a:path>
              <a:path fill="lightenLess" w="28054" h="21600">
                <a:moveTo>
                  <a:pt x="0" y="0"/>
                </a:moveTo>
                <a:lnTo>
                  <a:pt x="28054" y="0"/>
                </a:lnTo>
                <a:lnTo>
                  <a:pt x="26654" y="1400"/>
                </a:lnTo>
                <a:lnTo>
                  <a:pt x="1400" y="1400"/>
                </a:lnTo>
                <a:close/>
              </a:path>
              <a:path fill="darken" w="28054" h="21600">
                <a:moveTo>
                  <a:pt x="28054" y="0"/>
                </a:moveTo>
                <a:lnTo>
                  <a:pt x="28054" y="21600"/>
                </a:lnTo>
                <a:lnTo>
                  <a:pt x="26654" y="20200"/>
                </a:lnTo>
                <a:lnTo>
                  <a:pt x="26654" y="1400"/>
                </a:lnTo>
                <a:close/>
              </a:path>
              <a:path fill="darkenLess" w="28054" h="21600">
                <a:moveTo>
                  <a:pt x="28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54" y="20200"/>
                </a:lnTo>
                <a:close/>
              </a:path>
              <a:path fill="lighten" w="28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4800" y="73080"/>
            <a:ext cx="1460520" cy="2568600"/>
          </a:xfrm>
          <a:custGeom>
            <a:avLst/>
            <a:gdLst>
              <a:gd name="textAreaLeft" fmla="*/ 94680 w 1460520"/>
              <a:gd name="textAreaRight" fmla="*/ 1365840 w 1460520"/>
              <a:gd name="textAreaTop" fmla="*/ 94680 h 2568600"/>
              <a:gd name="textAreaBottom" fmla="*/ 2473920 h 2568600"/>
            </a:gdLst>
            <a:ahLst/>
            <a:rect l="textAreaLeft" t="textAreaTop" r="textAreaRight" b="textAreaBottom"/>
            <a:pathLst>
              <a:path w="21600" h="37984">
                <a:moveTo>
                  <a:pt x="0" y="0"/>
                </a:moveTo>
                <a:lnTo>
                  <a:pt x="21600" y="0"/>
                </a:lnTo>
                <a:lnTo>
                  <a:pt x="21600" y="37984"/>
                </a:lnTo>
                <a:lnTo>
                  <a:pt x="0" y="37984"/>
                </a:lnTo>
                <a:close/>
              </a:path>
              <a:path fill="lightenLess" w="21600" h="379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84">
                <a:moveTo>
                  <a:pt x="21600" y="0"/>
                </a:moveTo>
                <a:lnTo>
                  <a:pt x="21600" y="37984"/>
                </a:lnTo>
                <a:lnTo>
                  <a:pt x="20200" y="36584"/>
                </a:lnTo>
                <a:lnTo>
                  <a:pt x="20200" y="1400"/>
                </a:lnTo>
                <a:close/>
              </a:path>
              <a:path fill="darkenLess" w="21600" h="37984">
                <a:moveTo>
                  <a:pt x="21600" y="37984"/>
                </a:moveTo>
                <a:lnTo>
                  <a:pt x="0" y="37984"/>
                </a:lnTo>
                <a:lnTo>
                  <a:pt x="1400" y="36584"/>
                </a:lnTo>
                <a:lnTo>
                  <a:pt x="20200" y="36584"/>
                </a:lnTo>
                <a:close/>
              </a:path>
              <a:path fill="lighten" w="21600" h="37984">
                <a:moveTo>
                  <a:pt x="0" y="37984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53240" y="100080"/>
            <a:ext cx="1460520" cy="2568600"/>
          </a:xfrm>
          <a:custGeom>
            <a:avLst/>
            <a:gdLst>
              <a:gd name="textAreaLeft" fmla="*/ 94680 w 1460520"/>
              <a:gd name="textAreaRight" fmla="*/ 1365840 w 1460520"/>
              <a:gd name="textAreaTop" fmla="*/ 94680 h 2568600"/>
              <a:gd name="textAreaBottom" fmla="*/ 2473920 h 2568600"/>
            </a:gdLst>
            <a:ahLst/>
            <a:rect l="textAreaLeft" t="textAreaTop" r="textAreaRight" b="textAreaBottom"/>
            <a:pathLst>
              <a:path w="21600" h="37984">
                <a:moveTo>
                  <a:pt x="0" y="0"/>
                </a:moveTo>
                <a:lnTo>
                  <a:pt x="21600" y="0"/>
                </a:lnTo>
                <a:lnTo>
                  <a:pt x="21600" y="37984"/>
                </a:lnTo>
                <a:lnTo>
                  <a:pt x="0" y="37984"/>
                </a:lnTo>
                <a:close/>
              </a:path>
              <a:path fill="lightenLess" w="21600" h="379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84">
                <a:moveTo>
                  <a:pt x="21600" y="0"/>
                </a:moveTo>
                <a:lnTo>
                  <a:pt x="21600" y="37984"/>
                </a:lnTo>
                <a:lnTo>
                  <a:pt x="20200" y="36584"/>
                </a:lnTo>
                <a:lnTo>
                  <a:pt x="20200" y="1400"/>
                </a:lnTo>
                <a:close/>
              </a:path>
              <a:path fill="darkenLess" w="21600" h="37984">
                <a:moveTo>
                  <a:pt x="21600" y="37984"/>
                </a:moveTo>
                <a:lnTo>
                  <a:pt x="0" y="37984"/>
                </a:lnTo>
                <a:lnTo>
                  <a:pt x="1400" y="36584"/>
                </a:lnTo>
                <a:lnTo>
                  <a:pt x="20200" y="36584"/>
                </a:lnTo>
                <a:close/>
              </a:path>
              <a:path fill="lighten" w="21600" h="37984">
                <a:moveTo>
                  <a:pt x="0" y="37984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8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9451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имер 2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Восстановите недостающие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79640" y="3251160"/>
                <a:ext cx="472104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/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881360" y="4148280"/>
            <a:ext cx="687240" cy="641160"/>
          </a:xfrm>
          <a:prstGeom prst="wedgeRectCallout">
            <a:avLst>
              <a:gd name="adj1" fmla="val -18361"/>
              <a:gd name="adj2" fmla="val 247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62280" y="4043520"/>
            <a:ext cx="792000" cy="939600"/>
          </a:xfrm>
          <a:prstGeom prst="wedgeRectCallout">
            <a:avLst>
              <a:gd name="adj1" fmla="val -34569"/>
              <a:gd name="adj2" fmla="val 329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3068640"/>
            <a:ext cx="792000" cy="939960"/>
          </a:xfrm>
          <a:prstGeom prst="wedgeRectCallout">
            <a:avLst>
              <a:gd name="adj1" fmla="val -30962"/>
              <a:gd name="adj2" fmla="val 68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445000"/>
            <a:ext cx="1835280" cy="1413000"/>
          </a:xfrm>
          <a:custGeom>
            <a:avLst/>
            <a:gdLst>
              <a:gd name="textAreaLeft" fmla="*/ 91440 w 1835280"/>
              <a:gd name="textAreaRight" fmla="*/ 1743840 w 183528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28054" h="21600">
                <a:moveTo>
                  <a:pt x="0" y="0"/>
                </a:moveTo>
                <a:lnTo>
                  <a:pt x="28054" y="0"/>
                </a:lnTo>
                <a:lnTo>
                  <a:pt x="28054" y="21600"/>
                </a:lnTo>
                <a:lnTo>
                  <a:pt x="0" y="21600"/>
                </a:lnTo>
                <a:close/>
              </a:path>
              <a:path fill="lightenLess" w="28054" h="21600">
                <a:moveTo>
                  <a:pt x="0" y="0"/>
                </a:moveTo>
                <a:lnTo>
                  <a:pt x="28054" y="0"/>
                </a:lnTo>
                <a:lnTo>
                  <a:pt x="26654" y="1400"/>
                </a:lnTo>
                <a:lnTo>
                  <a:pt x="1400" y="1400"/>
                </a:lnTo>
                <a:close/>
              </a:path>
              <a:path fill="darken" w="28054" h="21600">
                <a:moveTo>
                  <a:pt x="28054" y="0"/>
                </a:moveTo>
                <a:lnTo>
                  <a:pt x="28054" y="21600"/>
                </a:lnTo>
                <a:lnTo>
                  <a:pt x="26654" y="20200"/>
                </a:lnTo>
                <a:lnTo>
                  <a:pt x="26654" y="1400"/>
                </a:lnTo>
                <a:close/>
              </a:path>
              <a:path fill="darkenLess" w="28054" h="21600">
                <a:moveTo>
                  <a:pt x="28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54" y="20200"/>
                </a:lnTo>
                <a:close/>
              </a:path>
              <a:path fill="lighten" w="28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0"/>
            <a:ext cx="1619280" cy="2438280"/>
          </a:xfrm>
          <a:custGeom>
            <a:avLst/>
            <a:gdLst>
              <a:gd name="textAreaLeft" fmla="*/ 104760 w 1619280"/>
              <a:gd name="textAreaRight" fmla="*/ 1514520 w 1619280"/>
              <a:gd name="textAreaTop" fmla="*/ 104760 h 2438280"/>
              <a:gd name="textAreaBottom" fmla="*/ 2333520 h 2438280"/>
            </a:gdLst>
            <a:ahLst/>
            <a:rect l="textAreaLeft" t="textAreaTop" r="textAreaRight" b="textAreaBottom"/>
            <a:pathLst>
              <a:path w="21600" h="32522">
                <a:moveTo>
                  <a:pt x="0" y="0"/>
                </a:moveTo>
                <a:lnTo>
                  <a:pt x="21600" y="0"/>
                </a:lnTo>
                <a:lnTo>
                  <a:pt x="21600" y="32522"/>
                </a:lnTo>
                <a:lnTo>
                  <a:pt x="0" y="32522"/>
                </a:lnTo>
                <a:close/>
              </a:path>
              <a:path fill="lightenLess" w="21600" h="325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522">
                <a:moveTo>
                  <a:pt x="21600" y="0"/>
                </a:moveTo>
                <a:lnTo>
                  <a:pt x="21600" y="32522"/>
                </a:lnTo>
                <a:lnTo>
                  <a:pt x="20200" y="31122"/>
                </a:lnTo>
                <a:lnTo>
                  <a:pt x="20200" y="1400"/>
                </a:lnTo>
                <a:close/>
              </a:path>
              <a:path fill="darkenLess" w="21600" h="32522">
                <a:moveTo>
                  <a:pt x="21600" y="32522"/>
                </a:moveTo>
                <a:lnTo>
                  <a:pt x="0" y="32522"/>
                </a:lnTo>
                <a:lnTo>
                  <a:pt x="1400" y="31122"/>
                </a:lnTo>
                <a:lnTo>
                  <a:pt x="20200" y="31122"/>
                </a:lnTo>
                <a:close/>
              </a:path>
              <a:path fill="lighten" w="21600" h="32522">
                <a:moveTo>
                  <a:pt x="0" y="325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11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740720" y="461880"/>
            <a:ext cx="1227240" cy="2192400"/>
          </a:xfrm>
          <a:custGeom>
            <a:avLst/>
            <a:gdLst>
              <a:gd name="textAreaLeft" fmla="*/ 79560 w 1227240"/>
              <a:gd name="textAreaRight" fmla="*/ 1147680 w 1227240"/>
              <a:gd name="textAreaTop" fmla="*/ 79560 h 2192400"/>
              <a:gd name="textAreaBottom" fmla="*/ 2112840 h 2192400"/>
            </a:gdLst>
            <a:ahLst/>
            <a:rect l="textAreaLeft" t="textAreaTop" r="textAreaRight" b="textAreaBottom"/>
            <a:pathLst>
              <a:path w="21600" h="38582">
                <a:moveTo>
                  <a:pt x="0" y="0"/>
                </a:moveTo>
                <a:lnTo>
                  <a:pt x="21600" y="0"/>
                </a:lnTo>
                <a:lnTo>
                  <a:pt x="21600" y="38582"/>
                </a:lnTo>
                <a:lnTo>
                  <a:pt x="0" y="38582"/>
                </a:lnTo>
                <a:close/>
              </a:path>
              <a:path fill="lightenLess" w="21600" h="385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582">
                <a:moveTo>
                  <a:pt x="21600" y="0"/>
                </a:moveTo>
                <a:lnTo>
                  <a:pt x="21600" y="38582"/>
                </a:lnTo>
                <a:lnTo>
                  <a:pt x="20200" y="37182"/>
                </a:lnTo>
                <a:lnTo>
                  <a:pt x="20200" y="1400"/>
                </a:lnTo>
                <a:close/>
              </a:path>
              <a:path fill="darkenLess" w="21600" h="38582">
                <a:moveTo>
                  <a:pt x="21600" y="38582"/>
                </a:moveTo>
                <a:lnTo>
                  <a:pt x="0" y="38582"/>
                </a:lnTo>
                <a:lnTo>
                  <a:pt x="1400" y="37182"/>
                </a:lnTo>
                <a:lnTo>
                  <a:pt x="20200" y="37182"/>
                </a:lnTo>
                <a:close/>
              </a:path>
              <a:path fill="lighten" w="21600" h="38582">
                <a:moveTo>
                  <a:pt x="0" y="385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718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му может быть равен общий знаменател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пишем дроби с одинаковым знаменателем и определим дополнительный множитель к первой дроб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йдем числитель первой дроб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му должен быть равен числитель второй дроб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006720" y="2075040"/>
                <a:ext cx="31258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3419640" y="1773360"/>
            <a:ext cx="392040" cy="347400"/>
          </a:xfrm>
          <a:custGeom>
            <a:avLst/>
            <a:gdLst/>
            <a:ahLst/>
            <a:rect l="l" t="t" r="r" b="b"/>
            <a:pathLst>
              <a:path w="247" h="219">
                <a:moveTo>
                  <a:pt x="0" y="0"/>
                </a:moveTo>
                <a:cubicBezTo>
                  <a:pt x="37" y="183"/>
                  <a:pt x="156" y="219"/>
                  <a:pt x="247" y="2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71760" y="1584360"/>
            <a:ext cx="617760" cy="549360"/>
          </a:xfrm>
          <a:prstGeom prst="wedgeRectCallout">
            <a:avLst>
              <a:gd name="adj1" fmla="val 4754"/>
              <a:gd name="adj2" fmla="val 895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129120" y="5460840"/>
                <a:ext cx="32432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17880" y="3730680"/>
                <a:ext cx="31258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5445000"/>
            <a:ext cx="1835280" cy="1413000"/>
          </a:xfrm>
          <a:custGeom>
            <a:avLst/>
            <a:gdLst>
              <a:gd name="textAreaLeft" fmla="*/ 91440 w 1835280"/>
              <a:gd name="textAreaRight" fmla="*/ 1743840 w 183528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28054" h="21600">
                <a:moveTo>
                  <a:pt x="0" y="0"/>
                </a:moveTo>
                <a:lnTo>
                  <a:pt x="28054" y="0"/>
                </a:lnTo>
                <a:lnTo>
                  <a:pt x="28054" y="21600"/>
                </a:lnTo>
                <a:lnTo>
                  <a:pt x="0" y="21600"/>
                </a:lnTo>
                <a:close/>
              </a:path>
              <a:path fill="lightenLess" w="28054" h="21600">
                <a:moveTo>
                  <a:pt x="0" y="0"/>
                </a:moveTo>
                <a:lnTo>
                  <a:pt x="28054" y="0"/>
                </a:lnTo>
                <a:lnTo>
                  <a:pt x="26654" y="1400"/>
                </a:lnTo>
                <a:lnTo>
                  <a:pt x="1400" y="1400"/>
                </a:lnTo>
                <a:close/>
              </a:path>
              <a:path fill="darken" w="28054" h="21600">
                <a:moveTo>
                  <a:pt x="28054" y="0"/>
                </a:moveTo>
                <a:lnTo>
                  <a:pt x="28054" y="21600"/>
                </a:lnTo>
                <a:lnTo>
                  <a:pt x="26654" y="20200"/>
                </a:lnTo>
                <a:lnTo>
                  <a:pt x="26654" y="1400"/>
                </a:lnTo>
                <a:close/>
              </a:path>
              <a:path fill="darkenLess" w="28054" h="21600">
                <a:moveTo>
                  <a:pt x="28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54" y="20200"/>
                </a:lnTo>
                <a:close/>
              </a:path>
              <a:path fill="lighten" w="28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0"/>
            <a:ext cx="1619280" cy="2438280"/>
          </a:xfrm>
          <a:custGeom>
            <a:avLst/>
            <a:gdLst>
              <a:gd name="textAreaLeft" fmla="*/ 104760 w 1619280"/>
              <a:gd name="textAreaRight" fmla="*/ 1514520 w 1619280"/>
              <a:gd name="textAreaTop" fmla="*/ 104760 h 2438280"/>
              <a:gd name="textAreaBottom" fmla="*/ 2333520 h 2438280"/>
            </a:gdLst>
            <a:ahLst/>
            <a:rect l="textAreaLeft" t="textAreaTop" r="textAreaRight" b="textAreaBottom"/>
            <a:pathLst>
              <a:path w="21600" h="32522">
                <a:moveTo>
                  <a:pt x="0" y="0"/>
                </a:moveTo>
                <a:lnTo>
                  <a:pt x="21600" y="0"/>
                </a:lnTo>
                <a:lnTo>
                  <a:pt x="21600" y="32522"/>
                </a:lnTo>
                <a:lnTo>
                  <a:pt x="0" y="32522"/>
                </a:lnTo>
                <a:close/>
              </a:path>
              <a:path fill="lightenLess" w="21600" h="325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522">
                <a:moveTo>
                  <a:pt x="21600" y="0"/>
                </a:moveTo>
                <a:lnTo>
                  <a:pt x="21600" y="32522"/>
                </a:lnTo>
                <a:lnTo>
                  <a:pt x="20200" y="31122"/>
                </a:lnTo>
                <a:lnTo>
                  <a:pt x="20200" y="1400"/>
                </a:lnTo>
                <a:close/>
              </a:path>
              <a:path fill="darkenLess" w="21600" h="32522">
                <a:moveTo>
                  <a:pt x="21600" y="32522"/>
                </a:moveTo>
                <a:lnTo>
                  <a:pt x="0" y="32522"/>
                </a:lnTo>
                <a:lnTo>
                  <a:pt x="1400" y="31122"/>
                </a:lnTo>
                <a:lnTo>
                  <a:pt x="20200" y="31122"/>
                </a:lnTo>
                <a:close/>
              </a:path>
              <a:path fill="lighten" w="21600" h="32522">
                <a:moveTo>
                  <a:pt x="0" y="325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11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40720" y="187200"/>
            <a:ext cx="1271520" cy="2467080"/>
          </a:xfrm>
          <a:custGeom>
            <a:avLst/>
            <a:gdLst>
              <a:gd name="textAreaLeft" fmla="*/ 82080 w 1271520"/>
              <a:gd name="textAreaRight" fmla="*/ 1189440 w 1271520"/>
              <a:gd name="textAreaTop" fmla="*/ 82080 h 2467080"/>
              <a:gd name="textAreaBottom" fmla="*/ 2385000 h 2467080"/>
            </a:gdLst>
            <a:ahLst/>
            <a:rect l="textAreaLeft" t="textAreaTop" r="textAreaRight" b="textAreaBottom"/>
            <a:pathLst>
              <a:path w="21600" h="41904">
                <a:moveTo>
                  <a:pt x="0" y="0"/>
                </a:moveTo>
                <a:lnTo>
                  <a:pt x="21600" y="0"/>
                </a:lnTo>
                <a:lnTo>
                  <a:pt x="21600" y="41904"/>
                </a:lnTo>
                <a:lnTo>
                  <a:pt x="0" y="41904"/>
                </a:lnTo>
                <a:close/>
              </a:path>
              <a:path fill="lightenLess" w="21600" h="41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904">
                <a:moveTo>
                  <a:pt x="21600" y="0"/>
                </a:moveTo>
                <a:lnTo>
                  <a:pt x="21600" y="41904"/>
                </a:lnTo>
                <a:lnTo>
                  <a:pt x="20200" y="40504"/>
                </a:lnTo>
                <a:lnTo>
                  <a:pt x="20200" y="1400"/>
                </a:lnTo>
                <a:close/>
              </a:path>
              <a:path fill="darkenLess" w="21600" h="41904">
                <a:moveTo>
                  <a:pt x="21600" y="41904"/>
                </a:moveTo>
                <a:lnTo>
                  <a:pt x="0" y="41904"/>
                </a:lnTo>
                <a:lnTo>
                  <a:pt x="1400" y="40504"/>
                </a:lnTo>
                <a:lnTo>
                  <a:pt x="20200" y="40504"/>
                </a:lnTo>
                <a:close/>
              </a:path>
              <a:path fill="lighten" w="21600" h="41904">
                <a:moveTo>
                  <a:pt x="0" y="41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4050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8520" y="5370480"/>
            <a:ext cx="1835280" cy="1413000"/>
          </a:xfrm>
          <a:custGeom>
            <a:avLst/>
            <a:gdLst>
              <a:gd name="textAreaLeft" fmla="*/ 91440 w 1835280"/>
              <a:gd name="textAreaRight" fmla="*/ 1743840 w 183528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28054" h="21600">
                <a:moveTo>
                  <a:pt x="0" y="0"/>
                </a:moveTo>
                <a:lnTo>
                  <a:pt x="28054" y="0"/>
                </a:lnTo>
                <a:lnTo>
                  <a:pt x="28054" y="21600"/>
                </a:lnTo>
                <a:lnTo>
                  <a:pt x="0" y="21600"/>
                </a:lnTo>
                <a:close/>
              </a:path>
              <a:path fill="lightenLess" w="28054" h="21600">
                <a:moveTo>
                  <a:pt x="0" y="0"/>
                </a:moveTo>
                <a:lnTo>
                  <a:pt x="28054" y="0"/>
                </a:lnTo>
                <a:lnTo>
                  <a:pt x="26654" y="1400"/>
                </a:lnTo>
                <a:lnTo>
                  <a:pt x="1400" y="1400"/>
                </a:lnTo>
                <a:close/>
              </a:path>
              <a:path fill="darken" w="28054" h="21600">
                <a:moveTo>
                  <a:pt x="28054" y="0"/>
                </a:moveTo>
                <a:lnTo>
                  <a:pt x="28054" y="21600"/>
                </a:lnTo>
                <a:lnTo>
                  <a:pt x="26654" y="20200"/>
                </a:lnTo>
                <a:lnTo>
                  <a:pt x="26654" y="1400"/>
                </a:lnTo>
                <a:close/>
              </a:path>
              <a:path fill="darkenLess" w="28054" h="21600">
                <a:moveTo>
                  <a:pt x="28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54" y="20200"/>
                </a:lnTo>
                <a:close/>
              </a:path>
              <a:path fill="lighten" w="28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345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Правило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вычитания дробей с одинаковыми знаменателями. Чтобы из одной дроби вычесть другую нужно из числителя уменьшаемого вычесть числитель вычитаемого и результат записать в числитель, а знаменатель оставить общ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635280" y="5157720"/>
                <a:ext cx="42451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7740720" y="187200"/>
            <a:ext cx="1271520" cy="2467080"/>
          </a:xfrm>
          <a:custGeom>
            <a:avLst/>
            <a:gdLst>
              <a:gd name="textAreaLeft" fmla="*/ 82080 w 1271520"/>
              <a:gd name="textAreaRight" fmla="*/ 1189440 w 1271520"/>
              <a:gd name="textAreaTop" fmla="*/ 82080 h 2467080"/>
              <a:gd name="textAreaBottom" fmla="*/ 2385000 h 2467080"/>
            </a:gdLst>
            <a:ahLst/>
            <a:rect l="textAreaLeft" t="textAreaTop" r="textAreaRight" b="textAreaBottom"/>
            <a:pathLst>
              <a:path w="21600" h="41904">
                <a:moveTo>
                  <a:pt x="0" y="0"/>
                </a:moveTo>
                <a:lnTo>
                  <a:pt x="21600" y="0"/>
                </a:lnTo>
                <a:lnTo>
                  <a:pt x="21600" y="41904"/>
                </a:lnTo>
                <a:lnTo>
                  <a:pt x="0" y="41904"/>
                </a:lnTo>
                <a:close/>
              </a:path>
              <a:path fill="lightenLess" w="21600" h="41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904">
                <a:moveTo>
                  <a:pt x="21600" y="0"/>
                </a:moveTo>
                <a:lnTo>
                  <a:pt x="21600" y="41904"/>
                </a:lnTo>
                <a:lnTo>
                  <a:pt x="20200" y="40504"/>
                </a:lnTo>
                <a:lnTo>
                  <a:pt x="20200" y="1400"/>
                </a:lnTo>
                <a:close/>
              </a:path>
              <a:path fill="darkenLess" w="21600" h="41904">
                <a:moveTo>
                  <a:pt x="21600" y="41904"/>
                </a:moveTo>
                <a:lnTo>
                  <a:pt x="0" y="41904"/>
                </a:lnTo>
                <a:lnTo>
                  <a:pt x="1400" y="40504"/>
                </a:lnTo>
                <a:lnTo>
                  <a:pt x="20200" y="40504"/>
                </a:lnTo>
                <a:close/>
              </a:path>
              <a:path fill="lighten" w="21600" h="41904">
                <a:moveTo>
                  <a:pt x="0" y="41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4050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Молодцы!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ример 3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У Вити на Дне рождения было 5 друзей. Первому он отрезал шестую часть пирога, второму – пятую часть остатка, третьему – четвертую нового остатка, четвертому – третью часть оставшегося к тому времени куска пирога. Последний кусок Витя поделил с пятым другом пополам. Кому достался самый большой кусо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79640" y="1052640"/>
            <a:ext cx="5040360" cy="482436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60560" y="3048120"/>
            <a:ext cx="524160" cy="1187280"/>
          </a:xfrm>
          <a:custGeom>
            <a:avLst/>
            <a:gdLst/>
            <a:ahLst/>
            <a:rect l="l" t="t" r="r" b="b"/>
            <a:pathLst>
              <a:path w="330" h="748">
                <a:moveTo>
                  <a:pt x="227" y="0"/>
                </a:moveTo>
                <a:cubicBezTo>
                  <a:pt x="238" y="105"/>
                  <a:pt x="330" y="514"/>
                  <a:pt x="292" y="631"/>
                </a:cubicBezTo>
                <a:cubicBezTo>
                  <a:pt x="254" y="748"/>
                  <a:pt x="61" y="687"/>
                  <a:pt x="0" y="702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95520" y="2505240"/>
            <a:ext cx="2409840" cy="2054160"/>
          </a:xfrm>
          <a:custGeom>
            <a:avLst/>
            <a:gdLst/>
            <a:ahLst/>
            <a:rect l="l" t="t" r="r" b="b"/>
            <a:pathLst>
              <a:path w="1518" h="1294">
                <a:moveTo>
                  <a:pt x="0" y="315"/>
                </a:moveTo>
                <a:cubicBezTo>
                  <a:pt x="20" y="412"/>
                  <a:pt x="61" y="830"/>
                  <a:pt x="119" y="900"/>
                </a:cubicBezTo>
                <a:cubicBezTo>
                  <a:pt x="177" y="970"/>
                  <a:pt x="305" y="802"/>
                  <a:pt x="348" y="735"/>
                </a:cubicBezTo>
                <a:cubicBezTo>
                  <a:pt x="391" y="668"/>
                  <a:pt x="363" y="494"/>
                  <a:pt x="375" y="497"/>
                </a:cubicBezTo>
                <a:cubicBezTo>
                  <a:pt x="387" y="500"/>
                  <a:pt x="389" y="719"/>
                  <a:pt x="421" y="753"/>
                </a:cubicBezTo>
                <a:cubicBezTo>
                  <a:pt x="453" y="787"/>
                  <a:pt x="544" y="746"/>
                  <a:pt x="567" y="699"/>
                </a:cubicBezTo>
                <a:cubicBezTo>
                  <a:pt x="590" y="652"/>
                  <a:pt x="561" y="517"/>
                  <a:pt x="558" y="470"/>
                </a:cubicBezTo>
                <a:cubicBezTo>
                  <a:pt x="555" y="423"/>
                  <a:pt x="541" y="384"/>
                  <a:pt x="549" y="415"/>
                </a:cubicBezTo>
                <a:cubicBezTo>
                  <a:pt x="557" y="446"/>
                  <a:pt x="577" y="624"/>
                  <a:pt x="604" y="653"/>
                </a:cubicBezTo>
                <a:cubicBezTo>
                  <a:pt x="631" y="682"/>
                  <a:pt x="690" y="645"/>
                  <a:pt x="714" y="589"/>
                </a:cubicBezTo>
                <a:cubicBezTo>
                  <a:pt x="738" y="533"/>
                  <a:pt x="711" y="204"/>
                  <a:pt x="750" y="315"/>
                </a:cubicBezTo>
                <a:cubicBezTo>
                  <a:pt x="789" y="426"/>
                  <a:pt x="945" y="1218"/>
                  <a:pt x="951" y="1256"/>
                </a:cubicBezTo>
                <a:cubicBezTo>
                  <a:pt x="957" y="1294"/>
                  <a:pt x="800" y="713"/>
                  <a:pt x="786" y="544"/>
                </a:cubicBezTo>
                <a:cubicBezTo>
                  <a:pt x="772" y="375"/>
                  <a:pt x="840" y="240"/>
                  <a:pt x="869" y="241"/>
                </a:cubicBezTo>
                <a:cubicBezTo>
                  <a:pt x="898" y="242"/>
                  <a:pt x="930" y="523"/>
                  <a:pt x="960" y="552"/>
                </a:cubicBezTo>
                <a:cubicBezTo>
                  <a:pt x="990" y="581"/>
                  <a:pt x="1023" y="429"/>
                  <a:pt x="1052" y="415"/>
                </a:cubicBezTo>
                <a:cubicBezTo>
                  <a:pt x="1081" y="401"/>
                  <a:pt x="1104" y="474"/>
                  <a:pt x="1134" y="470"/>
                </a:cubicBezTo>
                <a:cubicBezTo>
                  <a:pt x="1164" y="466"/>
                  <a:pt x="1229" y="438"/>
                  <a:pt x="1235" y="388"/>
                </a:cubicBezTo>
                <a:cubicBezTo>
                  <a:pt x="1241" y="338"/>
                  <a:pt x="1194" y="211"/>
                  <a:pt x="1171" y="168"/>
                </a:cubicBezTo>
                <a:cubicBezTo>
                  <a:pt x="1148" y="125"/>
                  <a:pt x="1125" y="127"/>
                  <a:pt x="1098" y="132"/>
                </a:cubicBezTo>
                <a:cubicBezTo>
                  <a:pt x="1071" y="137"/>
                  <a:pt x="1015" y="153"/>
                  <a:pt x="1006" y="196"/>
                </a:cubicBezTo>
                <a:cubicBezTo>
                  <a:pt x="997" y="239"/>
                  <a:pt x="996" y="414"/>
                  <a:pt x="1043" y="388"/>
                </a:cubicBezTo>
                <a:cubicBezTo>
                  <a:pt x="1090" y="362"/>
                  <a:pt x="1231" y="80"/>
                  <a:pt x="1290" y="40"/>
                </a:cubicBezTo>
                <a:cubicBezTo>
                  <a:pt x="1349" y="0"/>
                  <a:pt x="1395" y="110"/>
                  <a:pt x="1399" y="150"/>
                </a:cubicBezTo>
                <a:cubicBezTo>
                  <a:pt x="1403" y="190"/>
                  <a:pt x="1317" y="243"/>
                  <a:pt x="1317" y="278"/>
                </a:cubicBezTo>
                <a:cubicBezTo>
                  <a:pt x="1317" y="313"/>
                  <a:pt x="1366" y="372"/>
                  <a:pt x="1399" y="360"/>
                </a:cubicBezTo>
                <a:cubicBezTo>
                  <a:pt x="1432" y="348"/>
                  <a:pt x="1493" y="237"/>
                  <a:pt x="1518" y="205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71720" y="2771640"/>
            <a:ext cx="655560" cy="540000"/>
          </a:xfrm>
          <a:custGeom>
            <a:avLst/>
            <a:gdLst/>
            <a:ahLst/>
            <a:rect l="l" t="t" r="r" b="b"/>
            <a:pathLst>
              <a:path w="413" h="340">
                <a:moveTo>
                  <a:pt x="156" y="314"/>
                </a:moveTo>
                <a:cubicBezTo>
                  <a:pt x="99" y="325"/>
                  <a:pt x="35" y="340"/>
                  <a:pt x="20" y="314"/>
                </a:cubicBezTo>
                <a:cubicBezTo>
                  <a:pt x="5" y="288"/>
                  <a:pt x="0" y="208"/>
                  <a:pt x="65" y="156"/>
                </a:cubicBezTo>
                <a:cubicBezTo>
                  <a:pt x="130" y="104"/>
                  <a:pt x="341" y="32"/>
                  <a:pt x="413" y="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8:45:23Z</dcterms:created>
  <dc:creator>Elena</dc:creator>
  <dc:description/>
  <dc:language>en-US</dc:language>
  <cp:lastModifiedBy>Elena</cp:lastModifiedBy>
  <dcterms:modified xsi:type="dcterms:W3CDTF">2005-12-01T19:06:57Z</dcterms:modified>
  <cp:revision>65</cp:revision>
  <dc:subject/>
  <dc:title>Устная работа</dc:title>
</cp:coreProperties>
</file>