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11.gif" ContentType="image/gif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gif" ContentType="image/gif"/>
  <Override PartName="/ppt/media/image10.gif" ContentType="image/gif"/>
  <Override PartName="/ppt/media/image1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4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10B-FAD5-4B8B-999D-4AD077E4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3AD-C78E-47E1-8140-B388619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EA8-B53B-44AD-B770-4D03A2AE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F98-4EED-4F83-B509-0FFE7BBD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7F10-F842-40EA-B179-E2725B47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E9D-0CF8-4FD8-9018-A77BF69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318-08BC-4585-AB76-F99B928B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D7D-FC8F-487B-A847-C8A4FFA4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FF0C-D788-4FFF-A090-11EF098E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44F-38DE-4693-92D2-375204F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D15-1AFE-48DE-98A9-AEE52D7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981-9155-495C-B294-1971321C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8BE3-F131-4EF4-A940-735B6D4D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D7C3-6BED-49CB-B545-C2340A6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3E06-7A0B-4F4D-AB32-0C66354A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F611-B967-4B39-B674-5833DC41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429F-6863-4E88-8557-9B8BB996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063-9EA4-4319-BA55-FA39CD3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ED6-E09D-4C85-8B5E-219A3BA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C34-E427-47EE-A63A-F017274B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E7B-DE05-46B4-AAAA-A732E74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0D1-0D42-4897-8F82-19F09CB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96D-A506-4FA0-BD1F-AAA6D79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E54-5F63-4230-A181-7F3AC20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E43A-A9F3-49C7-9B2B-D5A80FA85B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E959-7A03-4CAE-B99D-FA9A14B93F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" Target="slide8.xml"/><Relationship Id="rId10" Type="http://schemas.openxmlformats.org/officeDocument/2006/relationships/slide" Target="slide6.xml"/><Relationship Id="rId11" Type="http://schemas.openxmlformats.org/officeDocument/2006/relationships/slide" Target="slide3.xml"/><Relationship Id="rId12" Type="http://schemas.openxmlformats.org/officeDocument/2006/relationships/slide" Target="slide7.xml"/><Relationship Id="rId13" Type="http://schemas.openxmlformats.org/officeDocument/2006/relationships/slide" Target="slide5.xml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Lucida Handwriting"/>
              </a:rPr>
              <a:t>Занимательная матема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78200" y="4941720"/>
            <a:ext cx="62658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rush Script MT"/>
              </a:rPr>
              <a:t>5 класс</a:t>
            </a: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учитель Семёнов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e2657cac100e2f382b302f302903a126[1]"/>
          <p:cNvPicPr/>
          <p:nvPr/>
        </p:nvPicPr>
        <p:blipFill>
          <a:blip r:embed="rId1"/>
          <a:stretch/>
        </p:blipFill>
        <p:spPr>
          <a:xfrm>
            <a:off x="2843280" y="2695680"/>
            <a:ext cx="2671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39257"/>
                </a:solidFill>
                <a:latin typeface="Script MT Bold"/>
              </a:rPr>
              <a:t>Что видите?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5" name="Picture 4" descr="лошадь"/>
          <p:cNvPicPr/>
          <p:nvPr/>
        </p:nvPicPr>
        <p:blipFill>
          <a:blip r:embed="rId1"/>
          <a:stretch/>
        </p:blipFill>
        <p:spPr>
          <a:xfrm>
            <a:off x="1908000" y="333360"/>
            <a:ext cx="5867640" cy="6299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лошадь"/>
          <p:cNvPicPr/>
          <p:nvPr/>
        </p:nvPicPr>
        <p:blipFill>
          <a:blip r:embed="rId2"/>
          <a:stretch/>
        </p:blipFill>
        <p:spPr>
          <a:xfrm>
            <a:off x="1585800" y="585720"/>
            <a:ext cx="6299280" cy="58676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>
            <a:hlinkClick r:id="rId3"/>
          </p:cNvPr>
          <p:cNvSpPr/>
          <p:nvPr/>
        </p:nvSpPr>
        <p:spPr>
          <a:xfrm>
            <a:off x="611280" y="6165720"/>
            <a:ext cx="288720" cy="43200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306">
                <a:moveTo>
                  <a:pt x="0" y="0"/>
                </a:moveTo>
                <a:lnTo>
                  <a:pt x="21600" y="0"/>
                </a:lnTo>
                <a:lnTo>
                  <a:pt x="21600" y="32306"/>
                </a:lnTo>
                <a:lnTo>
                  <a:pt x="0" y="32306"/>
                </a:lnTo>
                <a:close/>
              </a:path>
              <a:path fill="lightenLess" w="21600" h="3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06">
                <a:moveTo>
                  <a:pt x="21600" y="0"/>
                </a:moveTo>
                <a:lnTo>
                  <a:pt x="21600" y="32306"/>
                </a:lnTo>
                <a:lnTo>
                  <a:pt x="20200" y="30906"/>
                </a:lnTo>
                <a:lnTo>
                  <a:pt x="20200" y="1400"/>
                </a:lnTo>
                <a:close/>
              </a:path>
              <a:path fill="darkenLess" w="21600" h="32306">
                <a:moveTo>
                  <a:pt x="21600" y="32306"/>
                </a:moveTo>
                <a:lnTo>
                  <a:pt x="0" y="32306"/>
                </a:lnTo>
                <a:lnTo>
                  <a:pt x="1400" y="30906"/>
                </a:lnTo>
                <a:lnTo>
                  <a:pt x="20200" y="30906"/>
                </a:lnTo>
                <a:close/>
              </a:path>
              <a:path fill="lighten" w="21600" h="32306">
                <a:moveTo>
                  <a:pt x="0" y="3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06"/>
                </a:lnTo>
                <a:close/>
              </a:path>
              <a:path fill="darken" w="21600" h="32306">
                <a:moveTo>
                  <a:pt x="10800" y="9190"/>
                </a:moveTo>
                <a:lnTo>
                  <a:pt x="13376" y="11801"/>
                </a:lnTo>
                <a:lnTo>
                  <a:pt x="13376" y="10060"/>
                </a:lnTo>
                <a:lnTo>
                  <a:pt x="15152" y="10060"/>
                </a:lnTo>
                <a:lnTo>
                  <a:pt x="15152" y="13577"/>
                </a:lnTo>
                <a:lnTo>
                  <a:pt x="17763" y="16153"/>
                </a:lnTo>
                <a:lnTo>
                  <a:pt x="16109" y="16153"/>
                </a:lnTo>
                <a:lnTo>
                  <a:pt x="16109" y="23342"/>
                </a:lnTo>
                <a:lnTo>
                  <a:pt x="5491" y="23342"/>
                </a:lnTo>
                <a:lnTo>
                  <a:pt x="5491" y="16153"/>
                </a:lnTo>
                <a:lnTo>
                  <a:pt x="3837" y="16153"/>
                </a:lnTo>
                <a:close/>
              </a:path>
              <a:path fill="darkenLess" w="21600" h="32306">
                <a:moveTo>
                  <a:pt x="13376" y="11801"/>
                </a:moveTo>
                <a:lnTo>
                  <a:pt x="13376" y="10060"/>
                </a:lnTo>
                <a:lnTo>
                  <a:pt x="15152" y="10060"/>
                </a:lnTo>
                <a:lnTo>
                  <a:pt x="15152" y="13577"/>
                </a:lnTo>
                <a:close/>
              </a:path>
              <a:path fill="darkenLess" w="21600" h="32306">
                <a:moveTo>
                  <a:pt x="9877" y="19652"/>
                </a:moveTo>
                <a:lnTo>
                  <a:pt x="11723" y="19652"/>
                </a:lnTo>
                <a:lnTo>
                  <a:pt x="11723" y="23342"/>
                </a:lnTo>
                <a:lnTo>
                  <a:pt x="16109" y="23342"/>
                </a:lnTo>
                <a:lnTo>
                  <a:pt x="16109" y="16153"/>
                </a:lnTo>
                <a:lnTo>
                  <a:pt x="5491" y="16153"/>
                </a:lnTo>
                <a:lnTo>
                  <a:pt x="5491" y="23342"/>
                </a:lnTo>
                <a:lnTo>
                  <a:pt x="9877" y="2334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kao227"/>
          <p:cNvPicPr/>
          <p:nvPr/>
        </p:nvPicPr>
        <p:blipFill>
          <a:blip r:embed="rId1"/>
          <a:stretch/>
        </p:blipFill>
        <p:spPr>
          <a:xfrm>
            <a:off x="4211640" y="24210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kao70"/>
          <p:cNvPicPr/>
          <p:nvPr/>
        </p:nvPicPr>
        <p:blipFill>
          <a:blip r:embed="rId2"/>
          <a:stretch/>
        </p:blipFill>
        <p:spPr>
          <a:xfrm>
            <a:off x="6084720" y="2060640"/>
            <a:ext cx="2081520" cy="1279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kao157"/>
          <p:cNvPicPr/>
          <p:nvPr/>
        </p:nvPicPr>
        <p:blipFill>
          <a:blip r:embed="rId3"/>
          <a:stretch/>
        </p:blipFill>
        <p:spPr>
          <a:xfrm>
            <a:off x="900000" y="4724280"/>
            <a:ext cx="1208160" cy="1236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kao146"/>
          <p:cNvPicPr/>
          <p:nvPr/>
        </p:nvPicPr>
        <p:blipFill>
          <a:blip r:embed="rId4"/>
          <a:stretch/>
        </p:blipFill>
        <p:spPr>
          <a:xfrm>
            <a:off x="7380360" y="3860640"/>
            <a:ext cx="988920" cy="98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kao4"/>
          <p:cNvPicPr/>
          <p:nvPr/>
        </p:nvPicPr>
        <p:blipFill>
          <a:blip r:embed="rId5"/>
          <a:stretch/>
        </p:blipFill>
        <p:spPr>
          <a:xfrm>
            <a:off x="1979640" y="620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kao158"/>
          <p:cNvPicPr/>
          <p:nvPr/>
        </p:nvPicPr>
        <p:blipFill>
          <a:blip r:embed="rId6"/>
          <a:stretch/>
        </p:blipFill>
        <p:spPr>
          <a:xfrm>
            <a:off x="6227640" y="53737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kao16"/>
          <p:cNvPicPr/>
          <p:nvPr/>
        </p:nvPicPr>
        <p:blipFill>
          <a:blip r:embed="rId7"/>
          <a:stretch/>
        </p:blipFill>
        <p:spPr>
          <a:xfrm>
            <a:off x="468360" y="22050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kao60"/>
          <p:cNvPicPr/>
          <p:nvPr/>
        </p:nvPicPr>
        <p:blipFill>
          <a:blip r:embed="rId8"/>
          <a:stretch/>
        </p:blipFill>
        <p:spPr>
          <a:xfrm>
            <a:off x="6156360" y="476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7">
            <a:hlinkClick r:id="rId9" action="ppaction://hlinksldjump"/>
          </p:cNvPr>
          <p:cNvSpPr/>
          <p:nvPr/>
        </p:nvSpPr>
        <p:spPr>
          <a:xfrm>
            <a:off x="2195640" y="5589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1693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68">
                <a:moveTo>
                  <a:pt x="11905" y="16416"/>
                </a:moveTo>
                <a:lnTo>
                  <a:pt x="11905" y="14457"/>
                </a:lnTo>
                <a:cubicBezTo>
                  <a:pt x="11905" y="13630"/>
                  <a:pt x="12236" y="12934"/>
                  <a:pt x="12837" y="12934"/>
                </a:cubicBezTo>
                <a:cubicBezTo>
                  <a:pt x="13968" y="12934"/>
                  <a:pt x="14865" y="11568"/>
                  <a:pt x="14865" y="9984"/>
                </a:cubicBezTo>
                <a:cubicBezTo>
                  <a:pt x="14865" y="7668"/>
                  <a:pt x="13011" y="5928"/>
                  <a:pt x="10800" y="5928"/>
                </a:cubicBezTo>
                <a:cubicBezTo>
                  <a:pt x="8589" y="5928"/>
                  <a:pt x="6918" y="7668"/>
                  <a:pt x="6918" y="9984"/>
                </a:cubicBezTo>
                <a:lnTo>
                  <a:pt x="8772" y="9984"/>
                </a:lnTo>
                <a:cubicBezTo>
                  <a:pt x="8772" y="8843"/>
                  <a:pt x="9695" y="7956"/>
                  <a:pt x="10800" y="7956"/>
                </a:cubicBezTo>
                <a:cubicBezTo>
                  <a:pt x="11905" y="7956"/>
                  <a:pt x="12837" y="8843"/>
                  <a:pt x="12837" y="9984"/>
                </a:cubicBezTo>
                <a:cubicBezTo>
                  <a:pt x="12837" y="10723"/>
                  <a:pt x="12367" y="11455"/>
                  <a:pt x="11905" y="11455"/>
                </a:cubicBezTo>
                <a:cubicBezTo>
                  <a:pt x="10800" y="11455"/>
                  <a:pt x="9695" y="12934"/>
                  <a:pt x="9695" y="14457"/>
                </a:cubicBezTo>
                <a:lnTo>
                  <a:pt x="9695" y="1641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8">
            <a:hlinkClick r:id="rId10" action="ppaction://hlinksldjump"/>
          </p:cNvPr>
          <p:cNvSpPr/>
          <p:nvPr/>
        </p:nvSpPr>
        <p:spPr>
          <a:xfrm>
            <a:off x="7308720" y="1125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1694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0">
                <a:moveTo>
                  <a:pt x="11905" y="16426"/>
                </a:moveTo>
                <a:lnTo>
                  <a:pt x="11905" y="14468"/>
                </a:lnTo>
                <a:cubicBezTo>
                  <a:pt x="11905" y="13641"/>
                  <a:pt x="12236" y="12945"/>
                  <a:pt x="12837" y="12945"/>
                </a:cubicBezTo>
                <a:cubicBezTo>
                  <a:pt x="13968" y="12945"/>
                  <a:pt x="14865" y="11578"/>
                  <a:pt x="14865" y="9994"/>
                </a:cubicBezTo>
                <a:cubicBezTo>
                  <a:pt x="14865" y="7679"/>
                  <a:pt x="13011" y="5938"/>
                  <a:pt x="10800" y="5938"/>
                </a:cubicBezTo>
                <a:cubicBezTo>
                  <a:pt x="8589" y="5938"/>
                  <a:pt x="6918" y="7679"/>
                  <a:pt x="6918" y="9994"/>
                </a:cubicBezTo>
                <a:lnTo>
                  <a:pt x="8772" y="9994"/>
                </a:lnTo>
                <a:cubicBezTo>
                  <a:pt x="8772" y="8854"/>
                  <a:pt x="9695" y="7966"/>
                  <a:pt x="10800" y="7966"/>
                </a:cubicBezTo>
                <a:cubicBezTo>
                  <a:pt x="11905" y="7966"/>
                  <a:pt x="12837" y="8854"/>
                  <a:pt x="12837" y="9994"/>
                </a:cubicBezTo>
                <a:cubicBezTo>
                  <a:pt x="12837" y="10734"/>
                  <a:pt x="12367" y="11465"/>
                  <a:pt x="11905" y="11465"/>
                </a:cubicBezTo>
                <a:cubicBezTo>
                  <a:pt x="10800" y="11465"/>
                  <a:pt x="9695" y="12945"/>
                  <a:pt x="9695" y="14468"/>
                </a:cubicBezTo>
                <a:lnTo>
                  <a:pt x="9695" y="1642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9">
            <a:hlinkClick r:id="rId11" action="ppaction://hlinksldjump"/>
          </p:cNvPr>
          <p:cNvSpPr/>
          <p:nvPr/>
        </p:nvSpPr>
        <p:spPr>
          <a:xfrm>
            <a:off x="3059280" y="1341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1694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0">
                <a:moveTo>
                  <a:pt x="11905" y="16426"/>
                </a:moveTo>
                <a:lnTo>
                  <a:pt x="11905" y="14468"/>
                </a:lnTo>
                <a:cubicBezTo>
                  <a:pt x="11905" y="13641"/>
                  <a:pt x="12236" y="12945"/>
                  <a:pt x="12837" y="12945"/>
                </a:cubicBezTo>
                <a:cubicBezTo>
                  <a:pt x="13968" y="12945"/>
                  <a:pt x="14865" y="11578"/>
                  <a:pt x="14865" y="9994"/>
                </a:cubicBezTo>
                <a:cubicBezTo>
                  <a:pt x="14865" y="7679"/>
                  <a:pt x="13011" y="5938"/>
                  <a:pt x="10800" y="5938"/>
                </a:cubicBezTo>
                <a:cubicBezTo>
                  <a:pt x="8589" y="5938"/>
                  <a:pt x="6918" y="7679"/>
                  <a:pt x="6918" y="9994"/>
                </a:cubicBezTo>
                <a:lnTo>
                  <a:pt x="8772" y="9994"/>
                </a:lnTo>
                <a:cubicBezTo>
                  <a:pt x="8772" y="8854"/>
                  <a:pt x="9695" y="7966"/>
                  <a:pt x="10800" y="7966"/>
                </a:cubicBezTo>
                <a:cubicBezTo>
                  <a:pt x="11905" y="7966"/>
                  <a:pt x="12837" y="8854"/>
                  <a:pt x="12837" y="9994"/>
                </a:cubicBezTo>
                <a:cubicBezTo>
                  <a:pt x="12837" y="10734"/>
                  <a:pt x="12367" y="11465"/>
                  <a:pt x="11905" y="11465"/>
                </a:cubicBezTo>
                <a:cubicBezTo>
                  <a:pt x="10800" y="11465"/>
                  <a:pt x="9695" y="12945"/>
                  <a:pt x="9695" y="14468"/>
                </a:cubicBezTo>
                <a:lnTo>
                  <a:pt x="9695" y="1642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rId12" action="ppaction://hlinksldjump"/>
          </p:cNvPr>
          <p:cNvSpPr/>
          <p:nvPr/>
        </p:nvSpPr>
        <p:spPr>
          <a:xfrm>
            <a:off x="1692360" y="3141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1693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68">
                <a:moveTo>
                  <a:pt x="11905" y="16416"/>
                </a:moveTo>
                <a:lnTo>
                  <a:pt x="11905" y="14457"/>
                </a:lnTo>
                <a:cubicBezTo>
                  <a:pt x="11905" y="13630"/>
                  <a:pt x="12236" y="12934"/>
                  <a:pt x="12837" y="12934"/>
                </a:cubicBezTo>
                <a:cubicBezTo>
                  <a:pt x="13968" y="12934"/>
                  <a:pt x="14865" y="11568"/>
                  <a:pt x="14865" y="9984"/>
                </a:cubicBezTo>
                <a:cubicBezTo>
                  <a:pt x="14865" y="7668"/>
                  <a:pt x="13011" y="5928"/>
                  <a:pt x="10800" y="5928"/>
                </a:cubicBezTo>
                <a:cubicBezTo>
                  <a:pt x="8589" y="5928"/>
                  <a:pt x="6918" y="7668"/>
                  <a:pt x="6918" y="9984"/>
                </a:cubicBezTo>
                <a:lnTo>
                  <a:pt x="8772" y="9984"/>
                </a:lnTo>
                <a:cubicBezTo>
                  <a:pt x="8772" y="8843"/>
                  <a:pt x="9695" y="7956"/>
                  <a:pt x="10800" y="7956"/>
                </a:cubicBezTo>
                <a:cubicBezTo>
                  <a:pt x="11905" y="7956"/>
                  <a:pt x="12837" y="8843"/>
                  <a:pt x="12837" y="9984"/>
                </a:cubicBezTo>
                <a:cubicBezTo>
                  <a:pt x="12837" y="10723"/>
                  <a:pt x="12367" y="11455"/>
                  <a:pt x="11905" y="11455"/>
                </a:cubicBezTo>
                <a:cubicBezTo>
                  <a:pt x="10800" y="11455"/>
                  <a:pt x="9695" y="12934"/>
                  <a:pt x="9695" y="14457"/>
                </a:cubicBezTo>
                <a:lnTo>
                  <a:pt x="9695" y="1641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>
            <a:hlinkClick r:id="rId13" action="ppaction://hlinksldjump"/>
          </p:cNvPr>
          <p:cNvSpPr/>
          <p:nvPr/>
        </p:nvSpPr>
        <p:spPr>
          <a:xfrm>
            <a:off x="8028000" y="472428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1694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0">
                <a:moveTo>
                  <a:pt x="11905" y="16426"/>
                </a:moveTo>
                <a:lnTo>
                  <a:pt x="11905" y="14468"/>
                </a:lnTo>
                <a:cubicBezTo>
                  <a:pt x="11905" y="13641"/>
                  <a:pt x="12236" y="12945"/>
                  <a:pt x="12837" y="12945"/>
                </a:cubicBezTo>
                <a:cubicBezTo>
                  <a:pt x="13968" y="12945"/>
                  <a:pt x="14865" y="11578"/>
                  <a:pt x="14865" y="9994"/>
                </a:cubicBezTo>
                <a:cubicBezTo>
                  <a:pt x="14865" y="7679"/>
                  <a:pt x="13011" y="5938"/>
                  <a:pt x="10800" y="5938"/>
                </a:cubicBezTo>
                <a:cubicBezTo>
                  <a:pt x="8589" y="5938"/>
                  <a:pt x="6918" y="7679"/>
                  <a:pt x="6918" y="9994"/>
                </a:cubicBezTo>
                <a:lnTo>
                  <a:pt x="8772" y="9994"/>
                </a:lnTo>
                <a:cubicBezTo>
                  <a:pt x="8772" y="8854"/>
                  <a:pt x="9695" y="7966"/>
                  <a:pt x="10800" y="7966"/>
                </a:cubicBezTo>
                <a:cubicBezTo>
                  <a:pt x="11905" y="7966"/>
                  <a:pt x="12837" y="8854"/>
                  <a:pt x="12837" y="9994"/>
                </a:cubicBezTo>
                <a:cubicBezTo>
                  <a:pt x="12837" y="10734"/>
                  <a:pt x="12367" y="11465"/>
                  <a:pt x="11905" y="11465"/>
                </a:cubicBezTo>
                <a:cubicBezTo>
                  <a:pt x="10800" y="11465"/>
                  <a:pt x="9695" y="12945"/>
                  <a:pt x="9695" y="14468"/>
                </a:cubicBezTo>
                <a:lnTo>
                  <a:pt x="9695" y="1642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2">
            <a:hlinkClick r:id="rId14" action="ppaction://hlinksldjump"/>
          </p:cNvPr>
          <p:cNvSpPr/>
          <p:nvPr/>
        </p:nvSpPr>
        <p:spPr>
          <a:xfrm>
            <a:off x="5867280" y="5805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1694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0">
                <a:moveTo>
                  <a:pt x="11905" y="16426"/>
                </a:moveTo>
                <a:lnTo>
                  <a:pt x="11905" y="14468"/>
                </a:lnTo>
                <a:cubicBezTo>
                  <a:pt x="11905" y="13641"/>
                  <a:pt x="12236" y="12945"/>
                  <a:pt x="12837" y="12945"/>
                </a:cubicBezTo>
                <a:cubicBezTo>
                  <a:pt x="13968" y="12945"/>
                  <a:pt x="14865" y="11578"/>
                  <a:pt x="14865" y="9994"/>
                </a:cubicBezTo>
                <a:cubicBezTo>
                  <a:pt x="14865" y="7679"/>
                  <a:pt x="13011" y="5938"/>
                  <a:pt x="10800" y="5938"/>
                </a:cubicBezTo>
                <a:cubicBezTo>
                  <a:pt x="8589" y="5938"/>
                  <a:pt x="6918" y="7679"/>
                  <a:pt x="6918" y="9994"/>
                </a:cubicBezTo>
                <a:lnTo>
                  <a:pt x="8772" y="9994"/>
                </a:lnTo>
                <a:cubicBezTo>
                  <a:pt x="8772" y="8854"/>
                  <a:pt x="9695" y="7966"/>
                  <a:pt x="10800" y="7966"/>
                </a:cubicBezTo>
                <a:cubicBezTo>
                  <a:pt x="11905" y="7966"/>
                  <a:pt x="12837" y="8854"/>
                  <a:pt x="12837" y="9994"/>
                </a:cubicBezTo>
                <a:cubicBezTo>
                  <a:pt x="12837" y="10734"/>
                  <a:pt x="12367" y="11465"/>
                  <a:pt x="11905" y="11465"/>
                </a:cubicBezTo>
                <a:cubicBezTo>
                  <a:pt x="10800" y="11465"/>
                  <a:pt x="9695" y="12945"/>
                  <a:pt x="9695" y="14468"/>
                </a:cubicBezTo>
                <a:lnTo>
                  <a:pt x="9695" y="1642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4140360" y="3357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1693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68">
                <a:moveTo>
                  <a:pt x="11905" y="16416"/>
                </a:moveTo>
                <a:lnTo>
                  <a:pt x="11905" y="14457"/>
                </a:lnTo>
                <a:cubicBezTo>
                  <a:pt x="11905" y="13630"/>
                  <a:pt x="12236" y="12934"/>
                  <a:pt x="12837" y="12934"/>
                </a:cubicBezTo>
                <a:cubicBezTo>
                  <a:pt x="13968" y="12934"/>
                  <a:pt x="14865" y="11568"/>
                  <a:pt x="14865" y="9984"/>
                </a:cubicBezTo>
                <a:cubicBezTo>
                  <a:pt x="14865" y="7668"/>
                  <a:pt x="13011" y="5928"/>
                  <a:pt x="10800" y="5928"/>
                </a:cubicBezTo>
                <a:cubicBezTo>
                  <a:pt x="8589" y="5928"/>
                  <a:pt x="6918" y="7668"/>
                  <a:pt x="6918" y="9984"/>
                </a:cubicBezTo>
                <a:lnTo>
                  <a:pt x="8772" y="9984"/>
                </a:lnTo>
                <a:cubicBezTo>
                  <a:pt x="8772" y="8843"/>
                  <a:pt x="9695" y="7956"/>
                  <a:pt x="10800" y="7956"/>
                </a:cubicBezTo>
                <a:cubicBezTo>
                  <a:pt x="11905" y="7956"/>
                  <a:pt x="12837" y="8843"/>
                  <a:pt x="12837" y="9984"/>
                </a:cubicBezTo>
                <a:cubicBezTo>
                  <a:pt x="12837" y="10723"/>
                  <a:pt x="12367" y="11455"/>
                  <a:pt x="11905" y="11455"/>
                </a:cubicBezTo>
                <a:cubicBezTo>
                  <a:pt x="10800" y="11455"/>
                  <a:pt x="9695" y="12934"/>
                  <a:pt x="9695" y="14457"/>
                </a:cubicBezTo>
                <a:lnTo>
                  <a:pt x="9695" y="1641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4"/>
          <p:cNvSpPr/>
          <p:nvPr/>
        </p:nvSpPr>
        <p:spPr>
          <a:xfrm>
            <a:off x="8028000" y="2565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1694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0">
                <a:moveTo>
                  <a:pt x="11905" y="16426"/>
                </a:moveTo>
                <a:lnTo>
                  <a:pt x="11905" y="14468"/>
                </a:lnTo>
                <a:cubicBezTo>
                  <a:pt x="11905" y="13641"/>
                  <a:pt x="12236" y="12945"/>
                  <a:pt x="12837" y="12945"/>
                </a:cubicBezTo>
                <a:cubicBezTo>
                  <a:pt x="13968" y="12945"/>
                  <a:pt x="14865" y="11578"/>
                  <a:pt x="14865" y="9994"/>
                </a:cubicBezTo>
                <a:cubicBezTo>
                  <a:pt x="14865" y="7679"/>
                  <a:pt x="13011" y="5938"/>
                  <a:pt x="10800" y="5938"/>
                </a:cubicBezTo>
                <a:cubicBezTo>
                  <a:pt x="8589" y="5938"/>
                  <a:pt x="6918" y="7679"/>
                  <a:pt x="6918" y="9994"/>
                </a:cubicBezTo>
                <a:lnTo>
                  <a:pt x="8772" y="9994"/>
                </a:lnTo>
                <a:cubicBezTo>
                  <a:pt x="8772" y="8854"/>
                  <a:pt x="9695" y="7966"/>
                  <a:pt x="10800" y="7966"/>
                </a:cubicBezTo>
                <a:cubicBezTo>
                  <a:pt x="11905" y="7966"/>
                  <a:pt x="12837" y="8854"/>
                  <a:pt x="12837" y="9994"/>
                </a:cubicBezTo>
                <a:cubicBezTo>
                  <a:pt x="12837" y="10734"/>
                  <a:pt x="12367" y="11465"/>
                  <a:pt x="11905" y="11465"/>
                </a:cubicBezTo>
                <a:cubicBezTo>
                  <a:pt x="10800" y="11465"/>
                  <a:pt x="9695" y="12945"/>
                  <a:pt x="9695" y="14468"/>
                </a:cubicBezTo>
                <a:lnTo>
                  <a:pt x="9695" y="1642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4920" y="17398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Script MT Bold"/>
              </a:rPr>
              <a:t>Профессор ложится спать в 8 часов вечера и заводит будильник на 9 часов утра. Сколько часов будет спать профессор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a44618d1f411acb3b9656314b36ff33b[1]"/>
          <p:cNvPicPr/>
          <p:nvPr/>
        </p:nvPicPr>
        <p:blipFill>
          <a:blip r:embed="rId1"/>
          <a:stretch/>
        </p:blipFill>
        <p:spPr>
          <a:xfrm>
            <a:off x="6804000" y="189000"/>
            <a:ext cx="2104920" cy="1838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17928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Профессо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rId2"/>
          </p:cNvPr>
          <p:cNvSpPr/>
          <p:nvPr/>
        </p:nvSpPr>
        <p:spPr>
          <a:xfrm>
            <a:off x="395280" y="595008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10800" y="9156"/>
                </a:moveTo>
                <a:lnTo>
                  <a:pt x="13376" y="11768"/>
                </a:lnTo>
                <a:lnTo>
                  <a:pt x="13376" y="10027"/>
                </a:lnTo>
                <a:lnTo>
                  <a:pt x="15152" y="10027"/>
                </a:lnTo>
                <a:lnTo>
                  <a:pt x="15152" y="13543"/>
                </a:lnTo>
                <a:lnTo>
                  <a:pt x="17763" y="16119"/>
                </a:lnTo>
                <a:lnTo>
                  <a:pt x="16109" y="16119"/>
                </a:lnTo>
                <a:lnTo>
                  <a:pt x="16109" y="23309"/>
                </a:lnTo>
                <a:lnTo>
                  <a:pt x="5491" y="23309"/>
                </a:lnTo>
                <a:lnTo>
                  <a:pt x="5491" y="16119"/>
                </a:lnTo>
                <a:lnTo>
                  <a:pt x="3837" y="16119"/>
                </a:lnTo>
                <a:close/>
              </a:path>
              <a:path fill="darkenLess" w="21600" h="32239">
                <a:moveTo>
                  <a:pt x="13376" y="11768"/>
                </a:moveTo>
                <a:lnTo>
                  <a:pt x="13376" y="10027"/>
                </a:lnTo>
                <a:lnTo>
                  <a:pt x="15152" y="10027"/>
                </a:lnTo>
                <a:lnTo>
                  <a:pt x="15152" y="13543"/>
                </a:lnTo>
                <a:close/>
              </a:path>
              <a:path fill="darkenLess" w="21600" h="32239">
                <a:moveTo>
                  <a:pt x="9877" y="19618"/>
                </a:moveTo>
                <a:lnTo>
                  <a:pt x="11723" y="19618"/>
                </a:lnTo>
                <a:lnTo>
                  <a:pt x="11723" y="23309"/>
                </a:lnTo>
                <a:lnTo>
                  <a:pt x="16109" y="23309"/>
                </a:lnTo>
                <a:lnTo>
                  <a:pt x="16109" y="16119"/>
                </a:lnTo>
                <a:lnTo>
                  <a:pt x="5491" y="16119"/>
                </a:lnTo>
                <a:lnTo>
                  <a:pt x="5491" y="23309"/>
                </a:lnTo>
                <a:lnTo>
                  <a:pt x="9877" y="2330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59280" y="189000"/>
            <a:ext cx="590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ядом с берегом со спущенной на воду верёвочной лестницей стоит корабль. У лестницы 10 ступенек. Расстояние между ступеньками 30 см. Океан спокоен, но начинается прилив, который поднимает воду за час на 15 см. Через сколько времени покроется водой третья ступенька верёвочной лестни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1203056691_7e3e2a69d4d9"/>
          <p:cNvPicPr/>
          <p:nvPr/>
        </p:nvPicPr>
        <p:blipFill>
          <a:blip r:embed="rId1"/>
          <a:stretch/>
        </p:blipFill>
        <p:spPr>
          <a:xfrm>
            <a:off x="179280" y="11592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900000" y="2781360"/>
            <a:ext cx="43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Script MT Bold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>
            <a:hlinkClick r:id="rId2"/>
          </p:cNvPr>
          <p:cNvSpPr/>
          <p:nvPr/>
        </p:nvSpPr>
        <p:spPr>
          <a:xfrm>
            <a:off x="1692360" y="6165720"/>
            <a:ext cx="288720" cy="43200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306">
                <a:moveTo>
                  <a:pt x="0" y="0"/>
                </a:moveTo>
                <a:lnTo>
                  <a:pt x="21600" y="0"/>
                </a:lnTo>
                <a:lnTo>
                  <a:pt x="21600" y="32306"/>
                </a:lnTo>
                <a:lnTo>
                  <a:pt x="0" y="32306"/>
                </a:lnTo>
                <a:close/>
              </a:path>
              <a:path fill="lightenLess" w="21600" h="3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06">
                <a:moveTo>
                  <a:pt x="21600" y="0"/>
                </a:moveTo>
                <a:lnTo>
                  <a:pt x="21600" y="32306"/>
                </a:lnTo>
                <a:lnTo>
                  <a:pt x="20200" y="30906"/>
                </a:lnTo>
                <a:lnTo>
                  <a:pt x="20200" y="1400"/>
                </a:lnTo>
                <a:close/>
              </a:path>
              <a:path fill="darkenLess" w="21600" h="32306">
                <a:moveTo>
                  <a:pt x="21600" y="32306"/>
                </a:moveTo>
                <a:lnTo>
                  <a:pt x="0" y="32306"/>
                </a:lnTo>
                <a:lnTo>
                  <a:pt x="1400" y="30906"/>
                </a:lnTo>
                <a:lnTo>
                  <a:pt x="20200" y="30906"/>
                </a:lnTo>
                <a:close/>
              </a:path>
              <a:path fill="lighten" w="21600" h="32306">
                <a:moveTo>
                  <a:pt x="0" y="3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06"/>
                </a:lnTo>
                <a:close/>
              </a:path>
              <a:path fill="darken" w="21600" h="32306">
                <a:moveTo>
                  <a:pt x="10800" y="9190"/>
                </a:moveTo>
                <a:lnTo>
                  <a:pt x="13376" y="11801"/>
                </a:lnTo>
                <a:lnTo>
                  <a:pt x="13376" y="10060"/>
                </a:lnTo>
                <a:lnTo>
                  <a:pt x="15152" y="10060"/>
                </a:lnTo>
                <a:lnTo>
                  <a:pt x="15152" y="13577"/>
                </a:lnTo>
                <a:lnTo>
                  <a:pt x="17763" y="16153"/>
                </a:lnTo>
                <a:lnTo>
                  <a:pt x="16109" y="16153"/>
                </a:lnTo>
                <a:lnTo>
                  <a:pt x="16109" y="23342"/>
                </a:lnTo>
                <a:lnTo>
                  <a:pt x="5491" y="23342"/>
                </a:lnTo>
                <a:lnTo>
                  <a:pt x="5491" y="16153"/>
                </a:lnTo>
                <a:lnTo>
                  <a:pt x="3837" y="16153"/>
                </a:lnTo>
                <a:close/>
              </a:path>
              <a:path fill="darkenLess" w="21600" h="32306">
                <a:moveTo>
                  <a:pt x="13376" y="11801"/>
                </a:moveTo>
                <a:lnTo>
                  <a:pt x="13376" y="10060"/>
                </a:lnTo>
                <a:lnTo>
                  <a:pt x="15152" y="10060"/>
                </a:lnTo>
                <a:lnTo>
                  <a:pt x="15152" y="13577"/>
                </a:lnTo>
                <a:close/>
              </a:path>
              <a:path fill="darkenLess" w="21600" h="32306">
                <a:moveTo>
                  <a:pt x="9877" y="19652"/>
                </a:moveTo>
                <a:lnTo>
                  <a:pt x="11723" y="19652"/>
                </a:lnTo>
                <a:lnTo>
                  <a:pt x="11723" y="23342"/>
                </a:lnTo>
                <a:lnTo>
                  <a:pt x="16109" y="23342"/>
                </a:lnTo>
                <a:lnTo>
                  <a:pt x="16109" y="16153"/>
                </a:lnTo>
                <a:lnTo>
                  <a:pt x="5491" y="16153"/>
                </a:lnTo>
                <a:lnTo>
                  <a:pt x="5491" y="23342"/>
                </a:lnTo>
                <a:lnTo>
                  <a:pt x="9877" y="2334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60" y="115560"/>
            <a:ext cx="644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Script MT Bold"/>
              </a:rPr>
              <a:t>Марья Ивановна заплатила торговцу персиками за его товар 12 рублей, но, поскольку фрукты были мелкими, она заставила продавца добавить сверх того еще 2 персика. После этого стоимость каждой дюжины персиков уменьшилась на один рубль. Сколько персиков купила Марья Ивановн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012000" y="189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Georgia"/>
              </a:rPr>
              <a:t>Перс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62596_2"/>
          <p:cNvPicPr/>
          <p:nvPr/>
        </p:nvPicPr>
        <p:blipFill>
          <a:blip r:embed="rId1"/>
          <a:stretch/>
        </p:blipFill>
        <p:spPr>
          <a:xfrm>
            <a:off x="6156360" y="1197000"/>
            <a:ext cx="2805120" cy="412416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rId2"/>
          </p:cNvPr>
          <p:cNvSpPr/>
          <p:nvPr/>
        </p:nvSpPr>
        <p:spPr>
          <a:xfrm>
            <a:off x="7380360" y="5877000"/>
            <a:ext cx="288720" cy="43164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79">
                <a:moveTo>
                  <a:pt x="0" y="0"/>
                </a:moveTo>
                <a:lnTo>
                  <a:pt x="21600" y="0"/>
                </a:lnTo>
                <a:lnTo>
                  <a:pt x="21600" y="32279"/>
                </a:lnTo>
                <a:lnTo>
                  <a:pt x="0" y="32279"/>
                </a:lnTo>
                <a:close/>
              </a:path>
              <a:path fill="lightenLess" w="21600" h="32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79">
                <a:moveTo>
                  <a:pt x="21600" y="0"/>
                </a:moveTo>
                <a:lnTo>
                  <a:pt x="21600" y="32279"/>
                </a:lnTo>
                <a:lnTo>
                  <a:pt x="20200" y="30879"/>
                </a:lnTo>
                <a:lnTo>
                  <a:pt x="20200" y="1400"/>
                </a:lnTo>
                <a:close/>
              </a:path>
              <a:path fill="darkenLess" w="21600" h="32279">
                <a:moveTo>
                  <a:pt x="21600" y="32279"/>
                </a:moveTo>
                <a:lnTo>
                  <a:pt x="0" y="32279"/>
                </a:lnTo>
                <a:lnTo>
                  <a:pt x="1400" y="30879"/>
                </a:lnTo>
                <a:lnTo>
                  <a:pt x="20200" y="30879"/>
                </a:lnTo>
                <a:close/>
              </a:path>
              <a:path fill="lighten" w="21600" h="32279">
                <a:moveTo>
                  <a:pt x="0" y="32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79"/>
                </a:lnTo>
                <a:close/>
              </a:path>
              <a:path fill="darken" w="21600" h="32279">
                <a:moveTo>
                  <a:pt x="10800" y="9177"/>
                </a:moveTo>
                <a:lnTo>
                  <a:pt x="13376" y="11788"/>
                </a:lnTo>
                <a:lnTo>
                  <a:pt x="13376" y="10047"/>
                </a:lnTo>
                <a:lnTo>
                  <a:pt x="15152" y="10047"/>
                </a:lnTo>
                <a:lnTo>
                  <a:pt x="15152" y="13563"/>
                </a:lnTo>
                <a:lnTo>
                  <a:pt x="17763" y="16139"/>
                </a:lnTo>
                <a:lnTo>
                  <a:pt x="16109" y="16139"/>
                </a:lnTo>
                <a:lnTo>
                  <a:pt x="16109" y="23329"/>
                </a:lnTo>
                <a:lnTo>
                  <a:pt x="5491" y="23329"/>
                </a:lnTo>
                <a:lnTo>
                  <a:pt x="5491" y="16139"/>
                </a:lnTo>
                <a:lnTo>
                  <a:pt x="3837" y="16139"/>
                </a:lnTo>
                <a:close/>
              </a:path>
              <a:path fill="darkenLess" w="21600" h="32279">
                <a:moveTo>
                  <a:pt x="13376" y="11788"/>
                </a:moveTo>
                <a:lnTo>
                  <a:pt x="13376" y="10047"/>
                </a:lnTo>
                <a:lnTo>
                  <a:pt x="15152" y="10047"/>
                </a:lnTo>
                <a:lnTo>
                  <a:pt x="15152" y="13563"/>
                </a:lnTo>
                <a:close/>
              </a:path>
              <a:path fill="darkenLess" w="21600" h="32279">
                <a:moveTo>
                  <a:pt x="9877" y="19638"/>
                </a:moveTo>
                <a:lnTo>
                  <a:pt x="11723" y="19638"/>
                </a:lnTo>
                <a:lnTo>
                  <a:pt x="11723" y="23329"/>
                </a:lnTo>
                <a:lnTo>
                  <a:pt x="16109" y="23329"/>
                </a:lnTo>
                <a:lnTo>
                  <a:pt x="16109" y="16139"/>
                </a:lnTo>
                <a:lnTo>
                  <a:pt x="5491" y="16139"/>
                </a:lnTo>
                <a:lnTo>
                  <a:pt x="5491" y="23329"/>
                </a:lnTo>
                <a:lnTo>
                  <a:pt x="9877" y="233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76720" y="115560"/>
            <a:ext cx="361008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39257"/>
                </a:solidFill>
                <a:latin typeface="Georgia"/>
              </a:rPr>
              <a:t>Конфеты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3" name="Picture 4" descr="1224498078"/>
          <p:cNvPicPr/>
          <p:nvPr/>
        </p:nvPicPr>
        <p:blipFill>
          <a:blip r:embed="rId1"/>
          <a:stretch/>
        </p:blipFill>
        <p:spPr>
          <a:xfrm>
            <a:off x="5580000" y="4172040"/>
            <a:ext cx="3492720" cy="2641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80928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cript MT Bold"/>
              </a:rPr>
              <a:t>Мальчик купил в магазине конфеты. Четверть из них он съел по дороге, 3 конфеты дал встретившейся однокласснице, а половину принес домой. Сколь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cript MT Bold"/>
              </a:rPr>
              <a:t>всего конфет он купил?  Постарайтесь реш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Script MT Bold"/>
              </a:rPr>
              <a:t>эту задачу ус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rId2"/>
          </p:cNvPr>
          <p:cNvSpPr/>
          <p:nvPr/>
        </p:nvSpPr>
        <p:spPr>
          <a:xfrm>
            <a:off x="39528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10800" y="9156"/>
                </a:moveTo>
                <a:lnTo>
                  <a:pt x="13376" y="11768"/>
                </a:lnTo>
                <a:lnTo>
                  <a:pt x="13376" y="10027"/>
                </a:lnTo>
                <a:lnTo>
                  <a:pt x="15152" y="10027"/>
                </a:lnTo>
                <a:lnTo>
                  <a:pt x="15152" y="13543"/>
                </a:lnTo>
                <a:lnTo>
                  <a:pt x="17763" y="16119"/>
                </a:lnTo>
                <a:lnTo>
                  <a:pt x="16109" y="16119"/>
                </a:lnTo>
                <a:lnTo>
                  <a:pt x="16109" y="23309"/>
                </a:lnTo>
                <a:lnTo>
                  <a:pt x="5491" y="23309"/>
                </a:lnTo>
                <a:lnTo>
                  <a:pt x="5491" y="16119"/>
                </a:lnTo>
                <a:lnTo>
                  <a:pt x="3837" y="16119"/>
                </a:lnTo>
                <a:close/>
              </a:path>
              <a:path fill="darkenLess" w="21600" h="32239">
                <a:moveTo>
                  <a:pt x="13376" y="11768"/>
                </a:moveTo>
                <a:lnTo>
                  <a:pt x="13376" y="10027"/>
                </a:lnTo>
                <a:lnTo>
                  <a:pt x="15152" y="10027"/>
                </a:lnTo>
                <a:lnTo>
                  <a:pt x="15152" y="13543"/>
                </a:lnTo>
                <a:close/>
              </a:path>
              <a:path fill="darkenLess" w="21600" h="32239">
                <a:moveTo>
                  <a:pt x="9877" y="19618"/>
                </a:moveTo>
                <a:lnTo>
                  <a:pt x="11723" y="19618"/>
                </a:lnTo>
                <a:lnTo>
                  <a:pt x="11723" y="23309"/>
                </a:lnTo>
                <a:lnTo>
                  <a:pt x="16109" y="23309"/>
                </a:lnTo>
                <a:lnTo>
                  <a:pt x="16109" y="16119"/>
                </a:lnTo>
                <a:lnTo>
                  <a:pt x="5491" y="16119"/>
                </a:lnTo>
                <a:lnTo>
                  <a:pt x="5491" y="23309"/>
                </a:lnTo>
                <a:lnTo>
                  <a:pt x="9877" y="2330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Какие из красных линий более искривлены?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7" name="Picture 4" descr="1212719646_8347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661032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5">
            <a:hlinkClick r:id="rId2"/>
          </p:cNvPr>
          <p:cNvSpPr/>
          <p:nvPr/>
        </p:nvSpPr>
        <p:spPr>
          <a:xfrm>
            <a:off x="395280" y="6308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10800" y="9170"/>
                </a:moveTo>
                <a:lnTo>
                  <a:pt x="13376" y="11781"/>
                </a:lnTo>
                <a:lnTo>
                  <a:pt x="13376" y="10040"/>
                </a:lnTo>
                <a:lnTo>
                  <a:pt x="15152" y="10040"/>
                </a:lnTo>
                <a:lnTo>
                  <a:pt x="15152" y="13557"/>
                </a:lnTo>
                <a:lnTo>
                  <a:pt x="17763" y="16133"/>
                </a:lnTo>
                <a:lnTo>
                  <a:pt x="16109" y="16133"/>
                </a:lnTo>
                <a:lnTo>
                  <a:pt x="16109" y="23322"/>
                </a:lnTo>
                <a:lnTo>
                  <a:pt x="5491" y="23322"/>
                </a:lnTo>
                <a:lnTo>
                  <a:pt x="5491" y="16133"/>
                </a:lnTo>
                <a:lnTo>
                  <a:pt x="3837" y="16133"/>
                </a:lnTo>
                <a:close/>
              </a:path>
              <a:path fill="darkenLess" w="21600" h="32266">
                <a:moveTo>
                  <a:pt x="13376" y="11781"/>
                </a:moveTo>
                <a:lnTo>
                  <a:pt x="13376" y="10040"/>
                </a:lnTo>
                <a:lnTo>
                  <a:pt x="15152" y="10040"/>
                </a:lnTo>
                <a:lnTo>
                  <a:pt x="15152" y="13557"/>
                </a:lnTo>
                <a:close/>
              </a:path>
              <a:path fill="darkenLess" w="21600" h="32266">
                <a:moveTo>
                  <a:pt x="9877" y="19632"/>
                </a:moveTo>
                <a:lnTo>
                  <a:pt x="11723" y="19632"/>
                </a:lnTo>
                <a:lnTo>
                  <a:pt x="11723" y="23322"/>
                </a:lnTo>
                <a:lnTo>
                  <a:pt x="16109" y="23322"/>
                </a:lnTo>
                <a:lnTo>
                  <a:pt x="16109" y="16133"/>
                </a:lnTo>
                <a:lnTo>
                  <a:pt x="5491" y="16133"/>
                </a:lnTo>
                <a:lnTo>
                  <a:pt x="5491" y="23322"/>
                </a:lnTo>
                <a:lnTo>
                  <a:pt x="9877" y="2332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2013"/>
          <p:cNvPicPr/>
          <p:nvPr/>
        </p:nvPicPr>
        <p:blipFill>
          <a:blip r:embed="rId1"/>
          <a:stretch/>
        </p:blipFill>
        <p:spPr>
          <a:xfrm>
            <a:off x="179280" y="476280"/>
            <a:ext cx="8893440" cy="5932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>
            <a:hlinkClick r:id="rId2"/>
          </p:cNvPr>
          <p:cNvSpPr/>
          <p:nvPr/>
        </p:nvSpPr>
        <p:spPr>
          <a:xfrm>
            <a:off x="250920" y="6453360"/>
            <a:ext cx="215640" cy="333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33360"/>
              <a:gd name="textAreaBottom" fmla="*/ 319680 h 333360"/>
            </a:gdLst>
            <a:ahLst/>
            <a:rect l="textAreaLeft" t="textAreaTop" r="textAreaRight" b="textAreaBottom"/>
            <a:pathLst>
              <a:path w="21600" h="33372">
                <a:moveTo>
                  <a:pt x="0" y="0"/>
                </a:moveTo>
                <a:lnTo>
                  <a:pt x="21600" y="0"/>
                </a:lnTo>
                <a:lnTo>
                  <a:pt x="21600" y="33372"/>
                </a:lnTo>
                <a:lnTo>
                  <a:pt x="0" y="33372"/>
                </a:lnTo>
                <a:close/>
              </a:path>
              <a:path fill="lightenLess" w="21600" h="333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372">
                <a:moveTo>
                  <a:pt x="21600" y="0"/>
                </a:moveTo>
                <a:lnTo>
                  <a:pt x="21600" y="33372"/>
                </a:lnTo>
                <a:lnTo>
                  <a:pt x="20200" y="31972"/>
                </a:lnTo>
                <a:lnTo>
                  <a:pt x="20200" y="1400"/>
                </a:lnTo>
                <a:close/>
              </a:path>
              <a:path fill="darkenLess" w="21600" h="33372">
                <a:moveTo>
                  <a:pt x="21600" y="33372"/>
                </a:moveTo>
                <a:lnTo>
                  <a:pt x="0" y="33372"/>
                </a:lnTo>
                <a:lnTo>
                  <a:pt x="1400" y="31972"/>
                </a:lnTo>
                <a:lnTo>
                  <a:pt x="20200" y="31972"/>
                </a:lnTo>
                <a:close/>
              </a:path>
              <a:path fill="lighten" w="21600" h="33372">
                <a:moveTo>
                  <a:pt x="0" y="333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972"/>
                </a:lnTo>
                <a:close/>
              </a:path>
              <a:path fill="darken" w="21600" h="33372">
                <a:moveTo>
                  <a:pt x="10800" y="9723"/>
                </a:moveTo>
                <a:lnTo>
                  <a:pt x="13376" y="12334"/>
                </a:lnTo>
                <a:lnTo>
                  <a:pt x="13376" y="10593"/>
                </a:lnTo>
                <a:lnTo>
                  <a:pt x="15152" y="10593"/>
                </a:lnTo>
                <a:lnTo>
                  <a:pt x="15152" y="14110"/>
                </a:lnTo>
                <a:lnTo>
                  <a:pt x="17763" y="16686"/>
                </a:lnTo>
                <a:lnTo>
                  <a:pt x="16109" y="16686"/>
                </a:lnTo>
                <a:lnTo>
                  <a:pt x="16109" y="23875"/>
                </a:lnTo>
                <a:lnTo>
                  <a:pt x="5491" y="23875"/>
                </a:lnTo>
                <a:lnTo>
                  <a:pt x="5491" y="16686"/>
                </a:lnTo>
                <a:lnTo>
                  <a:pt x="3837" y="16686"/>
                </a:lnTo>
                <a:close/>
              </a:path>
              <a:path fill="darkenLess" w="21600" h="33372">
                <a:moveTo>
                  <a:pt x="13376" y="12334"/>
                </a:moveTo>
                <a:lnTo>
                  <a:pt x="13376" y="10593"/>
                </a:lnTo>
                <a:lnTo>
                  <a:pt x="15152" y="10593"/>
                </a:lnTo>
                <a:lnTo>
                  <a:pt x="15152" y="14110"/>
                </a:lnTo>
                <a:close/>
              </a:path>
              <a:path fill="darkenLess" w="21600" h="33372">
                <a:moveTo>
                  <a:pt x="9877" y="20185"/>
                </a:moveTo>
                <a:lnTo>
                  <a:pt x="11723" y="20185"/>
                </a:lnTo>
                <a:lnTo>
                  <a:pt x="11723" y="23875"/>
                </a:lnTo>
                <a:lnTo>
                  <a:pt x="16109" y="23875"/>
                </a:lnTo>
                <a:lnTo>
                  <a:pt x="16109" y="16686"/>
                </a:lnTo>
                <a:lnTo>
                  <a:pt x="5491" y="16686"/>
                </a:lnTo>
                <a:lnTo>
                  <a:pt x="5491" y="23875"/>
                </a:lnTo>
                <a:lnTo>
                  <a:pt x="9877" y="2387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39257"/>
                </a:solidFill>
                <a:latin typeface="Georgia"/>
              </a:rPr>
              <a:t>Какой круг больше, который в центре правого или левого цветочка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2" name="Picture 4" descr="2324c"/>
          <p:cNvPicPr/>
          <p:nvPr/>
        </p:nvPicPr>
        <p:blipFill>
          <a:blip r:embed="rId1"/>
          <a:stretch/>
        </p:blipFill>
        <p:spPr>
          <a:xfrm>
            <a:off x="971640" y="2060640"/>
            <a:ext cx="7561080" cy="45370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>
            <a:hlinkClick r:id="rId2"/>
          </p:cNvPr>
          <p:cNvSpPr/>
          <p:nvPr/>
        </p:nvSpPr>
        <p:spPr>
          <a:xfrm>
            <a:off x="395280" y="6308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10800" y="9170"/>
                </a:moveTo>
                <a:lnTo>
                  <a:pt x="13376" y="11781"/>
                </a:lnTo>
                <a:lnTo>
                  <a:pt x="13376" y="10040"/>
                </a:lnTo>
                <a:lnTo>
                  <a:pt x="15152" y="10040"/>
                </a:lnTo>
                <a:lnTo>
                  <a:pt x="15152" y="13557"/>
                </a:lnTo>
                <a:lnTo>
                  <a:pt x="17763" y="16133"/>
                </a:lnTo>
                <a:lnTo>
                  <a:pt x="16109" y="16133"/>
                </a:lnTo>
                <a:lnTo>
                  <a:pt x="16109" y="23322"/>
                </a:lnTo>
                <a:lnTo>
                  <a:pt x="5491" y="23322"/>
                </a:lnTo>
                <a:lnTo>
                  <a:pt x="5491" y="16133"/>
                </a:lnTo>
                <a:lnTo>
                  <a:pt x="3837" y="16133"/>
                </a:lnTo>
                <a:close/>
              </a:path>
              <a:path fill="darkenLess" w="21600" h="32266">
                <a:moveTo>
                  <a:pt x="13376" y="11781"/>
                </a:moveTo>
                <a:lnTo>
                  <a:pt x="13376" y="10040"/>
                </a:lnTo>
                <a:lnTo>
                  <a:pt x="15152" y="10040"/>
                </a:lnTo>
                <a:lnTo>
                  <a:pt x="15152" y="13557"/>
                </a:lnTo>
                <a:close/>
              </a:path>
              <a:path fill="darkenLess" w="21600" h="32266">
                <a:moveTo>
                  <a:pt x="9877" y="19632"/>
                </a:moveTo>
                <a:lnTo>
                  <a:pt x="11723" y="19632"/>
                </a:lnTo>
                <a:lnTo>
                  <a:pt x="11723" y="23322"/>
                </a:lnTo>
                <a:lnTo>
                  <a:pt x="16109" y="23322"/>
                </a:lnTo>
                <a:lnTo>
                  <a:pt x="16109" y="16133"/>
                </a:lnTo>
                <a:lnTo>
                  <a:pt x="5491" y="16133"/>
                </a:lnTo>
                <a:lnTo>
                  <a:pt x="5491" y="23322"/>
                </a:lnTo>
                <a:lnTo>
                  <a:pt x="9877" y="23322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5:33:50Z</dcterms:created>
  <dc:creator>Home</dc:creator>
  <dc:description/>
  <dc:language>en-US</dc:language>
  <cp:lastModifiedBy>director</cp:lastModifiedBy>
  <dcterms:modified xsi:type="dcterms:W3CDTF">2011-12-17T11:56:40Z</dcterms:modified>
  <cp:revision>3</cp:revision>
  <dc:subject/>
  <dc:title>Слайд 1</dc:title>
</cp:coreProperties>
</file>