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1E6-2B2B-47B9-90E9-557903E1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76E-701A-456E-8501-5D02378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FDE-5A78-4213-8E5B-D0BCA46A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A60-38CB-405C-B842-21A9D7AE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191-9EE2-4F6D-A099-CC7E44E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6CC-FB16-4AAC-B54D-8A975C2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55E-0C2C-4B7A-956E-4CC453F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091-FB35-4D8F-A57C-DD529693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37F-EDE4-4DF1-A044-CF39054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11B-05D6-4B26-902D-8595082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9C9-DEEE-4FCB-8A3A-B7AF5EC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619-1F65-45B0-9375-3F4CBB3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80B-F5A8-49F5-AB28-B74AA7449BA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357280" y="14940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СТВА СЛОЖЕ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ЕНИЯ,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716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известн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еститель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йство сложения: при перестановке слагаемых  сумма не меняется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0+360=360+280,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+127 = 127+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50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букв это свойство можно записать так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+b=b+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ля любых 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енное равенств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ло нам бесконечное множество числовых равенст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2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ение способа записи математических предложений с помощью букв, известного сейчас даже школьникам, в свое время было одн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ажнейших достижений математики. Оно было сделано в 16 веке и связано с именем французского математика Ф.ВИ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50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запишем в буквенном виде сочетательное свойство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+(b+c)=(a+b)+c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4073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давайте запишем переместительное и сочетательное свойство умножения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=b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,     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b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)=(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493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войства помогают человеку ускорить и облегчить процесс вычисл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(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=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=37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-2520" y="5787360"/>
            <a:ext cx="42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сумму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89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2+11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9"/>
          <p:cNvSpPr/>
          <p:nvPr/>
        </p:nvSpPr>
        <p:spPr>
          <a:xfrm>
            <a:off x="2643120" y="6143760"/>
            <a:ext cx="285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>
            <a:off x="2643120" y="6215040"/>
            <a:ext cx="285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ая соединительная линия 21"/>
          <p:cNvSpPr/>
          <p:nvPr/>
        </p:nvSpPr>
        <p:spPr>
          <a:xfrm>
            <a:off x="3786120" y="6143760"/>
            <a:ext cx="285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Прямая соединительная линия 22"/>
          <p:cNvSpPr/>
          <p:nvPr/>
        </p:nvSpPr>
        <p:spPr>
          <a:xfrm>
            <a:off x="3786120" y="6215040"/>
            <a:ext cx="285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5805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+200=92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9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42920" y="14364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7*11*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>
            <a:off x="785880" y="428760"/>
            <a:ext cx="1429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>
            <a:off x="785880" y="500040"/>
            <a:ext cx="1429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Прямая соединительная линия 9"/>
          <p:cNvSpPr/>
          <p:nvPr/>
        </p:nvSpPr>
        <p:spPr>
          <a:xfrm>
            <a:off x="1071720" y="428760"/>
            <a:ext cx="2142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10"/>
          <p:cNvSpPr/>
          <p:nvPr/>
        </p:nvSpPr>
        <p:spPr>
          <a:xfrm>
            <a:off x="1071720" y="500040"/>
            <a:ext cx="2142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152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математики известен такой случай.Однажды, а было это в Германии,в конце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 для того чтобы застави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хся поработать , учитель дал им задание-подсчитать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всех натуральных чисел от 1 до 10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о же было его изумление,если через несколько минут один ученик сказал ему верный ответ 50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ая соединительная линия 41"/>
          <p:cNvSpPr/>
          <p:nvPr/>
        </p:nvSpPr>
        <p:spPr>
          <a:xfrm>
            <a:off x="2428920" y="1000080"/>
            <a:ext cx="14292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42"/>
          <p:cNvSpPr/>
          <p:nvPr/>
        </p:nvSpPr>
        <p:spPr>
          <a:xfrm>
            <a:off x="2428920" y="1071720"/>
            <a:ext cx="1429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Прямая соединительная линия 43"/>
          <p:cNvSpPr/>
          <p:nvPr/>
        </p:nvSpPr>
        <p:spPr>
          <a:xfrm>
            <a:off x="3143160" y="1000080"/>
            <a:ext cx="2145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Прямая соединительная линия 44"/>
          <p:cNvSpPr/>
          <p:nvPr/>
        </p:nvSpPr>
        <p:spPr>
          <a:xfrm>
            <a:off x="3143160" y="1071720"/>
            <a:ext cx="2145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Прямая соединительная линия 45"/>
          <p:cNvSpPr/>
          <p:nvPr/>
        </p:nvSpPr>
        <p:spPr>
          <a:xfrm>
            <a:off x="2214720" y="1000080"/>
            <a:ext cx="1425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Прямая соединительная линия 46"/>
          <p:cNvSpPr/>
          <p:nvPr/>
        </p:nvSpPr>
        <p:spPr>
          <a:xfrm>
            <a:off x="2214720" y="1071720"/>
            <a:ext cx="1425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Прямая соединительная линия 47"/>
          <p:cNvSpPr/>
          <p:nvPr/>
        </p:nvSpPr>
        <p:spPr>
          <a:xfrm>
            <a:off x="2857680" y="1000080"/>
            <a:ext cx="2142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Прямая соединительная линия 48"/>
          <p:cNvSpPr/>
          <p:nvPr/>
        </p:nvSpPr>
        <p:spPr>
          <a:xfrm>
            <a:off x="2857680" y="1071720"/>
            <a:ext cx="2142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Прямая соединительная линия 49"/>
          <p:cNvSpPr/>
          <p:nvPr/>
        </p:nvSpPr>
        <p:spPr>
          <a:xfrm>
            <a:off x="3143160" y="1143000"/>
            <a:ext cx="2145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Прямая соединительная линия 50"/>
          <p:cNvSpPr/>
          <p:nvPr/>
        </p:nvSpPr>
        <p:spPr>
          <a:xfrm>
            <a:off x="2857680" y="1143000"/>
            <a:ext cx="2142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Прямоугольник 51"/>
          <p:cNvSpPr/>
          <p:nvPr/>
        </p:nvSpPr>
        <p:spPr>
          <a:xfrm>
            <a:off x="142920" y="7142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75*7*16*25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Прямоугольник 52"/>
          <p:cNvSpPr/>
          <p:nvPr/>
        </p:nvSpPr>
        <p:spPr>
          <a:xfrm>
            <a:off x="0" y="2714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ученик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Л ФРИДРИХ ГАУСС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великим математик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же он это сделал? Рассмотрим это на примере перв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ка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595d63"/>
                </a:solidFill>
                <a:latin typeface="Times New Roman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50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агаемые в пары: первое с десяты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с девяты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е с восьмым и т.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таких па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и в сумме каждая дает 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иском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=5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435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теперь сами най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ую так быстро вычислил Гаусс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*77=77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6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3*7*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4*2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692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00*21*100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10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222120" y="28584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заполним таблиц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5840" y="785880"/>
          <a:ext cx="3500280" cy="443376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13572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X+Y+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29080" y="785880"/>
          <a:ext cx="3500640" cy="4433760"/>
        </p:xfrm>
        <a:graphic>
          <a:graphicData uri="http://schemas.openxmlformats.org/drawingml/2006/table">
            <a:tbl>
              <a:tblPr/>
              <a:tblGrid>
                <a:gridCol w="712800"/>
                <a:gridCol w="649440"/>
                <a:gridCol w="647640"/>
                <a:gridCol w="149076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X*Y*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14200" y="518040"/>
            <a:ext cx="857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,группируя слагаемы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4+5+6+6+6+9+1+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+8+7+3+3+2+2+6+5+4+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7+32+93+30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+45+65+35+4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делаем вывод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Слагаемые в сумме можно переставлять и объединять в группы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изведении можно переставлять и объединять в групп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лее можно задавать домашнее задан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9:57:56Z</dcterms:created>
  <dc:creator>СТРАХОВА Л.М.</dc:creator>
  <dc:description/>
  <dc:language>en-US</dc:language>
  <cp:lastModifiedBy>admin</cp:lastModifiedBy>
  <dcterms:modified xsi:type="dcterms:W3CDTF">2008-04-12T10:03:56Z</dcterms:modified>
  <cp:revision>10</cp:revision>
  <dc:subject/>
  <dc:title>Слайд 1</dc:title>
</cp:coreProperties>
</file>