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E62-5019-43BE-8CCE-E94F8A89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936-B318-49DF-81C5-A1C42E64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556-141B-4EDD-985B-DFFA3325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3B6-9AEB-46D3-8243-A22E8B82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8F00-5756-4889-A458-909D73E1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8E3-AAA9-44D9-8F72-3ED9B52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A788-8902-4452-B554-DDDD719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952-F467-4EA3-845F-4944DD86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BA8A-0135-4E1C-9CA4-5E33CF6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000-4C21-4677-A4BE-F3CE3B6F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3DC-9548-436D-871D-9D3FDE32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58-C143-4C0B-A2E9-A3A0C38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729-0DA9-4344-9716-6EA9DD89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DA03-3315-475D-B8BF-C68349D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07D-C095-4053-8FAD-EDC64B4F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257-F7D2-45B7-BB98-C55D352E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6330-928D-4608-8922-894C873C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784-BBC8-4783-B3FC-5F1C08E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EF0-DE18-487A-9B2B-91D3FA9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164-84E8-4DEB-B96E-A75731A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C9E-15E0-4570-A520-2AB65D6C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1CF-10E6-45BD-92EE-6745814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6E7-E81D-4E06-873D-7346572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0AF-D6AF-4CAC-9314-AAA47B0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d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AE5B-CC69-475B-87E8-C3A0F472F6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Заголовок 21"/>
          <p:cNvSpPr/>
          <p:nvPr/>
        </p:nvSpPr>
        <p:spPr>
          <a:xfrm>
            <a:off x="4572000" y="341280"/>
            <a:ext cx="4197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d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1"/>
          <p:cNvSpPr/>
          <p:nvPr/>
        </p:nvSpPr>
        <p:spPr>
          <a:xfrm>
            <a:off x="4572000" y="341280"/>
            <a:ext cx="4197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21"/>
          <p:cNvSpPr/>
          <p:nvPr/>
        </p:nvSpPr>
        <p:spPr>
          <a:xfrm>
            <a:off x="4572000" y="341280"/>
            <a:ext cx="4197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D1F-C284-4885-92B4-54610BFE36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aramond"/>
              </a:rPr>
              <a:t>Тест</a:t>
            </a:r>
            <a:br>
              <a:rPr sz="5000"/>
            </a:br>
            <a:r>
              <a:rPr b="1" lang="ru-RU" sz="5000" spc="-1" strike="noStrike">
                <a:solidFill>
                  <a:srgbClr val="cc0000"/>
                </a:solidFill>
                <a:latin typeface="Garamond"/>
              </a:rPr>
              <a:t>по теме:</a:t>
            </a:r>
            <a:endParaRPr b="1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023840" y="2871720"/>
            <a:ext cx="740088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й прямоугольник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вдрат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раллелограмм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мб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1560600" y="46720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 правильного отв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1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перпендикулярны, то этот четырех-уголь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вдр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ямоуголь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1560600" y="46720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 правильного отв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2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параллелограмме диагонали перпендикулярны, то этот параллело-грам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вдр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ямоуголь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560600" y="46720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 правильного отв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3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Результаты теста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000" y="1773360"/>
            <a:ext cx="58323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9240" indent="-1080">
              <a:lnSpc>
                <a:spcPct val="90000"/>
              </a:lnSpc>
              <a:spcBef>
                <a:spcPts val="3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вопро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40" indent="-1080">
              <a:lnSpc>
                <a:spcPct val="90000"/>
              </a:lnSpc>
              <a:spcBef>
                <a:spcPts val="3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ых от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40" indent="-1080">
              <a:lnSpc>
                <a:spcPct val="90000"/>
              </a:lnSpc>
              <a:spcBef>
                <a:spcPts val="3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правильных от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40" indent="-1080">
              <a:lnSpc>
                <a:spcPct val="90000"/>
              </a:lnSpc>
              <a:spcBef>
                <a:spcPts val="3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Lilya</cp:lastModifiedBy>
  <dcterms:modified xsi:type="dcterms:W3CDTF">2011-11-21T18:48:40Z</dcterms:modified>
  <cp:revision>72</cp:revision>
  <dc:subject/>
  <dc:title>Слайд 1</dc:title>
</cp:coreProperties>
</file>