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CD9-986C-4719-8B2B-557C784C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B42-A736-465A-A2DE-648F6FA3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2F1-B69B-4AB2-B230-83B7D4B9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E87-D928-4985-8D79-8508F6AE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CD3-7C68-43C0-A382-2995EB76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754-E1CB-4F87-9311-C2D2F15E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869-7316-4515-99C5-C9E6323E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653-BD61-4BBC-AFAD-BE79A8B0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F3F-E414-4D54-9636-73561B1F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17F-3AD1-41E3-9B9F-2490A18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B89-0FD0-489B-BBEF-9496B581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60C-FA5B-4AD6-96F4-EE8E1D4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7FA9-0AF8-490E-B4BD-880690191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«Не бывает абсолютных истин; бывают лишь абсолютные величины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известный 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ажем, что других общих точек у графиков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                  , то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4000" y="5516280"/>
            <a:ext cx="800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gency FB"/>
              </a:rPr>
              <a:t>корней н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356000" y="1628640"/>
          <a:ext cx="122400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628640"/>
                    <a:ext cx="1224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92360" y="2133720"/>
                <a:ext cx="2905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67280" y="3500280"/>
                <a:ext cx="17287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995640" y="4437000"/>
                <a:ext cx="1728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51280" y="2924280"/>
                <a:ext cx="18730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5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08000" y="3284280"/>
            <a:ext cx="801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132000" y="189000"/>
                <a:ext cx="1943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80000" y="1268280"/>
                <a:ext cx="766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19640" y="2421000"/>
                <a:ext cx="1584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87280" y="3357720"/>
                <a:ext cx="20527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292720" y="3213000"/>
                <a:ext cx="1871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43280" y="4653000"/>
                <a:ext cx="30607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6" nodeType="afterEffect" fill="hold" presetClass="emph" presetID="3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57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9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66" nodeType="afterEffect" fill="hold" presetClass="exit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 промежу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708360" y="907920"/>
                <a:ext cx="15130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276720" y="2565360"/>
                <a:ext cx="23032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76720" y="3284640"/>
                <a:ext cx="22701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03640" y="3933720"/>
                <a:ext cx="2376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9640" y="4653000"/>
                <a:ext cx="1728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56000" y="5300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5157720"/>
                <a:ext cx="237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708360" y="5950080"/>
                <a:ext cx="122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76720" y="1628640"/>
                <a:ext cx="2447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3280" y="1557360"/>
          <a:ext cx="61927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557360"/>
                    <a:ext cx="61927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435640" y="5084640"/>
                <a:ext cx="1655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95640" y="333360"/>
                <a:ext cx="18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V="1">
            <a:off x="2171880" y="333360"/>
            <a:ext cx="0" cy="640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4005360"/>
            <a:ext cx="626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050560" y="475920"/>
            <a:ext cx="505080" cy="35290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556000" y="475920"/>
            <a:ext cx="647640" cy="35290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2708280"/>
            <a:ext cx="21600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59120" y="1490760"/>
            <a:ext cx="216000" cy="2156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76360" y="297180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63880" y="171144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64000" y="764640"/>
            <a:ext cx="3585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486900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8360" y="5516640"/>
                <a:ext cx="539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659640" y="6093000"/>
            <a:ext cx="1584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268360" y="4005360"/>
                <a:ext cx="3607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4005360"/>
                <a:ext cx="190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mb dir="ver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2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мер №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 каком значении параметра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имеет хотя бы один кор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71640" y="2852640"/>
                <a:ext cx="3384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69960" y="981000"/>
          <a:ext cx="3889440" cy="34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9960" y="981000"/>
                    <a:ext cx="3889440" cy="34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211640" y="5373720"/>
                <a:ext cx="5763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24000" y="5373720"/>
                <a:ext cx="720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39640" y="5300640"/>
            <a:ext cx="590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492360" y="476280"/>
            <a:ext cx="0" cy="568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4437000"/>
            <a:ext cx="5761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5240" y="44593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7480" y="44481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5960" y="4314960"/>
            <a:ext cx="215640" cy="2156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4000" y="4303800"/>
            <a:ext cx="216000" cy="2156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796000" y="260280"/>
                <a:ext cx="2736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H="1">
            <a:off x="5219280" y="191628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572240" y="5587920"/>
                <a:ext cx="158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156360" y="587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1573 L -0.06302 0.14156 E">
                                      <p:cBhvr>
                                        <p:cTn id="61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1.66667E-006 -0.55609 E">
                                      <p:cBhvr>
                                        <p:cTn id="649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Графический метод решения неравенств, содержащих моду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мер №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Решить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71640" y="3141720"/>
                <a:ext cx="35276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720"/>
                            </p:stCondLst>
                            <p:childTnLst>
                              <p:par>
                                <p:cTn id="7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-5234040"/>
            <a:ext cx="298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620640"/>
          <a:ext cx="3671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20640"/>
                    <a:ext cx="3671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19640" y="0"/>
                <a:ext cx="1943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427640" y="3141720"/>
                <a:ext cx="1224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 flipV="1">
            <a:off x="2484360" y="259920"/>
            <a:ext cx="0" cy="626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6308640"/>
            <a:ext cx="547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3789360"/>
            <a:ext cx="525636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3679920"/>
            <a:ext cx="216000" cy="2156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62080" y="3691080"/>
            <a:ext cx="216000" cy="2156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1360" y="3689280"/>
            <a:ext cx="21600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9480" y="3676680"/>
            <a:ext cx="21600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69880" y="3922560"/>
            <a:ext cx="3240" cy="2397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44880" y="3944880"/>
            <a:ext cx="15840" cy="23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04960" y="3925800"/>
            <a:ext cx="6120" cy="2398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215960" y="3973680"/>
            <a:ext cx="4680" cy="2325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9400" y="6308640"/>
            <a:ext cx="13683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4760" y="6288120"/>
            <a:ext cx="939600" cy="9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04920" y="6308280"/>
            <a:ext cx="1293840" cy="46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52520" y="6194520"/>
            <a:ext cx="21600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21040" y="6194520"/>
            <a:ext cx="21564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00560" y="6197760"/>
            <a:ext cx="21564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3360" y="6188040"/>
            <a:ext cx="21564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788000" y="549360"/>
                <a:ext cx="4248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227640" y="1052640"/>
                <a:ext cx="1729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300720" y="162864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580000" y="2349360"/>
                <a:ext cx="14400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524720" y="2421000"/>
                <a:ext cx="1297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59280" y="3213000"/>
                <a:ext cx="410544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924360" y="76500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30320" y="6413400"/>
                <a:ext cx="344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58920" y="642636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367080" y="6361200"/>
                <a:ext cx="33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103640" y="6375240"/>
                <a:ext cx="411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27640" y="5013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38560" y="5373720"/>
                <a:ext cx="4105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023 L -0.30312 0.00023 E">
                                      <p:cBhvr>
                                        <p:cTn id="72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000"/>
                            </p:stCondLst>
                            <p:childTnLst>
                              <p:par>
                                <p:cTn id="8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20"/>
                            </p:stCondLst>
                            <p:childTnLst>
                              <p:par>
                                <p:cTn id="9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мер №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Решить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43280" y="3284640"/>
                <a:ext cx="35398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72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еферат с элементами исследования на тему : «Применение графического метода при решении уравнений и неравенств, содержащих модуль 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auhaus 93"/>
              </a:rPr>
              <a:t>Создатель  –  Чукаева Александра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, 10</a:t>
            </a: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auhaus 93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auhaus 93"/>
              </a:rPr>
              <a:t>Учитель Котович О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ff"/>
                </a:solidFill>
                <a:latin typeface="Bauhaus 93"/>
              </a:rPr>
              <a:t>В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2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20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700"/>
                            </p:stCondLst>
                            <p:childTnLst>
                              <p:par>
                                <p:cTn id="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50"/>
                            </p:stCondLst>
                            <p:childTnLst>
                              <p:par>
                                <p:cTn id="57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750"/>
                            </p:stCondLst>
                            <p:childTnLst>
                              <p:par>
                                <p:cTn id="64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600"/>
                            </p:stCondLst>
                            <p:childTnLst>
                              <p:par>
                                <p:cTn id="71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19280" y="1484280"/>
          <a:ext cx="237636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84280"/>
                    <a:ext cx="237636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516720" y="260280"/>
                <a:ext cx="2160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572000" y="333360"/>
                <a:ext cx="1727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 flipV="1">
            <a:off x="2700360" y="404280"/>
            <a:ext cx="0" cy="619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486900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323640" y="3284280"/>
            <a:ext cx="237636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700360" y="4581000"/>
            <a:ext cx="358920" cy="28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22560" y="4583160"/>
            <a:ext cx="32544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365640" y="3357360"/>
            <a:ext cx="2430360" cy="151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03480" y="4869000"/>
            <a:ext cx="12240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08000" y="4292640"/>
            <a:ext cx="21600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81400" y="4741920"/>
            <a:ext cx="21600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70200" y="4753080"/>
            <a:ext cx="21564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968120" y="4476600"/>
            <a:ext cx="11160" cy="268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877080" y="549360"/>
                <a:ext cx="1008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278400" y="1557360"/>
                <a:ext cx="1989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068880" y="2030400"/>
                <a:ext cx="2481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465960" y="2668680"/>
                <a:ext cx="1682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516720" y="3357720"/>
                <a:ext cx="151128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867280" y="5013360"/>
                <a:ext cx="305928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835280" y="4941720"/>
                <a:ext cx="261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 flipH="1">
            <a:off x="4716000" y="3429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203640" y="573408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443640" y="1125360"/>
                <a:ext cx="1657440" cy="4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804000" y="472428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486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486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71 0.03912 C 0.07153 0.06921 0.09653 0.09954 0.11025 0.11597 C 0.12396 0.13241 0.12101 0.12384 0.129 0.13796 C 0.13698 0.15208 0.14879 0.17176 0.15834 0.20046 C 0.16789 0.22917 0.17882 0.28056 0.18664 0.31042 C 0.19445 0.34005 0.20244 0.35741 0.20539 0.3794 C 0.20834 0.40116 0.2066 0.42153 0.20434 0.44051 C 0.20209 0.45949 0.20209 0.47662 0.19132 0.49375 C 0.18056 0.51065 0.13837 0.51991 0.13959 0.54375 C 0.1408 0.56759 0.18907 0.60995 0.19844 0.63611 C 0.20782 0.66273 0.21233 0.68819 0.19601 0.70232 C 0.17969 0.7162 0.13386 0.7213 0.1007 0.72107 C 0.06754 0.7206 0.02362 0.7037 -0.00277 0.70046 C -0.02916 0.69745 -0.03888 0.69607 -0.05816 0.70232 C -0.07743 0.70833 -0.10763 0.73125 -0.11805 0.73681 E">
                                      <p:cBhvr>
                                        <p:cTn id="975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7 0.08282 C 0.01823 0.12977 0.00729 0.17696 -0.00365 0.20519 C -0.01458 0.23318 -0.01545 0.23896 -0.03663 0.25214 C -0.05781 0.26533 -0.09861 0.27805 -0.13073 0.2836 C -0.16285 0.28915 -0.20556 0.27782 -0.22969 0.28522 C -0.25382 0.29262 -0.26754 0.31553 -0.27552 0.32755 C -0.28351 0.33935 -0.28073 0.34814 -0.27778 0.35716 E">
                                      <p:cBhvr>
                                        <p:cTn id="97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Решение неравенств, содержащих параметры и мод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мер №6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айти все значения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, при каждом из которых неравен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имеет положительн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340000" y="2997360"/>
                <a:ext cx="4038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8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040"/>
                            </p:stCondLst>
                            <p:childTnLst>
                              <p:par>
                                <p:cTn id="1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50960" y="2421000"/>
                <a:ext cx="641844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pull dir="rd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-52340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376280" y="2773440"/>
          <a:ext cx="338472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2773440"/>
                    <a:ext cx="338472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867280" y="260280"/>
                <a:ext cx="223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148360" y="549360"/>
                <a:ext cx="16509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 flipV="1">
            <a:off x="2987640" y="404280"/>
            <a:ext cx="0" cy="619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4581360"/>
            <a:ext cx="51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932360" y="3860640"/>
            <a:ext cx="720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331640" y="980640"/>
            <a:ext cx="3600360" cy="360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258920" y="980640"/>
            <a:ext cx="3529080" cy="36003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39640" y="3860640"/>
            <a:ext cx="720720" cy="720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2781360"/>
            <a:ext cx="21600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2924280"/>
            <a:ext cx="215640" cy="2156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877080" y="549360"/>
                <a:ext cx="2016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651640" y="1773360"/>
                <a:ext cx="1225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596360" y="1557360"/>
                <a:ext cx="93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651640" y="2349360"/>
                <a:ext cx="3241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804000" y="3357720"/>
                <a:ext cx="59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732720" y="4076640"/>
                <a:ext cx="180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012000" y="5300640"/>
                <a:ext cx="24476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3995640" y="1125360"/>
            <a:ext cx="216000" cy="3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27280" y="5229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123640" y="1197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12560" y="9270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368160" y="3191040"/>
            <a:ext cx="3240" cy="135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494172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0.04049 C 0.04792 0.04881 0.0533 0.05714 0.06371 0.07356 C 0.07413 0.08999 0.09219 0.11358 0.10486 0.13926 C 0.11753 0.16494 0.13437 0.20172 0.14028 0.22716 C 0.14618 0.25261 0.1434 0.26949 0.14028 0.29147 C 0.13715 0.31344 0.1316 0.33473 0.12135 0.35878 C 0.11111 0.38261 0.08715 0.40944 0.07899 0.43396 C 0.07083 0.45848 0.06007 0.48393 0.07205 0.50613 C 0.08403 0.52834 0.13854 0.54731 0.15087 0.5672 C 0.16319 0.58687 0.15555 0.60745 0.14618 0.62526 C 0.1368 0.64285 0.11788 0.66783 0.09427 0.67384 C 0.07066 0.67963 0.02569 0.66551 0.00382 0.66112 C -0.01806 0.65696 -0.03195 0.65117 -0.0375 0.64886 C -0.04306 0.64655 -0.03611 0.64678 -0.02917 0.64701 E">
                                      <p:cBhvr>
                                        <p:cTn id="113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6.79158E-006 C -0.02396 -0.0162 -0.04792 -0.03239 -0.06945 -0.04234 C -0.09098 -0.05228 -0.10712 -0.05437 -0.12952 -0.05969 C -0.15192 -0.06501 -0.18473 -0.07102 -0.20365 -0.0738 C -0.22258 -0.07657 -0.22553 -0.07588 -0.24358 -0.0768 C -0.26164 -0.07773 -0.29341 -0.08097 -0.31181 -0.08004 C -0.33021 -0.07912 -0.33976 -0.07935 -0.35417 -0.07056 C -0.36858 -0.06177 -0.38803 -0.03841 -0.39775 -0.02684 C -0.40747 -0.01527 -0.41025 -0.00602 -0.41303 -0.00163 E">
                                      <p:cBhvr>
                                        <p:cTn id="1176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3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320"/>
                            </p:stCondLst>
                            <p:childTnLst>
                              <p:par>
                                <p:cTn id="1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мер №7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В зависимости от парамет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решить не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851280" y="2781360"/>
                <a:ext cx="1295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484360" y="4581360"/>
                <a:ext cx="4608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8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720"/>
                            </p:stCondLst>
                            <p:childTnLst>
                              <p:par>
                                <p:cTn id="12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835280" y="1700280"/>
                <a:ext cx="10062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564000" y="692280"/>
                <a:ext cx="2446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979640" y="5229360"/>
                <a:ext cx="460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3276720" y="259920"/>
            <a:ext cx="0" cy="554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508464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3357720"/>
            <a:ext cx="20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284720" y="1341000"/>
            <a:ext cx="2016000" cy="201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178920" y="1267920"/>
            <a:ext cx="2089080" cy="208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2205000"/>
            <a:ext cx="5761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46400" y="3468600"/>
            <a:ext cx="0" cy="1513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73560" y="3511440"/>
            <a:ext cx="0" cy="1513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54240" y="3240000"/>
            <a:ext cx="21600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64120" y="3271680"/>
            <a:ext cx="21564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27640" y="2122560"/>
            <a:ext cx="21600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06560" y="2089080"/>
            <a:ext cx="21744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5084640"/>
            <a:ext cx="2016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79960" y="4950000"/>
            <a:ext cx="21600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46320" y="495936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35640" y="119700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40360" y="5229360"/>
                <a:ext cx="279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372360" y="4581360"/>
                <a:ext cx="20160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ь</m:t>
                    </m:r>
                    <m:r>
                      <m:t xml:space="preserve">&gt;</m:t>
                    </m:r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156360" y="5229360"/>
                <a:ext cx="2376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659640" y="148428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227640" y="1773360"/>
                <a:ext cx="2519640" cy="27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еравенств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ме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ешений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1332000" y="2708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771640" y="2997360"/>
                <a:ext cx="430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5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7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9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77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4" dur="770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6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8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3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5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7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6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8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0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5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7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9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4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6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8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3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5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7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320"/>
                            </p:stCondLst>
                            <p:childTnLst>
                              <p:par>
                                <p:cTn id="1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320"/>
                            </p:stCondLst>
                            <p:childTnLst>
                              <p:par>
                                <p:cTn id="1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«Не бывает абсолютных истин; бывают лишь абсолютные величины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«Применение графического метода при решении уравнений и неравенств, содержащих модуль 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Решение уравнений, содержащих модуль, графическим мето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3457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1)На какие множества надо разбить числовую ось, чтобы на каждом из этих множеств использовать свой способ решения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2) Наличие (или отсутствие) корней, их коли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 Narrow"/>
              </a:rPr>
              <a:t>Выводы, сделанные на основе рассмотренных эскизов, служат лишь наводящими соображениями, они должны быть обоснованы.</a:t>
            </a:r>
            <a:r>
              <a:rPr b="0" i="1" lang="en-U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650"/>
                            </p:stCondLst>
                            <p:childTnLst>
                              <p:par>
                                <p:cTn id="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мер №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24000" y="1916280"/>
            <a:ext cx="490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Решить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700360" y="3645000"/>
                <a:ext cx="40384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5927760" y="203364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40000" y="5084640"/>
            <a:ext cx="32036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84360" y="6093000"/>
            <a:ext cx="35892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372360" y="1413000"/>
                <a:ext cx="129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6" name=""/>
          <p:cNvGraphicFramePr/>
          <p:nvPr/>
        </p:nvGraphicFramePr>
        <p:xfrm>
          <a:off x="1979640" y="4292640"/>
          <a:ext cx="324000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292640"/>
                    <a:ext cx="32400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 flipV="1">
            <a:off x="3492360" y="260280"/>
            <a:ext cx="0" cy="640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021360"/>
            <a:ext cx="604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260280"/>
            <a:ext cx="228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26920" y="907920"/>
          <a:ext cx="2448000" cy="360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907920"/>
                    <a:ext cx="2448000" cy="36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4360" y="4437000"/>
            <a:ext cx="518292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189000"/>
                <a:ext cx="19432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716360" y="765000"/>
                <a:ext cx="1295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 flipH="1">
            <a:off x="971640" y="69228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292720" y="4076640"/>
                <a:ext cx="4716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92720" y="2276640"/>
                <a:ext cx="3281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64000" y="3068640"/>
                <a:ext cx="3186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373560" y="4335480"/>
            <a:ext cx="21564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68400" y="4314960"/>
            <a:ext cx="216000" cy="2156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458136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787640" y="494172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835280" y="6093000"/>
                <a:ext cx="344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932360" y="6093000"/>
                <a:ext cx="154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53 -4.44444E-006 L -0.34253 -4.44444E-006 E">
                                      <p:cBhvr>
                                        <p:cTn id="13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0.02778 C 0.0092 0.04375 -0.00278 0.05972 -0.00764 0.07338 C -0.0125 0.08704 -0.00503 0.09028 -0.00764 0.11018 C -0.01024 0.13009 -0.01701 0.16898 -0.02344 0.19259 C -0.02986 0.2162 -0.04444 0.22963 -0.04583 0.25231 C -0.04722 0.275 -0.04566 0.31412 -0.03142 0.3294 C -0.01719 0.34468 0.0191 0.33449 0.03976 0.34352 C 0.06042 0.35255 0.07917 0.37384 0.09236 0.3838 C 0.10556 0.39375 0.11406 0.39606 0.11858 0.40301 C 0.12309 0.40995 0.12413 0.42222 0.11997 0.42593 C 0.1158 0.42963 0.10295 0.42268 0.09358 0.42593 C 0.0842 0.42917 0.0691 0.43333 0.06337 0.44514 C 0.05764 0.45694 0.06302 0.48009 0.05938 0.49606 C 0.05573 0.51204 0.04913 0.53356 0.04097 0.54167 C 0.03281 0.54977 0.01615 0.54514 0.01077 0.54514 E">
                                      <p:cBhvr>
                                        <p:cTn id="15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10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10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мер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№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Решить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58920" y="3429000"/>
                <a:ext cx="6985080" cy="19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f>
                          <m:num>
                            <m:r>
                              <m:t xml:space="preserve">π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π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4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16720" y="-5234040"/>
            <a:ext cx="3697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203640" y="4869000"/>
                <a:ext cx="28083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71640" y="404640"/>
                <a:ext cx="295272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роме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908000" y="1465200"/>
                <a:ext cx="47516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уществуе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484360" y="2349360"/>
                <a:ext cx="374328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f>
                          <m:num>
                            <m:r>
                              <m:t xml:space="preserve">π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π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8fb3"/>
            </a:gs>
            <a:gs pos="50000">
              <a:srgbClr val="99ccff"/>
            </a:gs>
            <a:gs pos="100000">
              <a:srgbClr val="6b8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49440" y="1521000"/>
          <a:ext cx="672624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521000"/>
                    <a:ext cx="67262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363760" y="3992400"/>
                <a:ext cx="223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11400" y="3994200"/>
                <a:ext cx="223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 flipV="1">
            <a:off x="2268360" y="333360"/>
            <a:ext cx="0" cy="640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005360"/>
            <a:ext cx="626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627280" y="475920"/>
            <a:ext cx="647640" cy="35290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123640" y="404280"/>
            <a:ext cx="505080" cy="35290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16720" y="0"/>
                <a:ext cx="1728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292720" y="549360"/>
                <a:ext cx="1728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54160" y="1465200"/>
            <a:ext cx="21600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9200" y="2941560"/>
            <a:ext cx="216000" cy="216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32130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83040" y="17128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564000" y="764640"/>
            <a:ext cx="3585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32360" y="5516640"/>
            <a:ext cx="4334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21 0.04722 C 0.1415 0.0963 0.17396 0.14537 0.19393 0.19445 C 0.21389 0.24375 0.22657 0.29398 0.22917 0.34329 C 0.23177 0.39259 0.21962 0.44769 0.20921 0.49074 C 0.19879 0.53357 0.19844 0.57176 0.16684 0.60185 C 0.13525 0.63195 0.0474 0.66065 0.0198 0.67107 C -0.00781 0.68125 -0.00347 0.67269 0.00105 0.66458 E">
                                      <p:cBhvr>
                                        <p:cTn id="30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4002 L -0.30712 0.04002 E">
                                      <p:cBhvr>
                                        <p:cTn id="31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05:53Z</dcterms:created>
  <dc:creator>User</dc:creator>
  <dc:description/>
  <dc:language>en-US</dc:language>
  <cp:lastModifiedBy>1</cp:lastModifiedBy>
  <dcterms:modified xsi:type="dcterms:W3CDTF">2008-05-12T08:30:42Z</dcterms:modified>
  <cp:revision>49</cp:revision>
  <dc:subject/>
  <dc:title>Слайд 1</dc:title>
</cp:coreProperties>
</file>