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C4F3-C02D-42BA-8BB3-388408109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350B-266A-4D6C-B064-DD44DE23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D3AA-2E94-47CC-A794-330EC69E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3441-BA08-4A99-9DDA-AB6CEC6E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3171-73BF-44E5-B42F-E14D3445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3D1C-A80D-4081-A9C8-06A5B8C9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9BBC-CDFE-4310-9A26-8B490F56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448C-E16C-4865-ADF6-588D145F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A6CF-EB85-4EE3-A65C-158006DC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EE40-C5A6-4988-93E4-1D9D7F24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6DAB-9816-4DBD-8B16-2B4D8E72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BAE6-F361-425A-AED2-83971817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3EF5-F902-4D7C-ADFC-A37CBB72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4CEB-CFB8-40C9-B3EA-D753DCE8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6588-A279-40F8-9956-A167B752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F42C-6AFE-4613-8177-BA63A7B0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5F37-0787-4C41-B027-693767B6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663F-521A-4D45-BBF2-8FC39D8D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ECE-C886-4E03-804D-2A432D25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DADF-E4A2-4CF1-B616-F991957D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0CC5-AD67-411D-8052-A5CD3B6B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8102-1EF7-415C-A7AF-3BA668B0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C79C-D9DE-44F6-B5BE-FB3E0D4E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2387-8A6B-43BB-9E7F-38A8007D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4D51-D800-49DF-8199-DCE9DAA988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2C15-4D85-45F2-B3A1-57B04389A4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Times New Roman"/>
              </a:rPr>
              <a:t>Решение тригонометрических уравнений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213372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1" i="1" lang="en-US" sz="8800" spc="-1" strike="noStrike">
                <a:solidFill>
                  <a:srgbClr val="990033"/>
                </a:solidFill>
                <a:latin typeface="Arial"/>
              </a:rPr>
              <a:t>sin t = </a:t>
            </a:r>
            <a:r>
              <a:rPr b="1" i="1" lang="ru-RU" sz="8800" spc="-1" strike="noStrike">
                <a:solidFill>
                  <a:srgbClr val="990033"/>
                </a:solidFill>
                <a:latin typeface="Arial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3068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66"/>
                </a:solidFill>
                <a:latin typeface="Times New Roman"/>
              </a:rPr>
              <a:t>Решение тригонометрических уравнений</a:t>
            </a:r>
            <a:r>
              <a:rPr b="0" lang="en-US" sz="3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3800" spc="-1" strike="noStrike">
                <a:solidFill>
                  <a:srgbClr val="000066"/>
                </a:solidFill>
                <a:latin typeface="Times New Roman"/>
              </a:rPr>
              <a:t>sin t = </a:t>
            </a:r>
            <a:r>
              <a:rPr b="1" i="1" lang="ru-RU" sz="3800" spc="-1" strike="noStrike">
                <a:solidFill>
                  <a:srgbClr val="000066"/>
                </a:solidFill>
                <a:latin typeface="Times New Roman"/>
              </a:rPr>
              <a:t>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971640" y="2276640"/>
                <a:ext cx="15127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900000" y="3141720"/>
                <a:ext cx="33847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arcsin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П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971640" y="4091040"/>
                <a:ext cx="266364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П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971640" y="177336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мер 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64000" y="177336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мер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203880" y="3941640"/>
                <a:ext cx="1152720" cy="21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364000" y="2276640"/>
                <a:ext cx="1368720" cy="76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299200" y="2852640"/>
                <a:ext cx="34416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arcsin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П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295960" y="3645000"/>
                <a:ext cx="280044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П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307120" y="4292640"/>
                <a:ext cx="2708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Пn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dissolve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66"/>
                </a:solidFill>
                <a:latin typeface="Times New Roman"/>
              </a:rPr>
              <a:t>Решение тригонометрических уравнений</a:t>
            </a:r>
            <a:r>
              <a:rPr b="0" lang="en-US" sz="3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3800" spc="-1" strike="noStrike">
                <a:solidFill>
                  <a:srgbClr val="000066"/>
                </a:solidFill>
                <a:latin typeface="Times New Roman"/>
              </a:rPr>
              <a:t>sin t = </a:t>
            </a:r>
            <a:r>
              <a:rPr b="1" i="1" lang="ru-RU" sz="3800" spc="-1" strike="noStrike">
                <a:solidFill>
                  <a:srgbClr val="000066"/>
                </a:solidFill>
                <a:latin typeface="Times New Roman"/>
              </a:rPr>
              <a:t>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826920" y="2276640"/>
                <a:ext cx="1657440" cy="33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826920" y="2708280"/>
                <a:ext cx="14400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900000" y="2997360"/>
                <a:ext cx="15130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971640" y="184464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мер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826920" y="3500280"/>
                <a:ext cx="3457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П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55640" y="4149720"/>
                <a:ext cx="31273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П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826920" y="4724280"/>
                <a:ext cx="33134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arcsi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П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826920" y="5300640"/>
                <a:ext cx="27370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П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4716360" y="184464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мер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4788000" y="2276640"/>
                <a:ext cx="24480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859280" y="2781360"/>
                <a:ext cx="21607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4788000" y="3284640"/>
                <a:ext cx="41050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arcsin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П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932360" y="4076640"/>
                <a:ext cx="36720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П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859280" y="4724280"/>
                <a:ext cx="3960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П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932360" y="5516640"/>
                <a:ext cx="34560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П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dissolve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66"/>
                </a:solidFill>
                <a:latin typeface="Times New Roman"/>
              </a:rPr>
              <a:t>Решение тригонометрических уравнений </a:t>
            </a:r>
            <a:r>
              <a:rPr b="1" i="1" lang="en-US" sz="3800" spc="-1" strike="noStrike">
                <a:solidFill>
                  <a:srgbClr val="000066"/>
                </a:solidFill>
                <a:latin typeface="Times New Roman"/>
              </a:rPr>
              <a:t>sin t = 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00000" y="2133720"/>
                <a:ext cx="237672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П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900000" y="162864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in 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284720" y="1773360"/>
            <a:ext cx="4545000" cy="4545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496280" y="4005360"/>
            <a:ext cx="730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49760" y="39895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278136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2. 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sin t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900000" y="3382920"/>
                <a:ext cx="25923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П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6516720" y="3013200"/>
            <a:ext cx="71280" cy="71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659640" y="2565360"/>
                <a:ext cx="5032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826920" y="436572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3. </a:t>
            </a: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sin t =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4956120"/>
            <a:ext cx="71280" cy="71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900000" y="4941720"/>
                <a:ext cx="2808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П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659640" y="5084640"/>
                <a:ext cx="649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6659640" y="1773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532720" y="4149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66"/>
                </a:solidFill>
                <a:latin typeface="Times New Roman"/>
              </a:rPr>
              <a:t>Решение тригонометрических уравнений</a:t>
            </a:r>
            <a:r>
              <a:rPr b="0" lang="en-US" sz="3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3800" spc="-1" strike="noStrike">
                <a:solidFill>
                  <a:srgbClr val="000066"/>
                </a:solidFill>
                <a:latin typeface="Times New Roman"/>
              </a:rPr>
              <a:t>sin t = 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ть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84360" y="4941720"/>
                <a:ext cx="35272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П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Пк</m:t>
                    </m:r>
                    <m:r>
                      <m:t xml:space="preserve">,</m:t>
                    </m:r>
                    <m:r>
                      <m:t xml:space="preserve">к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826920" y="4005360"/>
                <a:ext cx="3168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Пк</m:t>
                    </m:r>
                    <m:r>
                      <m:t xml:space="preserve">,</m:t>
                    </m:r>
                    <m:r>
                      <m:t xml:space="preserve">к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 flipV="1">
            <a:off x="6877080" y="2924280"/>
            <a:ext cx="0" cy="32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292720" y="4508640"/>
            <a:ext cx="324000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99320" y="3645000"/>
            <a:ext cx="1944360" cy="172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4076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2000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8360" y="465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7667640" y="3645000"/>
                <a:ext cx="287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724360" y="3645000"/>
                <a:ext cx="2923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П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7667640" y="4044960"/>
            <a:ext cx="73080" cy="730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948360" y="4076640"/>
                <a:ext cx="1526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71640" y="2205000"/>
                <a:ext cx="27367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987880" y="4044960"/>
            <a:ext cx="73080" cy="71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Times New Roman"/>
              </a:rPr>
              <a:t>Решение тригонометрических уравнений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755800" y="3745080"/>
                <a:ext cx="1270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7632720" cy="3961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050920" y="162864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n t =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4149720"/>
            <a:ext cx="7488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12000" y="371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=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70400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=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4076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16720" y="407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3640" y="4076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4149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08720" y="414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88000" y="414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292720" y="4508640"/>
                <a:ext cx="341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372360" y="4508640"/>
                <a:ext cx="6001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619280" y="4581360"/>
                <a:ext cx="649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66"/>
                </a:solidFill>
                <a:latin typeface="Times New Roman"/>
              </a:rPr>
              <a:t>Решение тригонометрических уравнений</a:t>
            </a:r>
            <a:r>
              <a:rPr b="0" lang="en-US" sz="3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3800" spc="-1" strike="noStrike">
                <a:solidFill>
                  <a:srgbClr val="000066"/>
                </a:solidFill>
                <a:latin typeface="Times New Roman"/>
              </a:rPr>
              <a:t>sin t = 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1628640"/>
            <a:ext cx="77040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рксинусом  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зывается такое число, синус которого равен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значаетс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arcsi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92360" y="3213000"/>
                <a:ext cx="1523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276720" y="3141720"/>
                <a:ext cx="431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92360" y="3716280"/>
                <a:ext cx="1800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635280" y="3860640"/>
                <a:ext cx="432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692360" y="4724280"/>
                <a:ext cx="194472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635280" y="4797360"/>
                <a:ext cx="4716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dissolv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66"/>
                </a:solidFill>
                <a:latin typeface="Times New Roman"/>
              </a:rPr>
              <a:t>Решение тригонометрических уравнений</a:t>
            </a:r>
            <a:r>
              <a:rPr b="0" lang="en-US" sz="3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3800" spc="-1" strike="noStrike">
                <a:solidFill>
                  <a:srgbClr val="000066"/>
                </a:solidFill>
                <a:latin typeface="Times New Roman"/>
              </a:rPr>
              <a:t>sin t = </a:t>
            </a:r>
            <a:r>
              <a:rPr b="1" i="1" lang="ru-RU" sz="3800" spc="-1" strike="noStrike">
                <a:solidFill>
                  <a:srgbClr val="000066"/>
                </a:solidFill>
                <a:latin typeface="Times New Roman"/>
              </a:rPr>
              <a:t>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1844640"/>
            <a:ext cx="561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войства арксину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arcsin a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=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556000" y="3213000"/>
                <a:ext cx="254304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a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268360" y="4005360"/>
                <a:ext cx="362916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П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П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050920" y="5516640"/>
                <a:ext cx="43927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dissolv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66"/>
                </a:solidFill>
                <a:latin typeface="Times New Roman"/>
              </a:rPr>
              <a:t>Решение тригонометрических уравнений</a:t>
            </a:r>
            <a:r>
              <a:rPr b="0" lang="en-US" sz="3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3800" spc="-1" strike="noStrike">
                <a:solidFill>
                  <a:srgbClr val="000066"/>
                </a:solidFill>
                <a:latin typeface="Times New Roman"/>
              </a:rPr>
              <a:t>sin t = </a:t>
            </a:r>
            <a:r>
              <a:rPr b="1" i="1" lang="ru-RU" sz="3800" spc="-1" strike="noStrike">
                <a:solidFill>
                  <a:srgbClr val="000066"/>
                </a:solidFill>
                <a:latin typeface="Times New Roman"/>
              </a:rPr>
              <a:t>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900000" y="5160960"/>
                <a:ext cx="36007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c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П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971640" y="1844640"/>
            <a:ext cx="64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705800" cy="3241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042920" y="2997360"/>
            <a:ext cx="7705800" cy="0"/>
          </a:xfrm>
          <a:prstGeom prst="line">
            <a:avLst/>
          </a:prstGeom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16000" y="2637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ff"/>
                </a:solidFill>
                <a:latin typeface="Arial"/>
              </a:rPr>
              <a:t>У=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386064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Y=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16680" y="2924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292428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87520" y="292428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003640" y="3429000"/>
                <a:ext cx="6001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7667640" y="3500280"/>
                <a:ext cx="5270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203640" y="292428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268360" y="3429000"/>
                <a:ext cx="339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5899320" y="292428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604360" y="292428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203640" y="3500280"/>
                <a:ext cx="303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940360" y="3429000"/>
                <a:ext cx="303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8532720" y="3500280"/>
                <a:ext cx="303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900000" y="5734080"/>
                <a:ext cx="4680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П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П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dissolv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66"/>
                </a:solidFill>
                <a:latin typeface="Times New Roman"/>
              </a:rPr>
              <a:t>Решение тригонометрических уравнений</a:t>
            </a:r>
            <a:r>
              <a:rPr b="0" lang="en-US" sz="3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3800" spc="-1" strike="noStrike">
                <a:solidFill>
                  <a:srgbClr val="000066"/>
                </a:solidFill>
                <a:latin typeface="Times New Roman"/>
              </a:rPr>
              <a:t>sin t = </a:t>
            </a:r>
            <a:r>
              <a:rPr b="1" i="1" lang="ru-RU" sz="3800" spc="-1" strike="noStrike">
                <a:solidFill>
                  <a:srgbClr val="000066"/>
                </a:solidFill>
                <a:latin typeface="Times New Roman"/>
              </a:rPr>
              <a:t>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971640" y="1844640"/>
                <a:ext cx="61214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c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П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971640" y="2708280"/>
                <a:ext cx="71294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П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П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042920" y="3500280"/>
                <a:ext cx="5977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П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971640" y="5013360"/>
            <a:ext cx="57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- четное чис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00000" y="566100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n+1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нечет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8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66"/>
                </a:solidFill>
                <a:latin typeface="Times New Roman"/>
              </a:rPr>
              <a:t>Решение тригонометрических уравнений</a:t>
            </a:r>
            <a:r>
              <a:rPr b="0" lang="en-US" sz="3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3800" spc="-1" strike="noStrike">
                <a:solidFill>
                  <a:srgbClr val="000066"/>
                </a:solidFill>
                <a:latin typeface="Times New Roman"/>
              </a:rPr>
              <a:t>sin t = </a:t>
            </a:r>
            <a:r>
              <a:rPr b="1" i="1" lang="ru-RU" sz="3800" spc="-1" strike="noStrike">
                <a:solidFill>
                  <a:srgbClr val="000066"/>
                </a:solidFill>
                <a:latin typeface="Times New Roman"/>
              </a:rPr>
              <a:t>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971640" y="2997360"/>
                <a:ext cx="68403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П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1116000" y="177336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так, общий вид решения уравнения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n t =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меет 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07:11:48Z</dcterms:created>
  <dc:creator>слушатель</dc:creator>
  <dc:description/>
  <dc:language>en-US</dc:language>
  <cp:lastModifiedBy>слушатель</cp:lastModifiedBy>
  <dcterms:modified xsi:type="dcterms:W3CDTF">2006-10-16T07:51:47Z</dcterms:modified>
  <cp:revision>12</cp:revision>
  <dc:subject/>
  <dc:title>Решение тригонометрических уравнений</dc:title>
</cp:coreProperties>
</file>