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5C6-1EEB-48E5-836B-A53DEDC9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49B-C752-430D-998E-5032745B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578-E663-42B5-A265-A004FBA6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CAE-712E-4F19-854A-AB68211A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ADD9-5A3B-43BA-935D-5CF909DF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743B-C878-4531-A75A-C7CDCF5F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C29F-9B96-4045-BD02-B2FAC6DB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1EF8-84B9-4EFB-AC06-D2FE2633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257A-575F-43C3-A2A0-F1E03777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7C81-A3E8-4D0E-909D-1EFC6824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BBA7-9F16-4C1F-BEBB-8A149C24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886-6D48-4BC4-9CEF-65E222AA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7237-9797-484C-823A-8045400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CA47-8583-4851-B6B9-3DB7D841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E550-C3F0-4609-9A11-94FDDB06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0E60-3B79-4F8D-B5B2-F9F79AE7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A251-AC35-47AB-A5A3-E946D301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906-34E9-4EB6-9A1A-66F378B2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266-9664-44D9-ADDF-EC063B63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E1F-3952-49DE-8C32-76B6D637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D18-A596-4447-AE67-98541DC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579-107C-4596-9F45-38F5F1BC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324-AFE1-48E8-895F-4F0DA0C8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017-C496-4AA2-84A9-075B53B3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3460-0E9F-43DE-A8A5-E36691121A3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BA57-42FE-47A7-B2B8-E6842B6AA5E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Самостоятельная работа по теме: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Уравнение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859280" y="4221000"/>
                <a:ext cx="2448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Уравнение             , где     -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произвольное число,  имеет три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случая решения в зависимости от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11640" y="1484280"/>
                <a:ext cx="17524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308720" y="1700280"/>
                <a:ext cx="649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877080" y="4437000"/>
                <a:ext cx="816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Если              , то уравнение           корней  не име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Например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Если           , то уравнение имеет единственный корень, равный нулю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Например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Если          , то уравнение имеет два корн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Например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835280" y="1628640"/>
                <a:ext cx="865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⊲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08000" y="3284640"/>
                <a:ext cx="7923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35280" y="5013360"/>
                <a:ext cx="792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⊳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71640" y="2349360"/>
                <a:ext cx="36007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59280" y="4005360"/>
                <a:ext cx="10796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843280" y="4005360"/>
                <a:ext cx="1535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700360" y="5373720"/>
                <a:ext cx="1584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ешит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59280" y="1376280"/>
                <a:ext cx="3168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619280" y="2781360"/>
                <a:ext cx="1800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547640" y="3645000"/>
                <a:ext cx="22179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285200" y="2997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93040" y="38037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66760" y="4524480"/>
            <a:ext cx="354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)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рней н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</a:rPr>
              <a:t>Молодец!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Ответ правильный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5516640"/>
            <a:ext cx="3527280" cy="865080"/>
          </a:xfrm>
          <a:prstGeom prst="bevel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5661000"/>
            <a:ext cx="3492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Продолжи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амостоятельую работ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Verdana"/>
              </a:rPr>
              <a:t>Ответ неправильный!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020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ешит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9:24:05Z</dcterms:created>
  <dc:creator>слушатель</dc:creator>
  <dc:description/>
  <dc:language>en-US</dc:language>
  <cp:lastModifiedBy>слушатель</cp:lastModifiedBy>
  <dcterms:modified xsi:type="dcterms:W3CDTF">2006-10-16T10:22:53Z</dcterms:modified>
  <cp:revision>2</cp:revision>
  <dc:subject/>
  <dc:title>Самостоятельная работа по теме:</dc:title>
</cp:coreProperties>
</file>