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9607-019A-4F3D-91BB-C081613EB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17D0-C762-4A0E-8F1E-3D128CA6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8D2C-72A0-4661-BCCB-F024858B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C4F9-A60C-4032-A114-01CBC741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BF91-29D8-49D3-A7E4-80D4472F2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E1B3-637B-4D88-8A55-AF3371BC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EAF6-A902-40F3-B2A3-BBF6BE34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25DF-57C9-4370-B13A-6D40675A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50E7-C432-484A-B2BD-D729BEF5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234A-5A1E-498E-A813-2DC622FB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76B3-8053-49EB-A1CE-3BD17A1E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8C2F-9FC0-4D06-8814-9AA8F4DF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57E7-49A4-4559-BE75-E05593B6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B56F-DC49-4B39-ABFD-02D2CBF2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119B-9F56-4B1A-9042-52FAAEA8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5FA7-F93D-4C93-948E-009F023FF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3580-851D-480D-98A3-EBF515AA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4FA7-C20B-472C-B24F-EF79399F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CDC9-6509-4C53-8689-4005697B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FABF-34DC-4FC7-9A8E-9BE1C330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0E03-632C-4CF1-BCC8-F96DA05B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BA80-0AB9-4B1D-8D0B-27564AEC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9134-3E14-490A-9169-F983C8F8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0972-CAED-4538-B675-4F500716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065D-30B9-4FBD-8016-835B15BAA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2A04-E68E-40BF-BE68-099C72FE2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010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0c7e"/>
                </a:solidFill>
                <a:latin typeface="Arial Black"/>
              </a:rPr>
              <a:t>Решение задач на тему «Прямоугольник. Ромб. Квадрат».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934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5a6f"/>
                </a:solidFill>
                <a:latin typeface="Arial"/>
              </a:rPr>
              <a:t>Цель урока: Закрепить теоретический материал по теме «Прямоугольник. Ромб. Квадра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5a6f"/>
                </a:solidFill>
                <a:latin typeface="Arial Black"/>
              </a:rPr>
              <a:t>Решение задач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2590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0c7e"/>
                </a:solidFill>
                <a:latin typeface="Arial"/>
              </a:rPr>
              <a:t>В ромбе </a:t>
            </a:r>
            <a:r>
              <a:rPr b="0" lang="en-US" sz="2400" spc="-1" strike="noStrike">
                <a:solidFill>
                  <a:srgbClr val="240c7e"/>
                </a:solidFill>
                <a:latin typeface="Arial"/>
              </a:rPr>
              <a:t>ABCD </a:t>
            </a:r>
            <a:r>
              <a:rPr b="0" lang="ru-RU" sz="2400" spc="-1" strike="noStrike">
                <a:solidFill>
                  <a:srgbClr val="240c7e"/>
                </a:solidFill>
                <a:latin typeface="Arial"/>
              </a:rPr>
              <a:t>биссектриса угла В</a:t>
            </a:r>
            <a:r>
              <a:rPr b="0" lang="en-US" sz="2400" spc="-1" strike="noStrike">
                <a:solidFill>
                  <a:srgbClr val="240c7e"/>
                </a:solidFill>
                <a:latin typeface="Arial"/>
              </a:rPr>
              <a:t>AC</a:t>
            </a:r>
            <a:r>
              <a:rPr b="0" lang="ru-RU" sz="2400" spc="-1" strike="noStrike">
                <a:solidFill>
                  <a:srgbClr val="240c7e"/>
                </a:solidFill>
                <a:latin typeface="Arial"/>
              </a:rPr>
              <a:t> пересекает сторону ВС и диагональ </a:t>
            </a:r>
            <a:r>
              <a:rPr b="0" lang="en-US" sz="2400" spc="-1" strike="noStrike">
                <a:solidFill>
                  <a:srgbClr val="240c7e"/>
                </a:solidFill>
                <a:latin typeface="Arial"/>
              </a:rPr>
              <a:t>BD</a:t>
            </a:r>
            <a:r>
              <a:rPr b="0" lang="ru-RU" sz="2400" spc="-1" strike="noStrike">
                <a:solidFill>
                  <a:srgbClr val="240c7e"/>
                </a:solidFill>
                <a:latin typeface="Arial"/>
              </a:rPr>
              <a:t> соответственно в точках М и </a:t>
            </a:r>
            <a:r>
              <a:rPr b="0" lang="en-US" sz="2400" spc="-1" strike="noStrike">
                <a:solidFill>
                  <a:srgbClr val="240c7e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240c7e"/>
                </a:solidFill>
                <a:latin typeface="Arial"/>
              </a:rPr>
              <a:t>. Найдите угол                        А</a:t>
            </a:r>
            <a:r>
              <a:rPr b="0" lang="en-US" sz="2400" spc="-1" strike="noStrike">
                <a:solidFill>
                  <a:srgbClr val="240c7e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240c7e"/>
                </a:solidFill>
                <a:latin typeface="Arial"/>
              </a:rPr>
              <a:t>В, ес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0c7e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240c7e"/>
                </a:solidFill>
                <a:latin typeface="Arial"/>
              </a:rPr>
              <a:t>АМС = 120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609480" y="5105520"/>
                <a:ext cx="3175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3505320" y="1905120"/>
            <a:ext cx="4952880" cy="3504960"/>
          </a:xfrm>
          <a:prstGeom prst="diamond">
            <a:avLst/>
          </a:prstGeom>
          <a:solidFill>
            <a:srgbClr val="5d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365760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943600" y="3505320"/>
            <a:ext cx="152280" cy="152280"/>
          </a:xfrm>
          <a:prstGeom prst="rect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91120" y="3124080"/>
            <a:ext cx="15192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96960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96960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67440" y="3433680"/>
            <a:ext cx="151920" cy="30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05851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05851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6697080" y="2285640"/>
            <a:ext cx="86364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930" y="1160"/>
                </a:moveTo>
                <a:arcTo wR="10800" hR="10800" stAng="-7008134" swAng="6416770"/>
                <a:lnTo>
                  <a:pt x="10800" y="10800"/>
                </a:lnTo>
                <a:close/>
              </a:path>
              <a:path fill="none" w="21600" h="21600">
                <a:moveTo>
                  <a:pt x="5930" y="1160"/>
                </a:moveTo>
                <a:arcTo wR="10800" hR="10800" stAng="-7008134" swAng="64167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6781680" y="2361600"/>
            <a:ext cx="7221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932" y="716"/>
                </a:moveTo>
                <a:arcTo wR="10800" hR="10800" stAng="-6659179" swAng="6659179"/>
                <a:lnTo>
                  <a:pt x="10800" y="10800"/>
                </a:lnTo>
                <a:close/>
              </a:path>
              <a:path fill="none" w="21600" h="21600">
                <a:moveTo>
                  <a:pt x="6932" y="716"/>
                </a:moveTo>
                <a:arcTo wR="10800" hR="10800" stAng="-6659179" swAng="665917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638680" y="16002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21360" y="37339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125880" y="3581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534520" y="3505320"/>
            <a:ext cx="3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21720" y="5410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564520" y="2971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164360" y="2286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79640" y="28954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505320" y="2590560"/>
            <a:ext cx="3429000" cy="10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943600" y="19051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2362320" y="5029200"/>
                <a:ext cx="203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934320" y="2895480"/>
                <a:ext cx="203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3733920" y="5638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640120" y="2590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505320" y="2590560"/>
            <a:ext cx="3429000" cy="10666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05320" y="3657600"/>
            <a:ext cx="49528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934320" y="2590920"/>
            <a:ext cx="1523880" cy="10666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3505320" y="1905120"/>
            <a:ext cx="2438280" cy="1752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43600" y="1905120"/>
            <a:ext cx="0" cy="9903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505320" y="2895120"/>
            <a:ext cx="2438280" cy="7621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3657600" y="2590560"/>
            <a:ext cx="3352680" cy="10666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4495680" y="3200400"/>
                <a:ext cx="403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7467480" y="3170160"/>
                <a:ext cx="6098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838080" y="5638680"/>
            <a:ext cx="3940200" cy="101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+2х=180-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=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562720" y="2057400"/>
                <a:ext cx="4572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6019920" y="1300320"/>
                <a:ext cx="19047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5562720" y="6019920"/>
            <a:ext cx="2873160" cy="459720"/>
          </a:xfrm>
          <a:prstGeom prst="rect">
            <a:avLst/>
          </a:prstGeom>
          <a:solidFill>
            <a:srgbClr val="ff5b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0-(20+50)=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23284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5a6f"/>
                </a:solidFill>
                <a:latin typeface="Arial Black"/>
              </a:rPr>
              <a:t>Самостоятельная работа</a:t>
            </a:r>
            <a:br>
              <a:rPr sz="2800"/>
            </a:br>
            <a:r>
              <a:rPr b="1" lang="ru-RU" sz="2800" spc="-1" strike="noStrike">
                <a:solidFill>
                  <a:srgbClr val="175a6f"/>
                </a:solidFill>
                <a:latin typeface="Arial Black"/>
              </a:rPr>
              <a:t>(разноуровневые задачи)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9250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0c7e"/>
                </a:solidFill>
                <a:latin typeface="Arial"/>
              </a:rPr>
              <a:t>1. В ромбе АВС</a:t>
            </a:r>
            <a:r>
              <a:rPr b="0" lang="en-US" sz="2800" spc="-1" strike="noStrike">
                <a:solidFill>
                  <a:srgbClr val="240c7e"/>
                </a:solidFill>
                <a:latin typeface="Arial"/>
              </a:rPr>
              <a:t>D </a:t>
            </a:r>
            <a:r>
              <a:rPr b="0" lang="ru-RU" sz="2800" spc="-1" strike="noStrike">
                <a:solidFill>
                  <a:srgbClr val="240c7e"/>
                </a:solidFill>
                <a:latin typeface="Arial"/>
              </a:rPr>
              <a:t>диагонали пересекаются в точке О,      А = 31.  Найдите углы треугольника ВОС. (3 балл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0c7e"/>
                </a:solidFill>
                <a:latin typeface="Arial"/>
              </a:rPr>
              <a:t>2. В прямоугольнике АВС</a:t>
            </a:r>
            <a:r>
              <a:rPr b="0" lang="en-US" sz="2800" spc="-1" strike="noStrike">
                <a:solidFill>
                  <a:srgbClr val="240c7e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240c7e"/>
                </a:solidFill>
                <a:latin typeface="Arial"/>
              </a:rPr>
              <a:t>  О – точка пересечения диагоналей, ВН и </a:t>
            </a:r>
            <a:r>
              <a:rPr b="0" lang="en-US" sz="2800" spc="-1" strike="noStrike">
                <a:solidFill>
                  <a:srgbClr val="240c7e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240c7e"/>
                </a:solidFill>
                <a:latin typeface="Arial"/>
              </a:rPr>
              <a:t>Е – высоты треугольников АВО и СО</a:t>
            </a:r>
            <a:r>
              <a:rPr b="0" lang="en-US" sz="2800" spc="-1" strike="noStrike">
                <a:solidFill>
                  <a:srgbClr val="240c7e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240c7e"/>
                </a:solidFill>
                <a:latin typeface="Arial"/>
              </a:rPr>
              <a:t> соответственно,   ВОН = 60 , АН = 5 см. Найдите ОЕ.              (4 балл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0c7e"/>
                </a:solidFill>
                <a:latin typeface="Arial"/>
              </a:rPr>
              <a:t>3. В ромбе АВС</a:t>
            </a:r>
            <a:r>
              <a:rPr b="0" lang="en-US" sz="2800" spc="-1" strike="noStrike">
                <a:solidFill>
                  <a:srgbClr val="240c7e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240c7e"/>
                </a:solidFill>
                <a:latin typeface="Arial"/>
              </a:rPr>
              <a:t> угол В тупой. На стороне А</a:t>
            </a:r>
            <a:r>
              <a:rPr b="0" lang="en-US" sz="2800" spc="-1" strike="noStrike">
                <a:solidFill>
                  <a:srgbClr val="240c7e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240c7e"/>
                </a:solidFill>
                <a:latin typeface="Arial"/>
              </a:rPr>
              <a:t> взята точка К, ВК    А</a:t>
            </a:r>
            <a:r>
              <a:rPr b="0" lang="en-US" sz="2800" spc="-1" strike="noStrike">
                <a:solidFill>
                  <a:srgbClr val="240c7e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240c7e"/>
                </a:solidFill>
                <a:latin typeface="Arial"/>
              </a:rPr>
              <a:t>. Прямые ВК и АС пересекаются в точке О, АС = 2ВК. Найдите угол АОВ. (5 балл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724280" y="5334120"/>
                <a:ext cx="3524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4267080" y="1676520"/>
                <a:ext cx="203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2819520" y="1752480"/>
                <a:ext cx="3808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914400" y="3962520"/>
                <a:ext cx="39384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819520" y="3886200"/>
                <a:ext cx="203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260"/>
                </a:solidFill>
                <a:latin typeface="Arial Black"/>
              </a:rPr>
              <a:t>Задача 1.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1600200"/>
            <a:ext cx="3352680" cy="4419720"/>
          </a:xfrm>
          <a:prstGeom prst="diamond">
            <a:avLst/>
          </a:prstGeom>
          <a:solidFill>
            <a:srgbClr val="5d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962520" y="38098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160020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638680" y="3657600"/>
            <a:ext cx="152640" cy="152280"/>
          </a:xfrm>
          <a:prstGeom prst="rect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638680" y="1295280"/>
            <a:ext cx="33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316640" y="3403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6440" y="5943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506760" y="3581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639760" y="38098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8387600">
            <a:off x="6297840" y="4064760"/>
            <a:ext cx="8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4 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8662400">
            <a:off x="5491800" y="50256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5715000" y="5029200"/>
                <a:ext cx="203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5943600" y="4724280"/>
                <a:ext cx="2840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6553080" y="4114800"/>
                <a:ext cx="203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6705720" y="3733920"/>
                <a:ext cx="3157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260"/>
                </a:solidFill>
                <a:latin typeface="Arial Black"/>
              </a:rPr>
              <a:t>Задача 2.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581280" y="2895480"/>
            <a:ext cx="4191120" cy="2514600"/>
          </a:xfrm>
          <a:prstGeom prst="rect">
            <a:avLst/>
          </a:prstGeom>
          <a:solidFill>
            <a:srgbClr val="5d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3581280" y="2895120"/>
            <a:ext cx="4191120" cy="251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581280" y="2895480"/>
            <a:ext cx="4191120" cy="251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581280" y="2895480"/>
            <a:ext cx="114300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6705360" y="3581280"/>
            <a:ext cx="106668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19755000">
            <a:off x="4647960" y="4495320"/>
            <a:ext cx="222120" cy="212760"/>
          </a:xfrm>
          <a:prstGeom prst="rect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rot="3312000">
            <a:off x="6552720" y="3580920"/>
            <a:ext cx="190800" cy="190800"/>
          </a:xfrm>
          <a:prstGeom prst="rect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25720" y="4724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125520" y="5181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278160" y="2514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697520" y="2514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850160" y="5257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326640" y="3124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19747800">
            <a:off x="3962880" y="495252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563800" y="41911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19858800">
            <a:off x="4877280" y="441936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952880" y="396252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5257800" y="3886200"/>
                <a:ext cx="22068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 rot="19589400">
            <a:off x="5565240" y="350496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260"/>
                </a:solidFill>
                <a:latin typeface="Arial Black"/>
              </a:rPr>
              <a:t>Задача 3.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0" name=""/>
          <p:cNvSpPr/>
          <p:nvPr/>
        </p:nvSpPr>
        <p:spPr>
          <a:xfrm>
            <a:off x="4038480" y="1905120"/>
            <a:ext cx="2743200" cy="4343400"/>
          </a:xfrm>
          <a:prstGeom prst="diamond">
            <a:avLst/>
          </a:prstGeom>
          <a:solidFill>
            <a:srgbClr val="5d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410080" y="19051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038480" y="4038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4800240" y="2819520"/>
            <a:ext cx="198108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410080" y="1904760"/>
            <a:ext cx="274320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410080" y="1905120"/>
            <a:ext cx="198144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1932600">
            <a:off x="4876560" y="2666880"/>
            <a:ext cx="228600" cy="228600"/>
          </a:xfrm>
          <a:prstGeom prst="rect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1929000">
            <a:off x="7086240" y="3048120"/>
            <a:ext cx="228600" cy="228600"/>
          </a:xfrm>
          <a:prstGeom prst="rect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21160" y="2362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03028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469640" y="3048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582720" y="3733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487840" y="6172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59440" y="4038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335560" y="1523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412240" y="5410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336280" y="3352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5638680" y="3352680"/>
                <a:ext cx="22068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5412600" y="28954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5867280" y="2895480"/>
                <a:ext cx="203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5638680" y="5334120"/>
                <a:ext cx="22068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друг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295280" y="152280"/>
            <a:ext cx="6934320" cy="876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тырёхугольни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1523880"/>
            <a:ext cx="3276720" cy="685800"/>
          </a:xfrm>
          <a:prstGeom prst="rect">
            <a:avLst/>
          </a:prstGeom>
          <a:solidFill>
            <a:srgbClr val="feaf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прави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1371600"/>
            <a:ext cx="3657600" cy="685800"/>
          </a:xfrm>
          <a:prstGeom prst="rect">
            <a:avLst/>
          </a:prstGeom>
          <a:solidFill>
            <a:srgbClr val="feaf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неправи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5562720"/>
            <a:ext cx="144792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квад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2362320"/>
            <a:ext cx="4114800" cy="1143000"/>
          </a:xfrm>
          <a:prstGeom prst="parallelogram">
            <a:avLst>
              <a:gd name="adj" fmla="val 90000"/>
            </a:avLst>
          </a:prstGeom>
          <a:solidFill>
            <a:srgbClr val="558c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параллело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4038480"/>
            <a:ext cx="289548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прямо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3962520"/>
            <a:ext cx="1447920" cy="1828800"/>
          </a:xfrm>
          <a:prstGeom prst="diamond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ром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6095520" y="3428640"/>
            <a:ext cx="2281320" cy="1066680"/>
          </a:xfrm>
          <a:custGeom>
            <a:avLst/>
            <a:gdLst>
              <a:gd name="textAreaLeft" fmla="*/ 501480 w 2281320"/>
              <a:gd name="textAreaRight" fmla="*/ 1779840 w 2281320"/>
              <a:gd name="textAreaTop" fmla="*/ 234360 h 1066680"/>
              <a:gd name="textAreaBottom" fmla="*/ 832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трапе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914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914400"/>
            <a:ext cx="1752480" cy="4572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181480" y="1981080"/>
            <a:ext cx="1905120" cy="3812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1981080"/>
            <a:ext cx="0" cy="14479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3505320"/>
            <a:ext cx="609480" cy="990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124080" y="3505320"/>
            <a:ext cx="1447920" cy="5331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09320" y="5029200"/>
            <a:ext cx="838440" cy="5335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0120" y="5410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6858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848720" y="6858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8534520" y="5410080"/>
            <a:ext cx="38088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857640" y="54100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6095880"/>
            <a:ext cx="16765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534520" y="1981080"/>
            <a:ext cx="0" cy="34290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295280" y="914400"/>
            <a:ext cx="1905120" cy="6094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209680"/>
            <a:ext cx="0" cy="33530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286000" y="5257800"/>
            <a:ext cx="2819520" cy="9144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762120"/>
          <a:ext cx="8540640" cy="6816600"/>
        </p:xfrm>
        <a:graphic>
          <a:graphicData uri="http://schemas.openxmlformats.org/drawingml/2006/table">
            <a:tbl>
              <a:tblPr/>
              <a:tblGrid>
                <a:gridCol w="2846160"/>
                <a:gridCol w="2847960"/>
                <a:gridCol w="2846520"/>
              </a:tblGrid>
              <a:tr h="15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йства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         параллелограм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a3ffff"/>
                        </a:buClr>
                        <a:buFont typeface="Arial"/>
                        <a:buAutoNum type="arabicPlain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a3ffff"/>
                        </a:buClr>
                        <a:buFont typeface="Arial"/>
                        <a:buAutoNum type="arabicPlain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Все углы прям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Диагонали рав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943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йства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    параллелограм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spcBef>
                          <a:spcPts val="349"/>
                        </a:spcBef>
                        <a:buClr>
                          <a:srgbClr val="8c8cb4"/>
                        </a:buClr>
                        <a:buFont typeface="Arial"/>
                        <a:buAutoNum type="arabicPlain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a3ffff"/>
                        </a:buClr>
                        <a:buFont typeface="Arial"/>
                        <a:buAutoNum type="arabicPlain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тороны рав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диагонали перпендику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ярн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диагонали-биссектри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лов ромб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f2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йства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      параллелограм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a3ffff"/>
                        </a:buClr>
                        <a:buFont typeface="Arial"/>
                        <a:buAutoNum type="arabicPlain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гонали рав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a3ffff"/>
                        </a:buClr>
                        <a:buFont typeface="Arial"/>
                        <a:buAutoNum type="arabicPlain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гонали перпен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куляр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   Диагонали явл-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ссект-ми уг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     Все углы прям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a3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роны рав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a3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a3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a3ffff"/>
                        </a:buClr>
                        <a:buFont typeface="Arial"/>
                        <a:buAutoNum type="arabicPlain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8f066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685800" y="1219320"/>
            <a:ext cx="190512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838080"/>
            <a:ext cx="914400" cy="1447920"/>
          </a:xfrm>
          <a:prstGeom prst="diamond">
            <a:avLst/>
          </a:prstGeom>
          <a:solidFill>
            <a:srgbClr val="ffcc00"/>
          </a:solidFill>
          <a:ln w="9360">
            <a:solidFill>
              <a:srgbClr val="ee66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0" y="990720"/>
            <a:ext cx="1066680" cy="990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304920"/>
            <a:ext cx="289548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Times New Roman"/>
              </a:rPr>
              <a:t>прямоугольник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114800" y="-676440"/>
            <a:ext cx="1600200" cy="1514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Times New Roman"/>
              </a:rPr>
              <a:t>ром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705720" y="304920"/>
            <a:ext cx="182880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Times New Roman"/>
              </a:rPr>
              <a:t>квадра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ffff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2895480"/>
            <a:ext cx="228600" cy="83844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4952880"/>
            <a:ext cx="1828800" cy="457200"/>
          </a:xfrm>
          <a:prstGeom prst="rect">
            <a:avLst/>
          </a:prstGeom>
          <a:solidFill>
            <a:srgbClr val="f493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1"/>
            <a:endCxn id="137" idx="1"/>
          </p:cNvCxnSpPr>
          <p:nvPr/>
        </p:nvCxnSpPr>
        <p:spPr>
          <a:xfrm>
            <a:off x="837720" y="5181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7" idx="1"/>
            <a:endCxn id="137" idx="1"/>
          </p:cNvCxnSpPr>
          <p:nvPr/>
        </p:nvCxnSpPr>
        <p:spPr>
          <a:xfrm>
            <a:off x="837720" y="5181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0" name=""/>
          <p:cNvSpPr/>
          <p:nvPr/>
        </p:nvSpPr>
        <p:spPr>
          <a:xfrm>
            <a:off x="838080" y="4952880"/>
            <a:ext cx="1828800" cy="4572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4800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838080" y="4952880"/>
            <a:ext cx="1828800" cy="4572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2895480"/>
            <a:ext cx="152640" cy="838440"/>
          </a:xfrm>
          <a:custGeom>
            <a:avLst/>
            <a:gdLst>
              <a:gd name="textAreaLeft" fmla="*/ 0 w 152640"/>
              <a:gd name="textAreaRight" fmla="*/ 55080 w 15264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72200" y="289548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3581280"/>
            <a:ext cx="761760" cy="1062000"/>
          </a:xfrm>
          <a:prstGeom prst="diamond">
            <a:avLst/>
          </a:prstGeom>
          <a:solidFill>
            <a:srgbClr val="bd3b2d"/>
          </a:solidFill>
          <a:ln w="28440">
            <a:solidFill>
              <a:srgbClr val="1768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86400" y="3657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10080" y="3657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10080" y="3657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3657600"/>
            <a:ext cx="685800" cy="609480"/>
          </a:xfrm>
          <a:prstGeom prst="rect">
            <a:avLst/>
          </a:prstGeom>
          <a:solidFill>
            <a:srgbClr val="e7e717"/>
          </a:solidFill>
          <a:ln w="28440">
            <a:solidFill>
              <a:srgbClr val="1768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3657600"/>
            <a:ext cx="685800" cy="609480"/>
          </a:xfrm>
          <a:prstGeom prst="line">
            <a:avLst/>
          </a:prstGeom>
          <a:ln w="28440">
            <a:solidFill>
              <a:srgbClr val="1768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7162560" y="3657600"/>
            <a:ext cx="685800" cy="609480"/>
          </a:xfrm>
          <a:prstGeom prst="line">
            <a:avLst/>
          </a:prstGeom>
          <a:ln w="28440">
            <a:solidFill>
              <a:srgbClr val="1768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05520" y="4114800"/>
            <a:ext cx="761760" cy="0"/>
          </a:xfrm>
          <a:prstGeom prst="line">
            <a:avLst/>
          </a:prstGeom>
          <a:ln w="28440">
            <a:solidFill>
              <a:srgbClr val="77e1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3581280"/>
            <a:ext cx="0" cy="1067040"/>
          </a:xfrm>
          <a:prstGeom prst="line">
            <a:avLst/>
          </a:prstGeom>
          <a:ln w="28440">
            <a:solidFill>
              <a:srgbClr val="77e1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244440"/>
            <a:ext cx="830880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5a6f"/>
                </a:solidFill>
                <a:latin typeface="Arial Black"/>
              </a:rPr>
              <a:t>Теоретическая самостоятельная работа</a:t>
            </a:r>
            <a:br>
              <a:rPr sz="2400"/>
            </a:br>
            <a:r>
              <a:rPr b="1" lang="en-US" sz="2000" spc="-1" strike="noStrike">
                <a:solidFill>
                  <a:srgbClr val="175a6f"/>
                </a:solidFill>
                <a:latin typeface="Arial Black"/>
              </a:rPr>
              <a:t>Заполнить таблицу, отметив знаки +(да), -(нет)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85800" y="914400"/>
          <a:ext cx="7620120" cy="5734080"/>
        </p:xfrm>
        <a:graphic>
          <a:graphicData uri="http://schemas.openxmlformats.org/drawingml/2006/table">
            <a:tbl>
              <a:tblPr/>
              <a:tblGrid>
                <a:gridCol w="4568760"/>
                <a:gridCol w="725400"/>
                <a:gridCol w="798840"/>
                <a:gridCol w="723600"/>
                <a:gridCol w="803520"/>
              </a:tblGrid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40c7e"/>
                          </a:solidFill>
                          <a:latin typeface="Arial"/>
                        </a:rPr>
                        <a:t>1.Противолежащие стороны параллельны и равн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40c7e"/>
                          </a:solidFill>
                          <a:latin typeface="Arial"/>
                        </a:rPr>
                        <a:t>2. Все стороны равн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40c7e"/>
                          </a:solidFill>
                          <a:latin typeface="Arial"/>
                        </a:rPr>
                        <a:t>3. Противолежащие углы равны, сумма соседних углов равна 18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40c7e"/>
                          </a:solidFill>
                          <a:latin typeface="Arial"/>
                        </a:rPr>
                        <a:t>4. Все углы прямы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40c7e"/>
                          </a:solidFill>
                          <a:latin typeface="Arial"/>
                        </a:rPr>
                        <a:t>5. Диагонали пересекаются и точкой пересечения делятся попола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40c7e"/>
                          </a:solidFill>
                          <a:latin typeface="Arial"/>
                        </a:rPr>
                        <a:t>6. Диагонали равн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40c7e"/>
                          </a:solidFill>
                          <a:latin typeface="Arial"/>
                        </a:rPr>
                        <a:t>7. Диагонали взаимно перпендикулярны и являются биссектрисами угл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648320" y="3200400"/>
                <a:ext cx="182520" cy="2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6172200" y="990720"/>
            <a:ext cx="533520" cy="30456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72400" y="990720"/>
            <a:ext cx="380880" cy="380880"/>
          </a:xfrm>
          <a:prstGeom prst="rect">
            <a:avLst/>
          </a:prstGeom>
          <a:solidFill>
            <a:srgbClr val="1288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0" y="914400"/>
            <a:ext cx="609480" cy="457200"/>
          </a:xfrm>
          <a:prstGeom prst="diamond">
            <a:avLst/>
          </a:prstGeom>
          <a:solidFill>
            <a:srgbClr val="e36f0f"/>
          </a:solidFill>
          <a:ln w="9360">
            <a:solidFill>
              <a:srgbClr val="240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67480" y="8153280"/>
            <a:ext cx="1214640" cy="1214640"/>
          </a:xfrm>
          <a:prstGeom prst="diamond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4120" y="990720"/>
            <a:ext cx="609480" cy="304560"/>
          </a:xfrm>
          <a:prstGeom prst="parallelogram">
            <a:avLst>
              <a:gd name="adj" fmla="val 50030"/>
            </a:avLst>
          </a:prstGeom>
          <a:solidFill>
            <a:srgbClr val="d9d412"/>
          </a:solidFill>
          <a:ln w="9360">
            <a:solidFill>
              <a:srgbClr val="240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244440"/>
            <a:ext cx="830880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5a6f"/>
                </a:solidFill>
                <a:latin typeface="Arial Black"/>
              </a:rPr>
              <a:t>Правильные ответы к теоретической самостоятельной работе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85800" y="914400"/>
          <a:ext cx="7620120" cy="5695920"/>
        </p:xfrm>
        <a:graphic>
          <a:graphicData uri="http://schemas.openxmlformats.org/drawingml/2006/table">
            <a:tbl>
              <a:tblPr/>
              <a:tblGrid>
                <a:gridCol w="4568760"/>
                <a:gridCol w="725400"/>
                <a:gridCol w="798840"/>
                <a:gridCol w="723600"/>
                <a:gridCol w="803520"/>
              </a:tblGrid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40c7e"/>
                          </a:solidFill>
                          <a:latin typeface="Arial"/>
                        </a:rPr>
                        <a:t>1.Противолежащие стороны параллельны и равн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40c7e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40c7e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40c7e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40c7e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40c7e"/>
                          </a:solidFill>
                          <a:latin typeface="Arial"/>
                        </a:rPr>
                        <a:t>2. Все стороны равн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40c7e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40c7e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40c7e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40c7e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40c7e"/>
                          </a:solidFill>
                          <a:latin typeface="Arial"/>
                        </a:rPr>
                        <a:t>3. Противолежащие углы равны, сумма соседних углов равна 18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40c7e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40c7e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40c7e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40c7e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40c7e"/>
                          </a:solidFill>
                          <a:latin typeface="Arial"/>
                        </a:rPr>
                        <a:t>4. Все углы прямы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40c7e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40c7e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40c7e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40c7e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40c7e"/>
                          </a:solidFill>
                          <a:latin typeface="Arial"/>
                        </a:rPr>
                        <a:t>5. Диагонали пересекаются и точкой пересечения делятся попола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40c7e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40c7e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40c7e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40c7e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40c7e"/>
                          </a:solidFill>
                          <a:latin typeface="Arial"/>
                        </a:rPr>
                        <a:t>6. Диагонали равн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40c7e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40c7e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40c7e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40c7e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40c7e"/>
                          </a:solidFill>
                          <a:latin typeface="Arial"/>
                        </a:rPr>
                        <a:t>7. Диагонали взаимно перпендикулярны и являются биссектрисами угл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40c7e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40c7e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40c7e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40c7e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648320" y="3200400"/>
                <a:ext cx="182520" cy="2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6172200" y="1066680"/>
            <a:ext cx="457200" cy="228600"/>
          </a:xfrm>
          <a:prstGeom prst="rect">
            <a:avLst/>
          </a:prstGeom>
          <a:solidFill>
            <a:srgbClr val="fe0000"/>
          </a:solidFill>
          <a:ln w="9360">
            <a:solidFill>
              <a:srgbClr val="240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72400" y="990720"/>
            <a:ext cx="304920" cy="304560"/>
          </a:xfrm>
          <a:prstGeom prst="rect">
            <a:avLst/>
          </a:prstGeom>
          <a:solidFill>
            <a:srgbClr val="e36f0f"/>
          </a:solidFill>
          <a:ln w="9360">
            <a:solidFill>
              <a:srgbClr val="240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57800" y="1066680"/>
            <a:ext cx="685800" cy="228600"/>
          </a:xfrm>
          <a:prstGeom prst="parallelogram">
            <a:avLst>
              <a:gd name="adj" fmla="val 75000"/>
            </a:avLst>
          </a:prstGeom>
          <a:solidFill>
            <a:srgbClr val="128826"/>
          </a:solidFill>
          <a:ln w="9360">
            <a:solidFill>
              <a:srgbClr val="240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34320" y="990720"/>
            <a:ext cx="380880" cy="380880"/>
          </a:xfrm>
          <a:prstGeom prst="diamond">
            <a:avLst/>
          </a:prstGeom>
          <a:solidFill>
            <a:srgbClr val="cc0099"/>
          </a:solidFill>
          <a:ln w="9360">
            <a:solidFill>
              <a:srgbClr val="240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5a6f"/>
                </a:solidFill>
                <a:latin typeface="Arial Black"/>
              </a:rPr>
              <a:t>Решение задач на готовых чертежах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0c7e"/>
                </a:solidFill>
                <a:latin typeface="Arial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0c7e"/>
                </a:solidFill>
                <a:latin typeface="Arial"/>
              </a:rPr>
              <a:t>АВС</a:t>
            </a:r>
            <a:r>
              <a:rPr b="0" lang="en-US" sz="2400" spc="-1" strike="noStrike">
                <a:solidFill>
                  <a:srgbClr val="240c7e"/>
                </a:solidFill>
                <a:latin typeface="Arial"/>
              </a:rPr>
              <a:t>D </a:t>
            </a:r>
            <a:r>
              <a:rPr b="0" lang="ru-RU" sz="2400" spc="-1" strike="noStrike">
                <a:solidFill>
                  <a:srgbClr val="240c7e"/>
                </a:solidFill>
                <a:latin typeface="Arial"/>
              </a:rPr>
              <a:t>– ром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0c7e"/>
                </a:solidFill>
                <a:latin typeface="Arial"/>
              </a:rPr>
              <a:t>Найти: </a:t>
            </a:r>
            <a:r>
              <a:rPr b="0" lang="en-US" sz="2400" spc="-1" strike="noStrike">
                <a:solidFill>
                  <a:srgbClr val="240c7e"/>
                </a:solidFill>
                <a:latin typeface="Arial"/>
              </a:rPr>
              <a:t>MD </a:t>
            </a:r>
            <a:r>
              <a:rPr b="0" lang="ru-RU" sz="2400" spc="-1" strike="noStrike">
                <a:solidFill>
                  <a:srgbClr val="240c7e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240c7e"/>
                </a:solidFill>
                <a:latin typeface="Arial"/>
              </a:rPr>
              <a:t>DN</a:t>
            </a:r>
            <a:r>
              <a:rPr b="0" lang="ru-RU" sz="2400" spc="-1" strike="noStrike">
                <a:solidFill>
                  <a:srgbClr val="240c7e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9857600">
            <a:off x="3352680" y="2971800"/>
            <a:ext cx="4648320" cy="2438280"/>
          </a:xfrm>
          <a:prstGeom prst="diamond">
            <a:avLst/>
          </a:prstGeom>
          <a:solidFill>
            <a:srgbClr val="5d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3124080"/>
            <a:ext cx="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 rot="7437000">
            <a:off x="6703200" y="4193280"/>
            <a:ext cx="152280" cy="147600"/>
          </a:xfrm>
          <a:prstGeom prst="rect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4280" y="4952880"/>
            <a:ext cx="303840" cy="40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78501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78501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02600" y="51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774200" y="2819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08680" y="272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00400" y="510552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36120" y="4343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54680" y="53341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8527400">
            <a:off x="3815640" y="380628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38480" y="487692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5105520"/>
            <a:ext cx="152280" cy="152280"/>
          </a:xfrm>
          <a:prstGeom prst="rect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343400" y="4876920"/>
                <a:ext cx="203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650480" y="3581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952880" y="3581280"/>
                <a:ext cx="203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4116960" y="533412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12600" y="533412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8186600">
            <a:off x="6327720" y="472392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657600" y="3124080"/>
            <a:ext cx="1447920" cy="221004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657600" y="5257800"/>
            <a:ext cx="1447920" cy="763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3124080"/>
            <a:ext cx="0" cy="21337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3124080"/>
            <a:ext cx="1828800" cy="114300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105520" y="3047760"/>
            <a:ext cx="2590560" cy="7596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6934320" y="3048120"/>
            <a:ext cx="761760" cy="121896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248520" y="426708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260"/>
                </a:solidFill>
                <a:latin typeface="Arial Black"/>
              </a:rPr>
              <a:t>Решение задач на готовых чертежах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e7e"/>
                </a:solidFill>
                <a:latin typeface="Arial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e7e"/>
                </a:solidFill>
                <a:latin typeface="Arial"/>
              </a:rPr>
              <a:t>АВС</a:t>
            </a:r>
            <a:r>
              <a:rPr b="0" lang="en-US" sz="2400" spc="-1" strike="noStrike">
                <a:solidFill>
                  <a:srgbClr val="001e7e"/>
                </a:solidFill>
                <a:latin typeface="Arial"/>
              </a:rPr>
              <a:t>D </a:t>
            </a:r>
            <a:r>
              <a:rPr b="0" lang="ru-RU" sz="2400" spc="-1" strike="noStrike">
                <a:solidFill>
                  <a:srgbClr val="001e7e"/>
                </a:solidFill>
                <a:latin typeface="Arial"/>
              </a:rPr>
              <a:t>– ром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e7e"/>
                </a:solidFill>
                <a:latin typeface="Arial"/>
              </a:rPr>
              <a:t>Найти:     СВ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286000" y="2819520"/>
                <a:ext cx="39384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 rot="19884000">
            <a:off x="3352680" y="2971800"/>
            <a:ext cx="4648320" cy="2438280"/>
          </a:xfrm>
          <a:prstGeom prst="diamond">
            <a:avLst/>
          </a:prstGeom>
          <a:solidFill>
            <a:srgbClr val="41c7b7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 rot="7437000">
            <a:off x="6638040" y="4348800"/>
            <a:ext cx="152280" cy="147600"/>
          </a:xfrm>
          <a:prstGeom prst="rect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05520" y="3124080"/>
            <a:ext cx="175248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402600" y="51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774200" y="2819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08680" y="272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510552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936120" y="4343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248520" y="5257800"/>
            <a:ext cx="17524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248880" y="4952880"/>
            <a:ext cx="4564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707880" y="4800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7010280" y="4724280"/>
                <a:ext cx="203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063960" y="3641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487840" y="3124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64680" y="4876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267080" y="4800600"/>
                <a:ext cx="203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860160" y="3200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7162920" y="3124080"/>
                <a:ext cx="203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5488560" y="3124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5791320" y="3124080"/>
                <a:ext cx="203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 flipH="1">
            <a:off x="3581280" y="3124080"/>
            <a:ext cx="1524240" cy="22100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6324480" y="3048120"/>
            <a:ext cx="1447920" cy="22096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05520" y="3124080"/>
            <a:ext cx="1752480" cy="1295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05520" y="3047760"/>
            <a:ext cx="2590560" cy="759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81680" y="3048120"/>
            <a:ext cx="914400" cy="13716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8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8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5a6f"/>
                </a:solidFill>
                <a:latin typeface="Arial Black"/>
              </a:rPr>
              <a:t>Решение задач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927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0c7e"/>
                </a:solidFill>
                <a:latin typeface="Arial"/>
              </a:rPr>
              <a:t>Найдите углы ромба, если его диагонали составляют с его стороной углы, один из которых на 30   меньше друг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522520" y="4495680"/>
                <a:ext cx="203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5945040" y="2209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4120" y="1447920"/>
            <a:ext cx="2590560" cy="4419360"/>
          </a:xfrm>
          <a:prstGeom prst="diamond">
            <a:avLst/>
          </a:prstGeom>
          <a:solidFill>
            <a:srgbClr val="5d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4120" y="36576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629400" y="14479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4480" y="3429000"/>
            <a:ext cx="3038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6477120" y="1447200"/>
            <a:ext cx="3038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629400" y="3505320"/>
            <a:ext cx="152280" cy="152280"/>
          </a:xfrm>
          <a:prstGeom prst="rect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707520" y="571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878720" y="3505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02600" y="1066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079120" y="342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29400" y="37339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29400" y="1447920"/>
            <a:ext cx="0" cy="2209680"/>
          </a:xfrm>
          <a:prstGeom prst="line">
            <a:avLst/>
          </a:prstGeom>
          <a:ln w="57240">
            <a:solidFill>
              <a:srgbClr val="ee66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34120" y="3657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34120" y="3657600"/>
            <a:ext cx="1295280" cy="0"/>
          </a:xfrm>
          <a:prstGeom prst="line">
            <a:avLst/>
          </a:prstGeom>
          <a:ln w="57240">
            <a:solidFill>
              <a:srgbClr val="ee66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5334120" y="1447920"/>
            <a:ext cx="1295280" cy="2209680"/>
          </a:xfrm>
          <a:prstGeom prst="line">
            <a:avLst/>
          </a:prstGeom>
          <a:ln w="57240">
            <a:solidFill>
              <a:srgbClr val="ee66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46200" y="5334120"/>
            <a:ext cx="3025800" cy="1326240"/>
          </a:xfrm>
          <a:prstGeom prst="rect">
            <a:avLst/>
          </a:prstGeom>
          <a:solidFill>
            <a:srgbClr val="41c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х+х+30=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х+х+30+90=1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791320" y="6172200"/>
                <a:ext cx="1904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и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6324480" y="1828800"/>
                <a:ext cx="309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5638680" y="3276720"/>
                <a:ext cx="76212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5a6f"/>
                </a:solidFill>
                <a:latin typeface="Arial Black"/>
              </a:rPr>
              <a:t>Решение задач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0c7e"/>
                </a:solidFill>
                <a:latin typeface="Arial"/>
              </a:rPr>
              <a:t>Угол между диагоналями прямоугольника равен 80 . Найдите углы между диагональю прямоугольника и его сторон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5867280" y="3505320"/>
                <a:ext cx="203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4572000" y="2438280"/>
            <a:ext cx="4038480" cy="2514600"/>
          </a:xfrm>
          <a:prstGeom prst="rect">
            <a:avLst/>
          </a:prstGeom>
          <a:solidFill>
            <a:srgbClr val="96b8e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572000" y="2437920"/>
            <a:ext cx="403848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2438280"/>
            <a:ext cx="403848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095160" y="3456000"/>
            <a:ext cx="60948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38" y="1301"/>
                </a:moveTo>
                <a:arcTo wR="10800" hR="10800" stAng="-3695391" swAng="5978212"/>
                <a:lnTo>
                  <a:pt x="10800" y="10800"/>
                </a:lnTo>
                <a:close/>
              </a:path>
              <a:path fill="none" w="21600" h="21600">
                <a:moveTo>
                  <a:pt x="15938" y="1301"/>
                </a:moveTo>
                <a:arcTo wR="10800" hR="10800" stAng="-3695391" swAng="597821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64880" y="35053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612280" y="4876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12080" y="4978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92920" y="2133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612280" y="2133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402240" y="38098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362320" y="3276720"/>
                <a:ext cx="203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5030640" y="2438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8320" y="2743200"/>
            <a:ext cx="3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477120" y="36576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4304880" y="2705040"/>
            <a:ext cx="2514600" cy="1981080"/>
          </a:xfrm>
          <a:prstGeom prst="triangle">
            <a:avLst>
              <a:gd name="adj" fmla="val 50000"/>
            </a:avLst>
          </a:prstGeom>
          <a:solidFill>
            <a:srgbClr val="558cdd"/>
          </a:solidFill>
          <a:ln w="57240">
            <a:solidFill>
              <a:srgbClr val="1b4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rot="7407600">
            <a:off x="5097600" y="26726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3408600">
            <a:off x="5135400" y="415944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8320" y="6172200"/>
            <a:ext cx="5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55880" y="6087960"/>
            <a:ext cx="9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00600" y="6400800"/>
            <a:ext cx="43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4648320" y="2666880"/>
                <a:ext cx="6094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sSup>
                          <m:e/>
                          <m:sup>
                            <m:r>
                              <m:t xml:space="preserve">∘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648320" y="4191120"/>
                <a:ext cx="5331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sSup>
                          <m:e/>
                          <m:sup>
                            <m:r>
                              <m:t xml:space="preserve">∘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6781680" y="3378240"/>
                <a:ext cx="6098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5257800" y="2438280"/>
                <a:ext cx="6094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4572000" y="4952880"/>
            <a:ext cx="4038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8610480" y="243792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572000" y="2438280"/>
            <a:ext cx="4038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0:12:02Z</dcterms:created>
  <dc:creator>Гореликова В.Л.</dc:creator>
  <dc:description/>
  <dc:language>en-US</dc:language>
  <cp:lastModifiedBy>SUPERCOMP</cp:lastModifiedBy>
  <dcterms:modified xsi:type="dcterms:W3CDTF">2007-12-05T21:15:12Z</dcterms:modified>
  <cp:revision>56</cp:revision>
  <dc:subject/>
  <dc:title>Решение задач на тему «Прямоугольник. Ромб. Квадрат».</dc:title>
</cp:coreProperties>
</file>