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chimes.wav" ContentType="audio/x-wav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31D-F3FE-4DDD-8ACA-A0CD317D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F58-46D7-4D86-9694-31533878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FCC-6F9E-4B75-9E8D-78B9BBA5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D0D-8F58-4C6E-8982-87C38EE6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3F0E-1062-4983-A07F-7F3626A9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5626-70D3-476D-962B-CB162633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7088-970F-4210-8194-09277974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4310-7172-4029-A5FA-CB7BD190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9212-5F98-422D-93A5-92B111AD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5098-4883-45B0-B40A-3252A9E4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F480-D251-49F1-A309-DE925C2B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739-C0DB-4D6B-A5B8-095E3131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799C-FD53-42F1-9B08-88977BCC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878F-BE27-47F6-86F2-4E7556F5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B20F-58D3-4DB9-ADA5-CCE0FBDD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3E00-437A-4167-B36D-A959BC48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BA44-225C-4387-AAD4-42C17B53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3B4-E926-491B-ABA7-2D2DEBAC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0B4-089B-49C2-9C92-11825252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8F5-6D10-430B-9686-5A1886FC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3E8-8FC3-4702-B21A-5EA44166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B28-AE34-4FE2-AC1D-98903A48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B2D-BAD0-4C2F-9292-7EA4A8FC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13F-E014-4C97-AEBC-2B3C2DC5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4C89-5E74-466A-9AC9-5FD4DE0EB6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3804-B72E-422B-9D14-6032EA5860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вадратичная функция и ее график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050920" y="4508640"/>
            <a:ext cx="453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295880" y="3068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43280" y="2668680"/>
            <a:ext cx="1087560" cy="1839960"/>
          </a:xfrm>
          <a:custGeom>
            <a:avLst/>
            <a:gdLst/>
            <a:ahLst/>
            <a:rect l="l" t="t" r="r" b="b"/>
            <a:pathLst>
              <a:path w="685" h="1159">
                <a:moveTo>
                  <a:pt x="0" y="0"/>
                </a:moveTo>
                <a:cubicBezTo>
                  <a:pt x="19" y="110"/>
                  <a:pt x="75" y="480"/>
                  <a:pt x="113" y="654"/>
                </a:cubicBezTo>
                <a:cubicBezTo>
                  <a:pt x="151" y="828"/>
                  <a:pt x="195" y="962"/>
                  <a:pt x="230" y="1046"/>
                </a:cubicBezTo>
                <a:cubicBezTo>
                  <a:pt x="265" y="1130"/>
                  <a:pt x="289" y="1157"/>
                  <a:pt x="325" y="1158"/>
                </a:cubicBezTo>
                <a:cubicBezTo>
                  <a:pt x="361" y="1159"/>
                  <a:pt x="409" y="1135"/>
                  <a:pt x="448" y="1051"/>
                </a:cubicBezTo>
                <a:cubicBezTo>
                  <a:pt x="487" y="967"/>
                  <a:pt x="522" y="825"/>
                  <a:pt x="561" y="653"/>
                </a:cubicBezTo>
                <a:cubicBezTo>
                  <a:pt x="600" y="481"/>
                  <a:pt x="659" y="153"/>
                  <a:pt x="685" y="2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-0.25 0 E">
                                      <p:cBhvr>
                                        <p:cTn id="3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0 0 L 0.25 0 E">
                                      <p:cBhvr>
                                        <p:cTn id="3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 0 L 0 0.3331 E">
                                      <p:cBhvr>
                                        <p:cTn id="4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0 0 L 0 -0.3331 E">
                                      <p:cBhvr>
                                        <p:cTn id="4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0 0 L 0.125 0.2878 L -0.125 0.2878 L 0 0 Z">
                                      <p:cBhvr>
                                        <p:cTn id="4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войства функции у = а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Arial"/>
              </a:rPr>
              <a:t>²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  <a:ea typeface="Arial"/>
              </a:rPr>
              <a:t>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  <a:ea typeface="Arial"/>
              </a:rPr>
              <a:t>(а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Arial"/>
              </a:rPr>
              <a:t>&gt;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  <a:ea typeface="Arial"/>
              </a:rPr>
              <a:t>0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4920" y="1700280"/>
            <a:ext cx="7632360" cy="3023640"/>
            <a:chOff x="34920" y="1700280"/>
            <a:chExt cx="7632360" cy="3023640"/>
          </a:xfrm>
        </p:grpSpPr>
        <p:sp>
          <p:nvSpPr>
            <p:cNvPr id="157" name=""/>
            <p:cNvSpPr/>
            <p:nvPr/>
          </p:nvSpPr>
          <p:spPr>
            <a:xfrm>
              <a:off x="34920" y="170028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20" y="230472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920" y="210204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20" y="190152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920" y="270684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920" y="250632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920" y="351396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4920" y="331200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20" y="311076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20" y="290952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920" y="371556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920" y="391680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920" y="411840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920" y="432000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920" y="452160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920" y="472284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920" y="1700280"/>
              <a:ext cx="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3224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547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728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9980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2232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484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736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988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240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196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421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6468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8720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097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070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2956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5208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7460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971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2688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4940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7192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9444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1696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3948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6200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8452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467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692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917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428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3680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593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184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43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1160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3412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566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7916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0168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2420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6656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8908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050920" y="3500280"/>
            <a:ext cx="453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295880" y="191592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86520" y="17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2636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13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76760" y="1657440"/>
            <a:ext cx="1054080" cy="1847880"/>
          </a:xfrm>
          <a:custGeom>
            <a:avLst/>
            <a:gdLst/>
            <a:ahLst/>
            <a:rect l="l" t="t" r="r" b="b"/>
            <a:pathLst>
              <a:path w="664" h="1164">
                <a:moveTo>
                  <a:pt x="0" y="6"/>
                </a:moveTo>
                <a:cubicBezTo>
                  <a:pt x="19" y="116"/>
                  <a:pt x="75" y="486"/>
                  <a:pt x="113" y="660"/>
                </a:cubicBezTo>
                <a:cubicBezTo>
                  <a:pt x="151" y="834"/>
                  <a:pt x="195" y="968"/>
                  <a:pt x="230" y="1052"/>
                </a:cubicBezTo>
                <a:cubicBezTo>
                  <a:pt x="265" y="1136"/>
                  <a:pt x="290" y="1164"/>
                  <a:pt x="325" y="1164"/>
                </a:cubicBezTo>
                <a:cubicBezTo>
                  <a:pt x="360" y="1164"/>
                  <a:pt x="402" y="1136"/>
                  <a:pt x="440" y="1050"/>
                </a:cubicBezTo>
                <a:cubicBezTo>
                  <a:pt x="478" y="964"/>
                  <a:pt x="518" y="825"/>
                  <a:pt x="555" y="650"/>
                </a:cubicBezTo>
                <a:cubicBezTo>
                  <a:pt x="592" y="475"/>
                  <a:pt x="641" y="135"/>
                  <a:pt x="6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37200" y="3448080"/>
            <a:ext cx="107640" cy="1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64120" y="3473280"/>
            <a:ext cx="71280" cy="7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49880" y="3475080"/>
            <a:ext cx="69840" cy="698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55920" y="3367080"/>
            <a:ext cx="71640" cy="71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57880" y="348948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95720" y="3478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3478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62400" y="26859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32846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32480" y="3478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652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02520" y="348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467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97800" y="2482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37320" y="3500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87840" y="3489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643280" y="2708280"/>
            <a:ext cx="0" cy="79200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84720" y="2708280"/>
            <a:ext cx="358560" cy="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924000" y="2708280"/>
            <a:ext cx="360360" cy="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46680" y="2708280"/>
            <a:ext cx="0" cy="86508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478400" y="3295440"/>
            <a:ext cx="0" cy="21564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129200" y="3284280"/>
            <a:ext cx="0" cy="21564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140000" y="3306600"/>
            <a:ext cx="144360" cy="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3306600"/>
            <a:ext cx="179280" cy="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41840" y="1700280"/>
            <a:ext cx="71280" cy="71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050920" y="350028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84720" y="3500280"/>
            <a:ext cx="2232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84720" y="1951200"/>
            <a:ext cx="0" cy="1511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000" y="1773360"/>
            <a:ext cx="504720" cy="1726920"/>
          </a:xfrm>
          <a:custGeom>
            <a:avLst/>
            <a:gdLst/>
            <a:ahLst/>
            <a:rect l="l" t="t" r="r" b="b"/>
            <a:pathLst>
              <a:path w="318" h="1088">
                <a:moveTo>
                  <a:pt x="0" y="0"/>
                </a:moveTo>
                <a:cubicBezTo>
                  <a:pt x="13" y="76"/>
                  <a:pt x="54" y="334"/>
                  <a:pt x="79" y="455"/>
                </a:cubicBezTo>
                <a:cubicBezTo>
                  <a:pt x="104" y="576"/>
                  <a:pt x="128" y="648"/>
                  <a:pt x="149" y="724"/>
                </a:cubicBezTo>
                <a:cubicBezTo>
                  <a:pt x="170" y="800"/>
                  <a:pt x="190" y="857"/>
                  <a:pt x="208" y="909"/>
                </a:cubicBezTo>
                <a:cubicBezTo>
                  <a:pt x="226" y="961"/>
                  <a:pt x="238" y="1005"/>
                  <a:pt x="256" y="1035"/>
                </a:cubicBezTo>
                <a:cubicBezTo>
                  <a:pt x="274" y="1065"/>
                  <a:pt x="305" y="1077"/>
                  <a:pt x="318" y="10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80000" y="1700280"/>
            <a:ext cx="460080" cy="1787400"/>
          </a:xfrm>
          <a:custGeom>
            <a:avLst/>
            <a:gdLst/>
            <a:ahLst/>
            <a:rect l="l" t="t" r="r" b="b"/>
            <a:pathLst>
              <a:path w="290" h="1126">
                <a:moveTo>
                  <a:pt x="0" y="0"/>
                </a:moveTo>
                <a:cubicBezTo>
                  <a:pt x="20" y="116"/>
                  <a:pt x="86" y="534"/>
                  <a:pt x="121" y="697"/>
                </a:cubicBezTo>
                <a:cubicBezTo>
                  <a:pt x="156" y="860"/>
                  <a:pt x="183" y="908"/>
                  <a:pt x="211" y="979"/>
                </a:cubicBezTo>
                <a:cubicBezTo>
                  <a:pt x="239" y="1050"/>
                  <a:pt x="274" y="1096"/>
                  <a:pt x="290" y="1126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03800" y="1773360"/>
            <a:ext cx="527040" cy="1731960"/>
          </a:xfrm>
          <a:custGeom>
            <a:avLst/>
            <a:gdLst/>
            <a:ahLst/>
            <a:rect l="l" t="t" r="r" b="b"/>
            <a:pathLst>
              <a:path w="332" h="1091">
                <a:moveTo>
                  <a:pt x="332" y="0"/>
                </a:moveTo>
                <a:cubicBezTo>
                  <a:pt x="314" y="95"/>
                  <a:pt x="262" y="411"/>
                  <a:pt x="225" y="570"/>
                </a:cubicBezTo>
                <a:cubicBezTo>
                  <a:pt x="188" y="730"/>
                  <a:pt x="140" y="872"/>
                  <a:pt x="112" y="954"/>
                </a:cubicBezTo>
                <a:cubicBezTo>
                  <a:pt x="84" y="1036"/>
                  <a:pt x="75" y="1040"/>
                  <a:pt x="56" y="1063"/>
                </a:cubicBezTo>
                <a:cubicBezTo>
                  <a:pt x="37" y="1086"/>
                  <a:pt x="12" y="1085"/>
                  <a:pt x="0" y="1091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2.77778E-006 -3.39579E-006 L -0.2441 -3.39579E-006 E">
                                      <p:cBhvr>
                                        <p:cTn id="69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2.5E-006 -2.07495E-006 L 0.22847 -2.07495E-006 E">
                                      <p:cBhvr>
                                        <p:cTn id="79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00069 -0.25283 L -0.00069 0.00925 E">
                                      <p:cBhvr>
                                        <p:cTn id="9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9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-3.68031E-006 C 0.00434 0.01805 0.00799 0.07426 0.01285 0.1078 C 0.01771 0.14134 0.02674 0.17743 0.03212 0.20079 C 0.0375 0.22415 0.04097 0.23803 0.04497 0.24775 C 0.04896 0.25746 0.05226 0.25793 0.05556 0.25862 E">
                                      <p:cBhvr>
                                        <p:cTn id="187" dur="3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e9ce8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0.1184 -0.00994 C 0.11563 0.00671 0.10781 0.06223 0.10313 0.09045 C 0.09844 0.11867 0.09392 0.14111 0.09045 0.15938 C 0.08698 0.17766 0.08524 0.18575 0.08229 0.2001 C 0.07934 0.21444 0.07639 0.23595 0.07222 0.24567 C 0.06806 0.25538 0.06215 0.25677 0.05695 0.25839 E">
                                      <p:cBhvr>
                                        <p:cTn id="19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8360" y="476280"/>
            <a:ext cx="4969080" cy="93672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11700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Функция у = ах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95640" y="162864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e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00720" y="1700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2e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32720" y="15667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2e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76360" y="2924280"/>
            <a:ext cx="1295280" cy="43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95640" y="2924280"/>
            <a:ext cx="1584360" cy="43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 &l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32720" y="2925720"/>
            <a:ext cx="1274760" cy="4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3500280"/>
            <a:ext cx="2521080" cy="194472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ем граф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араболы у =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я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 оси х 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48000" y="3429000"/>
            <a:ext cx="2449440" cy="20876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ем граф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араболы у =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атием к оси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   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00720" y="3502080"/>
            <a:ext cx="2374920" cy="194292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ем граф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араболы у =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оси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427640" y="4724280"/>
                <a:ext cx="222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1187280" y="530064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129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994" h="21600">
                <a:moveTo>
                  <a:pt x="129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994" h="21600">
                <a:moveTo>
                  <a:pt x="10420" y="8224"/>
                </a:moveTo>
                <a:lnTo>
                  <a:pt x="14285" y="8224"/>
                </a:lnTo>
                <a:lnTo>
                  <a:pt x="14285" y="15221"/>
                </a:lnTo>
                <a:lnTo>
                  <a:pt x="15573" y="15221"/>
                </a:lnTo>
                <a:lnTo>
                  <a:pt x="15573" y="16144"/>
                </a:lnTo>
                <a:lnTo>
                  <a:pt x="10420" y="16144"/>
                </a:lnTo>
                <a:lnTo>
                  <a:pt x="10420" y="15221"/>
                </a:lnTo>
                <a:lnTo>
                  <a:pt x="11709" y="15221"/>
                </a:lnTo>
                <a:lnTo>
                  <a:pt x="11709" y="9129"/>
                </a:lnTo>
                <a:lnTo>
                  <a:pt x="10420" y="912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4354560" y="536256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1298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976" h="21600">
                <a:moveTo>
                  <a:pt x="1298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976" h="21600">
                <a:moveTo>
                  <a:pt x="10412" y="8224"/>
                </a:moveTo>
                <a:lnTo>
                  <a:pt x="14276" y="8224"/>
                </a:lnTo>
                <a:lnTo>
                  <a:pt x="14276" y="15221"/>
                </a:lnTo>
                <a:lnTo>
                  <a:pt x="15564" y="15221"/>
                </a:lnTo>
                <a:lnTo>
                  <a:pt x="15564" y="16144"/>
                </a:lnTo>
                <a:lnTo>
                  <a:pt x="10412" y="16144"/>
                </a:lnTo>
                <a:lnTo>
                  <a:pt x="10412" y="15221"/>
                </a:lnTo>
                <a:lnTo>
                  <a:pt x="11700" y="15221"/>
                </a:lnTo>
                <a:lnTo>
                  <a:pt x="11700" y="9129"/>
                </a:lnTo>
                <a:lnTo>
                  <a:pt x="10412" y="912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380360" y="530208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87" h="21600">
                <a:moveTo>
                  <a:pt x="1084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87" h="21600">
                <a:moveTo>
                  <a:pt x="8267" y="8224"/>
                </a:moveTo>
                <a:lnTo>
                  <a:pt x="12131" y="8224"/>
                </a:lnTo>
                <a:lnTo>
                  <a:pt x="12131" y="15221"/>
                </a:lnTo>
                <a:lnTo>
                  <a:pt x="13420" y="15221"/>
                </a:lnTo>
                <a:lnTo>
                  <a:pt x="13420" y="16144"/>
                </a:lnTo>
                <a:lnTo>
                  <a:pt x="8267" y="16144"/>
                </a:lnTo>
                <a:lnTo>
                  <a:pt x="8267" y="15221"/>
                </a:lnTo>
                <a:lnTo>
                  <a:pt x="9555" y="15221"/>
                </a:lnTo>
                <a:lnTo>
                  <a:pt x="9555" y="9129"/>
                </a:lnTo>
                <a:lnTo>
                  <a:pt x="8267" y="912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395280" y="1700280"/>
            <a:ext cx="7632360" cy="3023640"/>
            <a:chOff x="395280" y="1700280"/>
            <a:chExt cx="7632360" cy="3023640"/>
          </a:xfrm>
        </p:grpSpPr>
        <p:sp>
          <p:nvSpPr>
            <p:cNvPr id="272" name=""/>
            <p:cNvSpPr/>
            <p:nvPr/>
          </p:nvSpPr>
          <p:spPr>
            <a:xfrm>
              <a:off x="395280" y="170028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5280" y="230472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5280" y="210204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5280" y="190152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5280" y="270684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5280" y="250632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5280" y="351396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5280" y="331200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280" y="311076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5280" y="290952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5280" y="371556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5280" y="391680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5280" y="411840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5280" y="432000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5280" y="452160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5280" y="472284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5280" y="1700280"/>
              <a:ext cx="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9260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1512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376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6016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8268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0520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277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02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27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8000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0252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2504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4756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7008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6740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99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1244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349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5748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72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0976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3228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5480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773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998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223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4488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0708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2960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5212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7464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9716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1968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4220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6472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719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1700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395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6204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845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269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494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050920" y="3500280"/>
            <a:ext cx="453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295880" y="191592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94120" y="1677960"/>
            <a:ext cx="806400" cy="1820880"/>
          </a:xfrm>
          <a:custGeom>
            <a:avLst/>
            <a:gdLst/>
            <a:ahLst/>
            <a:rect l="l" t="t" r="r" b="b"/>
            <a:pathLst>
              <a:path w="508" h="1147">
                <a:moveTo>
                  <a:pt x="0" y="0"/>
                </a:moveTo>
                <a:cubicBezTo>
                  <a:pt x="5" y="24"/>
                  <a:pt x="14" y="46"/>
                  <a:pt x="27" y="142"/>
                </a:cubicBezTo>
                <a:cubicBezTo>
                  <a:pt x="40" y="238"/>
                  <a:pt x="63" y="453"/>
                  <a:pt x="81" y="579"/>
                </a:cubicBezTo>
                <a:cubicBezTo>
                  <a:pt x="99" y="705"/>
                  <a:pt x="106" y="807"/>
                  <a:pt x="136" y="901"/>
                </a:cubicBezTo>
                <a:cubicBezTo>
                  <a:pt x="166" y="995"/>
                  <a:pt x="223" y="1147"/>
                  <a:pt x="264" y="1145"/>
                </a:cubicBezTo>
                <a:cubicBezTo>
                  <a:pt x="305" y="1143"/>
                  <a:pt x="348" y="1013"/>
                  <a:pt x="380" y="888"/>
                </a:cubicBezTo>
                <a:cubicBezTo>
                  <a:pt x="412" y="763"/>
                  <a:pt x="435" y="523"/>
                  <a:pt x="454" y="393"/>
                </a:cubicBezTo>
                <a:cubicBezTo>
                  <a:pt x="473" y="263"/>
                  <a:pt x="486" y="171"/>
                  <a:pt x="495" y="109"/>
                </a:cubicBezTo>
                <a:cubicBezTo>
                  <a:pt x="504" y="47"/>
                  <a:pt x="505" y="39"/>
                  <a:pt x="508" y="20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43280" y="1666800"/>
            <a:ext cx="1089000" cy="1822680"/>
          </a:xfrm>
          <a:custGeom>
            <a:avLst/>
            <a:gdLst/>
            <a:ahLst/>
            <a:rect l="l" t="t" r="r" b="b"/>
            <a:pathLst>
              <a:path w="686" h="1148">
                <a:moveTo>
                  <a:pt x="0" y="0"/>
                </a:moveTo>
                <a:cubicBezTo>
                  <a:pt x="19" y="110"/>
                  <a:pt x="73" y="482"/>
                  <a:pt x="113" y="654"/>
                </a:cubicBezTo>
                <a:cubicBezTo>
                  <a:pt x="153" y="826"/>
                  <a:pt x="199" y="952"/>
                  <a:pt x="240" y="1034"/>
                </a:cubicBezTo>
                <a:cubicBezTo>
                  <a:pt x="281" y="1116"/>
                  <a:pt x="320" y="1148"/>
                  <a:pt x="358" y="1147"/>
                </a:cubicBezTo>
                <a:cubicBezTo>
                  <a:pt x="396" y="1146"/>
                  <a:pt x="431" y="1112"/>
                  <a:pt x="468" y="1030"/>
                </a:cubicBezTo>
                <a:cubicBezTo>
                  <a:pt x="505" y="948"/>
                  <a:pt x="542" y="825"/>
                  <a:pt x="578" y="655"/>
                </a:cubicBezTo>
                <a:cubicBezTo>
                  <a:pt x="614" y="485"/>
                  <a:pt x="668" y="119"/>
                  <a:pt x="686" y="1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42636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86520" y="17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13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227640" y="260280"/>
            <a:ext cx="50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27640" y="549360"/>
            <a:ext cx="505080" cy="0"/>
          </a:xfrm>
          <a:prstGeom prst="line">
            <a:avLst/>
          </a:prstGeom>
          <a:ln w="255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5656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94000" y="442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94360" y="33336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= 2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64000" y="1773360"/>
            <a:ext cx="1460520" cy="1731960"/>
          </a:xfrm>
          <a:custGeom>
            <a:avLst/>
            <a:gdLst/>
            <a:ahLst/>
            <a:rect l="l" t="t" r="r" b="b"/>
            <a:pathLst>
              <a:path w="920" h="1091">
                <a:moveTo>
                  <a:pt x="0" y="0"/>
                </a:moveTo>
                <a:cubicBezTo>
                  <a:pt x="21" y="84"/>
                  <a:pt x="88" y="365"/>
                  <a:pt x="127" y="503"/>
                </a:cubicBezTo>
                <a:cubicBezTo>
                  <a:pt x="166" y="641"/>
                  <a:pt x="197" y="743"/>
                  <a:pt x="234" y="830"/>
                </a:cubicBezTo>
                <a:cubicBezTo>
                  <a:pt x="271" y="917"/>
                  <a:pt x="311" y="979"/>
                  <a:pt x="347" y="1022"/>
                </a:cubicBezTo>
                <a:cubicBezTo>
                  <a:pt x="383" y="1065"/>
                  <a:pt x="410" y="1089"/>
                  <a:pt x="449" y="1090"/>
                </a:cubicBezTo>
                <a:cubicBezTo>
                  <a:pt x="488" y="1091"/>
                  <a:pt x="539" y="1072"/>
                  <a:pt x="579" y="1028"/>
                </a:cubicBezTo>
                <a:cubicBezTo>
                  <a:pt x="619" y="984"/>
                  <a:pt x="649" y="913"/>
                  <a:pt x="686" y="825"/>
                </a:cubicBezTo>
                <a:cubicBezTo>
                  <a:pt x="723" y="737"/>
                  <a:pt x="765" y="631"/>
                  <a:pt x="804" y="497"/>
                </a:cubicBezTo>
                <a:cubicBezTo>
                  <a:pt x="843" y="363"/>
                  <a:pt x="896" y="122"/>
                  <a:pt x="920" y="23"/>
                </a:cubicBezTo>
              </a:path>
            </a:pathLst>
          </a:custGeom>
          <a:noFill/>
          <a:ln w="255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27640" y="907920"/>
            <a:ext cx="50508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05160" y="62064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81520" y="3494160"/>
            <a:ext cx="830160" cy="1247760"/>
          </a:xfrm>
          <a:custGeom>
            <a:avLst/>
            <a:gdLst/>
            <a:ahLst/>
            <a:rect l="l" t="t" r="r" b="b"/>
            <a:pathLst>
              <a:path w="523" h="786">
                <a:moveTo>
                  <a:pt x="0" y="786"/>
                </a:moveTo>
                <a:cubicBezTo>
                  <a:pt x="8" y="742"/>
                  <a:pt x="20" y="628"/>
                  <a:pt x="45" y="521"/>
                </a:cubicBezTo>
                <a:cubicBezTo>
                  <a:pt x="70" y="414"/>
                  <a:pt x="116" y="230"/>
                  <a:pt x="153" y="143"/>
                </a:cubicBezTo>
                <a:cubicBezTo>
                  <a:pt x="190" y="56"/>
                  <a:pt x="228" y="0"/>
                  <a:pt x="266" y="1"/>
                </a:cubicBezTo>
                <a:cubicBezTo>
                  <a:pt x="304" y="2"/>
                  <a:pt x="343" y="60"/>
                  <a:pt x="379" y="148"/>
                </a:cubicBezTo>
                <a:cubicBezTo>
                  <a:pt x="415" y="236"/>
                  <a:pt x="456" y="422"/>
                  <a:pt x="480" y="527"/>
                </a:cubicBezTo>
                <a:cubicBezTo>
                  <a:pt x="504" y="632"/>
                  <a:pt x="514" y="728"/>
                  <a:pt x="523" y="781"/>
                </a:cubicBezTo>
              </a:path>
            </a:pathLst>
          </a:custGeom>
          <a:noFill/>
          <a:ln w="25560">
            <a:solidFill>
              <a:srgbClr val="3333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27640" y="1268280"/>
            <a:ext cx="576360" cy="0"/>
          </a:xfrm>
          <a:prstGeom prst="line">
            <a:avLst/>
          </a:prstGeom>
          <a:ln w="255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91840" y="981000"/>
            <a:ext cx="7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= -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39528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nextslide"/>
          </p:cNvPr>
          <p:cNvSpPr/>
          <p:nvPr/>
        </p:nvSpPr>
        <p:spPr>
          <a:xfrm>
            <a:off x="8280360" y="6165720"/>
            <a:ext cx="395280" cy="432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2000"/>
              <a:gd name="textAreaBottom" fmla="*/ 406440 h 432000"/>
            </a:gdLst>
            <a:ahLst/>
            <a:rect l="textAreaLeft" t="textAreaTop" r="textAreaRight" b="textAreaBottom"/>
            <a:pathLst>
              <a:path w="21600" h="23605">
                <a:moveTo>
                  <a:pt x="0" y="0"/>
                </a:moveTo>
                <a:lnTo>
                  <a:pt x="21600" y="0"/>
                </a:lnTo>
                <a:lnTo>
                  <a:pt x="21600" y="23605"/>
                </a:lnTo>
                <a:lnTo>
                  <a:pt x="0" y="23605"/>
                </a:lnTo>
                <a:close/>
              </a:path>
              <a:path fill="lightenLess" w="21600" h="23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05">
                <a:moveTo>
                  <a:pt x="21600" y="0"/>
                </a:moveTo>
                <a:lnTo>
                  <a:pt x="21600" y="23605"/>
                </a:lnTo>
                <a:lnTo>
                  <a:pt x="20200" y="22205"/>
                </a:lnTo>
                <a:lnTo>
                  <a:pt x="20200" y="1400"/>
                </a:lnTo>
                <a:close/>
              </a:path>
              <a:path fill="darkenLess" w="21600" h="23605">
                <a:moveTo>
                  <a:pt x="21600" y="23605"/>
                </a:moveTo>
                <a:lnTo>
                  <a:pt x="0" y="23605"/>
                </a:lnTo>
                <a:lnTo>
                  <a:pt x="1400" y="22205"/>
                </a:lnTo>
                <a:lnTo>
                  <a:pt x="20200" y="22205"/>
                </a:lnTo>
                <a:close/>
              </a:path>
              <a:path fill="lighten" w="21600" h="23605">
                <a:moveTo>
                  <a:pt x="0" y="23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05"/>
                </a:lnTo>
                <a:close/>
              </a:path>
              <a:path fill="darken" w="21600" h="23605">
                <a:moveTo>
                  <a:pt x="3794" y="4796"/>
                </a:moveTo>
                <a:lnTo>
                  <a:pt x="17806" y="11802"/>
                </a:lnTo>
                <a:lnTo>
                  <a:pt x="3794" y="1880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Частные случаи квадратичной функ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35280" y="1557360"/>
            <a:ext cx="1656000" cy="841320"/>
          </a:xfrm>
          <a:prstGeom prst="downArrowCallout">
            <a:avLst>
              <a:gd name="adj1" fmla="val 49213"/>
              <a:gd name="adj2" fmla="val 49208"/>
              <a:gd name="adj3" fmla="val 16667"/>
              <a:gd name="adj4" fmla="val 6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= а(х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08360" y="1557360"/>
            <a:ext cx="1440000" cy="843120"/>
          </a:xfrm>
          <a:prstGeom prst="downArrowCallout">
            <a:avLst>
              <a:gd name="adj1" fmla="val 42702"/>
              <a:gd name="adj2" fmla="val 42699"/>
              <a:gd name="adj3" fmla="val 16667"/>
              <a:gd name="adj4" fmla="val 6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= а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64000" y="1341360"/>
            <a:ext cx="1727280" cy="1150920"/>
          </a:xfrm>
          <a:prstGeom prst="downArrowCallout">
            <a:avLst>
              <a:gd name="adj1" fmla="val 37523"/>
              <a:gd name="adj2" fmla="val 37520"/>
              <a:gd name="adj3" fmla="val 16667"/>
              <a:gd name="adj4" fmla="val 6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= а(х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Document"/>
          <p:cNvSpPr/>
          <p:nvPr/>
        </p:nvSpPr>
        <p:spPr>
          <a:xfrm>
            <a:off x="2484360" y="2781360"/>
            <a:ext cx="3382920" cy="3313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данной функции получаем из графика функц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= 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параллельного переноса вдо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диниц вправо, ес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 &gt;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диниц влево если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 &lt;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Document"/>
          <p:cNvSpPr/>
          <p:nvPr/>
        </p:nvSpPr>
        <p:spPr>
          <a:xfrm>
            <a:off x="2195640" y="2465280"/>
            <a:ext cx="4319640" cy="4392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данной функции получаем из графика функц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= 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двух параллельных перено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оль ос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диниц вправо, ес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 &gt;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диниц влево если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 &lt;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доль ос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диниц вверх, ес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&gt;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диниц  вниз,             ес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&lt;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Document"/>
          <p:cNvSpPr/>
          <p:nvPr/>
        </p:nvSpPr>
        <p:spPr>
          <a:xfrm>
            <a:off x="2771640" y="2492280"/>
            <a:ext cx="3456000" cy="3311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данной функции получаем из графика функц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= 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параллельного переноса вдоль ос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единиц ввер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&gt;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единиц  вниз,             ес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&lt;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</p:cNvPr>
          <p:cNvSpPr/>
          <p:nvPr/>
        </p:nvSpPr>
        <p:spPr>
          <a:xfrm>
            <a:off x="4284720" y="616572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400" h="21600">
                <a:moveTo>
                  <a:pt x="162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400" h="21600">
                <a:moveTo>
                  <a:pt x="13624" y="8224"/>
                </a:moveTo>
                <a:lnTo>
                  <a:pt x="17488" y="8224"/>
                </a:lnTo>
                <a:lnTo>
                  <a:pt x="17488" y="15221"/>
                </a:lnTo>
                <a:lnTo>
                  <a:pt x="18776" y="15221"/>
                </a:lnTo>
                <a:lnTo>
                  <a:pt x="18776" y="16144"/>
                </a:lnTo>
                <a:lnTo>
                  <a:pt x="13624" y="16144"/>
                </a:lnTo>
                <a:lnTo>
                  <a:pt x="13624" y="15221"/>
                </a:lnTo>
                <a:lnTo>
                  <a:pt x="14912" y="15221"/>
                </a:lnTo>
                <a:lnTo>
                  <a:pt x="14912" y="9129"/>
                </a:lnTo>
                <a:lnTo>
                  <a:pt x="13624" y="912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4284720" y="623736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1613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279" h="21600">
                <a:moveTo>
                  <a:pt x="1613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279" h="21600">
                <a:moveTo>
                  <a:pt x="13563" y="8224"/>
                </a:moveTo>
                <a:lnTo>
                  <a:pt x="17428" y="8224"/>
                </a:lnTo>
                <a:lnTo>
                  <a:pt x="17428" y="15221"/>
                </a:lnTo>
                <a:lnTo>
                  <a:pt x="18716" y="15221"/>
                </a:lnTo>
                <a:lnTo>
                  <a:pt x="18716" y="16144"/>
                </a:lnTo>
                <a:lnTo>
                  <a:pt x="13563" y="16144"/>
                </a:lnTo>
                <a:lnTo>
                  <a:pt x="13563" y="15221"/>
                </a:lnTo>
                <a:lnTo>
                  <a:pt x="14851" y="15221"/>
                </a:lnTo>
                <a:lnTo>
                  <a:pt x="14851" y="9129"/>
                </a:lnTo>
                <a:lnTo>
                  <a:pt x="13563" y="912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4284720" y="623736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1613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279" h="21600">
                <a:moveTo>
                  <a:pt x="1613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279" h="21600">
                <a:moveTo>
                  <a:pt x="13563" y="8224"/>
                </a:moveTo>
                <a:lnTo>
                  <a:pt x="17428" y="8224"/>
                </a:lnTo>
                <a:lnTo>
                  <a:pt x="17428" y="15221"/>
                </a:lnTo>
                <a:lnTo>
                  <a:pt x="18716" y="15221"/>
                </a:lnTo>
                <a:lnTo>
                  <a:pt x="18716" y="16144"/>
                </a:lnTo>
                <a:lnTo>
                  <a:pt x="13563" y="16144"/>
                </a:lnTo>
                <a:lnTo>
                  <a:pt x="13563" y="15221"/>
                </a:lnTo>
                <a:lnTo>
                  <a:pt x="14851" y="15221"/>
                </a:lnTo>
                <a:lnTo>
                  <a:pt x="14851" y="9129"/>
                </a:lnTo>
                <a:lnTo>
                  <a:pt x="13563" y="912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5280" y="1700280"/>
            <a:ext cx="7632360" cy="3023640"/>
            <a:chOff x="395280" y="1700280"/>
            <a:chExt cx="7632360" cy="3023640"/>
          </a:xfrm>
        </p:grpSpPr>
        <p:sp>
          <p:nvSpPr>
            <p:cNvPr id="364" name=""/>
            <p:cNvSpPr/>
            <p:nvPr/>
          </p:nvSpPr>
          <p:spPr>
            <a:xfrm>
              <a:off x="395280" y="170028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5280" y="230472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5280" y="210204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5280" y="190152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5280" y="270684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5280" y="250632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5280" y="351396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95280" y="331200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5280" y="311076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5280" y="290952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5280" y="371556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5280" y="391680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5280" y="411840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5280" y="432000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5280" y="4521600"/>
              <a:ext cx="763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5280" y="4722840"/>
              <a:ext cx="7631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5280" y="1700280"/>
              <a:ext cx="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9260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1512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376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6016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8268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0520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277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02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27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8000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0252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2504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4756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7008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6740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899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1244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349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748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72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0976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3228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5480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773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998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223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4488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0708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2960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5212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7464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9716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1968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4220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6472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719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9448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1700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1395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6204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84560" y="1700280"/>
              <a:ext cx="108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2692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49440" y="1700280"/>
              <a:ext cx="720" cy="30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 flipV="1">
            <a:off x="4295880" y="191592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50920" y="3306600"/>
            <a:ext cx="453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72120" y="1754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527880" y="3041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13440" y="302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52840" y="32749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60960" y="30780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17840" y="328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049640" y="2959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70360" y="1801800"/>
            <a:ext cx="879480" cy="1494000"/>
          </a:xfrm>
          <a:custGeom>
            <a:avLst/>
            <a:gdLst/>
            <a:ahLst/>
            <a:rect l="l" t="t" r="r" b="b"/>
            <a:pathLst>
              <a:path w="554" h="941">
                <a:moveTo>
                  <a:pt x="0" y="0"/>
                </a:moveTo>
                <a:cubicBezTo>
                  <a:pt x="8" y="73"/>
                  <a:pt x="18" y="298"/>
                  <a:pt x="45" y="436"/>
                </a:cubicBezTo>
                <a:cubicBezTo>
                  <a:pt x="72" y="574"/>
                  <a:pt x="127" y="744"/>
                  <a:pt x="162" y="828"/>
                </a:cubicBezTo>
                <a:cubicBezTo>
                  <a:pt x="197" y="912"/>
                  <a:pt x="221" y="939"/>
                  <a:pt x="257" y="940"/>
                </a:cubicBezTo>
                <a:cubicBezTo>
                  <a:pt x="293" y="941"/>
                  <a:pt x="341" y="917"/>
                  <a:pt x="380" y="833"/>
                </a:cubicBezTo>
                <a:cubicBezTo>
                  <a:pt x="419" y="749"/>
                  <a:pt x="464" y="573"/>
                  <a:pt x="493" y="435"/>
                </a:cubicBezTo>
                <a:cubicBezTo>
                  <a:pt x="522" y="297"/>
                  <a:pt x="541" y="95"/>
                  <a:pt x="554" y="6"/>
                </a:cubicBezTo>
              </a:path>
            </a:pathLst>
          </a:custGeom>
          <a:noFill/>
          <a:ln w="316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75040" y="1800360"/>
            <a:ext cx="879480" cy="1493640"/>
          </a:xfrm>
          <a:custGeom>
            <a:avLst/>
            <a:gdLst/>
            <a:ahLst/>
            <a:rect l="l" t="t" r="r" b="b"/>
            <a:pathLst>
              <a:path w="554" h="941">
                <a:moveTo>
                  <a:pt x="0" y="0"/>
                </a:moveTo>
                <a:cubicBezTo>
                  <a:pt x="8" y="73"/>
                  <a:pt x="18" y="298"/>
                  <a:pt x="45" y="436"/>
                </a:cubicBezTo>
                <a:cubicBezTo>
                  <a:pt x="72" y="574"/>
                  <a:pt x="127" y="744"/>
                  <a:pt x="162" y="828"/>
                </a:cubicBezTo>
                <a:cubicBezTo>
                  <a:pt x="197" y="912"/>
                  <a:pt x="221" y="939"/>
                  <a:pt x="257" y="940"/>
                </a:cubicBezTo>
                <a:cubicBezTo>
                  <a:pt x="293" y="941"/>
                  <a:pt x="341" y="917"/>
                  <a:pt x="380" y="833"/>
                </a:cubicBezTo>
                <a:cubicBezTo>
                  <a:pt x="419" y="749"/>
                  <a:pt x="464" y="573"/>
                  <a:pt x="493" y="435"/>
                </a:cubicBezTo>
                <a:cubicBezTo>
                  <a:pt x="522" y="297"/>
                  <a:pt x="541" y="95"/>
                  <a:pt x="554" y="6"/>
                </a:cubicBezTo>
              </a:path>
            </a:pathLst>
          </a:custGeom>
          <a:noFill/>
          <a:ln w="2556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51280" y="1795320"/>
            <a:ext cx="879480" cy="1494000"/>
          </a:xfrm>
          <a:custGeom>
            <a:avLst/>
            <a:gdLst/>
            <a:ahLst/>
            <a:rect l="l" t="t" r="r" b="b"/>
            <a:pathLst>
              <a:path w="554" h="941">
                <a:moveTo>
                  <a:pt x="0" y="0"/>
                </a:moveTo>
                <a:cubicBezTo>
                  <a:pt x="8" y="73"/>
                  <a:pt x="18" y="298"/>
                  <a:pt x="45" y="436"/>
                </a:cubicBezTo>
                <a:cubicBezTo>
                  <a:pt x="72" y="574"/>
                  <a:pt x="127" y="744"/>
                  <a:pt x="162" y="828"/>
                </a:cubicBezTo>
                <a:cubicBezTo>
                  <a:pt x="197" y="912"/>
                  <a:pt x="221" y="939"/>
                  <a:pt x="257" y="940"/>
                </a:cubicBezTo>
                <a:cubicBezTo>
                  <a:pt x="293" y="941"/>
                  <a:pt x="341" y="917"/>
                  <a:pt x="380" y="833"/>
                </a:cubicBezTo>
                <a:cubicBezTo>
                  <a:pt x="419" y="749"/>
                  <a:pt x="464" y="573"/>
                  <a:pt x="493" y="435"/>
                </a:cubicBezTo>
                <a:cubicBezTo>
                  <a:pt x="522" y="297"/>
                  <a:pt x="541" y="95"/>
                  <a:pt x="554" y="6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2440" y="1801800"/>
            <a:ext cx="879480" cy="1494000"/>
          </a:xfrm>
          <a:custGeom>
            <a:avLst/>
            <a:gdLst/>
            <a:ahLst/>
            <a:rect l="l" t="t" r="r" b="b"/>
            <a:pathLst>
              <a:path w="554" h="941">
                <a:moveTo>
                  <a:pt x="0" y="0"/>
                </a:moveTo>
                <a:cubicBezTo>
                  <a:pt x="8" y="73"/>
                  <a:pt x="18" y="298"/>
                  <a:pt x="45" y="436"/>
                </a:cubicBezTo>
                <a:cubicBezTo>
                  <a:pt x="72" y="574"/>
                  <a:pt x="127" y="744"/>
                  <a:pt x="162" y="828"/>
                </a:cubicBezTo>
                <a:cubicBezTo>
                  <a:pt x="197" y="912"/>
                  <a:pt x="221" y="939"/>
                  <a:pt x="257" y="940"/>
                </a:cubicBezTo>
                <a:cubicBezTo>
                  <a:pt x="293" y="941"/>
                  <a:pt x="341" y="917"/>
                  <a:pt x="380" y="833"/>
                </a:cubicBezTo>
                <a:cubicBezTo>
                  <a:pt x="419" y="749"/>
                  <a:pt x="464" y="573"/>
                  <a:pt x="493" y="435"/>
                </a:cubicBezTo>
                <a:cubicBezTo>
                  <a:pt x="522" y="297"/>
                  <a:pt x="541" y="95"/>
                  <a:pt x="554" y="6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54120" y="35766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62400" y="36892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05280" y="3262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67080" y="40878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36960" y="32734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54120" y="39877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97280" y="3267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61640" y="33004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295760" y="16524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05680" y="404640"/>
            <a:ext cx="720720" cy="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227640" y="981000"/>
            <a:ext cx="648000" cy="0"/>
          </a:xfrm>
          <a:prstGeom prst="line">
            <a:avLst/>
          </a:prstGeom>
          <a:ln w="255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27640" y="692280"/>
            <a:ext cx="6480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227640" y="1339920"/>
            <a:ext cx="648000" cy="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309800" y="476280"/>
            <a:ext cx="10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=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88200" y="119052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=(х + 7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89280" y="82404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=(х - 3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previousslide"/>
          </p:cNvPr>
          <p:cNvSpPr/>
          <p:nvPr/>
        </p:nvSpPr>
        <p:spPr>
          <a:xfrm>
            <a:off x="1258920" y="6165720"/>
            <a:ext cx="433440" cy="35892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10800"/>
                </a:moveTo>
                <a:lnTo>
                  <a:pt x="20047" y="3794"/>
                </a:lnTo>
                <a:lnTo>
                  <a:pt x="2004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1.84594E-006 L 7.77778E-006 0.06292 E">
                                      <p:cBhvr>
                                        <p:cTn id="451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324 L 0.06284 -0.00324 E">
                                      <p:cBhvr>
                                        <p:cTn id="46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162 C -0.02014 -0.00208 -0.09827 -0.00486 -0.12084 -0.0044 C -0.14341 -0.00393 -0.13264 -0.01989 -0.13507 0.00046 C -0.1375 0.02082 -0.13507 0.09345 -0.13507 0.11797 E">
                                      <p:cBhvr>
                                        <p:cTn id="479" dur="3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8:07:15Z</dcterms:created>
  <dc:creator>Кочеткова Е.Н.</dc:creator>
  <dc:description/>
  <dc:language>en-US</dc:language>
  <cp:lastModifiedBy>1</cp:lastModifiedBy>
  <dcterms:modified xsi:type="dcterms:W3CDTF">2008-05-17T21:55:05Z</dcterms:modified>
  <cp:revision>26</cp:revision>
  <dc:subject>преобразование графиков</dc:subject>
  <dc:title>квадратичная функ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Кочеткова Е.Н.">
    <vt:lpwstr>9 кл</vt:lpwstr>
  </property>
</Properties>
</file>