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902-CF49-4B28-AF92-261097FE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AEFB-0A99-43A8-8E75-6C89076E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C09-347D-45EB-B76B-718751EC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9D7A-72C3-4B5A-9973-38679612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B4B2-E18D-4E1E-898C-2D1A4541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3112-1B1B-4448-AB47-56FCB9B2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249B-0C80-4007-86B0-964A3A0C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CB20-C927-47BF-9D87-D9407002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833B-35A6-4EC4-9370-FF24964D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D8AF-B34B-4780-9C38-B0940BDB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37F8-E52E-4435-AD01-E58B9B1A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2B22-E358-4EE4-9228-9163643D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FA59-F47C-424D-8918-8EDE211F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ADC9-CDF7-4C0C-986E-0C827663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5D9C-2E1C-4D19-85EC-00053364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3E75-D3C3-4B89-B127-5AEC182D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893A-C0B9-4421-9858-22636137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13F-D67F-4865-B365-6FF8C61C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FFE-988A-4C66-9FFC-3C8D6471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354F-00A0-4474-AF3E-B0832ACF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5C56-2A6D-4F3E-96E2-5E848C5A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8311-3767-44F7-B7EC-71BE1B7D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AC87-1865-438F-8685-95A6B9BE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D5EA-D697-426B-9E70-EF8FFAAC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F742-647D-40DB-B339-621B496A90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B6F3-0FCE-4115-B8E7-08BE6EABA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cc"/>
                </a:solidFill>
                <a:latin typeface="Script MT Bold"/>
              </a:rPr>
              <a:t>Теорема синусов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51280" y="2924280"/>
            <a:ext cx="1657440" cy="82368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Script MT Bold"/>
              </a:rPr>
              <a:t>Теорем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14800"/>
          </a:xfrm>
          <a:prstGeom prst="rect">
            <a:avLst/>
          </a:prstGeom>
          <a:solidFill>
            <a:srgbClr val="5e588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тороны треугольника пропорциональны синусам противолежащих угл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Script MT Bold"/>
              </a:rPr>
              <a:t>Доказательст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1480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Пусть в треугольнике АВС АВ=с,ВС=а,АС=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Докажем,ч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5580000" y="522936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580000" y="3357360"/>
            <a:ext cx="1728720" cy="18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08720" y="3357720"/>
            <a:ext cx="503280" cy="18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08720" y="335772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16040" y="48690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10440" y="28432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09120" y="48690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8400" y="522936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56000" y="37162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96360" y="3789360"/>
            <a:ext cx="31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65520" y="53006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70960" y="42210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16000" y="3284640"/>
                <a:ext cx="2708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41672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з первых двух равенств получаем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981000"/>
            <a:ext cx="7416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теореме о площади треуголь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84360" y="1628640"/>
                <a:ext cx="741672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692360" y="3860640"/>
                <a:ext cx="51847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Отку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3573000"/>
            <a:ext cx="793116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налогично из второго и третьего равенств следу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43280" y="1413000"/>
                <a:ext cx="3168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771640" y="4653000"/>
                <a:ext cx="324036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так,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364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орема доказ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42920" y="1700280"/>
                <a:ext cx="6842160" cy="14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cc"/>
                </a:solidFill>
                <a:latin typeface="Script MT Bold"/>
              </a:rPr>
              <a:t>Расширенная теорема синусов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Script MT Bold"/>
              </a:rPr>
              <a:t>Отношение стороны треугольника к синусу противолежещего угла равно диаметру описанной окружност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2781360"/>
            <a:ext cx="8209080" cy="345600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5580000" y="522936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580000" y="3357360"/>
            <a:ext cx="1728720" cy="18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08720" y="3357720"/>
            <a:ext cx="503280" cy="18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08720" y="335772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6040" y="48690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10440" y="28432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09120" y="48690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88400" y="522936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56000" y="37162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96360" y="3789360"/>
            <a:ext cx="31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65520" y="53006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0960" y="42210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11280" y="3213000"/>
                <a:ext cx="4968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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радиус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описанной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окружност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20:00:01Z</dcterms:created>
  <dc:creator>User</dc:creator>
  <dc:description/>
  <dc:language>en-US</dc:language>
  <cp:lastModifiedBy>Администратор</cp:lastModifiedBy>
  <dcterms:modified xsi:type="dcterms:W3CDTF">2009-11-30T07:31:38Z</dcterms:modified>
  <cp:revision>4</cp:revision>
  <dc:subject/>
  <dc:title>Теорема синусов</dc:title>
</cp:coreProperties>
</file>