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EEA-7B83-4588-B5F7-8BC80EFC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9C5-D788-493A-A881-D137F6C2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EBF-C4AE-45F0-9CA6-557D49CE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C55-3CFF-4887-A2FA-11DDC86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4020-801C-4E38-9DD9-E12D2AC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BF8-B824-40CA-9A77-265F9527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ACD-FB5F-47E7-B22E-071FC20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50E-4013-44AF-819D-1261732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70B2-4BA1-4588-BF2E-3B986E82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2601-264A-41A8-B43E-DB09AA5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73D-F104-4920-BACA-2157590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E3C-8D0D-4731-9E0B-F0127863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12A-F523-4B0D-9885-A20EDEB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07A5-21C6-4385-8F16-3020916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CA4-E727-4648-9F1C-B34DBDE1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693E-371F-4EC4-87A4-6EB66296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069-B924-4B9B-BA87-FAB46E6F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996C-9F2A-4716-B2EA-3A84429E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9AA9-C246-432E-95A6-BB6BDAB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8A7C-DB99-4CDA-8144-5BCF3BA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82F1-E676-43D4-9546-A580AC15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85B7-F6C1-422D-BC40-89C2BFA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87F-22DF-42D5-80CE-832E081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1A5B-8DD1-4E94-84FE-A5FFA353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8E9D-2165-49BD-BE81-C7C1A2A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0AFC-9D4D-4FEE-B88D-F46BE2E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0F95-EA0F-4B23-8AB1-7E3E140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8C8E-5075-45A8-AEE8-69018689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BCDA-3284-4E6D-A06D-74CECA5A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BEEA-4DF5-45B5-9593-EDD5A956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C58-58C2-4975-B1BC-F91569AE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FB5-DB34-48F7-A05C-AE39439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F42-8995-4D5E-9668-366ADBA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D08-99A7-4BF2-8561-FB14F41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026-6A20-4CD1-B60D-9687C55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500-F69E-4F45-8354-5D778C6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43B-6FFD-4504-B4D6-8C5AFAAC3C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A5A-ABF7-4D9B-8882-B632D3890B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D61-6820-4ED2-941C-431850D91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27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Comic Sans MS"/>
              </a:rPr>
              <a:t>Смежные и вертикальные</a:t>
            </a:r>
            <a:br>
              <a:rPr sz="4400"/>
            </a:br>
            <a:r>
              <a:rPr b="0" i="1" lang="en-US" sz="4400" spc="-1" strike="noStrike">
                <a:solidFill>
                  <a:srgbClr val="ff3300"/>
                </a:solidFill>
                <a:latin typeface="Comic Sans MS"/>
              </a:rPr>
              <a:t>уг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3429000"/>
            <a:ext cx="6049800" cy="25210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79640" y="3284640"/>
            <a:ext cx="547200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24360" y="234936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Arial"/>
                <a:hlinkClick r:id="rId1" action="ppaction://hlinksldjump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84080" y="23493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Вертикаль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 rot="13643400">
            <a:off x="4127040" y="430992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13643400">
            <a:off x="4296600" y="406116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 rot="19043400">
            <a:off x="4555800" y="413712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 rot="2556600">
            <a:off x="3797640" y="413712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73640" y="3933720"/>
            <a:ext cx="2313720" cy="1485360"/>
            <a:chOff x="3473640" y="3933720"/>
            <a:chExt cx="2313720" cy="1485360"/>
          </a:xfrm>
        </p:grpSpPr>
        <p:sp>
          <p:nvSpPr>
            <p:cNvPr id="201" name=""/>
            <p:cNvSpPr/>
            <p:nvPr/>
          </p:nvSpPr>
          <p:spPr>
            <a:xfrm>
              <a:off x="4429440" y="393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440" y="43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2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2000" y="495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73640" y="431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2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27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Comic Sans MS"/>
              </a:rPr>
              <a:t>Смежные и вертикальные</a:t>
            </a:r>
            <a:br>
              <a:rPr sz="4400"/>
            </a:br>
            <a:r>
              <a:rPr b="0" i="1" lang="en-US" sz="4400" spc="-1" strike="noStrike">
                <a:solidFill>
                  <a:srgbClr val="ff3300"/>
                </a:solidFill>
                <a:latin typeface="Comic Sans MS"/>
              </a:rPr>
              <a:t>уг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3429000"/>
            <a:ext cx="6049800" cy="25210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79640" y="3284640"/>
            <a:ext cx="547200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2060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200"/>
                </a:solidFill>
                <a:latin typeface="Arial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5440" y="206064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Arial"/>
              </a:rPr>
              <a:t>Вертикаль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3643400">
            <a:off x="4127040" y="430992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3643400">
            <a:off x="4296600" y="406116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 rot="19043400">
            <a:off x="4555800" y="413712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 rot="2556600">
            <a:off x="3797640" y="4137120"/>
            <a:ext cx="863280" cy="8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73640" y="3933720"/>
            <a:ext cx="2313720" cy="1485360"/>
            <a:chOff x="3473640" y="3933720"/>
            <a:chExt cx="2313720" cy="1485360"/>
          </a:xfrm>
        </p:grpSpPr>
        <p:sp>
          <p:nvSpPr>
            <p:cNvPr id="215" name=""/>
            <p:cNvSpPr/>
            <p:nvPr/>
          </p:nvSpPr>
          <p:spPr>
            <a:xfrm>
              <a:off x="4429440" y="393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440" y="43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2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2000" y="495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73640" y="431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2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4560" y="24922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200"/>
                </a:solidFill>
                <a:latin typeface="Arial"/>
              </a:rPr>
              <a:t>Свойство смежных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2492280"/>
            <a:ext cx="43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200"/>
                </a:solidFill>
                <a:latin typeface="Arial"/>
              </a:rPr>
              <a:t>Свойство вертикальных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262080"/>
            <a:ext cx="6870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Смежные уг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Смежным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зываютс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углы, у которых одна сторона общая, а другие являются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дополнительным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друг к другу луч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5157720"/>
            <a:ext cx="633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067280" y="3429000"/>
            <a:ext cx="2881080" cy="17287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38960" y="4509360"/>
            <a:ext cx="875160" cy="14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55" y="62"/>
                </a:moveTo>
                <a:arcTo wR="10800" hR="10800" stAng="-5031508" swAng="4543317"/>
                <a:lnTo>
                  <a:pt x="10800" y="10800"/>
                </a:lnTo>
                <a:close/>
              </a:path>
              <a:path fill="none" w="21600" h="21600">
                <a:moveTo>
                  <a:pt x="11955" y="62"/>
                </a:moveTo>
                <a:arcTo wR="10800" hR="10800" stAng="-5031508" swAng="454331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6560" y="4581360"/>
            <a:ext cx="3168000" cy="1152000"/>
            <a:chOff x="3346560" y="4581360"/>
            <a:chExt cx="3168000" cy="1152000"/>
          </a:xfrm>
        </p:grpSpPr>
        <p:sp>
          <p:nvSpPr>
            <p:cNvPr id="227" name=""/>
            <p:cNvSpPr/>
            <p:nvPr/>
          </p:nvSpPr>
          <p:spPr>
            <a:xfrm flipH="1">
              <a:off x="3561480" y="4724280"/>
              <a:ext cx="2305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0" y="16"/>
                  </a:moveTo>
                  <a:arcTo wR="10800" hR="10800" stAng="-5584601" swAng="55846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0" y="16"/>
                  </a:moveTo>
                  <a:arcTo wR="10800" hR="10800" stAng="-5584601" swAng="558460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346560" y="4581360"/>
              <a:ext cx="316800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78" y="8"/>
                  </a:moveTo>
                  <a:arcTo wR="10800" hR="10800" stAng="-5534411" swAng="55344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78" y="8"/>
                  </a:moveTo>
                  <a:arcTo wR="10800" hR="10800" stAng="-5534411" swAng="553441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976200" y="5248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74360" y="337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30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42000" y="524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38000" y="51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5760" y="169920"/>
            <a:ext cx="6012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Свойство смежных угл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Сумма смежных углов равна 180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˚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61080" y="3357720"/>
            <a:ext cx="7096320" cy="2572920"/>
            <a:chOff x="1261080" y="3357720"/>
            <a:chExt cx="7096320" cy="2572920"/>
          </a:xfrm>
        </p:grpSpPr>
        <p:sp>
          <p:nvSpPr>
            <p:cNvPr id="237" name=""/>
            <p:cNvSpPr/>
            <p:nvPr/>
          </p:nvSpPr>
          <p:spPr>
            <a:xfrm>
              <a:off x="1638360" y="5140080"/>
              <a:ext cx="6337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086360" y="3411000"/>
              <a:ext cx="2881080" cy="172836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58040" y="4491720"/>
              <a:ext cx="875160" cy="143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55" y="62"/>
                  </a:moveTo>
                  <a:arcTo wR="10800" hR="10800" stAng="-5031508" swAng="45433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55" y="62"/>
                  </a:moveTo>
                  <a:arcTo wR="10800" hR="10800" stAng="-5031508" swAng="454331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365640" y="4563720"/>
              <a:ext cx="3168000" cy="1151640"/>
              <a:chOff x="3365640" y="4563720"/>
              <a:chExt cx="3168000" cy="115164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3580560" y="4706280"/>
                <a:ext cx="2305080" cy="8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20" y="16"/>
                    </a:moveTo>
                    <a:arcTo wR="10800" hR="10800" stAng="-5584601" swAng="55846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20" y="16"/>
                    </a:moveTo>
                    <a:arcTo wR="10800" hR="10800" stAng="-5584601" swAng="5584601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3365640" y="4563720"/>
                <a:ext cx="3168000" cy="115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78" y="8"/>
                    </a:moveTo>
                    <a:arcTo wR="10800" hR="10800" stAng="-5534411" swAng="5534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78" y="8"/>
                    </a:moveTo>
                    <a:arcTo wR="10800" hR="10800" stAng="-5534411" swAng="5534411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995280" y="52308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3440" y="3357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1080" y="5230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57080" y="5157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68360" y="1341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межные углы вместе составляют развернуты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03280" y="5853240"/>
            <a:ext cx="3852000" cy="520560"/>
            <a:chOff x="3203280" y="5853240"/>
            <a:chExt cx="3852000" cy="520560"/>
          </a:xfrm>
        </p:grpSpPr>
        <p:sp>
          <p:nvSpPr>
            <p:cNvPr id="249" name=""/>
            <p:cNvSpPr/>
            <p:nvPr/>
          </p:nvSpPr>
          <p:spPr>
            <a:xfrm>
              <a:off x="3550680" y="5853240"/>
              <a:ext cx="35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АОС +     СОВ = 180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203280" y="6093000"/>
              <a:ext cx="216000" cy="144360"/>
              <a:chOff x="3203280" y="6093000"/>
              <a:chExt cx="216000" cy="144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203280" y="609300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03640" y="623736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716000" y="6093000"/>
              <a:ext cx="216000" cy="144360"/>
              <a:chOff x="4716000" y="6093000"/>
              <a:chExt cx="216000" cy="14436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4716000" y="609300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16360" y="623736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 rot="10800000">
            <a:off x="324000" y="6021360"/>
            <a:ext cx="720720" cy="503280"/>
          </a:xfrm>
          <a:prstGeom prst="uturnArrow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Comic Sans MS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Вертикальным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зываютс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углы, стороны одного из которых являются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дополнительными лучам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к сторонам другог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4149720"/>
            <a:ext cx="6193080" cy="15843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9640" y="3933720"/>
            <a:ext cx="5400720" cy="18003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38000">
            <a:off x="4753080" y="4268160"/>
            <a:ext cx="129132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27" y="123"/>
                </a:moveTo>
                <a:arcTo wR="10800" hR="10800" stAng="-4880199" swAng="3829248"/>
                <a:lnTo>
                  <a:pt x="10800" y="10800"/>
                </a:lnTo>
                <a:close/>
              </a:path>
              <a:path fill="none" w="21600" h="21600">
                <a:moveTo>
                  <a:pt x="12427" y="123"/>
                </a:moveTo>
                <a:arcTo wR="10800" hR="10800" stAng="-4880199" swAng="382924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9687200">
            <a:off x="3135960" y="4344120"/>
            <a:ext cx="12924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27" y="123"/>
                </a:moveTo>
                <a:arcTo wR="10800" hR="10800" stAng="-4880199" swAng="3818795"/>
                <a:lnTo>
                  <a:pt x="10800" y="10800"/>
                </a:lnTo>
                <a:close/>
              </a:path>
              <a:path fill="none" w="21600" h="21600">
                <a:moveTo>
                  <a:pt x="12427" y="123"/>
                </a:moveTo>
                <a:arcTo wR="10800" hR="10800" stAng="-4880199" swAng="3818795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0636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6892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744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30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501336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Comic Sans MS"/>
              </a:rPr>
              <a:t>Свойство вертикальных уг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Comic Sans MS"/>
              </a:rPr>
              <a:t>Свойство вертикальных уг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36360" y="1846080"/>
            <a:ext cx="335916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ертикальные углы рав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281560" y="1914480"/>
            <a:ext cx="137808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219640" y="242100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270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3800" y="170028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488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01760" y="30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4720" y="256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3068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708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глы АОС и  А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еж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213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ч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5280" y="3213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х сумма равна 180˚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767920" y="1917000"/>
            <a:ext cx="1745280" cy="1591560"/>
            <a:chOff x="5767920" y="1917000"/>
            <a:chExt cx="1745280" cy="1591560"/>
          </a:xfrm>
        </p:grpSpPr>
        <p:sp>
          <p:nvSpPr>
            <p:cNvPr id="286" name=""/>
            <p:cNvSpPr/>
            <p:nvPr/>
          </p:nvSpPr>
          <p:spPr>
            <a:xfrm rot="1938000">
              <a:off x="6526800" y="1990440"/>
              <a:ext cx="672120" cy="137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983" swAng="393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983" swAng="3933031"/>
                </a:path>
              </a:pathLst>
            </a:custGeom>
            <a:noFill/>
            <a:ln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19687200">
              <a:off x="6079680" y="2061360"/>
              <a:ext cx="672120" cy="137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7" y="123"/>
                  </a:moveTo>
                  <a:arcTo wR="10800" hR="10800" stAng="-4880199" swAng="3829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7" y="123"/>
                  </a:moveTo>
                  <a:arcTo wR="10800" hR="10800" stAng="-4880199" swAng="3829248"/>
                </a:path>
              </a:pathLst>
            </a:custGeom>
            <a:noFill/>
            <a:ln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659640" y="2421000"/>
            <a:ext cx="1800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3716280"/>
            <a:ext cx="29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глы А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3040" y="4221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же смежные, и их сумма равна 180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59640" y="1628280"/>
            <a:ext cx="151272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067200" y="5445000"/>
            <a:ext cx="3801600" cy="459720"/>
            <a:chOff x="3067200" y="5445000"/>
            <a:chExt cx="3801600" cy="459720"/>
          </a:xfrm>
        </p:grpSpPr>
        <p:grpSp>
          <p:nvGrpSpPr>
            <p:cNvPr id="294" name=""/>
            <p:cNvGrpSpPr/>
            <p:nvPr/>
          </p:nvGrpSpPr>
          <p:grpSpPr>
            <a:xfrm>
              <a:off x="5751000" y="5614920"/>
              <a:ext cx="216000" cy="144360"/>
              <a:chOff x="5751000" y="5614920"/>
              <a:chExt cx="216000" cy="144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5751000" y="561492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51360" y="575928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067200" y="5445000"/>
              <a:ext cx="3801600" cy="459720"/>
              <a:chOff x="3067200" y="5445000"/>
              <a:chExt cx="3801600" cy="459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067200" y="5445000"/>
                <a:ext cx="380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Отсюда      АОС =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ОВ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4447800" y="5637240"/>
                <a:ext cx="215280" cy="144360"/>
                <a:chOff x="4447800" y="5637240"/>
                <a:chExt cx="215280" cy="144360"/>
              </a:xfrm>
            </p:grpSpPr>
            <p:sp>
              <p:nvSpPr>
                <p:cNvPr id="300" name=""/>
                <p:cNvSpPr/>
                <p:nvPr/>
              </p:nvSpPr>
              <p:spPr>
                <a:xfrm flipH="1">
                  <a:off x="4447800" y="5637240"/>
                  <a:ext cx="215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47800" y="5781600"/>
                  <a:ext cx="21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395280" y="4797360"/>
            <a:ext cx="8210520" cy="459720"/>
            <a:chOff x="395280" y="4797360"/>
            <a:chExt cx="8210520" cy="459720"/>
          </a:xfrm>
        </p:grpSpPr>
        <p:sp>
          <p:nvSpPr>
            <p:cNvPr id="303" name=""/>
            <p:cNvSpPr/>
            <p:nvPr/>
          </p:nvSpPr>
          <p:spPr>
            <a:xfrm>
              <a:off x="395280" y="4797360"/>
              <a:ext cx="82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олучаем равенство     АОС+    </a:t>
              </a:r>
              <a:r>
                <a:rPr b="1" lang="ru-RU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АО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ru-RU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АО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 +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7309800" y="4941720"/>
              <a:ext cx="216000" cy="142920"/>
              <a:chOff x="7309800" y="4941720"/>
              <a:chExt cx="216000" cy="14292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730980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1016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862520" y="4941720"/>
              <a:ext cx="215280" cy="142920"/>
              <a:chOff x="4862520" y="4941720"/>
              <a:chExt cx="215280" cy="14292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4862520" y="4941720"/>
                <a:ext cx="21528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62520" y="5084640"/>
                <a:ext cx="21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36360" y="4941720"/>
              <a:ext cx="216000" cy="142920"/>
              <a:chOff x="3636360" y="4941720"/>
              <a:chExt cx="216000" cy="142920"/>
            </a:xfrm>
          </p:grpSpPr>
          <p:sp>
            <p:nvSpPr>
              <p:cNvPr id="311" name=""/>
              <p:cNvSpPr/>
              <p:nvPr/>
            </p:nvSpPr>
            <p:spPr>
              <a:xfrm flipH="1">
                <a:off x="363636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72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57440" y="4941720"/>
              <a:ext cx="216000" cy="142920"/>
              <a:chOff x="6157440" y="4941720"/>
              <a:chExt cx="216000" cy="14292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615744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5780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2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2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28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Harlow Solid Italic"/>
              </a:rPr>
              <a:t>Свойство вертикальных уг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51116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Теор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ертикальны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81560" y="1914480"/>
            <a:ext cx="137808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219640" y="242100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270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3800" y="170028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488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01760" y="30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4720" y="256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3068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4800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смежны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767920" y="1917000"/>
            <a:ext cx="1745280" cy="1591560"/>
            <a:chOff x="5767920" y="1917000"/>
            <a:chExt cx="1745280" cy="1591560"/>
          </a:xfrm>
        </p:grpSpPr>
        <p:sp>
          <p:nvSpPr>
            <p:cNvPr id="329" name=""/>
            <p:cNvSpPr/>
            <p:nvPr/>
          </p:nvSpPr>
          <p:spPr>
            <a:xfrm rot="1938000">
              <a:off x="6526800" y="1990440"/>
              <a:ext cx="672120" cy="137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983" swAng="393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983" swAng="39330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19687200">
              <a:off x="6079680" y="2061360"/>
              <a:ext cx="672120" cy="137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7" y="123"/>
                  </a:moveTo>
                  <a:arcTo wR="10800" hR="10800" stAng="-4880199" swAng="3829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7" y="123"/>
                  </a:moveTo>
                  <a:arcTo wR="10800" hR="10800" stAng="-4880199" swAng="382924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659640" y="2421000"/>
            <a:ext cx="1800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659640" y="1628280"/>
            <a:ext cx="151272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-693360" y="5300640"/>
            <a:ext cx="3621600" cy="459720"/>
            <a:chOff x="-693360" y="5300640"/>
            <a:chExt cx="3621600" cy="459720"/>
          </a:xfrm>
        </p:grpSpPr>
        <p:grpSp>
          <p:nvGrpSpPr>
            <p:cNvPr id="335" name=""/>
            <p:cNvGrpSpPr/>
            <p:nvPr/>
          </p:nvGrpSpPr>
          <p:grpSpPr>
            <a:xfrm>
              <a:off x="1934640" y="5470560"/>
              <a:ext cx="216000" cy="144360"/>
              <a:chOff x="1934640" y="5470560"/>
              <a:chExt cx="216000" cy="1443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1934640" y="5470560"/>
                <a:ext cx="215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35000" y="561492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-693360" y="5300640"/>
              <a:ext cx="3621600" cy="459720"/>
              <a:chOff x="-693360" y="5300640"/>
              <a:chExt cx="3621600" cy="45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-693360" y="5300640"/>
                <a:ext cx="362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Comic Sans MS"/>
                  </a:rPr>
                  <a:t>                  </a:t>
                </a:r>
                <a:r>
                  <a:rPr b="0" lang="ru-RU" sz="2400" spc="-1" strike="noStrike">
                    <a:solidFill>
                      <a:srgbClr val="333399"/>
                    </a:solidFill>
                    <a:latin typeface="Comic Sans MS"/>
                  </a:rPr>
                  <a:t>АОС =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Comic Sans MS"/>
                  </a:rPr>
                  <a:t>D</a:t>
                </a:r>
                <a:r>
                  <a:rPr b="0" lang="ru-RU" sz="2400" spc="-1" strike="noStrike">
                    <a:solidFill>
                      <a:srgbClr val="333399"/>
                    </a:solidFill>
                    <a:latin typeface="Comic Sans MS"/>
                  </a:rPr>
                  <a:t>ОВ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631440" y="5492880"/>
                <a:ext cx="216000" cy="144360"/>
                <a:chOff x="631440" y="5492880"/>
                <a:chExt cx="216000" cy="14436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631440" y="5492880"/>
                  <a:ext cx="21564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1800" y="563724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3" name=""/>
          <p:cNvGrpSpPr/>
          <p:nvPr/>
        </p:nvGrpSpPr>
        <p:grpSpPr>
          <a:xfrm>
            <a:off x="539640" y="4797360"/>
            <a:ext cx="8210520" cy="459720"/>
            <a:chOff x="539640" y="4797360"/>
            <a:chExt cx="8210520" cy="459720"/>
          </a:xfrm>
        </p:grpSpPr>
        <p:sp>
          <p:nvSpPr>
            <p:cNvPr id="344" name=""/>
            <p:cNvSpPr/>
            <p:nvPr/>
          </p:nvSpPr>
          <p:spPr>
            <a:xfrm>
              <a:off x="539640" y="4797360"/>
              <a:ext cx="82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Из  1)  и  2)   следует     АОС+    </a:t>
              </a:r>
              <a:r>
                <a:rPr b="1" lang="ru-RU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АО</a:t>
              </a:r>
              <a:r>
                <a:rPr b="1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 =   </a:t>
              </a:r>
              <a:r>
                <a:rPr b="1" lang="ru-RU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АО</a:t>
              </a:r>
              <a:r>
                <a:rPr b="1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 +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454160" y="4941720"/>
              <a:ext cx="216000" cy="142920"/>
              <a:chOff x="7454160" y="4941720"/>
              <a:chExt cx="216000" cy="142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745416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5452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006880" y="4941720"/>
              <a:ext cx="215280" cy="142920"/>
              <a:chOff x="5006880" y="4941720"/>
              <a:chExt cx="215280" cy="14292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5006880" y="4941720"/>
                <a:ext cx="21528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06880" y="5084640"/>
                <a:ext cx="21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780720" y="4941720"/>
              <a:ext cx="216000" cy="142920"/>
              <a:chOff x="3780720" y="4941720"/>
              <a:chExt cx="216000" cy="14292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378072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8108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301800" y="4941720"/>
              <a:ext cx="216000" cy="142920"/>
              <a:chOff x="6301800" y="4941720"/>
              <a:chExt cx="216000" cy="1429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6301800" y="4941720"/>
                <a:ext cx="2156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02160" y="50846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398880" y="242100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Доказ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39280" y="2924280"/>
            <a:ext cx="3169080" cy="459720"/>
            <a:chOff x="539280" y="2924280"/>
            <a:chExt cx="3169080" cy="459720"/>
          </a:xfrm>
        </p:grpSpPr>
        <p:sp>
          <p:nvSpPr>
            <p:cNvPr id="359" name=""/>
            <p:cNvSpPr/>
            <p:nvPr/>
          </p:nvSpPr>
          <p:spPr>
            <a:xfrm>
              <a:off x="828720" y="29242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АОС и      АО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39280" y="3068640"/>
              <a:ext cx="289440" cy="144360"/>
              <a:chOff x="539280" y="3068640"/>
              <a:chExt cx="289440" cy="14436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39280" y="3068640"/>
                <a:ext cx="2890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9640" y="321300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052720" y="3068640"/>
              <a:ext cx="288720" cy="144360"/>
              <a:chOff x="2052720" y="3068640"/>
              <a:chExt cx="288720" cy="144360"/>
            </a:xfrm>
          </p:grpSpPr>
          <p:sp>
            <p:nvSpPr>
              <p:cNvPr id="364" name=""/>
              <p:cNvSpPr/>
              <p:nvPr/>
            </p:nvSpPr>
            <p:spPr>
              <a:xfrm flipH="1">
                <a:off x="2052720" y="3068640"/>
                <a:ext cx="2887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52720" y="3213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610920" y="3357720"/>
            <a:ext cx="3276360" cy="459720"/>
            <a:chOff x="610920" y="3357720"/>
            <a:chExt cx="3276360" cy="459720"/>
          </a:xfrm>
        </p:grpSpPr>
        <p:sp>
          <p:nvSpPr>
            <p:cNvPr id="367" name=""/>
            <p:cNvSpPr/>
            <p:nvPr/>
          </p:nvSpPr>
          <p:spPr>
            <a:xfrm>
              <a:off x="910080" y="335772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АОС  +       АО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610920" y="3502080"/>
              <a:ext cx="298800" cy="144360"/>
              <a:chOff x="610920" y="3502080"/>
              <a:chExt cx="298800" cy="14436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610920" y="3502080"/>
                <a:ext cx="2984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1280" y="3646440"/>
                <a:ext cx="29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175480" y="3502080"/>
              <a:ext cx="298080" cy="144360"/>
              <a:chOff x="2175480" y="3502080"/>
              <a:chExt cx="298080" cy="144360"/>
            </a:xfrm>
          </p:grpSpPr>
          <p:sp>
            <p:nvSpPr>
              <p:cNvPr id="372" name=""/>
              <p:cNvSpPr/>
              <p:nvPr/>
            </p:nvSpPr>
            <p:spPr>
              <a:xfrm flipH="1">
                <a:off x="2175480" y="3502080"/>
                <a:ext cx="2980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75480" y="364644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3349080" y="335772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18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9280" y="3789360"/>
            <a:ext cx="3169080" cy="459720"/>
            <a:chOff x="539280" y="3789360"/>
            <a:chExt cx="3169080" cy="459720"/>
          </a:xfrm>
        </p:grpSpPr>
        <p:sp>
          <p:nvSpPr>
            <p:cNvPr id="376" name=""/>
            <p:cNvSpPr/>
            <p:nvPr/>
          </p:nvSpPr>
          <p:spPr>
            <a:xfrm>
              <a:off x="828720" y="378936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АО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 и 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OB</a:t>
              </a: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39280" y="3933720"/>
              <a:ext cx="289440" cy="144360"/>
              <a:chOff x="539280" y="3933720"/>
              <a:chExt cx="289440" cy="14436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539280" y="3933720"/>
                <a:ext cx="2890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39640" y="407808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052720" y="3933720"/>
              <a:ext cx="288720" cy="144360"/>
              <a:chOff x="2052720" y="3933720"/>
              <a:chExt cx="288720" cy="144360"/>
            </a:xfrm>
          </p:grpSpPr>
          <p:sp>
            <p:nvSpPr>
              <p:cNvPr id="381" name=""/>
              <p:cNvSpPr/>
              <p:nvPr/>
            </p:nvSpPr>
            <p:spPr>
              <a:xfrm flipH="1">
                <a:off x="2052720" y="3933720"/>
                <a:ext cx="2887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52720" y="40780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3276720" y="3789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смежны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0920" y="4292640"/>
            <a:ext cx="3276360" cy="459720"/>
            <a:chOff x="610920" y="4292640"/>
            <a:chExt cx="3276360" cy="459720"/>
          </a:xfrm>
        </p:grpSpPr>
        <p:sp>
          <p:nvSpPr>
            <p:cNvPr id="385" name=""/>
            <p:cNvSpPr/>
            <p:nvPr/>
          </p:nvSpPr>
          <p:spPr>
            <a:xfrm>
              <a:off x="910080" y="429264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omic Sans MS"/>
                </a:rPr>
                <a:t>АОС  +       АО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10920" y="4437000"/>
              <a:ext cx="298800" cy="144360"/>
              <a:chOff x="610920" y="4437000"/>
              <a:chExt cx="298800" cy="144360"/>
            </a:xfrm>
          </p:grpSpPr>
          <p:sp>
            <p:nvSpPr>
              <p:cNvPr id="387" name=""/>
              <p:cNvSpPr/>
              <p:nvPr/>
            </p:nvSpPr>
            <p:spPr>
              <a:xfrm flipH="1">
                <a:off x="610920" y="4437000"/>
                <a:ext cx="2984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1280" y="4581360"/>
                <a:ext cx="29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175480" y="4437000"/>
              <a:ext cx="298080" cy="144360"/>
              <a:chOff x="2175480" y="4437000"/>
              <a:chExt cx="298080" cy="144360"/>
            </a:xfrm>
          </p:grpSpPr>
          <p:sp>
            <p:nvSpPr>
              <p:cNvPr id="390" name=""/>
              <p:cNvSpPr/>
              <p:nvPr/>
            </p:nvSpPr>
            <p:spPr>
              <a:xfrm flipH="1">
                <a:off x="2175480" y="4437000"/>
                <a:ext cx="2980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75480" y="458136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3419640" y="4292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18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00" y="29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00" y="3789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0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00" y="530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 rot="14206800">
            <a:off x="5921280" y="1920240"/>
            <a:ext cx="1196280" cy="14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97" y="91"/>
                </a:moveTo>
                <a:arcTo wR="10800" hR="10800" stAng="-4954181" swAng="5319701"/>
                <a:lnTo>
                  <a:pt x="10800" y="10800"/>
                </a:lnTo>
                <a:close/>
              </a:path>
              <a:path fill="none" w="21600" h="21600">
                <a:moveTo>
                  <a:pt x="12197" y="91"/>
                </a:moveTo>
                <a:arcTo wR="10800" hR="10800" stAng="-4954181" swAng="531970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4206800">
            <a:off x="5925600" y="2068200"/>
            <a:ext cx="1194840" cy="144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23" y="993"/>
                </a:moveTo>
                <a:arcTo wR="10800" hR="10800" stAng="-3914428" swAng="3516392"/>
                <a:lnTo>
                  <a:pt x="10800" y="10800"/>
                </a:lnTo>
                <a:close/>
              </a:path>
              <a:path fill="none" w="21600" h="21600">
                <a:moveTo>
                  <a:pt x="15323" y="993"/>
                </a:moveTo>
                <a:arcTo wR="10800" hR="10800" stAng="-3914428" swAng="351639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67640" y="5734080"/>
            <a:ext cx="28908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0800000">
            <a:off x="324000" y="6021360"/>
            <a:ext cx="720720" cy="50328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выполнена Нетук Светланой Владленовной и Цыганковой Мариной Юрьевн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7:07:01Z</dcterms:created>
  <dc:creator>слушатель</dc:creator>
  <dc:description/>
  <dc:language>en-US</dc:language>
  <cp:lastModifiedBy>слушатель</cp:lastModifiedBy>
  <dcterms:modified xsi:type="dcterms:W3CDTF">2006-10-16T09:05:15Z</dcterms:modified>
  <cp:revision>11</cp:revision>
  <dc:subject/>
  <dc:title>Слайд 1</dc:title>
</cp:coreProperties>
</file>