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27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19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5.wmf" ContentType="image/x-wmf"/>
  <Override PartName="/ppt/media/image25.png" ContentType="image/png"/>
  <Override PartName="/ppt/media/image17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39.wmf" ContentType="image/x-wmf"/>
  <Override PartName="/ppt/media/image41.wmf" ContentType="image/x-wmf"/>
  <Override PartName="/ppt/media/image30.png" ContentType="image/png"/>
  <Override PartName="/ppt/media/image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46.png" ContentType="image/png"/>
  <Override PartName="/ppt/media/image6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0.wmf" ContentType="image/x-wmf"/>
  <Override PartName="/ppt/media/image2.png" ContentType="image/png"/>
  <Override PartName="/ppt/media/image3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4A8-B6BD-4164-BA6F-9ADBAA54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353-8506-44A4-87EA-D9F01963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C21-2524-4412-92E9-D2A7A897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401-B942-455C-A5BB-7DACC3B5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6B6-BECE-431C-93F4-6C5D3762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E0C-19AC-478E-AD3A-16AD9D3D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0F9-0B16-437D-83F5-D5678AB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08C-1B24-42DE-9407-8DA351C3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5D9-D615-4362-AEAD-CC09505E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DBD-F7EF-4B7E-9B5F-470D0BF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2E4-7564-4E9E-92A7-D01888BE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5B2-69D4-4A96-AEE6-44B9A8D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700-0F38-4F63-AA3F-152052C07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image" Target="../media/image43.png"/><Relationship Id="rId1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2920"/>
            <a:ext cx="9144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дополнительного профессионального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ышения квалификации) специалистов Московской обла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АЯ АКАДЕМИЯ ПОСЛЕДИПЛОМ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федра математических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Различные подходы к решению  задач С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диного государственного экзам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ей школы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Пуш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ралиева Светлана Анатольев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ководитель: Пав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дрей Никола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СКВА –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рямой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оординат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24000" y="4508640"/>
                <a:ext cx="18000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32000" y="4149720"/>
                <a:ext cx="6012000" cy="25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па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9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7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51640" y="3068640"/>
                <a:ext cx="3492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115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1989000"/>
            <a:ext cx="93528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149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124000" y="3573360"/>
            <a:ext cx="71928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900000" y="1989000"/>
            <a:ext cx="100800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258560" y="1989000"/>
            <a:ext cx="6490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1989000"/>
            <a:ext cx="21600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3068640"/>
            <a:ext cx="432000" cy="50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306864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99640" y="3068640"/>
            <a:ext cx="576360" cy="50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76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В правильной шестиугольной пирамиде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SABCDEF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тороны основания равны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, а боковые рёбра – 3. Найти расстояние от вершины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S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пирамиды до прямой МК, где М – середина АВ, К – середина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708280"/>
            <a:ext cx="7128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835280" y="1988640"/>
            <a:ext cx="72720" cy="158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2060640"/>
            <a:ext cx="503280" cy="1008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900000" y="357336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920" y="2708280"/>
            <a:ext cx="288720" cy="14414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76000" y="1989000"/>
            <a:ext cx="431640" cy="1079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899640" y="3573000"/>
            <a:ext cx="35892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1628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360" y="4149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9080" y="2852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4720" y="3500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580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3429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1440" y="4149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4149720"/>
            <a:ext cx="1728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258920" y="1989000"/>
            <a:ext cx="0" cy="2160720"/>
          </a:xfrm>
          <a:prstGeom prst="line">
            <a:avLst/>
          </a:prstGeom>
          <a:ln w="2844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20720" y="2565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1080" y="184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9800" y="328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3789360"/>
            <a:ext cx="71640" cy="7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71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242100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042920" y="3860640"/>
            <a:ext cx="144360" cy="1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050920" y="2276280"/>
            <a:ext cx="144720" cy="14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24000" y="2349360"/>
            <a:ext cx="144360" cy="1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314172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3213000"/>
            <a:ext cx="21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364500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03640" y="2997360"/>
            <a:ext cx="2448000" cy="938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80000" y="2565000"/>
            <a:ext cx="35856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565360"/>
            <a:ext cx="360360" cy="8622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6720" y="3716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2846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80000" y="3141720"/>
            <a:ext cx="1439640" cy="57456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6160" y="213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140360" y="2204640"/>
            <a:ext cx="1295280" cy="36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219640" y="2204640"/>
            <a:ext cx="21600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7800" y="2781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372360" y="1413000"/>
                <a:ext cx="27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156360" y="2276640"/>
                <a:ext cx="2987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258920" y="4149720"/>
            <a:ext cx="1728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рямой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векторный мето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733400" y="2577960"/>
                <a:ext cx="148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200480" y="3068640"/>
                <a:ext cx="3765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427640" y="2565360"/>
                <a:ext cx="36781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336840" cy="2798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539640" y="2060280"/>
            <a:ext cx="2376720" cy="23763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860640"/>
            <a:ext cx="720720" cy="57636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3141720"/>
            <a:ext cx="43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7628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(Тр. 4, №8):   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В правильной шестиугольной призме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ABCDEFA1B1C1D1E1F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 все рёбра равны 1. Найти расстояние от точки В до прямой А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8428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1628640"/>
            <a:ext cx="565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сть Н – ортогональная проекция точки В на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492360" y="3573360"/>
                <a:ext cx="5375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4149720"/>
                <a:ext cx="35179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α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695920" y="4149720"/>
                <a:ext cx="3448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2680" y="4724280"/>
                <a:ext cx="9031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A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9280" y="5157720"/>
                <a:ext cx="4105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462560" y="5300640"/>
                <a:ext cx="4681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0" y="5845320"/>
                <a:ext cx="91440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 flipH="1" flipV="1">
            <a:off x="1116000" y="3860640"/>
            <a:ext cx="79200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9640" y="3789000"/>
            <a:ext cx="647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437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50480" y="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93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тояние от точки до плоск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не содержащей эту точку, есть длина отрезка перпендикуляра, опущенного из этой точки на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тояние между прямой и параллельной ей плоскость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 длине их общего перпендику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тояние между прямой и параллельной ей плоскость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 расстоянию от любой точки этой прямой до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тояние между двумя параллельными плоскостя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 длине их общего перпендику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тояние между двумя параллельными плоскостя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о расстоянию между точкой одной из этих плоскостей и другой плоск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476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тояние от точ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равно расстоянию до плоскости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роизвольной точ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жащей на прям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проходит через точку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араллельна плоскости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равно расстоянию до плоскости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произвольной точ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лежащей 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проходит через точку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араллельна плоскости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0"/>
            <a:ext cx="68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5013360"/>
            <a:ext cx="3816360" cy="792000"/>
          </a:xfrm>
          <a:prstGeom prst="parallelogram">
            <a:avLst>
              <a:gd name="adj" fmla="val 1204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3716280"/>
            <a:ext cx="3456000" cy="792360"/>
          </a:xfrm>
          <a:prstGeom prst="parallelogram">
            <a:avLst>
              <a:gd name="adj" fmla="val 109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276720" y="4005360"/>
            <a:ext cx="194292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537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4840" y="4122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076640"/>
            <a:ext cx="73080" cy="71640"/>
          </a:xfrm>
          <a:prstGeom prst="ellipse">
            <a:avLst/>
          </a:prstGeom>
          <a:solidFill>
            <a:srgbClr val="8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4149720"/>
            <a:ext cx="73080" cy="71280"/>
          </a:xfrm>
          <a:prstGeom prst="ellipse">
            <a:avLst/>
          </a:prstGeom>
          <a:solidFill>
            <a:srgbClr val="8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364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7080" y="378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3933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32000" y="5229360"/>
            <a:ext cx="1943280" cy="28872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3440" y="4076640"/>
            <a:ext cx="69840" cy="1224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49720"/>
            <a:ext cx="71280" cy="1224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981000"/>
            <a:ext cx="76964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2201760"/>
            <a:ext cx="8686800" cy="4991040"/>
            <a:chOff x="457200" y="2201760"/>
            <a:chExt cx="8686800" cy="4991040"/>
          </a:xfrm>
        </p:grpSpPr>
        <p:grpSp>
          <p:nvGrpSpPr>
            <p:cNvPr id="183" name=""/>
            <p:cNvGrpSpPr/>
            <p:nvPr/>
          </p:nvGrpSpPr>
          <p:grpSpPr>
            <a:xfrm>
              <a:off x="838080" y="5706720"/>
              <a:ext cx="5943600" cy="927000"/>
              <a:chOff x="838080" y="5706720"/>
              <a:chExt cx="5943600" cy="927000"/>
            </a:xfrm>
          </p:grpSpPr>
          <p:sp>
            <p:nvSpPr>
              <p:cNvPr id="184" name=""/>
              <p:cNvSpPr/>
              <p:nvPr/>
            </p:nvSpPr>
            <p:spPr>
              <a:xfrm>
                <a:off x="838080" y="594144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  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5" name=""/>
              <p:cNvGraphicFramePr/>
              <p:nvPr/>
            </p:nvGraphicFramePr>
            <p:xfrm>
              <a:off x="2070000" y="5706720"/>
              <a:ext cx="596880" cy="927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8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0000" y="5706720"/>
                        <a:ext cx="59688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87" name=""/>
            <p:cNvGrpSpPr/>
            <p:nvPr/>
          </p:nvGrpSpPr>
          <p:grpSpPr>
            <a:xfrm>
              <a:off x="4419360" y="2201760"/>
              <a:ext cx="4724640" cy="4991040"/>
              <a:chOff x="4419360" y="2201760"/>
              <a:chExt cx="4724640" cy="4991040"/>
            </a:xfrm>
          </p:grpSpPr>
          <p:sp>
            <p:nvSpPr>
              <p:cNvPr id="188" name=""/>
              <p:cNvSpPr/>
              <p:nvPr/>
            </p:nvSpPr>
            <p:spPr>
              <a:xfrm>
                <a:off x="4419360" y="2201760"/>
                <a:ext cx="4724640" cy="499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ешение:</a:t>
                </a: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иагональ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уба перпендикулярна плоскост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D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означим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центр гран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- точка пересечения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 плоскост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D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. Длина отрезка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удет искомым расстоянием.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 прямоугольном треугольнике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O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мее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O =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ледовательно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 =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9" name=""/>
              <p:cNvGraphicFramePr/>
              <p:nvPr/>
            </p:nvGraphicFramePr>
            <p:xfrm>
              <a:off x="6400800" y="5096880"/>
              <a:ext cx="473040" cy="790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00800" y="5096880"/>
                        <a:ext cx="473040" cy="79020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1" name=""/>
              <p:cNvGraphicFramePr/>
              <p:nvPr/>
            </p:nvGraphicFramePr>
            <p:xfrm>
              <a:off x="7848360" y="5096880"/>
              <a:ext cx="473040" cy="790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848360" y="5096880"/>
                        <a:ext cx="473040" cy="79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3" name=""/>
              <p:cNvGraphicFramePr/>
              <p:nvPr/>
            </p:nvGraphicFramePr>
            <p:xfrm>
              <a:off x="7391160" y="5706720"/>
              <a:ext cx="524160" cy="802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91160" y="5706720"/>
                        <a:ext cx="524160" cy="80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95" name="" descr=""/>
            <p:cNvPicPr/>
            <p:nvPr/>
          </p:nvPicPr>
          <p:blipFill>
            <a:blip r:embed="rId9"/>
            <a:stretch/>
          </p:blipFill>
          <p:spPr>
            <a:xfrm>
              <a:off x="457200" y="2354040"/>
              <a:ext cx="371772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179280" y="0"/>
            <a:ext cx="896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поэтапно-вычислитель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единичном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убе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</a:t>
            </a:r>
            <a:r>
              <a:rPr b="1" i="1" lang="ru-RU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найдите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расстояние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от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точк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до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лоскости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0880" y="1268280"/>
            <a:ext cx="8763120" cy="3975120"/>
            <a:chOff x="380880" y="1268280"/>
            <a:chExt cx="8763120" cy="3975120"/>
          </a:xfrm>
        </p:grpSpPr>
        <p:grpSp>
          <p:nvGrpSpPr>
            <p:cNvPr id="199" name=""/>
            <p:cNvGrpSpPr/>
            <p:nvPr/>
          </p:nvGrpSpPr>
          <p:grpSpPr>
            <a:xfrm>
              <a:off x="838080" y="4316400"/>
              <a:ext cx="5943600" cy="927000"/>
              <a:chOff x="838080" y="4316400"/>
              <a:chExt cx="5943600" cy="927000"/>
            </a:xfrm>
          </p:grpSpPr>
          <p:sp>
            <p:nvSpPr>
              <p:cNvPr id="200" name=""/>
              <p:cNvSpPr/>
              <p:nvPr/>
            </p:nvSpPr>
            <p:spPr>
              <a:xfrm>
                <a:off x="838080" y="446868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01" name=""/>
              <p:cNvGraphicFramePr/>
              <p:nvPr/>
            </p:nvGraphicFramePr>
            <p:xfrm>
              <a:off x="1962000" y="4316400"/>
              <a:ext cx="787320" cy="927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62000" y="4316400"/>
                        <a:ext cx="78732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03" name=""/>
            <p:cNvSpPr/>
            <p:nvPr/>
          </p:nvSpPr>
          <p:spPr>
            <a:xfrm>
              <a:off x="4190760" y="1268280"/>
              <a:ext cx="4953240" cy="33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и отстоит от верш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расстояние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см. предыдущую задачу). Учитывая, что длина диагонали куба равна       , получим, что искомое расстояни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н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8153280" y="3859200"/>
            <a:ext cx="614520" cy="80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3859200"/>
                      <a:ext cx="614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5790960" y="2334960"/>
            <a:ext cx="524160" cy="80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0960" y="2334960"/>
                      <a:ext cx="524160" cy="8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5715000" y="3630600"/>
            <a:ext cx="4078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3630600"/>
                      <a:ext cx="4078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0" name="" descr=""/>
            <p:cNvPicPr/>
            <p:nvPr/>
          </p:nvPicPr>
          <p:blipFill>
            <a:blip r:embed="rId9"/>
            <a:stretch/>
          </p:blipFill>
          <p:spPr>
            <a:xfrm>
              <a:off x="380880" y="1268280"/>
              <a:ext cx="371808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2627280" y="4653000"/>
            <a:ext cx="6516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Выводы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808000"/>
                </a:solidFill>
                <a:latin typeface="Arial"/>
              </a:rPr>
              <a:t>расстояние между параллельными плоскостями A</a:t>
            </a:r>
            <a:r>
              <a:rPr b="1" i="1" lang="ru-RU" sz="2000" spc="-1" strike="noStrike" baseline="-25000">
                <a:solidFill>
                  <a:srgbClr val="808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808000"/>
                </a:solidFill>
                <a:latin typeface="Arial"/>
              </a:rPr>
              <a:t>DВ и СВ</a:t>
            </a:r>
            <a:r>
              <a:rPr b="1" i="1" lang="ru-RU" sz="2000" spc="-1" strike="noStrike" baseline="-25000">
                <a:solidFill>
                  <a:srgbClr val="808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8080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808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808000"/>
                </a:solidFill>
                <a:latin typeface="Arial"/>
              </a:rPr>
              <a:t>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8172360" y="4869000"/>
                <a:ext cx="654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6156360"/>
            <a:ext cx="914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В кубе ABCDA</a:t>
            </a:r>
            <a:r>
              <a:rPr b="1" i="1" lang="ru-RU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B</a:t>
            </a:r>
            <a:r>
              <a:rPr b="1" i="1" lang="ru-RU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C</a:t>
            </a:r>
            <a:r>
              <a:rPr b="1" i="1" lang="ru-RU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D</a:t>
            </a:r>
            <a:r>
              <a:rPr b="1" i="1" lang="ru-RU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диагональ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AC</a:t>
            </a:r>
            <a:r>
              <a:rPr b="1" i="1" lang="en-US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перпендикулярна плоскостям A</a:t>
            </a:r>
            <a:r>
              <a:rPr b="1" i="1" lang="en-US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CB</a:t>
            </a:r>
            <a:r>
              <a:rPr b="1" i="1" lang="en-US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99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и делится ими на три равн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350028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1773360"/>
            <a:ext cx="7272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156360" y="5734080"/>
                <a:ext cx="6476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544500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стояние от точки С до плоскости А1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D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равно расстоянию от точки О до плоскости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1DB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42920" y="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поэтапно-вычислитель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635280" cy="3960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9079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Тр.р.№6. Задача№6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В правильной шестиугольной пирами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BCDE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стороны основания которой равны 1, а боковые рёбра равны 2, найдите расстояние между прямы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B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2060640"/>
            <a:ext cx="543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ьна плоск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ит в плоск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дача сводится к нахождению расстояния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плоск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 е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B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апеци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=2. AF=1,BH=1/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 теореме Пифагора нахо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16360" y="4437000"/>
                <a:ext cx="36734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47640" y="4869000"/>
            <a:ext cx="503280" cy="1081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5589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11280" y="5589720"/>
            <a:ext cx="122400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5157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5950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451640" y="5707080"/>
                <a:ext cx="676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5300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общем случае рассматривают равенство объемов одной фигуры, выраженные двумя независим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07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объем пирамиды АВСМ равен V 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ABCM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, то расстояние от точки M до плоскости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, содержащей треугольник АВС, вычисляют по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0" y="2637000"/>
                <a:ext cx="8580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;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-376200" y="0"/>
            <a:ext cx="95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(метод объем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4005360"/>
            <a:ext cx="71280" cy="730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48200" cy="3519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H="1">
            <a:off x="610920" y="2492280"/>
            <a:ext cx="2160360" cy="216072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11280" y="4005000"/>
            <a:ext cx="3313080" cy="647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39640" y="1844640"/>
            <a:ext cx="1152720" cy="295272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49360"/>
            <a:ext cx="914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Задача (Тр. 5, №1)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 единичном кубе А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дите расстояние от точки А до плоскости С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1268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242100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Применим формулу объёма пирам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292720" y="3141720"/>
                <a:ext cx="21589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4221000"/>
                <a:ext cx="378144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уба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00000" y="5710320"/>
                <a:ext cx="4176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00720" y="1700280"/>
            <a:ext cx="446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усть АН – искомое расстояние – высота пирамид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11280" y="2852280"/>
            <a:ext cx="2305080" cy="18716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2492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метод объем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304920" y="1333440"/>
            <a:ext cx="8839080" cy="5524560"/>
            <a:chOff x="304920" y="1333440"/>
            <a:chExt cx="8839080" cy="5524560"/>
          </a:xfrm>
        </p:grpSpPr>
        <p:sp>
          <p:nvSpPr>
            <p:cNvPr id="254" name=""/>
            <p:cNvSpPr/>
            <p:nvPr/>
          </p:nvSpPr>
          <p:spPr>
            <a:xfrm>
              <a:off x="304920" y="621036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920" y="4686480"/>
              <a:ext cx="883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 = SF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куда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6" name=""/>
            <p:cNvGraphicFramePr/>
            <p:nvPr/>
          </p:nvGraphicFramePr>
          <p:xfrm>
            <a:off x="1295280" y="605808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605808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1803240" y="5448240"/>
            <a:ext cx="44460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03240" y="5448240"/>
                      <a:ext cx="444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5207040" y="544212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07040" y="544212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2743200" y="133344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685800" y="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о формуле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18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 практико-ориентированного проекта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клад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авление проекта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тодическ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ача С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го государственного экза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дготовить учащихся старшей школы  к успешной сдаче Единого государственного экза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здать целостное представление о методах решения задач С 2 и значительно расширить спектр задач, посильных для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вить интерес школьников к предмету, познакомить их с новыми идеями 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смотреть  взаимное расположение точек, прямых и плоскостей на многогран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казать основные виды задач  типа С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ложить методы решения стереометрических задач С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549360"/>
            <a:ext cx="914400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Задача (Тр. 5, №1)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единичном кубе А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найдите расстояние от точки А до плоскости 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4005360"/>
            <a:ext cx="71280" cy="730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(координатно-векторный метод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048200" cy="3519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H="1">
            <a:off x="178920" y="4005360"/>
            <a:ext cx="1368360" cy="863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148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1916280"/>
            <a:ext cx="5292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усть АН – искомое расстояние  А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;Н(х;у;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 А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x-1;y;z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8360" y="2997000"/>
            <a:ext cx="2374920" cy="16556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8764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547640" y="1557360"/>
            <a:ext cx="0" cy="244800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4005360"/>
            <a:ext cx="3095640" cy="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58760" y="5867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72428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32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7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65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1;0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1080" y="1341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0;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29080" y="2133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1;1;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53080" y="3500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1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8036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2781360"/>
            <a:ext cx="266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1;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036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24560" y="2781360"/>
            <a:ext cx="240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 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1;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2880" y="3284640"/>
            <a:ext cx="26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 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;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1672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6000" y="335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40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2852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09880" y="4110120"/>
                <a:ext cx="5268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bar>
                    <m:r>
                      <m:t xml:space="preserve">⋅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0" y="4962600"/>
                <a:ext cx="44276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321080" y="4653000"/>
                <a:ext cx="183528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00920" y="4581360"/>
                <a:ext cx="302544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</m:ba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Заголовок 1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плоскости имеет ви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z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где коэффициенты – координаты вектора нормали к плоскости (вектора, перпендикулярного плоскости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250920" y="1916280"/>
                <a:ext cx="3527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9" name="Picture 3" descr="C:\Users\Таня\Pictures\fr34.jpg"/>
          <p:cNvPicPr/>
          <p:nvPr/>
        </p:nvPicPr>
        <p:blipFill>
          <a:blip r:embed="rId1"/>
          <a:stretch/>
        </p:blipFill>
        <p:spPr>
          <a:xfrm>
            <a:off x="0" y="2852640"/>
            <a:ext cx="4067280" cy="271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968720" y="2060640"/>
            <a:ext cx="4175280" cy="1079280"/>
          </a:xfrm>
          <a:prstGeom prst="parallelogram">
            <a:avLst>
              <a:gd name="adj" fmla="val 96714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940360" y="2204640"/>
            <a:ext cx="719280" cy="57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940360" y="1844640"/>
            <a:ext cx="1871640" cy="936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2781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2708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43640" y="2492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94560" y="170028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1700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84720" y="3284640"/>
                <a:ext cx="485928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крыв определитель третьего порядка, получим уравнение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9680" y="98280"/>
            <a:ext cx="77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лоскости 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координат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49360"/>
            <a:ext cx="914400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Задача (Тр. 5, №1)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 единичном кубе А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найдите расстояние от точки А до плоскости 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4005360"/>
            <a:ext cx="71280" cy="7308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048200" cy="3519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H="1">
            <a:off x="178920" y="4005360"/>
            <a:ext cx="1368360" cy="863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764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547640" y="1557360"/>
            <a:ext cx="0" cy="244800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4005360"/>
            <a:ext cx="3095640" cy="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58760" y="58672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72428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1164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7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65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1;0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21080" y="1341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0;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29080" y="2133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1;1;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3080" y="3500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0;1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17840" y="148428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932360" y="2060640"/>
                <a:ext cx="42116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а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в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ормал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116680" y="4292640"/>
                <a:ext cx="4060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z</m:t>
                                </m:r>
                              </m:e>
                              <m:e/>
                            </m:d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0" y="5229360"/>
                <a:ext cx="35290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64000" y="5519880"/>
                <a:ext cx="558000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70920" y="90360"/>
            <a:ext cx="63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между скрещивающимися пря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49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 между двумя скрещивающим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ми равно длине отрезка их общего перпендикуля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632480"/>
            <a:ext cx="65167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) равно ρ (a;b) = ρ (A;b) , где A = a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, b = b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ортогональная проекция на плоскость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водит прямую а в точку А, а прямую b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ую b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, то расстояние между скрещивающимися прямыми а и b равно расстояни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чки А до прямой b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57360"/>
            <a:ext cx="6443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стояние между скрещивающимися пря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) равно расстоянию от любой точки одно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тих прямых до плоскости, проходящей че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торую прямую параллельно первой пря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84640"/>
            <a:ext cx="594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) равно расстоянию между двумя параллельными плоскостями, содержащими эти прям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72360" y="1628640"/>
            <a:ext cx="2520720" cy="648000"/>
          </a:xfrm>
          <a:prstGeom prst="parallelogram">
            <a:avLst>
              <a:gd name="adj" fmla="val 97250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2781360"/>
            <a:ext cx="2736720" cy="576360"/>
          </a:xfrm>
          <a:prstGeom prst="parallelogram">
            <a:avLst>
              <a:gd name="adj" fmla="val 11870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659640" y="1844280"/>
            <a:ext cx="1584360" cy="360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77080" y="2924280"/>
            <a:ext cx="1295280" cy="28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2205000"/>
            <a:ext cx="0" cy="936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80360" y="2060640"/>
            <a:ext cx="0" cy="1008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659640" y="2924280"/>
            <a:ext cx="1512720" cy="2174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72360" y="184464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07280" y="5157720"/>
            <a:ext cx="2736720" cy="792360"/>
          </a:xfrm>
          <a:prstGeom prst="parallelogram">
            <a:avLst>
              <a:gd name="adj" fmla="val 86347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308720" y="4581360"/>
            <a:ext cx="0" cy="935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08720" y="5373720"/>
            <a:ext cx="0" cy="5763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308720" y="5949720"/>
            <a:ext cx="0" cy="531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811640" y="5229360"/>
            <a:ext cx="79236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8720" y="5516640"/>
            <a:ext cx="79236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537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43640" y="55897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10160" y="422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90160" y="520236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69080" y="1557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02520" y="2924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49440" y="15303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3440" y="3068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между скрещивающимися пря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908000" y="860400"/>
            <a:ext cx="4464360" cy="2763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 flipV="1">
            <a:off x="1619280" y="980640"/>
            <a:ext cx="316872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2781360"/>
            <a:ext cx="266544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050920" y="1557360"/>
            <a:ext cx="720720" cy="12240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611280" y="3789360"/>
                <a:ext cx="828180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а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с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sSub>
                                  <m:e>
                                    <m:r>
                                      <m:t xml:space="preserve">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,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H="1" flipV="1">
            <a:off x="2050920" y="1557360"/>
            <a:ext cx="720720" cy="12240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между скрещивающимися прямыми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(координатный мет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04640"/>
            <a:ext cx="9144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рямоугольном параллелепипеде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роны основания равны 3 и 2, а боковые рёбра равны 4. На ребре СС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отмечена точка К так, что СК : КС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1:3. Найти расстояние между прямыми ОК и 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М – середина 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О –точка пересечения диагоналей основа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9236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340000" y="1989000"/>
            <a:ext cx="50328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03280" y="1989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900000" y="1989000"/>
            <a:ext cx="576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1989000"/>
            <a:ext cx="71280" cy="20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0000" y="2708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19280" y="486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00000" y="2708280"/>
            <a:ext cx="7164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0036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971640" y="4076640"/>
            <a:ext cx="57600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19280" y="4076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40000" y="2708280"/>
            <a:ext cx="7128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43280" y="198900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71640" y="479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411280" y="4076640"/>
            <a:ext cx="432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7164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6000" y="1628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2421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68360" y="256536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43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7164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465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8728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68360" y="486900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1440" y="20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4797360"/>
            <a:ext cx="2016000" cy="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971640" y="3789360"/>
            <a:ext cx="792000" cy="100800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899640" y="2276280"/>
            <a:ext cx="71640" cy="2447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144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472428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4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82200" y="213372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 (1,5;1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43280" y="33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47640" y="4005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1640" y="472428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98920" y="3933720"/>
            <a:ext cx="12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0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71640" y="328464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 (0;0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08760" y="27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1,5;1;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61840" y="270828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 (3;2;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71640" y="350028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971640" y="4076640"/>
            <a:ext cx="187164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47640" y="4005360"/>
            <a:ext cx="86364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79640" y="1989000"/>
            <a:ext cx="431640" cy="2808360"/>
          </a:xfrm>
          <a:prstGeom prst="line">
            <a:avLst/>
          </a:prstGeom>
          <a:ln w="38160">
            <a:solidFill>
              <a:srgbClr val="33cccc"/>
            </a:solidFill>
            <a:prstDash val="sysDot"/>
            <a:miter/>
            <a:headEnd len="sm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979640" y="3500280"/>
            <a:ext cx="863640" cy="936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148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42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92360" y="1700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64040" y="21337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1,5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40360" y="2133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84720" y="2781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12000" y="342900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0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56360" y="3429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635280" y="3933720"/>
                <a:ext cx="5329440" cy="18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K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,5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,5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0" y="5373720"/>
                <a:ext cx="3649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067280" y="5514840"/>
                <a:ext cx="4897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2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946240" cy="28670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836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р.р.№6.Задача №6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правильной шестиугольной пирами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BCDE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стороны основания которой равны 1, а боковые рёбра равны 2, найдите расстояние между прямы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B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18900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между скрещивающимися пря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поэтапно-вычислительный метод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9640" y="3716280"/>
            <a:ext cx="431640" cy="7923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187280" y="4221000"/>
            <a:ext cx="1081080" cy="21600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708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843640" y="191628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43280" y="184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BE           A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║( B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12000" y="206064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67280" y="2492280"/>
            <a:ext cx="4535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сводится к нахождению расстояния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оведё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┴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рапе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H = 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956720" y="5516640"/>
                <a:ext cx="7905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6372720" y="60213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11280" y="5445000"/>
                <a:ext cx="2808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62080" y="0"/>
            <a:ext cx="88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между скрещивающимися прямыми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векторный 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729160" cy="27370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79280" y="404640"/>
            <a:ext cx="8964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Тр.р.№6. Задача №3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правильной треугольной призме АВС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все стороны которой равны 1, найдите расстояние между прямыми АВ и С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65440" y="429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70160" y="270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826920" y="3499920"/>
            <a:ext cx="1440000" cy="7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826920" y="256536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88000" y="105264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ешени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780000" y="2133720"/>
                <a:ext cx="4895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442880" y="3456000"/>
                <a:ext cx="270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68360" y="3933720"/>
                <a:ext cx="2685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07960" y="3168720"/>
                <a:ext cx="270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708360" y="2565360"/>
                <a:ext cx="5435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2878200" y="1413000"/>
            <a:ext cx="626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N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й перпендикуляр прямых АВ и СВ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353120" y="1817640"/>
            <a:ext cx="34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ведём базисные век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3576600" y="3141720"/>
                <a:ext cx="5594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635280" y="3573360"/>
                <a:ext cx="4392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564000" y="4005360"/>
                <a:ext cx="446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0920" y="4653000"/>
                <a:ext cx="38163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50920" y="5084640"/>
                <a:ext cx="4971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79280" y="465300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651640" y="4437000"/>
                <a:ext cx="1296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580000" y="4941720"/>
                <a:ext cx="151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435640" y="4581360"/>
            <a:ext cx="71280" cy="93528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667640" y="4292640"/>
                <a:ext cx="1476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451640" y="4581360"/>
            <a:ext cx="71640" cy="93528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0" y="5902200"/>
                <a:ext cx="26272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771640" y="5734080"/>
                <a:ext cx="4321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N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7307280" y="609300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228160" y="5877000"/>
                <a:ext cx="915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900000" y="4292640"/>
            <a:ext cx="2016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835280" y="2852640"/>
            <a:ext cx="863640" cy="14400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43640" y="428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гол между пря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4508640"/>
            <a:ext cx="4680000" cy="1726920"/>
          </a:xfrm>
          <a:prstGeom prst="parallelogram">
            <a:avLst>
              <a:gd name="adj" fmla="val 67751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7F8-77EE-4BD8-B8AE-348C8AA05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4043520" y="214956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5186520" y="115884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4571640" y="1700280"/>
            <a:ext cx="3429360" cy="965160"/>
            <a:chOff x="4571640" y="1700280"/>
            <a:chExt cx="3429360" cy="965160"/>
          </a:xfrm>
        </p:grpSpPr>
        <p:sp>
          <p:nvSpPr>
            <p:cNvPr id="474" name="Freeform 18"/>
            <p:cNvSpPr/>
            <p:nvPr/>
          </p:nvSpPr>
          <p:spPr>
            <a:xfrm>
              <a:off x="6324840" y="1700280"/>
              <a:ext cx="1676160" cy="93996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1056" h="592">
                  <a:moveTo>
                    <a:pt x="960" y="0"/>
                  </a:moveTo>
                  <a:lnTo>
                    <a:pt x="0" y="304"/>
                  </a:lnTo>
                  <a:lnTo>
                    <a:pt x="720" y="592"/>
                  </a:lnTo>
                  <a:lnTo>
                    <a:pt x="1056" y="400"/>
                  </a:lnTo>
                  <a:lnTo>
                    <a:pt x="1056" y="160"/>
                  </a:lnTo>
                  <a:lnTo>
                    <a:pt x="960" y="1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 rot="10800000">
              <a:off x="4571640" y="1725840"/>
              <a:ext cx="1676520" cy="93960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056" h="592">
                  <a:moveTo>
                    <a:pt x="960" y="0"/>
                  </a:moveTo>
                  <a:lnTo>
                    <a:pt x="0" y="304"/>
                  </a:lnTo>
                  <a:lnTo>
                    <a:pt x="720" y="592"/>
                  </a:lnTo>
                  <a:lnTo>
                    <a:pt x="1056" y="400"/>
                  </a:lnTo>
                  <a:lnTo>
                    <a:pt x="1056" y="160"/>
                  </a:lnTo>
                  <a:lnTo>
                    <a:pt x="960" y="16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Freeform 20"/>
          <p:cNvSpPr/>
          <p:nvPr/>
        </p:nvSpPr>
        <p:spPr>
          <a:xfrm>
            <a:off x="4284720" y="1628640"/>
            <a:ext cx="3682800" cy="1143000"/>
          </a:xfrm>
          <a:custGeom>
            <a:avLst/>
            <a:gdLst>
              <a:gd name="textAreaLeft" fmla="*/ 0 w 3682800"/>
              <a:gd name="textAreaRight" fmla="*/ 3683160 w 3682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320" h="720">
                <a:moveTo>
                  <a:pt x="2320" y="0"/>
                </a:moveTo>
                <a:lnTo>
                  <a:pt x="0" y="72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1"/>
          <p:cNvSpPr/>
          <p:nvPr/>
        </p:nvSpPr>
        <p:spPr>
          <a:xfrm>
            <a:off x="5072040" y="1704960"/>
            <a:ext cx="2489400" cy="939960"/>
          </a:xfrm>
          <a:custGeom>
            <a:avLst/>
            <a:gdLst>
              <a:gd name="textAreaLeft" fmla="*/ 0 w 2489400"/>
              <a:gd name="textAreaRight" fmla="*/ 2489760 w 248940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1568" h="592">
                <a:moveTo>
                  <a:pt x="1568" y="59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22"/>
          <p:cNvSpPr/>
          <p:nvPr/>
        </p:nvSpPr>
        <p:spPr>
          <a:xfrm>
            <a:off x="6188040" y="208764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468360" y="1484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пересек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543564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2771640" y="530064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3995640" y="3645000"/>
            <a:ext cx="4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49"/>
          <p:cNvSpPr/>
          <p:nvPr/>
        </p:nvSpPr>
        <p:spPr>
          <a:xfrm flipH="1">
            <a:off x="1476360" y="3716280"/>
            <a:ext cx="2736720" cy="577800"/>
          </a:xfrm>
          <a:custGeom>
            <a:avLst/>
            <a:gdLst>
              <a:gd name="textAreaLeft" fmla="*/ 360 w 2736720"/>
              <a:gd name="textAreaRight" fmla="*/ 2737440 w 27367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776" h="2112">
                <a:moveTo>
                  <a:pt x="0" y="0"/>
                </a:moveTo>
                <a:lnTo>
                  <a:pt x="776" y="21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52"/>
          <p:cNvSpPr/>
          <p:nvPr/>
        </p:nvSpPr>
        <p:spPr>
          <a:xfrm rot="2386200">
            <a:off x="1547640" y="4941720"/>
            <a:ext cx="2160720" cy="72072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480" h="720">
                <a:moveTo>
                  <a:pt x="0" y="720"/>
                </a:moveTo>
                <a:lnTo>
                  <a:pt x="14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403280" y="4869000"/>
            <a:ext cx="2376720" cy="647640"/>
          </a:xfrm>
          <a:custGeom>
            <a:avLst/>
            <a:gdLst>
              <a:gd name="textAreaLeft" fmla="*/ 360 w 2376720"/>
              <a:gd name="textAreaRight" fmla="*/ 2377440 w 237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776" h="2112">
                <a:moveTo>
                  <a:pt x="0" y="0"/>
                </a:moveTo>
                <a:lnTo>
                  <a:pt x="776" y="21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724280"/>
            <a:ext cx="865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Arial"/>
              </a:rPr>
              <a:t>b</a:t>
            </a:r>
            <a:r>
              <a:rPr b="1" i="1" lang="ru-RU" sz="4400" spc="-1" strike="noStrike" baseline="-25000">
                <a:solidFill>
                  <a:srgbClr val="0000ff"/>
                </a:solidFill>
                <a:latin typeface="Times New Roman"/>
                <a:ea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4" descr=""/>
          <p:cNvPicPr/>
          <p:nvPr/>
        </p:nvPicPr>
        <p:blipFill>
          <a:blip r:embed="rId3"/>
          <a:stretch/>
        </p:blipFill>
        <p:spPr>
          <a:xfrm>
            <a:off x="684360" y="5734080"/>
            <a:ext cx="457200" cy="419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916360" y="5084640"/>
                <a:ext cx="252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732720" y="1989000"/>
                <a:ext cx="252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79280" y="1341360"/>
            <a:ext cx="86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двумя пересекающимися прямы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ывается наименьший из углов, образованных при пересечении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скрещивающимися пря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ывается угол между пересекающимися прямыми, соответственно параллельными 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ещиваю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рямые называю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ерпендикулярн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угол между ними равен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ол между параллельными прямы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читается равным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27640" y="18900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гол между пря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780000" y="981000"/>
            <a:ext cx="273672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ЕГ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2060640"/>
            <a:ext cx="48974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Задача С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640" y="4005360"/>
            <a:ext cx="74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Различные подходы 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решени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630864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СОШ №11 г. Пушки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хралиева С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250920" y="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0" y="40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Трапеция  АВС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 (AD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и ВС – основания) и  треугольник АЕ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лежат в  разных  плоскостях. МР – средняя линия ∆АЕ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 Чему равен угол между прямыми МР и АВ, если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С = 110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°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 rot="10800000">
            <a:off x="1258920" y="2204280"/>
            <a:ext cx="4535280" cy="1584360"/>
          </a:xfrm>
          <a:custGeom>
            <a:avLst/>
            <a:gdLst>
              <a:gd name="textAreaLeft" fmla="*/ 944640 w 4535280"/>
              <a:gd name="textAreaRight" fmla="*/ 3590640 w 4535280"/>
              <a:gd name="textAreaTop" fmla="*/ 330120 h 1584360"/>
              <a:gd name="textAreaBottom" fmla="*/ 12542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c9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5"/>
          <p:cNvSpPr/>
          <p:nvPr/>
        </p:nvSpPr>
        <p:spPr>
          <a:xfrm>
            <a:off x="1258920" y="3789360"/>
            <a:ext cx="7070760" cy="1165320"/>
          </a:xfrm>
          <a:custGeom>
            <a:avLst/>
            <a:gdLst/>
            <a:ahLst/>
            <a:rect l="l" t="t" r="r" b="b"/>
            <a:pathLst>
              <a:path w="4454" h="734">
                <a:moveTo>
                  <a:pt x="0" y="0"/>
                </a:moveTo>
                <a:lnTo>
                  <a:pt x="4454" y="734"/>
                </a:lnTo>
                <a:lnTo>
                  <a:pt x="2857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d9d9"/>
              </a:gs>
              <a:gs pos="100000">
                <a:srgbClr val="ffffff"/>
              </a:gs>
            </a:gsLst>
            <a:lin ang="189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75564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284720" y="162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234000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5724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824400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4427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694836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4642920" y="4292640"/>
            <a:ext cx="230508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 flipH="1">
            <a:off x="1258560" y="2205000"/>
            <a:ext cx="115236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1258920" y="3789360"/>
            <a:ext cx="45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1619280" y="3357720"/>
            <a:ext cx="358920" cy="431640"/>
          </a:xfrm>
          <a:custGeom>
            <a:avLst/>
            <a:gdLst>
              <a:gd name="textAreaLeft" fmla="*/ 0 w 358920"/>
              <a:gd name="textAreaRight" fmla="*/ 359280 w 35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64" h="363">
                <a:moveTo>
                  <a:pt x="0" y="0"/>
                </a:moveTo>
                <a:cubicBezTo>
                  <a:pt x="94" y="38"/>
                  <a:pt x="188" y="77"/>
                  <a:pt x="226" y="137"/>
                </a:cubicBezTo>
                <a:cubicBezTo>
                  <a:pt x="264" y="197"/>
                  <a:pt x="245" y="280"/>
                  <a:pt x="226" y="3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8"/>
          <p:cNvSpPr/>
          <p:nvPr/>
        </p:nvSpPr>
        <p:spPr>
          <a:xfrm>
            <a:off x="7164360" y="256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Ответ: 70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8514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сли прямая лежит в одной из двух перпендикулярных плоскостей, то угол между прямой и плоскостью равен углу между этой прямой и линией пересечения плос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58382E-006 L -0.18125 -0.08393 E">
                                      <p:cBhvr>
                                        <p:cTn id="319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 между прямым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(координатный мет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6FCC-25CC-424A-8018-CD7AA6C70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3419640" y="2781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3708360" y="62064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  <a:ea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49"/>
          <p:cNvSpPr/>
          <p:nvPr/>
        </p:nvSpPr>
        <p:spPr>
          <a:xfrm flipH="1">
            <a:off x="1476360" y="1197000"/>
            <a:ext cx="2736720" cy="577800"/>
          </a:xfrm>
          <a:custGeom>
            <a:avLst/>
            <a:gdLst>
              <a:gd name="textAreaLeft" fmla="*/ 360 w 2736720"/>
              <a:gd name="textAreaRight" fmla="*/ 2737440 w 27367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776" h="2112">
                <a:moveTo>
                  <a:pt x="0" y="0"/>
                </a:moveTo>
                <a:lnTo>
                  <a:pt x="776" y="21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52"/>
          <p:cNvSpPr/>
          <p:nvPr/>
        </p:nvSpPr>
        <p:spPr>
          <a:xfrm rot="2386200">
            <a:off x="1908000" y="2205000"/>
            <a:ext cx="2160720" cy="72072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480" h="720">
                <a:moveTo>
                  <a:pt x="0" y="720"/>
                </a:moveTo>
                <a:lnTo>
                  <a:pt x="14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908000" y="1341000"/>
            <a:ext cx="1582920" cy="360360"/>
          </a:xfrm>
          <a:prstGeom prst="line">
            <a:avLst/>
          </a:prstGeom>
          <a:ln w="38160">
            <a:solidFill>
              <a:srgbClr val="ff66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19280" y="112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059280" y="83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6836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59280" y="220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2276640"/>
            <a:ext cx="1151280" cy="431640"/>
          </a:xfrm>
          <a:prstGeom prst="line">
            <a:avLst/>
          </a:prstGeom>
          <a:ln w="38160">
            <a:solidFill>
              <a:srgbClr val="00ffff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148428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48360" y="9079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 ре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03640" y="2349360"/>
            <a:ext cx="36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03640" y="2060640"/>
            <a:ext cx="41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807080" y="2708280"/>
                <a:ext cx="2338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932360" y="3573360"/>
                <a:ext cx="2303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916360" y="4495680"/>
                <a:ext cx="446400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acc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16360" y="4508640"/>
                <a:ext cx="446400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acc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475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ff3300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Задач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В правильной четырехугольной пирамиде SABCD, все ребра которой равны 1, отмечены точки E и F — середины сторон SB и SC соответственно. Найдите угол между прямыми AE и 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88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 между прямым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координат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11" descr="Четырехугольная пирамида"/>
          <p:cNvPicPr/>
          <p:nvPr/>
        </p:nvPicPr>
        <p:blipFill>
          <a:blip r:embed="rId1"/>
          <a:stretch/>
        </p:blipFill>
        <p:spPr>
          <a:xfrm>
            <a:off x="179280" y="184464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743280" y="2347920"/>
            <a:ext cx="54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ведем прямоугольную систему координат: начало в точке A, оси x и y направим вдоль AB и AD соответственно, а ось z направим вертикально вверх. Единичный отрезок равен AB = 1. Точки E и F — середины отрезков SB и SC соответственно, поэтому их координаты находятся как среднее арифметическое концов. Выпишем координаты интересующих нас точек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3685320"/>
            <a:ext cx="55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440" y="4373640"/>
            <a:ext cx="9144000" cy="360"/>
          </a:xfrm>
          <a:prstGeom prst="rect">
            <a:avLst/>
          </a:prstGeom>
          <a:solidFill>
            <a:srgbClr val="eef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4365720"/>
            <a:ext cx="266544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87280" y="299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50920" y="2060640"/>
            <a:ext cx="0" cy="2233440"/>
          </a:xfrm>
          <a:prstGeom prst="line">
            <a:avLst/>
          </a:prstGeom>
          <a:ln w="2844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00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2060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50560" y="3141720"/>
            <a:ext cx="1081080" cy="115236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292720" y="170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Решение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88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 между прямым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координат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11" descr="Четырехугольная пирамида"/>
          <p:cNvPicPr/>
          <p:nvPr/>
        </p:nvPicPr>
        <p:blipFill>
          <a:blip r:embed="rId1"/>
          <a:stretch/>
        </p:blipFill>
        <p:spPr>
          <a:xfrm>
            <a:off x="179280" y="1557360"/>
            <a:ext cx="3097440" cy="25988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3564000" y="3685320"/>
            <a:ext cx="55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2" descr="Координаты точек E и F"/>
          <p:cNvPicPr/>
          <p:nvPr/>
        </p:nvPicPr>
        <p:blipFill>
          <a:blip r:embed="rId2"/>
          <a:stretch/>
        </p:blipFill>
        <p:spPr>
          <a:xfrm>
            <a:off x="3564000" y="1341360"/>
            <a:ext cx="4890960" cy="8082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278960" y="547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 = (0; 0; 0); B = (1; 0; 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0440" y="4373640"/>
            <a:ext cx="9144000" cy="360"/>
          </a:xfrm>
          <a:prstGeom prst="rect">
            <a:avLst/>
          </a:prstGeom>
          <a:solidFill>
            <a:srgbClr val="eef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Рисунок 14" descr="Косинус четвертого угла между векторами"/>
          <p:cNvPicPr/>
          <p:nvPr/>
        </p:nvPicPr>
        <p:blipFill>
          <a:blip r:embed="rId3"/>
          <a:stretch/>
        </p:blipFill>
        <p:spPr>
          <a:xfrm>
            <a:off x="2771640" y="4437000"/>
            <a:ext cx="6089760" cy="15051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6368400" y="623628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твет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rccos (1/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3860640"/>
            <a:ext cx="266544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32000" y="256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79280" y="1628280"/>
            <a:ext cx="0" cy="2233800"/>
          </a:xfrm>
          <a:prstGeom prst="line">
            <a:avLst/>
          </a:prstGeom>
          <a:ln w="2844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4328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9280" y="1773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50560" y="2708280"/>
            <a:ext cx="1081080" cy="115236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79280" y="4292640"/>
                <a:ext cx="2340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179280" y="5445000"/>
                <a:ext cx="2376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4140360" y="2275560"/>
            <a:ext cx="47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я точки, найдем координаты направляющих векторов AE и B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08360" y="3067560"/>
            <a:ext cx="54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ординаты вектора AE совпадают с координатами точки E, т.к.точка A — начало координат. Найдём косинус уг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4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 между прямым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векторный мет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4174-C00F-4F8F-A7D0-B25419EA3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49"/>
          <p:cNvSpPr/>
          <p:nvPr/>
        </p:nvSpPr>
        <p:spPr>
          <a:xfrm flipH="1">
            <a:off x="1476360" y="1197000"/>
            <a:ext cx="2736720" cy="577800"/>
          </a:xfrm>
          <a:custGeom>
            <a:avLst/>
            <a:gdLst>
              <a:gd name="textAreaLeft" fmla="*/ 360 w 2736720"/>
              <a:gd name="textAreaRight" fmla="*/ 2737440 w 27367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776" h="2112">
                <a:moveTo>
                  <a:pt x="0" y="0"/>
                </a:moveTo>
                <a:lnTo>
                  <a:pt x="776" y="211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"/>
          <p:cNvSpPr/>
          <p:nvPr/>
        </p:nvSpPr>
        <p:spPr>
          <a:xfrm rot="2386200">
            <a:off x="1908000" y="2205000"/>
            <a:ext cx="2160720" cy="72072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480" h="720">
                <a:moveTo>
                  <a:pt x="0" y="720"/>
                </a:moveTo>
                <a:lnTo>
                  <a:pt x="14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908000" y="1341000"/>
            <a:ext cx="1582920" cy="360360"/>
          </a:xfrm>
          <a:prstGeom prst="line">
            <a:avLst/>
          </a:prstGeom>
          <a:ln w="38160">
            <a:solidFill>
              <a:srgbClr val="ff66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68360" y="2276640"/>
            <a:ext cx="1151280" cy="431640"/>
          </a:xfrm>
          <a:prstGeom prst="line">
            <a:avLst/>
          </a:prstGeom>
          <a:ln w="38160">
            <a:solidFill>
              <a:srgbClr val="00ffff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03640" y="2349360"/>
            <a:ext cx="36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556000" y="907920"/>
                <a:ext cx="4237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700360" y="1916280"/>
                <a:ext cx="4744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233960" y="692280"/>
                <a:ext cx="4910040" cy="28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332000" y="1052640"/>
                <a:ext cx="3999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763640" y="2205000"/>
                <a:ext cx="487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 flipV="1">
            <a:off x="8244000" y="2565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8360" y="2565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4508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ол между прямыми  считается не превосходящим 9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а косинус такого угла полож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0.30833 0.07777 E">
                                      <p:cBhvr>
                                        <p:cTn id="420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44444E-006 L 0.47501 0.06666 E">
                                      <p:cBhvr>
                                        <p:cTn id="423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49560" y="4284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гол между прямым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екторный метод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544560" cy="31035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0" y="47628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а №3диагн. р.2,</a:t>
            </a: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В правильной шестиугольной призме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A…F</a:t>
            </a:r>
            <a:r>
              <a:rPr b="0" i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, все рёбра которой равны 1, найдите косинус угла между прямыми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AB</a:t>
            </a:r>
            <a:r>
              <a:rPr b="0" i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BD</a:t>
            </a:r>
            <a:r>
              <a:rPr b="0" i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900000" y="3141360"/>
            <a:ext cx="0" cy="165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00000" y="479736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611280" y="4292640"/>
            <a:ext cx="288720" cy="50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971640" y="3645000"/>
                <a:ext cx="269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619280" y="4365720"/>
                <a:ext cx="270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68360" y="4437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351320" y="162864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ше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ведём базисные век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437000" y="2060640"/>
                <a:ext cx="4707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4067280" y="2637000"/>
                <a:ext cx="5076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4211640" y="3789360"/>
                <a:ext cx="410544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250920" y="4941720"/>
                <a:ext cx="5041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661000"/>
                <a:ext cx="4680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003640" y="5486400"/>
                <a:ext cx="41403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21D5-B948-4A84-B731-8D1A04EEA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324000" y="3445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Теорема о трех перпендикуляра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111560" cy="3730680"/>
          </a:xfrm>
          <a:prstGeom prst="rect">
            <a:avLst/>
          </a:prstGeom>
          <a:ln w="0">
            <a:noFill/>
          </a:ln>
        </p:spPr>
      </p:pic>
      <p:sp>
        <p:nvSpPr>
          <p:cNvPr id="594" name="TextBox 5"/>
          <p:cNvSpPr/>
          <p:nvPr/>
        </p:nvSpPr>
        <p:spPr>
          <a:xfrm>
            <a:off x="209520" y="2133720"/>
            <a:ext cx="417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сли прямая, проведенная на плоскости через основание наклонной, перпендикулярна ее проекции, то она перпендикулярна накло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 обратно: Если прямая на плоскости перпендикулярна наклонной, то она перпендикулярна и проекции накло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18900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Угол между прямыми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поэтапно-вычислитель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9640" y="620640"/>
            <a:ext cx="8425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а №1диагн. р.2,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В кубе</a:t>
            </a:r>
            <a:r>
              <a:rPr b="0" i="1" lang="ru-RU" sz="2000" spc="-1" strike="noStrike" u="sng">
                <a:solidFill>
                  <a:srgbClr val="660033"/>
                </a:solidFill>
                <a:uFillTx/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A…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660033"/>
                </a:solidFill>
                <a:latin typeface="Arial"/>
              </a:rPr>
              <a:t>1 </a:t>
            </a:r>
            <a:r>
              <a:rPr b="0" i="1" lang="ru-RU" sz="2000" spc="-1" strike="noStrike" baseline="-25000">
                <a:solidFill>
                  <a:srgbClr val="6600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найдите угол между прямыми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AB </a:t>
            </a:r>
            <a:r>
              <a:rPr b="0" i="1" lang="en-US" sz="20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 и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BD</a:t>
            </a:r>
            <a:r>
              <a:rPr b="0" i="1" lang="en-US" sz="20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4103640" cy="35542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932360" y="1341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92720" y="1844640"/>
            <a:ext cx="38512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– ортогональная прое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лоскость ВА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116000" y="3212640"/>
            <a:ext cx="2232000" cy="230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2268360" y="2491920"/>
            <a:ext cx="1151280" cy="2954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5219640" y="3357720"/>
                <a:ext cx="3559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651640" y="407664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теореме о трёх перпендикуляр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48360" y="4941720"/>
                <a:ext cx="3714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5651640" y="602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reeform 2"/>
          <p:cNvSpPr/>
          <p:nvPr/>
        </p:nvSpPr>
        <p:spPr>
          <a:xfrm>
            <a:off x="2411280" y="3139920"/>
            <a:ext cx="432000" cy="2953080"/>
          </a:xfrm>
          <a:custGeom>
            <a:avLst/>
            <a:gdLst>
              <a:gd name="textAreaLeft" fmla="*/ 0 w 432000"/>
              <a:gd name="textAreaRight" fmla="*/ 432360 w 432000"/>
              <a:gd name="textAreaTop" fmla="*/ 0 h 2953080"/>
              <a:gd name="textAreaBottom" fmla="*/ 2953440 h 2953080"/>
            </a:gdLst>
            <a:ahLst/>
            <a:rect l="textAreaLeft" t="textAreaTop" r="textAreaRight" b="textAreaBottom"/>
            <a:pathLst>
              <a:path w="272" h="1860">
                <a:moveTo>
                  <a:pt x="0" y="1860"/>
                </a:moveTo>
                <a:lnTo>
                  <a:pt x="272" y="0"/>
                </a:lnTo>
                <a:lnTo>
                  <a:pt x="272" y="1588"/>
                </a:lnTo>
                <a:lnTo>
                  <a:pt x="0" y="186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3"/>
          <p:cNvSpPr/>
          <p:nvPr/>
        </p:nvSpPr>
        <p:spPr>
          <a:xfrm>
            <a:off x="2411280" y="3573360"/>
            <a:ext cx="1152720" cy="252108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726" h="1588">
                <a:moveTo>
                  <a:pt x="0" y="1588"/>
                </a:moveTo>
                <a:lnTo>
                  <a:pt x="726" y="0"/>
                </a:lnTo>
                <a:lnTo>
                  <a:pt x="726" y="1588"/>
                </a:lnTo>
                <a:lnTo>
                  <a:pt x="0" y="1588"/>
                </a:lnTo>
                <a:close/>
              </a:path>
            </a:pathLst>
          </a:custGeom>
          <a:blipFill rotWithShape="0">
            <a:blip r:embed="rId2">
              <a:alphaModFix amt="19000"/>
            </a:blip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258920" y="115920"/>
            <a:ext cx="66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" descr=""/>
          <p:cNvPicPr/>
          <p:nvPr/>
        </p:nvPicPr>
        <p:blipFill>
          <a:blip r:embed="rId3"/>
          <a:srcRect l="0" t="0" r="0" b="16932"/>
          <a:stretch/>
        </p:blipFill>
        <p:spPr>
          <a:xfrm>
            <a:off x="395280" y="836640"/>
            <a:ext cx="82090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7"/>
          <p:cNvGrpSpPr/>
          <p:nvPr/>
        </p:nvGrpSpPr>
        <p:grpSpPr>
          <a:xfrm>
            <a:off x="1692360" y="2276640"/>
            <a:ext cx="4824360" cy="4060080"/>
            <a:chOff x="1692360" y="2276640"/>
            <a:chExt cx="4824360" cy="4060080"/>
          </a:xfrm>
        </p:grpSpPr>
        <p:grpSp>
          <p:nvGrpSpPr>
            <p:cNvPr id="611" name="Group 8"/>
            <p:cNvGrpSpPr/>
            <p:nvPr/>
          </p:nvGrpSpPr>
          <p:grpSpPr>
            <a:xfrm>
              <a:off x="2411280" y="2708640"/>
              <a:ext cx="3384720" cy="3384360"/>
              <a:chOff x="2411280" y="2708640"/>
              <a:chExt cx="3384720" cy="3384360"/>
            </a:xfrm>
          </p:grpSpPr>
          <p:sp>
            <p:nvSpPr>
              <p:cNvPr id="612" name="AutoShape 9"/>
              <p:cNvSpPr/>
              <p:nvPr/>
            </p:nvSpPr>
            <p:spPr>
              <a:xfrm>
                <a:off x="2411280" y="2708640"/>
                <a:ext cx="3384720" cy="3384360"/>
              </a:xfrm>
              <a:prstGeom prst="cube">
                <a:avLst>
                  <a:gd name="adj" fmla="val 25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10"/>
              <p:cNvSpPr/>
              <p:nvPr/>
            </p:nvSpPr>
            <p:spPr>
              <a:xfrm>
                <a:off x="3276720" y="2708640"/>
                <a:ext cx="0" cy="25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11"/>
              <p:cNvSpPr/>
              <p:nvPr/>
            </p:nvSpPr>
            <p:spPr>
              <a:xfrm flipH="1">
                <a:off x="3276720" y="5227920"/>
                <a:ext cx="251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12"/>
              <p:cNvSpPr/>
              <p:nvPr/>
            </p:nvSpPr>
            <p:spPr>
              <a:xfrm flipV="1">
                <a:off x="2411280" y="5227560"/>
                <a:ext cx="865440" cy="86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Text Box 13"/>
            <p:cNvSpPr/>
            <p:nvPr/>
          </p:nvSpPr>
          <p:spPr>
            <a:xfrm>
              <a:off x="1763640" y="58042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5940360" y="4795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3419640" y="4653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5219640" y="5877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7"/>
            <p:cNvSpPr/>
            <p:nvPr/>
          </p:nvSpPr>
          <p:spPr>
            <a:xfrm>
              <a:off x="1692360" y="335628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8"/>
            <p:cNvSpPr/>
            <p:nvPr/>
          </p:nvSpPr>
          <p:spPr>
            <a:xfrm>
              <a:off x="5867280" y="2348280"/>
              <a:ext cx="64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2916360" y="2276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20"/>
            <p:cNvSpPr/>
            <p:nvPr/>
          </p:nvSpPr>
          <p:spPr>
            <a:xfrm>
              <a:off x="4932360" y="34275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Line 21"/>
          <p:cNvSpPr/>
          <p:nvPr/>
        </p:nvSpPr>
        <p:spPr>
          <a:xfrm flipV="1">
            <a:off x="2411280" y="3139560"/>
            <a:ext cx="432000" cy="295308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2"/>
          <p:cNvSpPr/>
          <p:nvPr/>
        </p:nvSpPr>
        <p:spPr>
          <a:xfrm>
            <a:off x="241128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3"/>
          <p:cNvSpPr/>
          <p:nvPr/>
        </p:nvSpPr>
        <p:spPr>
          <a:xfrm flipV="1">
            <a:off x="3276720" y="2708280"/>
            <a:ext cx="1150920" cy="2519280"/>
          </a:xfrm>
          <a:prstGeom prst="line">
            <a:avLst/>
          </a:prstGeom>
          <a:ln w="381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457344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5"/>
          <p:cNvSpPr/>
          <p:nvPr/>
        </p:nvSpPr>
        <p:spPr>
          <a:xfrm flipV="1">
            <a:off x="2405160" y="3546000"/>
            <a:ext cx="1181160" cy="2521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6"/>
          <p:cNvSpPr/>
          <p:nvPr/>
        </p:nvSpPr>
        <p:spPr>
          <a:xfrm>
            <a:off x="2832120" y="3119400"/>
            <a:ext cx="727200" cy="4176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27"/>
          <p:cNvSpPr/>
          <p:nvPr/>
        </p:nvSpPr>
        <p:spPr>
          <a:xfrm>
            <a:off x="2556000" y="5132520"/>
            <a:ext cx="215640" cy="168120"/>
          </a:xfrm>
          <a:custGeom>
            <a:avLst/>
            <a:gdLst>
              <a:gd name="textAreaLeft" fmla="*/ 0 w 215640"/>
              <a:gd name="textAreaRight" fmla="*/ 216000 w 2156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36" h="106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5" y="68"/>
                  <a:pt x="136" y="10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8"/>
          <p:cNvSpPr/>
          <p:nvPr/>
        </p:nvSpPr>
        <p:spPr>
          <a:xfrm>
            <a:off x="3276720" y="2708280"/>
            <a:ext cx="165564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349452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0"/>
          <p:cNvSpPr/>
          <p:nvPr/>
        </p:nvSpPr>
        <p:spPr>
          <a:xfrm>
            <a:off x="63007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31"/>
              <p:cNvSpPr txBox="1"/>
              <p:nvPr/>
            </p:nvSpPr>
            <p:spPr>
              <a:xfrm>
                <a:off x="4284720" y="2779560"/>
                <a:ext cx="552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5" name="Line 32"/>
          <p:cNvSpPr/>
          <p:nvPr/>
        </p:nvSpPr>
        <p:spPr>
          <a:xfrm>
            <a:off x="3851280" y="25639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3"/>
          <p:cNvSpPr/>
          <p:nvPr/>
        </p:nvSpPr>
        <p:spPr>
          <a:xfrm>
            <a:off x="5076720" y="25639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4"/>
          <p:cNvSpPr/>
          <p:nvPr/>
        </p:nvSpPr>
        <p:spPr>
          <a:xfrm>
            <a:off x="2916360" y="27795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5"/>
          <p:cNvSpPr/>
          <p:nvPr/>
        </p:nvSpPr>
        <p:spPr>
          <a:xfrm>
            <a:off x="2484360" y="32115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6"/>
          <p:cNvSpPr/>
          <p:nvPr/>
        </p:nvSpPr>
        <p:spPr>
          <a:xfrm>
            <a:off x="2987640" y="335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7"/>
          <p:cNvSpPr/>
          <p:nvPr/>
        </p:nvSpPr>
        <p:spPr>
          <a:xfrm>
            <a:off x="4284720" y="34275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38"/>
              <p:cNvSpPr txBox="1"/>
              <p:nvPr/>
            </p:nvSpPr>
            <p:spPr>
              <a:xfrm>
                <a:off x="3348000" y="2852640"/>
                <a:ext cx="4190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2" name="Text Box 39"/>
          <p:cNvSpPr/>
          <p:nvPr/>
        </p:nvSpPr>
        <p:spPr>
          <a:xfrm>
            <a:off x="3419640" y="6202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0"/>
          <p:cNvSpPr/>
          <p:nvPr/>
        </p:nvSpPr>
        <p:spPr>
          <a:xfrm>
            <a:off x="2916360" y="558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41"/>
              <p:cNvSpPr txBox="1"/>
              <p:nvPr/>
            </p:nvSpPr>
            <p:spPr>
              <a:xfrm>
                <a:off x="2711520" y="6019920"/>
                <a:ext cx="323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42"/>
              <p:cNvSpPr txBox="1"/>
              <p:nvPr/>
            </p:nvSpPr>
            <p:spPr>
              <a:xfrm>
                <a:off x="3708360" y="4292640"/>
                <a:ext cx="193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43"/>
              <p:cNvSpPr txBox="1"/>
              <p:nvPr/>
            </p:nvSpPr>
            <p:spPr>
              <a:xfrm>
                <a:off x="2700360" y="3789360"/>
                <a:ext cx="4744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44"/>
              <p:cNvSpPr txBox="1"/>
              <p:nvPr/>
            </p:nvSpPr>
            <p:spPr>
              <a:xfrm>
                <a:off x="2843280" y="4724280"/>
                <a:ext cx="474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70560" y="189000"/>
            <a:ext cx="90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гол между прямыми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(поэтапно-вычислительный мет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826920" y="189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08000" y="3573360"/>
            <a:ext cx="5256360" cy="27450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52280" y="685800"/>
            <a:ext cx="8991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м межд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клонной и плоскостью называется угол между этой наклонной и ее ортогональной проекцией на данную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читают также, что прямая, перпендикулярная плоскости, образует с этой плоскостью прямой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16000" y="1052640"/>
          <a:ext cx="7139160" cy="5283000"/>
        </p:xfrm>
        <a:graphic>
          <a:graphicData uri="http://schemas.openxmlformats.org/drawingml/2006/table">
            <a:tbl>
              <a:tblPr/>
              <a:tblGrid>
                <a:gridCol w="5832720"/>
                <a:gridCol w="1306440"/>
              </a:tblGrid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крите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сновано получен верный отв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содержит обоснованный переход к планиметрической задаче, но получен неверный ответ или решение не закончено, или при правильном ответе решение не  достаточно обоснова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не соответствует ни одному из критериев, перечисленных выш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692360" y="40464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терии оценивания задания С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4"/>
          <p:cNvSpPr/>
          <p:nvPr/>
        </p:nvSpPr>
        <p:spPr>
          <a:xfrm>
            <a:off x="395280" y="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Угол между прям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5"/>
          <p:cNvSpPr/>
          <p:nvPr/>
        </p:nvSpPr>
        <p:spPr>
          <a:xfrm>
            <a:off x="395280" y="1557360"/>
            <a:ext cx="5400720" cy="1942920"/>
          </a:xfrm>
          <a:prstGeom prst="cube">
            <a:avLst>
              <a:gd name="adj" fmla="val 94407"/>
            </a:avLst>
          </a:prstGeom>
          <a:gradFill rotWithShape="0">
            <a:gsLst>
              <a:gs pos="0">
                <a:srgbClr val="1cc8f0">
                  <a:alpha val="21176"/>
                </a:srgbClr>
              </a:gs>
              <a:gs pos="100000">
                <a:srgbClr val="49d3f3">
                  <a:alpha val="2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26"/>
              <p:cNvSpPr txBox="1"/>
              <p:nvPr/>
            </p:nvSpPr>
            <p:spPr>
              <a:xfrm>
                <a:off x="684360" y="2924280"/>
                <a:ext cx="581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Group 30"/>
          <p:cNvGrpSpPr/>
          <p:nvPr/>
        </p:nvGrpSpPr>
        <p:grpSpPr>
          <a:xfrm>
            <a:off x="296280" y="1097640"/>
            <a:ext cx="5310720" cy="2637360"/>
            <a:chOff x="296280" y="1097640"/>
            <a:chExt cx="5310720" cy="2637360"/>
          </a:xfrm>
        </p:grpSpPr>
        <p:sp>
          <p:nvSpPr>
            <p:cNvPr id="656" name="Line 27"/>
            <p:cNvSpPr/>
            <p:nvPr/>
          </p:nvSpPr>
          <p:spPr>
            <a:xfrm flipH="1">
              <a:off x="2667240" y="1097640"/>
              <a:ext cx="2939760" cy="1459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8"/>
            <p:cNvSpPr/>
            <p:nvPr/>
          </p:nvSpPr>
          <p:spPr>
            <a:xfrm flipH="1">
              <a:off x="1339560" y="2557080"/>
              <a:ext cx="1327680" cy="65916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9"/>
            <p:cNvSpPr/>
            <p:nvPr/>
          </p:nvSpPr>
          <p:spPr>
            <a:xfrm flipH="1">
              <a:off x="296280" y="3216600"/>
              <a:ext cx="1042920" cy="5184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Oval 31"/>
          <p:cNvSpPr/>
          <p:nvPr/>
        </p:nvSpPr>
        <p:spPr>
          <a:xfrm>
            <a:off x="1403280" y="2708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5"/>
          <p:cNvSpPr/>
          <p:nvPr/>
        </p:nvSpPr>
        <p:spPr>
          <a:xfrm flipV="1">
            <a:off x="1763640" y="2205000"/>
            <a:ext cx="4319640" cy="432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36"/>
          <p:cNvSpPr/>
          <p:nvPr/>
        </p:nvSpPr>
        <p:spPr>
          <a:xfrm>
            <a:off x="2627280" y="1125360"/>
            <a:ext cx="3456000" cy="1440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177" h="1360">
                <a:moveTo>
                  <a:pt x="1859" y="0"/>
                </a:moveTo>
                <a:lnTo>
                  <a:pt x="0" y="1360"/>
                </a:lnTo>
                <a:lnTo>
                  <a:pt x="2177" y="1043"/>
                </a:lnTo>
              </a:path>
            </a:pathLst>
          </a:custGeom>
          <a:gradFill rotWithShape="0">
            <a:gsLst>
              <a:gs pos="0">
                <a:srgbClr val="f017f5">
                  <a:alpha val="29019"/>
                </a:srgbClr>
              </a:gs>
              <a:gs pos="100000">
                <a:srgbClr val="f459f8">
                  <a:alpha val="2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rc 39"/>
          <p:cNvSpPr/>
          <p:nvPr/>
        </p:nvSpPr>
        <p:spPr>
          <a:xfrm rot="1174800">
            <a:off x="3058920" y="2349000"/>
            <a:ext cx="171360" cy="173160"/>
          </a:xfrm>
          <a:custGeom>
            <a:avLst/>
            <a:gdLst>
              <a:gd name="textAreaLeft" fmla="*/ 0 w 171360"/>
              <a:gd name="textAreaRight" fmla="*/ 171720 w 17136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fill="none" w="21056" h="21427">
                <a:moveTo>
                  <a:pt x="2728" y="0"/>
                </a:moveTo>
                <a:cubicBezTo>
                  <a:pt x="11716" y="1144"/>
                  <a:pt x="19034" y="7776"/>
                  <a:pt x="21055" y="16609"/>
                </a:cubicBezTo>
              </a:path>
              <a:path stroke="0" w="21056" h="21427">
                <a:moveTo>
                  <a:pt x="2728" y="0"/>
                </a:moveTo>
                <a:cubicBezTo>
                  <a:pt x="11716" y="1144"/>
                  <a:pt x="19034" y="7776"/>
                  <a:pt x="21055" y="16609"/>
                </a:cubicBezTo>
                <a:lnTo>
                  <a:pt x="0" y="21427"/>
                </a:lnTo>
                <a:lnTo>
                  <a:pt x="2728" y="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0"/>
              <p:cNvSpPr txBox="1"/>
              <p:nvPr/>
            </p:nvSpPr>
            <p:spPr>
              <a:xfrm>
                <a:off x="3419640" y="1989000"/>
                <a:ext cx="434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 flipV="1">
            <a:off x="2700360" y="177336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34"/>
          <p:cNvSpPr/>
          <p:nvPr/>
        </p:nvSpPr>
        <p:spPr>
          <a:xfrm>
            <a:off x="3995640" y="2637000"/>
            <a:ext cx="142920" cy="1425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268360" y="1773360"/>
                <a:ext cx="3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641760" y="1341360"/>
                <a:ext cx="485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4788000" y="836640"/>
                <a:ext cx="49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2700360" y="3068640"/>
            <a:ext cx="142920" cy="142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924360" y="1341000"/>
            <a:ext cx="1224000" cy="574920"/>
          </a:xfrm>
          <a:prstGeom prst="line">
            <a:avLst/>
          </a:prstGeom>
          <a:ln w="38160">
            <a:solidFill>
              <a:srgbClr val="00008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116000" y="2276640"/>
                <a:ext cx="4399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843280" y="2924280"/>
                <a:ext cx="4428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4140360" y="2565360"/>
                <a:ext cx="4078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50920" y="3909960"/>
                <a:ext cx="64087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852200" y="0"/>
            <a:ext cx="506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(поэтапно-вычислитель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0" y="1714680"/>
            <a:ext cx="9144000" cy="5143320"/>
            <a:chOff x="0" y="1714680"/>
            <a:chExt cx="9144000" cy="5143320"/>
          </a:xfrm>
        </p:grpSpPr>
        <p:sp>
          <p:nvSpPr>
            <p:cNvPr id="677" name=""/>
            <p:cNvSpPr/>
            <p:nvPr/>
          </p:nvSpPr>
          <p:spPr>
            <a:xfrm>
              <a:off x="3886200" y="1714680"/>
              <a:ext cx="5257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ересекает ее по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го треугольника рав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9480" y="62103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9" name=""/>
            <p:cNvGraphicFramePr/>
            <p:nvPr/>
          </p:nvGraphicFramePr>
          <p:xfrm>
            <a:off x="6172200" y="5372280"/>
            <a:ext cx="1574640" cy="79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2200" y="5372280"/>
                      <a:ext cx="15746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1" name=""/>
            <p:cNvGraphicFramePr/>
            <p:nvPr/>
          </p:nvGraphicFramePr>
          <p:xfrm>
            <a:off x="6934320" y="3162240"/>
            <a:ext cx="4064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34320" y="316224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3" name=""/>
            <p:cNvGraphicFramePr/>
            <p:nvPr/>
          </p:nvGraphicFramePr>
          <p:xfrm>
            <a:off x="7924680" y="3467160"/>
            <a:ext cx="762120" cy="80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24680" y="3467160"/>
                      <a:ext cx="762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5" name=""/>
            <p:cNvSpPr/>
            <p:nvPr/>
          </p:nvSpPr>
          <p:spPr>
            <a:xfrm>
              <a:off x="3962520" y="4152960"/>
              <a:ext cx="5181480" cy="20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5715000" y="4533840"/>
            <a:ext cx="419040" cy="38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4533840"/>
                      <a:ext cx="4190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315200" y="4457880"/>
            <a:ext cx="76212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4457880"/>
                      <a:ext cx="762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1600200" y="6058080"/>
            <a:ext cx="1574640" cy="79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00200" y="6058080"/>
                      <a:ext cx="15746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92" name="" descr=""/>
            <p:cNvPicPr/>
            <p:nvPr/>
          </p:nvPicPr>
          <p:blipFill>
            <a:blip r:embed="rId13"/>
            <a:stretch/>
          </p:blipFill>
          <p:spPr>
            <a:xfrm>
              <a:off x="0" y="1714680"/>
              <a:ext cx="3943440" cy="42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"/>
          <p:cNvSpPr/>
          <p:nvPr/>
        </p:nvSpPr>
        <p:spPr>
          <a:xfrm>
            <a:off x="250920" y="907920"/>
            <a:ext cx="889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В правильной 6-й призме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1, ребра которой равны 1, найдите угол между прямой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AB1 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и плоскостью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ADE</a:t>
            </a: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координатно-вектор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836640"/>
            <a:ext cx="874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40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Задача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 правильной треугольной пирами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ковое ребро равн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3, а сторона основания равна 2√2. Найти угол между боковым ребр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и плоскостью боковой гран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B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Реш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местим пирамиду в прямоугольную систему координат так, что точка О – центр треугольника, лежащего в основании( точка пересечения меди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3311640" cy="2735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H="1" flipV="1">
            <a:off x="1763280" y="2060280"/>
            <a:ext cx="71640" cy="2305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826920" y="4292640"/>
            <a:ext cx="2305080" cy="15552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4076640"/>
            <a:ext cx="1079640" cy="115272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332000" y="1989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79640" y="4941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771640" y="429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3564000" y="1916280"/>
                <a:ext cx="496872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</m:e>
                        </m:rad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6" name=""/>
          <p:cNvSpPr/>
          <p:nvPr/>
        </p:nvSpPr>
        <p:spPr>
          <a:xfrm>
            <a:off x="0" y="522936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плоск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задаётся в вид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0" y="5877000"/>
                <a:ext cx="5003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z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ординатынормал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5219640" y="4005360"/>
                <a:ext cx="3097440" cy="28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a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4859280" y="4149720"/>
            <a:ext cx="290520" cy="2376360"/>
          </a:xfrm>
          <a:custGeom>
            <a:avLst/>
            <a:gdLst>
              <a:gd name="textAreaLeft" fmla="*/ 185760 w 290520"/>
              <a:gd name="textAreaRight" fmla="*/ 290880 w 2905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координатно-вектор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95280" y="836640"/>
            <a:ext cx="874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40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Задача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 правильной треугольной пирами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ковое ребро равн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3, а сторона основания равна 2√2. Найти угол между боковым ребр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и плоскостью боковой гран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Реш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местим пирамиду в прямоугольную систему координат так, что точка О – центр треугольника, лежащего в основании( точка пересечения меди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3311640" cy="273528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 flipH="1" flipV="1">
            <a:off x="1763280" y="2060280"/>
            <a:ext cx="71640" cy="2305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6920" y="4220640"/>
            <a:ext cx="2305080" cy="2271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47640" y="4076640"/>
            <a:ext cx="1079640" cy="115272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32000" y="1989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79640" y="4941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771640" y="429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564000" y="1916280"/>
                <a:ext cx="496872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</m:e>
                        </m:rad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>
            <a:off x="0" y="522936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плоск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задаётся в вид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0" y="5877000"/>
                <a:ext cx="5003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z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ординатынормал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5219640" y="4005360"/>
                <a:ext cx="3097440" cy="28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a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4859280" y="4149720"/>
            <a:ext cx="290520" cy="2376360"/>
          </a:xfrm>
          <a:custGeom>
            <a:avLst/>
            <a:gdLst>
              <a:gd name="textAreaLeft" fmla="*/ 185760 w 290520"/>
              <a:gd name="textAreaRight" fmla="*/ 290880 w 2905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7000" y="0"/>
            <a:ext cx="91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координатно-вектор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28480" y="620640"/>
                <a:ext cx="380844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324000" y="620640"/>
            <a:ext cx="215640" cy="20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5796000" y="620640"/>
                <a:ext cx="15764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5508720" y="692280"/>
            <a:ext cx="215640" cy="20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06864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Уравнение плоскости принимае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4788000" y="2781360"/>
                <a:ext cx="43560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324000" y="3500280"/>
                <a:ext cx="3960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0" y="4221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ктор норм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340000" y="4149720"/>
                <a:ext cx="1800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4427640" y="4221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6240" y="3860640"/>
                <a:ext cx="2273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0" y="5013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ходим угол между данными век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4788000" y="4797360"/>
                <a:ext cx="4356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0" y="5805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н равен синусу угла наклона бокового реб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 плоскости гран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B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227640" y="5661000"/>
                <a:ext cx="20894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7000" y="0"/>
            <a:ext cx="91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координатно-вектор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528480" y="620640"/>
                <a:ext cx="380844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d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4" name=""/>
          <p:cNvSpPr/>
          <p:nvPr/>
        </p:nvSpPr>
        <p:spPr>
          <a:xfrm>
            <a:off x="324000" y="620640"/>
            <a:ext cx="215640" cy="20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5796000" y="620640"/>
                <a:ext cx="15764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/>
          <p:nvPr/>
        </p:nvSpPr>
        <p:spPr>
          <a:xfrm>
            <a:off x="5508720" y="692280"/>
            <a:ext cx="215640" cy="201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06864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Уравнение плоскости принимае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788000" y="2781360"/>
                <a:ext cx="43560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24000" y="3500280"/>
                <a:ext cx="3960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0" y="4221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ктор норм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340000" y="4149720"/>
                <a:ext cx="1800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4427640" y="4221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556240" y="3860640"/>
                <a:ext cx="2273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>
            <a:off x="0" y="5013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ходим угол между данными век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4788000" y="4797360"/>
                <a:ext cx="4356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>
            <a:off x="0" y="5805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н равен синусу угла наклона бокового реб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 плоскости гран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6227640" y="5661000"/>
                <a:ext cx="20894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4400" y="115920"/>
            <a:ext cx="91296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традиционный метод с применением форму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311640" cy="273528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763640" y="907920"/>
            <a:ext cx="1079640" cy="23050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476360" y="2708280"/>
            <a:ext cx="1727280" cy="649440"/>
          </a:xfrm>
          <a:prstGeom prst="line">
            <a:avLst/>
          </a:prstGeom>
          <a:ln w="2844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10920" y="907920"/>
            <a:ext cx="1152360" cy="2089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2997360"/>
            <a:ext cx="2303640" cy="217440"/>
          </a:xfrm>
          <a:prstGeom prst="line">
            <a:avLst/>
          </a:prstGeom>
          <a:ln w="2844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979640" y="1341360"/>
            <a:ext cx="71280" cy="1800360"/>
          </a:xfrm>
          <a:prstGeom prst="line">
            <a:avLst/>
          </a:prstGeom>
          <a:ln w="2844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87280" y="692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627280" y="314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763640" y="306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64000" y="836640"/>
            <a:ext cx="5580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Задача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 правильной треугольной пирами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BC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ковое ребро равно √3, а сторона основания равна 2√2. Найти угол между боковым ребр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и плоскостью боковой гран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51280" y="26370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Решение.</a:t>
            </a: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делаем некоторые дополнительные постро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635280" y="3357720"/>
                <a:ext cx="5154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T</m:t>
                        </m:r>
                        <m:r>
                          <m:t xml:space="preserve">)</m:t>
                        </m:r>
                        <m:r>
                          <m:t xml:space="preserve">⊥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27640" y="3789360"/>
                <a:ext cx="2916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DT</m:t>
                    </m:r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0" y="414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ведём А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лучим, что отрезок А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C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и проекцией отрез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 плоскос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BC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отрезо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4724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нахождения уг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важды запишем выражения для площади треугольни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0" y="5300640"/>
                <a:ext cx="3672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3995640" y="4941720"/>
                <a:ext cx="36720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79280" y="5952960"/>
                <a:ext cx="36007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6443640" y="5943600"/>
                <a:ext cx="2484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4400" y="115920"/>
            <a:ext cx="91296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 между прямой и плоск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(традиционный метод с применением форму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311640" cy="27352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1763640" y="907920"/>
            <a:ext cx="1079640" cy="23050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476360" y="2708280"/>
            <a:ext cx="1727280" cy="649440"/>
          </a:xfrm>
          <a:prstGeom prst="line">
            <a:avLst/>
          </a:prstGeom>
          <a:ln w="2844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610920" y="907920"/>
            <a:ext cx="1152360" cy="2089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9640" y="2997360"/>
            <a:ext cx="2303640" cy="217440"/>
          </a:xfrm>
          <a:prstGeom prst="line">
            <a:avLst/>
          </a:prstGeom>
          <a:ln w="2844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979640" y="1341360"/>
            <a:ext cx="71280" cy="1800360"/>
          </a:xfrm>
          <a:prstGeom prst="line">
            <a:avLst/>
          </a:prstGeom>
          <a:ln w="2844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187280" y="692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27280" y="314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63640" y="306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564000" y="836640"/>
            <a:ext cx="5580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Задача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 правильной треугольной пирами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BC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ковое ребро равно √3, а сторона основания равна 2√2. Найти угол между боковым ребр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и плоскостью боковой гран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708360" y="2637000"/>
            <a:ext cx="54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адачу можно решить по – другому, если замети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476360" y="4149720"/>
                <a:ext cx="73184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D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B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C:\Users\Таня\Pictures\ug1.jpg"/>
          <p:cNvPicPr/>
          <p:nvPr/>
        </p:nvPicPr>
        <p:blipFill>
          <a:blip r:embed="rId1"/>
          <a:stretch/>
        </p:blipFill>
        <p:spPr>
          <a:xfrm>
            <a:off x="1979640" y="981000"/>
            <a:ext cx="4608360" cy="3097440"/>
          </a:xfrm>
          <a:prstGeom prst="rect">
            <a:avLst/>
          </a:prstGeom>
          <a:ln w="0">
            <a:noFill/>
          </a:ln>
        </p:spPr>
      </p:pic>
      <p:sp>
        <p:nvSpPr>
          <p:cNvPr id="792" name="Прямоугольник 4"/>
          <p:cNvSpPr/>
          <p:nvPr/>
        </p:nvSpPr>
        <p:spPr>
          <a:xfrm>
            <a:off x="0" y="3844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Величина двугранного угла измеряется величиной соответствующего линей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Чтобы построить линейный угол двугранного угла, нужно взять на линии пересечения плоскостей произвольную точку, и в каждой плоскости провести из этой точки луч перпендикулярно линии пересечения плоскостей. Угол, образованный этими лучами и есть линейный угол двугранного уг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3"/>
              <p:cNvSpPr txBox="1"/>
              <p:nvPr/>
            </p:nvSpPr>
            <p:spPr>
              <a:xfrm>
                <a:off x="6227640" y="6497640"/>
                <a:ext cx="303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"/>
          <p:cNvSpPr/>
          <p:nvPr/>
        </p:nvSpPr>
        <p:spPr>
          <a:xfrm>
            <a:off x="0" y="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Угол между двумя плоскостями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двугранный уго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вен углу между перпендикулярными к этим плоскостям прямыми. Будем считать угол между плоскостями острым (или прям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19"/>
              <p:cNvSpPr txBox="1"/>
              <p:nvPr/>
            </p:nvSpPr>
            <p:spPr>
              <a:xfrm>
                <a:off x="1332000" y="2349360"/>
                <a:ext cx="646596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 между плоскостями  измеряется углом между нормалями (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 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 этим плоск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564000" y="112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40360" y="112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76360" y="189000"/>
            <a:ext cx="55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Угол между двумя плоск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е от точки до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е от точки до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тояние между скрещивающимися пря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 между двумя пря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 между прямой и плоскость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 между плоск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404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иды задач С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0"/>
            <a:ext cx="914400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ичиной угла между плоскостями называется величина меньшего двугран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ь плоскости      и       заданы уравне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инус угла между плоскостями находится по такой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ответе мы записываем                          , так как величиной угла между плоскостями называется величина меньшего двугран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2"/>
              <p:cNvSpPr txBox="1"/>
              <p:nvPr/>
            </p:nvSpPr>
            <p:spPr>
              <a:xfrm>
                <a:off x="3564000" y="765000"/>
                <a:ext cx="2952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4356000" y="765000"/>
                <a:ext cx="3175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6"/>
              <p:cNvSpPr txBox="1"/>
              <p:nvPr/>
            </p:nvSpPr>
            <p:spPr>
              <a:xfrm>
                <a:off x="1222200" y="1557360"/>
                <a:ext cx="32068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Object 5"/>
              <p:cNvSpPr txBox="1"/>
              <p:nvPr/>
            </p:nvSpPr>
            <p:spPr>
              <a:xfrm>
                <a:off x="1220760" y="1197000"/>
                <a:ext cx="3201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7"/>
              <p:cNvSpPr txBox="1"/>
              <p:nvPr/>
            </p:nvSpPr>
            <p:spPr>
              <a:xfrm>
                <a:off x="1258920" y="3068640"/>
                <a:ext cx="59119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8"/>
              <p:cNvSpPr txBox="1"/>
              <p:nvPr/>
            </p:nvSpPr>
            <p:spPr>
              <a:xfrm>
                <a:off x="5508720" y="5084640"/>
                <a:ext cx="720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404640"/>
            <a:ext cx="91440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адача (СтатГрад-12г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равильной четырёхугольной призм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основания равны единице, а боковые рёбра равны 5.На ребре АА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чена точка Е так, что АЕ : Е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2:3. Найти угол между плоскостями АВС и 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4140360" cy="33987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68360" y="162864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Решение.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1916280"/>
            <a:ext cx="4716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секает прямую А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в точке К. Плоскост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пересекаются по прямой К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476360" y="2637000"/>
            <a:ext cx="24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┴ КВ,  А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┴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2852640"/>
            <a:ext cx="5256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гол АНЕ – линейный угол  двугранного угла между плоскостям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268360" y="3357720"/>
                <a:ext cx="2592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411280" y="3860640"/>
                <a:ext cx="2233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340000" y="4437000"/>
                <a:ext cx="4753080" cy="16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ысот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3635280" y="234936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A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AE =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645000"/>
            <a:ext cx="21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908000" y="3789360"/>
            <a:ext cx="358920" cy="71280"/>
          </a:xfrm>
          <a:prstGeom prst="rightArrow">
            <a:avLst>
              <a:gd name="adj1" fmla="val 50000"/>
              <a:gd name="adj2" fmla="val 125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4724280"/>
            <a:ext cx="26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∆АК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=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324000" y="5950080"/>
                <a:ext cx="4644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НЕ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gAH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6300720" y="6165720"/>
                <a:ext cx="2411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0" y="0"/>
            <a:ext cx="889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гол между плоскостями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(поэтапно-вычислитель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539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00000" y="2708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476360" y="198900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00000" y="1989000"/>
            <a:ext cx="576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340000" y="1989000"/>
            <a:ext cx="50328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00000" y="2708280"/>
            <a:ext cx="7164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476360" y="1989000"/>
            <a:ext cx="71280" cy="20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43280" y="198900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71640" y="479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340000" y="2708280"/>
            <a:ext cx="7128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11280" y="4076640"/>
            <a:ext cx="432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00000" y="3933720"/>
            <a:ext cx="1511280" cy="863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971640" y="1989000"/>
            <a:ext cx="504720" cy="194472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19280" y="4076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971640" y="4076640"/>
            <a:ext cx="57600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68360" y="2565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43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8360" y="2421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042920" y="162864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16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843280" y="39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41128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333360"/>
            <a:ext cx="914400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адача (СтатГрад-12г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правильной четырёхугольной призм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роны основания равны единице, а боковые рёбра равны 5. На ребре АА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мечена точка Е так, что АЕ : ЕА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2:3. Найти угол между плоскостями АВС и В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00000" y="3933720"/>
            <a:ext cx="73080" cy="71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1280" y="3141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11280" y="4221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11280" y="3716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476360" y="1989000"/>
            <a:ext cx="934920" cy="280836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162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901440" y="20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547640" y="4076640"/>
            <a:ext cx="86364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435640" y="134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Решение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64000" y="1628640"/>
            <a:ext cx="5580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D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тогональная проекц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Поэтому для нахождения искомого угла можно использов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формулу площади ортогональной проек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348000" y="2928960"/>
                <a:ext cx="2664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236000" y="2852640"/>
                <a:ext cx="1584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м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427640" y="3429000"/>
                <a:ext cx="3456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6227640" y="3068640"/>
            <a:ext cx="760680" cy="144360"/>
          </a:xfrm>
          <a:prstGeom prst="rightArrow">
            <a:avLst>
              <a:gd name="adj1" fmla="val 50000"/>
              <a:gd name="adj2" fmla="val 1317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492360" y="4005360"/>
                <a:ext cx="2303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6300720" y="3933720"/>
                <a:ext cx="2843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0" y="4991040"/>
                <a:ext cx="41054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184720" y="5013360"/>
                <a:ext cx="39592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6659640" y="6067440"/>
                <a:ext cx="19796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1187280" y="0"/>
            <a:ext cx="691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гол между плоскостями (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о форму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780000" y="4365720"/>
                <a:ext cx="1833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500"/>
                            </p:stCondLst>
                            <p:childTnLst>
                              <p:par>
                                <p:cTn id="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0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8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404640"/>
            <a:ext cx="9144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адача (СтатГрад-12г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равильной четырёхугольной призм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роны основания равны единице, а боковые рёбра равны 5. На ребре А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отмечена точка Е так, что АЕ : Е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2:3. Найти угол между плоскостями АВС и В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971640" y="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гол между плоскостям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координат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69236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340000" y="1989000"/>
            <a:ext cx="50328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476360" y="198900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900000" y="1989000"/>
            <a:ext cx="576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76360" y="1989000"/>
            <a:ext cx="71280" cy="20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00000" y="2708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11280" y="3141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900000" y="2708280"/>
            <a:ext cx="7164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11280" y="4221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71640" y="4076640"/>
            <a:ext cx="57600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619280" y="4076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40000" y="2708280"/>
            <a:ext cx="7128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843280" y="198900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971640" y="479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411280" y="4076640"/>
            <a:ext cx="432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77164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268360" y="2565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68360" y="2421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042920" y="162864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43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84360" y="465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268360" y="472428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16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901440" y="20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71640" y="4797360"/>
            <a:ext cx="2016000" cy="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971640" y="3789360"/>
            <a:ext cx="792000" cy="100800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899640" y="2276280"/>
            <a:ext cx="71640" cy="2447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4144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627280" y="43657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54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98920" y="479736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0;0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1280" y="3716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00000" y="3860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71640" y="4005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476360" y="191628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71640" y="472428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40000" y="472428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83280" y="479736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1;0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-1080" y="342900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0;0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986560" y="378936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402200" y="141300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0;1;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708360" y="1268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708360" y="162864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ставим уравнение каждой плоск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851280" y="2133720"/>
                <a:ext cx="259236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6443640" y="2276640"/>
                <a:ext cx="270036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4643280" y="3645000"/>
                <a:ext cx="3529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572000" y="4221000"/>
                <a:ext cx="403236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4572000" y="4724280"/>
                <a:ext cx="4392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0" y="5445000"/>
                <a:ext cx="63723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6688080" y="5516640"/>
                <a:ext cx="2455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800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900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2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2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2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1403280" y="0"/>
            <a:ext cx="432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71640" y="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гол между плоскостям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вектор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33360"/>
            <a:ext cx="914400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адача (СтатГрад-12г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равильной четырёхугольной призм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роны основания равны единице, а боковые рёбра равны 5. На ребре А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тмечена точка Е так, что АЕ : ЕА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2:3. Найти угол между плоскостями АВС и В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35640" y="162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Решение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39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900000" y="2708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476360" y="198900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900000" y="1989000"/>
            <a:ext cx="576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340000" y="1989000"/>
            <a:ext cx="50328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00000" y="2708280"/>
            <a:ext cx="7164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476360" y="1989000"/>
            <a:ext cx="71280" cy="20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43280" y="198900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71640" y="479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40000" y="2708280"/>
            <a:ext cx="7128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411280" y="4076640"/>
            <a:ext cx="432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900000" y="3933720"/>
            <a:ext cx="1511280" cy="863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971640" y="1989000"/>
            <a:ext cx="504720" cy="1944720"/>
          </a:xfrm>
          <a:prstGeom prst="line">
            <a:avLst/>
          </a:prstGeom>
          <a:ln cap="rnd" w="3816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619280" y="4076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971640" y="4076640"/>
            <a:ext cx="57600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340000" y="249228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1700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68360" y="2421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042920" y="162864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116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843280" y="39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41128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900000" y="3933720"/>
            <a:ext cx="73080" cy="71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77164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11280" y="3141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11280" y="4221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11280" y="3716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476360" y="1989000"/>
            <a:ext cx="934920" cy="2808360"/>
          </a:xfrm>
          <a:prstGeom prst="line">
            <a:avLst/>
          </a:prstGeom>
          <a:ln cap="rnd" w="3816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8000" y="162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901440" y="20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47640" y="4076640"/>
            <a:ext cx="86364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2411280" y="4005360"/>
            <a:ext cx="432000" cy="79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2340000" y="2707920"/>
            <a:ext cx="71280" cy="2017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971280" y="4797360"/>
            <a:ext cx="143964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476360" y="4869000"/>
                <a:ext cx="35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700360" y="4149720"/>
                <a:ext cx="495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340000" y="314172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3780000" y="191628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ыберем базисные век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851280" y="2276640"/>
                <a:ext cx="4392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24360" y="2852640"/>
                <a:ext cx="2736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657600" y="4257720"/>
                <a:ext cx="548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⊥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⊥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995640" y="4941720"/>
                <a:ext cx="4176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179280" y="5445000"/>
                <a:ext cx="3456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3492360" y="3500280"/>
                <a:ext cx="54514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 flipV="1">
            <a:off x="5076720" y="350028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580000" y="350028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8244000" y="3500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88360" y="3500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11280" y="3141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427640" y="5734080"/>
                <a:ext cx="4176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8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2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7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1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4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0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4000"/>
                            </p:stCondLst>
                            <p:childTnLst>
                              <p:par>
                                <p:cTn id="9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60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8000"/>
                            </p:stCondLst>
                            <p:childTnLst>
                              <p:par>
                                <p:cTn id="9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6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258920" y="-863640"/>
            <a:ext cx="432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332000" y="0"/>
            <a:ext cx="68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Угол между плоскостям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вектор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95280" y="3718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55640" y="1844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332000" y="112536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755640" y="1125360"/>
            <a:ext cx="576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195640" y="1125360"/>
            <a:ext cx="50328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55640" y="1844640"/>
            <a:ext cx="7128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332000" y="1125360"/>
            <a:ext cx="71280" cy="208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698920" y="1125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26920" y="3933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195640" y="1844640"/>
            <a:ext cx="7128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266920" y="3213000"/>
            <a:ext cx="43200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55640" y="3070080"/>
            <a:ext cx="1511280" cy="863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826920" y="1125360"/>
            <a:ext cx="505080" cy="194472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474920" y="3213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826560" y="3213000"/>
            <a:ext cx="57636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195640" y="162864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98920" y="836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24000" y="155736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98560" y="76500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971640" y="292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98920" y="3070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66920" y="3718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3070080"/>
            <a:ext cx="73080" cy="7164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627280" y="184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66560" y="2278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6560" y="33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66560" y="285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332000" y="1125360"/>
            <a:ext cx="934920" cy="2808360"/>
          </a:xfrm>
          <a:prstGeom prst="line">
            <a:avLst/>
          </a:prstGeom>
          <a:ln cap="rnd" w="3816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763640" y="76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7080" y="119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403280" y="3213000"/>
            <a:ext cx="863640" cy="72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66920" y="3141720"/>
            <a:ext cx="432000" cy="79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2195640" y="1844280"/>
            <a:ext cx="71280" cy="2017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826920" y="3933720"/>
            <a:ext cx="144000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332000" y="4005360"/>
                <a:ext cx="358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2556000" y="3286080"/>
                <a:ext cx="49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195640" y="227808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924360" y="404640"/>
                <a:ext cx="47530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924360" y="1341360"/>
                <a:ext cx="5219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3708360" y="62064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635280" y="1989000"/>
                <a:ext cx="2200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3492360" y="2708280"/>
                <a:ext cx="27972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0" name=""/>
          <p:cNvSpPr/>
          <p:nvPr/>
        </p:nvSpPr>
        <p:spPr>
          <a:xfrm>
            <a:off x="3419640" y="2133720"/>
            <a:ext cx="144360" cy="143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16720" y="2060640"/>
            <a:ext cx="144360" cy="143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6732720" y="2133720"/>
                <a:ext cx="1709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6659640" y="2708280"/>
                <a:ext cx="2217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3860640" y="3429000"/>
                <a:ext cx="4881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3276720" y="3933720"/>
                <a:ext cx="2606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79280" y="5013360"/>
                <a:ext cx="59515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e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e/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6516720" y="4968720"/>
                <a:ext cx="2627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6300720" y="3789360"/>
                <a:ext cx="2438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3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7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5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9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3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2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6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5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9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лов А.Н.  Лекции курса « Особенности методики обучения математике в условиях новой формы итоговой аттестации за курс средней школ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ирнов В. А.. «ЕГЭ 2013. Задача С2.Геометрия. Стереометрия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рюков П.Ф., Смоляков А.Н. «Векторы и координаты в решении задач школьного курса стереометр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янов А.Г., Прокофьев А.А. « Типовые задания С2. Виды задач и методы их решения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я. 10–11 классы: учеб. для общеобразоват. учреждений: баз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фил. уровни / [Л.С. Атанасян, В.Ф. Бутузов, С.Б. Кадомцев и др.].– М.: Просвещение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ый государственный экзамен 2012. Математика. Универсальные материалы для подготовки учащихся / ФИПИ– М.: Интеллект-Центр,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методы решения задачи 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поэтапно-вычислительный(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метод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опорных задач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традиционный метод опирается на определения расстояния или угла, и требует от учащихся развитого пространственного воображения, применение данного метода состоит в применении известных опорных задач, которые в большинстве случаев формулируются как теор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метод координа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универсальный метод, может быть использован при решении задач любого в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применение ве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также может быть использован при решении задач любого в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применение формул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площади ортогональной проекции многоугольника, объёма пирамиды, высоты треугольника, параллелограмма или трапе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стояние от точки до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стояние от точки до прям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содержащей эту точку, есть длина отрезка перпендикуляра , проведенного из этой точки на прям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стояние между двумя параллельными прямы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 длине отрезка их общего перпендикуля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стояние между двумя параллельными прямы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 расстоянию от любой точки одной из этих прямых до друг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2129040" cy="186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4932360" y="5229360"/>
            <a:ext cx="2664000" cy="722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92720" y="5877000"/>
            <a:ext cx="2664000" cy="7207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5589720"/>
            <a:ext cx="289080" cy="64764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516720" y="6021000"/>
            <a:ext cx="21600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732720" y="6021000"/>
            <a:ext cx="712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4797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rlin Sans FB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944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3800" y="573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рямой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поэтапно-вычислительный мет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989000"/>
            <a:ext cx="172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4936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Э-11г)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правильной шестиугольной призме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BCDEFA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, стороны основания которой равны 4, а боковые рёбра равны 1, найдите расстояние от точки В до прямой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660033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924280"/>
            <a:ext cx="36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749680"/>
            <a:ext cx="579600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авильный шестиугольник, то прямые 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пендикулярны, следовательно, прям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пендикулярны( по ТТП). Расстояние от точки В до прямо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вно длине отрез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тогда из ∆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5516640"/>
            <a:ext cx="25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2276640"/>
            <a:ext cx="62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ирается на определение расстоя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3336840" cy="279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4295880"/>
            <a:ext cx="1584000" cy="5014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292640"/>
            <a:ext cx="1655640" cy="187308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Расстояние от точки до прямой можно</a:t>
            </a:r>
            <a:br>
              <a:rPr sz="2000"/>
            </a:b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вычислить, как длину отрезка перпендикуляра, если удается включить этот отрезок в некоторый треугольник в качестве одной из высот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по формуле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956720" y="4869000"/>
                <a:ext cx="1187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G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3754440" cy="36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1197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:  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В правильной шестиугольной пирамиде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SABCDEF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 стороны основания которой равны 1, а боковые рёбра равны 2 , найдите расстояние от точки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F 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до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прямой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BG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, где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G 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– середина ребра </a:t>
            </a: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SC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924280"/>
            <a:ext cx="52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Искомое расстояние от т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высо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B = FG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сота равностороннего треуголь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C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623736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теореме Пифагора нахо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524720" y="5899320"/>
                <a:ext cx="16192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H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500720" y="5229360"/>
            <a:ext cx="36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211640" y="5445000"/>
                <a:ext cx="35402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G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924360" y="494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796000" y="4797360"/>
                <a:ext cx="1871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G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05:44:10Z</dcterms:created>
  <dc:creator>МехралиеваС.А.</dc:creator>
  <dc:description/>
  <dc:language>en-US</dc:language>
  <cp:lastModifiedBy>Светлана</cp:lastModifiedBy>
  <dcterms:modified xsi:type="dcterms:W3CDTF">2012-12-16T20:52:28Z</dcterms:modified>
  <cp:revision>72</cp:revision>
  <dc:subject/>
  <dc:title>Слайд 1</dc:title>
</cp:coreProperties>
</file>