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2.gif" ContentType="image/gi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3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73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9.wmf" ContentType="image/x-wmf"/>
  <Override PartName="/ppt/media/image9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D9F-74FA-4C8D-90A4-3A30D7F1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159-25E4-4CE0-887B-3B6A562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163-716E-411C-BF72-12153000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228-FF50-491E-BC99-54F2382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C93C-8E8F-404F-89A3-FD682EF0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DDE-B712-4F32-AABE-627218C6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709-F6FA-495C-BC8C-28AE4D1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F38-5A53-445D-AE9B-C9AE5EA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5111-1E9E-4096-BB53-1F23B3A1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BC6-5CF5-4600-BF7B-0AB20A5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44C-61A7-4E50-824E-604075B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953-14C1-4495-9F39-0172050F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52E1-6D46-4A55-ACC8-6AF7EA8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51C7-1B77-430D-A972-330A8F6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457-1C96-4033-8657-37D153D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E82-C193-40D7-9B63-88E6CF9A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D59B-D1E6-4FA2-A047-BF79690A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FD6-7486-45EE-89E3-30FA6CD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17A-8B9C-4773-BF0C-9684E9F1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609-7729-4335-B3FA-3204E56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71E-3EA7-4577-AB86-D3D2BD4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071-FABF-49EC-9575-D52AB2B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FCD-FFA7-4BF0-B1B0-B5ADE49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116-26AF-4C7E-8B7E-6AA0C36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8D9-F106-4685-896B-DC8A65036AF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E8C-9C18-46ED-9A46-56F8C2BA6BA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8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8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97.wmf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7.wmf"/><Relationship Id="rId2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028600"/>
            <a:ext cx="7786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404176"/>
                </a:solidFill>
                <a:latin typeface="Times New Roman"/>
              </a:rPr>
              <a:t>Лекция 2</a:t>
            </a:r>
            <a:endParaRPr b="0" lang="en-US" sz="6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Математические модели теории потреблен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38240" y="338040"/>
            <a:ext cx="4676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Решение.</a:t>
            </a:r>
            <a:r>
              <a:rPr b="1" i="1" lang="ru-RU" sz="4000" spc="-1" strike="noStrike">
                <a:solidFill>
                  <a:srgbClr val="8383ad"/>
                </a:solidFill>
                <a:latin typeface="Times New Roman"/>
              </a:rPr>
              <a:t> 1 способ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23840" y="163836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. Составим функцию Лагранжа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06560" y="2152800"/>
          <a:ext cx="379440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6560" y="2152800"/>
                    <a:ext cx="3794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1052640" y="291924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2. Найдем частные производные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89160" y="3360600"/>
          <a:ext cx="2182680" cy="9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9160" y="3360600"/>
                    <a:ext cx="21826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733920" y="3319560"/>
          <a:ext cx="223200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319560"/>
                    <a:ext cx="223200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110280" y="3443400"/>
          <a:ext cx="23241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0280" y="3443400"/>
                    <a:ext cx="2324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076400" y="460044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. Приравняем производные к нулю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095880" y="5562720"/>
          <a:ext cx="213372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562720"/>
                    <a:ext cx="2133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444680" y="5381640"/>
          <a:ext cx="1922400" cy="97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4680" y="5381640"/>
                    <a:ext cx="19224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3722760" y="5334120"/>
          <a:ext cx="1947960" cy="9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22760" y="5334120"/>
                    <a:ext cx="19479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066680" y="2286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5. Получаем систему уравнений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3581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6. Умножим второе уравнение системы на 10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66680" y="4952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7. Сложим уравнения системы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553080" y="380880"/>
          <a:ext cx="220500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80880"/>
                    <a:ext cx="22050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3962520" y="5334120"/>
          <a:ext cx="149364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334120"/>
                    <a:ext cx="1493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990720" y="15238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448160" y="1424160"/>
          <a:ext cx="125568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8160" y="1424160"/>
                    <a:ext cx="1255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5710320" y="15336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434280" y="1581120"/>
          <a:ext cx="215712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34280" y="1581120"/>
                    <a:ext cx="21571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276720" y="2666880"/>
          <a:ext cx="2371680" cy="90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666880"/>
                    <a:ext cx="23716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3276720" y="4038480"/>
          <a:ext cx="272736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038480"/>
                    <a:ext cx="27273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1066680" y="7621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4. Разделим первое уравнение на второе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3000" y="5867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8. Выразим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8383ad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4906800" y="5754600"/>
          <a:ext cx="1281240" cy="80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06800" y="5754600"/>
                    <a:ext cx="1281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1600200" y="1219320"/>
          <a:ext cx="1990800" cy="99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1219320"/>
                    <a:ext cx="1990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3576600" y="156672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6680" y="1600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9. Умножим второе уравнение системы на (–7)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3124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0. Сложим уравнения системы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429000" y="3733920"/>
          <a:ext cx="180036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733920"/>
                    <a:ext cx="1800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590920" y="533520"/>
          <a:ext cx="237168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33520"/>
                    <a:ext cx="23716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2906640" y="2133720"/>
          <a:ext cx="270360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6640" y="2133720"/>
                    <a:ext cx="27036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143000" y="4419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1. Выразим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091040" y="4343400"/>
          <a:ext cx="132876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1040" y="4343400"/>
                    <a:ext cx="1328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468440" y="1986120"/>
          <a:ext cx="68310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986120"/>
                    <a:ext cx="6831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9907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. Составим логарифмическую функцию полезности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38240" y="338040"/>
            <a:ext cx="688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Решение.</a:t>
            </a:r>
            <a:r>
              <a:rPr b="1" i="1" lang="ru-RU" sz="4000" spc="-1" strike="noStrike">
                <a:solidFill>
                  <a:srgbClr val="8383ad"/>
                </a:solidFill>
                <a:latin typeface="Times New Roman"/>
              </a:rPr>
              <a:t> 2 способ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2666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2. Составим функцию Лагранжа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597040" y="3124080"/>
          <a:ext cx="45309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3124080"/>
                    <a:ext cx="4530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1066680" y="3962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. Найдем частные производные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538280" y="4429080"/>
          <a:ext cx="1922400" cy="8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8280" y="4429080"/>
                    <a:ext cx="1922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3597120" y="4492800"/>
          <a:ext cx="1992600" cy="80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7120" y="4492800"/>
                    <a:ext cx="19926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5791320" y="4495680"/>
          <a:ext cx="232416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4495680"/>
                    <a:ext cx="2324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990720" y="52578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4. Приравняем производные к нулю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093760" y="5624640"/>
          <a:ext cx="1660680" cy="80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93760" y="5624640"/>
                    <a:ext cx="1660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3962520" y="5624640"/>
          <a:ext cx="1708200" cy="80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5624640"/>
                    <a:ext cx="17082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6005520" y="5823000"/>
          <a:ext cx="213372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05520" y="5823000"/>
                    <a:ext cx="2133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066680" y="2286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6. Получаем систему уравнений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3581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7. Умножим второе уравнение системы на 10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4952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8. Сложим уравнения системы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371600" y="1447920"/>
          <a:ext cx="170640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1706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3962520" y="5334120"/>
          <a:ext cx="149364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334120"/>
                    <a:ext cx="1493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31240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886200" y="1523880"/>
          <a:ext cx="1255680" cy="8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523880"/>
                    <a:ext cx="12556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181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943600" y="1676520"/>
          <a:ext cx="215748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676520"/>
                    <a:ext cx="215748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3276720" y="2666880"/>
          <a:ext cx="2371680" cy="90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666880"/>
                    <a:ext cx="23716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3276720" y="4038480"/>
          <a:ext cx="272736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038480"/>
                    <a:ext cx="27273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1066680" y="990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5. Разделим первое уравнение на второе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5867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9. Выразим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8383ad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906800" y="5754600"/>
          <a:ext cx="1281240" cy="80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06800" y="5754600"/>
                    <a:ext cx="1281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66680" y="1066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0. Умножим второе уравнение системы на (–7)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8576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1. Сложим уравнения системы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657600" y="3048120"/>
          <a:ext cx="180180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048120"/>
                    <a:ext cx="18018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211560" y="1600200"/>
          <a:ext cx="270504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1560" y="1600200"/>
                    <a:ext cx="2705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1057320" y="3510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2. Выразим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297320" y="3425760"/>
          <a:ext cx="132876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7320" y="3425760"/>
                    <a:ext cx="1328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1109520" y="4576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13. Подставляя данные из условия, получаем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863720" y="5035680"/>
          <a:ext cx="2278080" cy="73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63720" y="5035680"/>
                    <a:ext cx="227808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181400" y="5038560"/>
          <a:ext cx="2135160" cy="73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1400" y="5038560"/>
                    <a:ext cx="21351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809880" y="5943600"/>
          <a:ext cx="1374840" cy="47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5943600"/>
                    <a:ext cx="13748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373480" y="117468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1. Составим функцию Лагранжа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422280" y="1535040"/>
          <a:ext cx="311940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535040"/>
                    <a:ext cx="31194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2333520" y="2100240"/>
            <a:ext cx="3942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2. Найдем частные производные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19240" y="2408400"/>
          <a:ext cx="161280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" y="2408400"/>
                    <a:ext cx="16128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2201760" y="2440080"/>
          <a:ext cx="1649520" cy="73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1760" y="2440080"/>
                    <a:ext cx="16495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038240" y="3125880"/>
          <a:ext cx="1716120" cy="54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38240" y="3125880"/>
                    <a:ext cx="17161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255760" y="3618000"/>
            <a:ext cx="42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3. Приравняем производные к нулю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266840" y="4745160"/>
          <a:ext cx="1654200" cy="33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6840" y="4745160"/>
                    <a:ext cx="16542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485640" y="4010040"/>
          <a:ext cx="1490760" cy="75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640" y="4010040"/>
                    <a:ext cx="14907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2403360" y="3959280"/>
          <a:ext cx="1509840" cy="77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03360" y="3959280"/>
                    <a:ext cx="1509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139680" y="5460840"/>
          <a:ext cx="1765440" cy="79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9680" y="5460840"/>
                    <a:ext cx="1765440" cy="7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1920960" y="57150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762120" y="6203880"/>
          <a:ext cx="10062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6203880"/>
                    <a:ext cx="1006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1793880" y="633564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598840" y="6377040"/>
          <a:ext cx="172404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98840" y="6377040"/>
                    <a:ext cx="1724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1855800" y="5054760"/>
            <a:ext cx="466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4. Разделим первое уравнение на второе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712960" y="5514840"/>
          <a:ext cx="1595520" cy="798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12960" y="5514840"/>
                    <a:ext cx="1595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74520" y="632160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211640" y="663480"/>
          <a:ext cx="494496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11640" y="663480"/>
                    <a:ext cx="4944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4751280" y="-324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Составим логарифмическую функцию полезности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211720" y="1549440"/>
          <a:ext cx="3490920" cy="568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1720" y="1549440"/>
                    <a:ext cx="34909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5545080" y="2459160"/>
          <a:ext cx="1567080" cy="65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45080" y="2459160"/>
                    <a:ext cx="1567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7178760" y="2443320"/>
          <a:ext cx="1593720" cy="645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178760" y="2443320"/>
                    <a:ext cx="159372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6267600" y="3114720"/>
          <a:ext cx="1676160" cy="531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67600" y="3114720"/>
                    <a:ext cx="1676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5597640" y="4070520"/>
          <a:ext cx="1260360" cy="612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597640" y="4070520"/>
                    <a:ext cx="1260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7121520" y="4070520"/>
          <a:ext cx="1260360" cy="595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21520" y="4070520"/>
                    <a:ext cx="12603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111720" y="4657680"/>
          <a:ext cx="1766880" cy="3556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111720" y="4657680"/>
                    <a:ext cx="1766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5486400" y="5562720"/>
          <a:ext cx="1293840" cy="612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486400" y="5562720"/>
                    <a:ext cx="1293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6934320" y="5715000"/>
            <a:ext cx="761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7772400" y="5638680"/>
          <a:ext cx="952560" cy="6127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72400" y="5638680"/>
                    <a:ext cx="952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6172200" y="6248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6913440" y="6273720"/>
          <a:ext cx="1706760" cy="3398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13440" y="6273720"/>
                    <a:ext cx="17067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12600" y="196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0202"/>
                </a:solidFill>
                <a:latin typeface="Times New Roman"/>
              </a:rPr>
              <a:t>Дана функция полезности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50840" y="682560"/>
          <a:ext cx="1970280" cy="449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050840" y="682560"/>
                    <a:ext cx="1970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План лекции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Бюджетное множество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Задача потребительского выбор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Функции спроса на каждое благо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Точка спро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имер решения задачи на нахождение функций спроса на каждое благо и точки спроса при заданных доходе и ценах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915080" y="3629160"/>
            <a:ext cx="3314520" cy="2328840"/>
          </a:xfrm>
          <a:prstGeom prst="rtTriangle">
            <a:avLst/>
          </a:prstGeom>
          <a:solidFill>
            <a:srgbClr val="cbcbdd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176"/>
                </a:solidFill>
                <a:latin typeface="Times New Roman"/>
              </a:rPr>
              <a:t>Бюджетное множество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1337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Тогда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сход на данный набор благ: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5640" y="5938920"/>
            <a:ext cx="3218040" cy="761760"/>
          </a:xfrm>
          <a:prstGeom prst="rect">
            <a:avLst/>
          </a:prstGeom>
          <a:noFill/>
          <a:ln cap="rnd" w="381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+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Times New Roman"/>
              </a:rPr>
              <a:t>бюджетное ограничени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095640" y="4148280"/>
          <a:ext cx="295200" cy="35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5640" y="4148280"/>
                    <a:ext cx="2952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4903920" y="2841120"/>
            <a:ext cx="3766680" cy="3173400"/>
            <a:chOff x="4903920" y="2841120"/>
            <a:chExt cx="3766680" cy="3173400"/>
          </a:xfrm>
        </p:grpSpPr>
        <p:sp>
          <p:nvSpPr>
            <p:cNvPr id="390" name=""/>
            <p:cNvSpPr/>
            <p:nvPr/>
          </p:nvSpPr>
          <p:spPr>
            <a:xfrm flipV="1">
              <a:off x="4903920" y="2841120"/>
              <a:ext cx="4680" cy="3173400"/>
            </a:xfrm>
            <a:prstGeom prst="line">
              <a:avLst/>
            </a:prstGeom>
            <a:ln w="25560">
              <a:solidFill>
                <a:srgbClr val="40417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8600" y="5977080"/>
              <a:ext cx="3762000" cy="0"/>
            </a:xfrm>
            <a:prstGeom prst="line">
              <a:avLst/>
            </a:prstGeom>
            <a:ln w="25560">
              <a:solidFill>
                <a:srgbClr val="40417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aphicFrame>
        <p:nvGraphicFramePr>
          <p:cNvPr id="392" name=""/>
          <p:cNvGraphicFramePr/>
          <p:nvPr/>
        </p:nvGraphicFramePr>
        <p:xfrm>
          <a:off x="8640720" y="6000840"/>
          <a:ext cx="338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40720" y="6000840"/>
                    <a:ext cx="338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394160" y="2735280"/>
          <a:ext cx="382680" cy="531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2735280"/>
                    <a:ext cx="382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876920" y="3600360"/>
            <a:ext cx="3386160" cy="2371680"/>
          </a:xfrm>
          <a:prstGeom prst="line">
            <a:avLst/>
          </a:prstGeom>
          <a:ln w="44280">
            <a:solidFill>
              <a:srgbClr val="383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516560" y="3138480"/>
          <a:ext cx="322200" cy="78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6560" y="3138480"/>
                    <a:ext cx="3222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8167680" y="5967360"/>
          <a:ext cx="304920" cy="78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67680" y="5967360"/>
                    <a:ext cx="3049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228600" y="1143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Рассмотрим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набор из двух благ –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600200"/>
            <a:ext cx="862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– цены на первое и второе блага, 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– доход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240" y="257184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Очевидно,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что расходы потребителя не должны превышать его доход, значит, справедливо неравенство: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         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14440" y="4910040"/>
            <a:ext cx="3217680" cy="762120"/>
            <a:chOff x="514440" y="4910040"/>
            <a:chExt cx="3217680" cy="762120"/>
          </a:xfrm>
        </p:grpSpPr>
        <p:sp>
          <p:nvSpPr>
            <p:cNvPr id="405" name=""/>
            <p:cNvSpPr/>
            <p:nvPr/>
          </p:nvSpPr>
          <p:spPr>
            <a:xfrm>
              <a:off x="514440" y="4910040"/>
              <a:ext cx="3217680" cy="762120"/>
            </a:xfrm>
            <a:prstGeom prst="rect">
              <a:avLst/>
            </a:prstGeom>
            <a:noFill/>
            <a:ln cap="rnd" w="381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04176"/>
                  </a:solidFill>
                  <a:latin typeface="Times New Roman"/>
                </a:rPr>
                <a:t>р</a:t>
              </a:r>
              <a:r>
                <a:rPr b="1" lang="ru-RU" sz="2000" spc="-1" strike="noStrike" baseline="-25000">
                  <a:solidFill>
                    <a:srgbClr val="404176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404176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404176"/>
                  </a:solidFill>
                  <a:latin typeface="Times New Roman"/>
                </a:rPr>
                <a:t>х</a:t>
              </a:r>
              <a:r>
                <a:rPr b="1" lang="ru-RU" sz="2000" spc="-1" strike="noStrike" baseline="-25000">
                  <a:solidFill>
                    <a:srgbClr val="404176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404176"/>
                  </a:solidFill>
                  <a:latin typeface="Times New Roman"/>
                </a:rPr>
                <a:t> + </a:t>
              </a:r>
              <a:r>
                <a:rPr b="1" i="1" lang="ru-RU" sz="2000" spc="-1" strike="noStrike">
                  <a:solidFill>
                    <a:srgbClr val="404176"/>
                  </a:solidFill>
                  <a:latin typeface="Times New Roman"/>
                </a:rPr>
                <a:t>р</a:t>
              </a:r>
              <a:r>
                <a:rPr b="1" lang="ru-RU" sz="2000" spc="-1" strike="noStrike" baseline="-25000">
                  <a:solidFill>
                    <a:srgbClr val="404176"/>
                  </a:solidFill>
                  <a:latin typeface="Times New Roman"/>
                </a:rPr>
                <a:t>2</a:t>
              </a:r>
              <a:r>
                <a:rPr b="1" lang="ru-RU" sz="2000" spc="-1" strike="noStrike">
                  <a:solidFill>
                    <a:srgbClr val="404176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404176"/>
                  </a:solidFill>
                  <a:latin typeface="Times New Roman"/>
                </a:rPr>
                <a:t>х</a:t>
              </a:r>
              <a:r>
                <a:rPr b="1" lang="ru-RU" sz="2000" spc="-1" strike="noStrike" baseline="-25000">
                  <a:solidFill>
                    <a:srgbClr val="404176"/>
                  </a:solidFill>
                  <a:latin typeface="Times New Roman"/>
                </a:rPr>
                <a:t>2        </a:t>
              </a:r>
              <a:r>
                <a:rPr b="1" i="1" lang="en-US" sz="2000" spc="-1" strike="noStrike">
                  <a:solidFill>
                    <a:srgbClr val="404176"/>
                  </a:solidFill>
                  <a:latin typeface="Times New Roman"/>
                </a:rPr>
                <a:t>I</a:t>
              </a:r>
              <a:r>
                <a:rPr b="0" i="1" lang="en-US" sz="2000" spc="-1" strike="noStrike">
                  <a:solidFill>
                    <a:srgbClr val="8383ad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8383ad"/>
                  </a:solidFill>
                  <a:latin typeface="Times New Roman"/>
                </a:rPr>
                <a:t>–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383ad"/>
                  </a:solidFill>
                  <a:latin typeface="Times New Roman"/>
                </a:rPr>
                <a:t>бюджетное множество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aphicFrame>
          <p:nvGraphicFramePr>
            <p:cNvPr id="406" name=""/>
            <p:cNvGraphicFramePr/>
            <p:nvPr/>
          </p:nvGraphicFramePr>
          <p:xfrm>
            <a:off x="2514600" y="5029200"/>
            <a:ext cx="23796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14600" y="5029200"/>
                      <a:ext cx="23796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176"/>
                </a:solidFill>
                <a:latin typeface="Times New Roman"/>
              </a:rPr>
              <a:t>Задача потребительского выбор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35812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176"/>
                </a:solidFill>
                <a:uFillTx/>
                <a:latin typeface="Times New Roman"/>
              </a:rPr>
              <a:t>Дано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– цены на первое и второе благ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– доход потребител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627440" y="2841120"/>
            <a:ext cx="3767040" cy="3173400"/>
            <a:chOff x="4627440" y="2841120"/>
            <a:chExt cx="3767040" cy="3173400"/>
          </a:xfrm>
        </p:grpSpPr>
        <p:sp>
          <p:nvSpPr>
            <p:cNvPr id="411" name=""/>
            <p:cNvSpPr/>
            <p:nvPr/>
          </p:nvSpPr>
          <p:spPr>
            <a:xfrm flipV="1">
              <a:off x="4627440" y="2841120"/>
              <a:ext cx="4680" cy="3173400"/>
            </a:xfrm>
            <a:prstGeom prst="line">
              <a:avLst/>
            </a:prstGeom>
            <a:ln w="25560">
              <a:solidFill>
                <a:srgbClr val="40417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32120" y="5977080"/>
              <a:ext cx="3762360" cy="0"/>
            </a:xfrm>
            <a:prstGeom prst="line">
              <a:avLst/>
            </a:prstGeom>
            <a:ln w="25560">
              <a:solidFill>
                <a:srgbClr val="40417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730760" y="2995560"/>
            <a:ext cx="3492360" cy="2890800"/>
          </a:xfrm>
          <a:custGeom>
            <a:avLst/>
            <a:gdLst/>
            <a:ahLst/>
            <a:rect l="l" t="t" r="r" b="b"/>
            <a:pathLst>
              <a:path w="2295" h="2079">
                <a:moveTo>
                  <a:pt x="0" y="0"/>
                </a:moveTo>
                <a:cubicBezTo>
                  <a:pt x="90" y="1251"/>
                  <a:pt x="990" y="2025"/>
                  <a:pt x="2295" y="2079"/>
                </a:cubicBezTo>
              </a:path>
            </a:pathLst>
          </a:custGeom>
          <a:noFill/>
          <a:ln w="38160">
            <a:solidFill>
              <a:srgbClr val="40417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8364600" y="6000840"/>
          <a:ext cx="338040" cy="50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64600" y="6000840"/>
                    <a:ext cx="338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118040" y="2735280"/>
          <a:ext cx="382680" cy="53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8040" y="2735280"/>
                    <a:ext cx="382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129280" y="2836800"/>
            <a:ext cx="3052800" cy="2678040"/>
          </a:xfrm>
          <a:custGeom>
            <a:avLst/>
            <a:gdLst/>
            <a:ahLst/>
            <a:rect l="l" t="t" r="r" b="b"/>
            <a:pathLst>
              <a:path w="2007" h="1926">
                <a:moveTo>
                  <a:pt x="0" y="0"/>
                </a:moveTo>
                <a:cubicBezTo>
                  <a:pt x="180" y="1170"/>
                  <a:pt x="1053" y="1809"/>
                  <a:pt x="2007" y="1926"/>
                </a:cubicBezTo>
              </a:path>
            </a:pathLst>
          </a:custGeom>
          <a:noFill/>
          <a:ln w="381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51560" y="2616120"/>
            <a:ext cx="2682720" cy="2427480"/>
          </a:xfrm>
          <a:custGeom>
            <a:avLst/>
            <a:gdLst/>
            <a:ahLst/>
            <a:rect l="l" t="t" r="r" b="b"/>
            <a:pathLst>
              <a:path w="1764" h="1746">
                <a:moveTo>
                  <a:pt x="0" y="0"/>
                </a:moveTo>
                <a:cubicBezTo>
                  <a:pt x="144" y="1116"/>
                  <a:pt x="1080" y="1647"/>
                  <a:pt x="1764" y="1746"/>
                </a:cubicBezTo>
              </a:path>
            </a:pathLst>
          </a:custGeom>
          <a:noFill/>
          <a:ln w="38160">
            <a:solidFill>
              <a:srgbClr val="40417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8480" y="2486160"/>
          <a:ext cx="30456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8480" y="2486160"/>
                    <a:ext cx="3045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919760" y="2414520"/>
          <a:ext cx="484200" cy="36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19760" y="2414520"/>
                    <a:ext cx="484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5508720" y="2212920"/>
          <a:ext cx="36180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212920"/>
                    <a:ext cx="361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600440" y="3600360"/>
            <a:ext cx="3386160" cy="2371680"/>
          </a:xfrm>
          <a:prstGeom prst="line">
            <a:avLst/>
          </a:prstGeom>
          <a:ln w="381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2514600"/>
            <a:ext cx="385776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176"/>
                </a:solidFill>
                <a:uFillTx/>
                <a:latin typeface="Times New Roman"/>
              </a:rPr>
              <a:t>Задача потребительского выбор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U(x</a:t>
            </a:r>
            <a:r>
              <a:rPr b="1" lang="en-US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)        max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и условии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404176"/>
                </a:solidFill>
                <a:latin typeface="Times New Roman"/>
              </a:rPr>
              <a:t>2         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71600" y="3429000"/>
          <a:ext cx="461880" cy="33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3429000"/>
                    <a:ext cx="46188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828800" y="4267080"/>
          <a:ext cx="307800" cy="37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4267080"/>
                    <a:ext cx="3078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0" y="4876920"/>
            <a:ext cx="4419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Экономический смысл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: выбрать такой доступный набор благ, чтобы функция полезности была наибольше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078600" y="4305240"/>
          <a:ext cx="46836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78600" y="4305240"/>
                    <a:ext cx="4683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6234120" y="4729320"/>
            <a:ext cx="76320" cy="75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61040" y="4511520"/>
            <a:ext cx="75960" cy="76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84840" y="3800520"/>
            <a:ext cx="75960" cy="76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4838760" y="4400640"/>
          <a:ext cx="4143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38760" y="4400640"/>
                    <a:ext cx="414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883040" y="3422520"/>
          <a:ext cx="433440" cy="45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83040" y="3422520"/>
                    <a:ext cx="433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5915160" y="3670200"/>
            <a:ext cx="75960" cy="76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5927760" y="3367080"/>
          <a:ext cx="430200" cy="455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367080"/>
                    <a:ext cx="4302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843440" y="6067440"/>
            <a:ext cx="2535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Х* -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точка спрос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240080" y="3138480"/>
          <a:ext cx="322560" cy="781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40080" y="3138480"/>
                    <a:ext cx="3225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891560" y="5967360"/>
          <a:ext cx="304560" cy="781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91560" y="5967360"/>
                    <a:ext cx="3045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Решение задачи потребительского выбор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Математическая задач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– исследование функции нескольких переменных на условный экстремум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Метод решения задач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– метод множителей Лагранж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Алгоритм решения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Составить функцию Лагранжа –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…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) +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λ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(I –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p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  <a:ea typeface="Times New Roman"/>
              </a:rPr>
              <a:t>1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p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  <a:ea typeface="Times New Roman"/>
              </a:rPr>
              <a:t>2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– … –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  <a:ea typeface="Times New Roman"/>
              </a:rPr>
              <a:t>n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2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Найти частные производные функции Лагранжа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3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Приравнять частные производные к нулю и из полученных уравнений выразить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…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через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…,</a:t>
            </a: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и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получаем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и спроса на каждое благо</a:t>
            </a:r>
            <a:r>
              <a:rPr b="0" lang="en-US" sz="2200" spc="-1" strike="noStrike">
                <a:solidFill>
                  <a:srgbClr val="8383ad"/>
                </a:solidFill>
                <a:latin typeface="Times New Roman"/>
              </a:rPr>
              <a:t> –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* =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…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)</a:t>
            </a: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* =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…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)</a:t>
            </a: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…,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* =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, …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4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Подставить значения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, …, </a:t>
            </a:r>
            <a:r>
              <a:rPr b="1" i="1" lang="ru-RU" sz="22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i="1" lang="en-US" sz="2200" spc="-1" strike="noStrike" baseline="-25000">
                <a:solidFill>
                  <a:srgbClr val="40417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и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в функции спроса и найти точку спроса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ешение задачи потребительского выбора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для функции двух переменных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295280"/>
            <a:ext cx="259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176"/>
                </a:solidFill>
                <a:uFillTx/>
                <a:latin typeface="Times New Roman"/>
              </a:rPr>
              <a:t>Дано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– цены на первое и второе благ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– доход потребителя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176"/>
                </a:solidFill>
                <a:latin typeface="Times New Roman"/>
              </a:rPr>
              <a:t>U(x</a:t>
            </a:r>
            <a:r>
              <a:rPr b="1" lang="en-US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404176"/>
                </a:solidFill>
                <a:latin typeface="Times New Roman"/>
              </a:rPr>
              <a:t>)        ma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При условии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+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176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404176"/>
                </a:solidFill>
                <a:latin typeface="Times New Roman"/>
              </a:rPr>
              <a:t>2         </a:t>
            </a:r>
            <a:r>
              <a:rPr b="1" i="1" lang="en-US" sz="2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95640" y="1219320"/>
            <a:ext cx="581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176"/>
                </a:solidFill>
                <a:uFillTx/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Составим функцию Лагранжа –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 =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U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</a:rPr>
              <a:t>) +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λ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(I –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p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p</a:t>
            </a:r>
            <a:r>
              <a:rPr b="1" lang="en-US" sz="2200" spc="-1" strike="noStrike" baseline="-25000">
                <a:solidFill>
                  <a:srgbClr val="404176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01760" y="3070080"/>
          <a:ext cx="380880" cy="2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1760" y="3070080"/>
                    <a:ext cx="38088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685880" y="3763800"/>
          <a:ext cx="23508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5880" y="3763800"/>
                    <a:ext cx="23508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157800" y="3063960"/>
          <a:ext cx="2003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7800" y="3063960"/>
                    <a:ext cx="2003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4689360" y="3805200"/>
          <a:ext cx="2336760" cy="73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9360" y="3805200"/>
                    <a:ext cx="23367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219720" y="5008680"/>
          <a:ext cx="1716120" cy="80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19720" y="5008680"/>
                    <a:ext cx="17161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4754520" y="5845320"/>
          <a:ext cx="2146320" cy="42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4520" y="5845320"/>
                    <a:ext cx="2146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106800" y="4300560"/>
            <a:ext cx="5843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3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Приравняем частные производные к нулю –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46400" y="2070000"/>
            <a:ext cx="57848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2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Найдем частные производные функции Лагранжа –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21120" y="3048120"/>
          <a:ext cx="1932120" cy="80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21120" y="3048120"/>
                    <a:ext cx="19321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973680" y="5029200"/>
          <a:ext cx="1692000" cy="80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73680" y="5029200"/>
                    <a:ext cx="16920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Решение задачи потребительского выбора</a:t>
            </a:r>
            <a:r>
              <a:rPr b="1" i="1" lang="en-US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176"/>
                </a:solidFill>
                <a:latin typeface="Times New Roman"/>
              </a:rPr>
              <a:t>для функции двух переменных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219320"/>
            <a:ext cx="868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176"/>
                </a:solidFill>
                <a:uFillTx/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4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Рассмотрим уравнения –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5181480" y="2209680"/>
          <a:ext cx="1386000" cy="16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209680"/>
                    <a:ext cx="138600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592440" y="5643720"/>
          <a:ext cx="176544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2440" y="5643720"/>
                    <a:ext cx="17654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5613480" y="1473120"/>
          <a:ext cx="1644480" cy="80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13480" y="1473120"/>
                    <a:ext cx="16444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20760" y="3908520"/>
            <a:ext cx="5843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6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Получаем два уравнения: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5)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Разделим одно уравнение на другое –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70720" y="2397240"/>
            <a:ext cx="7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или</a:t>
            </a: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7421400" y="2198520"/>
          <a:ext cx="1216080" cy="160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21400" y="2198520"/>
                    <a:ext cx="12160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3421080" y="4772160"/>
          <a:ext cx="2359080" cy="82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1080" y="4772160"/>
                    <a:ext cx="23590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219320" y="5873760"/>
            <a:ext cx="7378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Решив полученную систему,  отвечаем на вопрос задачи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786120" y="1447920"/>
          <a:ext cx="1692360" cy="80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86120" y="1447920"/>
                    <a:ext cx="16923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533520" y="533520"/>
            <a:ext cx="7848360" cy="5867280"/>
            <a:chOff x="533520" y="533520"/>
            <a:chExt cx="7848360" cy="5867280"/>
          </a:xfrm>
        </p:grpSpPr>
        <p:sp>
          <p:nvSpPr>
            <p:cNvPr id="492" name=""/>
            <p:cNvSpPr/>
            <p:nvPr/>
          </p:nvSpPr>
          <p:spPr>
            <a:xfrm>
              <a:off x="533520" y="533520"/>
              <a:ext cx="784836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404176"/>
                  </a:solidFill>
                  <a:latin typeface="Times New Roman"/>
                </a:rPr>
                <a:t>Пример</a:t>
              </a:r>
              <a:r>
                <a:rPr b="0" lang="ru-RU" sz="4000" spc="-1" strike="noStrike">
                  <a:solidFill>
                    <a:srgbClr val="404176"/>
                  </a:solidFill>
                  <a:latin typeface="Times New Roman"/>
                </a:rPr>
                <a:t>. </a:t>
              </a:r>
              <a:r>
                <a:rPr b="0" lang="ru-RU" sz="4000" spc="-1" strike="noStrike">
                  <a:solidFill>
                    <a:srgbClr val="8383ad"/>
                  </a:solidFill>
                  <a:latin typeface="Times New Roman"/>
                </a:rPr>
                <a:t>Для потребителя с функцией полезности</a:t>
              </a:r>
              <a:br>
                <a:rPr sz="4000"/>
              </a:br>
              <a:br>
                <a:rPr sz="4000"/>
              </a:br>
              <a:r>
                <a:rPr b="0" lang="ru-RU" sz="4000" spc="-1" strike="noStrike">
                  <a:solidFill>
                    <a:srgbClr val="8383ad"/>
                  </a:solidFill>
                  <a:latin typeface="Times New Roman"/>
                </a:rPr>
                <a:t>определить функции спроса на каждое благо. Найдите точку спроса при доходе </a:t>
              </a:r>
              <a:r>
                <a:rPr b="0" lang="ru-RU" sz="4000" spc="-1" strike="noStrike">
                  <a:solidFill>
                    <a:srgbClr val="404176"/>
                  </a:solidFill>
                  <a:latin typeface="Times New Roman"/>
                </a:rPr>
                <a:t>1615</a:t>
              </a:r>
              <a:r>
                <a:rPr b="0" lang="ru-RU" sz="4000" spc="-1" strike="noStrike">
                  <a:solidFill>
                    <a:srgbClr val="8383ad"/>
                  </a:solidFill>
                  <a:latin typeface="Times New Roman"/>
                </a:rPr>
                <a:t> и ценах </a:t>
              </a:r>
              <a:r>
                <a:rPr b="0" lang="ru-RU" sz="4000" spc="-1" strike="noStrike">
                  <a:solidFill>
                    <a:srgbClr val="404176"/>
                  </a:solidFill>
                  <a:latin typeface="Times New Roman"/>
                </a:rPr>
                <a:t>95</a:t>
              </a:r>
              <a:r>
                <a:rPr b="0" lang="ru-RU" sz="4000" spc="-1" strike="noStrike">
                  <a:solidFill>
                    <a:srgbClr val="8383ad"/>
                  </a:solidFill>
                  <a:latin typeface="Times New Roman"/>
                </a:rPr>
                <a:t> и </a:t>
              </a:r>
              <a:r>
                <a:rPr b="0" lang="ru-RU" sz="4000" spc="-1" strike="noStrike">
                  <a:solidFill>
                    <a:srgbClr val="404176"/>
                  </a:solidFill>
                  <a:latin typeface="Times New Roman"/>
                </a:rPr>
                <a:t>35</a:t>
              </a:r>
              <a:r>
                <a:rPr b="0" lang="ru-RU" sz="4000" spc="-1" strike="noStrike">
                  <a:solidFill>
                    <a:srgbClr val="8383ad"/>
                  </a:solidFill>
                  <a:latin typeface="Times New Roman"/>
                </a:rPr>
                <a:t> соответственно.</a:t>
              </a:r>
              <a:endParaRPr b="0" lang="en-US" sz="4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3048120" y="2438280"/>
            <a:ext cx="3504960" cy="8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2438280"/>
                      <a:ext cx="3504960" cy="8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23480" y="475920"/>
            <a:ext cx="35146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Дано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143000" y="1600200"/>
          <a:ext cx="350532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3505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008080" y="2827440"/>
          <a:ext cx="134460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8080" y="2827440"/>
                    <a:ext cx="13446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035080" y="3278160"/>
          <a:ext cx="138132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5080" y="3278160"/>
                    <a:ext cx="13813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905120" y="2362320"/>
          <a:ext cx="15573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2362320"/>
                    <a:ext cx="1557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143000" y="3809880"/>
            <a:ext cx="3886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Найт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622520" y="4484520"/>
          <a:ext cx="742680" cy="636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2520" y="4484520"/>
                    <a:ext cx="7426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2424240" y="4492800"/>
          <a:ext cx="744480" cy="63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4240" y="4492800"/>
                    <a:ext cx="7444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738440" y="5151600"/>
          <a:ext cx="744480" cy="46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38440" y="5151600"/>
                    <a:ext cx="74448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05-09-15T03:40:36Z</dcterms:modified>
  <cp:revision>95</cp:revision>
  <dc:subject/>
  <dc:title>PowerPoint Presentation</dc:title>
</cp:coreProperties>
</file>