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media/image36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38.wmf" ContentType="image/x-wmf"/>
  <Override PartName="/ppt/media/image8.wmf" ContentType="image/x-wmf"/>
  <Override PartName="/ppt/media/image46.png" ContentType="image/png"/>
  <Override PartName="/ppt/media/image31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47.png" ContentType="image/png"/>
  <Override PartName="/ppt/media/image32.wmf" ContentType="image/x-wmf"/>
  <Override PartName="/ppt/media/image35.wmf" ContentType="image/x-wmf"/>
  <Override PartName="/ppt/media/image11.wmf" ContentType="image/x-wmf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259-43F4-498C-94DB-F1D2D4C3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043-6ECA-4BC5-92C4-C2EA56F8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F2C5-A0B3-40A8-A150-330E1A78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838-26DD-4D4E-A22E-161A0006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A252-ECB5-4508-B314-0A8B1301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DB29-C5B2-46C7-96FD-3AAB9992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4CBE-E6D2-41FC-9383-13952064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53A5-33D8-4AC3-A16D-968F9E0B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2926-4969-4F03-BEEB-C8379976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2BC7-A49D-485F-B3D3-91A95029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90D5-7977-47E1-BE5F-874C479B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CB91-3702-49CD-88EB-4662CEE5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0C63-70E1-417C-AE79-A27BEE24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DFA2-3FD6-459B-BC63-BE1F5EAE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703B-5D07-457C-8275-0DB53F62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0359-2632-46C2-9CC9-DF07EADF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E85D-9A79-4899-95D1-B76594AE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0307-D811-4041-ACEC-56563036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602-5269-4CBD-B002-C1E888C0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E72-02CD-4A09-848B-36B81FAE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A01-191F-4013-99BC-B727837F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75AB-A08F-48D1-AE5D-0B1EE6F3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2FAE-FD57-434A-A327-41622583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EEC-47A6-4065-8382-B21F8C9F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6A74-D316-4363-AAEC-BFF615D0E7A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FF5C-11AA-4021-83B0-25835090E6C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image" Target="../media/image42.wmf"/><Relationship Id="rId10" Type="http://schemas.openxmlformats.org/officeDocument/2006/relationships/image" Target="../media/image43.wmf"/><Relationship Id="rId11" Type="http://schemas.openxmlformats.org/officeDocument/2006/relationships/image" Target="../media/image44.wmf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3.wmf"/><Relationship Id="rId14" Type="http://schemas.openxmlformats.org/officeDocument/2006/relationships/image" Target="../media/image24.wmf"/><Relationship Id="rId15" Type="http://schemas.openxmlformats.org/officeDocument/2006/relationships/image" Target="../media/image24.wmf"/><Relationship Id="rId1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Готовимся к ЕГ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640" y="3715920"/>
            <a:ext cx="54453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Учитель математи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МБОУ «Лицей №4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г. Юбилейный Московской облас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Лысенко Е.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2760" y="2492280"/>
            <a:ext cx="2739960" cy="22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3 ви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уравнения, решаемые методом вынесения общего множителя за скобк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Рисунок 92" descr=""/>
          <p:cNvPicPr/>
          <p:nvPr/>
        </p:nvPicPr>
        <p:blipFill>
          <a:blip r:embed="rId2"/>
          <a:stretch/>
        </p:blipFill>
        <p:spPr>
          <a:xfrm>
            <a:off x="2484360" y="1700280"/>
            <a:ext cx="2158920" cy="5047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3" descr=""/>
          <p:cNvPicPr/>
          <p:nvPr/>
        </p:nvPicPr>
        <p:blipFill>
          <a:blip r:embed="rId3"/>
          <a:stretch/>
        </p:blipFill>
        <p:spPr>
          <a:xfrm>
            <a:off x="2411280" y="2421000"/>
            <a:ext cx="2232000" cy="5047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94" descr=""/>
          <p:cNvPicPr/>
          <p:nvPr/>
        </p:nvPicPr>
        <p:blipFill>
          <a:blip r:embed="rId4"/>
          <a:stretch/>
        </p:blipFill>
        <p:spPr>
          <a:xfrm>
            <a:off x="5219640" y="2421000"/>
            <a:ext cx="2448000" cy="5032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95" descr=""/>
          <p:cNvPicPr/>
          <p:nvPr/>
        </p:nvPicPr>
        <p:blipFill>
          <a:blip r:embed="rId5"/>
          <a:stretch/>
        </p:blipFill>
        <p:spPr>
          <a:xfrm>
            <a:off x="1042920" y="3213000"/>
            <a:ext cx="2305080" cy="5763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96" descr=""/>
          <p:cNvPicPr/>
          <p:nvPr/>
        </p:nvPicPr>
        <p:blipFill>
          <a:blip r:embed="rId6"/>
          <a:stretch/>
        </p:blipFill>
        <p:spPr>
          <a:xfrm>
            <a:off x="3924360" y="3213000"/>
            <a:ext cx="1368360" cy="5763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97" descr=""/>
          <p:cNvPicPr/>
          <p:nvPr/>
        </p:nvPicPr>
        <p:blipFill>
          <a:blip r:embed="rId7"/>
          <a:stretch/>
        </p:blipFill>
        <p:spPr>
          <a:xfrm>
            <a:off x="5651640" y="3284640"/>
            <a:ext cx="865080" cy="4316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98" descr=""/>
          <p:cNvPicPr/>
          <p:nvPr/>
        </p:nvPicPr>
        <p:blipFill>
          <a:blip r:embed="rId8"/>
          <a:stretch/>
        </p:blipFill>
        <p:spPr>
          <a:xfrm>
            <a:off x="6877080" y="3284640"/>
            <a:ext cx="934920" cy="4316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99" descr=""/>
          <p:cNvPicPr/>
          <p:nvPr/>
        </p:nvPicPr>
        <p:blipFill>
          <a:blip r:embed="rId9"/>
          <a:stretch/>
        </p:blipFill>
        <p:spPr>
          <a:xfrm>
            <a:off x="2843280" y="4437000"/>
            <a:ext cx="1657440" cy="432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00" descr=""/>
          <p:cNvPicPr/>
          <p:nvPr/>
        </p:nvPicPr>
        <p:blipFill>
          <a:blip r:embed="rId10"/>
          <a:stretch/>
        </p:blipFill>
        <p:spPr>
          <a:xfrm>
            <a:off x="4716360" y="4365720"/>
            <a:ext cx="2016360" cy="503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116000" y="220716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Решение: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88120" y="1342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88120" y="1836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415332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х=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верк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5287320"/>
            <a:ext cx="3887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0,992=0,992 – ве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твет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х=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4 вид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уравнения вида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8001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Рисунок 116" descr=""/>
          <p:cNvPicPr/>
          <p:nvPr/>
        </p:nvPicPr>
        <p:blipFill>
          <a:blip r:embed="rId2"/>
          <a:stretch/>
        </p:blipFill>
        <p:spPr>
          <a:xfrm>
            <a:off x="4067280" y="260280"/>
            <a:ext cx="3384360" cy="720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4000" y="100728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аются путем деления членов 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17" descr=""/>
          <p:cNvPicPr/>
          <p:nvPr/>
        </p:nvPicPr>
        <p:blipFill>
          <a:blip r:embed="rId3"/>
          <a:stretch/>
        </p:blipFill>
        <p:spPr>
          <a:xfrm>
            <a:off x="4572000" y="1052640"/>
            <a:ext cx="1008000" cy="4316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19" descr=""/>
          <p:cNvPicPr/>
          <p:nvPr/>
        </p:nvPicPr>
        <p:blipFill>
          <a:blip r:embed="rId4"/>
          <a:stretch/>
        </p:blipFill>
        <p:spPr>
          <a:xfrm>
            <a:off x="2268360" y="1844640"/>
            <a:ext cx="2808360" cy="4698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20" descr=""/>
          <p:cNvPicPr/>
          <p:nvPr/>
        </p:nvPicPr>
        <p:blipFill>
          <a:blip r:embed="rId5"/>
          <a:stretch/>
        </p:blipFill>
        <p:spPr>
          <a:xfrm>
            <a:off x="3635280" y="2637000"/>
            <a:ext cx="1008000" cy="3348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21" descr=""/>
          <p:cNvPicPr/>
          <p:nvPr/>
        </p:nvPicPr>
        <p:blipFill>
          <a:blip r:embed="rId6"/>
          <a:stretch/>
        </p:blipFill>
        <p:spPr>
          <a:xfrm>
            <a:off x="1187280" y="3141720"/>
            <a:ext cx="2232360" cy="7189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22" descr=""/>
          <p:cNvPicPr/>
          <p:nvPr/>
        </p:nvPicPr>
        <p:blipFill>
          <a:blip r:embed="rId7"/>
          <a:stretch/>
        </p:blipFill>
        <p:spPr>
          <a:xfrm>
            <a:off x="4067280" y="3141720"/>
            <a:ext cx="2592360" cy="718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986400" y="2647080"/>
            <a:ext cx="26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Решение: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Делим 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3760" y="43552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87280" y="4149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лож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123" descr=""/>
          <p:cNvPicPr/>
          <p:nvPr/>
        </p:nvPicPr>
        <p:blipFill>
          <a:blip r:embed="rId8"/>
          <a:stretch/>
        </p:blipFill>
        <p:spPr>
          <a:xfrm>
            <a:off x="2556000" y="4221000"/>
            <a:ext cx="1008000" cy="720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24360" y="414432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огда име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124" descr=""/>
          <p:cNvPicPr/>
          <p:nvPr/>
        </p:nvPicPr>
        <p:blipFill>
          <a:blip r:embed="rId9"/>
          <a:stretch/>
        </p:blipFill>
        <p:spPr>
          <a:xfrm>
            <a:off x="5724360" y="4149720"/>
            <a:ext cx="1727280" cy="64764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25" descr=""/>
          <p:cNvPicPr/>
          <p:nvPr/>
        </p:nvPicPr>
        <p:blipFill>
          <a:blip r:embed="rId10"/>
          <a:stretch/>
        </p:blipFill>
        <p:spPr>
          <a:xfrm>
            <a:off x="1403280" y="5084640"/>
            <a:ext cx="1728720" cy="4352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11000" y="575856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х=0; х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132" descr=""/>
          <p:cNvPicPr/>
          <p:nvPr/>
        </p:nvPicPr>
        <p:blipFill>
          <a:blip r:embed="rId11"/>
          <a:stretch/>
        </p:blipFill>
        <p:spPr>
          <a:xfrm>
            <a:off x="3564000" y="5661000"/>
            <a:ext cx="360360" cy="647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975120" y="3599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амостоятельная работа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9" descr="27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90960" y="2057400"/>
            <a:ext cx="2952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Индивидуальная работа № 1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50920" y="1700280"/>
          <a:ext cx="8713440" cy="3744720"/>
        </p:xfrm>
        <a:graphic>
          <a:graphicData uri="http://schemas.openxmlformats.org/drawingml/2006/table">
            <a:tbl>
              <a:tblPr/>
              <a:tblGrid>
                <a:gridCol w="4463280"/>
                <a:gridCol w="4250160"/>
              </a:tblGrid>
              <a:tr h="37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риант 1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риант 2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4000" y="2421000"/>
                <a:ext cx="4103640" cy="23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2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  <m:sup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788000" y="2276640"/>
                <a:ext cx="4105080" cy="25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9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84360" y="551664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Индивидуальная работа № 2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557360"/>
          <a:ext cx="8229600" cy="4824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риант 1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риант 2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1280" y="2133720"/>
                <a:ext cx="3744720" cy="40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6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х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х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7</m:t>
                                    </m:r>
                                  </m:num>
                                  <m:den>
                                    <m:r>
                                      <m:t xml:space="preserve">8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deg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859280" y="2060640"/>
                <a:ext cx="3529080" cy="41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х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х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8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8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8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Удачи на экзамене !!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3085920" cy="2879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41670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оказательные уравнения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Теоретические материал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Методы решения уравнен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Задания для самостоятельного изуч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ндивидуальная рабо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4869000" y="1820880"/>
            <a:ext cx="347184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8036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Уравнение-это равенство, содержащее неизвестную величину, значение которой нужно найти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Корень уравнения – это значение неизвестной величины, при котором равенство не теряет смысла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Решить уравнение – значит найти все его корни или доказать, что корней нет.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ункция, заданная формулой у = а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где а &gt; 0, а≠ 1), называется показательной функцией с основанием 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область определения – множество всех действительных чисел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) =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+ (область значений – все положительные числа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При а &gt; 1, функция возрастает.  При 0 &lt; а &lt;  1, функция убывает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47640" y="1760400"/>
            <a:ext cx="3054240" cy="4191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197320" y="1760400"/>
            <a:ext cx="3289320" cy="41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Показательным уравнением называется уравнение, содержащее переменную в показателе степен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755964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Виды показательных уравнений и способы их решения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1вид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равнения, решаемые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ведением к одному основанию левой и правой частей, применяя свойства степен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2 вид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уравнения вида P(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=0, где P(y) – многочлен 2 или 3 степени, или уравнения, сводящиеся к ним. Такие уравнения решаются методом подстановки: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=y, решаем уравнение P(y)=0, находим его корни y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потом решаем простейшее уравнение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= y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3 вид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уравнения, решаемые методом вынесения общего множителя за скоб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4 вид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уравнения вид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Рисунок 116" descr=""/>
          <p:cNvPicPr/>
          <p:nvPr/>
        </p:nvPicPr>
        <p:blipFill>
          <a:blip r:embed="rId2"/>
          <a:stretch/>
        </p:blipFill>
        <p:spPr>
          <a:xfrm>
            <a:off x="4572000" y="4653000"/>
            <a:ext cx="3384720" cy="5763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17" descr=""/>
          <p:cNvPicPr/>
          <p:nvPr/>
        </p:nvPicPr>
        <p:blipFill>
          <a:blip r:embed="rId3"/>
          <a:stretch/>
        </p:blipFill>
        <p:spPr>
          <a:xfrm>
            <a:off x="5076720" y="5373720"/>
            <a:ext cx="1008000" cy="431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18" descr=""/>
          <p:cNvPicPr/>
          <p:nvPr/>
        </p:nvPicPr>
        <p:blipFill>
          <a:blip r:embed="rId4"/>
          <a:stretch/>
        </p:blipFill>
        <p:spPr>
          <a:xfrm>
            <a:off x="6804000" y="5373720"/>
            <a:ext cx="1008000" cy="360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71640" y="5252040"/>
            <a:ext cx="41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аются путем деления членов 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90640" y="5383800"/>
            <a:ext cx="6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95800" y="3756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1вид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уравнения, решаемые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риведением к одному основанию левой и правой частей, применяя свойства степеней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7488000" cy="12240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"/>
          <p:cNvPicPr/>
          <p:nvPr/>
        </p:nvPicPr>
        <p:blipFill>
          <a:blip r:embed="rId3"/>
          <a:stretch/>
        </p:blipFill>
        <p:spPr>
          <a:xfrm>
            <a:off x="754920" y="3933720"/>
            <a:ext cx="4032360" cy="1008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"/>
          <p:cNvPicPr/>
          <p:nvPr/>
        </p:nvPicPr>
        <p:blipFill>
          <a:blip r:embed="rId4"/>
          <a:stretch/>
        </p:blipFill>
        <p:spPr>
          <a:xfrm>
            <a:off x="5508720" y="4076640"/>
            <a:ext cx="1152360" cy="792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71640" y="507276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х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340000" y="4941720"/>
                <a:ext cx="253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4120920" y="364716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65680" y="324576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1вид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уравнения, решаемые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риведением к одному основанию левой и правой частей, применяя свойства степеней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4120920" y="364716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32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2592360" cy="560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8360" y="259632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33" descr=""/>
          <p:cNvPicPr/>
          <p:nvPr/>
        </p:nvPicPr>
        <p:blipFill>
          <a:blip r:embed="rId3"/>
          <a:stretch/>
        </p:blipFill>
        <p:spPr>
          <a:xfrm>
            <a:off x="1908000" y="2421000"/>
            <a:ext cx="1943280" cy="503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80000" y="25153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х–4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4х–4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31006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х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34" descr=""/>
          <p:cNvPicPr/>
          <p:nvPr/>
        </p:nvPicPr>
        <p:blipFill>
          <a:blip r:embed="rId4"/>
          <a:stretch/>
        </p:blipFill>
        <p:spPr>
          <a:xfrm>
            <a:off x="1258920" y="3141720"/>
            <a:ext cx="360360" cy="574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11280" y="306828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ем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х–4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3х–4 и тогда уравнение запишем в ви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х–4=4х–4;–х=0; х=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402984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х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35" descr=""/>
          <p:cNvPicPr/>
          <p:nvPr/>
        </p:nvPicPr>
        <p:blipFill>
          <a:blip r:embed="rId5"/>
          <a:stretch/>
        </p:blipFill>
        <p:spPr>
          <a:xfrm>
            <a:off x="1258920" y="4005360"/>
            <a:ext cx="360360" cy="576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246560" y="362304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3860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ем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х–4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4–3х и уравнение запишем в ви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–3х=4х–4; –7х=–8;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6" descr=""/>
          <p:cNvPicPr/>
          <p:nvPr/>
        </p:nvPicPr>
        <p:blipFill>
          <a:blip r:embed="rId6"/>
          <a:stretch/>
        </p:blipFill>
        <p:spPr>
          <a:xfrm>
            <a:off x="2050920" y="5661000"/>
            <a:ext cx="360360" cy="503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021040" y="3599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1080" y="494100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х=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37" descr=""/>
          <p:cNvPicPr/>
          <p:nvPr/>
        </p:nvPicPr>
        <p:blipFill>
          <a:blip r:embed="rId7"/>
          <a:stretch/>
        </p:blipFill>
        <p:spPr>
          <a:xfrm>
            <a:off x="2484360" y="4941720"/>
            <a:ext cx="1441440" cy="3254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8" descr=""/>
          <p:cNvPicPr/>
          <p:nvPr/>
        </p:nvPicPr>
        <p:blipFill>
          <a:blip r:embed="rId8"/>
          <a:stretch/>
        </p:blipFill>
        <p:spPr>
          <a:xfrm>
            <a:off x="4356000" y="4941720"/>
            <a:ext cx="1008000" cy="3589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39" descr=""/>
          <p:cNvPicPr/>
          <p:nvPr/>
        </p:nvPicPr>
        <p:blipFill>
          <a:blip r:embed="rId9"/>
          <a:stretch/>
        </p:blipFill>
        <p:spPr>
          <a:xfrm>
            <a:off x="5651640" y="4941720"/>
            <a:ext cx="865080" cy="324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659640" y="4901400"/>
            <a:ext cx="11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вер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566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99200" y="3599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41" descr=""/>
          <p:cNvPicPr/>
          <p:nvPr/>
        </p:nvPicPr>
        <p:blipFill>
          <a:blip r:embed="rId10"/>
          <a:stretch/>
        </p:blipFill>
        <p:spPr>
          <a:xfrm>
            <a:off x="2484360" y="5661000"/>
            <a:ext cx="1511280" cy="5047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2" descr=""/>
          <p:cNvPicPr/>
          <p:nvPr/>
        </p:nvPicPr>
        <p:blipFill>
          <a:blip r:embed="rId11"/>
          <a:stretch/>
        </p:blipFill>
        <p:spPr>
          <a:xfrm>
            <a:off x="4356000" y="5661000"/>
            <a:ext cx="1008000" cy="5047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3" descr=""/>
          <p:cNvPicPr/>
          <p:nvPr/>
        </p:nvPicPr>
        <p:blipFill>
          <a:blip r:embed="rId12"/>
          <a:stretch/>
        </p:blipFill>
        <p:spPr>
          <a:xfrm>
            <a:off x="5651640" y="5661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4" descr=""/>
          <p:cNvPicPr/>
          <p:nvPr/>
        </p:nvPicPr>
        <p:blipFill>
          <a:blip r:embed="rId13"/>
          <a:stretch/>
        </p:blipFill>
        <p:spPr>
          <a:xfrm>
            <a:off x="6156360" y="5661000"/>
            <a:ext cx="431640" cy="504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734880" y="5660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61905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5" descr=""/>
          <p:cNvPicPr/>
          <p:nvPr/>
        </p:nvPicPr>
        <p:blipFill>
          <a:blip r:embed="rId14"/>
          <a:stretch/>
        </p:blipFill>
        <p:spPr>
          <a:xfrm>
            <a:off x="2268360" y="6237360"/>
            <a:ext cx="358920" cy="620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43240" y="3599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45" descr=""/>
          <p:cNvPicPr/>
          <p:nvPr/>
        </p:nvPicPr>
        <p:blipFill>
          <a:blip r:embed="rId15"/>
          <a:stretch/>
        </p:blipFill>
        <p:spPr>
          <a:xfrm>
            <a:off x="5076720" y="4149720"/>
            <a:ext cx="35892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100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2 вид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уравнения вида P(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=0, где P(y) – многочлен 2 или 3 степени, или уравнения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водящиеся к ним. Такие уравнения решаются методом подстановки: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=y, решаем уравнение P(y)=0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ходим его корни y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потом решаем простейшее уравнение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= y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2707920"/>
            <a:ext cx="80010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Рисунок 61" descr=""/>
          <p:cNvPicPr/>
          <p:nvPr/>
        </p:nvPicPr>
        <p:blipFill>
          <a:blip r:embed="rId2"/>
          <a:stretch/>
        </p:blipFill>
        <p:spPr>
          <a:xfrm>
            <a:off x="2484360" y="2637000"/>
            <a:ext cx="2951280" cy="4316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62" descr=""/>
          <p:cNvPicPr/>
          <p:nvPr/>
        </p:nvPicPr>
        <p:blipFill>
          <a:blip r:embed="rId3"/>
          <a:stretch/>
        </p:blipFill>
        <p:spPr>
          <a:xfrm>
            <a:off x="2195640" y="3357720"/>
            <a:ext cx="2232000" cy="5029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63" descr=""/>
          <p:cNvPicPr/>
          <p:nvPr/>
        </p:nvPicPr>
        <p:blipFill>
          <a:blip r:embed="rId4"/>
          <a:stretch/>
        </p:blipFill>
        <p:spPr>
          <a:xfrm>
            <a:off x="5796000" y="3716280"/>
            <a:ext cx="1224000" cy="360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71640" y="325044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Решение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3119760"/>
            <a:ext cx="2664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усть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=y, 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+12y–64=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=–6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95640" y="4060440"/>
            <a:ext cx="42480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=–6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1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=4; y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=–16 (п.к.), т.к.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0,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=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х=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52570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твет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х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5T17:16:13Z</dcterms:created>
  <dc:creator>SamLab.ws</dc:creator>
  <dc:description/>
  <dc:language>en-US</dc:language>
  <cp:lastModifiedBy>SamLab.ws</cp:lastModifiedBy>
  <dcterms:modified xsi:type="dcterms:W3CDTF">2013-05-18T19:27:07Z</dcterms:modified>
  <cp:revision>34</cp:revision>
  <dc:subject/>
  <dc:title>Готовимся к ЕГЭ</dc:title>
</cp:coreProperties>
</file>