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18A-862E-4765-8DDB-F745F5E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C3B-A3C4-4875-8A3D-0FC06B4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3CE-DBFB-429D-A392-DEA08BBA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A2A-14B6-424E-9B8E-F1F6550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D47-E8DE-41A7-8B2C-C868D354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DFC4-1833-4A6B-B28E-3014929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C488-AE12-4362-92DC-D67893D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E050-A674-4EFE-80E3-09C39654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A50A-C6EE-45F5-B33B-82F8802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659C-CD12-404A-AEC7-2F274C5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7676-9278-40A7-97F1-60F84EA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CA0-D233-4006-BBE7-BBEF205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656-239E-41DC-AD74-C90CB5A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174F-26CE-4B90-9554-998850E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7F3C-F879-49C6-ACA4-8F14B11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F4BD-F6A7-4D14-A5AE-9CF019FF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F15-6164-4DCD-88AB-B0CE303E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5768A-A536-4B21-B427-84FD91B3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66CF7-EE55-46EC-B4CD-26F4793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58C23-2750-4600-A6C0-DD0FEB6C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2B645-9E3F-4925-B0DC-4CFDFA4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DD38D-571E-45C2-85B3-42BCE71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244-51C5-4BD4-A085-A0F3CDCE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E7171-F50C-4467-B90A-9D4D8D92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09BD3-FB20-4219-8F51-505A1F8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FDDDA-39DC-42D6-A72A-754CA2F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AD69E-8385-4370-85E6-8CAB0F2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86043-9E3E-430B-AE6F-2D9AF661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93860-10BE-4F99-901E-E2DF432E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E38E8-A886-4E21-B1C3-B46AAFF6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9923-CA56-4411-A368-AFD98ACE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4457-3A88-4D0F-8D2E-3CE20C3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32BC-8F34-49E6-8ED5-01BDB9A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F7C-36DB-44FA-9714-407B584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F870-0EBC-409E-91C8-DE343C0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85F6-DEDD-4FF2-8EE6-D21FB7E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BAD6-5031-4BD3-821B-C3238153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392B-47AA-4F8B-B1C7-3E39B14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4C50-0EE2-408E-BE92-EBBCDB9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D574-2413-41B2-B09E-1DA8576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285A-3BFB-4286-9BF9-44F48B0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AEEC-9ECC-48F1-8224-6A403616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2A6E-38C4-4BE2-A2F5-37B80B64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FCCCD-DF62-4F47-97C0-94CEC120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BD3-C941-4FAD-ABFA-CC0EF38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3B3EF-07AD-4E26-B75A-20ECAF1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F89A7-B599-4958-86B1-26C072F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8AE55-DB51-4ACA-AC1A-6F34CB6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10C12-933B-4EDC-9CD5-BE1849A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141B-EBBB-44F0-9E2B-ECCD704D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75F21-0F43-456E-8074-0FAF490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4531F-695F-4868-8B36-6F1460E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32865-A991-482A-BFDD-40A0949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209F4-FE5E-4F4E-B50C-B45C39F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CF910-4323-4EFC-AD24-96F1CB18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63D-BE72-4D8B-9535-09B23F97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50A6B-DAC9-4830-9EEC-820CEF38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243D1-AD7E-422E-BEC1-F479BD9C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A306D-A00F-4AA9-9013-FA7FCA8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22B1D-0581-479E-811E-39B22E1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5F453-84CA-43D1-BBAD-BFB59CF9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FFD06-4A5C-498F-A149-ECF7187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9EB95-B332-46A6-8336-CEABAB04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4D78B-6253-4719-B792-D309B4E7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3F62A-8F23-4978-8307-502E634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CBCF6-2328-4961-BBF1-3B5F234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41B-C5E4-4397-AE04-0AAEEB1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CFEF1-1D5C-4DF6-BF99-B7E3340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FAE5B-4806-4F94-8E7F-8F0448E8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ED329-C653-449C-9E04-DA38B050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D8E02-4C4D-43A9-B2D4-F1FDA26E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8C095-6A80-4420-83FE-ECEF1C2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91ECB-FD73-42D1-85F6-7846264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25862-CBAE-4BC2-9444-3F29C6B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30AA0-4979-4CC9-A183-5023F05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BC928-BCD3-492F-BFCC-65A794D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AFC68-2646-499E-966D-B9AD706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DF7-BDC5-4858-9430-E8458E8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A6887-D1C8-4629-BEE8-F2FC423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60795-C537-46F7-A53E-51DC6EA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202ED-3458-4F17-B66C-91B1F1A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E0F35-A9FB-4538-BB2C-1982EA39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AFB41-729E-4D0C-8D1B-10EDD604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A70-0E3B-4790-AFB8-8BC8B67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AF8F-B358-4A3A-9F53-118F937414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40A-8369-4D0A-AE84-67CFC9B5A2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94F-3107-404E-BC40-D5192F7F55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5919-9248-4BC7-B389-5EA55A87D4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342-BD04-471F-8368-7C0AEB5F96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D94-6095-4126-A219-73F1D1DCE6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0EC-0238-43D4-BACB-316BAF26E5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172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ОБОБЩАЮЩИЙ УРОК ПО ТЕМЕ:</a:t>
            </a: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« ЧЕТЫРЁХУГОЛЬНИКИ»</a:t>
            </a: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4008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Муниципальное образовательное  учрежден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редняя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общеобразовательная школа № 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г. Королё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Московской област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Лукашенко Т.М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ОБОБЩАЮЩИЙ УРОК ПО ТЕМЕ: «ЧЕТЫРЁХУГОЛЬНИКИ»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42960" y="1285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Цель урока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Привести в систему знания учащихся по данной тем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проверить степень усвоения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Проверка усвоения изученного материала (устная работа по готовым  рисунка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Решение задач (по одной на каждый четырёхугольник) в тетрадях письмен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Итог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Домашнее зад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ХОД УРО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3000"/>
            </a:b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1.ВЫПУКЛЫЕ ЧЕТЫРЁХУГОЛЬНИКИ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000" y="1557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611280" y="1700280"/>
            <a:ext cx="2143080" cy="1071360"/>
          </a:xfrm>
          <a:prstGeom prst="rect">
            <a:avLst/>
          </a:prstGeom>
          <a:solidFill>
            <a:srgbClr val="00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Трапеция 4"/>
          <p:cNvSpPr/>
          <p:nvPr/>
        </p:nvSpPr>
        <p:spPr>
          <a:xfrm>
            <a:off x="3564000" y="1844640"/>
            <a:ext cx="1785960" cy="857160"/>
          </a:xfrm>
          <a:prstGeom prst="pie">
            <a:avLst/>
          </a:prstGeom>
          <a:solidFill>
            <a:srgbClr val="fff39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8"/>
          <p:cNvSpPr/>
          <p:nvPr/>
        </p:nvSpPr>
        <p:spPr>
          <a:xfrm>
            <a:off x="1186560" y="4653000"/>
            <a:ext cx="714600" cy="8571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0"/>
          <p:cNvSpPr/>
          <p:nvPr/>
        </p:nvSpPr>
        <p:spPr>
          <a:xfrm flipV="1">
            <a:off x="1908000" y="4941720"/>
            <a:ext cx="1000440" cy="5716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ая соединительная линия 14"/>
          <p:cNvSpPr/>
          <p:nvPr/>
        </p:nvSpPr>
        <p:spPr>
          <a:xfrm flipV="1">
            <a:off x="1186560" y="3284640"/>
            <a:ext cx="785880" cy="13572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16"/>
          <p:cNvSpPr/>
          <p:nvPr/>
        </p:nvSpPr>
        <p:spPr>
          <a:xfrm>
            <a:off x="1979640" y="3284640"/>
            <a:ext cx="928800" cy="164304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араллелограмм 17"/>
          <p:cNvSpPr/>
          <p:nvPr/>
        </p:nvSpPr>
        <p:spPr>
          <a:xfrm>
            <a:off x="5508720" y="3357720"/>
            <a:ext cx="2214360" cy="1857240"/>
          </a:xfrm>
          <a:prstGeom prst="parallelogram">
            <a:avLst>
              <a:gd name="adj" fmla="val 24999"/>
            </a:avLst>
          </a:prstGeom>
          <a:solidFill>
            <a:srgbClr val="00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Ромб 18"/>
          <p:cNvSpPr/>
          <p:nvPr/>
        </p:nvSpPr>
        <p:spPr>
          <a:xfrm>
            <a:off x="2987640" y="3213000"/>
            <a:ext cx="1785960" cy="2000520"/>
          </a:xfrm>
          <a:prstGeom prst="diamond">
            <a:avLst/>
          </a:prstGeom>
          <a:solidFill>
            <a:srgbClr val="d2611c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19"/>
          <p:cNvSpPr/>
          <p:nvPr/>
        </p:nvSpPr>
        <p:spPr>
          <a:xfrm>
            <a:off x="6443640" y="1916280"/>
            <a:ext cx="1285920" cy="1000080"/>
          </a:xfrm>
          <a:prstGeom prst="rect">
            <a:avLst/>
          </a:prstGeom>
          <a:solidFill>
            <a:srgbClr val="0066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entury Schoolbook"/>
              </a:rPr>
              <a:t>2. </a:t>
            </a: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ПАРАЛЛЕЛОГРАММ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4920" cy="4967640"/>
          </a:xfrm>
          <a:prstGeom prst="rect">
            <a:avLst/>
          </a:prstGeom>
          <a:ln w="0">
            <a:noFill/>
          </a:ln>
        </p:spPr>
      </p:pic>
      <p:sp>
        <p:nvSpPr>
          <p:cNvPr id="368" name="Параллелограмм 9"/>
          <p:cNvSpPr/>
          <p:nvPr/>
        </p:nvSpPr>
        <p:spPr>
          <a:xfrm>
            <a:off x="611280" y="765000"/>
            <a:ext cx="1643040" cy="1428840"/>
          </a:xfrm>
          <a:prstGeom prst="parallelogram">
            <a:avLst>
              <a:gd name="adj" fmla="val 25000"/>
            </a:avLst>
          </a:prstGeom>
          <a:solidFill>
            <a:srgbClr val="00ff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3.ПРЯМОУГОЛЬНИК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50920" y="2492280"/>
            <a:ext cx="4619880" cy="36957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1042920" y="907920"/>
            <a:ext cx="2428920" cy="1214640"/>
          </a:xfrm>
          <a:prstGeom prst="rect">
            <a:avLst/>
          </a:prstGeom>
          <a:solidFill>
            <a:srgbClr val="fff39d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entury Schoolbook"/>
              </a:rPr>
              <a:t>4. РОМБ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1" descr=""/>
          <p:cNvPicPr/>
          <p:nvPr/>
        </p:nvPicPr>
        <p:blipFill>
          <a:blip r:embed="rId1"/>
          <a:stretch/>
        </p:blipFill>
        <p:spPr>
          <a:xfrm>
            <a:off x="1967040" y="1855800"/>
            <a:ext cx="4448160" cy="4362480"/>
          </a:xfrm>
          <a:prstGeom prst="rect">
            <a:avLst/>
          </a:prstGeom>
          <a:ln w="0">
            <a:noFill/>
          </a:ln>
        </p:spPr>
      </p:pic>
      <p:sp>
        <p:nvSpPr>
          <p:cNvPr id="374" name="Ромб 5"/>
          <p:cNvSpPr/>
          <p:nvPr/>
        </p:nvSpPr>
        <p:spPr>
          <a:xfrm>
            <a:off x="250920" y="549360"/>
            <a:ext cx="1571400" cy="2143080"/>
          </a:xfrm>
          <a:prstGeom prst="diamond">
            <a:avLst/>
          </a:prstGeom>
          <a:solidFill>
            <a:srgbClr val="00ff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entury Schoolbook"/>
              </a:rPr>
              <a:t>5. КВАДРАТ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17204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4"/>
          <p:cNvSpPr/>
          <p:nvPr/>
        </p:nvSpPr>
        <p:spPr>
          <a:xfrm>
            <a:off x="539640" y="549360"/>
            <a:ext cx="1643040" cy="1285920"/>
          </a:xfrm>
          <a:prstGeom prst="rect">
            <a:avLst/>
          </a:prstGeom>
          <a:solidFill>
            <a:srgbClr val="00ff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500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entury Schoolbook"/>
              </a:rPr>
              <a:t>6. ИТОГ УРОК</a:t>
            </a: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358400" cy="4894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80" name="Picture 3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6732720" y="692280"/>
            <a:ext cx="1655640" cy="2593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7. ДОМАШНЕЕ ЗАДА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6051600" cy="36356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ая соединительная линия 7"/>
          <p:cNvSpPr/>
          <p:nvPr/>
        </p:nvSpPr>
        <p:spPr>
          <a:xfrm>
            <a:off x="857160" y="1714680"/>
            <a:ext cx="6000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Прямая соединительная линия 9"/>
          <p:cNvSpPr/>
          <p:nvPr/>
        </p:nvSpPr>
        <p:spPr>
          <a:xfrm flipV="1">
            <a:off x="856440" y="1714680"/>
            <a:ext cx="18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Прямая соединительная линия 13"/>
          <p:cNvSpPr/>
          <p:nvPr/>
        </p:nvSpPr>
        <p:spPr>
          <a:xfrm flipH="1" flipV="1">
            <a:off x="713880" y="1714680"/>
            <a:ext cx="1429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ая соединительная линия 19"/>
          <p:cNvSpPr/>
          <p:nvPr/>
        </p:nvSpPr>
        <p:spPr>
          <a:xfrm flipV="1">
            <a:off x="4141800" y="928440"/>
            <a:ext cx="1440" cy="785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ая соединительная линия 21"/>
          <p:cNvSpPr/>
          <p:nvPr/>
        </p:nvSpPr>
        <p:spPr>
          <a:xfrm>
            <a:off x="714240" y="928800"/>
            <a:ext cx="607248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ая соединительная линия 23"/>
          <p:cNvSpPr/>
          <p:nvPr/>
        </p:nvSpPr>
        <p:spPr>
          <a:xfrm flipH="1">
            <a:off x="4141800" y="1714680"/>
            <a:ext cx="1440" cy="17157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83720" y="928800"/>
            <a:ext cx="1800" cy="25016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6012000" y="436572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6:39Z</dcterms:created>
  <dc:creator>Волкова</dc:creator>
  <dc:description/>
  <dc:language>en-US</dc:language>
  <cp:lastModifiedBy>Татьяна</cp:lastModifiedBy>
  <dcterms:modified xsi:type="dcterms:W3CDTF">2008-04-19T10:38:54Z</dcterms:modified>
  <cp:revision>27</cp:revision>
  <dc:subject/>
  <dc:title>Обобщающий урок по теме: « Четырёхугольники»</dc:title>
</cp:coreProperties>
</file>