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8467-A370-4F3D-95B3-3D5430DA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1743-7039-43C2-8993-D63E12C2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83FE-4489-4E55-AF27-2B65E129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3FCA-AD55-42FD-946E-91FB0FAC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4050-0BB0-43DA-8B47-CD4BAF1B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0501-2E2E-4218-B5EA-9E4BBD0E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68F0-9598-4F89-972F-8B351D32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5EFE-7A58-4D58-A577-E91CBDBB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931E-E613-4448-93A8-EE0C5138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8A2A-E969-4ADE-879C-A3F6767E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35F4-D4BA-457E-9DF2-8351A208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1302-89BB-4682-8A39-095409BF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2507-AF98-49EC-81E6-FACD2D7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1BB6-54C8-4E3B-A854-FD5A7081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259D-006F-4CC1-88C2-E86159E6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2E7F-4C0E-447D-A4A5-54E547CD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8905-A542-4F57-8B2F-43DDC3FF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EF743-37B1-4F4D-9C14-C768941B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A04A-F2BA-43C4-B034-15F97861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22EA-5494-4F36-AA90-3661B936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74C9-C2FA-4D3A-AE49-81607408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0B2B-ABD3-4C6B-B50D-992DE13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A6DF-5E2E-42E3-B069-D8DA1807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4CB7-3FD0-4016-8C5A-C1D058B5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2D14-71C3-45D8-A887-851239B8D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1C18-B7D2-409E-B190-D56AC2073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&#1087;&#1088;&#1077;&#1076;&#1089;&#1090;&#1072;&#1074;&#1083;....xml"/><Relationship Id="rId2" Type="http://schemas.openxmlformats.org/officeDocument/2006/relationships/slide" Target="slide&#1042;&#1080;&#1077;&#1090;&#1072;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Зачет 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7d"/>
                </a:solidFill>
                <a:latin typeface="Arial"/>
              </a:rPr>
              <a:t>Тема: Линейные и квадратные неравенст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Теорема, обратная теореме Ви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358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квадратное уравне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 bx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 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= 0 имеет два различных корн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39640" y="3141720"/>
                <a:ext cx="16574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8493120" y="6227640"/>
            <a:ext cx="500040" cy="486000"/>
          </a:xfrm>
          <a:custGeom>
            <a:avLst/>
            <a:gdLst>
              <a:gd name="textAreaLeft" fmla="*/ 31320 w 500040"/>
              <a:gd name="textAreaRight" fmla="*/ 468720 w 50004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22224" h="21600">
                <a:moveTo>
                  <a:pt x="0" y="0"/>
                </a:moveTo>
                <a:lnTo>
                  <a:pt x="22224" y="0"/>
                </a:lnTo>
                <a:lnTo>
                  <a:pt x="22224" y="21600"/>
                </a:lnTo>
                <a:lnTo>
                  <a:pt x="0" y="21600"/>
                </a:lnTo>
                <a:close/>
              </a:path>
              <a:path fill="lightenLess" w="22224" h="21600">
                <a:moveTo>
                  <a:pt x="0" y="0"/>
                </a:moveTo>
                <a:lnTo>
                  <a:pt x="22224" y="0"/>
                </a:lnTo>
                <a:lnTo>
                  <a:pt x="20824" y="1400"/>
                </a:lnTo>
                <a:lnTo>
                  <a:pt x="1400" y="1400"/>
                </a:lnTo>
                <a:close/>
              </a:path>
              <a:path fill="darken" w="22224" h="21600">
                <a:moveTo>
                  <a:pt x="22224" y="0"/>
                </a:moveTo>
                <a:lnTo>
                  <a:pt x="22224" y="21600"/>
                </a:lnTo>
                <a:lnTo>
                  <a:pt x="20824" y="20200"/>
                </a:lnTo>
                <a:lnTo>
                  <a:pt x="20824" y="1400"/>
                </a:lnTo>
                <a:close/>
              </a:path>
              <a:path fill="darkenLess" w="22224" h="21600">
                <a:moveTo>
                  <a:pt x="22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24" y="20200"/>
                </a:lnTo>
                <a:close/>
              </a:path>
              <a:path fill="lighten" w="22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24" h="21600">
                <a:moveTo>
                  <a:pt x="4105" y="7493"/>
                </a:moveTo>
                <a:lnTo>
                  <a:pt x="7613" y="7493"/>
                </a:lnTo>
                <a:lnTo>
                  <a:pt x="7613" y="12828"/>
                </a:lnTo>
                <a:cubicBezTo>
                  <a:pt x="7613" y="13751"/>
                  <a:pt x="8414" y="14482"/>
                  <a:pt x="9449" y="14482"/>
                </a:cubicBezTo>
                <a:lnTo>
                  <a:pt x="11112" y="14482"/>
                </a:lnTo>
                <a:cubicBezTo>
                  <a:pt x="12148" y="14482"/>
                  <a:pt x="12948" y="13751"/>
                  <a:pt x="12948" y="12828"/>
                </a:cubicBezTo>
                <a:lnTo>
                  <a:pt x="12948" y="7493"/>
                </a:lnTo>
                <a:lnTo>
                  <a:pt x="11112" y="7493"/>
                </a:lnTo>
                <a:lnTo>
                  <a:pt x="14619" y="3985"/>
                </a:lnTo>
                <a:lnTo>
                  <a:pt x="18292" y="7493"/>
                </a:lnTo>
                <a:lnTo>
                  <a:pt x="16456" y="7493"/>
                </a:lnTo>
                <a:lnTo>
                  <a:pt x="16456" y="12828"/>
                </a:lnTo>
                <a:cubicBezTo>
                  <a:pt x="16456" y="15596"/>
                  <a:pt x="13880" y="18155"/>
                  <a:pt x="11112" y="18155"/>
                </a:cubicBezTo>
                <a:lnTo>
                  <a:pt x="9449" y="18155"/>
                </a:lnTo>
                <a:cubicBezTo>
                  <a:pt x="6682" y="18155"/>
                  <a:pt x="4105" y="15596"/>
                  <a:pt x="4105" y="12828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2924280"/>
            <a:ext cx="4665600" cy="31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25840" y="2924280"/>
            <a:ext cx="5240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пределим имеет ли уравнение корни. Для этого вычислим дискриминант и проверим его зн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равнение имеет два различных корня, подберем их из услов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 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му условию удовлетвор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 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67280" y="4076640"/>
                <a:ext cx="1449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56360" y="4076640"/>
                <a:ext cx="22924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93600" y="3773520"/>
            <a:ext cx="3395880" cy="2781360"/>
          </a:xfrm>
          <a:prstGeom prst="rect">
            <a:avLst/>
          </a:pr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вы не сможете подобрать корни по теореме, обратной Виета, то можно их вычислить по формул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2760" y="5654520"/>
                <a:ext cx="1271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30240" y="5683320"/>
                <a:ext cx="12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Times New Roman"/>
              </a:rPr>
              <a:t>График функции у = </a:t>
            </a: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ax</a:t>
            </a:r>
            <a:r>
              <a:rPr b="1" lang="ru-RU" sz="3200" spc="-1" strike="noStrike" baseline="30000">
                <a:solidFill>
                  <a:srgbClr val="00007d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00007d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 bx </a:t>
            </a:r>
            <a:r>
              <a:rPr b="1" i="1" lang="ru-RU" sz="3200" spc="-1" strike="noStrike">
                <a:solidFill>
                  <a:srgbClr val="00007d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 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7440" y="3629160"/>
            <a:ext cx="835992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2360" y="3700440"/>
            <a:ext cx="835956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560" y="1143000"/>
            <a:ext cx="82296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равнение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bx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= 0                      Уравнение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bx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= 0                   Уравнение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bx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= 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еет два различных корня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еет один корень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меет кор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7960" y="3871800"/>
            <a:ext cx="82296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равнение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bx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= 0                      Уравнение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bx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= 0                   Уравнение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bx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= 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еет два различных корня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еет один корень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меет кор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5600" y="2408400"/>
            <a:ext cx="2065320" cy="1201680"/>
            <a:chOff x="525600" y="2408400"/>
            <a:chExt cx="2065320" cy="1201680"/>
          </a:xfrm>
        </p:grpSpPr>
        <p:sp>
          <p:nvSpPr>
            <p:cNvPr id="181" name=""/>
            <p:cNvSpPr/>
            <p:nvPr/>
          </p:nvSpPr>
          <p:spPr>
            <a:xfrm>
              <a:off x="809640" y="2408400"/>
              <a:ext cx="1386000" cy="1201680"/>
            </a:xfrm>
            <a:custGeom>
              <a:avLst/>
              <a:gdLst/>
              <a:ahLst/>
              <a:rect l="l" t="t" r="r" b="b"/>
              <a:pathLst>
                <a:path w="3500" h="1892">
                  <a:moveTo>
                    <a:pt x="0" y="0"/>
                  </a:moveTo>
                  <a:cubicBezTo>
                    <a:pt x="754" y="1892"/>
                    <a:pt x="2780" y="1641"/>
                    <a:pt x="3500" y="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5600" y="286560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2320" y="2876400"/>
              <a:ext cx="214200" cy="343080"/>
            </a:xfrm>
            <a:prstGeom prst="wedgeRectCallout">
              <a:avLst>
                <a:gd name="adj1" fmla="val 50185"/>
                <a:gd name="adj2" fmla="val 194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60480" y="2825640"/>
              <a:ext cx="428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06640" y="2816280"/>
              <a:ext cx="4284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3880" y="2867040"/>
              <a:ext cx="417600" cy="314280"/>
            </a:xfrm>
            <a:prstGeom prst="wedgeRectCallout">
              <a:avLst>
                <a:gd name="adj1" fmla="val 38972"/>
                <a:gd name="adj2" fmla="val 85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73160" y="2855880"/>
              <a:ext cx="374760" cy="336600"/>
            </a:xfrm>
            <a:prstGeom prst="wedgeRectCallout">
              <a:avLst>
                <a:gd name="adj1" fmla="val -3388"/>
                <a:gd name="adj2" fmla="val 84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463920" y="2408400"/>
            <a:ext cx="2238480" cy="1207800"/>
            <a:chOff x="3463920" y="2408400"/>
            <a:chExt cx="2238480" cy="1207800"/>
          </a:xfrm>
        </p:grpSpPr>
        <p:sp>
          <p:nvSpPr>
            <p:cNvPr id="189" name=""/>
            <p:cNvSpPr/>
            <p:nvPr/>
          </p:nvSpPr>
          <p:spPr>
            <a:xfrm>
              <a:off x="3776760" y="2408400"/>
              <a:ext cx="1385640" cy="1201680"/>
            </a:xfrm>
            <a:custGeom>
              <a:avLst/>
              <a:gdLst/>
              <a:ahLst/>
              <a:rect l="l" t="t" r="r" b="b"/>
              <a:pathLst>
                <a:path w="3500" h="1892">
                  <a:moveTo>
                    <a:pt x="0" y="0"/>
                  </a:moveTo>
                  <a:cubicBezTo>
                    <a:pt x="754" y="1892"/>
                    <a:pt x="2780" y="1641"/>
                    <a:pt x="3500" y="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63920" y="32576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87840" y="3195720"/>
              <a:ext cx="214560" cy="342720"/>
            </a:xfrm>
            <a:prstGeom prst="wedgeRectCallout">
              <a:avLst>
                <a:gd name="adj1" fmla="val -24074"/>
                <a:gd name="adj2" fmla="val -7361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35560" y="3232080"/>
              <a:ext cx="428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14880" y="3301920"/>
              <a:ext cx="417600" cy="314280"/>
            </a:xfrm>
            <a:prstGeom prst="wedgeRectCallout">
              <a:avLst>
                <a:gd name="adj1" fmla="val -110458"/>
                <a:gd name="adj2" fmla="val -1297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372360" y="2408400"/>
            <a:ext cx="2313000" cy="1203120"/>
            <a:chOff x="6372360" y="2408400"/>
            <a:chExt cx="2313000" cy="1203120"/>
          </a:xfrm>
        </p:grpSpPr>
        <p:sp>
          <p:nvSpPr>
            <p:cNvPr id="195" name=""/>
            <p:cNvSpPr/>
            <p:nvPr/>
          </p:nvSpPr>
          <p:spPr>
            <a:xfrm>
              <a:off x="6656400" y="2408400"/>
              <a:ext cx="1386000" cy="1201680"/>
            </a:xfrm>
            <a:custGeom>
              <a:avLst/>
              <a:gdLst/>
              <a:ahLst/>
              <a:rect l="l" t="t" r="r" b="b"/>
              <a:pathLst>
                <a:path w="3500" h="1892">
                  <a:moveTo>
                    <a:pt x="0" y="0"/>
                  </a:moveTo>
                  <a:cubicBezTo>
                    <a:pt x="754" y="1892"/>
                    <a:pt x="2780" y="1641"/>
                    <a:pt x="3500" y="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72360" y="34466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0800" y="3268800"/>
              <a:ext cx="214560" cy="342720"/>
            </a:xfrm>
            <a:prstGeom prst="wedgeRectCallout">
              <a:avLst>
                <a:gd name="adj1" fmla="val -72222"/>
                <a:gd name="adj2" fmla="val -949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71400" y="4846680"/>
            <a:ext cx="2065320" cy="1201680"/>
            <a:chOff x="671400" y="4846680"/>
            <a:chExt cx="2065320" cy="1201680"/>
          </a:xfrm>
        </p:grpSpPr>
        <p:sp>
          <p:nvSpPr>
            <p:cNvPr id="199" name=""/>
            <p:cNvSpPr/>
            <p:nvPr/>
          </p:nvSpPr>
          <p:spPr>
            <a:xfrm flipV="1">
              <a:off x="955800" y="4846680"/>
              <a:ext cx="1385640" cy="1201680"/>
            </a:xfrm>
            <a:custGeom>
              <a:avLst/>
              <a:gdLst/>
              <a:ahLst/>
              <a:rect l="l" t="t" r="r" b="b"/>
              <a:pathLst>
                <a:path w="3500" h="1892">
                  <a:moveTo>
                    <a:pt x="0" y="0"/>
                  </a:moveTo>
                  <a:cubicBezTo>
                    <a:pt x="754" y="1892"/>
                    <a:pt x="2780" y="1641"/>
                    <a:pt x="3500" y="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1400" y="559440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08120" y="5605560"/>
              <a:ext cx="214560" cy="342720"/>
            </a:xfrm>
            <a:prstGeom prst="wedgeRectCallout">
              <a:avLst>
                <a:gd name="adj1" fmla="val 50185"/>
                <a:gd name="adj2" fmla="val 194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06640" y="5554800"/>
              <a:ext cx="4284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52800" y="5545080"/>
              <a:ext cx="428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5880" y="5246640"/>
              <a:ext cx="417600" cy="314280"/>
            </a:xfrm>
            <a:prstGeom prst="wedgeRectCallout">
              <a:avLst>
                <a:gd name="adj1" fmla="val 24902"/>
                <a:gd name="adj2" fmla="val 90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20760" y="5221440"/>
              <a:ext cx="374760" cy="336240"/>
            </a:xfrm>
            <a:prstGeom prst="wedgeRectCallout">
              <a:avLst>
                <a:gd name="adj1" fmla="val 34745"/>
                <a:gd name="adj2" fmla="val 4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535200" y="4846680"/>
            <a:ext cx="2167200" cy="1201680"/>
            <a:chOff x="3535200" y="4846680"/>
            <a:chExt cx="2167200" cy="1201680"/>
          </a:xfrm>
        </p:grpSpPr>
        <p:sp>
          <p:nvSpPr>
            <p:cNvPr id="207" name=""/>
            <p:cNvSpPr/>
            <p:nvPr/>
          </p:nvSpPr>
          <p:spPr>
            <a:xfrm flipV="1">
              <a:off x="3892680" y="4846680"/>
              <a:ext cx="1385640" cy="1201680"/>
            </a:xfrm>
            <a:custGeom>
              <a:avLst/>
              <a:gdLst/>
              <a:ahLst/>
              <a:rect l="l" t="t" r="r" b="b"/>
              <a:pathLst>
                <a:path w="3500" h="1892">
                  <a:moveTo>
                    <a:pt x="0" y="0"/>
                  </a:moveTo>
                  <a:cubicBezTo>
                    <a:pt x="754" y="1892"/>
                    <a:pt x="2780" y="1641"/>
                    <a:pt x="3500" y="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35200" y="5202360"/>
              <a:ext cx="206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87840" y="5270400"/>
              <a:ext cx="214560" cy="343080"/>
            </a:xfrm>
            <a:prstGeom prst="wedgeRectCallout">
              <a:avLst>
                <a:gd name="adj1" fmla="val -30740"/>
                <a:gd name="adj2" fmla="val 1111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51480" y="5162400"/>
              <a:ext cx="428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27480" y="4869000"/>
              <a:ext cx="417600" cy="314280"/>
            </a:xfrm>
            <a:prstGeom prst="wedgeRectCallout">
              <a:avLst>
                <a:gd name="adj1" fmla="val 8175"/>
                <a:gd name="adj2" fmla="val 90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502320" y="4876920"/>
            <a:ext cx="2211480" cy="1201680"/>
            <a:chOff x="6502320" y="4876920"/>
            <a:chExt cx="2211480" cy="1201680"/>
          </a:xfrm>
        </p:grpSpPr>
        <p:sp>
          <p:nvSpPr>
            <p:cNvPr id="213" name=""/>
            <p:cNvSpPr/>
            <p:nvPr/>
          </p:nvSpPr>
          <p:spPr>
            <a:xfrm flipV="1">
              <a:off x="6786720" y="4876920"/>
              <a:ext cx="1385640" cy="1201680"/>
            </a:xfrm>
            <a:custGeom>
              <a:avLst/>
              <a:gdLst/>
              <a:ahLst/>
              <a:rect l="l" t="t" r="r" b="b"/>
              <a:pathLst>
                <a:path w="3500" h="1892">
                  <a:moveTo>
                    <a:pt x="0" y="0"/>
                  </a:moveTo>
                  <a:cubicBezTo>
                    <a:pt x="754" y="1892"/>
                    <a:pt x="2780" y="1641"/>
                    <a:pt x="3500" y="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02320" y="501336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99600" y="5068800"/>
              <a:ext cx="214200" cy="343080"/>
            </a:xfrm>
            <a:prstGeom prst="wedgeRectCallout">
              <a:avLst>
                <a:gd name="adj1" fmla="val -11481"/>
                <a:gd name="adj2" fmla="val 648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548560" y="6269040"/>
            <a:ext cx="487440" cy="487440"/>
          </a:xfrm>
          <a:custGeom>
            <a:avLst/>
            <a:gdLst>
              <a:gd name="textAreaLeft" fmla="*/ 31320 w 487440"/>
              <a:gd name="textAreaRight" fmla="*/ 456120 w 48744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5880" y="1487160"/>
            <a:ext cx="8199360" cy="12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 перераспределить слагаемые: неизвестные собрать слева от зна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известные – справа. Выберите правильный по вашему мнению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784080" y="3111480"/>
            <a:ext cx="336096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–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4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 + 6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 &gt; 7 – 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4979880" y="3111480"/>
            <a:ext cx="336096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4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 + 6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 &gt; 7 – 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755640" y="454824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4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  – 6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 &gt; 7 + 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4978440" y="457668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– 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4</a:t>
            </a: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+ 6</a:t>
            </a: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7 – 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428760"/>
            <a:ext cx="82296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1. Решите неравенство: 6 – 4</a:t>
            </a: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 &gt; 7 – 6</a:t>
            </a: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равильно! Молод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8548560" y="6269040"/>
            <a:ext cx="487440" cy="487440"/>
          </a:xfrm>
          <a:custGeom>
            <a:avLst/>
            <a:gdLst>
              <a:gd name="textAreaLeft" fmla="*/ 31320 w 487440"/>
              <a:gd name="textAreaRight" fmla="*/ 456120 w 48744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21844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сле первого действия, получили: – 4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 + 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gt; 7 – 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696960" y="347328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– 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4979880" y="3487680"/>
            <a:ext cx="336096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755640" y="492444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10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 &gt; 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4978440" y="491004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 &gt; 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4680" y="1778040"/>
            <a:ext cx="81993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обходимо привести подобные слагаемые в обеих частях неравенства. Выберите правильный по вашему мнению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равильно! Молод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8548560" y="6269040"/>
            <a:ext cx="487440" cy="487440"/>
          </a:xfrm>
          <a:custGeom>
            <a:avLst/>
            <a:gdLst>
              <a:gd name="textAreaLeft" fmla="*/ 31320 w 487440"/>
              <a:gd name="textAreaRight" fmla="*/ 456120 w 48744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21844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сле приведения подобных слагаемых, получили: 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gt; 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696960" y="347328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4979880" y="3487680"/>
            <a:ext cx="336096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&gt;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−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492444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 &gt; 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4978440" y="491004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с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&gt;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−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1700280"/>
            <a:ext cx="820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обходимо в левой части неравенства избавиться от коэффициента 2.  Выберите правильный по вашему мнению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шибоч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8548560" y="6269040"/>
            <a:ext cx="487440" cy="487440"/>
          </a:xfrm>
          <a:custGeom>
            <a:avLst/>
            <a:gdLst>
              <a:gd name="textAreaLeft" fmla="*/ 31320 w 487440"/>
              <a:gd name="textAreaRight" fmla="*/ 456120 w 48744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равильно! Молодец!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Решай следующий приме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8548560" y="6269040"/>
            <a:ext cx="487440" cy="487440"/>
          </a:xfrm>
          <a:custGeom>
            <a:avLst/>
            <a:gdLst>
              <a:gd name="textAreaLeft" fmla="*/ 31320 w 487440"/>
              <a:gd name="textAreaRight" fmla="*/ 456120 w 48744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5880" y="1487160"/>
            <a:ext cx="8199360" cy="12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ерите правильный по вашему мнению вариан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84080" y="3111480"/>
            <a:ext cx="336096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–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4979880" y="3111480"/>
            <a:ext cx="336096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&gt;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755640" y="454824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4" action="ppaction://hlinksldjump"/>
          </p:cNvPr>
          <p:cNvSpPr/>
          <p:nvPr/>
        </p:nvSpPr>
        <p:spPr>
          <a:xfrm>
            <a:off x="4978440" y="457668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428760"/>
            <a:ext cx="82296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. Решите неравенство: 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8</a:t>
            </a: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 + 3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9</a:t>
            </a: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 – 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2394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Times New Roman"/>
              </a:rPr>
              <a:t>Пример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Решите неравенство: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– 11 &lt;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 1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8760" y="7473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7d"/>
                </a:solidFill>
                <a:uFillTx/>
                <a:latin typeface="Times New Roman"/>
              </a:rPr>
              <a:t>Реш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ходимо перераспределить слагаемые: неизвестные собрать слева от знак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а известные – справа. Для этого воспользуемся </a:t>
            </a:r>
            <a:r>
              <a:rPr b="0" lang="ru-RU" sz="22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правило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енесем (–11) в правую часть неравенства, изменив при этом знак на «+». Слагаемо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еренесем в левую часть неравенства, изменив знак на «–». Тогда получа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–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&lt; 13 + 11 или 3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&lt; 2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ходимо в левой части неравенства избавиться от коэффициента 3. Для этого воспользуемся </a:t>
            </a:r>
            <a:r>
              <a:rPr b="0" lang="ru-RU" sz="22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правилом 2</a:t>
            </a:r>
            <a:r>
              <a:rPr b="0" lang="ru-RU" sz="22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делим обе части неравенства на положительное число 3. Знак неравенства при этом остается без измене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&lt; 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7d"/>
                </a:solidFill>
                <a:uFillTx/>
                <a:latin typeface="Times New Roman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&lt; 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6021360"/>
            <a:ext cx="2551320" cy="641520"/>
          </a:xfrm>
          <a:prstGeom prst="wedgeRectCallout">
            <a:avLst>
              <a:gd name="adj1" fmla="val -44898"/>
              <a:gd name="adj2" fmla="val 26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3320" y="6037200"/>
            <a:ext cx="2663640" cy="719280"/>
          </a:xfrm>
          <a:custGeom>
            <a:avLst/>
            <a:gdLst>
              <a:gd name="textAreaLeft" fmla="*/ 115920 w 2663640"/>
              <a:gd name="textAreaRight" fmla="*/ 2547720 w 2663640"/>
              <a:gd name="textAreaTop" fmla="*/ 115920 h 719280"/>
              <a:gd name="textAreaBottom" fmla="*/ 603360 h 719280"/>
            </a:gdLst>
            <a:ahLst/>
            <a:rect l="textAreaLeft" t="textAreaTop" r="textAreaRight" b="textAreaBottom"/>
            <a:pathLst>
              <a:path w="79960" h="21600">
                <a:moveTo>
                  <a:pt x="0" y="0"/>
                </a:moveTo>
                <a:lnTo>
                  <a:pt x="79960" y="0"/>
                </a:lnTo>
                <a:lnTo>
                  <a:pt x="79960" y="21600"/>
                </a:lnTo>
                <a:lnTo>
                  <a:pt x="0" y="21600"/>
                </a:lnTo>
                <a:close/>
              </a:path>
              <a:path fill="lightenLess" w="79960" h="21600">
                <a:moveTo>
                  <a:pt x="0" y="0"/>
                </a:moveTo>
                <a:lnTo>
                  <a:pt x="79960" y="0"/>
                </a:lnTo>
                <a:lnTo>
                  <a:pt x="76479" y="3481"/>
                </a:lnTo>
                <a:lnTo>
                  <a:pt x="3481" y="3481"/>
                </a:lnTo>
                <a:close/>
              </a:path>
              <a:path fill="darken" w="79960" h="21600">
                <a:moveTo>
                  <a:pt x="79960" y="0"/>
                </a:moveTo>
                <a:lnTo>
                  <a:pt x="79960" y="21600"/>
                </a:lnTo>
                <a:lnTo>
                  <a:pt x="76479" y="18119"/>
                </a:lnTo>
                <a:lnTo>
                  <a:pt x="76479" y="3481"/>
                </a:lnTo>
                <a:close/>
              </a:path>
              <a:path fill="darkenLess" w="79960" h="21600">
                <a:moveTo>
                  <a:pt x="7996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76479" y="18119"/>
                </a:lnTo>
                <a:close/>
              </a:path>
              <a:path fill="lighten" w="7996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65360" y="6138720"/>
            <a:ext cx="2406960" cy="493920"/>
          </a:xfrm>
          <a:prstGeom prst="wedgeRectCallout">
            <a:avLst>
              <a:gd name="adj1" fmla="val -47032"/>
              <a:gd name="adj2" fmla="val -56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ейти к самостоятельной рабо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6035760"/>
            <a:ext cx="2664000" cy="718920"/>
          </a:xfrm>
          <a:custGeom>
            <a:avLst/>
            <a:gdLst>
              <a:gd name="textAreaLeft" fmla="*/ 115560 w 2664000"/>
              <a:gd name="textAreaRight" fmla="*/ 2548440 w 2664000"/>
              <a:gd name="textAreaTop" fmla="*/ 115560 h 718920"/>
              <a:gd name="textAreaBottom" fmla="*/ 603360 h 718920"/>
            </a:gdLst>
            <a:ahLst/>
            <a:rect l="textAreaLeft" t="textAreaTop" r="textAreaRight" b="textAreaBottom"/>
            <a:pathLst>
              <a:path w="80011" h="21600">
                <a:moveTo>
                  <a:pt x="0" y="0"/>
                </a:moveTo>
                <a:lnTo>
                  <a:pt x="80011" y="0"/>
                </a:lnTo>
                <a:lnTo>
                  <a:pt x="80011" y="21600"/>
                </a:lnTo>
                <a:lnTo>
                  <a:pt x="0" y="21600"/>
                </a:lnTo>
                <a:close/>
              </a:path>
              <a:path fill="lightenLess" w="80011" h="21600">
                <a:moveTo>
                  <a:pt x="0" y="0"/>
                </a:moveTo>
                <a:lnTo>
                  <a:pt x="80011" y="0"/>
                </a:lnTo>
                <a:lnTo>
                  <a:pt x="76530" y="3481"/>
                </a:lnTo>
                <a:lnTo>
                  <a:pt x="3481" y="3481"/>
                </a:lnTo>
                <a:close/>
              </a:path>
              <a:path fill="darken" w="80011" h="21600">
                <a:moveTo>
                  <a:pt x="80011" y="0"/>
                </a:moveTo>
                <a:lnTo>
                  <a:pt x="80011" y="21600"/>
                </a:lnTo>
                <a:lnTo>
                  <a:pt x="76530" y="18119"/>
                </a:lnTo>
                <a:lnTo>
                  <a:pt x="76530" y="3481"/>
                </a:lnTo>
                <a:close/>
              </a:path>
              <a:path fill="darkenLess" w="80011" h="21600">
                <a:moveTo>
                  <a:pt x="80011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76530" y="18119"/>
                </a:lnTo>
                <a:close/>
              </a:path>
              <a:path fill="lighten" w="80011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3800" y="6153120"/>
            <a:ext cx="2406600" cy="493920"/>
          </a:xfrm>
          <a:prstGeom prst="wedgeRectCallout">
            <a:avLst>
              <a:gd name="adj1" fmla="val -47032"/>
              <a:gd name="adj2" fmla="val -5625"/>
            </a:avLst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ить изучение прим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72280" y="6037200"/>
            <a:ext cx="2663640" cy="719280"/>
          </a:xfrm>
          <a:custGeom>
            <a:avLst/>
            <a:gdLst>
              <a:gd name="textAreaLeft" fmla="*/ 115920 w 2663640"/>
              <a:gd name="textAreaRight" fmla="*/ 2547720 w 2663640"/>
              <a:gd name="textAreaTop" fmla="*/ 115920 h 719280"/>
              <a:gd name="textAreaBottom" fmla="*/ 603360 h 719280"/>
            </a:gdLst>
            <a:ahLst/>
            <a:rect l="textAreaLeft" t="textAreaTop" r="textAreaRight" b="textAreaBottom"/>
            <a:pathLst>
              <a:path w="79960" h="21600">
                <a:moveTo>
                  <a:pt x="0" y="0"/>
                </a:moveTo>
                <a:lnTo>
                  <a:pt x="79960" y="0"/>
                </a:lnTo>
                <a:lnTo>
                  <a:pt x="79960" y="21600"/>
                </a:lnTo>
                <a:lnTo>
                  <a:pt x="0" y="21600"/>
                </a:lnTo>
                <a:close/>
              </a:path>
              <a:path fill="lightenLess" w="79960" h="21600">
                <a:moveTo>
                  <a:pt x="0" y="0"/>
                </a:moveTo>
                <a:lnTo>
                  <a:pt x="79960" y="0"/>
                </a:lnTo>
                <a:lnTo>
                  <a:pt x="76479" y="3481"/>
                </a:lnTo>
                <a:lnTo>
                  <a:pt x="3481" y="3481"/>
                </a:lnTo>
                <a:close/>
              </a:path>
              <a:path fill="darken" w="79960" h="21600">
                <a:moveTo>
                  <a:pt x="79960" y="0"/>
                </a:moveTo>
                <a:lnTo>
                  <a:pt x="79960" y="21600"/>
                </a:lnTo>
                <a:lnTo>
                  <a:pt x="76479" y="18119"/>
                </a:lnTo>
                <a:lnTo>
                  <a:pt x="76479" y="3481"/>
                </a:lnTo>
                <a:close/>
              </a:path>
              <a:path fill="darkenLess" w="79960" h="21600">
                <a:moveTo>
                  <a:pt x="7996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76479" y="18119"/>
                </a:lnTo>
                <a:close/>
              </a:path>
              <a:path fill="lighten" w="7996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lastslide"/>
          </p:cNvPr>
          <p:cNvSpPr/>
          <p:nvPr/>
        </p:nvSpPr>
        <p:spPr>
          <a:xfrm>
            <a:off x="6394320" y="6138720"/>
            <a:ext cx="2406960" cy="493920"/>
          </a:xfrm>
          <a:prstGeom prst="wedgeRectCallout">
            <a:avLst>
              <a:gd name="adj1" fmla="val -47032"/>
              <a:gd name="adj2" fmla="val -56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рнуться к самостоятельной рабо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равильно! Молодец!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Решай следующий приме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548560" y="6269040"/>
            <a:ext cx="487440" cy="487440"/>
          </a:xfrm>
          <a:custGeom>
            <a:avLst/>
            <a:gdLst>
              <a:gd name="textAreaLeft" fmla="*/ 31320 w 487440"/>
              <a:gd name="textAreaRight" fmla="*/ 456120 w 48744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5880" y="1487160"/>
            <a:ext cx="8199360" cy="12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ерите правильный по вашему мнению вариан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4080" y="3111480"/>
            <a:ext cx="336096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– 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79880" y="3111480"/>
            <a:ext cx="336096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 &gt; 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454824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78440" y="4576680"/>
            <a:ext cx="3360600" cy="933480"/>
          </a:xfrm>
          <a:prstGeom prst="wedgeRectCallout">
            <a:avLst>
              <a:gd name="adj1" fmla="val -35074"/>
              <a:gd name="adj2" fmla="val -35032"/>
            </a:avLst>
          </a:prstGeom>
          <a:solidFill>
            <a:srgbClr val="cccce6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 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428760"/>
            <a:ext cx="82296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3. Решите неравенство: 3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−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00007d"/>
                </a:solidFill>
                <a:latin typeface="Times New Roman"/>
              </a:rPr>
              <a:t>х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&lt;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 12 – 5</a:t>
            </a:r>
            <a:r>
              <a:rPr b="1" i="1" lang="ru-RU" sz="3200" spc="-1" strike="noStrike">
                <a:solidFill>
                  <a:srgbClr val="00007d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равильно! Молодец!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Решай следующий приме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548560" y="6269040"/>
            <a:ext cx="487440" cy="487440"/>
          </a:xfrm>
          <a:custGeom>
            <a:avLst/>
            <a:gdLst>
              <a:gd name="textAreaLeft" fmla="*/ 31320 w 487440"/>
              <a:gd name="textAreaRight" fmla="*/ 456120 w 48744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Times New Roman"/>
              </a:rPr>
              <a:t>Правило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0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юбой член неравенства можно перенести из одной части неравенства в другую с противоположным знаком (не меняя при этом знака неравенст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но:                                      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464680" y="6184800"/>
            <a:ext cx="471240" cy="471600"/>
          </a:xfrm>
          <a:custGeom>
            <a:avLst/>
            <a:gdLst>
              <a:gd name="textAreaLeft" fmla="*/ 30240 w 471240"/>
              <a:gd name="textAreaRight" fmla="*/ 441000 w 47124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1600" h="21616">
                <a:moveTo>
                  <a:pt x="0" y="0"/>
                </a:moveTo>
                <a:lnTo>
                  <a:pt x="21600" y="0"/>
                </a:lnTo>
                <a:lnTo>
                  <a:pt x="21600" y="21616"/>
                </a:lnTo>
                <a:lnTo>
                  <a:pt x="0" y="21616"/>
                </a:lnTo>
                <a:close/>
              </a:path>
              <a:path fill="lightenLess" w="21600" h="216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6">
                <a:moveTo>
                  <a:pt x="21600" y="0"/>
                </a:moveTo>
                <a:lnTo>
                  <a:pt x="21600" y="21616"/>
                </a:lnTo>
                <a:lnTo>
                  <a:pt x="20200" y="20216"/>
                </a:lnTo>
                <a:lnTo>
                  <a:pt x="20200" y="1400"/>
                </a:lnTo>
                <a:close/>
              </a:path>
              <a:path fill="darkenLess" w="21600" h="21616">
                <a:moveTo>
                  <a:pt x="21600" y="21616"/>
                </a:moveTo>
                <a:lnTo>
                  <a:pt x="0" y="21616"/>
                </a:lnTo>
                <a:lnTo>
                  <a:pt x="1400" y="20216"/>
                </a:lnTo>
                <a:lnTo>
                  <a:pt x="20200" y="20216"/>
                </a:lnTo>
                <a:close/>
              </a:path>
              <a:path fill="lighten" w="21600" h="21616">
                <a:moveTo>
                  <a:pt x="0" y="216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6"/>
                </a:lnTo>
                <a:close/>
              </a:path>
              <a:path fill="darken" w="21600" h="21616">
                <a:moveTo>
                  <a:pt x="3794" y="7501"/>
                </a:moveTo>
                <a:lnTo>
                  <a:pt x="7301" y="7501"/>
                </a:lnTo>
                <a:lnTo>
                  <a:pt x="7301" y="12836"/>
                </a:lnTo>
                <a:cubicBezTo>
                  <a:pt x="7301" y="13759"/>
                  <a:pt x="8102" y="14490"/>
                  <a:pt x="9138" y="14490"/>
                </a:cubicBezTo>
                <a:lnTo>
                  <a:pt x="10800" y="14490"/>
                </a:lnTo>
                <a:cubicBezTo>
                  <a:pt x="11836" y="14490"/>
                  <a:pt x="12636" y="13759"/>
                  <a:pt x="12636" y="12836"/>
                </a:cubicBezTo>
                <a:lnTo>
                  <a:pt x="12636" y="7501"/>
                </a:lnTo>
                <a:lnTo>
                  <a:pt x="10800" y="7501"/>
                </a:lnTo>
                <a:lnTo>
                  <a:pt x="14308" y="3993"/>
                </a:lnTo>
                <a:lnTo>
                  <a:pt x="17981" y="7501"/>
                </a:lnTo>
                <a:lnTo>
                  <a:pt x="16144" y="7501"/>
                </a:lnTo>
                <a:lnTo>
                  <a:pt x="16144" y="12836"/>
                </a:lnTo>
                <a:cubicBezTo>
                  <a:pt x="16144" y="15604"/>
                  <a:pt x="13568" y="18163"/>
                  <a:pt x="10800" y="18163"/>
                </a:cubicBezTo>
                <a:lnTo>
                  <a:pt x="9138" y="18163"/>
                </a:lnTo>
                <a:cubicBezTo>
                  <a:pt x="6370" y="18163"/>
                  <a:pt x="3794" y="15604"/>
                  <a:pt x="3794" y="12836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8120" y="5000760"/>
                <a:ext cx="205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232240" y="4927680"/>
                <a:ext cx="1235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Times New Roman"/>
              </a:rPr>
              <a:t>Правило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е части неравенства можно умножить или разделить на одно и то же положительное число, не меняя при этом знака нерав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о:                                Получа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8459640" y="6165720"/>
            <a:ext cx="486000" cy="459000"/>
          </a:xfrm>
          <a:custGeom>
            <a:avLst/>
            <a:gdLst>
              <a:gd name="textAreaLeft" fmla="*/ 29520 w 486000"/>
              <a:gd name="textAreaRight" fmla="*/ 456480 w 486000"/>
              <a:gd name="textAreaTop" fmla="*/ 29520 h 459000"/>
              <a:gd name="textAreaBottom" fmla="*/ 429480 h 459000"/>
            </a:gdLst>
            <a:ahLst/>
            <a:rect l="textAreaLeft" t="textAreaTop" r="textAreaRight" b="textAreaBottom"/>
            <a:pathLst>
              <a:path w="22870" h="21600">
                <a:moveTo>
                  <a:pt x="0" y="0"/>
                </a:moveTo>
                <a:lnTo>
                  <a:pt x="22870" y="0"/>
                </a:lnTo>
                <a:lnTo>
                  <a:pt x="22870" y="21600"/>
                </a:lnTo>
                <a:lnTo>
                  <a:pt x="0" y="21600"/>
                </a:lnTo>
                <a:close/>
              </a:path>
              <a:path fill="lightenLess" w="22870" h="21600">
                <a:moveTo>
                  <a:pt x="0" y="0"/>
                </a:moveTo>
                <a:lnTo>
                  <a:pt x="22870" y="0"/>
                </a:lnTo>
                <a:lnTo>
                  <a:pt x="21470" y="1400"/>
                </a:lnTo>
                <a:lnTo>
                  <a:pt x="1400" y="1400"/>
                </a:lnTo>
                <a:close/>
              </a:path>
              <a:path fill="darken" w="22870" h="21600">
                <a:moveTo>
                  <a:pt x="22870" y="0"/>
                </a:moveTo>
                <a:lnTo>
                  <a:pt x="22870" y="21600"/>
                </a:lnTo>
                <a:lnTo>
                  <a:pt x="21470" y="20200"/>
                </a:lnTo>
                <a:lnTo>
                  <a:pt x="21470" y="1400"/>
                </a:lnTo>
                <a:close/>
              </a:path>
              <a:path fill="darkenLess" w="22870" h="21600">
                <a:moveTo>
                  <a:pt x="22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0" y="20200"/>
                </a:lnTo>
                <a:close/>
              </a:path>
              <a:path fill="lighten" w="22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0" h="21600">
                <a:moveTo>
                  <a:pt x="4428" y="7493"/>
                </a:moveTo>
                <a:lnTo>
                  <a:pt x="7936" y="7493"/>
                </a:lnTo>
                <a:lnTo>
                  <a:pt x="7936" y="12828"/>
                </a:lnTo>
                <a:cubicBezTo>
                  <a:pt x="7936" y="13751"/>
                  <a:pt x="8737" y="14482"/>
                  <a:pt x="9772" y="14482"/>
                </a:cubicBezTo>
                <a:lnTo>
                  <a:pt x="11435" y="14482"/>
                </a:lnTo>
                <a:cubicBezTo>
                  <a:pt x="12471" y="14482"/>
                  <a:pt x="13271" y="13751"/>
                  <a:pt x="13271" y="12828"/>
                </a:cubicBezTo>
                <a:lnTo>
                  <a:pt x="13271" y="7493"/>
                </a:lnTo>
                <a:lnTo>
                  <a:pt x="11435" y="7493"/>
                </a:lnTo>
                <a:lnTo>
                  <a:pt x="14942" y="3985"/>
                </a:lnTo>
                <a:lnTo>
                  <a:pt x="18615" y="7493"/>
                </a:lnTo>
                <a:lnTo>
                  <a:pt x="16779" y="7493"/>
                </a:lnTo>
                <a:lnTo>
                  <a:pt x="16779" y="12828"/>
                </a:lnTo>
                <a:cubicBezTo>
                  <a:pt x="16779" y="15596"/>
                  <a:pt x="14203" y="18155"/>
                  <a:pt x="11435" y="18155"/>
                </a:cubicBezTo>
                <a:lnTo>
                  <a:pt x="9772" y="18155"/>
                </a:lnTo>
                <a:cubicBezTo>
                  <a:pt x="7005" y="18155"/>
                  <a:pt x="4428" y="15596"/>
                  <a:pt x="4428" y="12828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81040" y="5275440"/>
                <a:ext cx="15638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&l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64000" y="5273640"/>
                <a:ext cx="1235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Times New Roman"/>
              </a:rPr>
              <a:t>Пример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Решите неравенство: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– 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 4) ≥ 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7d"/>
                </a:solidFill>
                <a:uFillTx/>
                <a:latin typeface="Times New Roman"/>
              </a:rPr>
              <a:t>Реш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начала необходимо раскрыть скобки. Для этого воспользуемся </a:t>
            </a:r>
            <a:r>
              <a:rPr b="0" lang="ru-RU" sz="22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правил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умножения одночлена на многоч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крывая скобки, не забываем, что перед второй скобкой стоит множитель (–5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, значит, необходимо поменять знаки в скобке, то ес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– 5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– 20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≥ 100 или –20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≥ 1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ходимо в левой части неравенства избавиться от коэффициента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0). Для этого воспользуемся </a:t>
            </a:r>
            <a:r>
              <a:rPr b="0" lang="ru-RU" sz="22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правилом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делим обе части неравенства на отрицательное число (–20), поменяв при этом знак неравенства на противоположны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≤ –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7d"/>
                </a:solidFill>
                <a:uFillTx/>
                <a:latin typeface="Times New Roman"/>
              </a:rPr>
              <a:t>Ответ</a:t>
            </a:r>
            <a:r>
              <a:rPr b="0" lang="ru-RU" sz="2200" spc="-1" strike="noStrike">
                <a:solidFill>
                  <a:srgbClr val="00007d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≤ –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6021360"/>
            <a:ext cx="2551320" cy="641520"/>
          </a:xfrm>
          <a:prstGeom prst="wedgeRectCallout">
            <a:avLst>
              <a:gd name="adj1" fmla="val -44898"/>
              <a:gd name="adj2" fmla="val 26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3320" y="6037200"/>
            <a:ext cx="2663640" cy="719280"/>
          </a:xfrm>
          <a:custGeom>
            <a:avLst/>
            <a:gdLst>
              <a:gd name="textAreaLeft" fmla="*/ 115920 w 2663640"/>
              <a:gd name="textAreaRight" fmla="*/ 2547720 w 2663640"/>
              <a:gd name="textAreaTop" fmla="*/ 115920 h 719280"/>
              <a:gd name="textAreaBottom" fmla="*/ 603360 h 719280"/>
            </a:gdLst>
            <a:ahLst/>
            <a:rect l="textAreaLeft" t="textAreaTop" r="textAreaRight" b="textAreaBottom"/>
            <a:pathLst>
              <a:path w="79960" h="21600">
                <a:moveTo>
                  <a:pt x="0" y="0"/>
                </a:moveTo>
                <a:lnTo>
                  <a:pt x="79960" y="0"/>
                </a:lnTo>
                <a:lnTo>
                  <a:pt x="79960" y="21600"/>
                </a:lnTo>
                <a:lnTo>
                  <a:pt x="0" y="21600"/>
                </a:lnTo>
                <a:close/>
              </a:path>
              <a:path fill="lightenLess" w="79960" h="21600">
                <a:moveTo>
                  <a:pt x="0" y="0"/>
                </a:moveTo>
                <a:lnTo>
                  <a:pt x="79960" y="0"/>
                </a:lnTo>
                <a:lnTo>
                  <a:pt x="76479" y="3481"/>
                </a:lnTo>
                <a:lnTo>
                  <a:pt x="3481" y="3481"/>
                </a:lnTo>
                <a:close/>
              </a:path>
              <a:path fill="darken" w="79960" h="21600">
                <a:moveTo>
                  <a:pt x="79960" y="0"/>
                </a:moveTo>
                <a:lnTo>
                  <a:pt x="79960" y="21600"/>
                </a:lnTo>
                <a:lnTo>
                  <a:pt x="76479" y="18119"/>
                </a:lnTo>
                <a:lnTo>
                  <a:pt x="76479" y="3481"/>
                </a:lnTo>
                <a:close/>
              </a:path>
              <a:path fill="darkenLess" w="79960" h="21600">
                <a:moveTo>
                  <a:pt x="7996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76479" y="18119"/>
                </a:lnTo>
                <a:close/>
              </a:path>
              <a:path fill="lighten" w="7996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65360" y="6138720"/>
            <a:ext cx="2406960" cy="493920"/>
          </a:xfrm>
          <a:prstGeom prst="wedgeRectCallout">
            <a:avLst>
              <a:gd name="adj1" fmla="val -47032"/>
              <a:gd name="adj2" fmla="val -56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ейти к самостоятельной рабо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035760"/>
            <a:ext cx="2664000" cy="718920"/>
          </a:xfrm>
          <a:custGeom>
            <a:avLst/>
            <a:gdLst>
              <a:gd name="textAreaLeft" fmla="*/ 115560 w 2664000"/>
              <a:gd name="textAreaRight" fmla="*/ 2548440 w 2664000"/>
              <a:gd name="textAreaTop" fmla="*/ 115560 h 718920"/>
              <a:gd name="textAreaBottom" fmla="*/ 603360 h 718920"/>
            </a:gdLst>
            <a:ahLst/>
            <a:rect l="textAreaLeft" t="textAreaTop" r="textAreaRight" b="textAreaBottom"/>
            <a:pathLst>
              <a:path w="80011" h="21600">
                <a:moveTo>
                  <a:pt x="0" y="0"/>
                </a:moveTo>
                <a:lnTo>
                  <a:pt x="80011" y="0"/>
                </a:lnTo>
                <a:lnTo>
                  <a:pt x="80011" y="21600"/>
                </a:lnTo>
                <a:lnTo>
                  <a:pt x="0" y="21600"/>
                </a:lnTo>
                <a:close/>
              </a:path>
              <a:path fill="lightenLess" w="80011" h="21600">
                <a:moveTo>
                  <a:pt x="0" y="0"/>
                </a:moveTo>
                <a:lnTo>
                  <a:pt x="80011" y="0"/>
                </a:lnTo>
                <a:lnTo>
                  <a:pt x="76530" y="3481"/>
                </a:lnTo>
                <a:lnTo>
                  <a:pt x="3481" y="3481"/>
                </a:lnTo>
                <a:close/>
              </a:path>
              <a:path fill="darken" w="80011" h="21600">
                <a:moveTo>
                  <a:pt x="80011" y="0"/>
                </a:moveTo>
                <a:lnTo>
                  <a:pt x="80011" y="21600"/>
                </a:lnTo>
                <a:lnTo>
                  <a:pt x="76530" y="18119"/>
                </a:lnTo>
                <a:lnTo>
                  <a:pt x="76530" y="3481"/>
                </a:lnTo>
                <a:close/>
              </a:path>
              <a:path fill="darkenLess" w="80011" h="21600">
                <a:moveTo>
                  <a:pt x="80011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76530" y="18119"/>
                </a:lnTo>
                <a:close/>
              </a:path>
              <a:path fill="lighten" w="80011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3800" y="6153120"/>
            <a:ext cx="2406600" cy="493920"/>
          </a:xfrm>
          <a:prstGeom prst="wedgeRectCallout">
            <a:avLst>
              <a:gd name="adj1" fmla="val -47032"/>
              <a:gd name="adj2" fmla="val -5625"/>
            </a:avLst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ить изучение прим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6272280" y="6037200"/>
            <a:ext cx="2663640" cy="719280"/>
          </a:xfrm>
          <a:custGeom>
            <a:avLst/>
            <a:gdLst>
              <a:gd name="textAreaLeft" fmla="*/ 115920 w 2663640"/>
              <a:gd name="textAreaRight" fmla="*/ 2547720 w 2663640"/>
              <a:gd name="textAreaTop" fmla="*/ 115920 h 719280"/>
              <a:gd name="textAreaBottom" fmla="*/ 603360 h 719280"/>
            </a:gdLst>
            <a:ahLst/>
            <a:rect l="textAreaLeft" t="textAreaTop" r="textAreaRight" b="textAreaBottom"/>
            <a:pathLst>
              <a:path w="79960" h="21600">
                <a:moveTo>
                  <a:pt x="0" y="0"/>
                </a:moveTo>
                <a:lnTo>
                  <a:pt x="79960" y="0"/>
                </a:lnTo>
                <a:lnTo>
                  <a:pt x="79960" y="21600"/>
                </a:lnTo>
                <a:lnTo>
                  <a:pt x="0" y="21600"/>
                </a:lnTo>
                <a:close/>
              </a:path>
              <a:path fill="lightenLess" w="79960" h="21600">
                <a:moveTo>
                  <a:pt x="0" y="0"/>
                </a:moveTo>
                <a:lnTo>
                  <a:pt x="79960" y="0"/>
                </a:lnTo>
                <a:lnTo>
                  <a:pt x="76479" y="3481"/>
                </a:lnTo>
                <a:lnTo>
                  <a:pt x="3481" y="3481"/>
                </a:lnTo>
                <a:close/>
              </a:path>
              <a:path fill="darken" w="79960" h="21600">
                <a:moveTo>
                  <a:pt x="79960" y="0"/>
                </a:moveTo>
                <a:lnTo>
                  <a:pt x="79960" y="21600"/>
                </a:lnTo>
                <a:lnTo>
                  <a:pt x="76479" y="18119"/>
                </a:lnTo>
                <a:lnTo>
                  <a:pt x="76479" y="3481"/>
                </a:lnTo>
                <a:close/>
              </a:path>
              <a:path fill="darkenLess" w="79960" h="21600">
                <a:moveTo>
                  <a:pt x="7996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76479" y="18119"/>
                </a:lnTo>
                <a:close/>
              </a:path>
              <a:path fill="lighten" w="7996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94320" y="6138720"/>
            <a:ext cx="2406960" cy="493920"/>
          </a:xfrm>
          <a:prstGeom prst="wedgeRectCallout">
            <a:avLst>
              <a:gd name="adj1" fmla="val -47032"/>
              <a:gd name="adj2" fmla="val -56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рнуться к самостоятельной рабо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Times New Roman"/>
              </a:rPr>
              <a:t>Правило умножения одночлена на многоч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бы умножить одночлен на многочлен, надо умножить одночлен на каждый член многочлена и полученные произведения с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о:                                   Получа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8478720" y="6197760"/>
            <a:ext cx="515880" cy="487080"/>
          </a:xfrm>
          <a:custGeom>
            <a:avLst/>
            <a:gdLst>
              <a:gd name="textAreaLeft" fmla="*/ 31320 w 515880"/>
              <a:gd name="textAreaRight" fmla="*/ 484560 w 515880"/>
              <a:gd name="textAreaTop" fmla="*/ 31320 h 487080"/>
              <a:gd name="textAreaBottom" fmla="*/ 455760 h 487080"/>
            </a:gdLst>
            <a:ahLst/>
            <a:rect l="textAreaLeft" t="textAreaTop" r="textAreaRight" b="textAreaBottom"/>
            <a:pathLst>
              <a:path w="22876" h="21600">
                <a:moveTo>
                  <a:pt x="0" y="0"/>
                </a:moveTo>
                <a:lnTo>
                  <a:pt x="22876" y="0"/>
                </a:lnTo>
                <a:lnTo>
                  <a:pt x="22876" y="21600"/>
                </a:lnTo>
                <a:lnTo>
                  <a:pt x="0" y="21600"/>
                </a:lnTo>
                <a:close/>
              </a:path>
              <a:path fill="lightenLess" w="22876" h="21600">
                <a:moveTo>
                  <a:pt x="0" y="0"/>
                </a:moveTo>
                <a:lnTo>
                  <a:pt x="22876" y="0"/>
                </a:lnTo>
                <a:lnTo>
                  <a:pt x="21476" y="1400"/>
                </a:lnTo>
                <a:lnTo>
                  <a:pt x="1400" y="1400"/>
                </a:lnTo>
                <a:close/>
              </a:path>
              <a:path fill="darken" w="22876" h="21600">
                <a:moveTo>
                  <a:pt x="22876" y="0"/>
                </a:moveTo>
                <a:lnTo>
                  <a:pt x="22876" y="21600"/>
                </a:lnTo>
                <a:lnTo>
                  <a:pt x="21476" y="20200"/>
                </a:lnTo>
                <a:lnTo>
                  <a:pt x="21476" y="1400"/>
                </a:lnTo>
                <a:close/>
              </a:path>
              <a:path fill="darkenLess" w="22876" h="21600">
                <a:moveTo>
                  <a:pt x="22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6" y="20200"/>
                </a:lnTo>
                <a:close/>
              </a:path>
              <a:path fill="lighten" w="22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6" h="21600">
                <a:moveTo>
                  <a:pt x="4432" y="7493"/>
                </a:moveTo>
                <a:lnTo>
                  <a:pt x="7939" y="7493"/>
                </a:lnTo>
                <a:lnTo>
                  <a:pt x="7939" y="12828"/>
                </a:lnTo>
                <a:cubicBezTo>
                  <a:pt x="7939" y="13751"/>
                  <a:pt x="8740" y="14482"/>
                  <a:pt x="9776" y="14482"/>
                </a:cubicBezTo>
                <a:lnTo>
                  <a:pt x="11438" y="14482"/>
                </a:lnTo>
                <a:cubicBezTo>
                  <a:pt x="12474" y="14482"/>
                  <a:pt x="13275" y="13751"/>
                  <a:pt x="13275" y="12828"/>
                </a:cubicBezTo>
                <a:lnTo>
                  <a:pt x="13275" y="7493"/>
                </a:lnTo>
                <a:lnTo>
                  <a:pt x="11438" y="7493"/>
                </a:lnTo>
                <a:lnTo>
                  <a:pt x="14946" y="3985"/>
                </a:lnTo>
                <a:lnTo>
                  <a:pt x="18619" y="7493"/>
                </a:lnTo>
                <a:lnTo>
                  <a:pt x="16782" y="7493"/>
                </a:lnTo>
                <a:lnTo>
                  <a:pt x="16782" y="12828"/>
                </a:lnTo>
                <a:cubicBezTo>
                  <a:pt x="16782" y="15596"/>
                  <a:pt x="14206" y="18155"/>
                  <a:pt x="11438" y="18155"/>
                </a:cubicBezTo>
                <a:lnTo>
                  <a:pt x="9776" y="18155"/>
                </a:lnTo>
                <a:cubicBezTo>
                  <a:pt x="7008" y="18155"/>
                  <a:pt x="4432" y="15596"/>
                  <a:pt x="4432" y="12828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14440" y="4959360"/>
                <a:ext cx="22478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551400" y="4859280"/>
                <a:ext cx="51368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Times New Roman"/>
              </a:rPr>
              <a:t>Правило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е части неравенства можно умножить или разделить на одно и то же отрицательное число, изменив при этом знак неравенства на противопо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о:                                Получа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8493120" y="6211800"/>
            <a:ext cx="501480" cy="473040"/>
          </a:xfrm>
          <a:custGeom>
            <a:avLst/>
            <a:gdLst>
              <a:gd name="textAreaLeft" fmla="*/ 30600 w 501480"/>
              <a:gd name="textAreaRight" fmla="*/ 470880 w 501480"/>
              <a:gd name="textAreaTop" fmla="*/ 30600 h 473040"/>
              <a:gd name="textAreaBottom" fmla="*/ 442440 h 473040"/>
            </a:gdLst>
            <a:ahLst/>
            <a:rect l="textAreaLeft" t="textAreaTop" r="textAreaRight" b="textAreaBottom"/>
            <a:pathLst>
              <a:path w="22898" h="21600">
                <a:moveTo>
                  <a:pt x="0" y="0"/>
                </a:moveTo>
                <a:lnTo>
                  <a:pt x="22898" y="0"/>
                </a:lnTo>
                <a:lnTo>
                  <a:pt x="22898" y="21600"/>
                </a:lnTo>
                <a:lnTo>
                  <a:pt x="0" y="21600"/>
                </a:lnTo>
                <a:close/>
              </a:path>
              <a:path fill="lightenLess" w="22898" h="21600">
                <a:moveTo>
                  <a:pt x="0" y="0"/>
                </a:moveTo>
                <a:lnTo>
                  <a:pt x="22898" y="0"/>
                </a:lnTo>
                <a:lnTo>
                  <a:pt x="21498" y="1400"/>
                </a:lnTo>
                <a:lnTo>
                  <a:pt x="1400" y="1400"/>
                </a:lnTo>
                <a:close/>
              </a:path>
              <a:path fill="darken" w="22898" h="21600">
                <a:moveTo>
                  <a:pt x="22898" y="0"/>
                </a:moveTo>
                <a:lnTo>
                  <a:pt x="22898" y="21600"/>
                </a:lnTo>
                <a:lnTo>
                  <a:pt x="21498" y="20200"/>
                </a:lnTo>
                <a:lnTo>
                  <a:pt x="21498" y="1400"/>
                </a:lnTo>
                <a:close/>
              </a:path>
              <a:path fill="darkenLess" w="22898" h="21600">
                <a:moveTo>
                  <a:pt x="22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98" y="20200"/>
                </a:lnTo>
                <a:close/>
              </a:path>
              <a:path fill="lighten" w="22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98" h="21600">
                <a:moveTo>
                  <a:pt x="4442" y="7493"/>
                </a:moveTo>
                <a:lnTo>
                  <a:pt x="7950" y="7493"/>
                </a:lnTo>
                <a:lnTo>
                  <a:pt x="7950" y="12828"/>
                </a:lnTo>
                <a:cubicBezTo>
                  <a:pt x="7950" y="13751"/>
                  <a:pt x="8751" y="14482"/>
                  <a:pt x="9786" y="14482"/>
                </a:cubicBezTo>
                <a:lnTo>
                  <a:pt x="11449" y="14482"/>
                </a:lnTo>
                <a:cubicBezTo>
                  <a:pt x="12485" y="14482"/>
                  <a:pt x="13285" y="13751"/>
                  <a:pt x="13285" y="12828"/>
                </a:cubicBezTo>
                <a:lnTo>
                  <a:pt x="13285" y="7493"/>
                </a:lnTo>
                <a:lnTo>
                  <a:pt x="11449" y="7493"/>
                </a:lnTo>
                <a:lnTo>
                  <a:pt x="14956" y="3985"/>
                </a:lnTo>
                <a:lnTo>
                  <a:pt x="18629" y="7493"/>
                </a:lnTo>
                <a:lnTo>
                  <a:pt x="16793" y="7493"/>
                </a:lnTo>
                <a:lnTo>
                  <a:pt x="16793" y="12828"/>
                </a:lnTo>
                <a:cubicBezTo>
                  <a:pt x="16793" y="15596"/>
                  <a:pt x="14217" y="18155"/>
                  <a:pt x="11449" y="18155"/>
                </a:cubicBezTo>
                <a:lnTo>
                  <a:pt x="9786" y="18155"/>
                </a:lnTo>
                <a:cubicBezTo>
                  <a:pt x="7019" y="18155"/>
                  <a:pt x="4442" y="15596"/>
                  <a:pt x="4442" y="12828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74760" y="5275440"/>
                <a:ext cx="1976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&l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180040" y="5273640"/>
                <a:ext cx="16048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Times New Roman"/>
              </a:rPr>
              <a:t>Пример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Решите неравенство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– 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– 7 ≥ 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7d"/>
                </a:solidFill>
                <a:uFillTx/>
                <a:latin typeface="Times New Roman"/>
              </a:rPr>
              <a:t>Реш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решения воспользуемся </a:t>
            </a:r>
            <a:r>
              <a:rPr b="0" lang="ru-RU" sz="22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алгоритм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ешения квадратного неравен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шаем квадратное уравнен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– 6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– 7 = 0. Воспользуемся </a:t>
            </a:r>
            <a:r>
              <a:rPr b="0" lang="ru-RU" sz="22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теорем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обратной теореме Виета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= 16, значит, уравнение имеет два корня. Найдем их: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= 7;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= –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График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– 6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– 7 является парабола, ветви которой направлены вверх. Отметим на ос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точки –1 и 7 и изобразим график схематичес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ьзуясь рисунком, делаем вывод: решение неравен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≤ –1;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≥ 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7d"/>
                </a:solidFill>
                <a:uFillTx/>
                <a:latin typeface="Times New Roman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≤ –1;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≥ 7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4720" y="6021360"/>
            <a:ext cx="2551320" cy="641520"/>
          </a:xfrm>
          <a:prstGeom prst="wedgeRectCallout">
            <a:avLst>
              <a:gd name="adj1" fmla="val -44898"/>
              <a:gd name="adj2" fmla="val 26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76720" y="4005360"/>
            <a:ext cx="3314880" cy="1201680"/>
            <a:chOff x="5076720" y="4005360"/>
            <a:chExt cx="3314880" cy="1201680"/>
          </a:xfrm>
        </p:grpSpPr>
        <p:sp>
          <p:nvSpPr>
            <p:cNvPr id="150" name=""/>
            <p:cNvSpPr/>
            <p:nvPr/>
          </p:nvSpPr>
          <p:spPr>
            <a:xfrm>
              <a:off x="5533920" y="4005360"/>
              <a:ext cx="2222640" cy="1201680"/>
            </a:xfrm>
            <a:custGeom>
              <a:avLst/>
              <a:gdLst/>
              <a:ahLst/>
              <a:rect l="l" t="t" r="r" b="b"/>
              <a:pathLst>
                <a:path w="3500" h="1892">
                  <a:moveTo>
                    <a:pt x="0" y="0"/>
                  </a:moveTo>
                  <a:cubicBezTo>
                    <a:pt x="754" y="1892"/>
                    <a:pt x="2780" y="1641"/>
                    <a:pt x="3500" y="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76720" y="4462560"/>
              <a:ext cx="331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24400" y="4474080"/>
              <a:ext cx="342720" cy="343080"/>
            </a:xfrm>
            <a:prstGeom prst="wedgeRectCallout">
              <a:avLst>
                <a:gd name="adj1" fmla="val 50185"/>
                <a:gd name="adj2" fmla="val 194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74400" y="4422960"/>
              <a:ext cx="684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3800" y="4412880"/>
              <a:ext cx="684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61640" y="4464000"/>
              <a:ext cx="342720" cy="286200"/>
            </a:xfrm>
            <a:prstGeom prst="wedgeRectCallout">
              <a:avLst>
                <a:gd name="adj1" fmla="val 28333"/>
                <a:gd name="adj2" fmla="val 14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0160" y="4453560"/>
              <a:ext cx="342720" cy="276840"/>
            </a:xfrm>
            <a:prstGeom prst="wedgeRectCallout">
              <a:avLst>
                <a:gd name="adj1" fmla="val 31481"/>
                <a:gd name="adj2" fmla="val 2064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343320" y="6037200"/>
            <a:ext cx="2663640" cy="719280"/>
          </a:xfrm>
          <a:custGeom>
            <a:avLst/>
            <a:gdLst>
              <a:gd name="textAreaLeft" fmla="*/ 115920 w 2663640"/>
              <a:gd name="textAreaRight" fmla="*/ 2547720 w 2663640"/>
              <a:gd name="textAreaTop" fmla="*/ 115920 h 719280"/>
              <a:gd name="textAreaBottom" fmla="*/ 603360 h 719280"/>
            </a:gdLst>
            <a:ahLst/>
            <a:rect l="textAreaLeft" t="textAreaTop" r="textAreaRight" b="textAreaBottom"/>
            <a:pathLst>
              <a:path w="79960" h="21600">
                <a:moveTo>
                  <a:pt x="0" y="0"/>
                </a:moveTo>
                <a:lnTo>
                  <a:pt x="79960" y="0"/>
                </a:lnTo>
                <a:lnTo>
                  <a:pt x="79960" y="21600"/>
                </a:lnTo>
                <a:lnTo>
                  <a:pt x="0" y="21600"/>
                </a:lnTo>
                <a:close/>
              </a:path>
              <a:path fill="lightenLess" w="79960" h="21600">
                <a:moveTo>
                  <a:pt x="0" y="0"/>
                </a:moveTo>
                <a:lnTo>
                  <a:pt x="79960" y="0"/>
                </a:lnTo>
                <a:lnTo>
                  <a:pt x="76479" y="3481"/>
                </a:lnTo>
                <a:lnTo>
                  <a:pt x="3481" y="3481"/>
                </a:lnTo>
                <a:close/>
              </a:path>
              <a:path fill="darken" w="79960" h="21600">
                <a:moveTo>
                  <a:pt x="79960" y="0"/>
                </a:moveTo>
                <a:lnTo>
                  <a:pt x="79960" y="21600"/>
                </a:lnTo>
                <a:lnTo>
                  <a:pt x="76479" y="18119"/>
                </a:lnTo>
                <a:lnTo>
                  <a:pt x="76479" y="3481"/>
                </a:lnTo>
                <a:close/>
              </a:path>
              <a:path fill="darkenLess" w="79960" h="21600">
                <a:moveTo>
                  <a:pt x="7996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76479" y="18119"/>
                </a:lnTo>
                <a:close/>
              </a:path>
              <a:path fill="lighten" w="7996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65360" y="6138720"/>
            <a:ext cx="2406960" cy="493920"/>
          </a:xfrm>
          <a:prstGeom prst="wedgeRectCallout">
            <a:avLst>
              <a:gd name="adj1" fmla="val -47032"/>
              <a:gd name="adj2" fmla="val -56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ейти к самостоятельной рабо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6272280" y="6037200"/>
            <a:ext cx="2663640" cy="719280"/>
          </a:xfrm>
          <a:custGeom>
            <a:avLst/>
            <a:gdLst>
              <a:gd name="textAreaLeft" fmla="*/ 115920 w 2663640"/>
              <a:gd name="textAreaRight" fmla="*/ 2547720 w 2663640"/>
              <a:gd name="textAreaTop" fmla="*/ 115920 h 719280"/>
              <a:gd name="textAreaBottom" fmla="*/ 603360 h 719280"/>
            </a:gdLst>
            <a:ahLst/>
            <a:rect l="textAreaLeft" t="textAreaTop" r="textAreaRight" b="textAreaBottom"/>
            <a:pathLst>
              <a:path w="79960" h="21600">
                <a:moveTo>
                  <a:pt x="0" y="0"/>
                </a:moveTo>
                <a:lnTo>
                  <a:pt x="79960" y="0"/>
                </a:lnTo>
                <a:lnTo>
                  <a:pt x="79960" y="21600"/>
                </a:lnTo>
                <a:lnTo>
                  <a:pt x="0" y="21600"/>
                </a:lnTo>
                <a:close/>
              </a:path>
              <a:path fill="lightenLess" w="79960" h="21600">
                <a:moveTo>
                  <a:pt x="0" y="0"/>
                </a:moveTo>
                <a:lnTo>
                  <a:pt x="79960" y="0"/>
                </a:lnTo>
                <a:lnTo>
                  <a:pt x="76479" y="3481"/>
                </a:lnTo>
                <a:lnTo>
                  <a:pt x="3481" y="3481"/>
                </a:lnTo>
                <a:close/>
              </a:path>
              <a:path fill="darken" w="79960" h="21600">
                <a:moveTo>
                  <a:pt x="79960" y="0"/>
                </a:moveTo>
                <a:lnTo>
                  <a:pt x="79960" y="21600"/>
                </a:lnTo>
                <a:lnTo>
                  <a:pt x="76479" y="18119"/>
                </a:lnTo>
                <a:lnTo>
                  <a:pt x="76479" y="3481"/>
                </a:lnTo>
                <a:close/>
              </a:path>
              <a:path fill="darkenLess" w="79960" h="21600">
                <a:moveTo>
                  <a:pt x="7996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76479" y="18119"/>
                </a:lnTo>
                <a:close/>
              </a:path>
              <a:path fill="lighten" w="7996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94320" y="6138720"/>
            <a:ext cx="2406960" cy="493920"/>
          </a:xfrm>
          <a:prstGeom prst="wedgeRectCallout">
            <a:avLst>
              <a:gd name="adj1" fmla="val -47032"/>
              <a:gd name="adj2" fmla="val -56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рнуться к самостоятельной рабо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9152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Times New Roman"/>
              </a:rPr>
              <a:t>Алгоритм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решения неравенств, левая часть которых представляет собой квадратный трехчлен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 bx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 c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имеющий д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зличных корн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Найдем корни данного квадратного трехчлена, для чего решаем квадратное уравн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bx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= 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Изображаем схематически график функци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 =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bx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Пользуясь рисунком, делаем вывод: на каких промежутках ос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полняется неравенств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, на каких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. Записываем отв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621640" y="6299280"/>
            <a:ext cx="430200" cy="442800"/>
          </a:xfrm>
          <a:custGeom>
            <a:avLst/>
            <a:gdLst>
              <a:gd name="textAreaLeft" fmla="*/ 27720 w 430200"/>
              <a:gd name="textAreaRight" fmla="*/ 402480 w 430200"/>
              <a:gd name="textAreaTop" fmla="*/ 27720 h 442800"/>
              <a:gd name="textAreaBottom" fmla="*/ 415080 h 442800"/>
            </a:gdLst>
            <a:ahLst/>
            <a:rect l="textAreaLeft" t="textAreaTop" r="textAreaRight" b="textAreaBottom"/>
            <a:pathLst>
              <a:path w="21600" h="22232">
                <a:moveTo>
                  <a:pt x="0" y="0"/>
                </a:moveTo>
                <a:lnTo>
                  <a:pt x="21600" y="0"/>
                </a:lnTo>
                <a:lnTo>
                  <a:pt x="21600" y="22232"/>
                </a:lnTo>
                <a:lnTo>
                  <a:pt x="0" y="22232"/>
                </a:lnTo>
                <a:close/>
              </a:path>
              <a:path fill="lightenLess" w="21600" h="222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32">
                <a:moveTo>
                  <a:pt x="21600" y="0"/>
                </a:moveTo>
                <a:lnTo>
                  <a:pt x="21600" y="22232"/>
                </a:lnTo>
                <a:lnTo>
                  <a:pt x="20200" y="20832"/>
                </a:lnTo>
                <a:lnTo>
                  <a:pt x="20200" y="1400"/>
                </a:lnTo>
                <a:close/>
              </a:path>
              <a:path fill="darkenLess" w="21600" h="22232">
                <a:moveTo>
                  <a:pt x="21600" y="22232"/>
                </a:moveTo>
                <a:lnTo>
                  <a:pt x="0" y="22232"/>
                </a:lnTo>
                <a:lnTo>
                  <a:pt x="1400" y="20832"/>
                </a:lnTo>
                <a:lnTo>
                  <a:pt x="20200" y="20832"/>
                </a:lnTo>
                <a:close/>
              </a:path>
              <a:path fill="lighten" w="21600" h="22232">
                <a:moveTo>
                  <a:pt x="0" y="222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32"/>
                </a:lnTo>
                <a:close/>
              </a:path>
              <a:path fill="darken" w="21600" h="22232">
                <a:moveTo>
                  <a:pt x="3794" y="7809"/>
                </a:moveTo>
                <a:lnTo>
                  <a:pt x="7301" y="7809"/>
                </a:lnTo>
                <a:lnTo>
                  <a:pt x="7301" y="13144"/>
                </a:lnTo>
                <a:cubicBezTo>
                  <a:pt x="7301" y="14067"/>
                  <a:pt x="8102" y="14798"/>
                  <a:pt x="9138" y="14798"/>
                </a:cubicBezTo>
                <a:lnTo>
                  <a:pt x="10800" y="14798"/>
                </a:lnTo>
                <a:cubicBezTo>
                  <a:pt x="11836" y="14798"/>
                  <a:pt x="12636" y="14067"/>
                  <a:pt x="12636" y="13144"/>
                </a:cubicBezTo>
                <a:lnTo>
                  <a:pt x="12636" y="7809"/>
                </a:lnTo>
                <a:lnTo>
                  <a:pt x="10800" y="7809"/>
                </a:lnTo>
                <a:lnTo>
                  <a:pt x="14308" y="4301"/>
                </a:lnTo>
                <a:lnTo>
                  <a:pt x="17981" y="7809"/>
                </a:lnTo>
                <a:lnTo>
                  <a:pt x="16144" y="7809"/>
                </a:lnTo>
                <a:lnTo>
                  <a:pt x="16144" y="13144"/>
                </a:lnTo>
                <a:cubicBezTo>
                  <a:pt x="16144" y="15912"/>
                  <a:pt x="13568" y="18471"/>
                  <a:pt x="10800" y="18471"/>
                </a:cubicBezTo>
                <a:lnTo>
                  <a:pt x="9138" y="18471"/>
                </a:lnTo>
                <a:cubicBezTo>
                  <a:pt x="6370" y="18471"/>
                  <a:pt x="3794" y="15912"/>
                  <a:pt x="3794" y="13144"/>
                </a:cubicBez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9:52:21Z</dcterms:created>
  <dc:creator>Elena</dc:creator>
  <dc:description/>
  <dc:language>en-US</dc:language>
  <cp:lastModifiedBy>слушатель</cp:lastModifiedBy>
  <dcterms:modified xsi:type="dcterms:W3CDTF">2006-10-16T08:46:37Z</dcterms:modified>
  <cp:revision>78</cp:revision>
  <dc:subject/>
  <dc:title>Зачет 1</dc:title>
</cp:coreProperties>
</file>