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E03F-7A10-4E3F-83F8-28E65C0BC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843B-ADD9-4C12-9CBD-2FCCB9F2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389A-6ADA-4339-84B8-7979035AD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8F4E-C8F8-4012-AD54-27EF59663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7682-C091-4CD0-B810-7ED50787B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6CEB-462A-470D-B940-86F98A78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0C3A-F23D-4C32-BEB4-9FB09A82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29C7-39B3-4C59-9667-6D4F7387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65C8-9F10-46CC-A74B-A6F0C804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9F3E-0B91-4039-A65E-8E690F6E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9626-343B-4F80-BC8A-EA617CE9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F8FC-5A80-4EC5-915D-0CC799F5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62F6-8BE5-4407-9BD0-580DDCC4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AB6F-4080-4BBE-A4FF-CDB75346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57F4-A06C-447C-B40B-66D86546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2264-5B21-4849-AFA5-A226921CF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3DED-B61F-4D84-9B7B-9365033DA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0B13-24CE-4E79-BA99-2184F450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23B6-A37B-4F20-802B-4FC122DB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9E93-67FD-4BA3-BB26-3742D608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A4D4-F8A4-4BA4-8DDC-4DC71DB3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6947-4CE4-4E24-95A4-6E772C40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D262-643D-4401-AFDD-7916C66F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1652-4177-4E90-AF31-D7F0E7C7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CCFC-CAEF-4305-AC4D-ECB108D590D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E35E-A605-47E7-8639-2D4CC331001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Цель урока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репить навыки полученные на предыдущем уроке при решении показательных уравн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ться с новыми способами решения уравн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репить новые знания при решении уравн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ка домашнего зад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тор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ные упражн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ый сведения по решениям; показательных уравн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репление нового материа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стоятельная рабо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ка самостоятельной рабо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машняя рабо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ог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лан урока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вторение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6516720" y="256536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9"/>
              <p:cNvSpPr txBox="1"/>
              <p:nvPr/>
            </p:nvSpPr>
            <p:spPr>
              <a:xfrm>
                <a:off x="6026040" y="3886200"/>
                <a:ext cx="113040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98" name="Picture 18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064360" cy="3313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Устные упражнения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775640" cy="4562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амостоятельная работа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7993080" cy="1465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овер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136000" cy="4048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тог урока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торили ранее изученный матери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лись с новыми способами решения уравне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репили новый материал при работе у доски и выполнении самостоятельной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18:27:49Z</dcterms:created>
  <dc:creator>Пользователь</dc:creator>
  <dc:description/>
  <dc:language>en-US</dc:language>
  <cp:lastModifiedBy>Константин</cp:lastModifiedBy>
  <dcterms:modified xsi:type="dcterms:W3CDTF">2012-12-23T18:13:07Z</dcterms:modified>
  <cp:revision>10</cp:revision>
  <dc:subject/>
  <dc:title>Слайд 1</dc:title>
</cp:coreProperties>
</file>