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7.png" ContentType="image/png"/>
  <Override PartName="/ppt/media/image4.png" ContentType="image/png"/>
  <Override PartName="/ppt/media/image29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8.gif" ContentType="image/gif"/>
  <Override PartName="/ppt/media/image5.gif" ContentType="image/gif"/>
  <Override PartName="/ppt/media/image8.png" ContentType="image/png"/>
  <Override PartName="/ppt/media/image13.gif" ContentType="image/gif"/>
  <Override PartName="/ppt/media/image30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21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0.gif" ContentType="image/gif"/>
  <Override PartName="/ppt/media/image23.png" ContentType="image/png"/>
  <Override PartName="/ppt/media/image19.gif" ContentType="image/gif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0C0-957A-4924-8BA5-70180F1E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401-47F2-46E1-AC59-2D31A60C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FE8-A184-4DF4-99C6-817C5BDE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66B-742D-4E66-8C29-3EEAE4D2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EDE-3A9F-4953-9E73-6A15B833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EB9-E984-4300-B0CE-5B84900F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EDE-3361-4732-9F04-EF8A99E5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BC0-F05D-4410-AECD-2B9A881D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B9E-8D72-4B13-9A0D-27F7E703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70E-03EA-4190-AAC1-B1D75B13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40A-C5D7-424F-8343-89AB91C9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327-270B-49BD-A512-32D32EAC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671A-512F-4DCA-A195-BAD84687C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9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9.xml"/><Relationship Id="rId3" Type="http://schemas.openxmlformats.org/officeDocument/2006/relationships/slide" Target="slide33.xml"/><Relationship Id="rId4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9.xml"/><Relationship Id="rId3" Type="http://schemas.openxmlformats.org/officeDocument/2006/relationships/slide" Target="slide34.xml"/><Relationship Id="rId4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9.xml"/><Relationship Id="rId3" Type="http://schemas.openxmlformats.org/officeDocument/2006/relationships/slide" Target="slide35.xml"/><Relationship Id="rId4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9.xml"/><Relationship Id="rId3" Type="http://schemas.openxmlformats.org/officeDocument/2006/relationships/slide" Target="slide36.xml"/><Relationship Id="rId4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9.xml"/><Relationship Id="rId3" Type="http://schemas.openxmlformats.org/officeDocument/2006/relationships/slide" Target="slide37.xml"/><Relationship Id="rId4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9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9.xml"/><Relationship Id="rId3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17.gif"/><Relationship Id="rId6" Type="http://schemas.openxmlformats.org/officeDocument/2006/relationships/image" Target="../media/image20.gif"/><Relationship Id="rId7" Type="http://schemas.openxmlformats.org/officeDocument/2006/relationships/image" Target="../media/image19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17.gif"/><Relationship Id="rId6" Type="http://schemas.openxmlformats.org/officeDocument/2006/relationships/image" Target="../media/image20.gif"/><Relationship Id="rId7" Type="http://schemas.openxmlformats.org/officeDocument/2006/relationships/image" Target="../media/image19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404640"/>
            <a:ext cx="67737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 В ШКОЛ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2924280"/>
            <a:ext cx="583236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еометрия 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4365720"/>
            <a:ext cx="8064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умма углов треугольни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32000" y="6165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жова О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 rot="19693800">
            <a:off x="5829480" y="49017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 rot="17859600">
            <a:off x="5148000" y="396504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 flipH="1" rot="4141200">
            <a:off x="2587320" y="39333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 flipH="1" rot="1717200">
            <a:off x="2050920" y="4941720"/>
            <a:ext cx="1047960" cy="1047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3276720" y="4797000"/>
            <a:ext cx="0" cy="360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89640" y="4797000"/>
            <a:ext cx="19080" cy="360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916000" y="5589720"/>
            <a:ext cx="360360" cy="28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508720" y="5589720"/>
            <a:ext cx="431640" cy="28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 rot="19693800">
            <a:off x="5900760" y="48686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 rot="17859600">
            <a:off x="5148360" y="37890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 flipH="1" rot="4142400">
            <a:off x="2587320" y="378900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 flipH="1" rot="1717800">
            <a:off x="1979280" y="4869000"/>
            <a:ext cx="1047600" cy="1047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V="1">
            <a:off x="3276720" y="4724280"/>
            <a:ext cx="0" cy="433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89640" y="4653000"/>
            <a:ext cx="19080" cy="504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843280" y="5516280"/>
            <a:ext cx="433440" cy="360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508720" y="5516280"/>
            <a:ext cx="576000" cy="360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 rot="19693800">
            <a:off x="6045120" y="472392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 rot="17859600">
            <a:off x="5148000" y="371592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 flipH="1" rot="4141200">
            <a:off x="2587320" y="371592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flipH="1" rot="1717800">
            <a:off x="1834920" y="4797360"/>
            <a:ext cx="1047600" cy="1047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V="1">
            <a:off x="3276720" y="4653000"/>
            <a:ext cx="0" cy="504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489640" y="4581000"/>
            <a:ext cx="19080" cy="576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771280" y="5445000"/>
            <a:ext cx="505080" cy="432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08720" y="5373720"/>
            <a:ext cx="718920" cy="503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19693800">
            <a:off x="6116760" y="46526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 rot="17859600">
            <a:off x="5148360" y="36446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 flipH="1" rot="4142400">
            <a:off x="2587320" y="3644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 flipH="1" rot="1717200">
            <a:off x="1763640" y="4724280"/>
            <a:ext cx="1047960" cy="10479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V="1">
            <a:off x="3276720" y="4508280"/>
            <a:ext cx="0" cy="649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489640" y="4517640"/>
            <a:ext cx="14400" cy="639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700000" y="5373720"/>
            <a:ext cx="576360" cy="503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508720" y="5300280"/>
            <a:ext cx="792000" cy="576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 rot="19693800">
            <a:off x="6261120" y="45082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 rot="17859600">
            <a:off x="5148000" y="360468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 flipH="1" rot="4141200">
            <a:off x="2587320" y="357300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 flipH="1" rot="1717800">
            <a:off x="1618920" y="4581360"/>
            <a:ext cx="1047600" cy="1047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V="1">
            <a:off x="3276720" y="4365720"/>
            <a:ext cx="0" cy="792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489640" y="4365720"/>
            <a:ext cx="19080" cy="792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484000" y="5229000"/>
            <a:ext cx="792360" cy="647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508720" y="5157720"/>
            <a:ext cx="934920" cy="719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 rot="19693800">
            <a:off x="6404040" y="4436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 rot="17859600">
            <a:off x="5148360" y="34286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 flipH="1" rot="4142400">
            <a:off x="2587320" y="3428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 flipH="1" rot="1717800">
            <a:off x="1476000" y="4508640"/>
            <a:ext cx="1047600" cy="1047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flipV="1">
            <a:off x="3276720" y="4221000"/>
            <a:ext cx="0" cy="93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89640" y="4221000"/>
            <a:ext cx="19080" cy="93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340000" y="5084280"/>
            <a:ext cx="936720" cy="792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508720" y="5084280"/>
            <a:ext cx="1008000" cy="792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 rot="19693800">
            <a:off x="6516720" y="42526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 rot="17859600">
            <a:off x="5148360" y="32842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 flipH="1" rot="4142400">
            <a:off x="2587320" y="32842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 flipH="1" rot="1717800">
            <a:off x="1331640" y="4292640"/>
            <a:ext cx="1047600" cy="1047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V="1">
            <a:off x="3276720" y="4076280"/>
            <a:ext cx="0" cy="1081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489640" y="4149720"/>
            <a:ext cx="19080" cy="1008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2195280" y="4941720"/>
            <a:ext cx="1081080" cy="935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508720" y="4941720"/>
            <a:ext cx="1150920" cy="935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 rot="19693800">
            <a:off x="6620040" y="41493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 rot="17859600">
            <a:off x="5148360" y="31413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 flipH="1" rot="4142400">
            <a:off x="2555640" y="31017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 flipH="1" rot="1717800">
            <a:off x="1258560" y="4221000"/>
            <a:ext cx="1047600" cy="1047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V="1">
            <a:off x="3276720" y="3933720"/>
            <a:ext cx="0" cy="1224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489640" y="4005000"/>
            <a:ext cx="19080" cy="1152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124000" y="4869000"/>
            <a:ext cx="1152720" cy="1008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508720" y="4797000"/>
            <a:ext cx="1295280" cy="1079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 rot="19693800">
            <a:off x="6764400" y="40762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 rot="17859600">
            <a:off x="5148360" y="292392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 flipH="1" rot="4142400">
            <a:off x="2555640" y="292392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 flipH="1" rot="1717200">
            <a:off x="1186920" y="4149720"/>
            <a:ext cx="1047960" cy="10476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 flipV="1">
            <a:off x="3276720" y="3789000"/>
            <a:ext cx="0" cy="1368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489640" y="3789000"/>
            <a:ext cx="19080" cy="1368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050560" y="4797000"/>
            <a:ext cx="1225800" cy="1079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508720" y="4724280"/>
            <a:ext cx="1368360" cy="1152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 rot="19693800">
            <a:off x="6908760" y="393336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 rot="17859600">
            <a:off x="5148360" y="27810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 flipH="1" rot="4142400">
            <a:off x="2555640" y="270792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 flipH="1" rot="1717200">
            <a:off x="1042560" y="4005360"/>
            <a:ext cx="1047960" cy="10476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3276720" y="3500280"/>
            <a:ext cx="0" cy="165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489640" y="3573000"/>
            <a:ext cx="19080" cy="158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1908000" y="4653000"/>
            <a:ext cx="1368720" cy="1224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508720" y="4581000"/>
            <a:ext cx="1511280" cy="129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700280"/>
            <a:ext cx="8964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онный мо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торение по теме «Треугольни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проблемной ситуации по тем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казательство теоремы о сумме углов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а усвоения изученной теоремы в ходе решения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ение внешнего угла треугольника. Доказательство теоремы о внешнем уг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репление изученного в ходе решения задач по готовым чертеж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ение итогов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ние на дом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 rot="19693800">
            <a:off x="7052760" y="378900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 rot="17859600">
            <a:off x="5148000" y="256500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 flipH="1" rot="4141200">
            <a:off x="2555640" y="256500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 flipH="1" rot="1717200">
            <a:off x="826920" y="3860640"/>
            <a:ext cx="1047960" cy="10479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 flipV="1">
            <a:off x="3276720" y="3429000"/>
            <a:ext cx="0" cy="172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89640" y="3429000"/>
            <a:ext cx="19080" cy="172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1763280" y="4508280"/>
            <a:ext cx="1513080" cy="1368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508720" y="4437000"/>
            <a:ext cx="1655640" cy="1440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 rot="19693800">
            <a:off x="7195680" y="364464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 rot="17859600">
            <a:off x="5148360" y="24206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 flipH="1" rot="4142400">
            <a:off x="2555640" y="2420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 flipH="1" rot="1717200">
            <a:off x="644040" y="3645000"/>
            <a:ext cx="1047960" cy="10476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V="1">
            <a:off x="3276720" y="3213000"/>
            <a:ext cx="0" cy="1944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489640" y="3213000"/>
            <a:ext cx="19080" cy="1944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1547280" y="4292280"/>
            <a:ext cx="1729080" cy="158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508720" y="4292280"/>
            <a:ext cx="1800000" cy="158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 rot="19693800">
            <a:off x="7340760" y="34286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 rot="17890800">
            <a:off x="5148000" y="21333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 flipH="1" rot="4142400">
            <a:off x="2555640" y="2133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 flipH="1" rot="1717800">
            <a:off x="468000" y="3429000"/>
            <a:ext cx="1047600" cy="104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 flipV="1">
            <a:off x="3276720" y="2997000"/>
            <a:ext cx="0" cy="2160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489640" y="2924280"/>
            <a:ext cx="19080" cy="2233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403280" y="4076280"/>
            <a:ext cx="1873440" cy="1800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508720" y="4076280"/>
            <a:ext cx="2016000" cy="1800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2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276720" y="2133720"/>
            <a:ext cx="2520720" cy="23032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7596360" y="0"/>
            <a:ext cx="154764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Теорема о сумме углов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3640" y="4005000"/>
            <a:ext cx="5003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гд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Pi"/>
              </a:rPr>
              <a:t>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= </a:t>
            </a:r>
            <a:r>
              <a:rPr b="0" lang="en-US" sz="2800" spc="-1" strike="noStrike">
                <a:solidFill>
                  <a:srgbClr val="000000"/>
                </a:solidFill>
                <a:latin typeface="SymbolPi"/>
              </a:rPr>
              <a:t>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Pi"/>
              </a:rPr>
              <a:t>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 = </a:t>
            </a:r>
            <a:r>
              <a:rPr b="0" lang="en-US" sz="2800" spc="-1" strike="noStrike">
                <a:solidFill>
                  <a:srgbClr val="000000"/>
                </a:solidFill>
                <a:latin typeface="SymbolPi"/>
              </a:rPr>
              <a:t>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Pi"/>
              </a:rPr>
              <a:t>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 + </a:t>
            </a:r>
            <a:r>
              <a:rPr b="0" lang="en-US" sz="2800" spc="-1" strike="noStrike">
                <a:solidFill>
                  <a:srgbClr val="000000"/>
                </a:solidFill>
                <a:latin typeface="SymbolPi"/>
              </a:rPr>
              <a:t>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 + </a:t>
            </a:r>
            <a:r>
              <a:rPr b="0" lang="en-US" sz="2800" spc="-1" strike="noStrike">
                <a:solidFill>
                  <a:srgbClr val="000000"/>
                </a:solidFill>
                <a:latin typeface="SymbolPi"/>
              </a:rPr>
              <a:t>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4 = 18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Pi"/>
              </a:rPr>
              <a:t>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 + </a:t>
            </a:r>
            <a:r>
              <a:rPr b="0" lang="en-US" sz="2800" spc="-1" strike="noStrike">
                <a:solidFill>
                  <a:srgbClr val="000000"/>
                </a:solidFill>
                <a:latin typeface="SymbolPi"/>
              </a:rPr>
              <a:t>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 + </a:t>
            </a:r>
            <a:r>
              <a:rPr b="0" lang="en-US" sz="2800" spc="-1" strike="noStrike">
                <a:solidFill>
                  <a:srgbClr val="000000"/>
                </a:solidFill>
                <a:latin typeface="SymbolPi"/>
              </a:rPr>
              <a:t>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 = 18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141800" y="1736640"/>
            <a:ext cx="4323960" cy="2497680"/>
            <a:chOff x="4141800" y="1736640"/>
            <a:chExt cx="4323960" cy="2497680"/>
          </a:xfrm>
        </p:grpSpPr>
        <p:sp>
          <p:nvSpPr>
            <p:cNvPr id="326" name=""/>
            <p:cNvSpPr/>
            <p:nvPr/>
          </p:nvSpPr>
          <p:spPr>
            <a:xfrm>
              <a:off x="8100720" y="3762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29240" y="2184480"/>
              <a:ext cx="2448000" cy="17287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592520" y="2184480"/>
              <a:ext cx="936720" cy="18000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4521240" y="2112480"/>
              <a:ext cx="3384360" cy="716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592520" y="3913200"/>
              <a:ext cx="3384720" cy="71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29080" y="37893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41800" y="3835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65800" y="1736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21440" y="2203560"/>
              <a:ext cx="144360" cy="288720"/>
            </a:xfrm>
            <a:custGeom>
              <a:avLst/>
              <a:gdLst/>
              <a:ahLst/>
              <a:rect l="l" t="t" r="r" b="b"/>
              <a:pathLst>
                <a:path w="61" h="130">
                  <a:moveTo>
                    <a:pt x="0" y="0"/>
                  </a:moveTo>
                  <a:cubicBezTo>
                    <a:pt x="10" y="79"/>
                    <a:pt x="10" y="79"/>
                    <a:pt x="61" y="13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68760" y="2284560"/>
              <a:ext cx="182880" cy="45720"/>
            </a:xfrm>
            <a:custGeom>
              <a:avLst/>
              <a:gdLst/>
              <a:ahLst/>
              <a:rect l="l" t="t" r="r" b="b"/>
              <a:pathLst>
                <a:path w="115" h="29">
                  <a:moveTo>
                    <a:pt x="0" y="0"/>
                  </a:moveTo>
                  <a:cubicBezTo>
                    <a:pt x="30" y="28"/>
                    <a:pt x="24" y="29"/>
                    <a:pt x="92" y="23"/>
                  </a:cubicBezTo>
                  <a:cubicBezTo>
                    <a:pt x="100" y="22"/>
                    <a:pt x="102" y="11"/>
                    <a:pt x="108" y="7"/>
                  </a:cubicBezTo>
                  <a:cubicBezTo>
                    <a:pt x="110" y="6"/>
                    <a:pt x="113" y="7"/>
                    <a:pt x="115" y="7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2400" y="2357280"/>
              <a:ext cx="317520" cy="109800"/>
            </a:xfrm>
            <a:custGeom>
              <a:avLst/>
              <a:gdLst/>
              <a:ahLst/>
              <a:rect l="l" t="t" r="r" b="b"/>
              <a:pathLst>
                <a:path w="200" h="69">
                  <a:moveTo>
                    <a:pt x="0" y="0"/>
                  </a:moveTo>
                  <a:cubicBezTo>
                    <a:pt x="24" y="69"/>
                    <a:pt x="143" y="43"/>
                    <a:pt x="200" y="15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84880" y="2401920"/>
              <a:ext cx="439560" cy="122040"/>
            </a:xfrm>
            <a:custGeom>
              <a:avLst/>
              <a:gdLst/>
              <a:ahLst/>
              <a:rect l="l" t="t" r="r" b="b"/>
              <a:pathLst>
                <a:path w="277" h="77">
                  <a:moveTo>
                    <a:pt x="0" y="39"/>
                  </a:moveTo>
                  <a:cubicBezTo>
                    <a:pt x="37" y="47"/>
                    <a:pt x="71" y="61"/>
                    <a:pt x="108" y="69"/>
                  </a:cubicBezTo>
                  <a:cubicBezTo>
                    <a:pt x="201" y="63"/>
                    <a:pt x="236" y="77"/>
                    <a:pt x="277" y="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13560" y="2162160"/>
              <a:ext cx="91800" cy="16992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23" y="0"/>
                  </a:moveTo>
                  <a:cubicBezTo>
                    <a:pt x="38" y="23"/>
                    <a:pt x="58" y="48"/>
                    <a:pt x="38" y="77"/>
                  </a:cubicBezTo>
                  <a:cubicBezTo>
                    <a:pt x="29" y="90"/>
                    <a:pt x="11" y="96"/>
                    <a:pt x="0" y="107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7000" y="2192400"/>
              <a:ext cx="84240" cy="146160"/>
            </a:xfrm>
            <a:custGeom>
              <a:avLst/>
              <a:gdLst/>
              <a:ahLst/>
              <a:rect l="l" t="t" r="r" b="b"/>
              <a:pathLst>
                <a:path w="53" h="92">
                  <a:moveTo>
                    <a:pt x="0" y="0"/>
                  </a:moveTo>
                  <a:cubicBezTo>
                    <a:pt x="4" y="30"/>
                    <a:pt x="4" y="92"/>
                    <a:pt x="53" y="92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76760" y="3819600"/>
              <a:ext cx="122400" cy="158760"/>
            </a:xfrm>
            <a:custGeom>
              <a:avLst/>
              <a:gdLst/>
              <a:ahLst/>
              <a:rect l="l" t="t" r="r" b="b"/>
              <a:pathLst>
                <a:path w="77" h="100">
                  <a:moveTo>
                    <a:pt x="0" y="0"/>
                  </a:moveTo>
                  <a:cubicBezTo>
                    <a:pt x="28" y="10"/>
                    <a:pt x="33" y="26"/>
                    <a:pt x="54" y="46"/>
                  </a:cubicBezTo>
                  <a:cubicBezTo>
                    <a:pt x="61" y="68"/>
                    <a:pt x="77" y="78"/>
                    <a:pt x="77" y="10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6080" y="3722760"/>
              <a:ext cx="172800" cy="242640"/>
            </a:xfrm>
            <a:custGeom>
              <a:avLst/>
              <a:gdLst/>
              <a:ahLst/>
              <a:rect l="l" t="t" r="r" b="b"/>
              <a:pathLst>
                <a:path w="109" h="153">
                  <a:moveTo>
                    <a:pt x="0" y="0"/>
                  </a:moveTo>
                  <a:cubicBezTo>
                    <a:pt x="22" y="15"/>
                    <a:pt x="39" y="31"/>
                    <a:pt x="61" y="46"/>
                  </a:cubicBezTo>
                  <a:cubicBezTo>
                    <a:pt x="70" y="72"/>
                    <a:pt x="80" y="88"/>
                    <a:pt x="100" y="107"/>
                  </a:cubicBezTo>
                  <a:cubicBezTo>
                    <a:pt x="109" y="137"/>
                    <a:pt x="107" y="122"/>
                    <a:pt x="107" y="153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75560" y="373536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31" y="0"/>
                  </a:moveTo>
                  <a:cubicBezTo>
                    <a:pt x="13" y="52"/>
                    <a:pt x="0" y="54"/>
                    <a:pt x="0" y="115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95640" y="2257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10160" y="2540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14880" y="2108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06880" y="34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5800" y="34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97800" y="177336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cc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Теорем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«Сумма углов треугольника равна 180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000" y="443700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1. Проведём  а </a:t>
            </a:r>
            <a:r>
              <a:rPr b="1" lang="ru-RU" sz="2000" spc="-1" strike="noStrike">
                <a:solidFill>
                  <a:srgbClr val="0000cc"/>
                </a:solidFill>
                <a:latin typeface="Symbol"/>
                <a:ea typeface="Symbol"/>
              </a:rPr>
              <a:t>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ВС, А принадлежит 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5 =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1 ( внутренние накрест лежащие при а  </a:t>
            </a:r>
            <a:r>
              <a:rPr b="1" lang="ru-RU" sz="2000" spc="-1" strike="noStrike">
                <a:solidFill>
                  <a:srgbClr val="0000cc"/>
                </a:solidFill>
                <a:latin typeface="Symbol"/>
                <a:ea typeface="Symbol"/>
              </a:rPr>
              <a:t>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ВС и секущей 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4 =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3 (внутренние накрест лежащие при  а  </a:t>
            </a:r>
            <a:r>
              <a:rPr b="1" lang="ru-RU" sz="2000" spc="-1" strike="noStrike">
                <a:solidFill>
                  <a:srgbClr val="0000cc"/>
                </a:solidFill>
                <a:latin typeface="Symbol"/>
                <a:ea typeface="Symbol"/>
              </a:rPr>
              <a:t>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ВС и секущей АС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5 +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2 +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4 = 180</a:t>
            </a:r>
            <a:r>
              <a:rPr b="1" lang="ru-RU" sz="20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(развёрнутый уго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1 +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2 +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3 = 180</a:t>
            </a:r>
            <a:r>
              <a:rPr b="1" lang="ru-RU" sz="20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– ч.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03640" y="1812960"/>
            <a:ext cx="388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cc"/>
                </a:solidFill>
                <a:latin typeface="Symbol"/>
                <a:ea typeface="Symbol"/>
              </a:rPr>
              <a:t>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ВС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1,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2,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3 – внутренние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1 +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2 + </a:t>
            </a:r>
            <a:r>
              <a:rPr b="1" lang="en-US" sz="2000" spc="-1" strike="noStrike">
                <a:solidFill>
                  <a:srgbClr val="0000cc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3 = 180</a:t>
            </a:r>
            <a:r>
              <a:rPr b="1" lang="ru-RU" sz="20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96720" y="1700280"/>
            <a:ext cx="4323960" cy="2497680"/>
            <a:chOff x="396720" y="1700280"/>
            <a:chExt cx="4323960" cy="2497680"/>
          </a:xfrm>
        </p:grpSpPr>
        <p:sp>
          <p:nvSpPr>
            <p:cNvPr id="353" name=""/>
            <p:cNvSpPr/>
            <p:nvPr/>
          </p:nvSpPr>
          <p:spPr>
            <a:xfrm>
              <a:off x="4355640" y="3726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84160" y="2148120"/>
              <a:ext cx="2448000" cy="17287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847440" y="2148120"/>
              <a:ext cx="936720" cy="18000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76160" y="2076120"/>
              <a:ext cx="3384360" cy="716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47440" y="3876840"/>
              <a:ext cx="3384720" cy="71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4000" y="3753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6720" y="37990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20720" y="1700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76360" y="2167200"/>
              <a:ext cx="144360" cy="288720"/>
            </a:xfrm>
            <a:custGeom>
              <a:avLst/>
              <a:gdLst/>
              <a:ahLst/>
              <a:rect l="l" t="t" r="r" b="b"/>
              <a:pathLst>
                <a:path w="61" h="130">
                  <a:moveTo>
                    <a:pt x="0" y="0"/>
                  </a:moveTo>
                  <a:cubicBezTo>
                    <a:pt x="10" y="79"/>
                    <a:pt x="10" y="79"/>
                    <a:pt x="61" y="13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23680" y="2248200"/>
              <a:ext cx="182880" cy="45720"/>
            </a:xfrm>
            <a:custGeom>
              <a:avLst/>
              <a:gdLst/>
              <a:ahLst/>
              <a:rect l="l" t="t" r="r" b="b"/>
              <a:pathLst>
                <a:path w="115" h="29">
                  <a:moveTo>
                    <a:pt x="0" y="0"/>
                  </a:moveTo>
                  <a:cubicBezTo>
                    <a:pt x="30" y="28"/>
                    <a:pt x="24" y="29"/>
                    <a:pt x="92" y="23"/>
                  </a:cubicBezTo>
                  <a:cubicBezTo>
                    <a:pt x="100" y="22"/>
                    <a:pt x="102" y="11"/>
                    <a:pt x="108" y="7"/>
                  </a:cubicBezTo>
                  <a:cubicBezTo>
                    <a:pt x="110" y="6"/>
                    <a:pt x="113" y="7"/>
                    <a:pt x="115" y="7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87320" y="2320920"/>
              <a:ext cx="317520" cy="109800"/>
            </a:xfrm>
            <a:custGeom>
              <a:avLst/>
              <a:gdLst/>
              <a:ahLst/>
              <a:rect l="l" t="t" r="r" b="b"/>
              <a:pathLst>
                <a:path w="200" h="69">
                  <a:moveTo>
                    <a:pt x="0" y="0"/>
                  </a:moveTo>
                  <a:cubicBezTo>
                    <a:pt x="24" y="69"/>
                    <a:pt x="143" y="43"/>
                    <a:pt x="200" y="15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39800" y="2365560"/>
              <a:ext cx="439560" cy="122040"/>
            </a:xfrm>
            <a:custGeom>
              <a:avLst/>
              <a:gdLst/>
              <a:ahLst/>
              <a:rect l="l" t="t" r="r" b="b"/>
              <a:pathLst>
                <a:path w="277" h="77">
                  <a:moveTo>
                    <a:pt x="0" y="39"/>
                  </a:moveTo>
                  <a:cubicBezTo>
                    <a:pt x="37" y="47"/>
                    <a:pt x="71" y="61"/>
                    <a:pt x="108" y="69"/>
                  </a:cubicBezTo>
                  <a:cubicBezTo>
                    <a:pt x="201" y="63"/>
                    <a:pt x="236" y="77"/>
                    <a:pt x="277" y="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68480" y="2125800"/>
              <a:ext cx="91800" cy="16992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23" y="0"/>
                  </a:moveTo>
                  <a:cubicBezTo>
                    <a:pt x="38" y="23"/>
                    <a:pt x="58" y="48"/>
                    <a:pt x="38" y="77"/>
                  </a:cubicBezTo>
                  <a:cubicBezTo>
                    <a:pt x="29" y="90"/>
                    <a:pt x="11" y="96"/>
                    <a:pt x="0" y="107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91920" y="2156040"/>
              <a:ext cx="84240" cy="146160"/>
            </a:xfrm>
            <a:custGeom>
              <a:avLst/>
              <a:gdLst/>
              <a:ahLst/>
              <a:rect l="l" t="t" r="r" b="b"/>
              <a:pathLst>
                <a:path w="53" h="92">
                  <a:moveTo>
                    <a:pt x="0" y="0"/>
                  </a:moveTo>
                  <a:cubicBezTo>
                    <a:pt x="4" y="30"/>
                    <a:pt x="4" y="92"/>
                    <a:pt x="53" y="92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31680" y="3783240"/>
              <a:ext cx="122400" cy="158760"/>
            </a:xfrm>
            <a:custGeom>
              <a:avLst/>
              <a:gdLst/>
              <a:ahLst/>
              <a:rect l="l" t="t" r="r" b="b"/>
              <a:pathLst>
                <a:path w="77" h="100">
                  <a:moveTo>
                    <a:pt x="0" y="0"/>
                  </a:moveTo>
                  <a:cubicBezTo>
                    <a:pt x="28" y="10"/>
                    <a:pt x="33" y="26"/>
                    <a:pt x="54" y="46"/>
                  </a:cubicBezTo>
                  <a:cubicBezTo>
                    <a:pt x="61" y="68"/>
                    <a:pt x="77" y="78"/>
                    <a:pt x="77" y="10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81000" y="3686400"/>
              <a:ext cx="172800" cy="242640"/>
            </a:xfrm>
            <a:custGeom>
              <a:avLst/>
              <a:gdLst/>
              <a:ahLst/>
              <a:rect l="l" t="t" r="r" b="b"/>
              <a:pathLst>
                <a:path w="109" h="153">
                  <a:moveTo>
                    <a:pt x="0" y="0"/>
                  </a:moveTo>
                  <a:cubicBezTo>
                    <a:pt x="22" y="15"/>
                    <a:pt x="39" y="31"/>
                    <a:pt x="61" y="46"/>
                  </a:cubicBezTo>
                  <a:cubicBezTo>
                    <a:pt x="70" y="72"/>
                    <a:pt x="80" y="88"/>
                    <a:pt x="100" y="107"/>
                  </a:cubicBezTo>
                  <a:cubicBezTo>
                    <a:pt x="109" y="137"/>
                    <a:pt x="107" y="122"/>
                    <a:pt x="107" y="153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30480" y="369900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31" y="0"/>
                  </a:moveTo>
                  <a:cubicBezTo>
                    <a:pt x="13" y="52"/>
                    <a:pt x="0" y="54"/>
                    <a:pt x="0" y="115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50560" y="2221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65080" y="2503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69800" y="2071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61800" y="343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20720" y="343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52720" y="173700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9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Что утверждает новая теоре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Чему равен третий угол в треугольнике, если один из углов 30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, второй – 100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Чему равен угол равностороннего тре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Чему равна сумма острых углов прямоугольного тре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Чему равен острый угол прямоугольного равнобедренного тре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Почему в треугольнике не может быть двух прямых (тупых)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omic Sans MS"/>
              </a:rPr>
              <a:t>Следствия из Теоремы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Comic Sans MS"/>
              </a:rPr>
              <a:t>о сумме углов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95280" y="2133720"/>
            <a:ext cx="2663640" cy="2016000"/>
            <a:chOff x="395280" y="2133720"/>
            <a:chExt cx="2663640" cy="2016000"/>
          </a:xfrm>
        </p:grpSpPr>
        <p:sp>
          <p:nvSpPr>
            <p:cNvPr id="380" name=""/>
            <p:cNvSpPr/>
            <p:nvPr/>
          </p:nvSpPr>
          <p:spPr>
            <a:xfrm>
              <a:off x="395280" y="2133720"/>
              <a:ext cx="2663640" cy="1944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6ffcc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04880" y="2308320"/>
              <a:ext cx="247680" cy="44280"/>
            </a:xfrm>
            <a:custGeom>
              <a:avLst/>
              <a:gdLst/>
              <a:ahLst/>
              <a:rect l="l" t="t" r="r" b="b"/>
              <a:pathLst>
                <a:path w="156" h="28">
                  <a:moveTo>
                    <a:pt x="156" y="0"/>
                  </a:moveTo>
                  <a:cubicBezTo>
                    <a:pt x="75" y="28"/>
                    <a:pt x="126" y="16"/>
                    <a:pt x="0" y="16"/>
                  </a:cubicBezTo>
                </a:path>
              </a:pathLst>
            </a:custGeom>
            <a:gradFill rotWithShape="0">
              <a:gsLst>
                <a:gs pos="0">
                  <a:srgbClr val="ffd9ff"/>
                </a:gs>
                <a:gs pos="100000">
                  <a:srgbClr val="66ffcc"/>
                </a:gs>
              </a:gsLst>
              <a:lin ang="8100000"/>
            </a:gradFill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2880" y="3865680"/>
              <a:ext cx="49320" cy="21096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cubicBezTo>
                    <a:pt x="31" y="50"/>
                    <a:pt x="31" y="76"/>
                    <a:pt x="31" y="133"/>
                  </a:cubicBezTo>
                </a:path>
              </a:pathLst>
            </a:custGeom>
            <a:gradFill rotWithShape="0">
              <a:gsLst>
                <a:gs pos="0">
                  <a:srgbClr val="ffd9ff"/>
                </a:gs>
                <a:gs pos="100000">
                  <a:srgbClr val="66ffcc"/>
                </a:gs>
              </a:gsLst>
              <a:lin ang="8100000"/>
            </a:gradFill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73440" y="3828960"/>
              <a:ext cx="117360" cy="247680"/>
            </a:xfrm>
            <a:custGeom>
              <a:avLst/>
              <a:gdLst/>
              <a:ahLst/>
              <a:rect l="l" t="t" r="r" b="b"/>
              <a:pathLst>
                <a:path w="74" h="156">
                  <a:moveTo>
                    <a:pt x="74" y="0"/>
                  </a:moveTo>
                  <a:cubicBezTo>
                    <a:pt x="0" y="25"/>
                    <a:pt x="4" y="88"/>
                    <a:pt x="4" y="156"/>
                  </a:cubicBezTo>
                </a:path>
              </a:pathLst>
            </a:custGeom>
            <a:gradFill rotWithShape="0">
              <a:gsLst>
                <a:gs pos="0">
                  <a:srgbClr val="ffd9ff"/>
                </a:gs>
                <a:gs pos="100000">
                  <a:srgbClr val="66ffcc"/>
                </a:gs>
              </a:gsLst>
              <a:lin ang="8100000"/>
            </a:gradFill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71640" y="2998800"/>
              <a:ext cx="215640" cy="14436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266920" y="2997360"/>
              <a:ext cx="217440" cy="14436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2360" y="3933720"/>
              <a:ext cx="0" cy="21600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4000" y="3664080"/>
              <a:ext cx="5972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Comic Sans MS"/>
                </a:rPr>
                <a:t>60</a:t>
              </a:r>
              <a:r>
                <a:rPr b="1" lang="en-US" sz="2000" spc="-1" strike="noStrike" baseline="30000">
                  <a:solidFill>
                    <a:srgbClr val="80008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580000" y="2276640"/>
            <a:ext cx="3044880" cy="1943640"/>
            <a:chOff x="5580000" y="2276640"/>
            <a:chExt cx="3044880" cy="1943640"/>
          </a:xfrm>
        </p:grpSpPr>
        <p:sp>
          <p:nvSpPr>
            <p:cNvPr id="389" name=""/>
            <p:cNvSpPr/>
            <p:nvPr/>
          </p:nvSpPr>
          <p:spPr>
            <a:xfrm>
              <a:off x="5600880" y="2276640"/>
              <a:ext cx="3024000" cy="1922040"/>
            </a:xfrm>
            <a:prstGeom prst="rtTriangle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00880" y="4005000"/>
              <a:ext cx="21564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816520" y="4004640"/>
              <a:ext cx="0" cy="21564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80000" y="2398320"/>
              <a:ext cx="198720" cy="8532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125" y="0"/>
                  </a:moveTo>
                  <a:cubicBezTo>
                    <a:pt x="97" y="41"/>
                    <a:pt x="48" y="54"/>
                    <a:pt x="0" y="54"/>
                  </a:cubicBezTo>
                </a:path>
              </a:pathLst>
            </a:custGeom>
            <a:noFill/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92960" y="2435040"/>
              <a:ext cx="260280" cy="110520"/>
            </a:xfrm>
            <a:custGeom>
              <a:avLst/>
              <a:gdLst/>
              <a:ahLst/>
              <a:rect l="l" t="t" r="r" b="b"/>
              <a:pathLst>
                <a:path w="164" h="70">
                  <a:moveTo>
                    <a:pt x="164" y="0"/>
                  </a:moveTo>
                  <a:cubicBezTo>
                    <a:pt x="132" y="45"/>
                    <a:pt x="55" y="70"/>
                    <a:pt x="0" y="70"/>
                  </a:cubicBezTo>
                </a:path>
              </a:pathLst>
            </a:custGeom>
            <a:noFill/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50400" y="3966840"/>
              <a:ext cx="123840" cy="221760"/>
            </a:xfrm>
            <a:custGeom>
              <a:avLst/>
              <a:gdLst/>
              <a:ahLst/>
              <a:rect l="l" t="t" r="r" b="b"/>
              <a:pathLst>
                <a:path w="78" h="140">
                  <a:moveTo>
                    <a:pt x="78" y="0"/>
                  </a:moveTo>
                  <a:cubicBezTo>
                    <a:pt x="33" y="31"/>
                    <a:pt x="0" y="85"/>
                    <a:pt x="0" y="140"/>
                  </a:cubicBezTo>
                </a:path>
              </a:pathLst>
            </a:custGeom>
            <a:noFill/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00880" y="251100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13800" y="380808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867280" y="4365720"/>
            <a:ext cx="25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1 + </a:t>
            </a:r>
            <a:r>
              <a:rPr b="1" lang="en-US" sz="2000" spc="-1" strike="noStrike">
                <a:solidFill>
                  <a:srgbClr val="800080"/>
                </a:solidFill>
                <a:latin typeface="SymbolPi"/>
              </a:rPr>
              <a:t>Ð</a:t>
            </a: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2 = 90</a:t>
            </a:r>
            <a:r>
              <a:rPr b="1" lang="ru-RU" sz="2000" spc="-1" strike="noStrike" baseline="30000">
                <a:solidFill>
                  <a:srgbClr val="80008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564000" y="3573360"/>
            <a:ext cx="3095640" cy="3095640"/>
            <a:chOff x="3564000" y="3573360"/>
            <a:chExt cx="3095640" cy="3095640"/>
          </a:xfrm>
        </p:grpSpPr>
        <p:sp>
          <p:nvSpPr>
            <p:cNvPr id="399" name=""/>
            <p:cNvSpPr/>
            <p:nvPr/>
          </p:nvSpPr>
          <p:spPr>
            <a:xfrm>
              <a:off x="3708360" y="3573360"/>
              <a:ext cx="2951280" cy="2952720"/>
            </a:xfrm>
            <a:prstGeom prst="rtTriangle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08360" y="6381720"/>
              <a:ext cx="14292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851280" y="6381360"/>
              <a:ext cx="0" cy="14436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99000" y="3740040"/>
              <a:ext cx="172800" cy="61920"/>
            </a:xfrm>
            <a:custGeom>
              <a:avLst/>
              <a:gdLst/>
              <a:ahLst/>
              <a:rect l="l" t="t" r="r" b="b"/>
              <a:pathLst>
                <a:path w="109" h="39">
                  <a:moveTo>
                    <a:pt x="109" y="0"/>
                  </a:moveTo>
                  <a:cubicBezTo>
                    <a:pt x="75" y="34"/>
                    <a:pt x="48" y="39"/>
                    <a:pt x="0" y="39"/>
                  </a:cubicBezTo>
                </a:path>
              </a:pathLst>
            </a:custGeom>
            <a:noFill/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53360" y="6348240"/>
              <a:ext cx="50760" cy="196920"/>
            </a:xfrm>
            <a:custGeom>
              <a:avLst/>
              <a:gdLst/>
              <a:ahLst/>
              <a:rect l="l" t="t" r="r" b="b"/>
              <a:pathLst>
                <a:path w="32" h="124">
                  <a:moveTo>
                    <a:pt x="32" y="0"/>
                  </a:moveTo>
                  <a:cubicBezTo>
                    <a:pt x="0" y="45"/>
                    <a:pt x="8" y="61"/>
                    <a:pt x="8" y="124"/>
                  </a:cubicBezTo>
                </a:path>
              </a:pathLst>
            </a:custGeom>
            <a:noFill/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64000" y="4941720"/>
              <a:ext cx="2872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64000" y="5013360"/>
              <a:ext cx="2872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59280" y="6381720"/>
              <a:ext cx="0" cy="28728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2360" y="6381720"/>
              <a:ext cx="0" cy="28728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8720" y="6165720"/>
              <a:ext cx="70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Comic Sans MS"/>
                </a:rPr>
                <a:t>45</a:t>
              </a:r>
              <a:r>
                <a:rPr b="1" lang="en-US" sz="2000" spc="-1" strike="noStrike" baseline="30000">
                  <a:solidFill>
                    <a:srgbClr val="80008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l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800080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2268360" y="1125360"/>
            <a:ext cx="5904000" cy="4319280"/>
            <a:chOff x="2268360" y="1125360"/>
            <a:chExt cx="5904000" cy="4319280"/>
          </a:xfrm>
        </p:grpSpPr>
        <p:sp>
          <p:nvSpPr>
            <p:cNvPr id="410" name=""/>
            <p:cNvSpPr/>
            <p:nvPr/>
          </p:nvSpPr>
          <p:spPr>
            <a:xfrm>
              <a:off x="2268360" y="1125360"/>
              <a:ext cx="3456000" cy="367200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16360" y="4797360"/>
              <a:ext cx="52560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70920" y="4149720"/>
              <a:ext cx="1729440" cy="12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Теорема о внешнем угле треугольника:</a:t>
            </a:r>
            <a:br>
              <a:rPr sz="3200"/>
            </a:b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«Внешний угол треугольника равен сумме двух углов не смежных с ни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419280" y="3716280"/>
            <a:ext cx="5545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Объясните зап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а)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5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6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8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=180</a:t>
            </a:r>
            <a:r>
              <a:rPr b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3 + 180</a:t>
            </a:r>
            <a:r>
              <a:rPr b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2 + 180</a:t>
            </a:r>
            <a:r>
              <a:rPr b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1 = =540</a:t>
            </a:r>
            <a:r>
              <a:rPr b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– (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1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2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3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=540</a:t>
            </a:r>
            <a:r>
              <a:rPr b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– 180</a:t>
            </a:r>
            <a:r>
              <a:rPr b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= 360</a:t>
            </a:r>
            <a:r>
              <a:rPr b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б)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5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4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6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7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8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9 = =360</a:t>
            </a:r>
            <a:r>
              <a:rPr b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2 = 720</a:t>
            </a:r>
            <a:r>
              <a:rPr b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80720" y="3646440"/>
            <a:ext cx="3526200" cy="3095640"/>
            <a:chOff x="180720" y="3646440"/>
            <a:chExt cx="3526200" cy="3095640"/>
          </a:xfrm>
        </p:grpSpPr>
        <p:sp>
          <p:nvSpPr>
            <p:cNvPr id="416" name=""/>
            <p:cNvSpPr/>
            <p:nvPr/>
          </p:nvSpPr>
          <p:spPr>
            <a:xfrm>
              <a:off x="755640" y="3719520"/>
              <a:ext cx="2951280" cy="21607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66200" y="3646440"/>
              <a:ext cx="1079640" cy="309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250920" y="5014800"/>
              <a:ext cx="3382920" cy="13683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43000" y="4017960"/>
              <a:ext cx="141120" cy="408240"/>
            </a:xfrm>
            <a:custGeom>
              <a:avLst/>
              <a:gdLst/>
              <a:ahLst/>
              <a:rect l="l" t="t" r="r" b="b"/>
              <a:pathLst>
                <a:path w="89" h="257">
                  <a:moveTo>
                    <a:pt x="19" y="0"/>
                  </a:moveTo>
                  <a:cubicBezTo>
                    <a:pt x="8" y="79"/>
                    <a:pt x="0" y="183"/>
                    <a:pt x="73" y="234"/>
                  </a:cubicBezTo>
                  <a:cubicBezTo>
                    <a:pt x="78" y="242"/>
                    <a:pt x="89" y="257"/>
                    <a:pt x="89" y="257"/>
                  </a:cubicBezTo>
                </a:path>
              </a:pathLst>
            </a:custGeom>
            <a:noFill/>
            <a:ln w="4140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74920" y="3935520"/>
              <a:ext cx="145800" cy="345960"/>
            </a:xfrm>
            <a:custGeom>
              <a:avLst/>
              <a:gdLst/>
              <a:ahLst/>
              <a:rect l="l" t="t" r="r" b="b"/>
              <a:pathLst>
                <a:path w="92" h="218">
                  <a:moveTo>
                    <a:pt x="0" y="0"/>
                  </a:moveTo>
                  <a:cubicBezTo>
                    <a:pt x="8" y="8"/>
                    <a:pt x="14" y="17"/>
                    <a:pt x="23" y="24"/>
                  </a:cubicBezTo>
                  <a:cubicBezTo>
                    <a:pt x="30" y="30"/>
                    <a:pt x="40" y="32"/>
                    <a:pt x="47" y="39"/>
                  </a:cubicBezTo>
                  <a:cubicBezTo>
                    <a:pt x="92" y="84"/>
                    <a:pt x="78" y="166"/>
                    <a:pt x="78" y="218"/>
                  </a:cubicBezTo>
                </a:path>
              </a:pathLst>
            </a:custGeom>
            <a:noFill/>
            <a:ln w="4140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718400">
              <a:off x="283680" y="6051240"/>
              <a:ext cx="720000" cy="56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43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43344"/>
                </a:path>
              </a:pathLst>
            </a:custGeom>
            <a:noFill/>
            <a:ln w="414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4000" y="5880240"/>
              <a:ext cx="431640" cy="431640"/>
            </a:xfrm>
            <a:custGeom>
              <a:avLst/>
              <a:gdLst/>
              <a:ahLst/>
              <a:rect l="l" t="t" r="r" b="b"/>
              <a:pathLst>
                <a:path w="233" h="202">
                  <a:moveTo>
                    <a:pt x="0" y="202"/>
                  </a:moveTo>
                  <a:cubicBezTo>
                    <a:pt x="0" y="198"/>
                    <a:pt x="4" y="129"/>
                    <a:pt x="15" y="109"/>
                  </a:cubicBezTo>
                  <a:cubicBezTo>
                    <a:pt x="60" y="26"/>
                    <a:pt x="144" y="0"/>
                    <a:pt x="233" y="0"/>
                  </a:cubicBezTo>
                </a:path>
              </a:pathLst>
            </a:custGeom>
            <a:noFill/>
            <a:ln w="4140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6560" y="6096240"/>
              <a:ext cx="187560" cy="144360"/>
            </a:xfrm>
            <a:custGeom>
              <a:avLst/>
              <a:gdLst/>
              <a:ahLst/>
              <a:rect l="l" t="t" r="r" b="b"/>
              <a:pathLst>
                <a:path w="117" h="133">
                  <a:moveTo>
                    <a:pt x="117" y="0"/>
                  </a:moveTo>
                  <a:cubicBezTo>
                    <a:pt x="61" y="19"/>
                    <a:pt x="84" y="7"/>
                    <a:pt x="47" y="31"/>
                  </a:cubicBezTo>
                  <a:cubicBezTo>
                    <a:pt x="27" y="62"/>
                    <a:pt x="0" y="93"/>
                    <a:pt x="0" y="133"/>
                  </a:cubicBezTo>
                </a:path>
              </a:pathLst>
            </a:custGeom>
            <a:noFill/>
            <a:ln w="4140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7400" y="6180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0"/>
                  </a:moveTo>
                  <a:cubicBezTo>
                    <a:pt x="91" y="6"/>
                    <a:pt x="77" y="61"/>
                    <a:pt x="62" y="70"/>
                  </a:cubicBezTo>
                  <a:cubicBezTo>
                    <a:pt x="43" y="82"/>
                    <a:pt x="20" y="84"/>
                    <a:pt x="0" y="94"/>
                  </a:cubicBezTo>
                </a:path>
              </a:pathLst>
            </a:custGeom>
            <a:noFill/>
            <a:ln w="4140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92200" y="6131160"/>
              <a:ext cx="247680" cy="271440"/>
            </a:xfrm>
            <a:custGeom>
              <a:avLst/>
              <a:gdLst/>
              <a:ahLst/>
              <a:rect l="l" t="t" r="r" b="b"/>
              <a:pathLst>
                <a:path w="156" h="171">
                  <a:moveTo>
                    <a:pt x="156" y="0"/>
                  </a:moveTo>
                  <a:cubicBezTo>
                    <a:pt x="129" y="81"/>
                    <a:pt x="106" y="171"/>
                    <a:pt x="0" y="171"/>
                  </a:cubicBezTo>
                </a:path>
              </a:pathLst>
            </a:custGeom>
            <a:noFill/>
            <a:ln w="4140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2880" y="6131160"/>
              <a:ext cx="345960" cy="371520"/>
            </a:xfrm>
            <a:custGeom>
              <a:avLst/>
              <a:gdLst/>
              <a:ahLst/>
              <a:rect l="l" t="t" r="r" b="b"/>
              <a:pathLst>
                <a:path w="218" h="234">
                  <a:moveTo>
                    <a:pt x="218" y="0"/>
                  </a:moveTo>
                  <a:cubicBezTo>
                    <a:pt x="215" y="29"/>
                    <a:pt x="214" y="58"/>
                    <a:pt x="210" y="86"/>
                  </a:cubicBezTo>
                  <a:cubicBezTo>
                    <a:pt x="206" y="111"/>
                    <a:pt x="182" y="139"/>
                    <a:pt x="171" y="156"/>
                  </a:cubicBezTo>
                  <a:cubicBezTo>
                    <a:pt x="129" y="220"/>
                    <a:pt x="72" y="234"/>
                    <a:pt x="0" y="234"/>
                  </a:cubicBezTo>
                </a:path>
              </a:pathLst>
            </a:custGeom>
            <a:noFill/>
            <a:ln w="4140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41480" y="5191200"/>
              <a:ext cx="222480" cy="50760"/>
            </a:xfrm>
            <a:custGeom>
              <a:avLst/>
              <a:gdLst/>
              <a:ahLst/>
              <a:rect l="l" t="t" r="r" b="b"/>
              <a:pathLst>
                <a:path w="140" h="32">
                  <a:moveTo>
                    <a:pt x="0" y="16"/>
                  </a:moveTo>
                  <a:cubicBezTo>
                    <a:pt x="46" y="0"/>
                    <a:pt x="53" y="2"/>
                    <a:pt x="109" y="8"/>
                  </a:cubicBezTo>
                  <a:cubicBezTo>
                    <a:pt x="135" y="26"/>
                    <a:pt x="125" y="17"/>
                    <a:pt x="140" y="32"/>
                  </a:cubicBezTo>
                </a:path>
              </a:pathLst>
            </a:custGeom>
            <a:noFill/>
            <a:ln w="4140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92520" y="5131080"/>
              <a:ext cx="345960" cy="72720"/>
            </a:xfrm>
            <a:custGeom>
              <a:avLst/>
              <a:gdLst/>
              <a:ahLst/>
              <a:rect l="l" t="t" r="r" b="b"/>
              <a:pathLst>
                <a:path w="218" h="46">
                  <a:moveTo>
                    <a:pt x="0" y="23"/>
                  </a:moveTo>
                  <a:cubicBezTo>
                    <a:pt x="38" y="10"/>
                    <a:pt x="76" y="5"/>
                    <a:pt x="116" y="0"/>
                  </a:cubicBezTo>
                  <a:cubicBezTo>
                    <a:pt x="129" y="2"/>
                    <a:pt x="142" y="4"/>
                    <a:pt x="155" y="7"/>
                  </a:cubicBezTo>
                  <a:cubicBezTo>
                    <a:pt x="171" y="11"/>
                    <a:pt x="202" y="23"/>
                    <a:pt x="202" y="23"/>
                  </a:cubicBezTo>
                  <a:cubicBezTo>
                    <a:pt x="207" y="31"/>
                    <a:pt x="218" y="46"/>
                    <a:pt x="218" y="46"/>
                  </a:cubicBezTo>
                </a:path>
              </a:pathLst>
            </a:custGeom>
            <a:noFill/>
            <a:ln w="4140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52640" y="5340600"/>
              <a:ext cx="173160" cy="3636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0" y="0"/>
                  </a:moveTo>
                  <a:cubicBezTo>
                    <a:pt x="67" y="23"/>
                    <a:pt x="30" y="16"/>
                    <a:pt x="109" y="16"/>
                  </a:cubicBezTo>
                </a:path>
              </a:pathLst>
            </a:custGeom>
            <a:noFill/>
            <a:ln w="4140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98920" y="5365800"/>
              <a:ext cx="450720" cy="8100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0" y="0"/>
                  </a:moveTo>
                  <a:cubicBezTo>
                    <a:pt x="31" y="31"/>
                    <a:pt x="50" y="39"/>
                    <a:pt x="93" y="54"/>
                  </a:cubicBezTo>
                  <a:cubicBezTo>
                    <a:pt x="109" y="59"/>
                    <a:pt x="140" y="70"/>
                    <a:pt x="140" y="70"/>
                  </a:cubicBezTo>
                  <a:cubicBezTo>
                    <a:pt x="166" y="67"/>
                    <a:pt x="192" y="66"/>
                    <a:pt x="218" y="62"/>
                  </a:cubicBezTo>
                  <a:cubicBezTo>
                    <a:pt x="226" y="61"/>
                    <a:pt x="241" y="54"/>
                    <a:pt x="241" y="54"/>
                  </a:cubicBezTo>
                </a:path>
              </a:pathLst>
            </a:custGeom>
            <a:noFill/>
            <a:ln w="4140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5640" y="4098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84200" y="4289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549080" y="3862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0720" y="5565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26920" y="5591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73080" y="6239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11280" y="5015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73080" y="4629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73080" y="5585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95280" y="1700280"/>
            <a:ext cx="252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5 =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1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59280" y="1700280"/>
            <a:ext cx="6911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1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2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3 = 180</a:t>
            </a:r>
            <a:r>
              <a:rPr b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– сумма углов треуголь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5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3 = 180</a:t>
            </a:r>
            <a:r>
              <a:rPr b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– развёрнутый уг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1 +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2 = </a:t>
            </a:r>
            <a:r>
              <a:rPr b="1" lang="en-US" sz="24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5 – ч.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1773360"/>
            <a:ext cx="0" cy="1726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4e5"/>
            </a:gs>
            <a:gs pos="50000">
              <a:srgbClr val="ffffff"/>
            </a:gs>
            <a:gs pos="100000">
              <a:srgbClr val="fff4e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68360" y="122400"/>
            <a:ext cx="6588360" cy="658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9933"/>
                </a:solidFill>
                <a:latin typeface="Arbat-Bold"/>
              </a:rPr>
              <a:t>Всегда ли внешний угол треугольника тупой</a:t>
            </a:r>
            <a:r>
              <a:rPr b="1" i="1" lang="en-US" sz="4000" spc="-1" strike="noStrike">
                <a:solidFill>
                  <a:srgbClr val="339933"/>
                </a:solidFill>
                <a:latin typeface="Arbat-Bold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50920" y="2421000"/>
            <a:ext cx="4752360" cy="2375640"/>
            <a:chOff x="250920" y="2421000"/>
            <a:chExt cx="4752360" cy="2375640"/>
          </a:xfrm>
        </p:grpSpPr>
        <p:sp>
          <p:nvSpPr>
            <p:cNvPr id="445" name=""/>
            <p:cNvSpPr/>
            <p:nvPr/>
          </p:nvSpPr>
          <p:spPr>
            <a:xfrm>
              <a:off x="250920" y="4796640"/>
              <a:ext cx="4752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53680" y="2421000"/>
              <a:ext cx="0" cy="23756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53680" y="2421000"/>
              <a:ext cx="2649240" cy="23756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53680" y="4456440"/>
              <a:ext cx="1810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535120" y="4456080"/>
              <a:ext cx="0" cy="3402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077920" y="4287600"/>
              <a:ext cx="0" cy="5090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2077920" y="4287600"/>
              <a:ext cx="2757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076720" y="3429000"/>
            <a:ext cx="3816000" cy="2230920"/>
            <a:chOff x="5076720" y="3429000"/>
            <a:chExt cx="3816000" cy="2230920"/>
          </a:xfrm>
        </p:grpSpPr>
        <p:sp>
          <p:nvSpPr>
            <p:cNvPr id="453" name=""/>
            <p:cNvSpPr/>
            <p:nvPr/>
          </p:nvSpPr>
          <p:spPr>
            <a:xfrm>
              <a:off x="5076720" y="5612040"/>
              <a:ext cx="3816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36080" y="3429000"/>
              <a:ext cx="1297080" cy="21830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36080" y="3429000"/>
              <a:ext cx="3356640" cy="21830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92680" y="5287680"/>
              <a:ext cx="52200" cy="372240"/>
            </a:xfrm>
            <a:custGeom>
              <a:avLst/>
              <a:gdLst/>
              <a:ahLst/>
              <a:rect l="l" t="t" r="r" b="b"/>
              <a:pathLst>
                <a:path w="31" h="93">
                  <a:moveTo>
                    <a:pt x="31" y="0"/>
                  </a:moveTo>
                  <a:cubicBezTo>
                    <a:pt x="19" y="34"/>
                    <a:pt x="0" y="56"/>
                    <a:pt x="0" y="93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27160" y="5223240"/>
              <a:ext cx="38880" cy="436680"/>
            </a:xfrm>
            <a:custGeom>
              <a:avLst/>
              <a:gdLst/>
              <a:ahLst/>
              <a:rect l="l" t="t" r="r" b="b"/>
              <a:pathLst>
                <a:path w="23" h="109">
                  <a:moveTo>
                    <a:pt x="23" y="0"/>
                  </a:moveTo>
                  <a:cubicBezTo>
                    <a:pt x="6" y="59"/>
                    <a:pt x="0" y="30"/>
                    <a:pt x="0" y="109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97080" y="5372280"/>
              <a:ext cx="235440" cy="227880"/>
            </a:xfrm>
            <a:custGeom>
              <a:avLst/>
              <a:gdLst/>
              <a:ahLst/>
              <a:rect l="l" t="t" r="r" b="b"/>
              <a:pathLst>
                <a:path w="140" h="57">
                  <a:moveTo>
                    <a:pt x="0" y="10"/>
                  </a:moveTo>
                  <a:cubicBezTo>
                    <a:pt x="99" y="18"/>
                    <a:pt x="90" y="0"/>
                    <a:pt x="140" y="57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cc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Реши устно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042560" y="1844640"/>
            <a:ext cx="24591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Задач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596360" y="404640"/>
            <a:ext cx="1079280" cy="928800"/>
          </a:xfrm>
          <a:prstGeom prst="rect">
            <a:avLst/>
          </a:prstGeom>
          <a:ln w="0">
            <a:noFill/>
          </a:ln>
        </p:spPr>
      </p:pic>
      <p:grpSp>
        <p:nvGrpSpPr>
          <p:cNvPr id="462" name=""/>
          <p:cNvGrpSpPr/>
          <p:nvPr/>
        </p:nvGrpSpPr>
        <p:grpSpPr>
          <a:xfrm>
            <a:off x="2049840" y="2168640"/>
            <a:ext cx="4785480" cy="3134160"/>
            <a:chOff x="2049840" y="2168640"/>
            <a:chExt cx="4785480" cy="3134160"/>
          </a:xfrm>
        </p:grpSpPr>
        <p:sp>
          <p:nvSpPr>
            <p:cNvPr id="463" name=""/>
            <p:cNvSpPr/>
            <p:nvPr/>
          </p:nvSpPr>
          <p:spPr>
            <a:xfrm flipV="1">
              <a:off x="2479680" y="4401720"/>
              <a:ext cx="3998880" cy="6397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479680" y="2611440"/>
              <a:ext cx="2054160" cy="24303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33840" y="2611440"/>
              <a:ext cx="1944720" cy="1790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66000" y="4137120"/>
              <a:ext cx="136440" cy="34920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57" y="0"/>
                  </a:moveTo>
                  <a:cubicBezTo>
                    <a:pt x="0" y="20"/>
                    <a:pt x="10" y="71"/>
                    <a:pt x="10" y="124"/>
                  </a:cubicBezTo>
                </a:path>
              </a:pathLst>
            </a:custGeom>
            <a:noFill/>
            <a:ln w="381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59440" y="4049640"/>
              <a:ext cx="114480" cy="41760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48" y="0"/>
                  </a:moveTo>
                  <a:cubicBezTo>
                    <a:pt x="0" y="46"/>
                    <a:pt x="9" y="85"/>
                    <a:pt x="9" y="148"/>
                  </a:cubicBezTo>
                </a:path>
              </a:pathLst>
            </a:custGeom>
            <a:noFill/>
            <a:ln w="381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70200" y="4705200"/>
              <a:ext cx="112680" cy="289080"/>
            </a:xfrm>
            <a:custGeom>
              <a:avLst/>
              <a:gdLst/>
              <a:ahLst/>
              <a:rect l="l" t="t" r="r" b="b"/>
              <a:pathLst>
                <a:path w="47" h="102">
                  <a:moveTo>
                    <a:pt x="0" y="0"/>
                  </a:moveTo>
                  <a:cubicBezTo>
                    <a:pt x="20" y="31"/>
                    <a:pt x="47" y="62"/>
                    <a:pt x="47" y="102"/>
                  </a:cubicBezTo>
                </a:path>
              </a:pathLst>
            </a:custGeom>
            <a:noFill/>
            <a:ln w="381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49840" y="490392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11160" y="21686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92960" y="41115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39040" y="44719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76880" y="4038480"/>
              <a:ext cx="95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3276720" y="57340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6948360" y="4869000"/>
            <a:ext cx="219564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rId3" action="ppaction://hlinksldjump"/>
          </p:cNvPr>
          <p:cNvSpPr/>
          <p:nvPr/>
        </p:nvSpPr>
        <p:spPr>
          <a:xfrm>
            <a:off x="7236000" y="0"/>
            <a:ext cx="190800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cc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Реши устно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6000" y="1484280"/>
            <a:ext cx="40384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7596360" y="404640"/>
            <a:ext cx="1079280" cy="92880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3019320" y="2205000"/>
            <a:ext cx="4073400" cy="2846880"/>
            <a:chOff x="3019320" y="2205000"/>
            <a:chExt cx="4073400" cy="2846880"/>
          </a:xfrm>
        </p:grpSpPr>
        <p:sp>
          <p:nvSpPr>
            <p:cNvPr id="481" name=""/>
            <p:cNvSpPr/>
            <p:nvPr/>
          </p:nvSpPr>
          <p:spPr>
            <a:xfrm>
              <a:off x="3450960" y="2637000"/>
              <a:ext cx="0" cy="2087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50960" y="2637000"/>
              <a:ext cx="3168720" cy="2087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50960" y="4724280"/>
              <a:ext cx="316872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379680" y="4355640"/>
              <a:ext cx="426960" cy="97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3806280" y="4355640"/>
              <a:ext cx="4680" cy="368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35120" y="2905200"/>
              <a:ext cx="371520" cy="196920"/>
            </a:xfrm>
            <a:custGeom>
              <a:avLst/>
              <a:gdLst/>
              <a:ahLst/>
              <a:rect l="l" t="t" r="r" b="b"/>
              <a:pathLst>
                <a:path w="101" h="78">
                  <a:moveTo>
                    <a:pt x="101" y="0"/>
                  </a:moveTo>
                  <a:cubicBezTo>
                    <a:pt x="88" y="71"/>
                    <a:pt x="67" y="78"/>
                    <a:pt x="0" y="78"/>
                  </a:cubicBezTo>
                </a:path>
              </a:pathLst>
            </a:custGeom>
            <a:noFill/>
            <a:ln w="381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19320" y="465300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19680" y="452772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24040" y="220500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24040" y="3213000"/>
              <a:ext cx="86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3780000" y="53737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>
            <a:hlinkClick r:id="rId2" action="ppaction://hlinksldjump"/>
          </p:cNvPr>
          <p:cNvSpPr/>
          <p:nvPr/>
        </p:nvSpPr>
        <p:spPr>
          <a:xfrm>
            <a:off x="6948360" y="4869000"/>
            <a:ext cx="219564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rId3" action="ppaction://hlinksldjump"/>
          </p:cNvPr>
          <p:cNvSpPr/>
          <p:nvPr/>
        </p:nvSpPr>
        <p:spPr>
          <a:xfrm>
            <a:off x="7236000" y="0"/>
            <a:ext cx="1908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cc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Реши устно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038240" y="1557000"/>
            <a:ext cx="4038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Задач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7596360" y="404640"/>
            <a:ext cx="1079280" cy="92880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2200680" y="1700280"/>
            <a:ext cx="4076280" cy="3457080"/>
            <a:chOff x="2200680" y="1700280"/>
            <a:chExt cx="4076280" cy="3457080"/>
          </a:xfrm>
        </p:grpSpPr>
        <p:sp>
          <p:nvSpPr>
            <p:cNvPr id="498" name=""/>
            <p:cNvSpPr/>
            <p:nvPr/>
          </p:nvSpPr>
          <p:spPr>
            <a:xfrm>
              <a:off x="2861280" y="5036400"/>
              <a:ext cx="305856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861280" y="2296440"/>
              <a:ext cx="1463040" cy="27399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24320" y="2296440"/>
              <a:ext cx="1595160" cy="27399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4854960" y="3488760"/>
              <a:ext cx="398880" cy="236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91920" y="3607560"/>
              <a:ext cx="398880" cy="2386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24320" y="4917960"/>
              <a:ext cx="0" cy="2394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00680" y="471312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64760" y="17002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34600" y="46789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006720" y="5472000"/>
            <a:ext cx="38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А, </a:t>
            </a:r>
            <a:r>
              <a:rPr b="1" lang="en-US" sz="28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В, </a:t>
            </a:r>
            <a:r>
              <a:rPr b="1" lang="en-US" sz="28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rId2" action="ppaction://hlinksldjump"/>
          </p:cNvPr>
          <p:cNvSpPr/>
          <p:nvPr/>
        </p:nvSpPr>
        <p:spPr>
          <a:xfrm>
            <a:off x="6948360" y="4869000"/>
            <a:ext cx="219564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>
            <a:hlinkClick r:id="rId3" action="ppaction://hlinksldjump"/>
          </p:cNvPr>
          <p:cNvSpPr/>
          <p:nvPr/>
        </p:nvSpPr>
        <p:spPr>
          <a:xfrm>
            <a:off x="7308720" y="0"/>
            <a:ext cx="183528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cc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Реши устно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971640" y="1557000"/>
            <a:ext cx="40384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Задач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596360" y="404640"/>
            <a:ext cx="1079280" cy="928800"/>
          </a:xfrm>
          <a:prstGeom prst="rect">
            <a:avLst/>
          </a:prstGeom>
          <a:ln w="0">
            <a:noFill/>
          </a:ln>
        </p:spPr>
      </p:pic>
      <p:grpSp>
        <p:nvGrpSpPr>
          <p:cNvPr id="513" name=""/>
          <p:cNvGrpSpPr/>
          <p:nvPr/>
        </p:nvGrpSpPr>
        <p:grpSpPr>
          <a:xfrm>
            <a:off x="2704680" y="2205000"/>
            <a:ext cx="5071680" cy="3402000"/>
            <a:chOff x="2704680" y="2205000"/>
            <a:chExt cx="5071680" cy="3402000"/>
          </a:xfrm>
        </p:grpSpPr>
        <p:sp>
          <p:nvSpPr>
            <p:cNvPr id="514" name=""/>
            <p:cNvSpPr/>
            <p:nvPr/>
          </p:nvSpPr>
          <p:spPr>
            <a:xfrm>
              <a:off x="3276720" y="2787480"/>
              <a:ext cx="0" cy="28195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76720" y="2787480"/>
              <a:ext cx="4041720" cy="12528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276360" y="4040280"/>
              <a:ext cx="4041720" cy="15667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164200" y="3257640"/>
              <a:ext cx="133200" cy="314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97400" y="4668840"/>
              <a:ext cx="133560" cy="309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03920" y="3892680"/>
              <a:ext cx="139680" cy="37620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47" y="0"/>
                  </a:moveTo>
                  <a:cubicBezTo>
                    <a:pt x="39" y="8"/>
                    <a:pt x="30" y="15"/>
                    <a:pt x="24" y="24"/>
                  </a:cubicBezTo>
                  <a:cubicBezTo>
                    <a:pt x="11" y="44"/>
                    <a:pt x="0" y="109"/>
                    <a:pt x="32" y="109"/>
                  </a:cubicBezTo>
                </a:path>
              </a:pathLst>
            </a:custGeom>
            <a:noFill/>
            <a:ln w="381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04680" y="220500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25000" y="36162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14760" y="51786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76720" y="3895560"/>
              <a:ext cx="55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70</a:t>
              </a:r>
              <a:r>
                <a:rPr b="1" lang="en-US" sz="2000" spc="-1" strike="noStrike" baseline="30000">
                  <a:solidFill>
                    <a:srgbClr val="99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794040" y="568800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А, </a:t>
            </a:r>
            <a:r>
              <a:rPr b="1" lang="en-US" sz="28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rId2" action="ppaction://hlinksldjump"/>
          </p:cNvPr>
          <p:cNvSpPr/>
          <p:nvPr/>
        </p:nvSpPr>
        <p:spPr>
          <a:xfrm>
            <a:off x="6948360" y="4869000"/>
            <a:ext cx="219564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rId3" action="ppaction://hlinksldjump"/>
          </p:cNvPr>
          <p:cNvSpPr/>
          <p:nvPr/>
        </p:nvSpPr>
        <p:spPr>
          <a:xfrm>
            <a:off x="7236000" y="0"/>
            <a:ext cx="19080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cc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Реши устно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09160" y="1701720"/>
            <a:ext cx="40388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Задач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224000" cy="1052640"/>
          </a:xfrm>
          <a:prstGeom prst="rect">
            <a:avLst/>
          </a:prstGeom>
          <a:ln w="0">
            <a:noFill/>
          </a:ln>
        </p:spPr>
      </p:pic>
      <p:grpSp>
        <p:nvGrpSpPr>
          <p:cNvPr id="530" name=""/>
          <p:cNvGrpSpPr/>
          <p:nvPr/>
        </p:nvGrpSpPr>
        <p:grpSpPr>
          <a:xfrm>
            <a:off x="1409040" y="1700280"/>
            <a:ext cx="6042240" cy="3372480"/>
            <a:chOff x="1409040" y="1700280"/>
            <a:chExt cx="6042240" cy="3372480"/>
          </a:xfrm>
        </p:grpSpPr>
        <p:sp>
          <p:nvSpPr>
            <p:cNvPr id="531" name=""/>
            <p:cNvSpPr/>
            <p:nvPr/>
          </p:nvSpPr>
          <p:spPr>
            <a:xfrm>
              <a:off x="2023200" y="5072760"/>
              <a:ext cx="521568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2023200" y="2467080"/>
              <a:ext cx="2465280" cy="26053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88480" y="2467080"/>
              <a:ext cx="2750040" cy="26053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98320" y="2771640"/>
              <a:ext cx="290160" cy="3070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488480" y="2771640"/>
              <a:ext cx="287280" cy="3070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38400" y="3538800"/>
              <a:ext cx="377280" cy="4183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5484960" y="3464280"/>
              <a:ext cx="450360" cy="381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09040" y="465372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11360" y="17002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08920" y="44575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3506760" y="5759280"/>
            <a:ext cx="28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А, </a:t>
            </a:r>
            <a:r>
              <a:rPr b="1" lang="en-US" sz="28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rId2" action="ppaction://hlinksldjump"/>
          </p:cNvPr>
          <p:cNvSpPr/>
          <p:nvPr/>
        </p:nvSpPr>
        <p:spPr>
          <a:xfrm>
            <a:off x="6948360" y="4869000"/>
            <a:ext cx="219564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rId3" action="ppaction://hlinksldjump"/>
          </p:cNvPr>
          <p:cNvSpPr/>
          <p:nvPr/>
        </p:nvSpPr>
        <p:spPr>
          <a:xfrm>
            <a:off x="7020000" y="0"/>
            <a:ext cx="2124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cc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Реши устно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186920" y="1915920"/>
            <a:ext cx="40388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Задача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224000" cy="105264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17400" y="1773360"/>
            <a:ext cx="4805280" cy="3294720"/>
            <a:chOff x="2417400" y="1773360"/>
            <a:chExt cx="4805280" cy="3294720"/>
          </a:xfrm>
        </p:grpSpPr>
        <p:sp>
          <p:nvSpPr>
            <p:cNvPr id="548" name=""/>
            <p:cNvSpPr/>
            <p:nvPr/>
          </p:nvSpPr>
          <p:spPr>
            <a:xfrm>
              <a:off x="2512080" y="3726360"/>
              <a:ext cx="4281120" cy="13417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6793560" y="2383560"/>
              <a:ext cx="0" cy="26845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207960" y="2383920"/>
              <a:ext cx="3585240" cy="15868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01040" y="2994480"/>
              <a:ext cx="199440" cy="365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001840" y="4336920"/>
              <a:ext cx="298440" cy="3650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45520" y="2502000"/>
              <a:ext cx="241200" cy="2768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9" y="0"/>
                  </a:moveTo>
                  <a:cubicBezTo>
                    <a:pt x="22" y="91"/>
                    <a:pt x="0" y="31"/>
                    <a:pt x="40" y="71"/>
                  </a:cubicBezTo>
                  <a:cubicBezTo>
                    <a:pt x="72" y="103"/>
                    <a:pt x="60" y="102"/>
                    <a:pt x="110" y="102"/>
                  </a:cubicBezTo>
                </a:path>
              </a:pathLst>
            </a:custGeom>
            <a:noFill/>
            <a:ln w="381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1880" y="2749680"/>
              <a:ext cx="55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70</a:t>
              </a:r>
              <a:r>
                <a:rPr b="1" lang="en-US" sz="2000" spc="-1" strike="noStrike" baseline="30000">
                  <a:solidFill>
                    <a:srgbClr val="99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02120" y="17733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80320" y="46137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86280" y="388188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417400" y="372636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069360" y="547200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ВА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rId2" action="ppaction://hlinksldjump"/>
          </p:cNvPr>
          <p:cNvSpPr/>
          <p:nvPr/>
        </p:nvSpPr>
        <p:spPr>
          <a:xfrm>
            <a:off x="6948360" y="4869000"/>
            <a:ext cx="219564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rId3" action="ppaction://hlinksldjump"/>
          </p:cNvPr>
          <p:cNvSpPr/>
          <p:nvPr/>
        </p:nvSpPr>
        <p:spPr>
          <a:xfrm>
            <a:off x="6877080" y="0"/>
            <a:ext cx="22669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cc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Реши устно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186920" y="1628280"/>
            <a:ext cx="40388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Задача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224000" cy="105264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2489760" y="1989000"/>
            <a:ext cx="4320000" cy="3406320"/>
            <a:chOff x="2489760" y="1989000"/>
            <a:chExt cx="4320000" cy="3406320"/>
          </a:xfrm>
        </p:grpSpPr>
        <p:sp>
          <p:nvSpPr>
            <p:cNvPr id="566" name=""/>
            <p:cNvSpPr/>
            <p:nvPr/>
          </p:nvSpPr>
          <p:spPr>
            <a:xfrm>
              <a:off x="3143520" y="2546280"/>
              <a:ext cx="330984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4734360" y="2546280"/>
              <a:ext cx="1718640" cy="2450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43520" y="2546280"/>
              <a:ext cx="1590840" cy="2450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34360" y="2546280"/>
              <a:ext cx="0" cy="2450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68320" y="2546280"/>
              <a:ext cx="0" cy="2232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4467960" y="2769480"/>
              <a:ext cx="26604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89760" y="224172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67400" y="2212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71280" y="198900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573440" y="49964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3574440" y="5537160"/>
            <a:ext cx="269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АВ=ВС=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АВ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>
            <a:hlinkClick r:id="rId2" action="ppaction://hlinksldjump"/>
          </p:cNvPr>
          <p:cNvSpPr/>
          <p:nvPr/>
        </p:nvSpPr>
        <p:spPr>
          <a:xfrm>
            <a:off x="6948360" y="4869000"/>
            <a:ext cx="219564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rId3" action="ppaction://hlinksldjump"/>
          </p:cNvPr>
          <p:cNvSpPr/>
          <p:nvPr/>
        </p:nvSpPr>
        <p:spPr>
          <a:xfrm>
            <a:off x="6877080" y="0"/>
            <a:ext cx="226692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cc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Реши устно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258920" y="1628280"/>
            <a:ext cx="40384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Задача</a:t>
            </a:r>
            <a:r>
              <a:rPr b="1" lang="en-US" sz="2400" spc="-1" strike="noStrike">
                <a:solidFill>
                  <a:srgbClr val="990000"/>
                </a:solidFill>
                <a:latin typeface="Bookman Old Style"/>
              </a:rPr>
              <a:t>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224000" cy="10526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667480" y="59389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481400" y="2492280"/>
            <a:ext cx="6245640" cy="2881080"/>
            <a:chOff x="1481400" y="2492280"/>
            <a:chExt cx="6245640" cy="2881080"/>
          </a:xfrm>
        </p:grpSpPr>
        <p:sp>
          <p:nvSpPr>
            <p:cNvPr id="584" name=""/>
            <p:cNvSpPr/>
            <p:nvPr/>
          </p:nvSpPr>
          <p:spPr>
            <a:xfrm>
              <a:off x="2069280" y="5092920"/>
              <a:ext cx="521496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99800" y="3059280"/>
              <a:ext cx="0" cy="2033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99800" y="3059280"/>
              <a:ext cx="4384080" cy="2033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068920" y="3059280"/>
              <a:ext cx="830520" cy="2033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99800" y="4734720"/>
              <a:ext cx="35532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255480" y="4734360"/>
              <a:ext cx="0" cy="3582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84040" y="4829400"/>
              <a:ext cx="112320" cy="248040"/>
            </a:xfrm>
            <a:custGeom>
              <a:avLst/>
              <a:gdLst/>
              <a:ahLst/>
              <a:rect l="l" t="t" r="r" b="b"/>
              <a:pathLst>
                <a:path w="43" h="94">
                  <a:moveTo>
                    <a:pt x="43" y="0"/>
                  </a:moveTo>
                  <a:cubicBezTo>
                    <a:pt x="0" y="15"/>
                    <a:pt x="5" y="53"/>
                    <a:pt x="5" y="94"/>
                  </a:cubicBezTo>
                </a:path>
              </a:pathLst>
            </a:custGeom>
            <a:noFill/>
            <a:ln w="381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4914000" y="3895560"/>
              <a:ext cx="237960" cy="2401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914360" y="4974480"/>
              <a:ext cx="237960" cy="2372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43640" y="4494240"/>
              <a:ext cx="55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30</a:t>
              </a:r>
              <a:r>
                <a:rPr b="1" lang="en-US" sz="2000" spc="-1" strike="noStrike" baseline="30000">
                  <a:solidFill>
                    <a:srgbClr val="99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481400" y="497448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7840" y="24922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384680" y="48873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55800" y="497448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Bookman Old Style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645720" y="554364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990000"/>
                </a:solidFill>
                <a:latin typeface="SymbolPi"/>
              </a:rPr>
              <a:t>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АВ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rId2" action="ppaction://hlinksldjump"/>
          </p:cNvPr>
          <p:cNvSpPr/>
          <p:nvPr/>
        </p:nvSpPr>
        <p:spPr>
          <a:xfrm>
            <a:off x="6948360" y="4869000"/>
            <a:ext cx="219564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132000" y="3170160"/>
            <a:ext cx="20257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692360" y="1197000"/>
            <a:ext cx="20257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932360" y="1197000"/>
            <a:ext cx="20257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372360" y="3645000"/>
            <a:ext cx="20253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995640" y="4941720"/>
            <a:ext cx="20257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55640" y="5013360"/>
            <a:ext cx="20257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95280" y="2852640"/>
            <a:ext cx="20257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20720" cy="108108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2268360" y="333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5364000" y="242100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4"/>
          <a:stretch/>
        </p:blipFill>
        <p:spPr>
          <a:xfrm>
            <a:off x="8028000" y="404640"/>
            <a:ext cx="806400" cy="1008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7093080" y="5445000"/>
            <a:ext cx="720720" cy="1081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6"/>
          <a:stretch/>
        </p:blipFill>
        <p:spPr>
          <a:xfrm>
            <a:off x="2987640" y="5589720"/>
            <a:ext cx="806400" cy="10080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7"/>
          <a:stretch/>
        </p:blipFill>
        <p:spPr>
          <a:xfrm>
            <a:off x="1908000" y="407664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8"/>
          <a:stretch/>
        </p:blipFill>
        <p:spPr>
          <a:xfrm>
            <a:off x="5219640" y="4149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9"/>
          <a:stretch/>
        </p:blipFill>
        <p:spPr>
          <a:xfrm>
            <a:off x="4932360" y="333360"/>
            <a:ext cx="95256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Comic Sans MS"/>
              </a:rPr>
              <a:t>УГ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2349360"/>
            <a:ext cx="8136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Угол – это фигур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Если …, то угол называют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Внутренний угол треугольника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При пересечении двух параллельных прямых секущей … углы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732720" y="765000"/>
            <a:ext cx="1858680" cy="1859040"/>
            <a:chOff x="6732720" y="765000"/>
            <a:chExt cx="1858680" cy="185904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6732720" y="765000"/>
              <a:ext cx="183996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732720" y="765000"/>
              <a:ext cx="1858680" cy="18590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rcRect l="4128" t="21690" r="2302" b="25760"/>
          <a:stretch/>
        </p:blipFill>
        <p:spPr>
          <a:xfrm>
            <a:off x="324000" y="3827520"/>
            <a:ext cx="3527280" cy="2697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617" name=""/>
          <p:cNvSpPr txBox="1"/>
          <p:nvPr/>
        </p:nvSpPr>
        <p:spPr>
          <a:xfrm>
            <a:off x="826920" y="620640"/>
            <a:ext cx="2089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 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48000" y="1699200"/>
            <a:ext cx="57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 равнобедренном ∆АВС биссектриса АD угла ВАС образует с основанием АС угол в 20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Чему равен </a:t>
            </a:r>
            <a:r>
              <a:rPr b="1" lang="en-US" sz="3200" spc="-1" strike="noStrike">
                <a:solidFill>
                  <a:srgbClr val="006600"/>
                </a:solidFill>
                <a:latin typeface="SymbolPi"/>
              </a:rPr>
              <a:t>Ð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В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649760" y="4508640"/>
            <a:ext cx="369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арианты ответ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а) 110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)100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)90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720720" cy="1081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5724360" y="404640"/>
            <a:ext cx="720720" cy="10814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7308720" y="476280"/>
            <a:ext cx="720720" cy="10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rcRect l="4966" t="10933" r="3403" b="14577"/>
          <a:stretch/>
        </p:blipFill>
        <p:spPr>
          <a:xfrm>
            <a:off x="468360" y="3141720"/>
            <a:ext cx="2665440" cy="2951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624" name=""/>
          <p:cNvSpPr txBox="1"/>
          <p:nvPr/>
        </p:nvSpPr>
        <p:spPr>
          <a:xfrm>
            <a:off x="826920" y="620640"/>
            <a:ext cx="2089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 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492360" y="1915200"/>
            <a:ext cx="540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Два угла треугольника равны 40º и 60º. Является ли данный треугольник равнобедре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280040" y="5084640"/>
            <a:ext cx="369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арианты ответов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а)явля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)не я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806400" cy="10080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806400" cy="10080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4"/>
          <a:stretch/>
        </p:blipFill>
        <p:spPr>
          <a:xfrm>
            <a:off x="7308720" y="549360"/>
            <a:ext cx="806760" cy="100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rcRect l="7385" t="13484" r="2511" b="13632"/>
          <a:stretch/>
        </p:blipFill>
        <p:spPr>
          <a:xfrm>
            <a:off x="3367080" y="2205000"/>
            <a:ext cx="2482920" cy="2736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631" name="" descr=""/>
          <p:cNvPicPr/>
          <p:nvPr/>
        </p:nvPicPr>
        <p:blipFill>
          <a:blip r:embed="rId2"/>
          <a:srcRect l="5518" t="8719" r="2980" b="18397"/>
          <a:stretch/>
        </p:blipFill>
        <p:spPr>
          <a:xfrm>
            <a:off x="395280" y="2205000"/>
            <a:ext cx="2521080" cy="2736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3"/>
          <a:srcRect l="9206" t="16817" r="2511" b="10298"/>
          <a:stretch/>
        </p:blipFill>
        <p:spPr>
          <a:xfrm>
            <a:off x="6300720" y="2205000"/>
            <a:ext cx="2432160" cy="2736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633" name=""/>
          <p:cNvSpPr txBox="1"/>
          <p:nvPr/>
        </p:nvSpPr>
        <p:spPr>
          <a:xfrm>
            <a:off x="826920" y="620640"/>
            <a:ext cx="2089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 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218040" y="187920"/>
            <a:ext cx="592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На каком из рисунков величины углов заданы прави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93760" y="5516640"/>
            <a:ext cx="378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арианты ответов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а);   б);   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270160" y="2205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294160" y="220500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174520" y="220500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4"/>
          <a:stretch/>
        </p:blipFill>
        <p:spPr>
          <a:xfrm>
            <a:off x="755640" y="5661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5"/>
          <a:stretch/>
        </p:blipFill>
        <p:spPr>
          <a:xfrm>
            <a:off x="7667640" y="5661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" descr=""/>
          <p:cNvPicPr/>
          <p:nvPr/>
        </p:nvPicPr>
        <p:blipFill>
          <a:blip r:embed="rId1"/>
          <a:srcRect l="5886" t="13565" r="2207" b="14914"/>
          <a:stretch/>
        </p:blipFill>
        <p:spPr>
          <a:xfrm>
            <a:off x="468360" y="2637000"/>
            <a:ext cx="3598920" cy="38145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642" name=""/>
          <p:cNvSpPr txBox="1"/>
          <p:nvPr/>
        </p:nvSpPr>
        <p:spPr>
          <a:xfrm>
            <a:off x="826920" y="620640"/>
            <a:ext cx="2089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2707200"/>
            <a:ext cx="424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Чему равна сумма уг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794480" y="4508640"/>
            <a:ext cx="369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арианты ответов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а) 80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) 100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)120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4427640" y="76500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5796000" y="76500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6948360" y="765000"/>
            <a:ext cx="95256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826920" y="620640"/>
            <a:ext cx="2089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042920" y="22550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Сколько внешних углов имеет каждый треуголь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778480" y="4221000"/>
            <a:ext cx="359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арианты отв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а)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) 3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)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4067280" y="692280"/>
            <a:ext cx="720720" cy="108108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720720" cy="10814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3"/>
          <a:stretch/>
        </p:blipFill>
        <p:spPr>
          <a:xfrm>
            <a:off x="7093080" y="765000"/>
            <a:ext cx="720720" cy="108144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4"/>
          <a:stretch/>
        </p:blipFill>
        <p:spPr>
          <a:xfrm>
            <a:off x="900000" y="544500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5"/>
          <a:stretch/>
        </p:blipFill>
        <p:spPr>
          <a:xfrm>
            <a:off x="7524720" y="5589720"/>
            <a:ext cx="95256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rcRect l="2106" t="7815" r="2161" b="7849"/>
          <a:stretch/>
        </p:blipFill>
        <p:spPr>
          <a:xfrm>
            <a:off x="468360" y="2492280"/>
            <a:ext cx="3240000" cy="3889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657" name=""/>
          <p:cNvSpPr txBox="1"/>
          <p:nvPr/>
        </p:nvSpPr>
        <p:spPr>
          <a:xfrm>
            <a:off x="900000" y="549360"/>
            <a:ext cx="2089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 6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211640" y="256464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Чему равен </a:t>
            </a:r>
            <a:r>
              <a:rPr b="1" lang="en-US" sz="3200" spc="-1" strike="noStrike">
                <a:solidFill>
                  <a:srgbClr val="006600"/>
                </a:solidFill>
                <a:latin typeface="SymbolPi"/>
              </a:rPr>
              <a:t>Ð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49760" y="4149720"/>
            <a:ext cx="369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арианты ответ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а) 64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) 107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) 30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5796000" y="981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4"/>
          <a:stretch/>
        </p:blipFill>
        <p:spPr>
          <a:xfrm>
            <a:off x="6948360" y="981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132000" y="3170160"/>
            <a:ext cx="20257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692360" y="1197000"/>
            <a:ext cx="20257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932360" y="1197000"/>
            <a:ext cx="20257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372360" y="3645000"/>
            <a:ext cx="20253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995640" y="4941720"/>
            <a:ext cx="20257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755640" y="5013360"/>
            <a:ext cx="20257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95280" y="2852640"/>
            <a:ext cx="202572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20720" cy="108108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2268360" y="333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5364000" y="242100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8028000" y="404640"/>
            <a:ext cx="806400" cy="10083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5"/>
          <a:stretch/>
        </p:blipFill>
        <p:spPr>
          <a:xfrm>
            <a:off x="7093080" y="5445000"/>
            <a:ext cx="720720" cy="10810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6"/>
          <a:stretch/>
        </p:blipFill>
        <p:spPr>
          <a:xfrm>
            <a:off x="2987640" y="5589720"/>
            <a:ext cx="806400" cy="10080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7"/>
          <a:stretch/>
        </p:blipFill>
        <p:spPr>
          <a:xfrm>
            <a:off x="1908000" y="407664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8"/>
          <a:stretch/>
        </p:blipFill>
        <p:spPr>
          <a:xfrm>
            <a:off x="5219640" y="4149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9"/>
          <a:stretch/>
        </p:blipFill>
        <p:spPr>
          <a:xfrm>
            <a:off x="4932360" y="333360"/>
            <a:ext cx="95256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684360" y="2133720"/>
            <a:ext cx="3019320" cy="25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КА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А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148360" y="875880"/>
            <a:ext cx="2448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1 –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2 –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3 –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4 –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5 –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6 –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Критерии оце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395280" y="1916280"/>
          <a:ext cx="8317080" cy="4033800"/>
        </p:xfrm>
        <a:graphic>
          <a:graphicData uri="http://schemas.openxmlformats.org/drawingml/2006/table">
            <a:tbl>
              <a:tblPr/>
              <a:tblGrid>
                <a:gridCol w="2160720"/>
                <a:gridCol w="2305080"/>
                <a:gridCol w="2232000"/>
                <a:gridCol w="1619280"/>
              </a:tblGrid>
              <a:tr h="14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Выполнено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Выполнено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Надо порабо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8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bffa5"/>
                        </a:gs>
                        <a:gs pos="100000">
                          <a:srgbClr val="37bb7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8223120" y="5300640"/>
            <a:ext cx="920880" cy="15573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1584360" cy="11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47640" y="2205000"/>
            <a:ext cx="730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Теоремы и следствия с доказательств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№ </a:t>
            </a: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228 (а) – жела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№№ </a:t>
            </a: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225, 226 – обяза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16360" y="476280"/>
            <a:ext cx="2735280" cy="459720"/>
          </a:xfrm>
          <a:prstGeom prst="rect">
            <a:avLst/>
          </a:prstGeom>
          <a:noFill/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250920" y="1125360"/>
            <a:ext cx="40338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4643280" y="1125360"/>
            <a:ext cx="42498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4e5"/>
            </a:gs>
            <a:gs pos="50000">
              <a:srgbClr val="ffffff"/>
            </a:gs>
            <a:gs pos="100000">
              <a:srgbClr val="fff4e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1368360" y="122400"/>
            <a:ext cx="6588360" cy="658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16360" y="476280"/>
            <a:ext cx="2735280" cy="459720"/>
          </a:xfrm>
          <a:prstGeom prst="rect">
            <a:avLst/>
          </a:prstGeom>
          <a:noFill/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0920" y="3645000"/>
            <a:ext cx="1295280" cy="1728720"/>
            <a:chOff x="250920" y="3645000"/>
            <a:chExt cx="1295280" cy="1728720"/>
          </a:xfrm>
        </p:grpSpPr>
        <p:sp>
          <p:nvSpPr>
            <p:cNvPr id="58" name=""/>
            <p:cNvSpPr/>
            <p:nvPr/>
          </p:nvSpPr>
          <p:spPr>
            <a:xfrm>
              <a:off x="250920" y="3645000"/>
              <a:ext cx="1295280" cy="1728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395280" y="4508280"/>
              <a:ext cx="21528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395280" y="4581720"/>
              <a:ext cx="215280" cy="7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186920" y="4580280"/>
              <a:ext cx="215640" cy="7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186920" y="4653000"/>
              <a:ext cx="2156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116000" y="5589720"/>
            <a:ext cx="1295280" cy="1036440"/>
            <a:chOff x="1116000" y="5589720"/>
            <a:chExt cx="1295280" cy="1036440"/>
          </a:xfrm>
        </p:grpSpPr>
        <p:sp>
          <p:nvSpPr>
            <p:cNvPr id="64" name=""/>
            <p:cNvSpPr/>
            <p:nvPr/>
          </p:nvSpPr>
          <p:spPr>
            <a:xfrm>
              <a:off x="1116000" y="5589720"/>
              <a:ext cx="1295280" cy="936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66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316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1331640" y="6021000"/>
              <a:ext cx="215640" cy="7164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981080" y="6021360"/>
              <a:ext cx="216000" cy="7164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65080" y="6410160"/>
              <a:ext cx="0" cy="21600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894320" y="4743720"/>
            <a:ext cx="2350440" cy="1543680"/>
            <a:chOff x="1894320" y="4743720"/>
            <a:chExt cx="2350440" cy="1543680"/>
          </a:xfrm>
        </p:grpSpPr>
        <p:sp>
          <p:nvSpPr>
            <p:cNvPr id="69" name=""/>
            <p:cNvSpPr/>
            <p:nvPr/>
          </p:nvSpPr>
          <p:spPr>
            <a:xfrm rot="20679600">
              <a:off x="1989000" y="5011560"/>
              <a:ext cx="2160720" cy="1008000"/>
            </a:xfrm>
            <a:custGeom>
              <a:avLst/>
              <a:gdLst/>
              <a:ahLst/>
              <a:rect l="l" t="t" r="r" b="b"/>
              <a:pathLst>
                <a:path w="1361" h="635">
                  <a:moveTo>
                    <a:pt x="0" y="46"/>
                  </a:moveTo>
                  <a:lnTo>
                    <a:pt x="1361" y="635"/>
                  </a:lnTo>
                  <a:lnTo>
                    <a:pt x="726" y="0"/>
                  </a:lnTo>
                  <a:lnTo>
                    <a:pt x="0" y="46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814840" y="5436720"/>
              <a:ext cx="72360" cy="203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885400" y="5417640"/>
              <a:ext cx="72000" cy="20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954160" y="5398560"/>
              <a:ext cx="72000" cy="203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1080" y="5094360"/>
              <a:ext cx="177480" cy="100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309120" y="5224680"/>
              <a:ext cx="279000" cy="76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396960" y="5274360"/>
              <a:ext cx="278640" cy="76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187400" y="5151600"/>
            <a:ext cx="1682280" cy="1521720"/>
            <a:chOff x="7187400" y="5151600"/>
            <a:chExt cx="1682280" cy="1521720"/>
          </a:xfrm>
        </p:grpSpPr>
        <p:sp>
          <p:nvSpPr>
            <p:cNvPr id="77" name=""/>
            <p:cNvSpPr/>
            <p:nvPr/>
          </p:nvSpPr>
          <p:spPr>
            <a:xfrm rot="4603800">
              <a:off x="7416360" y="5192280"/>
              <a:ext cx="1224000" cy="144000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13500000"/>
            </a:gra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97640" y="5432760"/>
              <a:ext cx="49680" cy="210240"/>
            </a:xfrm>
            <a:prstGeom prst="line">
              <a:avLst/>
            </a:prstGeom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237080" y="5643000"/>
              <a:ext cx="210240" cy="49320"/>
            </a:xfrm>
            <a:prstGeom prst="line">
              <a:avLst/>
            </a:prstGeom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91040" y="3180240"/>
            <a:ext cx="1396440" cy="1793160"/>
            <a:chOff x="7691040" y="3180240"/>
            <a:chExt cx="1396440" cy="1793160"/>
          </a:xfrm>
        </p:grpSpPr>
        <p:sp>
          <p:nvSpPr>
            <p:cNvPr id="81" name=""/>
            <p:cNvSpPr/>
            <p:nvPr/>
          </p:nvSpPr>
          <p:spPr>
            <a:xfrm rot="20277000">
              <a:off x="7956720" y="3284280"/>
              <a:ext cx="865080" cy="1584360"/>
            </a:xfrm>
            <a:custGeom>
              <a:avLst/>
              <a:gdLst/>
              <a:ahLst/>
              <a:rect l="l" t="t" r="r" b="b"/>
              <a:pathLst>
                <a:path w="545" h="998">
                  <a:moveTo>
                    <a:pt x="227" y="0"/>
                  </a:moveTo>
                  <a:lnTo>
                    <a:pt x="0" y="998"/>
                  </a:lnTo>
                  <a:lnTo>
                    <a:pt x="545" y="589"/>
                  </a:lnTo>
                  <a:lnTo>
                    <a:pt x="227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277000">
              <a:off x="8257320" y="471852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cubicBezTo>
                    <a:pt x="15" y="3"/>
                    <a:pt x="32" y="2"/>
                    <a:pt x="46" y="9"/>
                  </a:cubicBezTo>
                  <a:cubicBezTo>
                    <a:pt x="63" y="17"/>
                    <a:pt x="74" y="36"/>
                    <a:pt x="91" y="45"/>
                  </a:cubicBezTo>
                </a:path>
              </a:pathLst>
            </a:custGeom>
            <a:blipFill rotWithShape="0">
              <a:blip r:embed="rId2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277000">
              <a:off x="8641080" y="3949920"/>
              <a:ext cx="112680" cy="304920"/>
            </a:xfrm>
            <a:custGeom>
              <a:avLst/>
              <a:gdLst/>
              <a:ahLst/>
              <a:rect l="l" t="t" r="r" b="b"/>
              <a:pathLst>
                <a:path w="71" h="192">
                  <a:moveTo>
                    <a:pt x="71" y="0"/>
                  </a:moveTo>
                  <a:cubicBezTo>
                    <a:pt x="49" y="15"/>
                    <a:pt x="39" y="32"/>
                    <a:pt x="23" y="54"/>
                  </a:cubicBezTo>
                  <a:cubicBezTo>
                    <a:pt x="0" y="122"/>
                    <a:pt x="11" y="77"/>
                    <a:pt x="11" y="192"/>
                  </a:cubicBezTo>
                </a:path>
              </a:pathLst>
            </a:custGeom>
            <a:blipFill rotWithShape="0">
              <a:blip r:embed="rId3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0277000">
              <a:off x="8721000" y="3974760"/>
              <a:ext cx="66600" cy="209520"/>
            </a:xfrm>
            <a:custGeom>
              <a:avLst/>
              <a:gdLst/>
              <a:ahLst/>
              <a:rect l="l" t="t" r="r" b="b"/>
              <a:pathLst>
                <a:path w="42" h="132">
                  <a:moveTo>
                    <a:pt x="42" y="0"/>
                  </a:moveTo>
                  <a:cubicBezTo>
                    <a:pt x="36" y="6"/>
                    <a:pt x="27" y="10"/>
                    <a:pt x="24" y="18"/>
                  </a:cubicBezTo>
                  <a:cubicBezTo>
                    <a:pt x="18" y="34"/>
                    <a:pt x="0" y="108"/>
                    <a:pt x="0" y="132"/>
                  </a:cubicBezTo>
                </a:path>
              </a:pathLst>
            </a:custGeom>
            <a:blipFill rotWithShape="0">
              <a:blip r:embed="rId4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277000">
              <a:off x="8054280" y="345312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0"/>
                  </a:moveTo>
                  <a:cubicBezTo>
                    <a:pt x="5" y="16"/>
                    <a:pt x="3" y="24"/>
                    <a:pt x="24" y="24"/>
                  </a:cubicBezTo>
                  <a:cubicBezTo>
                    <a:pt x="34" y="24"/>
                    <a:pt x="54" y="18"/>
                    <a:pt x="54" y="18"/>
                  </a:cubicBezTo>
                </a:path>
              </a:pathLst>
            </a:custGeom>
            <a:blipFill rotWithShape="0">
              <a:blip r:embed="rId5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0277000">
              <a:off x="8059320" y="3515040"/>
              <a:ext cx="123840" cy="3348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cubicBezTo>
                    <a:pt x="4" y="6"/>
                    <a:pt x="5" y="17"/>
                    <a:pt x="12" y="18"/>
                  </a:cubicBezTo>
                  <a:cubicBezTo>
                    <a:pt x="34" y="21"/>
                    <a:pt x="78" y="12"/>
                    <a:pt x="78" y="12"/>
                  </a:cubicBezTo>
                </a:path>
              </a:pathLst>
            </a:custGeom>
            <a:blipFill rotWithShape="0">
              <a:blip r:embed="rId6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277000">
              <a:off x="8061120" y="3560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" y="0"/>
                  </a:moveTo>
                  <a:cubicBezTo>
                    <a:pt x="3" y="8"/>
                    <a:pt x="0" y="20"/>
                    <a:pt x="7" y="24"/>
                  </a:cubicBezTo>
                  <a:cubicBezTo>
                    <a:pt x="14" y="28"/>
                    <a:pt x="23" y="19"/>
                    <a:pt x="31" y="18"/>
                  </a:cubicBezTo>
                  <a:cubicBezTo>
                    <a:pt x="53" y="15"/>
                    <a:pt x="75" y="14"/>
                    <a:pt x="97" y="12"/>
                  </a:cubicBezTo>
                  <a:cubicBezTo>
                    <a:pt x="107" y="10"/>
                    <a:pt x="127" y="6"/>
                    <a:pt x="127" y="6"/>
                  </a:cubicBezTo>
                </a:path>
              </a:pathLst>
            </a:custGeom>
            <a:blipFill rotWithShape="0">
              <a:blip r:embed="rId7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364000" y="5157720"/>
            <a:ext cx="2016000" cy="503280"/>
            <a:chOff x="5364000" y="5157720"/>
            <a:chExt cx="2016000" cy="503280"/>
          </a:xfrm>
        </p:grpSpPr>
        <p:sp>
          <p:nvSpPr>
            <p:cNvPr id="89" name=""/>
            <p:cNvSpPr/>
            <p:nvPr/>
          </p:nvSpPr>
          <p:spPr>
            <a:xfrm>
              <a:off x="5364000" y="5157720"/>
              <a:ext cx="2016000" cy="503280"/>
            </a:xfrm>
            <a:custGeom>
              <a:avLst/>
              <a:gdLst/>
              <a:ahLst/>
              <a:rect l="l" t="t" r="r" b="b"/>
              <a:pathLst>
                <a:path w="1270" h="317">
                  <a:moveTo>
                    <a:pt x="0" y="0"/>
                  </a:moveTo>
                  <a:lnTo>
                    <a:pt x="453" y="317"/>
                  </a:lnTo>
                  <a:lnTo>
                    <a:pt x="1270" y="4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50000">
                  <a:srgbClr val="ff9933"/>
                </a:gs>
                <a:gs pos="100000">
                  <a:srgbClr val="ffffcc"/>
                </a:gs>
              </a:gsLst>
              <a:lin ang="8100000"/>
            </a:gradFill>
            <a:ln w="316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64120" y="5518080"/>
              <a:ext cx="334800" cy="70200"/>
            </a:xfrm>
            <a:custGeom>
              <a:avLst/>
              <a:gdLst/>
              <a:ahLst/>
              <a:rect l="l" t="t" r="r" b="b"/>
              <a:pathLst>
                <a:path w="227" h="45">
                  <a:moveTo>
                    <a:pt x="0" y="45"/>
                  </a:moveTo>
                  <a:cubicBezTo>
                    <a:pt x="26" y="22"/>
                    <a:pt x="53" y="0"/>
                    <a:pt x="91" y="0"/>
                  </a:cubicBezTo>
                  <a:cubicBezTo>
                    <a:pt x="129" y="0"/>
                    <a:pt x="204" y="38"/>
                    <a:pt x="227" y="45"/>
                  </a:cubicBezTo>
                </a:path>
              </a:pathLst>
            </a:custGeom>
            <a:gradFill rotWithShape="0">
              <a:gsLst>
                <a:gs pos="0">
                  <a:srgbClr val="ffffcc"/>
                </a:gs>
                <a:gs pos="50000">
                  <a:srgbClr val="ff9933"/>
                </a:gs>
                <a:gs pos="100000">
                  <a:srgbClr val="ffffcc"/>
                </a:gs>
              </a:gsLst>
              <a:lin ang="8100000"/>
            </a:gradFill>
            <a:ln w="316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835280" y="324360"/>
            <a:ext cx="2692080" cy="3391560"/>
            <a:chOff x="1835280" y="324360"/>
            <a:chExt cx="2692080" cy="3391560"/>
          </a:xfrm>
        </p:grpSpPr>
        <p:sp>
          <p:nvSpPr>
            <p:cNvPr id="92" name=""/>
            <p:cNvSpPr/>
            <p:nvPr/>
          </p:nvSpPr>
          <p:spPr>
            <a:xfrm flipH="1">
              <a:off x="2555640" y="981000"/>
              <a:ext cx="1439640" cy="107964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0000" y="1989000"/>
              <a:ext cx="287280" cy="287640"/>
            </a:xfrm>
            <a:prstGeom prst="ellipse">
              <a:avLst/>
            </a:prstGeom>
            <a:noFill/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1835280" y="1915920"/>
              <a:ext cx="504720" cy="14436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195280" y="2276640"/>
              <a:ext cx="215640" cy="43164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2626920" y="2276280"/>
              <a:ext cx="1081080" cy="143964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9185600">
              <a:off x="1908000" y="1131480"/>
              <a:ext cx="27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сторон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208400" y="527040"/>
            <a:ext cx="2594160" cy="3909960"/>
            <a:chOff x="4208400" y="527040"/>
            <a:chExt cx="2594160" cy="3909960"/>
          </a:xfrm>
        </p:grpSpPr>
        <p:sp>
          <p:nvSpPr>
            <p:cNvPr id="99" name=""/>
            <p:cNvSpPr/>
            <p:nvPr/>
          </p:nvSpPr>
          <p:spPr>
            <a:xfrm>
              <a:off x="4643280" y="981000"/>
              <a:ext cx="1440000" cy="107964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940360" y="1989000"/>
              <a:ext cx="287280" cy="287640"/>
            </a:xfrm>
            <a:prstGeom prst="ellipse">
              <a:avLst/>
            </a:prstGeom>
            <a:noFill/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6227640" y="1915920"/>
              <a:ext cx="505080" cy="14436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27640" y="2276640"/>
              <a:ext cx="503280" cy="43164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435640" y="2205000"/>
              <a:ext cx="506520" cy="223200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149200">
              <a:off x="4137840" y="1266480"/>
              <a:ext cx="27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угл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>
            <a:hlinkClick r:id="rId8" action="ppaction://hlinksldjump"/>
          </p:cNvPr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7307 L 0.06302 -0.42983 E">
                                      <p:cBhvr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21965E-006 L 0.05521 -0.41942 E">
                                      <p:cBhvr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50289E-006 L 0.07101 -0.20462 E">
                                      <p:cBhvr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4971E-006 L -0.12604 -0.36717 E">
                                      <p:cBhvr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948E-006 L -0.08664 -0.10497 E">
                                      <p:cBhvr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62428E-007 L -0.11024 -0.37202 E">
                                      <p:cBhvr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16360" y="476280"/>
            <a:ext cx="2735280" cy="459720"/>
          </a:xfrm>
          <a:prstGeom prst="rect">
            <a:avLst/>
          </a:prstGeom>
          <a:noFill/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0920" y="3645000"/>
            <a:ext cx="1295280" cy="1728720"/>
            <a:chOff x="250920" y="3645000"/>
            <a:chExt cx="1295280" cy="1728720"/>
          </a:xfrm>
        </p:grpSpPr>
        <p:sp>
          <p:nvSpPr>
            <p:cNvPr id="108" name=""/>
            <p:cNvSpPr/>
            <p:nvPr/>
          </p:nvSpPr>
          <p:spPr>
            <a:xfrm>
              <a:off x="250920" y="3645000"/>
              <a:ext cx="1295280" cy="1728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395280" y="4508280"/>
              <a:ext cx="21528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395280" y="4581720"/>
              <a:ext cx="215280" cy="7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186920" y="4580280"/>
              <a:ext cx="215640" cy="7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186920" y="4653000"/>
              <a:ext cx="2156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116000" y="5589720"/>
            <a:ext cx="1295280" cy="1036440"/>
            <a:chOff x="1116000" y="5589720"/>
            <a:chExt cx="1295280" cy="1036440"/>
          </a:xfrm>
        </p:grpSpPr>
        <p:sp>
          <p:nvSpPr>
            <p:cNvPr id="114" name=""/>
            <p:cNvSpPr/>
            <p:nvPr/>
          </p:nvSpPr>
          <p:spPr>
            <a:xfrm>
              <a:off x="1116000" y="5589720"/>
              <a:ext cx="1295280" cy="936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66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316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331640" y="6021000"/>
              <a:ext cx="215640" cy="7164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981080" y="6021360"/>
              <a:ext cx="216000" cy="7164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5080" y="6410160"/>
              <a:ext cx="0" cy="21600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894320" y="4743720"/>
            <a:ext cx="2350440" cy="1543680"/>
            <a:chOff x="1894320" y="4743720"/>
            <a:chExt cx="2350440" cy="1543680"/>
          </a:xfrm>
        </p:grpSpPr>
        <p:sp>
          <p:nvSpPr>
            <p:cNvPr id="119" name=""/>
            <p:cNvSpPr/>
            <p:nvPr/>
          </p:nvSpPr>
          <p:spPr>
            <a:xfrm rot="20679600">
              <a:off x="1989000" y="5011560"/>
              <a:ext cx="2160720" cy="1008000"/>
            </a:xfrm>
            <a:custGeom>
              <a:avLst/>
              <a:gdLst/>
              <a:ahLst/>
              <a:rect l="l" t="t" r="r" b="b"/>
              <a:pathLst>
                <a:path w="1361" h="635">
                  <a:moveTo>
                    <a:pt x="0" y="46"/>
                  </a:moveTo>
                  <a:lnTo>
                    <a:pt x="1361" y="635"/>
                  </a:lnTo>
                  <a:lnTo>
                    <a:pt x="726" y="0"/>
                  </a:lnTo>
                  <a:lnTo>
                    <a:pt x="0" y="46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814840" y="5436720"/>
              <a:ext cx="72360" cy="203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885400" y="5417640"/>
              <a:ext cx="72000" cy="20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54160" y="5398560"/>
              <a:ext cx="72000" cy="203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1080" y="5094360"/>
              <a:ext cx="177480" cy="100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309120" y="5224680"/>
              <a:ext cx="279000" cy="76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396960" y="5274360"/>
              <a:ext cx="278640" cy="76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187400" y="5151600"/>
            <a:ext cx="1682280" cy="1521720"/>
            <a:chOff x="7187400" y="5151600"/>
            <a:chExt cx="1682280" cy="1521720"/>
          </a:xfrm>
        </p:grpSpPr>
        <p:sp>
          <p:nvSpPr>
            <p:cNvPr id="127" name=""/>
            <p:cNvSpPr/>
            <p:nvPr/>
          </p:nvSpPr>
          <p:spPr>
            <a:xfrm rot="4603800">
              <a:off x="7416360" y="5192280"/>
              <a:ext cx="1224000" cy="144000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13500000"/>
            </a:gra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7640" y="5432760"/>
              <a:ext cx="49680" cy="210240"/>
            </a:xfrm>
            <a:prstGeom prst="line">
              <a:avLst/>
            </a:prstGeom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7237080" y="5643000"/>
              <a:ext cx="210240" cy="49320"/>
            </a:xfrm>
            <a:prstGeom prst="line">
              <a:avLst/>
            </a:prstGeom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691040" y="3180240"/>
            <a:ext cx="1396440" cy="1793160"/>
            <a:chOff x="7691040" y="3180240"/>
            <a:chExt cx="1396440" cy="1793160"/>
          </a:xfrm>
        </p:grpSpPr>
        <p:sp>
          <p:nvSpPr>
            <p:cNvPr id="131" name=""/>
            <p:cNvSpPr/>
            <p:nvPr/>
          </p:nvSpPr>
          <p:spPr>
            <a:xfrm rot="20277000">
              <a:off x="7956720" y="3284280"/>
              <a:ext cx="865080" cy="1584360"/>
            </a:xfrm>
            <a:custGeom>
              <a:avLst/>
              <a:gdLst/>
              <a:ahLst/>
              <a:rect l="l" t="t" r="r" b="b"/>
              <a:pathLst>
                <a:path w="545" h="998">
                  <a:moveTo>
                    <a:pt x="227" y="0"/>
                  </a:moveTo>
                  <a:lnTo>
                    <a:pt x="0" y="998"/>
                  </a:lnTo>
                  <a:lnTo>
                    <a:pt x="545" y="589"/>
                  </a:lnTo>
                  <a:lnTo>
                    <a:pt x="227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277000">
              <a:off x="8257320" y="471852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cubicBezTo>
                    <a:pt x="15" y="3"/>
                    <a:pt x="32" y="2"/>
                    <a:pt x="46" y="9"/>
                  </a:cubicBezTo>
                  <a:cubicBezTo>
                    <a:pt x="63" y="17"/>
                    <a:pt x="74" y="36"/>
                    <a:pt x="91" y="45"/>
                  </a:cubicBezTo>
                </a:path>
              </a:pathLst>
            </a:custGeom>
            <a:blipFill rotWithShape="0">
              <a:blip r:embed="rId2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277000">
              <a:off x="8641080" y="3949920"/>
              <a:ext cx="112680" cy="304920"/>
            </a:xfrm>
            <a:custGeom>
              <a:avLst/>
              <a:gdLst/>
              <a:ahLst/>
              <a:rect l="l" t="t" r="r" b="b"/>
              <a:pathLst>
                <a:path w="71" h="192">
                  <a:moveTo>
                    <a:pt x="71" y="0"/>
                  </a:moveTo>
                  <a:cubicBezTo>
                    <a:pt x="49" y="15"/>
                    <a:pt x="39" y="32"/>
                    <a:pt x="23" y="54"/>
                  </a:cubicBezTo>
                  <a:cubicBezTo>
                    <a:pt x="0" y="122"/>
                    <a:pt x="11" y="77"/>
                    <a:pt x="11" y="192"/>
                  </a:cubicBezTo>
                </a:path>
              </a:pathLst>
            </a:custGeom>
            <a:blipFill rotWithShape="0">
              <a:blip r:embed="rId3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277000">
              <a:off x="8721000" y="3974760"/>
              <a:ext cx="66600" cy="209520"/>
            </a:xfrm>
            <a:custGeom>
              <a:avLst/>
              <a:gdLst/>
              <a:ahLst/>
              <a:rect l="l" t="t" r="r" b="b"/>
              <a:pathLst>
                <a:path w="42" h="132">
                  <a:moveTo>
                    <a:pt x="42" y="0"/>
                  </a:moveTo>
                  <a:cubicBezTo>
                    <a:pt x="36" y="6"/>
                    <a:pt x="27" y="10"/>
                    <a:pt x="24" y="18"/>
                  </a:cubicBezTo>
                  <a:cubicBezTo>
                    <a:pt x="18" y="34"/>
                    <a:pt x="0" y="108"/>
                    <a:pt x="0" y="132"/>
                  </a:cubicBezTo>
                </a:path>
              </a:pathLst>
            </a:custGeom>
            <a:blipFill rotWithShape="0">
              <a:blip r:embed="rId4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277000">
              <a:off x="8054280" y="345312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0"/>
                  </a:moveTo>
                  <a:cubicBezTo>
                    <a:pt x="5" y="16"/>
                    <a:pt x="3" y="24"/>
                    <a:pt x="24" y="24"/>
                  </a:cubicBezTo>
                  <a:cubicBezTo>
                    <a:pt x="34" y="24"/>
                    <a:pt x="54" y="18"/>
                    <a:pt x="54" y="18"/>
                  </a:cubicBezTo>
                </a:path>
              </a:pathLst>
            </a:custGeom>
            <a:blipFill rotWithShape="0">
              <a:blip r:embed="rId5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277000">
              <a:off x="8059320" y="3515040"/>
              <a:ext cx="123840" cy="3348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cubicBezTo>
                    <a:pt x="4" y="6"/>
                    <a:pt x="5" y="17"/>
                    <a:pt x="12" y="18"/>
                  </a:cubicBezTo>
                  <a:cubicBezTo>
                    <a:pt x="34" y="21"/>
                    <a:pt x="78" y="12"/>
                    <a:pt x="78" y="12"/>
                  </a:cubicBezTo>
                </a:path>
              </a:pathLst>
            </a:custGeom>
            <a:blipFill rotWithShape="0">
              <a:blip r:embed="rId6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277000">
              <a:off x="8061120" y="3560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" y="0"/>
                  </a:moveTo>
                  <a:cubicBezTo>
                    <a:pt x="3" y="8"/>
                    <a:pt x="0" y="20"/>
                    <a:pt x="7" y="24"/>
                  </a:cubicBezTo>
                  <a:cubicBezTo>
                    <a:pt x="14" y="28"/>
                    <a:pt x="23" y="19"/>
                    <a:pt x="31" y="18"/>
                  </a:cubicBezTo>
                  <a:cubicBezTo>
                    <a:pt x="53" y="15"/>
                    <a:pt x="75" y="14"/>
                    <a:pt x="97" y="12"/>
                  </a:cubicBezTo>
                  <a:cubicBezTo>
                    <a:pt x="107" y="10"/>
                    <a:pt x="127" y="6"/>
                    <a:pt x="127" y="6"/>
                  </a:cubicBezTo>
                </a:path>
              </a:pathLst>
            </a:custGeom>
            <a:blipFill rotWithShape="0">
              <a:blip r:embed="rId7"/>
              <a:srcRect/>
              <a:stretch/>
            </a:blipFill>
            <a:ln w="316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364000" y="5157720"/>
            <a:ext cx="2016000" cy="503280"/>
            <a:chOff x="5364000" y="5157720"/>
            <a:chExt cx="2016000" cy="503280"/>
          </a:xfrm>
        </p:grpSpPr>
        <p:sp>
          <p:nvSpPr>
            <p:cNvPr id="139" name=""/>
            <p:cNvSpPr/>
            <p:nvPr/>
          </p:nvSpPr>
          <p:spPr>
            <a:xfrm>
              <a:off x="5364000" y="5157720"/>
              <a:ext cx="2016000" cy="503280"/>
            </a:xfrm>
            <a:custGeom>
              <a:avLst/>
              <a:gdLst/>
              <a:ahLst/>
              <a:rect l="l" t="t" r="r" b="b"/>
              <a:pathLst>
                <a:path w="1270" h="317">
                  <a:moveTo>
                    <a:pt x="0" y="0"/>
                  </a:moveTo>
                  <a:lnTo>
                    <a:pt x="453" y="317"/>
                  </a:lnTo>
                  <a:lnTo>
                    <a:pt x="1270" y="4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50000">
                  <a:srgbClr val="ff9933"/>
                </a:gs>
                <a:gs pos="100000">
                  <a:srgbClr val="ffffcc"/>
                </a:gs>
              </a:gsLst>
              <a:lin ang="8100000"/>
            </a:gradFill>
            <a:ln w="316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64120" y="5518080"/>
              <a:ext cx="334800" cy="70200"/>
            </a:xfrm>
            <a:custGeom>
              <a:avLst/>
              <a:gdLst/>
              <a:ahLst/>
              <a:rect l="l" t="t" r="r" b="b"/>
              <a:pathLst>
                <a:path w="227" h="45">
                  <a:moveTo>
                    <a:pt x="0" y="45"/>
                  </a:moveTo>
                  <a:cubicBezTo>
                    <a:pt x="26" y="22"/>
                    <a:pt x="53" y="0"/>
                    <a:pt x="91" y="0"/>
                  </a:cubicBezTo>
                  <a:cubicBezTo>
                    <a:pt x="129" y="0"/>
                    <a:pt x="204" y="38"/>
                    <a:pt x="227" y="45"/>
                  </a:cubicBezTo>
                </a:path>
              </a:pathLst>
            </a:custGeom>
            <a:gradFill rotWithShape="0">
              <a:gsLst>
                <a:gs pos="0">
                  <a:srgbClr val="ffffcc"/>
                </a:gs>
                <a:gs pos="50000">
                  <a:srgbClr val="ff9933"/>
                </a:gs>
                <a:gs pos="100000">
                  <a:srgbClr val="ffffcc"/>
                </a:gs>
              </a:gsLst>
              <a:lin ang="8100000"/>
            </a:gradFill>
            <a:ln w="316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835280" y="324360"/>
            <a:ext cx="2692080" cy="3391560"/>
            <a:chOff x="1835280" y="324360"/>
            <a:chExt cx="2692080" cy="3391560"/>
          </a:xfrm>
        </p:grpSpPr>
        <p:sp>
          <p:nvSpPr>
            <p:cNvPr id="142" name=""/>
            <p:cNvSpPr/>
            <p:nvPr/>
          </p:nvSpPr>
          <p:spPr>
            <a:xfrm flipH="1">
              <a:off x="2555640" y="981000"/>
              <a:ext cx="1439640" cy="107964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40000" y="1989000"/>
              <a:ext cx="287280" cy="287640"/>
            </a:xfrm>
            <a:prstGeom prst="ellipse">
              <a:avLst/>
            </a:prstGeom>
            <a:noFill/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1835280" y="1915920"/>
              <a:ext cx="504720" cy="14436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195280" y="2276640"/>
              <a:ext cx="215640" cy="43164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2626920" y="2276280"/>
              <a:ext cx="1081080" cy="143964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9185600">
              <a:off x="1908000" y="1131480"/>
              <a:ext cx="27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сторон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208400" y="527040"/>
            <a:ext cx="2594160" cy="3909960"/>
            <a:chOff x="4208400" y="527040"/>
            <a:chExt cx="2594160" cy="3909960"/>
          </a:xfrm>
        </p:grpSpPr>
        <p:sp>
          <p:nvSpPr>
            <p:cNvPr id="149" name=""/>
            <p:cNvSpPr/>
            <p:nvPr/>
          </p:nvSpPr>
          <p:spPr>
            <a:xfrm>
              <a:off x="4643280" y="981000"/>
              <a:ext cx="1440000" cy="107964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940360" y="1989000"/>
              <a:ext cx="287280" cy="287640"/>
            </a:xfrm>
            <a:prstGeom prst="ellipse">
              <a:avLst/>
            </a:prstGeom>
            <a:noFill/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227640" y="1915920"/>
              <a:ext cx="505080" cy="14436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27640" y="2276640"/>
              <a:ext cx="503280" cy="43164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435640" y="2205000"/>
              <a:ext cx="506520" cy="2232000"/>
            </a:xfrm>
            <a:prstGeom prst="line">
              <a:avLst/>
            </a:prstGeom>
            <a:ln cap="rnd" w="4140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149200">
              <a:off x="4137840" y="1266480"/>
              <a:ext cx="27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угл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>
            <a:hlinkClick r:id="rId8" action="ppaction://hlinksldjump"/>
          </p:cNvPr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4971E-006 L -0.12604 -0.36717 E">
                                      <p:cBhvr>
                                        <p:cTn id="113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948E-006 L -0.08664 -0.10497 E">
                                      <p:cBhvr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62428E-007 L -0.11024 -0.37202 E">
                                      <p:cBhvr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7307 L 0.06302 -0.42983 E">
                                      <p:cBhvr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21965E-006 L 0.05521 -0.41942 E">
                                      <p:cBhvr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50289E-006 L 0.07101 -0.20462 E">
                                      <p:cBhvr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19693800">
            <a:off x="5580000" y="50842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17859600">
            <a:off x="5148360" y="41493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 flipH="1" rot="4142400">
            <a:off x="2555640" y="41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717800">
            <a:off x="2195280" y="5084640"/>
            <a:ext cx="1047600" cy="104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V="1">
            <a:off x="3276720" y="4941720"/>
            <a:ext cx="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489640" y="4941720"/>
            <a:ext cx="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059280" y="5727240"/>
            <a:ext cx="217440" cy="149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508720" y="5727240"/>
            <a:ext cx="258840" cy="149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91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Сколько тупых (прямых) углов может быть в треугольни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3480" y="5878440"/>
            <a:ext cx="2233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4920" y="5157720"/>
            <a:ext cx="2233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 rot="19693800">
            <a:off x="5651640" y="4941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 rot="17859600">
            <a:off x="5148360" y="40366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 flipH="1" rot="4142400">
            <a:off x="2587320" y="40366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 flipH="1" rot="1717200">
            <a:off x="2155680" y="5045040"/>
            <a:ext cx="1047960" cy="1047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3276720" y="4869000"/>
            <a:ext cx="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489640" y="4869000"/>
            <a:ext cx="1908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987280" y="5661000"/>
            <a:ext cx="28908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508720" y="5661000"/>
            <a:ext cx="35856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2:44:03Z</dcterms:created>
  <dc:creator>Ученик</dc:creator>
  <dc:description/>
  <dc:language>en-US</dc:language>
  <cp:lastModifiedBy>User</cp:lastModifiedBy>
  <dcterms:modified xsi:type="dcterms:W3CDTF">2008-03-18T12:38:34Z</dcterms:modified>
  <cp:revision>62</cp:revision>
  <dc:subject/>
  <dc:title>Слайд 1</dc:title>
</cp:coreProperties>
</file>