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90BB-1472-462E-A9FD-63E97898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BFC02-55AE-4BA2-9C3C-A62EA693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C1923-E20F-4AEC-ACF2-D61A6FE7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7D2D0-416F-454A-9A9B-3A601622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EE4FE-5621-45DF-BC1C-3AA022AB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BFF3D-A346-4D3B-8035-F69D0C99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3444B-4EEE-4CD3-819E-E2C3BB69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A434F-2B64-47A5-9490-237F694F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72666-A671-4023-8BF8-6E00598A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62243-0F4F-4722-B60C-8A1F2FE8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61BAF-1FF4-42C9-AA40-133E4E27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F3899-FE81-4CBA-8BE1-129E8421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9ED83-DE9F-4EF6-946C-9120056D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E1012-C6D0-4AB7-B799-B122F269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FA746-2D71-494D-BE8A-5CEAB9CF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06FE6-62DF-47ED-B19F-D6E48656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1EB37-5929-41BF-957B-BE248A0C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EA038-B2E4-4C40-9B09-384EAFF7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87DCA-B806-4B5E-9741-2AB8ABDC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8F4A5-0AE5-474F-A019-7DF49BAA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33ECB-7C68-48C2-9D81-CF7AC37F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65033-D66B-4C97-96CB-9EB39C80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E9A37-F31A-4D21-A074-99E2C22D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BFE5F-80AA-487D-9E9B-03AEFE68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ACD77-A3C9-435D-A167-4E97106B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CE8AF-6B80-4B36-8D34-11696042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8D9E2-DBF5-4221-930C-FD83419E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779E1-9459-463A-91F2-1206AABC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5E844-66ED-4D16-868F-5D08367F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730A4-A71C-44F2-AF91-72980B0A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673D0-3868-4735-9C92-3C295CE1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EB55A-D324-4501-B921-94B0F5A4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08DA1-C9BB-4850-9D4D-9DC76E97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004C0-D1BD-4F3F-803F-0332994B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8FBA-BD83-42C2-8FF9-53AB09CF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687B8-F730-4748-BA92-3998A63E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95232-830C-414A-A6C6-A5022A3C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248BF-D186-4210-9BB5-5C5E3527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A517C-1DBA-428F-BDA6-85668E54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562EC-90C5-4987-BF85-05CAD864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B8B36-7354-4E7F-A860-E85A974D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90554-625A-41EB-8B54-BAEE2ADC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FE067-0484-46B2-BD3F-112481CF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940F0-4B17-457D-A80E-6653B3B4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64F99-9D13-4E82-8089-4977F733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94AB-DBA0-4FC6-A95B-3B608341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6B6C4-D3A5-4A5C-9310-6AF2160B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1BA88-6F83-4DED-B424-A6201DCD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10D45-A614-4472-81CE-14D36CBA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6645E-AC79-4970-91E5-ADF5948B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EC300-9B07-43B0-8865-24B04CE5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178CD-0FE1-4CEB-B80A-3B26ACFE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77EC2-0C34-43F6-9552-04EFBC92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4FD7D-E640-4047-AA80-CC5B8C70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B7A72-437D-4736-883E-0F7039B0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9C829-EF86-4252-BD7B-AA16F844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64C3-AD9A-4463-AD11-3EADB823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CAEA9-840C-4BAD-8D46-A3A22B3D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8DA77-5032-4E43-949F-B4396C78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D49DE-4EFD-4C6B-8DAB-91DD9ED0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6A50B-3763-4305-ADBC-EB7CB913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F981D-515C-467C-8072-D8360F6F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A9DDD-7A51-48B5-9816-38081BA3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0F8B6-A0A5-4BE7-BD8A-0D7078DD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C2F41F-F916-42B5-B64D-A7CBB999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F9DE4-D00D-4CE3-816A-5DDFAB0F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9F8141-76E2-4D69-96A5-008A67F6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0A6E-79B6-49EC-AF4F-1632DB47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0473EF-560A-43A4-B06C-D70409DA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CB972F-215E-4279-8D41-00D1149C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084AF-5341-44CF-A7BB-56BEB722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499F7-DEA6-42CE-8EAD-941CF3BF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22AEC-B763-4FE2-81F9-F4D31DD8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40FEB-EEE5-4CCF-841C-53789FBC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AC6727-6AB7-48B3-957E-028DB630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E1F36B-31C0-4BBD-B8DE-A594575C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8B58B-50AB-4564-8F18-32E64E51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1E5D-030B-4E4C-A09B-AAECE23B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962D-A1AC-4ACF-A2AA-E6E79EA5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B9AC-9798-4B43-BCAD-83F42C54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AC4F-97AC-4E9C-B7AE-C7732DF9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DBE2-E9CB-459A-A978-77727BB6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71BA-9F7F-47D1-8E24-71E83608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58FC-0D74-4565-9742-D33AC7B6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9C30-B330-4DBC-8157-392AFCBF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679B-0F06-4047-B558-9AEDB58F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B9B91-279E-4AA8-B47C-8607F7D2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29E2F-1BE4-481D-89A5-101E82A4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EB44C-1720-4354-9382-567D73BD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F1B0B-09D7-4FBD-94E9-48B2947B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B496E-0BF5-4C60-A30A-601F8A5E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BD611-A762-463D-A9E5-AD84CFBB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F67A5-A0C6-484D-87CB-888651B7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9CA6E-DCDF-41F1-992E-57C7ADE6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D8DC2-36BF-43C9-98B1-3BA12E75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D8BC0-798E-4F14-BC01-E0391128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487C-AE40-4974-8298-519E3528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51586-3E22-489E-8689-47BD5643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B707C-C863-4DC0-8429-C4040DC6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FEF60-B82C-4729-ABE8-BEA32CD6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C882A-D348-4DDF-B2AB-A7BB7F03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4B2F5-F4E3-41B7-8C7C-994D0E7C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50FC-D398-45B5-BB3E-3C183E98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F59F8-BBC9-4F7B-85DD-CF94082C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F415C-5902-4986-A5FD-B251906E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CB1F7-3855-4D83-B10D-413AB7F1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95AA-CB4F-4C80-8266-C770D731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080F3-C41B-46CF-B310-E6D30F22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42CCE-9838-4AFF-9371-7D1A0721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C8963-4202-4348-A2CC-B6BE1805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035D8-F74F-44A6-AE1A-0A26F4AF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DF643-869F-450B-83F5-D6BF2668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345A8-CEA6-4D99-B291-54D33086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6E6AE-96FB-4CAA-AD7A-46C58C40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6872D-50BE-425C-AB07-718955BE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70C4C-499D-4D74-A0BD-7AFFE73A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5ABD2-8DE3-420D-B228-5AF53F66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A5C36-5D4D-494D-8D3E-3CF1C34D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D04F1-1F08-4637-B43E-3EC56C8E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DC99A-7D6C-47CB-8259-4886747A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2D083-991D-4C59-B6D8-361DCE1E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3CC53-5359-4BF0-BE90-B44ACADB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D292B-FB7A-445D-87A2-ED6466DC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BA970-9E17-4DAF-A88A-5AD15A6E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0AFF-861D-4A26-B48D-06B228EC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318FC-50C2-4A06-8309-6A1EF6CB5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58D8E-879A-43CE-8515-BCDAA102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74822-ED4C-4328-A174-1E8BE64A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29C7D-F6EC-46E4-8293-8B92792D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83B6C-C8A2-495F-8B48-C9A7D307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01F3C-C2E0-4295-9CAF-EE5B0A9E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E1A6E-FE79-4D5A-9451-3A8121EA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80C42-1A41-4624-85C0-92EA7C5B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410A7-F71D-4903-815D-8135879F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B1E53-D404-4386-997D-A1A9E78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BECD6-968E-42F4-8FC3-F8577015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A16D9-B1BC-4E54-9C53-08F8C3C8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E8239-C657-4998-9331-96BEC9E5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4ADD0-DDF4-477B-BB1D-00D22F09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B234D-E583-4D6E-BD86-267EA780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43A1D-1BED-4A69-9008-B943334B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59420-7512-477C-9F0E-FB9D99E1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547E4-161D-4D84-8A4D-E02A5333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0DD97-4308-468A-AC20-0CCD4503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52728-21A0-4799-9E3A-482AF63F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8F3C9-3887-4243-907A-B6A0BC3F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02E3-96D5-4112-8250-685F3C08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ADCA0-CD81-4730-BB19-344A25A5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E1450-10C4-4CE3-8205-AEB859F4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84688-E44F-494C-9780-9BD52DF2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BAA49-A14E-4669-A8CD-666673AD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F5CD6-9C2F-40FA-84B1-8A11D02E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329F5-22F9-47A3-B851-F2B18426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D1AC2-635B-4058-ABE2-65BFC0AF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E0379-CC03-4C53-B817-1464D404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AB96A-1099-427D-8501-AF42B0CB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0BF4D-3732-408B-BFA2-5F2495D8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748F9-E44C-4A80-9EC9-31AFDB83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5B4C8-7A77-4668-B6BE-F2C6F9E1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4C62E-24E4-430D-86D7-01450D40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68A71-0C8B-4750-851A-CA5B8C09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3E837-7FE7-4EA8-B4F8-0D48F6DE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42878-413D-4FBF-8761-0EF01860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A9920-F87C-4787-B53E-7F544D8A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B881A-47F2-4DB4-A2C9-11E4FDC4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CB708-48B1-459E-B692-81FB14C5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B8240-C2AA-47A0-ACE5-09350A54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4E0D0-E8E9-45C6-ABDF-E41E6BD6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8DB7-99B7-4F84-9D7D-9B8601928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4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E025-5DAB-4DC3-A862-11E4B98A3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9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E8DB-2D88-45ED-A3C4-24C80FBB03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3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A231-84DA-4830-9A71-5311414947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B203-B137-41D4-A35F-0D8EB430EA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582E-12F9-4151-BA30-1E1A2A2219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7677-A689-4F39-960C-E302F1DC87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0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2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BAEE-DAF2-493D-919D-EE6EF749C26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6DA1-8B9F-48CD-A6C9-E5F2091E7DB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6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A108-3C18-4BA1-9D91-EE6ED4C24A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2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F63F-994A-4028-85F7-5EA214E0A7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8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8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9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1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3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14C5-8D17-447B-A47A-A7F53EA75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8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8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0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2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CEE2-161A-4F92-8B1E-1601C0B29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9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7CA8-254B-4DA6-BECE-534ED5218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36.xml"/><Relationship Id="rId4" Type="http://schemas.openxmlformats.org/officeDocument/2006/relationships/slide" Target="slide36.xml"/><Relationship Id="rId5" Type="http://schemas.openxmlformats.org/officeDocument/2006/relationships/slide" Target="slide45.xml"/><Relationship Id="rId6" Type="http://schemas.openxmlformats.org/officeDocument/2006/relationships/slide" Target="slide45.xml"/><Relationship Id="rId7" Type="http://schemas.openxmlformats.org/officeDocument/2006/relationships/slide" Target="slide45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Layout" Target="../slideLayouts/slideLayout7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7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7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7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9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9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771640" y="-171360"/>
            <a:ext cx="62200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Конкурс 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«Самый умный»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атематическая игра для шестикласс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8991360" y="6019560"/>
            <a:ext cx="15228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чите предложение: «Цифры 0, 1, 2, …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40000" y="2637000"/>
            <a:ext cx="4680000" cy="2520720"/>
          </a:xfrm>
          <a:prstGeom prst="wedgeRectCallout">
            <a:avLst>
              <a:gd name="adj1" fmla="val -48370"/>
              <a:gd name="adj2" fmla="val -408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натура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рим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араб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просты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507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многих западных странах использовалась единица площади – ак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≈ 4047 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 Сравните 1 акр и 1 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258920" y="4076640"/>
            <a:ext cx="5834160" cy="1224000"/>
          </a:xfrm>
          <a:prstGeom prst="wedgeRectCallout">
            <a:avLst>
              <a:gd name="adj1" fmla="val -49018"/>
              <a:gd name="adj2" fmla="val 97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1ак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 га; б) 1ак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 г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) 1акр=1 га; г) 1акр≈1 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полнительный вопрос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тавьте в таблицу следующие числ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"/>
          <p:cNvGraphicFramePr/>
          <p:nvPr/>
        </p:nvGraphicFramePr>
        <p:xfrm>
          <a:off x="4648320" y="1981080"/>
          <a:ext cx="4038480" cy="3886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2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но прос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ршен-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3" name=""/>
          <p:cNvSpPr/>
          <p:nvPr/>
        </p:nvSpPr>
        <p:spPr>
          <a:xfrm>
            <a:off x="4643280" y="1989000"/>
            <a:ext cx="4032360" cy="3888000"/>
          </a:xfrm>
          <a:prstGeom prst="wedgeRectCallout">
            <a:avLst>
              <a:gd name="adj1" fmla="val -26300"/>
              <a:gd name="adj2" fmla="val 4959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7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но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6 и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ершен-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и 2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659640" y="1989000"/>
            <a:ext cx="0" cy="38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643280" y="328464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042920" y="4508640"/>
            <a:ext cx="2952720" cy="79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; 7;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643280" y="458136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еребьёвка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магический квадра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вадрат называется магическим, если сумма чисел в клетках по горизонтали, вертикали и диагонали одинакова, а все числа различны. Заполните магический квад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2000" y="4149720"/>
            <a:ext cx="2808360" cy="2448000"/>
          </a:xfrm>
          <a:prstGeom prst="borderCallout1">
            <a:avLst>
              <a:gd name="adj1" fmla="val -586"/>
              <a:gd name="adj2" fmla="val 10478"/>
              <a:gd name="adj3" fmla="val -586"/>
              <a:gd name="adj4" fmla="val 100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    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99564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93236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132000" y="4869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132000" y="573408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372360" y="4149720"/>
            <a:ext cx="2592360" cy="2448000"/>
          </a:xfrm>
          <a:prstGeom prst="wedgeRectCallout">
            <a:avLst>
              <a:gd name="adj1" fmla="val -14481"/>
              <a:gd name="adj2" fmla="val 2107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    5   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   7     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    9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16436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8101080" y="414972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372360" y="4941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372360" y="573408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бери область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Задачи 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движ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 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нт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 с числами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Задачи пр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покуп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р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Задачи 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измер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6666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велич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Задачи на движе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Шла старушка в Москву, а навстречу ей три старика. Сколько всего человек шло в Москву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"/>
          <p:cNvSpPr/>
          <p:nvPr/>
        </p:nvSpPr>
        <p:spPr>
          <a:xfrm>
            <a:off x="5435640" y="3933720"/>
            <a:ext cx="914400" cy="6098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з двух селений навстречу друг другу выехали два велосипедиста: первый со скоростью 20 км/ч, второй – 15 км/ч. Чему равно расстояние между ними за 2 часа до встречи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"/>
          <p:cNvSpPr/>
          <p:nvPr/>
        </p:nvSpPr>
        <p:spPr>
          <a:xfrm>
            <a:off x="1835280" y="5229360"/>
            <a:ext cx="936360" cy="1152360"/>
          </a:xfrm>
          <a:prstGeom prst="wedgeRectCallout">
            <a:avLst>
              <a:gd name="adj1" fmla="val -43898"/>
              <a:gd name="adj2" fmla="val 13500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70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адача 3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ояние от Москвы до Санкт-Петербурга 600 км. Из Москвы выехал поезд со скоростью 80 км/ч. Через какое время поезд будет посередине пути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2" name=""/>
          <p:cNvSpPr/>
          <p:nvPr/>
        </p:nvSpPr>
        <p:spPr>
          <a:xfrm>
            <a:off x="5148360" y="5157720"/>
            <a:ext cx="3527280" cy="609840"/>
          </a:xfrm>
          <a:prstGeom prst="wedgeRectCallout">
            <a:avLst>
              <a:gd name="adj1" fmla="val -23898"/>
              <a:gd name="adj2" fmla="val 70050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300:80=3,8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адача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з Москвы в Курск вышел поезд со скоростью 60 км/ч, а из Курска в Москву вышел второй поезд со скоростью 70 км/ч. Какой из поездов в момент встречи будет дальше от Москвы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5" name=""/>
          <p:cNvSpPr/>
          <p:nvPr/>
        </p:nvSpPr>
        <p:spPr>
          <a:xfrm>
            <a:off x="395280" y="5300640"/>
            <a:ext cx="8280360" cy="720720"/>
          </a:xfrm>
          <a:prstGeom prst="wedgeRectCallout">
            <a:avLst>
              <a:gd name="adj1" fmla="val 25481"/>
              <a:gd name="adj2" fmla="val 1763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Оба на одном и том же расстоя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тух, стоя на одной ноге, весит 5 кг. Сколько он будет весить, если встанет на об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187280" y="4076640"/>
            <a:ext cx="7056720" cy="792360"/>
          </a:xfrm>
          <a:prstGeom prst="wedgeRectCallout">
            <a:avLst>
              <a:gd name="adj1" fmla="val -49189"/>
              <a:gd name="adj2" fmla="val 4238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2,5 кг; б) 10 кг; в) 5 кг; г) 7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адача 5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сть поезда на участке АВ равн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¼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ути АВ. Чему равно время движения поезда на этом участк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8" name=""/>
          <p:cNvSpPr/>
          <p:nvPr/>
        </p:nvSpPr>
        <p:spPr>
          <a:xfrm>
            <a:off x="6300720" y="4581360"/>
            <a:ext cx="914400" cy="6098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4 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адача 6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корость течения реки 3 км/ч. Пароход идёт по течению. На сколько км/ч скорость парохода по течению будет больше его скорости против течения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"/>
          <p:cNvSpPr/>
          <p:nvPr/>
        </p:nvSpPr>
        <p:spPr>
          <a:xfrm>
            <a:off x="5651640" y="4941720"/>
            <a:ext cx="2211120" cy="609840"/>
          </a:xfrm>
          <a:prstGeom prst="wedgeRectCallout">
            <a:avLst>
              <a:gd name="adj1" fmla="val 11236"/>
              <a:gd name="adj2" fmla="val 70050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На 6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Задачи на проценты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 нашей школе 240 учеников. Отличники составляют 5% всех учащихся. Сколько отличников в школе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6" name=""/>
          <p:cNvSpPr/>
          <p:nvPr/>
        </p:nvSpPr>
        <p:spPr>
          <a:xfrm>
            <a:off x="611280" y="4437000"/>
            <a:ext cx="6769080" cy="609840"/>
          </a:xfrm>
          <a:prstGeom prst="wedgeRectCallout">
            <a:avLst>
              <a:gd name="adj1" fmla="val -2347"/>
              <a:gd name="adj2" fmla="val 7005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40:100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5=12(уч) - отли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 первый день на мельнице смололи 36% привезённого зерна, во второй – 42% привезённого зерна. Сколько процентов зерна осталось смолоть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9" name=""/>
          <p:cNvSpPr/>
          <p:nvPr/>
        </p:nvSpPr>
        <p:spPr>
          <a:xfrm>
            <a:off x="900000" y="5157720"/>
            <a:ext cx="6480360" cy="609840"/>
          </a:xfrm>
          <a:prstGeom prst="wedgeRectCallout">
            <a:avLst>
              <a:gd name="adj1" fmla="val -2449"/>
              <a:gd name="adj2" fmla="val 7005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100-(36+42)=100-78=22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дача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кольцевой дороге проводится эстафета мотоциклистов. Длина кольца 35 км разделена на 5 равных этапов. Сколько процентов составляет длина каждого этап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2" name=""/>
          <p:cNvSpPr/>
          <p:nvPr/>
        </p:nvSpPr>
        <p:spPr>
          <a:xfrm>
            <a:off x="2195640" y="5013360"/>
            <a:ext cx="3456000" cy="609480"/>
          </a:xfrm>
          <a:prstGeom prst="wedgeRectCallout">
            <a:avLst>
              <a:gd name="adj1" fmla="val -48347"/>
              <a:gd name="adj2" fmla="val 7005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100:5=20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дача 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 магазин завезли 600 кг картофеля. До обеда продали 25% этого картофеля. Сколько кг продали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5" name=""/>
          <p:cNvSpPr/>
          <p:nvPr/>
        </p:nvSpPr>
        <p:spPr>
          <a:xfrm>
            <a:off x="1908000" y="4508640"/>
            <a:ext cx="4464360" cy="609480"/>
          </a:xfrm>
          <a:prstGeom prst="wedgeRectCallout">
            <a:avLst>
              <a:gd name="adj1" fmla="val -10027"/>
              <a:gd name="adj2" fmla="val 7005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600:4=150 (к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дача 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Скосили 30 га луга, что составило 20% всего луга. Найдите площадь луг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8" name=""/>
          <p:cNvSpPr/>
          <p:nvPr/>
        </p:nvSpPr>
        <p:spPr>
          <a:xfrm>
            <a:off x="2195640" y="4149720"/>
            <a:ext cx="4464000" cy="609480"/>
          </a:xfrm>
          <a:prstGeom prst="wedgeRectCallout">
            <a:avLst>
              <a:gd name="adj1" fmla="val -48717"/>
              <a:gd name="adj2" fmla="val 7005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30:20∙100=150 (г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дача 6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Мальчик купил две книги, причём первая на 50% дороже второй. На сколько процентов вторая книга дешевле первой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1" name=""/>
          <p:cNvSpPr/>
          <p:nvPr/>
        </p:nvSpPr>
        <p:spPr>
          <a:xfrm>
            <a:off x="684360" y="3860640"/>
            <a:ext cx="7632720" cy="2592720"/>
          </a:xfrm>
          <a:prstGeom prst="wedgeRectCallout">
            <a:avLst>
              <a:gd name="adj1" fmla="val -28495"/>
              <a:gd name="adj2" fmla="val 878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Так как первая дороже второй на 50%, то она составляет 150% от первой, то есть она стоит больше второй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⅓ = 100% : 3 = 33⅓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804000" y="5445000"/>
            <a:ext cx="0" cy="863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308720" y="5734080"/>
            <a:ext cx="0" cy="574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732720" y="573408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732720" y="602136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236000" y="602136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30864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164360" y="6308640"/>
            <a:ext cx="287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32720" y="544500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236000" y="573408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Задачи с числам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емье у каждого из шести братьев есть по сестре. Сколько детей в этой сем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476360" y="4437000"/>
            <a:ext cx="6480360" cy="609840"/>
          </a:xfrm>
          <a:prstGeom prst="wedgeRectCallout">
            <a:avLst>
              <a:gd name="adj1" fmla="val -49120"/>
              <a:gd name="adj2" fmla="val 7005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) 7; б) 8; в) 9; г)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а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 однозначному числу приписали справа такую же цифру. Во сколько раз увеличилось числ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987640" y="4149720"/>
            <a:ext cx="3219480" cy="609480"/>
          </a:xfrm>
          <a:prstGeom prst="wedgeRectCallout">
            <a:avLst>
              <a:gd name="adj1" fmla="val 23375"/>
              <a:gd name="adj2" fmla="val 7005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в 11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а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больше произведение всех цифр или их сумм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50920" y="3068640"/>
            <a:ext cx="8497800" cy="1584360"/>
          </a:xfrm>
          <a:prstGeom prst="wedgeRectCallout">
            <a:avLst>
              <a:gd name="adj1" fmla="val -23041"/>
              <a:gd name="adj2" fmla="val -380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0+1+2+3+4+5+6+7+8+9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ea typeface="Arial"/>
                <a:hlinkClick r:id="rId2" action="ppaction://hlinksldjump"/>
              </a:rPr>
              <a:t>&gt;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ea typeface="Arial"/>
                <a:hlinkClick r:id="rId3" action="ppaction://hlinksldjump"/>
              </a:rPr>
              <a:t> 0∙1∙2∙3∙4∙5∙6∙7∙8∙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ea typeface="Arial"/>
                <a:hlinkClick r:id="rId4" action="ppaction://hlinksldjump"/>
              </a:rPr>
              <a:t>                                   45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ea typeface="Arial"/>
                <a:hlinkClick r:id="rId5" action="ppaction://hlinksldjump"/>
              </a:rPr>
              <a:t>&gt;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ea typeface="Arial"/>
                <a:hlinkClick r:id="rId6" action="ppaction://hlinksldjump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7" action="ppaction://hlinksldjump"/>
              </a:rPr>
              <a:t>Ответ: су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а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7 прибавили 5. Как правильно записать ответ: «одиннадцать» или «адиннадцать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042920" y="3716280"/>
            <a:ext cx="7561440" cy="1657440"/>
          </a:xfrm>
          <a:prstGeom prst="wedgeRectCallout">
            <a:avLst>
              <a:gd name="adj1" fmla="val 9814"/>
              <a:gd name="adj2" fmla="val -584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Ни первым ни вторым способом, так как ответ: 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а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пользуя все 10 цифр, назовите возможно меньшее натуральное чис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427640" y="4149720"/>
            <a:ext cx="4105080" cy="609480"/>
          </a:xfrm>
          <a:prstGeom prst="wedgeRectCallout">
            <a:avLst>
              <a:gd name="adj1" fmla="val -48606"/>
              <a:gd name="adj2" fmla="val 7005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1 023 456 7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а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 делении х на 8 получилось 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⅝. Найдите число 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595476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8" name=""/>
          <p:cNvSpPr/>
          <p:nvPr/>
        </p:nvSpPr>
        <p:spPr>
          <a:xfrm>
            <a:off x="3924360" y="3429000"/>
            <a:ext cx="914400" cy="60948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дача 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умма трёх натуральных чисел равна их произведению. Найти эти чис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484360" y="4221000"/>
            <a:ext cx="2664000" cy="609840"/>
          </a:xfrm>
          <a:prstGeom prst="wedgeRectCallout">
            <a:avLst>
              <a:gd name="adj1" fmla="val -10013"/>
              <a:gd name="adj2" fmla="val 7005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1+2+3=1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ea typeface="Arial"/>
                <a:hlinkClick r:id="rId2" action="ppaction://hlinksldjump"/>
              </a:rPr>
              <a:t>∙2∙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дачи про покупк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ча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тон белого хлеба стоит 12 руб, а буханка чёрного – 14 руб. Сколько стоят два батона и полбухан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492360" y="4437000"/>
            <a:ext cx="2592360" cy="609840"/>
          </a:xfrm>
          <a:prstGeom prst="wedgeRectCallout">
            <a:avLst>
              <a:gd name="adj1" fmla="val -22810"/>
              <a:gd name="adj2" fmla="val 70050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Verdana"/>
                <a:hlinkClick r:id="rId1" action="ppaction://hlinksldjump"/>
              </a:rPr>
              <a:t>31 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Verdana"/>
                <a:hlinkClick r:id="rId2" action="ppaction://hlinksldjump"/>
              </a:rPr>
              <a:t>р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ча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покупку продуктов Женя потратила 120 руб, причём на овощи ушло ⅜ всех денег. Сколько стоили овощ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627280" y="4724280"/>
            <a:ext cx="4824360" cy="609840"/>
          </a:xfrm>
          <a:prstGeom prst="wedgeRectCallout">
            <a:avLst>
              <a:gd name="adj1" fmla="val -48814"/>
              <a:gd name="adj2" fmla="val 70050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Verdana"/>
                <a:hlinkClick r:id="rId1" action="ppaction://hlinksldjump"/>
              </a:rPr>
              <a:t>120:8∙3=15∙3=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ча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ватит ли 500 рублей, чтобы купить 2 кг конфет по 80 руб и 4 кг – по 90 руб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971640" y="3789360"/>
            <a:ext cx="7848360" cy="1655640"/>
          </a:xfrm>
          <a:prstGeom prst="wedgeRectCallout">
            <a:avLst>
              <a:gd name="adj1" fmla="val -38268"/>
              <a:gd name="adj2" fmla="val 15962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 хватит, так 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80∙2+90∙4=160+360=520 (ру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йдите число, одна треть которого составляет 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835280" y="4149720"/>
            <a:ext cx="5905440" cy="609480"/>
          </a:xfrm>
          <a:prstGeom prst="wedgeRectCallout">
            <a:avLst>
              <a:gd name="adj1" fmla="val -49032"/>
              <a:gd name="adj2" fmla="val 7005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4; б) 36; в) 15; г)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ча 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Цена мороженого повысилась на 10% и стала 11 руб. Сколько стоило мороженое до повышения це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11280" y="3716280"/>
            <a:ext cx="7416720" cy="2305080"/>
          </a:xfrm>
          <a:prstGeom prst="wedgeRectCallout">
            <a:avLst>
              <a:gd name="adj1" fmla="val -34652"/>
              <a:gd name="adj2" fmla="val 13018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ак как новая цена составляет 110%, то 11:110∙100=0,1∙100=10 (ру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ча 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 карандаша и 3 тетради стоят 17 руб,  2 карандаша и 3 тетради стоят 13 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стоит 1 карандаш и 1 тетрад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95280" y="3789360"/>
            <a:ext cx="8424720" cy="1440000"/>
          </a:xfrm>
          <a:prstGeom prst="wedgeRectCallout">
            <a:avLst>
              <a:gd name="adj1" fmla="val -33925"/>
              <a:gd name="adj2" fmla="val 828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17-13):(4-2)=2(руб)-каранд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13-2∙2):3=3(руб)-те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ча 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околадка стоит 10 руб и ещё половину шоколадки. Сколько стоит шоколад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4076640"/>
            <a:ext cx="9144000" cy="2376720"/>
          </a:xfrm>
          <a:prstGeom prst="wedgeRectCallout">
            <a:avLst>
              <a:gd name="adj1" fmla="val -21421"/>
              <a:gd name="adj2" fmla="val -19203"/>
            </a:avLst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стоимость шоколадки складывается из 10 руб и половины шоколадки, то половина шоколадки стоит 10руб, значит вся шоколадка стоит 10∙2=20(ру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b2b2b2"/>
                </a:solidFill>
                <a:latin typeface="Arial"/>
              </a:rPr>
              <a:t>Секрет</a:t>
            </a:r>
            <a:endParaRPr b="0" lang="en-US" sz="63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Отгадайте кроссворд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68360" y="1125360"/>
            <a:ext cx="3527280" cy="5472360"/>
          </a:xfrm>
          <a:prstGeom prst="wedgeRectCallout">
            <a:avLst>
              <a:gd name="adj1" fmla="val -37625"/>
              <a:gd name="adj2" fmla="val -3529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□□□□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□□□□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□□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□□□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□□□□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□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□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203640" y="1125360"/>
            <a:ext cx="5761080" cy="5472360"/>
          </a:xfrm>
          <a:prstGeom prst="wedgeRectCallout">
            <a:avLst>
              <a:gd name="adj1" fmla="val -13324"/>
              <a:gd name="adj2" fmla="val 4851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ифметическое дей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диница изме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ометрическая фиг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матически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ления на измерительных прибо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572000" y="1268280"/>
            <a:ext cx="3313080" cy="648000"/>
          </a:xfrm>
          <a:prstGeom prst="wedgeRectCallout">
            <a:avLst>
              <a:gd name="adj1" fmla="val -43773"/>
              <a:gd name="adj2" fmla="val 5220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лл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596360" y="2781360"/>
            <a:ext cx="1223640" cy="431640"/>
          </a:xfrm>
          <a:prstGeom prst="wedgeRectCallout">
            <a:avLst>
              <a:gd name="adj1" fmla="val -49611"/>
              <a:gd name="adj2" fmla="val 331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659640" y="3284640"/>
            <a:ext cx="1441440" cy="504720"/>
          </a:xfrm>
          <a:prstGeom prst="wedgeRectCallout">
            <a:avLst>
              <a:gd name="adj1" fmla="val -43722"/>
              <a:gd name="adj2" fmla="val 5849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93080" y="4292640"/>
            <a:ext cx="1655640" cy="431640"/>
          </a:xfrm>
          <a:prstGeom prst="wedgeRectCallout">
            <a:avLst>
              <a:gd name="adj1" fmla="val -43768"/>
              <a:gd name="adj2" fmla="val 2022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156360" y="5300640"/>
            <a:ext cx="2519280" cy="433440"/>
          </a:xfrm>
          <a:prstGeom prst="wedgeRectCallout">
            <a:avLst>
              <a:gd name="adj1" fmla="val -43763"/>
              <a:gd name="adj2" fmla="val -1007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рку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732720" y="5734080"/>
            <a:ext cx="1871640" cy="358920"/>
          </a:xfrm>
          <a:prstGeom prst="wedgeRectCallout">
            <a:avLst>
              <a:gd name="adj1" fmla="val -35921"/>
              <a:gd name="adj2" fmla="val 5707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к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Задачи на измерение величи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Задача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Что тяжелее: 1 пуд железа или 1 пуд ваты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"/>
          <p:cNvSpPr/>
          <p:nvPr/>
        </p:nvSpPr>
        <p:spPr>
          <a:xfrm>
            <a:off x="2195640" y="3716280"/>
            <a:ext cx="4968720" cy="609480"/>
          </a:xfrm>
          <a:prstGeom prst="wedgeRectCallout">
            <a:avLst>
              <a:gd name="adj1" fmla="val -48851"/>
              <a:gd name="adj2" fmla="val 70050"/>
            </a:avLst>
          </a:prstGeom>
          <a:solidFill>
            <a:srgbClr val="ffcc99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Одинаково – 1 п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Задача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Сколько литров в 1 кубическом метр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"/>
          <p:cNvSpPr/>
          <p:nvPr/>
        </p:nvSpPr>
        <p:spPr>
          <a:xfrm>
            <a:off x="2050920" y="3645000"/>
            <a:ext cx="6481800" cy="609480"/>
          </a:xfrm>
          <a:prstGeom prst="wedgeRectCallout">
            <a:avLst>
              <a:gd name="adj1" fmla="val -26879"/>
              <a:gd name="adj2" fmla="val 7005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1000 л, так как 1л=1дм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Задача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Рыбак в первый день поймал 0,5 кг рыбы, во второй – вдвое больше, в третий – вдвое больше, чем во второй. Сколько 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граммов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весит рыба, пойманная в третий ден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"/>
          <p:cNvSpPr/>
          <p:nvPr/>
        </p:nvSpPr>
        <p:spPr>
          <a:xfrm>
            <a:off x="4859280" y="5373720"/>
            <a:ext cx="2160720" cy="609480"/>
          </a:xfrm>
          <a:prstGeom prst="wedgeRectCallout">
            <a:avLst>
              <a:gd name="adj1" fmla="val -47356"/>
              <a:gd name="adj2" fmla="val 7005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000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Задача 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Белка без груза бежит со скоростью 5 м/с, а с орехом –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 м/с. Сколько времени белка бежит от орешника до гнезда, если 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от гнезда до орешника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она добирается за 3 мин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"/>
          <p:cNvSpPr/>
          <p:nvPr/>
        </p:nvSpPr>
        <p:spPr>
          <a:xfrm>
            <a:off x="539640" y="4797360"/>
            <a:ext cx="7777440" cy="1112760"/>
          </a:xfrm>
          <a:prstGeom prst="wedgeRectCallout">
            <a:avLst>
              <a:gd name="adj1" fmla="val -23342"/>
              <a:gd name="adj2" fmla="val 6098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∙5=15(м) – этот п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5:3=5(мин) – бежит с о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да делимое и частное равны между соб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971640" y="4221000"/>
            <a:ext cx="7848360" cy="2303640"/>
          </a:xfrm>
          <a:prstGeom prst="wedgeRectCallout">
            <a:avLst>
              <a:gd name="adj1" fmla="val -33675"/>
              <a:gd name="adj2" fmla="val -1822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когда делимое равно делител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когда делимое равно нул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когда делитель равен едини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когда частное равно дел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Задача 5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60 листов книги имеют толщину 1 см. Какова толщина всех листов книги, если в ней 24 страницы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"/>
          <p:cNvSpPr/>
          <p:nvPr/>
        </p:nvSpPr>
        <p:spPr>
          <a:xfrm>
            <a:off x="971640" y="4076640"/>
            <a:ext cx="6769080" cy="1657440"/>
          </a:xfrm>
          <a:prstGeom prst="wedgeRectCallout">
            <a:avLst>
              <a:gd name="adj1" fmla="val -25750"/>
              <a:gd name="adj2" fmla="val -584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4:2=12(листов) – в кни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60:12=5(раз) – мен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см=10мм;   10:5=2(м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Задача 6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Папа может вскопать участок за 2 ч, а его сын Миша – за 4 ч. Какую часть участка они вскопают вместе за 1 ч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"/>
          <p:cNvSpPr/>
          <p:nvPr/>
        </p:nvSpPr>
        <p:spPr>
          <a:xfrm>
            <a:off x="1116000" y="4437000"/>
            <a:ext cx="7416720" cy="1728720"/>
          </a:xfrm>
          <a:prstGeom prst="wedgeRectCallout">
            <a:avLst>
              <a:gd name="adj1" fmla="val -22046"/>
              <a:gd name="adj2" fmla="val -766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½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¼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¾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участка), так как папа вскопает за 1 ч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½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участка, а сын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¼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уча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лово имеет латинское происхождение, означающее «лён, льняная нить, шнур, верёвка». Назовите это слово в том значении, в каком мы употребляем его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50920" y="5013360"/>
            <a:ext cx="8497800" cy="609480"/>
          </a:xfrm>
          <a:prstGeom prst="wedgeRectCallout">
            <a:avLst>
              <a:gd name="adj1" fmla="val -37462"/>
              <a:gd name="adj2" fmla="val 7005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прямая; б) линия; в) отрезок; г) лу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Захар ростом не выше Ильи, то каким он может быть ростом по сравнению с Ильё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79280" y="4365720"/>
            <a:ext cx="8353440" cy="1655640"/>
          </a:xfrm>
          <a:prstGeom prst="wedgeRectCallout">
            <a:avLst>
              <a:gd name="adj1" fmla="val -36393"/>
              <a:gd name="adj2" fmla="val -58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выше Ильи; б) ниже Иль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равен Илье; г) ниже или равен Ил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на этом чертеже различных треуголь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4284720" y="2852280"/>
            <a:ext cx="19429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227640" y="285264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284720" y="3645000"/>
            <a:ext cx="3262320" cy="73080"/>
          </a:xfrm>
          <a:custGeom>
            <a:avLst/>
            <a:gdLst/>
            <a:ahLst/>
            <a:rect l="l" t="t" r="r" b="b"/>
            <a:pathLst>
              <a:path w="2055" h="46">
                <a:moveTo>
                  <a:pt x="0" y="0"/>
                </a:moveTo>
                <a:lnTo>
                  <a:pt x="2055" y="4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284360" y="2997360"/>
            <a:ext cx="21589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284720" y="3144960"/>
            <a:ext cx="2378160" cy="500040"/>
          </a:xfrm>
          <a:custGeom>
            <a:avLst/>
            <a:gdLst/>
            <a:ahLst/>
            <a:rect l="l" t="t" r="r" b="b"/>
            <a:pathLst>
              <a:path w="1498" h="315">
                <a:moveTo>
                  <a:pt x="1498" y="0"/>
                </a:moveTo>
                <a:lnTo>
                  <a:pt x="0" y="31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286160" y="3355920"/>
            <a:ext cx="2676600" cy="289080"/>
          </a:xfrm>
          <a:custGeom>
            <a:avLst/>
            <a:gdLst/>
            <a:ahLst/>
            <a:rect l="l" t="t" r="r" b="b"/>
            <a:pathLst>
              <a:path w="1686" h="182">
                <a:moveTo>
                  <a:pt x="1686" y="0"/>
                </a:moveTo>
                <a:lnTo>
                  <a:pt x="0" y="1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258920" y="4653000"/>
            <a:ext cx="4537080" cy="609480"/>
          </a:xfrm>
          <a:prstGeom prst="wedgeRectCallout">
            <a:avLst>
              <a:gd name="adj1" fmla="val -48740"/>
              <a:gd name="adj2" fmla="val 7005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4;  б) 5;  в) 10;  г)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различных двузначных чисел можно записать, используя циф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5, 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332000" y="4292640"/>
            <a:ext cx="4103640" cy="609480"/>
          </a:xfrm>
          <a:prstGeom prst="wedgeRectCallout">
            <a:avLst>
              <a:gd name="adj1" fmla="val -48606"/>
              <a:gd name="adj2" fmla="val 7005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3; б) 5; в) 6; г)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6:04:43Z</dcterms:created>
  <dc:creator>Пользователь</dc:creator>
  <dc:description/>
  <dc:language>en-US</dc:language>
  <cp:lastModifiedBy>слушатель</cp:lastModifiedBy>
  <dcterms:modified xsi:type="dcterms:W3CDTF">2007-12-03T09:53:30Z</dcterms:modified>
  <cp:revision>9</cp:revision>
  <dc:subject/>
  <dc:title>I тур конкурса  «Великолепная шестёрка»</dc:title>
</cp:coreProperties>
</file>