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F84-25F3-40E7-AD38-E480BC45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9A5F-5C04-4DC1-874C-F8EE568E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AEB-485E-4A32-A9E9-66C43F03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F72E-DAC6-4286-BD6A-53FDE0E5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1A98-2503-4AD1-A931-5E726FF6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701F-E0B9-4E55-B813-AF1B7A62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BAC6-7E9D-45DB-82C3-21D20FD6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0EF3-F07A-4C4B-BCA5-E534E9B2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F509-0369-4EAA-8920-2E6A9789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13C1-A5F2-4735-9E56-890C400D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C35D-4D58-4384-BF55-F2B54FB8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AAE-ED2A-41C8-8491-4A16FC3D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5DAD-D3EA-40AD-B7F1-02CBB404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62C2-457F-4443-A47A-2CFBEFEF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6D5F-B440-43ED-B414-A33BCB96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C436-A4B9-4AB7-A703-E488C19A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AE3B-FA5B-4E0A-8074-87E04BAD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C9D-149C-44B2-9918-EE7AF00D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DCF6-41A5-4FA4-ACA1-45BDCB61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A687-F212-4225-A02C-B9860865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06D-5001-4A4E-B7A4-83D65A00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53D5-A616-4DE9-8AFD-1AA0B3EA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9C2-FE8A-4A72-85DF-B2AD957A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2FE2-C464-445B-8A5A-EE96F555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91C4-4D28-453F-BF12-23D0979F54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753F-7192-471A-BBF9-295BA96214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7;&#1091;&#1084;&#1084;&#1072;&#1059;&#1075;&#1083;&#1086;&#1074;&#1058;&#1088;&#1077;&#1091;&#1075;&#1086;&#1083;&#1100;&#1085;&#1080;&#1082;&#1072;.gs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43;&#1088;&#1072;&#1092;&#1080;&#1082;&#1057;&#1080;&#1085;&#1091;&#1089;&#1072;.gsp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умма   углов треугольник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орема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умма  углов треугольника равна 18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33240" y="115560"/>
            <a:ext cx="687096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казательство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1280" y="76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смотрим  треугольник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ведем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D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араллельн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гол 2 равен углу 5, угол 3 равен углу 4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гол 1 + Угол 2+ Угол 3 = 18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1908000" y="3573360"/>
            <a:ext cx="6046920" cy="245448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Пример треугольни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1476360" y="357336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4291560" y="35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477504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5364000" y="3573360"/>
            <a:ext cx="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2491200" y="5619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7171200" y="5619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1744560" y="60674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7954200" y="6018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4745160" y="3171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Box 11"/>
          <p:cNvSpPr/>
          <p:nvPr/>
        </p:nvSpPr>
        <p:spPr>
          <a:xfrm>
            <a:off x="6742440" y="31892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остроение графика функции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=sin(a*x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828440"/>
            <a:ext cx="7696080" cy="15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остроем график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=sin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, пр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1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Примеры график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=sin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 пр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=0.5,1,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Chart 4" descr=""/>
          <p:cNvPicPr/>
          <p:nvPr/>
        </p:nvPicPr>
        <p:blipFill>
          <a:blip r:embed="rId2"/>
          <a:stretch/>
        </p:blipFill>
        <p:spPr>
          <a:xfrm>
            <a:off x="2193840" y="3352680"/>
            <a:ext cx="4572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Kozyrev</cp:lastModifiedBy>
  <dcterms:modified xsi:type="dcterms:W3CDTF">2011-12-18T20:32:43Z</dcterms:modified>
  <cp:revision>9</cp:revision>
  <dc:subject/>
  <dc:title>PowerPoint Presentation</dc:title>
</cp:coreProperties>
</file>