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2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8.gif" ContentType="image/gif"/>
  <Override PartName="/ppt/media/image13.jpeg" ContentType="image/jpeg"/>
  <Override PartName="/ppt/media/image20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F0B4-7E49-412F-9CE7-B5E94DF9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C547-49FC-4297-B6D7-6BDEADC1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6669-2991-4946-B304-E237DC94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9599-CB81-40D0-BAA8-EE318F06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4C05-309B-4DFB-A166-437B7574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4C98-30B3-43A2-A7EC-023293A3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2F93-8B55-4A1D-AA1B-05ADFB9F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EA89-4A70-46D4-BAFD-BF5E15D5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6530-FE05-45EF-85FA-51AA4C23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0DEF-4685-449A-B55D-7391492C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4980-1520-4C5B-A209-90D731D6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A0C6-8276-48C1-BBE4-32672C54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69D8-08DC-4566-8CAF-CBE1D92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54BD-2BAD-43F4-8D3E-1BC634DA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5930-DB38-40B4-8CF7-B2BD5AD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8767-192B-444E-BAD9-62241BE2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ABD6-3A7F-4E78-AE78-3691F33F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4398-C0E0-4F1F-85BC-8BDFD7DA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2820-D514-41BE-AF75-A82F702A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9036-0903-41C5-A9CC-A13DAAAB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8B50-D535-4EAD-95BA-CE478FA2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116A-9FD9-4CB4-8842-B304E41C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EFC4-A9A1-4FC6-A968-614BFAE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66E8-410F-4B9A-889C-09A7203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DF7-5728-4B0F-980B-D97AF50DC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40E2-294D-4683-AEEB-1CE706589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18.gif"/><Relationship Id="rId13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цовский лицей №6 им. А.С.Пушкина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ерат на тему: «Многогранники и их применение в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злова Вер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Одинцово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а Эйл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68360" y="981000"/>
          <a:ext cx="8229600" cy="4608360"/>
        </p:xfrm>
        <a:graphic>
          <a:graphicData uri="http://schemas.openxmlformats.org/drawingml/2006/table">
            <a:tbl>
              <a:tblPr/>
              <a:tblGrid>
                <a:gridCol w="2674800"/>
                <a:gridCol w="1800360"/>
                <a:gridCol w="1871640"/>
                <a:gridCol w="1882800"/>
              </a:tblGrid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гранн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екаэд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осаэд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рамид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м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3419640" y="5949000"/>
            <a:ext cx="2879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-Р+Г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5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метрия тетраэ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аны тетраэдра пересекаются в одной точке и делятся в отношении 3:1, считая от вер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1700280"/>
            <a:ext cx="457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йства равногранного тетраэ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ный параллелепипед равногранного тетраэдра – прямоуго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трёхгранные углы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медианы (тетраэдра)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ысоты тетраэдра рав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ы вписанной и описанной сфер и центроид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ы описанных окружностей граней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ы граней рав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и граней равны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гранники в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2333520" y="2409840"/>
            <a:ext cx="285840" cy="5713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мнению пифагорейцев, атомы основных элементов должны иметь форму различных платоновых т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68360" y="1628640"/>
          <a:ext cx="4038480" cy="4492800"/>
        </p:xfrm>
        <a:graphic>
          <a:graphicData uri="http://schemas.openxmlformats.org/drawingml/2006/table">
            <a:tbl>
              <a:tblPr/>
              <a:tblGrid>
                <a:gridCol w="2016000"/>
                <a:gridCol w="202248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о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л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1332000" y="2565360"/>
            <a:ext cx="1152360" cy="6494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1332000" y="350028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1332000" y="4292640"/>
            <a:ext cx="1076400" cy="8096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6"/>
          <a:stretch/>
        </p:blipFill>
        <p:spPr>
          <a:xfrm>
            <a:off x="1332000" y="5229360"/>
            <a:ext cx="1081080" cy="7920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7"/>
          <a:stretch/>
        </p:blipFill>
        <p:spPr>
          <a:xfrm>
            <a:off x="3635280" y="1628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8"/>
          <a:stretch/>
        </p:blipFill>
        <p:spPr>
          <a:xfrm>
            <a:off x="3635280" y="2492280"/>
            <a:ext cx="865440" cy="936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9"/>
          <a:stretch/>
        </p:blipFill>
        <p:spPr>
          <a:xfrm>
            <a:off x="3635280" y="3429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0"/>
          <a:stretch/>
        </p:blipFill>
        <p:spPr>
          <a:xfrm>
            <a:off x="3635280" y="429264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1"/>
          <a:stretch/>
        </p:blipFill>
        <p:spPr>
          <a:xfrm>
            <a:off x="3635280" y="5229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2"/>
          <a:stretch/>
        </p:blipFill>
        <p:spPr>
          <a:xfrm>
            <a:off x="1763640" y="1773360"/>
            <a:ext cx="5018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гранники в искус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ьные геометрические тела - многогранники – имели особое очарование для голландского художника Эшера. В его многих работах многогранники являются главной фигурой и в еще большем количестве работ они встречаются в качестве вспомогательных элементов. На гравюре «Четыре тела» Эшер изобразил пересечение основных правильных многогранников, расположенных на одной оси симметрии, кроме этого многогранники выглядят полупрозрачными, и сквозь любой из них можно увидеть осталь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676440" y="1844640"/>
            <a:ext cx="3751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гранники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977080" cy="33559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гранники в быту пч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челы строят соты из шестиугольников (правильных многоугольников с одинаковой площадью, периметр которых наименьший). Стало быть, мудрые пчелы экономят воск и время для построения с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chely1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2521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5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094 0.04763 -0.19584 0.07422 -0.20487 0.11838 C -0.21389 0.16254 -0.15105 0.24694 -0.054 0.26428 C 0.04305 0.28162 0.29201 0.29387 0.37777 0.22197 C 0.46354 0.15006 0.52222 -0.1304 0.46024 -0.16694 C 0.39826 -0.20347 0.11093 -0.04763 0 0 Z">
                                      <p:cBhvr>
                                        <p:cTn id="409" dur="2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ма «Многогранники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дна из самых интересных тем геометрии. Эта тема имеет яркие приложения во всех отраслях знаний. В ней, по образному выражению академика А.Д.Александрова, сочет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Лёд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Пламя»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.е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ивое 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гая лог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68000" y="1268280"/>
            <a:ext cx="83516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овы и Архимедовы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здчатые многогра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а Эй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метрия тетраэ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гранники в повседневной жи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гранники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гранники в искус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гранники 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гранники в быту у пч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многогранни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1616040" cy="1584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огогранник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тело, граница которого состоит из много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гранник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пукл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 расположен по одну сторону от плоскости каждой свое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124000" y="4724280"/>
            <a:ext cx="1771560" cy="15811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324000" y="2637000"/>
            <a:ext cx="151128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11280" y="3713400"/>
            <a:ext cx="77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0088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пуклый многогра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авильны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если его грани – равные правильные многоугольники и двугранные углы при всех рёбрах равны между соб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0088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х многогранников всего 5: тетраэдр, гексаэдр, октаэдр, икосаэдр, додекаэ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20876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268000" y="332280"/>
            <a:ext cx="456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тоновы 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химедовы те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луправильные многогранн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rcRect l="2509" t="4593" r="21574" b="3281"/>
          <a:stretch/>
        </p:blipFill>
        <p:spPr>
          <a:xfrm>
            <a:off x="250920" y="1484280"/>
            <a:ext cx="5616360" cy="51847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012000" y="2147760"/>
            <a:ext cx="3394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т т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ываем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луправильны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ногогранник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рхимедов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е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13, кажд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правиль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 получае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тём усеч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ви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ездчатые многогра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51280" y="1700280"/>
            <a:ext cx="4835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вездчатые многогран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получаются из правильных многогранников продолжением граней или ребер. Всего их четыре: первые два обнаружил Кеплер, два других нашел французский математик Луи Пуансо. Именно поэтому правильные звездчатые многогранники называются телам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еплера-Пуансо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rcRect l="75766" t="4593" r="2509" b="3281"/>
          <a:stretch/>
        </p:blipFill>
        <p:spPr>
          <a:xfrm>
            <a:off x="1187280" y="1484280"/>
            <a:ext cx="187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звездчатых многогран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рисунке изображена оригинальная конструкция, выполненная В.Н.Гамаюновым и положенная в основу проекта административного здания в одном из итальянских город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rcRect l="0" t="0" r="0" b="4827"/>
          <a:stretch/>
        </p:blipFill>
        <p:spPr>
          <a:xfrm>
            <a:off x="826920" y="1773360"/>
            <a:ext cx="324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rcRect l="0" t="0" r="0" b="6420"/>
          <a:stretch/>
        </p:blipFill>
        <p:spPr>
          <a:xfrm>
            <a:off x="1258920" y="1341360"/>
            <a:ext cx="2305080" cy="244944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необычный многогранник «Звезда» В.Н.Гамаюнова  вдохновил архитектора В.А.Сомова на создание проекта Национальной библиотеки в Дама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024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ежинки – это звездчатые многогранн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29600" cy="45338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6659640" y="1989000"/>
            <a:ext cx="143964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3" name=""/>
          <p:cNvGraphicFramePr/>
          <p:nvPr/>
        </p:nvGraphicFramePr>
        <p:xfrm>
          <a:off x="0" y="0"/>
          <a:ext cx="182520" cy="90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1800" y="900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4067280" y="2421000"/>
            <a:ext cx="1439640" cy="136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7" name=""/>
          <p:cNvGraphicFramePr/>
          <p:nvPr/>
        </p:nvGraphicFramePr>
        <p:xfrm>
          <a:off x="0" y="2089080"/>
          <a:ext cx="182520" cy="830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"/>
          <p:cNvSpPr/>
          <p:nvPr/>
        </p:nvSpPr>
        <p:spPr>
          <a:xfrm>
            <a:off x="1800" y="29174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755640" y="2133720"/>
            <a:ext cx="15127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"/>
          <p:cNvGraphicFramePr/>
          <p:nvPr/>
        </p:nvGraphicFramePr>
        <p:xfrm>
          <a:off x="0" y="4106880"/>
          <a:ext cx="182520" cy="803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"/>
          <p:cNvSpPr/>
          <p:nvPr/>
        </p:nvSpPr>
        <p:spPr>
          <a:xfrm>
            <a:off x="1800" y="4908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>
            <a:off x="3132000" y="4437000"/>
            <a:ext cx="14893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5-17T11:19:28Z</dcterms:modified>
  <cp:revision>9</cp:revision>
  <dc:subject/>
  <dc:title>PowerPoint Presentation</dc:title>
</cp:coreProperties>
</file>