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D79-05C8-44D0-97A9-0CC16B4F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AC9-D9D0-4C82-845B-4C30AC27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2BC-319C-43C0-B148-67FF0A6D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035-F744-4E9B-A62D-F5889BE2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913B-2808-488B-B4D7-EE23D3D4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A129-42C4-4368-B543-B6354B55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881F-1BEB-422B-BA5C-E750705E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F446-BA35-4986-AA61-68AA50C2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C6A3-497F-42C0-B943-8805C5C6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7D7A-E05A-4130-BCA5-7FE1CC16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1D92-9BFC-43A0-ACD5-A2D670A2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A12-544C-47E8-ABD4-20C5A13D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7203-F5D7-45C9-AA82-41024B0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44FC-00A1-49F0-9A29-AC5D10D1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9D5F-80E5-4AA0-BF11-B20DE3A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F216-34D6-469F-AFD9-BABA1F15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A201-02CF-41F8-8D15-E0FC69C6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F2FF8-968A-4CDF-856D-563652809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6E4A-001C-4DFE-B8E6-057A95BC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E1E45-E864-4AC1-8C6C-906193F1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CE96-1828-470C-89DC-43113E26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6413-438C-4E05-8188-DD18723A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FEC-5FCF-47F9-9FB4-B004A38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7B9A-674D-4D31-B76D-A196F508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17132-44E1-4256-8C14-403102C3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76FBE-CC4A-417C-BC9C-4E7808ED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4E02E-C48E-4CA7-8319-8A70188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07BAB-8B62-40EF-B05D-53028CC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B3038-85E1-4621-B9B2-080DFF9C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A0B4-1D70-484A-B3DA-00510FF2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BFC04-3947-4F11-80A2-07CD12DF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0008A-720A-4CBC-9318-39825D2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B28AF-8120-4F99-A587-4A88453C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AFA-FB66-449A-ABE4-F1605D28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4E7E2-AE2F-4A49-BFDB-A7DFCEFC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0ED2C-739D-4CF0-AF61-8A1D2116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7EED-5EB0-478E-B1D1-87EC6F35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0D0C8-FD26-43E6-8BAE-B9909A0A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84A22-21E9-42CC-B7E1-A59F4196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96A79-A34A-4C94-9F19-70058EAE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6C073-B641-43E3-AC59-28A95B34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7E036-C848-4FE5-BDA5-0D8EA48A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1A1CC-DBFA-4028-A562-FBA38A44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084E0-64ED-4889-BACE-86FE023C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0BC-5D97-45F4-9183-89C775AD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10D1-B177-4753-8D48-3284EA5D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EC685-67FD-404B-87A6-90839C39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30882-E1A8-4394-AA26-433F7008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267C-DF63-434F-BE87-4D02F888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B6175-287B-4040-B882-DD30603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C7C36-6C57-4207-AA77-827E567A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7794E-2CEB-444C-AFBB-36C28EB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02EC0-3B58-4E1C-B762-5E67639E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A835-BD78-4A45-B530-2CB244FF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8E5C-0B7C-44BA-A756-4C3F73E9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EC3-D2A3-457B-BAE2-0626DAFC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AF917-50E7-4C39-ABDB-F9383F06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5771-C90A-407F-BE30-5936619E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AEE4E-D036-4332-AF93-BEEDB7DF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15D8C-6CD6-4330-92DF-34E49290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F463D-BCA3-4759-A68F-658474BC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C596-DE71-4A7E-A1DC-74723564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7F866-257A-4506-874A-ECF79D4E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5B9B7-DAF1-48B8-A8DB-D730EFEF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7F965-E496-49A3-8CBD-8F938F84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BD22-6995-4041-9C0A-952A5E72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23AD-DA15-4E0B-90A1-71F139E4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9BFFE-9EF5-4AA3-A085-057933D8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081E-6463-415B-B01B-0AA90491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689C0-637E-4F19-B210-BD4FA2D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7EC-6F92-43EE-83C8-4935135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6F7B-AF1B-4C40-AB93-88CDE94F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EAC1-CA90-4173-BB26-F79BE37A72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D98-5AB3-4F51-BF83-FFC3803A67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3C99-FC5C-42F9-BE79-AFC07EDDFE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8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4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5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88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89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91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9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2AD5-104B-44F6-87AD-48BAECBE03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2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46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2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56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00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9017-57AA-48F7-A80F-02FE3841BA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34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75F1-2DFC-4DF6-A03C-00405C9F2B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" Target="slide17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7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" Target="slide25.xml"/><Relationship Id="rId10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" Target="slide16.xml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ЕЗЕНТАЦИЯ К ОТКРЫТОМУ УРОКУ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ПО МАТЕМАТИКИ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В 6 КЛАССЕ ПО ТЕМЕ: «Нахождение дроби от числа и числа по его дроби».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205092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втор: Ковалькова Г.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Сведения госавтоинспек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За 9 месяцев по Московской области произошло </a:t>
            </a:r>
            <a:r>
              <a:rPr b="1" lang="en-US" sz="3000" spc="-1" strike="noStrike">
                <a:solidFill>
                  <a:srgbClr val="00cc00"/>
                </a:solidFill>
                <a:latin typeface="Arial"/>
              </a:rPr>
              <a:t>10862 ДТП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Погибло – 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126 </a:t>
            </a: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 человек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из них –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58 детей</a:t>
            </a: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Ранено 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13510 </a:t>
            </a: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человек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996633"/>
                </a:solidFill>
                <a:latin typeface="Arial"/>
              </a:rPr>
              <a:t>из них – </a:t>
            </a:r>
            <a:r>
              <a:rPr b="1" lang="en-US" sz="3000" spc="-1" strike="noStrike" u="sng">
                <a:solidFill>
                  <a:srgbClr val="ff3300"/>
                </a:solidFill>
                <a:uFillTx/>
                <a:latin typeface="Arial"/>
              </a:rPr>
              <a:t>968 детей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5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796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25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250"/>
                            </p:stCondLst>
                            <p:childTnLst>
                              <p:par>
                                <p:cTn id="1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5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325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4976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погибло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4586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00"/>
                </a:solidFill>
                <a:latin typeface="Arial"/>
              </a:rPr>
              <a:t>58 детей</a:t>
            </a:r>
            <a:r>
              <a:rPr b="0" lang="en-US" sz="5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4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4717080" y="6093000"/>
            <a:ext cx="3630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1" action="ppaction://hlinksldjump"/>
              </a:rPr>
              <a:t>СОСТАВИТЬ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icrosoft Sans Serif"/>
              </a:rPr>
              <a:t>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2" action="ppaction://hlinksldjump"/>
              </a:rPr>
              <a:t>КРАТКУЮ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icrosoft Sans Serif"/>
              </a:rPr>
              <a:t>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3" action="ppaction://hlinksldjump"/>
              </a:rPr>
              <a:t>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3000" fill="hold"/>
                                        <p:tgtEl>
                                          <p:spTgt spid="4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1" dur="3000" fill="hold"/>
                                        <p:tgtEl>
                                          <p:spTgt spid="4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124000" y="2421000"/>
          <a:ext cx="41054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421000"/>
                    <a:ext cx="4105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4932360" y="285264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3645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886480" y="6093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322360" y="5661000"/>
            <a:ext cx="114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1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3" action="ppaction://hlinksldjump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706720" y="5661000"/>
            <a:ext cx="114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2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4" action="ppaction://hlinksldjump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85040" y="508464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Решите задачу №1 двумя спос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4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задача № 2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Из 120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не  всегда  соблюдают           оставш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</a:rPr>
              <a:t>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0080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0080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43280" y="3213000"/>
                <a:ext cx="43200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не  всегда  соблюда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5724360" y="2492280"/>
                <a:ext cx="6303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500364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292720" y="35733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Microsoft Sans Serif"/>
              </a:rPr>
              <a:t>всех   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34320" y="357336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00"/>
                </a:solidFill>
                <a:uFillTx/>
                <a:latin typeface="Microsoft Sans Serif"/>
              </a:rPr>
              <a:t>оставшихся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3200" y="338040"/>
            <a:ext cx="75438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Задача № 2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45440" y="602136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3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126e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24000" y="2727360"/>
          <a:ext cx="4105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27360"/>
                    <a:ext cx="4105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3132000" y="314172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6836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500720" y="2797200"/>
          <a:ext cx="4176720" cy="21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97200"/>
                    <a:ext cx="417672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738036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43640" y="4005360"/>
            <a:ext cx="792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42764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5560" y="5661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468320" y="5661000"/>
            <a:ext cx="37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63 ученика выполняют   ПД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5" action="ppaction://hlinksldjump"/>
          </p:cNvPr>
          <p:cNvSpPr/>
          <p:nvPr/>
        </p:nvSpPr>
        <p:spPr>
          <a:xfrm>
            <a:off x="8244000" y="5950080"/>
            <a:ext cx="663480" cy="626760"/>
          </a:xfrm>
          <a:custGeom>
            <a:avLst/>
            <a:gdLst>
              <a:gd name="textAreaLeft" fmla="*/ 273240 w 663480"/>
              <a:gd name="textAreaRight" fmla="*/ 390240 w 663480"/>
              <a:gd name="textAreaTop" fmla="*/ 258120 h 626760"/>
              <a:gd name="textAreaBottom" fmla="*/ 368640 h 62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6" action="ppaction://hlinksldjump"/>
          </p:cNvPr>
          <p:cNvSpPr/>
          <p:nvPr/>
        </p:nvSpPr>
        <p:spPr>
          <a:xfrm>
            <a:off x="6012720" y="5246640"/>
            <a:ext cx="128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7" action="ppaction://hlinksldjump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2000" y="6308640"/>
            <a:ext cx="114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1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8" action="ppaction://hlinksldjump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38360" y="6308640"/>
            <a:ext cx="114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2 </a:t>
            </a:r>
            <a:r>
              <a:rPr b="0" lang="en-US" sz="1800" spc="-1" strike="noStrike" u="sng">
                <a:solidFill>
                  <a:srgbClr val="7e9ce8"/>
                </a:solidFill>
                <a:uFillTx/>
                <a:latin typeface="Microsoft Sans Serif"/>
                <a:hlinkClick r:id="rId9" action="ppaction://hlinksldjump"/>
              </a:rPr>
              <a:t>спос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4" dur="2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9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63640" y="2060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Домашнее 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5640" y="3213000"/>
            <a:ext cx="74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Решить  задачу 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другим способом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68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ff"/>
                </a:solidFill>
                <a:latin typeface="Arial"/>
              </a:rPr>
              <a:t>Нарушения, которые чаще всего допускают дети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43876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Переход улицы перед близко движущимся транспортом – 2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90752"/>
                </a:solidFill>
                <a:latin typeface="Arial"/>
              </a:rPr>
              <a:t>Переход улицы на красный сигнал светофора – 2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Невнимательность при переходе улицы – 17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Неожиданный выход из-за транспортных средств - 9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77777"/>
                </a:solidFill>
                <a:latin typeface="Arial"/>
              </a:rPr>
              <a:t>Игры на проезжей части-2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170240" y="1557360"/>
          <a:ext cx="49928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0240" y="1557360"/>
                    <a:ext cx="49928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900"/>
                            </p:stCondLst>
                            <p:childTnLst>
                              <p:par>
                                <p:cTn id="439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1400"/>
                            </p:stCondLst>
                            <p:childTnLst>
                              <p:par>
                                <p:cTn id="446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700"/>
                            </p:stCondLst>
                            <p:childTnLst>
                              <p:par>
                                <p:cTn id="453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300"/>
                            </p:stCondLst>
                            <p:childTnLst>
                              <p:par>
                                <p:cTn id="460" nodeType="afterEffect" fill="hold" presetClass="entr" presetID="4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0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543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ШЕНИЕ ЗАДАЧ</a:t>
            </a:r>
            <a:br>
              <a:rPr sz="4000"/>
            </a:b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НАХОЖДЕНИЕ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 ДРОБИ ОТ ЧИСЛА 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И ЧИСЛА ПО ЕГО ДРОБИ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0920" y="3068280"/>
            <a:ext cx="7543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«НАХОЖДЕНИЕ</a:t>
            </a:r>
            <a:br>
              <a:rPr sz="4800"/>
            </a:b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 ДРОБИ ОТ ЧИСЛА </a:t>
            </a:r>
            <a:br>
              <a:rPr sz="4800"/>
            </a:br>
            <a:r>
              <a:rPr b="0" i="1" lang="ru-RU" sz="4800" spc="-1" strike="noStrike">
                <a:solidFill>
                  <a:srgbClr val="cc0066"/>
                </a:solidFill>
                <a:latin typeface="Comic Sans MS"/>
              </a:rPr>
              <a:t>И ЧИСЛА ПО ЕГО ДРОБИ»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26920" y="765000"/>
            <a:ext cx="5834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шение  зада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en-US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817560" y="558972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Ответ</a:t>
            </a: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52680" y="20628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Составить к задаче №1 обратную зад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Задача №1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Из </a:t>
            </a:r>
            <a:r>
              <a:rPr b="0" lang="en-US" sz="26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опрошенных школьников не выполня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правила дорожного движения           учащихся 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не  всегда  соблюдают           всех учащихс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колько детей выполняют ПДД, если он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составляют остальную часть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724360" y="2565360"/>
                <a:ext cx="630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4643280" y="3429000"/>
                <a:ext cx="432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890640" y="5589720"/>
            <a:ext cx="490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Ответ</a:t>
            </a:r>
            <a:r>
              <a:rPr b="1" lang="en-US" sz="2000" spc="-1" strike="noStrike">
                <a:solidFill>
                  <a:srgbClr val="000000"/>
                </a:solidFill>
                <a:latin typeface="Microsoft Sans Serif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90640" y="5661000"/>
            <a:ext cx="4900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55640" y="5300640"/>
            <a:ext cx="51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Сколько детей было опрош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e9ce8"/>
                </a:solidFill>
                <a:latin typeface="Arial"/>
              </a:rPr>
              <a:t>Обратная  задач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21280" y="6254640"/>
            <a:ext cx="36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СОСТАВИТЬ КРАТКУЮ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8" dur="5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1" dur="5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77 -0.02406 L -0.02275 -0.22346 E">
                                      <p:cBhvr>
                                        <p:cTn id="501" dur="2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cc00"/>
                </a:solidFill>
                <a:latin typeface="Arial"/>
              </a:rPr>
              <a:t>КРАТКАЯ ЗАПИСЬ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11280" y="1719360"/>
            <a:ext cx="44751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братная задач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24000" y="2749680"/>
          <a:ext cx="410508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749680"/>
                    <a:ext cx="410508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3132000" y="314172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268360" y="40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716360" y="2687760"/>
          <a:ext cx="3413160" cy="23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687760"/>
                    <a:ext cx="34131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380360" y="3141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43640" y="3789360"/>
            <a:ext cx="1152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427640" y="1484280"/>
            <a:ext cx="0" cy="537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5560" y="5661000"/>
            <a:ext cx="37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54 ученика выполняют   ПДД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477320" y="5734080"/>
            <a:ext cx="31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Отв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120 учеников опрошено</a:t>
            </a: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46440" y="5084640"/>
            <a:ext cx="159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1d06"/>
                </a:solidFill>
                <a:latin typeface="Microsoft Sans Serif"/>
              </a:rPr>
              <a:t>КАК 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1d06"/>
                </a:solidFill>
                <a:latin typeface="Microsoft Sans Serif"/>
              </a:rPr>
              <a:t>РЕ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1d06"/>
                </a:solidFill>
                <a:latin typeface="Microsoft Sans Serif"/>
              </a:rPr>
              <a:t>ЗАДАЧ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3" name=""/>
          <p:cNvGraphicFramePr/>
          <p:nvPr/>
        </p:nvGraphicFramePr>
        <p:xfrm>
          <a:off x="3564000" y="3573360"/>
          <a:ext cx="166824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166824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26560" y="2133360"/>
            <a:ext cx="797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Придумайте  задачу заданного типа, используя данны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и решите ее любым способом.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124000" y="549360"/>
            <a:ext cx="45338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дание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7" name="">
            <a:hlinkClick r:id="rId3" action="ppaction://hlinksldjump"/>
          </p:cNvPr>
          <p:cNvSpPr/>
          <p:nvPr/>
        </p:nvSpPr>
        <p:spPr>
          <a:xfrm>
            <a:off x="8675640" y="5950080"/>
            <a:ext cx="468360" cy="57600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576000"/>
              <a:gd name="textAreaBottom" fmla="*/ 545760 h 576000"/>
            </a:gdLst>
            <a:ahLst/>
            <a:rect l="textAreaLeft" t="textAreaTop" r="textAreaRight" b="textAreaBottom"/>
            <a:pathLst>
              <a:path w="21600" h="26560">
                <a:moveTo>
                  <a:pt x="0" y="0"/>
                </a:moveTo>
                <a:lnTo>
                  <a:pt x="21600" y="0"/>
                </a:lnTo>
                <a:lnTo>
                  <a:pt x="21600" y="26560"/>
                </a:lnTo>
                <a:lnTo>
                  <a:pt x="0" y="26560"/>
                </a:lnTo>
                <a:close/>
              </a:path>
              <a:path fill="lightenLess" w="21600" h="265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0">
                <a:moveTo>
                  <a:pt x="21600" y="0"/>
                </a:moveTo>
                <a:lnTo>
                  <a:pt x="21600" y="26560"/>
                </a:lnTo>
                <a:lnTo>
                  <a:pt x="20200" y="25160"/>
                </a:lnTo>
                <a:lnTo>
                  <a:pt x="20200" y="1400"/>
                </a:lnTo>
                <a:close/>
              </a:path>
              <a:path fill="darkenLess" w="21600" h="26560">
                <a:moveTo>
                  <a:pt x="21600" y="26560"/>
                </a:moveTo>
                <a:lnTo>
                  <a:pt x="0" y="26560"/>
                </a:lnTo>
                <a:lnTo>
                  <a:pt x="1400" y="25160"/>
                </a:lnTo>
                <a:lnTo>
                  <a:pt x="20200" y="25160"/>
                </a:lnTo>
                <a:close/>
              </a:path>
              <a:path fill="lighten" w="21600" h="26560">
                <a:moveTo>
                  <a:pt x="0" y="265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0"/>
                </a:lnTo>
                <a:close/>
              </a:path>
              <a:path fill="darken" w="21600" h="26560">
                <a:moveTo>
                  <a:pt x="14299" y="13280"/>
                </a:moveTo>
                <a:lnTo>
                  <a:pt x="3794" y="20287"/>
                </a:lnTo>
                <a:lnTo>
                  <a:pt x="3794" y="6274"/>
                </a:lnTo>
                <a:close/>
              </a:path>
              <a:path fill="darken" w="21600" h="26560">
                <a:moveTo>
                  <a:pt x="16144" y="6274"/>
                </a:moveTo>
                <a:lnTo>
                  <a:pt x="16144" y="20287"/>
                </a:lnTo>
                <a:lnTo>
                  <a:pt x="17806" y="20287"/>
                </a:lnTo>
                <a:lnTo>
                  <a:pt x="17806" y="627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6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5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68000" y="765000"/>
            <a:ext cx="4027320" cy="27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a1d06"/>
                </a:solidFill>
                <a:latin typeface="Arial"/>
              </a:rPr>
              <a:t>Задача№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Ответ:1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95640" y="764640"/>
            <a:ext cx="468648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Задача №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Ответ:2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556000" y="3789360"/>
            <a:ext cx="403848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8000"/>
                </a:solidFill>
                <a:latin typeface="Arial"/>
              </a:rPr>
              <a:t>Задача №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Ответ:400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5237280" y="1595520"/>
          <a:ext cx="2401920" cy="15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7280" y="1595520"/>
                    <a:ext cx="2401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3059280" y="4292640"/>
          <a:ext cx="23666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4292640"/>
                    <a:ext cx="23666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"/>
          <p:cNvSpPr/>
          <p:nvPr/>
        </p:nvSpPr>
        <p:spPr>
          <a:xfrm>
            <a:off x="2268360" y="1773360"/>
            <a:ext cx="35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2400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88000" y="191628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88000" y="2565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3280" y="4581360"/>
            <a:ext cx="43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0072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76360" y="-151560"/>
            <a:ext cx="652464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7348680" y="4002120"/>
          <a:ext cx="1315800" cy="2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48680" y="4002120"/>
                    <a:ext cx="1315800" cy="2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685800" y="1413000"/>
          <a:ext cx="2508120" cy="198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1413000"/>
                    <a:ext cx="250812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>
            <a:hlinkClick r:id="rId9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197280 w 865080"/>
              <a:gd name="textAreaRight" fmla="*/ 667800 w 865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Sans Serif"/>
              </a:rPr>
              <a:t>Бо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20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0"/>
                            </p:stCondLst>
                            <p:childTnLst>
                              <p:par>
                                <p:cTn id="5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0" dur="20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6000"/>
                            </p:stCondLst>
                            <p:childTnLst>
                              <p:par>
                                <p:cTn id="5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20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9528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622764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1.Главная автомагистра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2.Штрихи на дороге, обозначающие пешеходный пере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3.Дорога для пеше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.Край дор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5.Пересечение двух ул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6.Сотрудник милиции, работающий на дор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7.Место ожидания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8.Наказание за нарушение ПД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940000" y="1557360"/>
            <a:ext cx="2746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1.Шо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2.Зеб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3.Троту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4.Обоч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5.Перекре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6.Регулировщ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7.Останов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8.Штра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340000" y="549360"/>
            <a:ext cx="3519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2" name="">
            <a:hlinkClick r:id="rId1" action="ppaction://hlinksldjump"/>
          </p:cNvPr>
          <p:cNvSpPr/>
          <p:nvPr/>
        </p:nvSpPr>
        <p:spPr>
          <a:xfrm>
            <a:off x="8388360" y="6165720"/>
            <a:ext cx="755640" cy="567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567000"/>
              <a:gd name="textAreaBottom" fmla="*/ 530280 h 567000"/>
            </a:gdLst>
            <a:ahLst/>
            <a:rect l="textAreaLeft" t="textAreaTop" r="textAreaRight" b="textAreaBottom"/>
            <a:pathLst>
              <a:path w="28782" h="21600">
                <a:moveTo>
                  <a:pt x="0" y="0"/>
                </a:moveTo>
                <a:lnTo>
                  <a:pt x="28782" y="0"/>
                </a:lnTo>
                <a:lnTo>
                  <a:pt x="28782" y="21600"/>
                </a:lnTo>
                <a:lnTo>
                  <a:pt x="0" y="21600"/>
                </a:lnTo>
                <a:close/>
              </a:path>
              <a:path fill="lightenLess" w="28782" h="21600">
                <a:moveTo>
                  <a:pt x="0" y="0"/>
                </a:moveTo>
                <a:lnTo>
                  <a:pt x="28782" y="0"/>
                </a:lnTo>
                <a:lnTo>
                  <a:pt x="27382" y="1400"/>
                </a:lnTo>
                <a:lnTo>
                  <a:pt x="1400" y="1400"/>
                </a:lnTo>
                <a:close/>
              </a:path>
              <a:path fill="darken" w="28782" h="21600">
                <a:moveTo>
                  <a:pt x="28782" y="0"/>
                </a:moveTo>
                <a:lnTo>
                  <a:pt x="28782" y="21600"/>
                </a:lnTo>
                <a:lnTo>
                  <a:pt x="27382" y="20200"/>
                </a:lnTo>
                <a:lnTo>
                  <a:pt x="27382" y="1400"/>
                </a:lnTo>
                <a:close/>
              </a:path>
              <a:path fill="darkenLess" w="28782" h="21600">
                <a:moveTo>
                  <a:pt x="28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2" y="20200"/>
                </a:lnTo>
                <a:close/>
              </a:path>
              <a:path fill="lighten" w="28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2" h="21600">
                <a:moveTo>
                  <a:pt x="17890" y="10800"/>
                </a:moveTo>
                <a:lnTo>
                  <a:pt x="7384" y="17806"/>
                </a:lnTo>
                <a:lnTo>
                  <a:pt x="7384" y="3794"/>
                </a:lnTo>
                <a:close/>
              </a:path>
              <a:path fill="darken" w="28782" h="21600">
                <a:moveTo>
                  <a:pt x="19735" y="3794"/>
                </a:moveTo>
                <a:lnTo>
                  <a:pt x="19735" y="17806"/>
                </a:lnTo>
                <a:lnTo>
                  <a:pt x="21397" y="17806"/>
                </a:lnTo>
                <a:lnTo>
                  <a:pt x="21397" y="3794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8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755640" y="1628640"/>
            <a:ext cx="7993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4437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66"/>
                </a:solidFill>
                <a:latin typeface="Arial"/>
              </a:rPr>
              <a:t>Решение задачи №1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1 способ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566640" y="2948040"/>
          <a:ext cx="695808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2948040"/>
                    <a:ext cx="695808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671400" y="1924200"/>
          <a:ext cx="60008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1924200"/>
                    <a:ext cx="60008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611280" y="4005360"/>
          <a:ext cx="68403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005360"/>
                    <a:ext cx="684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Ответ: 54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8820000" y="6308640"/>
            <a:ext cx="324000" cy="360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21">
                <a:moveTo>
                  <a:pt x="0" y="0"/>
                </a:moveTo>
                <a:lnTo>
                  <a:pt x="21600" y="0"/>
                </a:lnTo>
                <a:lnTo>
                  <a:pt x="21600" y="24021"/>
                </a:lnTo>
                <a:lnTo>
                  <a:pt x="0" y="24021"/>
                </a:lnTo>
                <a:close/>
              </a:path>
              <a:path fill="lightenLess" w="21600" h="240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21">
                <a:moveTo>
                  <a:pt x="21600" y="0"/>
                </a:moveTo>
                <a:lnTo>
                  <a:pt x="21600" y="24021"/>
                </a:lnTo>
                <a:lnTo>
                  <a:pt x="20200" y="22621"/>
                </a:lnTo>
                <a:lnTo>
                  <a:pt x="20200" y="1400"/>
                </a:lnTo>
                <a:close/>
              </a:path>
              <a:path fill="darkenLess" w="21600" h="24021">
                <a:moveTo>
                  <a:pt x="21600" y="24021"/>
                </a:moveTo>
                <a:lnTo>
                  <a:pt x="0" y="24021"/>
                </a:lnTo>
                <a:lnTo>
                  <a:pt x="1400" y="22621"/>
                </a:lnTo>
                <a:lnTo>
                  <a:pt x="20200" y="22621"/>
                </a:lnTo>
                <a:close/>
              </a:path>
              <a:path fill="lighten" w="21600" h="24021">
                <a:moveTo>
                  <a:pt x="0" y="240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21"/>
                </a:lnTo>
                <a:close/>
              </a:path>
              <a:path fill="darken" w="21600" h="24021">
                <a:moveTo>
                  <a:pt x="3794" y="8703"/>
                </a:moveTo>
                <a:lnTo>
                  <a:pt x="7301" y="8703"/>
                </a:lnTo>
                <a:lnTo>
                  <a:pt x="7301" y="14039"/>
                </a:lnTo>
                <a:cubicBezTo>
                  <a:pt x="7301" y="14961"/>
                  <a:pt x="8102" y="15692"/>
                  <a:pt x="9138" y="15692"/>
                </a:cubicBezTo>
                <a:lnTo>
                  <a:pt x="10800" y="15692"/>
                </a:lnTo>
                <a:cubicBezTo>
                  <a:pt x="11836" y="15692"/>
                  <a:pt x="12636" y="14961"/>
                  <a:pt x="12636" y="14039"/>
                </a:cubicBezTo>
                <a:lnTo>
                  <a:pt x="12636" y="8703"/>
                </a:lnTo>
                <a:lnTo>
                  <a:pt x="10800" y="8703"/>
                </a:lnTo>
                <a:lnTo>
                  <a:pt x="14308" y="5196"/>
                </a:lnTo>
                <a:lnTo>
                  <a:pt x="17981" y="8703"/>
                </a:lnTo>
                <a:lnTo>
                  <a:pt x="16144" y="8703"/>
                </a:lnTo>
                <a:lnTo>
                  <a:pt x="16144" y="14039"/>
                </a:lnTo>
                <a:cubicBezTo>
                  <a:pt x="16144" y="16806"/>
                  <a:pt x="13568" y="19365"/>
                  <a:pt x="10800" y="19365"/>
                </a:cubicBezTo>
                <a:lnTo>
                  <a:pt x="9138" y="19365"/>
                </a:lnTo>
                <a:cubicBezTo>
                  <a:pt x="6370" y="19365"/>
                  <a:pt x="3794" y="16806"/>
                  <a:pt x="3794" y="14039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66"/>
                </a:solidFill>
                <a:latin typeface="Arial"/>
              </a:rPr>
              <a:t>Решение задачи №1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(2 способ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39640" y="3357720"/>
          <a:ext cx="648036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57720"/>
                    <a:ext cx="648036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539640" y="2108160"/>
          <a:ext cx="828036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08160"/>
                    <a:ext cx="82803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684360" y="515772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Ответ: 54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previousslide"/>
          </p:cNvPr>
          <p:cNvSpPr/>
          <p:nvPr/>
        </p:nvSpPr>
        <p:spPr>
          <a:xfrm>
            <a:off x="8604360" y="623736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3300"/>
                </a:solidFill>
                <a:latin typeface="Arial"/>
              </a:rPr>
              <a:t>Решение задачи №2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611280" y="2851200"/>
          <a:ext cx="64800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851200"/>
                    <a:ext cx="64800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684360" y="1268280"/>
          <a:ext cx="59227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268280"/>
                    <a:ext cx="59227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4360" y="2276640"/>
          <a:ext cx="7705440" cy="36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2276640"/>
                    <a:ext cx="77054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684360" y="3789360"/>
          <a:ext cx="55591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789360"/>
                    <a:ext cx="55591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468360" y="566100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Ответ:63 человека выполняют ПД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rId9" action="ppaction://hlinksldjump"/>
          </p:cNvPr>
          <p:cNvSpPr/>
          <p:nvPr/>
        </p:nvSpPr>
        <p:spPr>
          <a:xfrm>
            <a:off x="8604360" y="6093000"/>
            <a:ext cx="539640" cy="566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66640"/>
              <a:gd name="textAreaBottom" fmla="*/ 531720 h 566640"/>
            </a:gdLst>
            <a:ahLst/>
            <a:rect l="textAreaLeft" t="textAreaTop" r="textAreaRight" b="textAreaBottom"/>
            <a:pathLst>
              <a:path w="21600" h="22680">
                <a:moveTo>
                  <a:pt x="0" y="0"/>
                </a:moveTo>
                <a:lnTo>
                  <a:pt x="21600" y="0"/>
                </a:lnTo>
                <a:lnTo>
                  <a:pt x="21600" y="22680"/>
                </a:lnTo>
                <a:lnTo>
                  <a:pt x="0" y="22680"/>
                </a:lnTo>
                <a:close/>
              </a:path>
              <a:path fill="lightenLess" w="21600" h="226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80">
                <a:moveTo>
                  <a:pt x="21600" y="0"/>
                </a:moveTo>
                <a:lnTo>
                  <a:pt x="21600" y="22680"/>
                </a:lnTo>
                <a:lnTo>
                  <a:pt x="20200" y="21280"/>
                </a:lnTo>
                <a:lnTo>
                  <a:pt x="20200" y="1400"/>
                </a:lnTo>
                <a:close/>
              </a:path>
              <a:path fill="darkenLess" w="21600" h="22680">
                <a:moveTo>
                  <a:pt x="21600" y="22680"/>
                </a:moveTo>
                <a:lnTo>
                  <a:pt x="0" y="22680"/>
                </a:lnTo>
                <a:lnTo>
                  <a:pt x="1400" y="21280"/>
                </a:lnTo>
                <a:lnTo>
                  <a:pt x="20200" y="21280"/>
                </a:lnTo>
                <a:close/>
              </a:path>
              <a:path fill="lighten" w="21600" h="22680">
                <a:moveTo>
                  <a:pt x="0" y="226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80"/>
                </a:lnTo>
                <a:close/>
              </a:path>
              <a:path fill="darken" w="21600" h="22680">
                <a:moveTo>
                  <a:pt x="3794" y="8033"/>
                </a:moveTo>
                <a:lnTo>
                  <a:pt x="7301" y="8033"/>
                </a:lnTo>
                <a:lnTo>
                  <a:pt x="7301" y="13368"/>
                </a:lnTo>
                <a:cubicBezTo>
                  <a:pt x="7301" y="14291"/>
                  <a:pt x="8102" y="15022"/>
                  <a:pt x="9138" y="15022"/>
                </a:cubicBezTo>
                <a:lnTo>
                  <a:pt x="10800" y="15022"/>
                </a:lnTo>
                <a:cubicBezTo>
                  <a:pt x="11836" y="15022"/>
                  <a:pt x="12636" y="14291"/>
                  <a:pt x="12636" y="13368"/>
                </a:cubicBezTo>
                <a:lnTo>
                  <a:pt x="12636" y="8033"/>
                </a:lnTo>
                <a:lnTo>
                  <a:pt x="10800" y="8033"/>
                </a:lnTo>
                <a:lnTo>
                  <a:pt x="14308" y="4525"/>
                </a:lnTo>
                <a:lnTo>
                  <a:pt x="17981" y="8033"/>
                </a:lnTo>
                <a:lnTo>
                  <a:pt x="16144" y="8033"/>
                </a:lnTo>
                <a:lnTo>
                  <a:pt x="16144" y="13368"/>
                </a:lnTo>
                <a:cubicBezTo>
                  <a:pt x="16144" y="16136"/>
                  <a:pt x="13568" y="18695"/>
                  <a:pt x="10800" y="18695"/>
                </a:cubicBezTo>
                <a:lnTo>
                  <a:pt x="9138" y="18695"/>
                </a:lnTo>
                <a:cubicBezTo>
                  <a:pt x="6370" y="18695"/>
                  <a:pt x="3794" y="16136"/>
                  <a:pt x="3794" y="1336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7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cc"/>
                </a:solidFill>
                <a:latin typeface="Arial"/>
              </a:rPr>
              <a:t>дробь от чис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ужно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умножит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число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эту дроб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тобы най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cc00"/>
                </a:solidFill>
                <a:latin typeface="Arial"/>
              </a:rPr>
              <a:t>Число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о данном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значению его дроб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до это знач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разделит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дроб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332000" y="260280"/>
            <a:ext cx="5473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c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c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20"/>
                            </p:stCondLst>
                            <p:childTnLst>
                              <p:par>
                                <p:cTn id="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46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80"/>
                            </p:stCondLst>
                            <p:childTnLst>
                              <p:par>
                                <p:cTn id="78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180"/>
                            </p:stCondLst>
                            <p:childTnLst>
                              <p:par>
                                <p:cTn id="8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75438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Прочитай задачи и определи: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к какому виду они относятся.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124000" y="549360"/>
            <a:ext cx="45338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минка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-7812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640" y="404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 дачном поселке </a:t>
            </a:r>
            <a:r>
              <a:rPr b="0" i="1" lang="en-US" sz="4000" spc="-1" strike="noStrike">
                <a:solidFill>
                  <a:srgbClr val="008000"/>
                </a:solidFill>
                <a:latin typeface="Arial"/>
              </a:rPr>
              <a:t>30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ом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т всех домов -двухэтажны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колько двухэтажных дом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042920" y="1413000"/>
                <a:ext cx="530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55840" y="5319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4360" y="3789360"/>
                <a:ext cx="8064360" cy="22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домо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двухэтажны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дом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23760" y="620640"/>
            <a:ext cx="82202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В конюшне стоят лошад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0,2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всех лошадей - воро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олько лошадей  в конюшне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если вороных в ней 14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3429000"/>
            <a:ext cx="84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Microsoft Sans Serif"/>
              </a:rPr>
              <a:t>:0,2=140:2=70 (лошадей)-в конюш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crosoft Sans Serif"/>
              </a:rPr>
              <a:t>Ответ: 70 лоша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-151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В 6 классе </a:t>
            </a:r>
            <a:r>
              <a:rPr b="0" i="1" lang="en-US" sz="4000" spc="-1" strike="noStrike">
                <a:solidFill>
                  <a:srgbClr val="0000ff"/>
                </a:solidFill>
                <a:latin typeface="Arial"/>
              </a:rPr>
              <a:t>25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учащихся. Девочки составляют  0,8 всех учащихс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колько в классе мальчик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84200" y="524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68360" y="3933720"/>
                <a:ext cx="828036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r>
                          <m:t xml:space="preserve">0,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мальчиков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ласс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Ответ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альчиков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-151560"/>
            <a:ext cx="7543800" cy="6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640" y="475920"/>
            <a:ext cx="82202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От трубы отрезали 6 метр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что составляет           длины вс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труб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996633"/>
                </a:solidFill>
                <a:latin typeface="Arial"/>
              </a:rPr>
              <a:t>Найдите длину труб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572000" y="1052640"/>
                <a:ext cx="7556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7" name=""/>
          <p:cNvGraphicFramePr/>
          <p:nvPr/>
        </p:nvGraphicFramePr>
        <p:xfrm>
          <a:off x="395280" y="3645000"/>
          <a:ext cx="856944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645000"/>
                    <a:ext cx="856944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75438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cc00"/>
                </a:solidFill>
                <a:latin typeface="Arial"/>
              </a:rPr>
              <a:t>РЕШЕНИЕ ЗАДАЧ</a:t>
            </a:r>
            <a:br>
              <a:rPr sz="4000"/>
            </a:b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НАХОЖДЕНИЕ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 ДРОБИ ОТ ЧИСЛА </a:t>
            </a:r>
            <a:br>
              <a:rPr sz="4300"/>
            </a:br>
            <a:r>
              <a:rPr b="1" i="1" lang="ru-RU" sz="4300" spc="-1" strike="noStrike">
                <a:solidFill>
                  <a:srgbClr val="ff3300"/>
                </a:solidFill>
                <a:latin typeface="Arial"/>
              </a:rPr>
              <a:t>И ЧИСЛА ПО ЕГО ДРОБИ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1:37:03Z</dcterms:created>
  <dc:creator>ksucha</dc:creator>
  <dc:description/>
  <dc:language>en-US</dc:language>
  <cp:lastModifiedBy>user</cp:lastModifiedBy>
  <dcterms:modified xsi:type="dcterms:W3CDTF">2008-05-18T18:41:21Z</dcterms:modified>
  <cp:revision>23</cp:revision>
  <dc:subject/>
  <dc:title>Слайд 1</dc:title>
</cp:coreProperties>
</file>