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22E-D142-409D-9391-3251E0D1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37-3F8A-46A8-8366-39BBBAE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C90-1EF0-4BF5-BF20-53D070F9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7D5-4429-48A8-A8DD-A22058D6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2F75-D119-4D79-913F-89D080CA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3443-B26B-48F3-81EB-4807E621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243-E152-46EB-9348-A898C96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C794-82EB-4C11-AFA8-BD5D800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0160-4276-4510-99C4-7CE3C59D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D9EC-EB44-4DFF-8DC5-F4EF0E7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0C2-75B8-4CF5-BFDB-DF46800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CC7-13C8-4CC6-98AF-47C1C35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826-8565-471E-9953-302329D8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9C5C-E753-440E-B6DC-E3EE4478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597-301B-412D-8415-299D38D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3A56-8B23-4E92-91BE-5ED23BA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F088-CDCE-4448-B0D5-94FEFA74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D4C4-0CEB-4FDC-9B67-9986E6C9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F92D-8CB7-4F9B-B288-975FB1D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C27C-253B-4FBF-B1C6-A3478961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777A-1AAF-44C1-ADE3-DBBAF9F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567A-C014-4823-9FAA-35F52E7D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7AF-293B-4E30-A871-C3E3CCA5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CF29-4B52-4002-BC94-10DBA1B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1AA2-BF84-4D72-8685-FF7F823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3672-6254-4748-8114-ABA0DBC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D238-4DED-4958-B9FB-DAF2432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CAC8-4F68-4B2D-9B04-AB37048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0C07-DD98-42DB-AED5-F8BB08B7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F351-BF85-49CC-B9E7-89D8D333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813E-8CB6-465A-B912-080A344A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4ECE-CBA1-4A7F-BABA-8AC0514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2015A-6C72-4E05-AA24-EAB6996A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235-C5F0-4B98-807F-6087D25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7967-B411-45FB-9BBB-D9C61F0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1DD6-7426-43E4-966F-DD2BC1F9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6ED8-7158-4633-8E91-0F19B0B7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83A2-97B2-4ADA-8EE6-051A8CA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B802-A411-4BF1-844B-AB59F90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F7EA-1247-4329-B634-6E9D6D0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8BC4-43D4-4E88-AE8E-C995A04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0A25-667F-4063-A65E-95C69832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4B18-FBAE-4F27-A970-63C7C37F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852-7C3A-4E72-B118-02DBAC4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39C-7BB1-4250-B1B0-578AD556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46-687C-48D8-9BA9-BDF6625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BCD-45A7-4482-A8D8-61C2BF0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F1E-90AB-4402-ACC0-B3828CE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B57-E7E8-482B-A2A9-8EAC4379F0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392-63D2-40CB-9065-6E405F1BEA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8A3B-0432-4120-BB0C-11F32B99D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C350-68A2-495E-B14D-4D9A790A0D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cc9900"/>
                </a:solidFill>
                <a:latin typeface="Arial"/>
              </a:rPr>
              <a:t>Квадратное уравнение и его корни</a:t>
            </a:r>
            <a:endParaRPr b="0" lang="en-US" sz="7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вадратным уравнением называется уравнение вид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 + с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де а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 – некоторые числа,  а ≠ 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 – первый коэффици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торой коэффици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– свободный член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5х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  <a:ea typeface="Arial"/>
              </a:rPr>
              <a:t> - 9х + 4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3366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  <a:ea typeface="Arial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вый коэффици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  <a:ea typeface="Arial"/>
              </a:rPr>
              <a:t>-9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торой коэффици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3366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  <a:ea typeface="Arial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вободный член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6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710"/>
                            </p:stCondLst>
                            <p:childTnLst>
                              <p:par>
                                <p:cTn id="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9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66"/>
                                      </p:to>
                                    </p:animClr>
                                    <p:animClr clrSpc="rgb"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66"/>
                                      </p:to>
                                    </p:animClr>
                                    <p:set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Неполные квадратные уравнения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0" y="296064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75920" y="296064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50160" y="2997360"/>
            <a:ext cx="11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, с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76360" y="3429000"/>
            <a:ext cx="1512720" cy="576360"/>
            <a:chOff x="1476360" y="3429000"/>
            <a:chExt cx="1512720" cy="576360"/>
          </a:xfrm>
        </p:grpSpPr>
        <p:sp>
          <p:nvSpPr>
            <p:cNvPr id="191" name=""/>
            <p:cNvSpPr/>
            <p:nvPr/>
          </p:nvSpPr>
          <p:spPr>
            <a:xfrm>
              <a:off x="1476360" y="3429000"/>
              <a:ext cx="1512720" cy="576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6920" y="348624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ах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+с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635280" y="3429000"/>
            <a:ext cx="1441440" cy="576360"/>
            <a:chOff x="3635280" y="3429000"/>
            <a:chExt cx="1441440" cy="576360"/>
          </a:xfrm>
        </p:grpSpPr>
        <p:sp>
          <p:nvSpPr>
            <p:cNvPr id="194" name=""/>
            <p:cNvSpPr/>
            <p:nvPr/>
          </p:nvSpPr>
          <p:spPr>
            <a:xfrm>
              <a:off x="3635280" y="3429000"/>
              <a:ext cx="1441440" cy="576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7720" y="3519360"/>
              <a:ext cx="11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ах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х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867280" y="3429000"/>
            <a:ext cx="1512720" cy="576360"/>
            <a:chOff x="5867280" y="3429000"/>
            <a:chExt cx="1512720" cy="576360"/>
          </a:xfrm>
        </p:grpSpPr>
        <p:sp>
          <p:nvSpPr>
            <p:cNvPr id="197" name=""/>
            <p:cNvSpPr/>
            <p:nvPr/>
          </p:nvSpPr>
          <p:spPr>
            <a:xfrm>
              <a:off x="5867280" y="3429000"/>
              <a:ext cx="1512720" cy="576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15400" y="3494160"/>
              <a:ext cx="7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ах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79640" y="1709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19479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82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92640"/>
            <a:ext cx="1873440" cy="1224000"/>
          </a:xfrm>
          <a:prstGeom prst="horizont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1640" y="4653000"/>
            <a:ext cx="13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3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+15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292640"/>
            <a:ext cx="1729080" cy="1224000"/>
          </a:xfrm>
          <a:prstGeom prst="horizont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92160" y="46530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+9х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292640"/>
            <a:ext cx="1441440" cy="1081080"/>
          </a:xfrm>
          <a:prstGeom prst="horizont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69320" y="4616280"/>
            <a:ext cx="8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Решение квадратных уравнений 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по формуле </a:t>
            </a:r>
            <a:br>
              <a:rPr sz="47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коэффици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дискриминант по формуле и сравнить его с ну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корни уравнения по форм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989000"/>
            <a:ext cx="91440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1989000"/>
            <a:ext cx="91440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1987560"/>
            <a:ext cx="914400" cy="361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3243240"/>
            <a:ext cx="5041800" cy="76212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= b² - 4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8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8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88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73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692280"/>
            <a:ext cx="2232000" cy="863640"/>
          </a:xfrm>
          <a:custGeom>
            <a:avLst/>
            <a:gdLst>
              <a:gd name="textAreaLeft" fmla="*/ 0 w 2232000"/>
              <a:gd name="textAreaRight" fmla="*/ 2232360 w 2232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= b²- 4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919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0360" y="981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1844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349360"/>
            <a:ext cx="172872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&gt;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70440" y="2421000"/>
            <a:ext cx="180036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&lt;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т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92640" y="3068640"/>
            <a:ext cx="1925640" cy="841320"/>
            <a:chOff x="3392640" y="3068640"/>
            <a:chExt cx="1925640" cy="841320"/>
          </a:xfrm>
        </p:grpSpPr>
        <p:sp>
          <p:nvSpPr>
            <p:cNvPr id="222" name=""/>
            <p:cNvSpPr/>
            <p:nvPr/>
          </p:nvSpPr>
          <p:spPr>
            <a:xfrm>
              <a:off x="3419640" y="3068640"/>
              <a:ext cx="1800000" cy="7916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92640" y="3084480"/>
              <a:ext cx="19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 = 0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1 кор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61928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4437000"/>
            <a:ext cx="2087640" cy="1368360"/>
          </a:xfrm>
          <a:prstGeom prst="horizont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5084640"/>
            <a:ext cx="1970280" cy="1152720"/>
          </a:xfrm>
          <a:prstGeom prst="vertic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4437000"/>
            <a:ext cx="1873080" cy="1224000"/>
          </a:xfrm>
          <a:prstGeom prst="horizont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11280" y="4653000"/>
                <a:ext cx="1873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64000" y="5216400"/>
                <a:ext cx="1368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ассмотрим решение квадратного уравн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- 7х + 6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= 2; в = -7; с = 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b²- 4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(-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2∙6= 49 – 48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&gt; 0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24000" y="4029120"/>
                <a:ext cx="4392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3112920"/>
                <a:ext cx="1871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35080" y="5084640"/>
                <a:ext cx="4913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750"/>
                            </p:stCondLst>
                            <p:childTnLst>
                              <p:par>
                                <p:cTn id="384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8:11:30Z</dcterms:created>
  <dc:creator>1</dc:creator>
  <dc:description/>
  <dc:language>en-US</dc:language>
  <cp:lastModifiedBy>1</cp:lastModifiedBy>
  <dcterms:modified xsi:type="dcterms:W3CDTF">2008-05-17T22:25:41Z</dcterms:modified>
  <cp:revision>10</cp:revision>
  <dc:subject/>
  <dc:title>Квадратное уравнение и его корни</dc:title>
</cp:coreProperties>
</file>