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click.wav" ContentType="audio/x-wav"/>
  <Override PartName="/ppt/media/image12.png" ContentType="image/png"/>
  <Override PartName="/ppt/media/image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8.png" ContentType="image/png"/>
  <Override PartName="/ppt/media/image29.jpeg" ContentType="image/jpeg"/>
  <Override PartName="/ppt/media/image33.wmf" ContentType="image/x-wmf"/>
  <Override PartName="/ppt/media/image13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3F8-45C8-43D2-9198-8EF85175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E20F-DCB6-41A8-AEC5-FF48B727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096-7B12-45E6-AA9A-7326AFB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AC4-EA05-41BF-B15F-8D7B46E6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900B-D38E-4721-9405-635AB4D0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36BC-415E-41EA-B6A7-ECD843F8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D3E-F82D-4C1A-B2D3-B93522B5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DE2D-4686-44E9-98C2-644C6284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FF21-B782-49E2-AD5B-69B9C3C9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2053-D5EB-4041-926C-09D2232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47AC-CE3D-413B-A9A4-2C81C6DE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41F-AA62-44E2-80C1-9635D8DB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6AB9-BA45-494A-812A-5DC7D72A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C786-DCF6-4C8C-B79C-235A366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8D9C-3C5C-4941-B863-F131C855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0961-705A-4590-97E5-87E75C40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914A-0F56-4413-8F58-07F7A509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6519-CD40-4069-A867-F58530AC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2696-92D4-4FA5-8832-29074637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DF309-C336-4075-82D4-E41D7CA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89456-0DA1-4039-810A-409C02F7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9183-F8E8-491F-8106-5AA0824E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026-1E60-4D83-BA80-AA2EBA85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BE8F-8242-40AB-8F0A-C711D20F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E23CA-E1DC-4CB4-988B-DE3A7880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1CF9-AE26-40C8-9690-0B86E32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D681-3B88-4463-90F1-988D890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9111-8116-4351-B6A1-068C981D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78EE-4846-4A99-BDF4-47BC8958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1B2F-D1AB-4427-82B3-2BF16997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A956-213F-4157-95E2-EB155898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E4C7C-C041-44F9-BB6E-E960C5E9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5804B-CBFD-47F6-8073-179C19F7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935-096F-41F7-88BB-564243DB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8E488-45A9-49E2-8313-3BD091C6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5156-95B5-410A-AC9D-C9681BF1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804D-94B7-46CE-802D-6EDC9614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7A767-74E9-4B40-972D-2CFB392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1C06C-F68F-4D3E-AF9C-69E5D4D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A3E9-05E9-4E89-8E73-166DA4C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19F4D-5285-4004-B7D7-67A68E69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BA65-8DAA-418A-92F1-DA1A5998A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0E82-6C97-4F71-85ED-B776A183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F624-AE8B-433A-AE79-1D06F0C9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520-FF92-4ACE-8DB0-B82EA73F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FECD-5D42-427C-A7EB-81B8EA52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2444-D210-4F13-B0F7-8F67C7D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7000B-F301-44AA-87C6-4E09933A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29FD-A2CC-434F-9128-1649FB1C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B06D-8A07-4C4F-8122-59700C00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D37B6-2C20-4346-979B-E86B6A51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AC25-8FAE-42CF-A2AD-171EAD69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D623-BCEA-4EEA-8D25-5EB21F83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61CC-1E60-4987-A91C-712D13CD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5F371-E74B-462A-A524-272C1E0E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158-A38E-4D9E-A8F2-CC1DA8AC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92C98-9CA8-4957-95EA-C952E8C9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18E0A-118F-4EC4-851E-7F8EBB29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3473-C52D-4B80-B617-D0A8C0B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3011B-6479-4B41-8558-D5DA2B39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4B44E-D762-4720-977F-69305A6D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7E7D8-1AA8-4DB6-837B-4B725CFB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01D30-600B-4A53-8189-79A99DB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BCAF-046A-41F5-BD7B-D22F2776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7B99E-8C6C-41CB-8F83-64C277F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AF8E3-E5B9-4393-8757-7D35A1F3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81A1-2A28-4DDA-A1F5-AFB2570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3A8B-01DB-424A-A853-43D95D85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3D3A6-4C24-4B2F-830F-85231464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1A492-140D-49C5-9403-3F65D990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5B8-8030-4179-9792-C5E58C5E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8D8-CEC4-4C27-A006-9A469C8F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5220-A9FC-4591-9E22-4F255D6AF51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6A53-340C-4AA0-A6B5-698972B5164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43DA-CC0E-492E-9EFD-B698AE65701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C9F5-408A-4417-BB34-CD9A8796DA81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0CB6-9992-4D63-82D6-B34B66235DF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5D48-29C7-4025-84D7-4EE46B3262EA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javascript:void(0);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images.yandex.ru/yandpage?&amp;p=4&amp;text=&#1060;&#1086;&#1090;&#1086;&#1075;&#1088;&#1072;&#1092;&#1080;&#1103;%20&#1051;&#1091;&#1080;%20&#1055;&#1072;&#1089;&#1090;&#1077;&#1088;.&amp;rpt=simage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462040" y="328680"/>
            <a:ext cx="6016680" cy="3079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42920" y="4365720"/>
            <a:ext cx="5114880" cy="182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2f74"/>
                </a:solidFill>
                <a:latin typeface="Trebuchet MS"/>
              </a:rPr>
              <a:t>Учитель мате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матики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2f74"/>
                </a:solidFill>
                <a:latin typeface="Trebuchet MS"/>
              </a:rPr>
              <a:t>Катальницкая</a:t>
            </a:r>
            <a:r>
              <a:rPr b="0" lang="ru-RU" sz="3200" spc="-1" strike="noStrike">
                <a:solidFill>
                  <a:srgbClr val="e36406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Е.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2f74"/>
                </a:solidFill>
                <a:latin typeface="Trebuchet MS"/>
              </a:rPr>
              <a:t>Г.Ивантеевк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0" y="1341360"/>
                <a:ext cx="5076720" cy="34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5"/>
              <p:cNvSpPr txBox="1"/>
              <p:nvPr/>
            </p:nvSpPr>
            <p:spPr>
              <a:xfrm>
                <a:off x="4500720" y="2276640"/>
                <a:ext cx="4824360" cy="23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Object 4"/>
              <p:cNvSpPr txBox="1"/>
              <p:nvPr/>
            </p:nvSpPr>
            <p:spPr>
              <a:xfrm>
                <a:off x="0" y="1197000"/>
                <a:ext cx="4643280" cy="36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5"/>
              <p:cNvSpPr txBox="1"/>
              <p:nvPr/>
            </p:nvSpPr>
            <p:spPr>
              <a:xfrm>
                <a:off x="4067280" y="2205000"/>
                <a:ext cx="5076720" cy="25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0" y="1389240"/>
                <a:ext cx="3995640" cy="30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3564000" y="2133720"/>
                <a:ext cx="543240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324000" y="476280"/>
                <a:ext cx="4551120" cy="54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5"/>
              <p:cNvSpPr txBox="1"/>
              <p:nvPr/>
            </p:nvSpPr>
            <p:spPr>
              <a:xfrm>
                <a:off x="4005360" y="1268280"/>
                <a:ext cx="5138640" cy="430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0" y="1652760"/>
                <a:ext cx="3995640" cy="22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5"/>
              <p:cNvSpPr txBox="1"/>
              <p:nvPr/>
            </p:nvSpPr>
            <p:spPr>
              <a:xfrm>
                <a:off x="3708360" y="2276640"/>
                <a:ext cx="5435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179280" y="1119240"/>
                <a:ext cx="4321440" cy="29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5"/>
              <p:cNvSpPr txBox="1"/>
              <p:nvPr/>
            </p:nvSpPr>
            <p:spPr>
              <a:xfrm>
                <a:off x="4284720" y="1628640"/>
                <a:ext cx="444816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0" y="1268280"/>
                <a:ext cx="460692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4140360" y="1197000"/>
                <a:ext cx="4768560" cy="33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4" name="Object 7"/>
              <p:cNvSpPr txBox="1"/>
              <p:nvPr/>
            </p:nvSpPr>
            <p:spPr>
              <a:xfrm>
                <a:off x="-171360" y="404640"/>
                <a:ext cx="8047080" cy="25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684360" y="2792520"/>
                <a:ext cx="6829200" cy="36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4"/>
              <p:cNvSpPr txBox="1"/>
              <p:nvPr/>
            </p:nvSpPr>
            <p:spPr>
              <a:xfrm>
                <a:off x="324000" y="1125360"/>
                <a:ext cx="4392360" cy="34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5"/>
              <p:cNvSpPr txBox="1"/>
              <p:nvPr/>
            </p:nvSpPr>
            <p:spPr>
              <a:xfrm>
                <a:off x="4859280" y="1844640"/>
                <a:ext cx="356544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4" descr=""/>
          <p:cNvPicPr/>
          <p:nvPr/>
        </p:nvPicPr>
        <p:blipFill>
          <a:blip r:embed="rId1"/>
          <a:stretch/>
        </p:blipFill>
        <p:spPr>
          <a:xfrm>
            <a:off x="225360" y="55440"/>
            <a:ext cx="8467920" cy="6876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01680" y="981000"/>
            <a:ext cx="8540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Функция возрастает на [-7; 2) и (2; 8], значит она возрастает на [-7; 8]. Верно л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2. Производная функции в точке 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равна 0, значит 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критическая точка. Верно л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. Производная функции не существует в точке 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значит х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- критическая точка. Верно л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4. Критическая точка является точкой экстремума. Верно л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5. Точка экстремума является критической точкой. Верно ли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-да,           -н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0" name="Group 11"/>
          <p:cNvGrpSpPr/>
          <p:nvPr/>
        </p:nvGrpSpPr>
        <p:grpSpPr>
          <a:xfrm>
            <a:off x="1042920" y="5724360"/>
            <a:ext cx="571680" cy="454320"/>
            <a:chOff x="1042920" y="5724360"/>
            <a:chExt cx="571680" cy="454320"/>
          </a:xfrm>
        </p:grpSpPr>
        <p:sp>
          <p:nvSpPr>
            <p:cNvPr id="311" name="Line 12"/>
            <p:cNvSpPr/>
            <p:nvPr/>
          </p:nvSpPr>
          <p:spPr>
            <a:xfrm flipV="1">
              <a:off x="1042920" y="5724360"/>
              <a:ext cx="343080" cy="454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>
              <a:off x="1386000" y="5724360"/>
              <a:ext cx="228600" cy="454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3" name="Line 14"/>
          <p:cNvSpPr/>
          <p:nvPr/>
        </p:nvSpPr>
        <p:spPr>
          <a:xfrm>
            <a:off x="2906640" y="61786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6300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Музыка может возвышать или умиротворять душ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живопись – радовать глаз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эзия – пробуждать чувств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илософия – удовлетворя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требности разума, инженерно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ло –совершенствоват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атериальную сторону жизни людей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математика способна достичь всех этих целей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рис Клай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7" name="Picture 5" descr="http://www.marco-learningsystems.com/images/kline/obituary.gif"/>
          <p:cNvPicPr/>
          <p:nvPr/>
        </p:nvPicPr>
        <p:blipFill>
          <a:blip r:embed="rId1"/>
          <a:stretch/>
        </p:blipFill>
        <p:spPr>
          <a:xfrm>
            <a:off x="6300720" y="189000"/>
            <a:ext cx="266400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18"/>
          <p:cNvGrpSpPr/>
          <p:nvPr/>
        </p:nvGrpSpPr>
        <p:grpSpPr>
          <a:xfrm>
            <a:off x="3193920" y="2109600"/>
            <a:ext cx="571680" cy="454320"/>
            <a:chOff x="3193920" y="2109600"/>
            <a:chExt cx="571680" cy="454320"/>
          </a:xfrm>
        </p:grpSpPr>
        <p:sp>
          <p:nvSpPr>
            <p:cNvPr id="317" name="Line 19"/>
            <p:cNvSpPr/>
            <p:nvPr/>
          </p:nvSpPr>
          <p:spPr>
            <a:xfrm flipV="1">
              <a:off x="3193920" y="2109600"/>
              <a:ext cx="343080" cy="453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Line 20"/>
            <p:cNvSpPr/>
            <p:nvPr/>
          </p:nvSpPr>
          <p:spPr>
            <a:xfrm>
              <a:off x="3537000" y="2109960"/>
              <a:ext cx="228600" cy="453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19" name="Group 21"/>
          <p:cNvGrpSpPr/>
          <p:nvPr/>
        </p:nvGrpSpPr>
        <p:grpSpPr>
          <a:xfrm>
            <a:off x="2165400" y="2109600"/>
            <a:ext cx="570960" cy="454320"/>
            <a:chOff x="2165400" y="2109600"/>
            <a:chExt cx="570960" cy="454320"/>
          </a:xfrm>
        </p:grpSpPr>
        <p:sp>
          <p:nvSpPr>
            <p:cNvPr id="320" name="Line 22"/>
            <p:cNvSpPr/>
            <p:nvPr/>
          </p:nvSpPr>
          <p:spPr>
            <a:xfrm flipV="1">
              <a:off x="2165400" y="2109600"/>
              <a:ext cx="342720" cy="453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Line 23"/>
            <p:cNvSpPr/>
            <p:nvPr/>
          </p:nvSpPr>
          <p:spPr>
            <a:xfrm>
              <a:off x="2508120" y="2109960"/>
              <a:ext cx="228240" cy="453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2" name="Group 24"/>
          <p:cNvGrpSpPr/>
          <p:nvPr/>
        </p:nvGrpSpPr>
        <p:grpSpPr>
          <a:xfrm>
            <a:off x="1536840" y="2109600"/>
            <a:ext cx="570960" cy="454320"/>
            <a:chOff x="1536840" y="2109600"/>
            <a:chExt cx="570960" cy="454320"/>
          </a:xfrm>
        </p:grpSpPr>
        <p:sp>
          <p:nvSpPr>
            <p:cNvPr id="323" name="Line 25"/>
            <p:cNvSpPr/>
            <p:nvPr/>
          </p:nvSpPr>
          <p:spPr>
            <a:xfrm flipV="1">
              <a:off x="1536840" y="2109600"/>
              <a:ext cx="342720" cy="453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Line 26"/>
            <p:cNvSpPr/>
            <p:nvPr/>
          </p:nvSpPr>
          <p:spPr>
            <a:xfrm>
              <a:off x="1879560" y="2109960"/>
              <a:ext cx="228240" cy="453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Line 27"/>
          <p:cNvSpPr/>
          <p:nvPr/>
        </p:nvSpPr>
        <p:spPr>
          <a:xfrm>
            <a:off x="1079640" y="2549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8"/>
          <p:cNvSpPr/>
          <p:nvPr/>
        </p:nvSpPr>
        <p:spPr>
          <a:xfrm>
            <a:off x="2736720" y="25495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29480" cy="6400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5"/>
              <p:cNvSpPr txBox="1"/>
              <p:nvPr/>
            </p:nvSpPr>
            <p:spPr>
              <a:xfrm>
                <a:off x="1373040" y="692280"/>
                <a:ext cx="168624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835200" y="800280"/>
                <a:ext cx="17301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6"/>
          <p:cNvGrpSpPr/>
          <p:nvPr/>
        </p:nvGrpSpPr>
        <p:grpSpPr>
          <a:xfrm>
            <a:off x="324000" y="0"/>
            <a:ext cx="8529480" cy="6858000"/>
            <a:chOff x="324000" y="0"/>
            <a:chExt cx="8529480" cy="6858000"/>
          </a:xfrm>
        </p:grpSpPr>
        <p:pic>
          <p:nvPicPr>
            <p:cNvPr id="333" name="Picture 4" descr="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52948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4" name="Object 5"/>
                <p:cNvSpPr txBox="1"/>
                <p:nvPr/>
              </p:nvSpPr>
              <p:spPr>
                <a:xfrm>
                  <a:off x="1332000" y="800280"/>
                  <a:ext cx="1890720" cy="99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539640" y="0"/>
            <a:ext cx="827748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6" name="Object 5"/>
              <p:cNvSpPr txBox="1"/>
              <p:nvPr/>
            </p:nvSpPr>
            <p:spPr>
              <a:xfrm>
                <a:off x="1987560" y="800280"/>
                <a:ext cx="11541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6"/>
          <p:cNvGrpSpPr/>
          <p:nvPr/>
        </p:nvGrpSpPr>
        <p:grpSpPr>
          <a:xfrm>
            <a:off x="0" y="0"/>
            <a:ext cx="9325080" cy="6858000"/>
            <a:chOff x="0" y="0"/>
            <a:chExt cx="9325080" cy="6858000"/>
          </a:xfrm>
        </p:grpSpPr>
        <p:pic>
          <p:nvPicPr>
            <p:cNvPr id="33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32508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9" name="Object 5"/>
                <p:cNvSpPr txBox="1"/>
                <p:nvPr/>
              </p:nvSpPr>
              <p:spPr>
                <a:xfrm>
                  <a:off x="1452600" y="3903840"/>
                  <a:ext cx="1920960" cy="123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755640" y="0"/>
            <a:ext cx="795348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5"/>
              <p:cNvSpPr txBox="1"/>
              <p:nvPr/>
            </p:nvSpPr>
            <p:spPr>
              <a:xfrm>
                <a:off x="1476360" y="907920"/>
                <a:ext cx="2595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2395440" y="208080"/>
            <a:ext cx="666288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1"/>
          <p:cNvGrpSpPr/>
          <p:nvPr/>
        </p:nvGrpSpPr>
        <p:grpSpPr>
          <a:xfrm>
            <a:off x="860400" y="4573440"/>
            <a:ext cx="1440" cy="360"/>
            <a:chOff x="860400" y="4573440"/>
            <a:chExt cx="1440" cy="360"/>
          </a:xfrm>
        </p:grpSpPr>
        <mc:AlternateContent>
          <mc:Choice xmlns:a14="http://schemas.microsoft.com/office/drawing/2010/main" Requires="a14">
            <p:sp>
              <p:nvSpPr>
                <p:cNvPr id="344" name="Object 4"/>
                <p:cNvSpPr txBox="1"/>
                <p:nvPr/>
              </p:nvSpPr>
              <p:spPr>
                <a:xfrm>
                  <a:off x="860400" y="4573440"/>
                  <a:ext cx="108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5" name="Object 6"/>
                <p:cNvSpPr txBox="1"/>
                <p:nvPr/>
              </p:nvSpPr>
              <p:spPr>
                <a:xfrm>
                  <a:off x="860400" y="4573440"/>
                  <a:ext cx="108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Object 8"/>
                <p:cNvSpPr txBox="1"/>
                <p:nvPr/>
              </p:nvSpPr>
              <p:spPr>
                <a:xfrm>
                  <a:off x="860400" y="4573440"/>
                  <a:ext cx="1440" cy="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7" name="Group 19"/>
          <p:cNvGrpSpPr/>
          <p:nvPr/>
        </p:nvGrpSpPr>
        <p:grpSpPr>
          <a:xfrm>
            <a:off x="5435640" y="4183200"/>
            <a:ext cx="3708360" cy="2139480"/>
            <a:chOff x="5435640" y="4183200"/>
            <a:chExt cx="3708360" cy="2139480"/>
          </a:xfrm>
        </p:grpSpPr>
        <p:grpSp>
          <p:nvGrpSpPr>
            <p:cNvPr id="348" name="Group 18"/>
            <p:cNvGrpSpPr/>
            <p:nvPr/>
          </p:nvGrpSpPr>
          <p:grpSpPr>
            <a:xfrm>
              <a:off x="5435640" y="4183200"/>
              <a:ext cx="3708360" cy="2139480"/>
              <a:chOff x="5435640" y="4183200"/>
              <a:chExt cx="3708360" cy="2139480"/>
            </a:xfrm>
          </p:grpSpPr>
          <mc:AlternateContent>
            <mc:Choice xmlns:a14="http://schemas.microsoft.com/office/drawing/2010/main" Requires="a14">
              <p:sp>
                <p:nvSpPr>
                  <p:cNvPr id="349" name="Object 13"/>
                  <p:cNvSpPr txBox="1"/>
                  <p:nvPr/>
                </p:nvSpPr>
                <p:spPr>
                  <a:xfrm>
                    <a:off x="5435640" y="5483160"/>
                    <a:ext cx="322596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0" name="Object 12"/>
                  <p:cNvSpPr txBox="1"/>
                  <p:nvPr/>
                </p:nvSpPr>
                <p:spPr>
                  <a:xfrm>
                    <a:off x="5435640" y="4183200"/>
                    <a:ext cx="3708360" cy="841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51" name="Object 14"/>
                <p:cNvSpPr txBox="1"/>
                <p:nvPr/>
              </p:nvSpPr>
              <p:spPr>
                <a:xfrm>
                  <a:off x="5435640" y="4846680"/>
                  <a:ext cx="3024360" cy="83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52" name="Picture 20" descr="Ломоносов М. В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401920" cy="272088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21"/>
          <p:cNvGrpSpPr/>
          <p:nvPr/>
        </p:nvGrpSpPr>
        <p:grpSpPr>
          <a:xfrm>
            <a:off x="301680" y="3030480"/>
            <a:ext cx="4199040" cy="2303280"/>
            <a:chOff x="301680" y="3030480"/>
            <a:chExt cx="4199040" cy="2303280"/>
          </a:xfrm>
        </p:grpSpPr>
        <mc:AlternateContent>
          <mc:Choice xmlns:a14="http://schemas.microsoft.com/office/drawing/2010/main" Requires="a14">
            <p:sp>
              <p:nvSpPr>
                <p:cNvPr id="354" name="Object 22"/>
                <p:cNvSpPr txBox="1"/>
                <p:nvPr/>
              </p:nvSpPr>
              <p:spPr>
                <a:xfrm>
                  <a:off x="301680" y="3030480"/>
                  <a:ext cx="3246120" cy="76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5" name="Object 23"/>
                <p:cNvSpPr txBox="1"/>
                <p:nvPr/>
              </p:nvSpPr>
              <p:spPr>
                <a:xfrm>
                  <a:off x="301680" y="3764520"/>
                  <a:ext cx="2990880" cy="74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6" name="Object 24"/>
                <p:cNvSpPr txBox="1"/>
                <p:nvPr/>
              </p:nvSpPr>
              <p:spPr>
                <a:xfrm>
                  <a:off x="301680" y="4538160"/>
                  <a:ext cx="4199040" cy="7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1476360" y="0"/>
            <a:ext cx="640872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5364000" y="833400"/>
                <a:ext cx="2017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4"/>
              <p:cNvSpPr txBox="1"/>
              <p:nvPr/>
            </p:nvSpPr>
            <p:spPr>
              <a:xfrm>
                <a:off x="0" y="2489040"/>
                <a:ext cx="1305000" cy="279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6"/>
              <p:cNvSpPr txBox="1"/>
              <p:nvPr/>
            </p:nvSpPr>
            <p:spPr>
              <a:xfrm>
                <a:off x="0" y="297000"/>
                <a:ext cx="2376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395280" y="692280"/>
            <a:ext cx="813744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e3640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нания иметь отличные,</a:t>
            </a:r>
            <a:endParaRPr b="1" i="1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e3640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e3640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i="1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e3640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следуя функции </a:t>
            </a:r>
            <a:endParaRPr b="1" i="1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e3640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e3640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личные."</a:t>
            </a:r>
            <a:endParaRPr b="1" i="1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e3640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826920" y="404640"/>
                <a:ext cx="3627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852948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1274760" y="5373720"/>
                <a:ext cx="287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1187280" y="431640"/>
                <a:ext cx="28800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7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8209080" cy="619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1" name="Object 8"/>
              <p:cNvSpPr txBox="1"/>
              <p:nvPr/>
            </p:nvSpPr>
            <p:spPr>
              <a:xfrm>
                <a:off x="1908000" y="189000"/>
                <a:ext cx="25275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4"/>
          <p:cNvSpPr/>
          <p:nvPr/>
        </p:nvSpPr>
        <p:spPr>
          <a:xfrm>
            <a:off x="1946160" y="1773360"/>
            <a:ext cx="4969080" cy="3384360"/>
          </a:xfrm>
          <a:prstGeom prst="rect">
            <a:avLst/>
          </a:prstGeom>
          <a:solidFill>
            <a:srgbClr val="b83d68"/>
          </a:solidFill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Oval 26"/>
          <p:cNvSpPr/>
          <p:nvPr/>
        </p:nvSpPr>
        <p:spPr>
          <a:xfrm>
            <a:off x="2019240" y="1917720"/>
            <a:ext cx="4824360" cy="3166920"/>
          </a:xfrm>
          <a:prstGeom prst="ellipse">
            <a:avLst/>
          </a:prstGeom>
          <a:solidFill>
            <a:srgbClr val="33cc33"/>
          </a:solidFill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AutoShape 24"/>
          <p:cNvSpPr/>
          <p:nvPr/>
        </p:nvSpPr>
        <p:spPr>
          <a:xfrm>
            <a:off x="2163600" y="1989000"/>
            <a:ext cx="4535640" cy="2952720"/>
          </a:xfrm>
          <a:prstGeom prst="diamond">
            <a:avLst/>
          </a:prstGeom>
          <a:solidFill>
            <a:srgbClr val="b83d68"/>
          </a:solidFill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7"/>
          <p:cNvSpPr/>
          <p:nvPr/>
        </p:nvSpPr>
        <p:spPr>
          <a:xfrm>
            <a:off x="3171960" y="2852640"/>
            <a:ext cx="2447640" cy="1295640"/>
          </a:xfrm>
          <a:prstGeom prst="roundRect">
            <a:avLst>
              <a:gd name="adj" fmla="val 16667"/>
            </a:avLst>
          </a:prstGeom>
          <a:solidFill>
            <a:srgbClr val="ac66bb"/>
          </a:solidFill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Line 17"/>
          <p:cNvSpPr/>
          <p:nvPr/>
        </p:nvSpPr>
        <p:spPr>
          <a:xfrm flipH="1">
            <a:off x="3613320" y="4154400"/>
            <a:ext cx="1728720" cy="0"/>
          </a:xfrm>
          <a:prstGeom prst="line">
            <a:avLst/>
          </a:prstGeom>
          <a:ln w="9360">
            <a:solidFill>
              <a:srgbClr val="3305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Line 20"/>
          <p:cNvSpPr/>
          <p:nvPr/>
        </p:nvSpPr>
        <p:spPr>
          <a:xfrm>
            <a:off x="3613320" y="2852640"/>
            <a:ext cx="1823760" cy="0"/>
          </a:xfrm>
          <a:prstGeom prst="line">
            <a:avLst/>
          </a:prstGeom>
          <a:ln w="9360">
            <a:solidFill>
              <a:srgbClr val="3305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5619600" y="2852640"/>
            <a:ext cx="0" cy="1008000"/>
          </a:xfrm>
          <a:prstGeom prst="line">
            <a:avLst/>
          </a:prstGeom>
          <a:ln w="9360">
            <a:solidFill>
              <a:srgbClr val="3305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23"/>
          <p:cNvSpPr/>
          <p:nvPr/>
        </p:nvSpPr>
        <p:spPr>
          <a:xfrm flipV="1">
            <a:off x="3171960" y="2852640"/>
            <a:ext cx="0" cy="1008000"/>
          </a:xfrm>
          <a:prstGeom prst="line">
            <a:avLst/>
          </a:prstGeom>
          <a:ln w="9360">
            <a:solidFill>
              <a:srgbClr val="3305b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29"/>
          <p:cNvSpPr/>
          <p:nvPr/>
        </p:nvSpPr>
        <p:spPr>
          <a:xfrm>
            <a:off x="3708360" y="4508640"/>
            <a:ext cx="0" cy="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1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4" descr=""/>
          <p:cNvPicPr/>
          <p:nvPr/>
        </p:nvPicPr>
        <p:blipFill>
          <a:blip r:embed="rId1"/>
          <a:stretch/>
        </p:blipFill>
        <p:spPr>
          <a:xfrm>
            <a:off x="-109440" y="195120"/>
            <a:ext cx="7821360" cy="45961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i?id=50287236&amp;tov=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189000"/>
            <a:ext cx="3168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1115640" y="1773000"/>
            <a:ext cx="7007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ариант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ариант 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                                 1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2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4 - D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4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5 - B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- 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Object 5"/>
          <p:cNvGraphicFramePr/>
          <p:nvPr/>
        </p:nvGraphicFramePr>
        <p:xfrm>
          <a:off x="895320" y="2365200"/>
          <a:ext cx="7326360" cy="206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5320" y="2365200"/>
                    <a:ext cx="732636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Rectangle 6"/>
          <p:cNvSpPr/>
          <p:nvPr/>
        </p:nvSpPr>
        <p:spPr>
          <a:xfrm>
            <a:off x="1042920" y="2656800"/>
            <a:ext cx="705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тр.155, №346( б, г, е, з),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       №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48(б, 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Rectangle 4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34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01680" y="2276640"/>
            <a:ext cx="30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∞;1),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; +∞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257400" y="2806560"/>
            <a:ext cx="44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∞;-1) U (1; +∞),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1; 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278640" y="3452760"/>
            <a:ext cx="32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∞;-1) U (-1; +∞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257400" y="3836880"/>
            <a:ext cx="43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)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∞;-3) U (2; +∞),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3; 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309240" y="4508640"/>
            <a:ext cx="2634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№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348 в)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y=-x</a:t>
            </a:r>
            <a:r>
              <a:rPr b="0" lang="en-US" sz="2400" spc="-1" strike="noStrike" baseline="48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+4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1692360" y="809640"/>
            <a:ext cx="5987880" cy="60483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2789280" y="95400"/>
            <a:ext cx="42616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№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348 в) 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y=-x</a:t>
            </a:r>
            <a:r>
              <a:rPr b="0" lang="en-US" sz="4000" spc="-1" strike="noStrike" baseline="46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+4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7" descr=""/>
          <p:cNvPicPr/>
          <p:nvPr/>
        </p:nvPicPr>
        <p:blipFill>
          <a:blip r:embed="rId1"/>
          <a:stretch/>
        </p:blipFill>
        <p:spPr>
          <a:xfrm>
            <a:off x="304920" y="4138560"/>
            <a:ext cx="8626320" cy="2335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http://img-fotki.yandex.ru/get/5507/31478297.270/0_7baf4_a382be5e_XL"/>
          <p:cNvPicPr/>
          <p:nvPr/>
        </p:nvPicPr>
        <p:blipFill>
          <a:blip r:embed="rId2"/>
          <a:stretch/>
        </p:blipFill>
        <p:spPr>
          <a:xfrm>
            <a:off x="2411280" y="333360"/>
            <a:ext cx="3529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5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4"/>
              <p:cNvSpPr txBox="1"/>
              <p:nvPr/>
            </p:nvSpPr>
            <p:spPr>
              <a:xfrm>
                <a:off x="468360" y="1557360"/>
                <a:ext cx="4676760" cy="28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2" name="Rectangle 7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2"/>
              <p:cNvSpPr txBox="1"/>
              <p:nvPr/>
            </p:nvSpPr>
            <p:spPr>
              <a:xfrm>
                <a:off x="5076720" y="1989000"/>
                <a:ext cx="2960640" cy="20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5" name="Rectangle 13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826920" y="549360"/>
                <a:ext cx="4388040" cy="46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χ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4859280" y="1268280"/>
                <a:ext cx="3083040" cy="367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-396720" y="189000"/>
                <a:ext cx="6561000" cy="688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4572000" y="2133720"/>
                <a:ext cx="4176720" cy="29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8:30:55Z</dcterms:created>
  <dc:creator>user</dc:creator>
  <dc:description/>
  <dc:language>en-US</dc:language>
  <cp:lastModifiedBy>катя</cp:lastModifiedBy>
  <dcterms:modified xsi:type="dcterms:W3CDTF">2013-05-19T19:06:01Z</dcterms:modified>
  <cp:revision>67</cp:revision>
  <dc:subject/>
  <dc:title>Исследование функции с помощью производной и построение графиков.</dc:title>
</cp:coreProperties>
</file>