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gif" ContentType="image/gi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BC9-83C9-4836-B57B-D9DB6A52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373-C1D6-46BF-8396-3FB27BC5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801-885A-4222-8B61-C5F79B0A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C7B-0856-4460-8ECB-25176BB3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174E-300C-4553-959F-DAF2A25D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1068-4907-4340-837A-A4C062EF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07F0-80B1-4E25-BD36-1F2047E9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FBA6-A2C4-4CF5-9639-88C8D8F0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7CC6-ADA0-4483-BE59-59960286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E133-FA2D-410D-8697-CC40C051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529A-5393-43A2-84C6-8B45EA85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A9A-A8EB-4682-9118-AC05B5BC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91FF-B44D-4DBC-A97A-93E0D5FB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154A-56E4-4B2C-8050-D736722B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F041-91BC-4E7D-B4F0-70022C84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69C2-29BC-455E-8FA1-3041A37F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4114-AA9F-4FAC-A9F2-4BEB0B3C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E20-7072-4956-842A-8DA337F0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8DE-0E6E-472B-8A61-3EA5674D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6B5-35FD-4068-828C-653B5379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AC9-7E68-4671-8677-0A2A793C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0777-4092-4138-862E-A70E3B62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047-AD84-434D-BD75-7A8C6AEF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15F-53E4-4AD8-B084-39D34A01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0597-1DFA-4713-8FA9-6F4E7BAF22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B453-19DB-4EBF-93D6-9D19E2712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7.xml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7.xml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007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Какая фигура называется треугольни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81840" y="3809880"/>
            <a:ext cx="1944720" cy="1473120"/>
          </a:xfrm>
          <a:prstGeom prst="rect">
            <a:avLst/>
          </a:prstGeom>
          <a:solidFill>
            <a:srgbClr val="0000ff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340000" y="1844640"/>
            <a:ext cx="5668920" cy="19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,дети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248616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Треугольником называется фигура, состоящая из трёх точек, не лежащих на одной прямой и отрезков,соединяющих эти точк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68800" y="3979800"/>
            <a:ext cx="2525040" cy="1051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35440" y="5300640"/>
            <a:ext cx="11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70720" y="1989000"/>
            <a:ext cx="11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3280" y="5268960"/>
            <a:ext cx="11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</a:rPr>
              <a:t>Назовите элементы треугольник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63640" y="1653840"/>
            <a:ext cx="3882960" cy="4360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876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ВЕРШИН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УГ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СТОРО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924280"/>
            <a:ext cx="1873440" cy="20890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Какие виды треугольников (в зависимости от углов) вы знаете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ямоуг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троуг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упоуг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32720" y="6453360"/>
            <a:ext cx="219240" cy="161640"/>
          </a:xfrm>
          <a:prstGeom prst="rightArrow">
            <a:avLst>
              <a:gd name="adj1" fmla="val 50000"/>
              <a:gd name="adj2" fmla="val 33909"/>
            </a:avLst>
          </a:pr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3860640"/>
            <a:ext cx="4016160" cy="17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780080" y="1698480"/>
                <a:ext cx="17334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3882960"/>
            <a:ext cx="7925040" cy="21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3960720" cy="2593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788000" y="3860640"/>
            <a:ext cx="345420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ВЕРИМ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7835400" y="5916600"/>
            <a:ext cx="21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Слайд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24720" y="6093000"/>
            <a:ext cx="976320" cy="125280"/>
          </a:xfrm>
          <a:custGeom>
            <a:avLst/>
            <a:gdLst>
              <a:gd name="textAreaLeft" fmla="*/ 122040 w 976320"/>
              <a:gd name="textAreaRight" fmla="*/ 854280 w 976320"/>
              <a:gd name="textAreaTop" fmla="*/ 31320 h 125280"/>
              <a:gd name="textAreaBottom" fmla="*/ 93960 h 12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780080" y="1698480"/>
                <a:ext cx="17334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3882960"/>
            <a:ext cx="7925040" cy="21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3960720" cy="259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788000" y="3860640"/>
            <a:ext cx="229536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ВЕРИЛИ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7835400" y="5916600"/>
            <a:ext cx="21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Слайд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4720" y="6093000"/>
            <a:ext cx="976320" cy="125280"/>
          </a:xfrm>
          <a:custGeom>
            <a:avLst/>
            <a:gdLst>
              <a:gd name="textAreaLeft" fmla="*/ 122040 w 976320"/>
              <a:gd name="textAreaRight" fmla="*/ 854280 w 976320"/>
              <a:gd name="textAreaTop" fmla="*/ 31320 h 125280"/>
              <a:gd name="textAreaBottom" fmla="*/ 93960 h 12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681520" y="1768320"/>
                <a:ext cx="17337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4000" y="189000"/>
            <a:ext cx="771516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ема:   В треугольнике сумма углов равна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8244000" y="5881680"/>
            <a:ext cx="54000" cy="363600"/>
          </a:xfrm>
          <a:prstGeom prst="downArrow">
            <a:avLst>
              <a:gd name="adj1" fmla="val 50000"/>
              <a:gd name="adj2" fmla="val 168333"/>
            </a:avLst>
          </a:pr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2486160" cy="2728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0" y="3357720"/>
            <a:ext cx="33321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КАЖЕМ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ти угол С треугольника АВС,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ти угол В треугольника АВС,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55640" y="2997360"/>
                <a:ext cx="3041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13200" y="2997360"/>
                <a:ext cx="31338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71640" y="3933720"/>
          <a:ext cx="251928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933720"/>
                    <a:ext cx="25192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932360" y="3716280"/>
          <a:ext cx="236844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3716280"/>
                    <a:ext cx="236844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1657080" cy="181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59280" y="2492280"/>
            <a:ext cx="5113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36:20Z</dcterms:created>
  <dc:creator>Полина</dc:creator>
  <dc:description/>
  <dc:language>en-US</dc:language>
  <cp:lastModifiedBy>Полина</cp:lastModifiedBy>
  <dcterms:modified xsi:type="dcterms:W3CDTF">2009-11-29T18:46:14Z</dcterms:modified>
  <cp:revision>31</cp:revision>
  <dc:subject/>
  <dc:title>Слайд 1</dc:title>
</cp:coreProperties>
</file>