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76440"/>
            <a:ext cx="4568760" cy="344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863FE7-70E0-4F83-B3E7-80100E2137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C7ED8A-7FB6-4E57-8358-DDF1339DDA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9239-7008-4CDA-85F9-32C42AD11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86B2-4AEC-4555-AE37-44BC1B8C9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2887-63BC-4A3D-A1A6-8313A7E40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46AA-28BA-40D1-B473-84DFE2483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D44A-CAEF-4CD6-B5FD-6F39FCD2D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CBC5-2895-4761-B931-30E081548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9F9F-351B-4501-BB82-0370E57D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6E7F-6F80-42C6-BF75-6B7FDB740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A2FC-7E1C-4032-9ADC-CAB52F119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7FD1-5767-4D26-BEC1-471CCD9D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043B-E789-47CE-A73C-8A0EE9D5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B874-43FB-45F9-B89D-3CCFB9BA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8C10B8-6C46-4FE0-BDBA-BA75392F759B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73160"/>
            <a:ext cx="8229600" cy="15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4328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0280">
              <a:spcBef>
                <a:spcPts val="601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войства прямоугольного треугольни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0280"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Сумма острых углов ра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0280"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В прямоугольном треугольнике катет всегда меньше гипотену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0280"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Катет, лежащий напротив угла в         </a:t>
            </a: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 равен половине гипотенуз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0280"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Если катет равен половине гипотенузы, то он лежит напротив угла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0280">
              <a:spcBef>
                <a:spcPts val="451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0280">
              <a:spcBef>
                <a:spcPts val="451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00000" y="620640"/>
            <a:ext cx="7075440" cy="895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венство прямоугольных треугольнико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18399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5440" y="46530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335480" y="458136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4365720"/>
            <a:ext cx="215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42920" y="465300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Т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-478440" y="3585240"/>
            <a:ext cx="16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500000">
            <a:off x="826920" y="313956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ипотену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8172360" y="2421000"/>
                <a:ext cx="4478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5435640" y="3860640"/>
                <a:ext cx="50328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7020000" y="5084640"/>
                <a:ext cx="43164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611280" y="2852640"/>
            <a:ext cx="3673440" cy="1728720"/>
          </a:xfrm>
          <a:prstGeom prst="rtTriangle">
            <a:avLst/>
          </a:prstGeom>
          <a:solidFill>
            <a:srgbClr val="ccccff">
              <a:alpha val="45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Признаки равенства треуголь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68360" y="1052640"/>
          <a:ext cx="8134200" cy="4886280"/>
        </p:xfrm>
        <a:graphic>
          <a:graphicData uri="http://schemas.openxmlformats.org/drawingml/2006/table">
            <a:tbl>
              <a:tblPr/>
              <a:tblGrid>
                <a:gridCol w="2749320"/>
                <a:gridCol w="2651040"/>
                <a:gridCol w="2733840"/>
              </a:tblGrid>
              <a:tr h="661680">
                <a:tc gridSpan="3">
                  <a:txBody>
                    <a:bodyPr lIns="90000" rIns="90000" tIns="137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вый.        Второй.           Третий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24600">
                <a:tc>
                  <a:txBody>
                    <a:bodyPr lIns="90000" rIns="90000" tIns="10728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"/>
          <p:cNvSpPr/>
          <p:nvPr/>
        </p:nvSpPr>
        <p:spPr>
          <a:xfrm>
            <a:off x="685800" y="2057400"/>
            <a:ext cx="914400" cy="990720"/>
          </a:xfrm>
          <a:prstGeom prst="triangle">
            <a:avLst>
              <a:gd name="adj" fmla="val 50000"/>
            </a:avLst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2438280"/>
            <a:ext cx="76320" cy="7632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1298160" y="2476440"/>
            <a:ext cx="82440" cy="7632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323720" y="2514600"/>
            <a:ext cx="82440" cy="7632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04840" y="2133720"/>
            <a:ext cx="76320" cy="75960"/>
          </a:xfrm>
          <a:prstGeom prst="pie">
            <a:avLst/>
          </a:pr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2057400"/>
            <a:ext cx="914400" cy="990720"/>
          </a:xfrm>
          <a:prstGeom prst="triangle">
            <a:avLst>
              <a:gd name="adj" fmla="val 50000"/>
            </a:avLst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49640" y="2133720"/>
            <a:ext cx="75960" cy="75960"/>
          </a:xfrm>
          <a:prstGeom prst="pie">
            <a:avLst/>
          </a:pr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028960" y="2509920"/>
            <a:ext cx="75960" cy="7596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458800" y="2533680"/>
            <a:ext cx="82440" cy="7632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2482560" y="2563920"/>
            <a:ext cx="82440" cy="7596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24080" y="1981080"/>
            <a:ext cx="1295640" cy="1067040"/>
          </a:xfrm>
          <a:prstGeom prst="triangle">
            <a:avLst>
              <a:gd name="adj" fmla="val 50000"/>
            </a:avLst>
          </a:prstGeom>
          <a:solidFill>
            <a:srgbClr val="cc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33920" y="2971800"/>
            <a:ext cx="1440" cy="1522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9760" y="2895480"/>
            <a:ext cx="88920" cy="152640"/>
          </a:xfrm>
          <a:prstGeom prst="pie">
            <a:avLst/>
          </a:pr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4640000">
            <a:off x="4287600" y="2950560"/>
            <a:ext cx="88920" cy="108000"/>
          </a:xfrm>
          <a:prstGeom prst="pie">
            <a:avLst/>
          </a:pr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76720" y="2819520"/>
            <a:ext cx="88920" cy="228600"/>
          </a:xfrm>
          <a:prstGeom prst="pie">
            <a:avLst/>
          </a:pr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95680" y="1981080"/>
            <a:ext cx="1295640" cy="1067040"/>
          </a:xfrm>
          <a:prstGeom prst="triangle">
            <a:avLst>
              <a:gd name="adj" fmla="val 50000"/>
            </a:avLst>
          </a:prstGeom>
          <a:solidFill>
            <a:srgbClr val="cc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2971800"/>
            <a:ext cx="1440" cy="1522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2908440"/>
            <a:ext cx="88920" cy="152280"/>
          </a:xfrm>
          <a:prstGeom prst="pie">
            <a:avLst/>
          </a:pr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14640000">
            <a:off x="5649840" y="2963160"/>
            <a:ext cx="88920" cy="108000"/>
          </a:xfrm>
          <a:prstGeom prst="pie">
            <a:avLst/>
          </a:pr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48320" y="2832120"/>
            <a:ext cx="88920" cy="228600"/>
          </a:xfrm>
          <a:prstGeom prst="pie">
            <a:avLst/>
          </a:pr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6095880" y="1752480"/>
            <a:ext cx="1065240" cy="1376280"/>
            <a:chOff x="6095880" y="1752480"/>
            <a:chExt cx="1065240" cy="1376280"/>
          </a:xfrm>
        </p:grpSpPr>
        <p:sp>
          <p:nvSpPr>
            <p:cNvPr id="90" name=""/>
            <p:cNvSpPr/>
            <p:nvPr/>
          </p:nvSpPr>
          <p:spPr>
            <a:xfrm>
              <a:off x="6095880" y="1752480"/>
              <a:ext cx="1065240" cy="129420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73160" y="2970360"/>
              <a:ext cx="1080" cy="15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39400" y="2973600"/>
              <a:ext cx="1080" cy="15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12480" y="2976840"/>
              <a:ext cx="1080" cy="15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305040" y="2405880"/>
              <a:ext cx="7596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6859800" y="2374200"/>
              <a:ext cx="75600" cy="82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6894720" y="2405880"/>
              <a:ext cx="75960" cy="82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7315200" y="1752480"/>
            <a:ext cx="1065240" cy="1376280"/>
            <a:chOff x="7315200" y="1752480"/>
            <a:chExt cx="1065240" cy="1376280"/>
          </a:xfrm>
        </p:grpSpPr>
        <p:sp>
          <p:nvSpPr>
            <p:cNvPr id="98" name=""/>
            <p:cNvSpPr/>
            <p:nvPr/>
          </p:nvSpPr>
          <p:spPr>
            <a:xfrm>
              <a:off x="7315200" y="1752480"/>
              <a:ext cx="1065240" cy="129420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692480" y="2970360"/>
              <a:ext cx="1080" cy="15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759080" y="2973600"/>
              <a:ext cx="1080" cy="15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832160" y="2976840"/>
              <a:ext cx="1080" cy="15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24360" y="2405880"/>
              <a:ext cx="7596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8079120" y="2374200"/>
              <a:ext cx="75960" cy="82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8114400" y="2405880"/>
              <a:ext cx="75600" cy="82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0" y="3429000"/>
            <a:ext cx="860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2880" y="3600360"/>
            <a:ext cx="1797120" cy="792360"/>
          </a:xfrm>
          <a:prstGeom prst="rtTriangle">
            <a:avLst/>
          </a:prstGeom>
          <a:gradFill rotWithShape="0">
            <a:gsLst>
              <a:gs pos="0">
                <a:srgbClr val="e9ffab"/>
              </a:gs>
              <a:gs pos="100000">
                <a:srgbClr val="9fff9f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4360" y="4797360"/>
            <a:ext cx="1796760" cy="792360"/>
          </a:xfrm>
          <a:prstGeom prst="rtTriangle">
            <a:avLst/>
          </a:prstGeom>
          <a:gradFill rotWithShape="0">
            <a:gsLst>
              <a:gs pos="0">
                <a:srgbClr val="e9ffab"/>
              </a:gs>
              <a:gs pos="100000">
                <a:srgbClr val="9fff9f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6590520" y="4218840"/>
            <a:ext cx="1797120" cy="792000"/>
          </a:xfrm>
          <a:prstGeom prst="rtTriangle">
            <a:avLst/>
          </a:prstGeom>
          <a:solidFill>
            <a:srgbClr val="ffff00">
              <a:alpha val="45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5509440" y="4218840"/>
            <a:ext cx="1797120" cy="792000"/>
          </a:xfrm>
          <a:prstGeom prst="rtTriangle">
            <a:avLst/>
          </a:prstGeom>
          <a:solidFill>
            <a:srgbClr val="ffff00">
              <a:alpha val="45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64000" y="3645000"/>
            <a:ext cx="1797120" cy="792000"/>
          </a:xfrm>
          <a:prstGeom prst="rtTriangle">
            <a:avLst/>
          </a:prstGeom>
          <a:solidFill>
            <a:srgbClr val="cc99ff">
              <a:alpha val="45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35280" y="4724280"/>
            <a:ext cx="1797120" cy="792360"/>
          </a:xfrm>
          <a:prstGeom prst="rtTriangle">
            <a:avLst/>
          </a:prstGeom>
          <a:solidFill>
            <a:srgbClr val="cc99ff">
              <a:alpha val="45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659640" y="5300640"/>
            <a:ext cx="144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740720" y="5300640"/>
            <a:ext cx="144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64000" y="429264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35280" y="537372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2600" y="4220280"/>
            <a:ext cx="215640" cy="1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4360" y="5445000"/>
            <a:ext cx="2156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9640" y="4005360"/>
            <a:ext cx="1447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9640" y="5229360"/>
            <a:ext cx="2872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58920" y="4292640"/>
            <a:ext cx="144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03280" y="4292640"/>
            <a:ext cx="180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87280" y="5445000"/>
            <a:ext cx="180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32000" y="5445000"/>
            <a:ext cx="144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076720" y="4149720"/>
            <a:ext cx="641520" cy="604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97" y="6267"/>
                </a:moveTo>
                <a:arcTo wR="10800" hR="10800" stAng="-9311092" swAng="-1383495"/>
                <a:lnTo>
                  <a:pt x="10800" y="108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48360" y="5229360"/>
            <a:ext cx="641160" cy="604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25" y="6208"/>
                </a:moveTo>
                <a:arcTo wR="10800" hR="10800" stAng="-9290389" swAng="-1407374"/>
                <a:lnTo>
                  <a:pt x="10800" y="108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140360" y="4292640"/>
            <a:ext cx="144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84720" y="4292640"/>
            <a:ext cx="144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40360" y="5373720"/>
            <a:ext cx="144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84720" y="5373720"/>
            <a:ext cx="144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443640" y="5373720"/>
            <a:ext cx="144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524720" y="5373720"/>
            <a:ext cx="144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27640" y="4508640"/>
            <a:ext cx="28908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227640" y="4724280"/>
            <a:ext cx="2160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380360" y="4581360"/>
            <a:ext cx="28728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380360" y="4724280"/>
            <a:ext cx="28728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885080" y="4797360"/>
            <a:ext cx="180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24360" y="3860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03640" y="1052640"/>
            <a:ext cx="540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03640" y="1700280"/>
            <a:ext cx="540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867280" y="10522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604360" y="105264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500"/>
                            </p:stCondLst>
                            <p:childTnLst>
                              <p:par>
                                <p:cTn id="22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500"/>
                            </p:stCondLst>
                            <p:childTnLst>
                              <p:par>
                                <p:cTn id="30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Если гипотенуза и катет одного прямоугольного треугольника соответственно равны гипотенузе и катету другого, то такие треугольники равны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46520" y="1600200"/>
            <a:ext cx="403704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Times New Roman"/>
              </a:rPr>
              <a:t>Дано: ∆</a:t>
            </a:r>
            <a:r>
              <a:rPr b="0" lang="el-GR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990000"/>
                </a:solidFill>
                <a:latin typeface="Times New Roman"/>
              </a:rPr>
              <a:t>АВС</a:t>
            </a:r>
            <a:r>
              <a:rPr b="0" lang="ru-RU" sz="2000" spc="-1" strike="noStrike">
                <a:solidFill>
                  <a:srgbClr val="990000"/>
                </a:solidFill>
                <a:latin typeface="Times New Roman"/>
              </a:rPr>
              <a:t> – прямоугольны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l-GR" sz="2000" spc="-1" strike="noStrike">
                <a:solidFill>
                  <a:srgbClr val="990000"/>
                </a:solidFill>
                <a:latin typeface="Times New Roman"/>
              </a:rPr>
              <a:t>∆</a:t>
            </a:r>
            <a:r>
              <a:rPr b="0" lang="ru-RU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990000"/>
                </a:solidFill>
                <a:latin typeface="Times New Roman"/>
              </a:rPr>
              <a:t>А1В1С1</a:t>
            </a:r>
            <a:r>
              <a:rPr b="0" lang="ru-RU" sz="2000" spc="-1" strike="noStrike">
                <a:solidFill>
                  <a:srgbClr val="990000"/>
                </a:solidFill>
                <a:latin typeface="Times New Roman"/>
              </a:rPr>
              <a:t> – прямоугольны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000" spc="-1" strike="noStrike">
                <a:solidFill>
                  <a:srgbClr val="990000"/>
                </a:solidFill>
                <a:latin typeface="Times New Roman"/>
              </a:rPr>
              <a:t>АВ</a:t>
            </a:r>
            <a:r>
              <a:rPr b="0" lang="ru-RU" sz="2000" spc="-1" strike="noStrike">
                <a:solidFill>
                  <a:srgbClr val="990000"/>
                </a:solidFill>
                <a:latin typeface="Times New Roman"/>
              </a:rPr>
              <a:t> = </a:t>
            </a:r>
            <a:r>
              <a:rPr b="0" i="1" lang="ru-RU" sz="2000" spc="-1" strike="noStrike">
                <a:solidFill>
                  <a:srgbClr val="990000"/>
                </a:solidFill>
                <a:latin typeface="Times New Roman"/>
              </a:rPr>
              <a:t>А1В1</a:t>
            </a:r>
            <a:r>
              <a:rPr b="0" lang="ru-RU" sz="2000" spc="-1" strike="noStrike">
                <a:solidFill>
                  <a:srgbClr val="990000"/>
                </a:solidFill>
                <a:latin typeface="Times New Roman"/>
              </a:rPr>
              <a:t> , </a:t>
            </a:r>
            <a:r>
              <a:rPr b="0" i="1" lang="ru-RU" sz="2000" spc="-1" strike="noStrike">
                <a:solidFill>
                  <a:srgbClr val="990000"/>
                </a:solidFill>
                <a:latin typeface="Times New Roman"/>
              </a:rPr>
              <a:t>АС</a:t>
            </a:r>
            <a:r>
              <a:rPr b="0" lang="ru-RU" sz="2000" spc="-1" strike="noStrike">
                <a:solidFill>
                  <a:srgbClr val="990000"/>
                </a:solidFill>
                <a:latin typeface="Times New Roman"/>
              </a:rPr>
              <a:t> = </a:t>
            </a:r>
            <a:r>
              <a:rPr b="0" i="1" lang="ru-RU" sz="2000" spc="-1" strike="noStrike">
                <a:solidFill>
                  <a:srgbClr val="990000"/>
                </a:solidFill>
                <a:latin typeface="Times New Roman"/>
              </a:rPr>
              <a:t>А1С1</a:t>
            </a:r>
            <a:r>
              <a:rPr b="0" lang="ru-RU" sz="2000" spc="-1" strike="noStrike">
                <a:solidFill>
                  <a:srgbClr val="990000"/>
                </a:solidFill>
                <a:latin typeface="Times New Roma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Times New Roman"/>
              </a:rPr>
              <a:t>Доказать:</a:t>
            </a:r>
            <a:r>
              <a:rPr b="0" lang="el-GR" sz="2000" spc="-1" strike="noStrike">
                <a:solidFill>
                  <a:srgbClr val="990000"/>
                </a:solidFill>
                <a:latin typeface="Times New Roman"/>
              </a:rPr>
              <a:t>∆</a:t>
            </a:r>
            <a:r>
              <a:rPr b="0" lang="ru-RU" sz="2000" spc="-1" strike="noStrike">
                <a:solidFill>
                  <a:srgbClr val="990000"/>
                </a:solidFill>
                <a:latin typeface="Times New Roman"/>
              </a:rPr>
              <a:t> АВС  = </a:t>
            </a:r>
            <a:r>
              <a:rPr b="0" lang="el-GR" sz="2000" spc="-1" strike="noStrike">
                <a:solidFill>
                  <a:srgbClr val="990000"/>
                </a:solidFill>
                <a:latin typeface="Times New Roman"/>
              </a:rPr>
              <a:t>∆</a:t>
            </a:r>
            <a:r>
              <a:rPr b="0" lang="ru-RU" sz="2000" spc="-1" strike="noStrike">
                <a:solidFill>
                  <a:srgbClr val="990000"/>
                </a:solidFill>
                <a:latin typeface="Times New Roman"/>
              </a:rPr>
              <a:t> А1В1С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3936960"/>
            <a:ext cx="822636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ДОКАЗАТЕЛЬ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Наложим  </a:t>
            </a:r>
            <a:r>
              <a:rPr b="1" i="1" lang="el-GR" sz="1800" spc="-1" strike="noStrike">
                <a:solidFill>
                  <a:srgbClr val="990000"/>
                </a:solidFill>
                <a:latin typeface="Times New Roman"/>
              </a:rPr>
              <a:t>∆</a:t>
            </a:r>
            <a:r>
              <a:rPr b="1" i="1" lang="ru-RU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А1В1С1</a:t>
            </a: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  на треугольник </a:t>
            </a: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АВС.</a:t>
            </a: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Т.к. АС = А1С1 и АВ = А1В1, то они при наложении совпаду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Вершина А1 совместиться с вершиной 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Но и тогда и вершины В1 и В так же совместятся.</a:t>
            </a: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Если бы вершины В1  и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не совпали бы, то </a:t>
            </a:r>
            <a:r>
              <a:rPr b="0" lang="el-GR" sz="1800" spc="-1" strike="noStrike">
                <a:solidFill>
                  <a:srgbClr val="990000"/>
                </a:solidFill>
                <a:latin typeface="Times New Roman"/>
              </a:rPr>
              <a:t>∆</a:t>
            </a: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 АВ1В оказался бы равнобедренны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т.к. </a:t>
            </a:r>
            <a:r>
              <a:rPr b="1" i="1" lang="ru-RU" sz="1800" spc="-1" strike="noStrike">
                <a:solidFill>
                  <a:srgbClr val="990000"/>
                </a:solidFill>
                <a:latin typeface="Times New Roman"/>
              </a:rPr>
              <a:t>АВ</a:t>
            </a: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 = </a:t>
            </a:r>
            <a:r>
              <a:rPr b="1" i="1" lang="ru-RU" sz="1800" spc="-1" strike="noStrike">
                <a:solidFill>
                  <a:srgbClr val="990000"/>
                </a:solidFill>
                <a:latin typeface="Times New Roman"/>
              </a:rPr>
              <a:t>А1В1</a:t>
            </a: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 , </a:t>
            </a: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и в нём было бы два тупых угла, чего быть не мож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Следовательно, треугольники рав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16200000">
            <a:off x="2556720" y="2275200"/>
            <a:ext cx="1796760" cy="792000"/>
          </a:xfrm>
          <a:prstGeom prst="rtTriangle">
            <a:avLst/>
          </a:prstGeom>
          <a:solidFill>
            <a:srgbClr val="ffff00">
              <a:alpha val="45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16200000">
            <a:off x="829440" y="2202840"/>
            <a:ext cx="1797120" cy="792000"/>
          </a:xfrm>
          <a:prstGeom prst="rtTriangle">
            <a:avLst/>
          </a:prstGeom>
          <a:solidFill>
            <a:srgbClr val="ffff00">
              <a:alpha val="45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547640" y="2708280"/>
            <a:ext cx="21600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19280" y="2637000"/>
            <a:ext cx="144360" cy="14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03640" y="2852640"/>
            <a:ext cx="2160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2781360"/>
            <a:ext cx="2156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81440" y="3500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51280" y="3500280"/>
            <a:ext cx="428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189080" y="350028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05040" y="3500280"/>
            <a:ext cx="40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82880" y="12682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570120" y="134136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979640" y="2637000"/>
            <a:ext cx="217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79640" y="270828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708360" y="27813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708360" y="285264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42920" y="350028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042560" y="1628640"/>
            <a:ext cx="1081080" cy="187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5960" y="3500280"/>
            <a:ext cx="40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258920" y="3357720"/>
            <a:ext cx="288000" cy="28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45080" y="3357720"/>
            <a:ext cx="141840" cy="28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500"/>
                            </p:stCondLst>
                            <p:childTnLst>
                              <p:par>
                                <p:cTn id="3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2000"/>
                            </p:stCondLst>
                            <p:childTnLst>
                              <p:par>
                                <p:cTn id="3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348280" y="3860640"/>
            <a:ext cx="4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23520" y="1341360"/>
            <a:ext cx="4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254720" y="141300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233480" y="3716280"/>
            <a:ext cx="48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10520" y="544824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оказат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51280" y="5157720"/>
            <a:ext cx="43927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rId1" action="ppaction://hlinksldjump"/>
          </p:cNvPr>
          <p:cNvSpPr/>
          <p:nvPr/>
        </p:nvSpPr>
        <p:spPr>
          <a:xfrm>
            <a:off x="250920" y="5805360"/>
            <a:ext cx="649080" cy="64800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3837"/>
                </a:moveTo>
                <a:lnTo>
                  <a:pt x="13394" y="6448"/>
                </a:ln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lnTo>
                  <a:pt x="17781" y="10800"/>
                </a:lnTo>
                <a:lnTo>
                  <a:pt x="16127" y="10800"/>
                </a:lnTo>
                <a:lnTo>
                  <a:pt x="16127" y="17989"/>
                </a:lnTo>
                <a:lnTo>
                  <a:pt x="5509" y="17989"/>
                </a:lnTo>
                <a:lnTo>
                  <a:pt x="5509" y="10800"/>
                </a:lnTo>
                <a:lnTo>
                  <a:pt x="3855" y="10800"/>
                </a:lnTo>
                <a:close/>
              </a:path>
              <a:path fill="darkenLess" w="21636" h="21600">
                <a:moveTo>
                  <a:pt x="13394" y="6448"/>
                </a:move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close/>
              </a:path>
              <a:path fill="darkenLess" w="21636" h="21600">
                <a:moveTo>
                  <a:pt x="9895" y="14299"/>
                </a:moveTo>
                <a:lnTo>
                  <a:pt x="11741" y="14299"/>
                </a:lnTo>
                <a:lnTo>
                  <a:pt x="11741" y="17989"/>
                </a:lnTo>
                <a:lnTo>
                  <a:pt x="16127" y="17989"/>
                </a:lnTo>
                <a:lnTo>
                  <a:pt x="16127" y="10800"/>
                </a:lnTo>
                <a:lnTo>
                  <a:pt x="5509" y="10800"/>
                </a:lnTo>
                <a:lnTo>
                  <a:pt x="5509" y="17989"/>
                </a:lnTo>
                <a:lnTo>
                  <a:pt x="9895" y="17989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125480" y="217440"/>
            <a:ext cx="158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</a:t>
            </a:r>
            <a:r>
              <a:rPr b="1" lang="en-US" sz="2400" spc="-1" strike="noStrike">
                <a:solidFill>
                  <a:srgbClr val="000000"/>
                </a:solidFill>
                <a:latin typeface="Univer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16360" y="1773360"/>
            <a:ext cx="4248000" cy="2303280"/>
          </a:xfrm>
          <a:prstGeom prst="rect">
            <a:avLst/>
          </a:prstGeom>
          <a:solidFill>
            <a:srgbClr val="33cccc">
              <a:alpha val="58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916360" y="1765440"/>
            <a:ext cx="4248000" cy="2319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898720" y="1760400"/>
            <a:ext cx="306360" cy="314640"/>
          </a:xfrm>
          <a:custGeom>
            <a:avLst/>
            <a:gdLst/>
            <a:ahLst/>
            <a:rect l="l" t="t" r="r" b="b"/>
            <a:pathLst>
              <a:path w="193" h="198">
                <a:moveTo>
                  <a:pt x="0" y="1"/>
                </a:moveTo>
                <a:lnTo>
                  <a:pt x="191" y="0"/>
                </a:lnTo>
                <a:lnTo>
                  <a:pt x="193" y="196"/>
                </a:lnTo>
                <a:lnTo>
                  <a:pt x="12" y="198"/>
                </a:lnTo>
                <a:lnTo>
                  <a:pt x="0" y="1"/>
                </a:lnTo>
                <a:close/>
              </a:path>
            </a:pathLst>
          </a:custGeom>
          <a:solidFill>
            <a:srgbClr val="cc3399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77080" y="3789360"/>
            <a:ext cx="287280" cy="287280"/>
          </a:xfrm>
          <a:custGeom>
            <a:avLst/>
            <a:gdLst/>
            <a:ahLst/>
            <a:rect l="l" t="t" r="r" b="b"/>
            <a:pathLst>
              <a:path w="181" h="181">
                <a:moveTo>
                  <a:pt x="0" y="181"/>
                </a:moveTo>
                <a:lnTo>
                  <a:pt x="0" y="0"/>
                </a:lnTo>
                <a:lnTo>
                  <a:pt x="181" y="0"/>
                </a:lnTo>
                <a:lnTo>
                  <a:pt x="181" y="181"/>
                </a:lnTo>
                <a:lnTo>
                  <a:pt x="0" y="181"/>
                </a:lnTo>
                <a:close/>
              </a:path>
            </a:pathLst>
          </a:custGeom>
          <a:solidFill>
            <a:srgbClr val="cc3399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843280" y="292428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43280" y="299736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020000" y="285264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020000" y="2997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435640" y="5516640"/>
            <a:ext cx="170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АВС=</a:t>
            </a:r>
            <a:r>
              <a:rPr b="1" i="1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671480" y="48848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419560" y="3716280"/>
            <a:ext cx="4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55520" y="115920"/>
            <a:ext cx="4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391080" y="364500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353840" y="3933720"/>
            <a:ext cx="48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19600" y="5448240"/>
            <a:ext cx="464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оказать: </a:t>
            </a:r>
            <a:r>
              <a:rPr b="1" i="1" lang="el-GR" sz="2800" spc="-1" strike="noStrike">
                <a:solidFill>
                  <a:srgbClr val="000000"/>
                </a:solidFill>
                <a:latin typeface="Univers"/>
              </a:rPr>
              <a:t>Δ</a:t>
            </a:r>
            <a:r>
              <a:rPr b="1" i="1" lang="ru-RU" sz="28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Univers"/>
              </a:rPr>
              <a:t>ABD</a:t>
            </a:r>
            <a:r>
              <a:rPr b="1" i="1" lang="ru-RU" sz="2800" spc="-1" strike="noStrike">
                <a:solidFill>
                  <a:srgbClr val="000000"/>
                </a:solidFill>
                <a:latin typeface="Univers"/>
              </a:rPr>
              <a:t>=</a:t>
            </a:r>
            <a:r>
              <a:rPr b="1" i="1" lang="el-GR" sz="2800" spc="-1" strike="noStrike">
                <a:solidFill>
                  <a:srgbClr val="000000"/>
                </a:solidFill>
                <a:latin typeface="Univers"/>
              </a:rPr>
              <a:t>Δ</a:t>
            </a:r>
            <a:r>
              <a:rPr b="1" i="1" lang="ru-RU" sz="28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Univers"/>
              </a:rPr>
              <a:t>C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780000" y="5157720"/>
            <a:ext cx="45370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125480" y="217440"/>
            <a:ext cx="158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</a:t>
            </a:r>
            <a:r>
              <a:rPr b="1" lang="en-US" sz="2400" spc="-1" strike="noStrike">
                <a:solidFill>
                  <a:srgbClr val="000000"/>
                </a:solidFill>
                <a:latin typeface="Univer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16360" y="549360"/>
            <a:ext cx="3384360" cy="3311280"/>
          </a:xfrm>
          <a:custGeom>
            <a:avLst/>
            <a:gdLst/>
            <a:ahLst/>
            <a:rect l="l" t="t" r="r" b="b"/>
            <a:pathLst>
              <a:path w="2132" h="2086">
                <a:moveTo>
                  <a:pt x="0" y="2086"/>
                </a:moveTo>
                <a:lnTo>
                  <a:pt x="2132" y="2086"/>
                </a:lnTo>
                <a:lnTo>
                  <a:pt x="1043" y="0"/>
                </a:lnTo>
                <a:lnTo>
                  <a:pt x="0" y="208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99">
                  <a:alpha val="90196"/>
                </a:srgbClr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0" y="549360"/>
            <a:ext cx="1440" cy="331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0" y="3500280"/>
            <a:ext cx="360360" cy="360360"/>
          </a:xfrm>
          <a:custGeom>
            <a:avLst/>
            <a:gdLst/>
            <a:ahLst/>
            <a:rect l="l" t="t" r="r" b="b"/>
            <a:pathLst>
              <a:path w="227" h="227">
                <a:moveTo>
                  <a:pt x="0" y="0"/>
                </a:moveTo>
                <a:lnTo>
                  <a:pt x="227" y="0"/>
                </a:lnTo>
                <a:lnTo>
                  <a:pt x="227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364000" y="3789360"/>
            <a:ext cx="287640" cy="287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64000" y="3645000"/>
            <a:ext cx="287640" cy="287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780000" y="3789360"/>
            <a:ext cx="287280" cy="287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780000" y="3645000"/>
            <a:ext cx="287280" cy="287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627280" y="4005360"/>
            <a:ext cx="47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5400000">
            <a:off x="3616200" y="302760"/>
            <a:ext cx="3456000" cy="4392720"/>
          </a:xfrm>
          <a:prstGeom prst="triangle">
            <a:avLst>
              <a:gd name="adj" fmla="val 47403"/>
            </a:avLst>
          </a:prstGeom>
          <a:gradFill rotWithShape="0">
            <a:gsLst>
              <a:gs pos="0">
                <a:srgbClr val="ffffff"/>
              </a:gs>
              <a:gs pos="100000">
                <a:srgbClr val="3333cc">
                  <a:alpha val="31372"/>
                </a:srgbClr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3124080" y="2421000"/>
            <a:ext cx="4408560" cy="7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596360" y="2060640"/>
            <a:ext cx="47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627280" y="2131920"/>
            <a:ext cx="47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627280" y="260280"/>
            <a:ext cx="47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80000" y="5229360"/>
            <a:ext cx="42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Univers"/>
              </a:rPr>
              <a:t>Доказать</a:t>
            </a:r>
            <a:r>
              <a:rPr b="1" lang="ru-RU" sz="2800" spc="-1" strike="noStrike">
                <a:solidFill>
                  <a:srgbClr val="000000"/>
                </a:solidFill>
                <a:latin typeface="Univers"/>
              </a:rPr>
              <a:t>: </a:t>
            </a:r>
            <a:r>
              <a:rPr b="1" i="1" lang="ru-RU" sz="2800" spc="-1" strike="noStrike">
                <a:solidFill>
                  <a:srgbClr val="000000"/>
                </a:solidFill>
                <a:latin typeface="Univers"/>
              </a:rPr>
              <a:t>АВ=В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51280" y="5013360"/>
            <a:ext cx="32418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125480" y="217440"/>
            <a:ext cx="158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</a:t>
            </a:r>
            <a:r>
              <a:rPr b="1" lang="en-US" sz="2400" spc="-1" strike="noStrike">
                <a:solidFill>
                  <a:srgbClr val="000000"/>
                </a:solidFill>
                <a:latin typeface="Univer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132000" y="2133720"/>
            <a:ext cx="360360" cy="358560"/>
          </a:xfrm>
          <a:custGeom>
            <a:avLst/>
            <a:gdLst/>
            <a:ahLst/>
            <a:rect l="l" t="t" r="r" b="b"/>
            <a:pathLst>
              <a:path w="227" h="226">
                <a:moveTo>
                  <a:pt x="0" y="0"/>
                </a:moveTo>
                <a:lnTo>
                  <a:pt x="227" y="0"/>
                </a:lnTo>
                <a:lnTo>
                  <a:pt x="227" y="226"/>
                </a:lnTo>
                <a:lnTo>
                  <a:pt x="0" y="226"/>
                </a:lnTo>
                <a:lnTo>
                  <a:pt x="0" y="0"/>
                </a:lnTo>
                <a:close/>
              </a:path>
            </a:pathLst>
          </a:custGeom>
          <a:solidFill>
            <a:srgbClr val="666699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 flipV="1" rot="3660000">
            <a:off x="5815440" y="1853640"/>
            <a:ext cx="1018080" cy="720720"/>
          </a:xfrm>
          <a:custGeom>
            <a:avLst/>
            <a:gdLst>
              <a:gd name="textAreaLeft" fmla="*/ 453600 w 1018080"/>
              <a:gd name="textAreaRight" fmla="*/ 1004400 w 1018080"/>
              <a:gd name="textAreaTop" fmla="*/ 360 h 720720"/>
              <a:gd name="textAreaBottom" fmla="*/ 360720 h 720720"/>
            </a:gdLst>
            <a:ahLst/>
            <a:rect l="textAreaLeft" t="textAreaTop" r="textAreaRight" b="textAreaBottom"/>
            <a:pathLst>
              <a:path stroke="0" w="21600" h="21600">
                <a:moveTo>
                  <a:pt x="9550" y="73"/>
                </a:moveTo>
                <a:arcTo wR="10800" hR="10800" stAng="-5798830" swAng="4994284"/>
                <a:lnTo>
                  <a:pt x="10800" y="10800"/>
                </a:lnTo>
                <a:close/>
              </a:path>
              <a:path fill="none" w="21600" h="21600">
                <a:moveTo>
                  <a:pt x="9550" y="73"/>
                </a:moveTo>
                <a:arcTo wR="10800" hR="10800" stAng="-5798830" swAng="499428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 flipV="1" rot="3660000">
            <a:off x="5863320" y="2418840"/>
            <a:ext cx="1018080" cy="720720"/>
          </a:xfrm>
          <a:custGeom>
            <a:avLst/>
            <a:gdLst>
              <a:gd name="textAreaLeft" fmla="*/ 453600 w 1018080"/>
              <a:gd name="textAreaRight" fmla="*/ 1004400 w 1018080"/>
              <a:gd name="textAreaTop" fmla="*/ 360 h 720720"/>
              <a:gd name="textAreaBottom" fmla="*/ 360720 h 720720"/>
            </a:gdLst>
            <a:ahLst/>
            <a:rect l="textAreaLeft" t="textAreaTop" r="textAreaRight" b="textAreaBottom"/>
            <a:pathLst>
              <a:path stroke="0" w="21600" h="21600">
                <a:moveTo>
                  <a:pt x="9550" y="73"/>
                </a:moveTo>
                <a:arcTo wR="10800" hR="10800" stAng="-5798830" swAng="4994284"/>
                <a:lnTo>
                  <a:pt x="10800" y="10800"/>
                </a:lnTo>
                <a:close/>
              </a:path>
              <a:path fill="none" w="21600" h="21600">
                <a:moveTo>
                  <a:pt x="9550" y="73"/>
                </a:moveTo>
                <a:arcTo wR="10800" hR="10800" stAng="-5798830" swAng="499428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484360" y="1484280"/>
            <a:ext cx="4753080" cy="2592360"/>
          </a:xfrm>
          <a:custGeom>
            <a:avLst/>
            <a:gdLst/>
            <a:ahLst/>
            <a:rect l="l" t="t" r="r" b="b"/>
            <a:pathLst>
              <a:path w="2994" h="1633">
                <a:moveTo>
                  <a:pt x="46" y="1633"/>
                </a:moveTo>
                <a:lnTo>
                  <a:pt x="2994" y="1633"/>
                </a:lnTo>
                <a:lnTo>
                  <a:pt x="0" y="0"/>
                </a:lnTo>
                <a:lnTo>
                  <a:pt x="0" y="1633"/>
                </a:lnTo>
                <a:lnTo>
                  <a:pt x="227" y="1633"/>
                </a:lnTo>
              </a:path>
            </a:pathLst>
          </a:custGeom>
          <a:blipFill rotWithShape="0">
            <a:blip r:embed="rId1">
              <a:alphaModFix amt="65000"/>
            </a:blip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482200" y="1484280"/>
            <a:ext cx="4753080" cy="2592360"/>
          </a:xfrm>
          <a:custGeom>
            <a:avLst/>
            <a:gdLst/>
            <a:ahLst/>
            <a:rect l="l" t="t" r="r" b="b"/>
            <a:pathLst>
              <a:path w="2994" h="1633">
                <a:moveTo>
                  <a:pt x="46" y="1633"/>
                </a:moveTo>
                <a:lnTo>
                  <a:pt x="2994" y="1633"/>
                </a:lnTo>
                <a:lnTo>
                  <a:pt x="0" y="0"/>
                </a:lnTo>
                <a:lnTo>
                  <a:pt x="0" y="1633"/>
                </a:lnTo>
                <a:lnTo>
                  <a:pt x="227" y="1633"/>
                </a:lnTo>
              </a:path>
            </a:pathLst>
          </a:cu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84360" y="3789360"/>
            <a:ext cx="289080" cy="287280"/>
          </a:xfrm>
          <a:custGeom>
            <a:avLst/>
            <a:gdLst/>
            <a:ahLst/>
            <a:rect l="l" t="t" r="r" b="b"/>
            <a:pathLst>
              <a:path w="182" h="181">
                <a:moveTo>
                  <a:pt x="0" y="0"/>
                </a:moveTo>
                <a:lnTo>
                  <a:pt x="182" y="0"/>
                </a:lnTo>
                <a:lnTo>
                  <a:pt x="182" y="181"/>
                </a:lnTo>
                <a:lnTo>
                  <a:pt x="0" y="181"/>
                </a:lnTo>
                <a:lnTo>
                  <a:pt x="0" y="0"/>
                </a:lnTo>
                <a:close/>
              </a:path>
            </a:pathLst>
          </a:custGeom>
          <a:solidFill>
            <a:srgbClr val="6666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950160" y="3789360"/>
            <a:ext cx="288720" cy="287280"/>
          </a:xfrm>
          <a:custGeom>
            <a:avLst/>
            <a:gdLst/>
            <a:ahLst/>
            <a:rect l="l" t="t" r="r" b="b"/>
            <a:pathLst>
              <a:path w="182" h="181">
                <a:moveTo>
                  <a:pt x="0" y="0"/>
                </a:moveTo>
                <a:lnTo>
                  <a:pt x="182" y="0"/>
                </a:lnTo>
                <a:lnTo>
                  <a:pt x="182" y="181"/>
                </a:lnTo>
                <a:lnTo>
                  <a:pt x="0" y="181"/>
                </a:lnTo>
                <a:lnTo>
                  <a:pt x="0" y="0"/>
                </a:lnTo>
                <a:close/>
              </a:path>
            </a:pathLst>
          </a:custGeom>
          <a:solidFill>
            <a:srgbClr val="6666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918080" y="3860640"/>
            <a:ext cx="4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921680" y="981000"/>
            <a:ext cx="4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29240" y="90792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308360" y="3645000"/>
            <a:ext cx="48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132000" y="5300640"/>
            <a:ext cx="4534200" cy="797400"/>
            <a:chOff x="3132000" y="5300640"/>
            <a:chExt cx="4534200" cy="797400"/>
          </a:xfrm>
        </p:grpSpPr>
        <p:sp>
          <p:nvSpPr>
            <p:cNvPr id="219" name=""/>
            <p:cNvSpPr/>
            <p:nvPr/>
          </p:nvSpPr>
          <p:spPr>
            <a:xfrm>
              <a:off x="3132000" y="5300640"/>
              <a:ext cx="45342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3337560" y="5445000"/>
              <a:ext cx="4318560" cy="653040"/>
              <a:chOff x="3337560" y="5445000"/>
              <a:chExt cx="4318560" cy="653040"/>
            </a:xfrm>
          </p:grpSpPr>
          <p:sp>
            <p:nvSpPr>
              <p:cNvPr id="221" name=""/>
              <p:cNvSpPr/>
              <p:nvPr/>
            </p:nvSpPr>
            <p:spPr>
              <a:xfrm>
                <a:off x="3337560" y="5527800"/>
                <a:ext cx="1919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ru-RU" sz="2400" spc="-1" strike="noStrike">
                    <a:solidFill>
                      <a:srgbClr val="000000"/>
                    </a:solidFill>
                    <a:latin typeface="Univers"/>
                  </a:rPr>
                  <a:t>Доказать</a:t>
                </a:r>
                <a:r>
                  <a:rPr b="1" lang="ru-RU" sz="2800" spc="-1" strike="noStrike">
                    <a:solidFill>
                      <a:srgbClr val="000000"/>
                    </a:solidFill>
                    <a:latin typeface="Univers"/>
                  </a:rPr>
                  <a:t>:</a:t>
                </a:r>
                <a:r>
                  <a:rPr b="1" lang="ru-RU" sz="28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22" name=""/>
                  <p:cNvSpPr txBox="1"/>
                  <p:nvPr/>
                </p:nvSpPr>
                <p:spPr>
                  <a:xfrm>
                    <a:off x="5459400" y="5445000"/>
                    <a:ext cx="647640" cy="595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∠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23" name=""/>
              <p:cNvSpPr/>
              <p:nvPr/>
            </p:nvSpPr>
            <p:spPr>
              <a:xfrm>
                <a:off x="5962680" y="5516640"/>
                <a:ext cx="1081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ru-RU" sz="3200" spc="-1" strike="noStrike">
                    <a:solidFill>
                      <a:srgbClr val="000000"/>
                    </a:solidFill>
                    <a:latin typeface="Univers"/>
                  </a:rPr>
                  <a:t>В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Univers"/>
                  </a:rPr>
                  <a:t> </a:t>
                </a:r>
                <a:r>
                  <a:rPr b="1" lang="ru-RU" sz="3200" spc="-1" strike="noStrike">
                    <a:solidFill>
                      <a:srgbClr val="000000"/>
                    </a:solidFill>
                    <a:latin typeface="Univers"/>
                  </a:rPr>
                  <a:t>=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4" name=""/>
              <p:cNvGrpSpPr/>
              <p:nvPr/>
            </p:nvGrpSpPr>
            <p:grpSpPr>
              <a:xfrm>
                <a:off x="6683400" y="5445000"/>
                <a:ext cx="972720" cy="652680"/>
                <a:chOff x="6683400" y="5445000"/>
                <a:chExt cx="972720" cy="65268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225" name=""/>
                    <p:cNvSpPr txBox="1"/>
                    <p:nvPr/>
                  </p:nvSpPr>
                  <p:spPr>
                    <a:xfrm>
                      <a:off x="6683400" y="5445000"/>
                      <a:ext cx="642960" cy="5904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∠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226" name=""/>
                <p:cNvSpPr/>
                <p:nvPr/>
              </p:nvSpPr>
              <p:spPr>
                <a:xfrm>
                  <a:off x="7182360" y="5516280"/>
                  <a:ext cx="4737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ru-RU" sz="3200" spc="-1" strike="noStrike">
                      <a:solidFill>
                        <a:srgbClr val="000000"/>
                      </a:solidFill>
                      <a:latin typeface="Univers"/>
                    </a:rPr>
                    <a:t>С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27" name=""/>
          <p:cNvSpPr/>
          <p:nvPr/>
        </p:nvSpPr>
        <p:spPr>
          <a:xfrm>
            <a:off x="7125480" y="217440"/>
            <a:ext cx="158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</a:t>
            </a:r>
            <a:r>
              <a:rPr b="1" lang="en-US" sz="2400" spc="-1" strike="noStrike">
                <a:solidFill>
                  <a:srgbClr val="000000"/>
                </a:solidFill>
                <a:latin typeface="Univer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484360" y="1484280"/>
            <a:ext cx="4751640" cy="259236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339640" y="2421000"/>
            <a:ext cx="28908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2340000" y="2565000"/>
            <a:ext cx="28908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7093080" y="2565000"/>
            <a:ext cx="28728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7093080" y="2707920"/>
            <a:ext cx="28728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7136640" y="217440"/>
            <a:ext cx="158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</a:t>
            </a:r>
            <a:r>
              <a:rPr b="1" lang="en-US" sz="2400" spc="-1" strike="noStrike">
                <a:solidFill>
                  <a:srgbClr val="000000"/>
                </a:solidFill>
                <a:latin typeface="Univer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556000" y="620640"/>
            <a:ext cx="4176720" cy="4103640"/>
          </a:xfrm>
          <a:custGeom>
            <a:avLst/>
            <a:gdLst/>
            <a:ahLst/>
            <a:rect l="l" t="t" r="r" b="b"/>
            <a:pathLst>
              <a:path w="2631" h="2585">
                <a:moveTo>
                  <a:pt x="0" y="2585"/>
                </a:moveTo>
                <a:lnTo>
                  <a:pt x="2631" y="2585"/>
                </a:lnTo>
                <a:lnTo>
                  <a:pt x="1315" y="0"/>
                </a:lnTo>
                <a:lnTo>
                  <a:pt x="0" y="2585"/>
                </a:lnTo>
                <a:close/>
              </a:path>
            </a:pathLst>
          </a:custGeom>
          <a:blipFill rotWithShape="0">
            <a:blip r:embed="rId1">
              <a:alphaModFix amt="51000"/>
            </a:blip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382920" y="3073320"/>
            <a:ext cx="3336840" cy="1614600"/>
          </a:xfrm>
          <a:custGeom>
            <a:avLst/>
            <a:gdLst/>
            <a:ahLst/>
            <a:rect l="l" t="t" r="r" b="b"/>
            <a:pathLst>
              <a:path w="2102" h="1017">
                <a:moveTo>
                  <a:pt x="2102" y="1017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16240" y="3084480"/>
            <a:ext cx="507960" cy="484200"/>
          </a:xfrm>
          <a:custGeom>
            <a:avLst/>
            <a:gdLst/>
            <a:ahLst/>
            <a:rect l="l" t="t" r="r" b="b"/>
            <a:pathLst>
              <a:path w="320" h="305">
                <a:moveTo>
                  <a:pt x="118" y="0"/>
                </a:moveTo>
                <a:lnTo>
                  <a:pt x="320" y="90"/>
                </a:lnTo>
                <a:lnTo>
                  <a:pt x="209" y="305"/>
                </a:lnTo>
                <a:lnTo>
                  <a:pt x="0" y="215"/>
                </a:lnTo>
                <a:lnTo>
                  <a:pt x="118" y="0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580000" y="3095640"/>
            <a:ext cx="468360" cy="463680"/>
          </a:xfrm>
          <a:custGeom>
            <a:avLst/>
            <a:gdLst/>
            <a:ahLst/>
            <a:rect l="l" t="t" r="r" b="b"/>
            <a:pathLst>
              <a:path w="295" h="292">
                <a:moveTo>
                  <a:pt x="205" y="0"/>
                </a:moveTo>
                <a:lnTo>
                  <a:pt x="295" y="201"/>
                </a:lnTo>
                <a:lnTo>
                  <a:pt x="101" y="292"/>
                </a:lnTo>
                <a:lnTo>
                  <a:pt x="0" y="87"/>
                </a:lnTo>
                <a:lnTo>
                  <a:pt x="205" y="0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556000" y="3084480"/>
            <a:ext cx="3349440" cy="1641600"/>
          </a:xfrm>
          <a:custGeom>
            <a:avLst/>
            <a:gdLst/>
            <a:ahLst/>
            <a:rect l="l" t="t" r="r" b="b"/>
            <a:pathLst>
              <a:path w="2110" h="1034">
                <a:moveTo>
                  <a:pt x="0" y="1034"/>
                </a:moveTo>
                <a:lnTo>
                  <a:pt x="211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987920" y="4365720"/>
            <a:ext cx="4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936240" y="260280"/>
            <a:ext cx="4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822720" y="429264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905560" y="2565360"/>
            <a:ext cx="4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949720" y="249228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129040" y="5735520"/>
            <a:ext cx="638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Univers"/>
              </a:rPr>
              <a:t>Доказать</a:t>
            </a:r>
            <a:r>
              <a:rPr b="1" lang="ru-RU" sz="2800" spc="-1" strike="noStrike">
                <a:solidFill>
                  <a:srgbClr val="000000"/>
                </a:solidFill>
                <a:latin typeface="Univers"/>
              </a:rPr>
              <a:t>: </a:t>
            </a:r>
            <a:r>
              <a:rPr b="1" lang="el-GR" sz="2800" spc="-1" strike="noStrike">
                <a:solidFill>
                  <a:srgbClr val="000000"/>
                </a:solidFill>
                <a:latin typeface="Univers"/>
              </a:rPr>
              <a:t>Δ</a:t>
            </a:r>
            <a:r>
              <a:rPr b="1" lang="ru-RU" sz="28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Univers"/>
              </a:rPr>
              <a:t>АВС</a:t>
            </a:r>
            <a:r>
              <a:rPr b="1" lang="ru-RU" sz="2800" spc="-1" strike="noStrike">
                <a:solidFill>
                  <a:srgbClr val="000000"/>
                </a:solidFill>
                <a:latin typeface="Univers"/>
              </a:rPr>
              <a:t>- </a:t>
            </a:r>
            <a:r>
              <a:rPr b="1" i="1" lang="ru-RU" sz="2800" spc="-1" strike="noStrike">
                <a:solidFill>
                  <a:srgbClr val="000000"/>
                </a:solidFill>
                <a:latin typeface="Univers"/>
              </a:rPr>
              <a:t>равнобедрен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411280" y="5445000"/>
            <a:ext cx="60483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076800" y="3645000"/>
            <a:ext cx="23184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6219720" y="3645000"/>
            <a:ext cx="23184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2786040" y="3606840"/>
            <a:ext cx="326520" cy="433080"/>
            <a:chOff x="2786040" y="3606840"/>
            <a:chExt cx="326520" cy="433080"/>
          </a:xfrm>
        </p:grpSpPr>
        <p:sp>
          <p:nvSpPr>
            <p:cNvPr id="249" name=""/>
            <p:cNvSpPr/>
            <p:nvPr/>
          </p:nvSpPr>
          <p:spPr>
            <a:xfrm>
              <a:off x="2786040" y="3745800"/>
              <a:ext cx="291960" cy="294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820600" y="3606840"/>
              <a:ext cx="291960" cy="295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3T15:07:06Z</dcterms:created>
  <dc:creator>Полина</dc:creator>
  <dc:description/>
  <dc:language>en-US</dc:language>
  <cp:lastModifiedBy>Полина</cp:lastModifiedBy>
  <dcterms:modified xsi:type="dcterms:W3CDTF">2011-06-14T06:08:58Z</dcterms:modified>
  <cp:revision>17</cp:revision>
  <dc:subject/>
  <dc:title>Слайд 1</dc:title>
</cp:coreProperties>
</file>