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DC17-181D-4568-854D-7259E5FF6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3963-3300-4E65-8666-D2F79FDB3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C7EA-9D2F-4AEE-8C4D-CAF11818A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EFE3-6525-435D-A2BF-29B61BACF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FF31A-A0F3-483C-A400-6AB1859E4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1376A-01C8-4AD2-BD39-C4CBC9BAA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08772-A252-41D4-ADCA-1D3B9E355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4985D-E492-4652-BED0-AD93CA1B9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3463A-B644-4426-9240-D089C4822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5B9F2-BB4C-4FF9-AC47-D27AC06AE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C4092-1653-4384-8D1A-D258CA048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DE04-A724-4084-B025-201136CDF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3A270-100B-4000-8860-7A3B81629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66EAB-6783-4F19-914C-E5314611F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BECEF-DFAA-46A3-9FC1-08C7C4102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EEE0E-9634-481D-BA69-9914B211C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CCF4E-244E-4F34-B2E0-0F4ACA010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CA59-ED39-4B82-8DEF-7550B12A4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E100-E4AA-454C-A6AE-8782F531F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C7C2-0BCF-4717-8A2F-F704DE89A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AB92-C472-4E08-87EC-D1B36A6A3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1912-C102-47C1-8883-FB5F2FBAB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4DBB-FF2E-415D-8898-CF2B6FF31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9A7E-CB2F-4EE4-B3F1-7B05C1B55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9D429-4BF0-48BB-A6E7-674A0F93E7DB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197D8-D778-4273-815A-E870E12B914F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Равносторонний треугольник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 rot="10800000">
            <a:off x="2514240" y="1523880"/>
            <a:ext cx="4267080" cy="32004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038480" y="14479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В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057400" y="44956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44956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С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62120" y="5181480"/>
            <a:ext cx="746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Треугольник, все стороны которого равны, называется 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равносторонним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777</cp:lastModifiedBy>
  <dcterms:modified xsi:type="dcterms:W3CDTF">2011-12-18T17:46:0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