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17E-BEFE-4CB9-95C8-FB29FBB3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D54-2B8D-4C16-80CF-A0D52A52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297-1212-44E6-8805-32943F20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CC2-82D7-40DF-8911-4620380E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A1AC-7EA7-4569-BA23-5374BCE0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365E-D410-4230-AB96-2CDC64AF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980F-CA98-4F4E-92E1-8AC040B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6357-824E-458A-BC08-7DAD483E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45C2-9C51-4BCF-A84D-0EFCA87B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26BF-A826-4518-B47C-0E2F92C2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2105-DFED-4900-BD40-B25DCF52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382-AD78-41DF-B493-3AF8FBB6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4A0B-6538-4474-887D-93EBDFF0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0246-BC80-4A19-BE2B-C7A14A10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99DF-43EF-41FC-A2A1-ABA74D2D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DDA3-C95E-4999-9165-F12A328A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1266-94A3-40D8-9117-8C9EEFB5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279C-D6B5-4149-B08A-31F84E29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0C72-7A0A-42BB-8916-FE7A2E26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C635-56A6-4B6B-AC86-086A057B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685-1E0F-4181-9224-9CE9D149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7E5-D79C-41AB-81A2-B4405809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A4A-87FE-44FC-9A05-28A6B7F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AFD-0F17-458B-A7C9-C6BC9EC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1D0E-C042-4E40-A359-5F2F24C1A8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22BB-5FCF-44BA-8129-09E1D12973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-7128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Те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езультатом своей личной работы считаю, что я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fa9b7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Разобрался в теории.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В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Научился решать за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Повторил весь ранее изученный материа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то   вам не хватало на уроке при решении задач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Знаний.   </a:t>
            </a:r>
            <a:r>
              <a:rPr b="1" lang="en-US" sz="1800" spc="-1" strike="noStrike">
                <a:solidFill>
                  <a:srgbClr val="6fa9b7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Времени.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Желания.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Д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Решал нормаль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то оказывал вам помощь  в преодолении трудностей на уро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А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Одноклассники.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Учитель.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С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Учебник.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Д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Никт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3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3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23343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777</cp:lastModifiedBy>
  <dcterms:modified xsi:type="dcterms:W3CDTF">2011-12-18T18:54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