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1BE8-063B-4666-97C1-06AC8CCD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A21C-0931-4C7A-96A6-6AEFFA9E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14BA-210B-4ACD-B32E-38CF7625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1715-69A7-4E45-B796-467F1D88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1F6B-E18E-4778-B771-56B30A13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728E-795A-4967-A362-A92672C0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A4BF-B386-4B7A-B1A8-33F61C53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F876-8E49-4D95-8F04-BA58F7E7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471D-AA07-4926-9D44-6E9DF7AA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D4CF-6401-40D2-B5B8-618BAA45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B29D-2996-4B38-8296-ED699A34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0861-AAC8-42DB-BAFD-023E6CD9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40D0-A882-4514-9C1A-43EC715B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9D11-02AC-44F6-B7B4-C5141F6D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48CA-66C4-493C-90D7-1052EC2B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971D-AC52-4E07-B69C-B4BA96AC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B0A9-1109-4807-BF8D-D1121793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FA02-525F-4DEC-8D66-1BF5F630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5CC7-A942-4E0E-8468-9FF9A0C4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ABE9-0B2F-47CE-8116-79DB709B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3AC1-E7E6-4FE6-BA17-BD7C282A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FCC5-1EAF-48B2-9B79-A0B1D39A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1B24-F131-4E01-BF29-6AAC2E4D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9A25-11DC-40B1-82EB-61670878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b812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D2EB-7C3C-4A20-9FB0-2E6E2D346A8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b812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E1F8-CEF8-4739-B5F9-A12DB2AC9AF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Деление с остатком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7" name="Picture 4" descr="j0205402"/>
          <p:cNvPicPr/>
          <p:nvPr/>
        </p:nvPicPr>
        <p:blipFill>
          <a:blip r:embed="rId1"/>
          <a:stretch/>
        </p:blipFill>
        <p:spPr>
          <a:xfrm>
            <a:off x="6084720" y="4365720"/>
            <a:ext cx="2808360" cy="2087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j0292136"/>
          <p:cNvPicPr/>
          <p:nvPr/>
        </p:nvPicPr>
        <p:blipFill>
          <a:blip r:embed="rId2"/>
          <a:stretch/>
        </p:blipFill>
        <p:spPr>
          <a:xfrm>
            <a:off x="250920" y="333360"/>
            <a:ext cx="1506600" cy="2305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j0088956"/>
          <p:cNvPicPr/>
          <p:nvPr/>
        </p:nvPicPr>
        <p:blipFill>
          <a:blip r:embed="rId3"/>
          <a:stretch/>
        </p:blipFill>
        <p:spPr>
          <a:xfrm>
            <a:off x="468360" y="4365720"/>
            <a:ext cx="29527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опросы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жет ли остаток быть больше делителя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жет ли остаток быть равен делителю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найти делимое по неполному частному, делителю и остатку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ие могут быть остатки при делении на 5? Приведите приме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проверить, верно ли выполнено деление с остатком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Женя задумала число. Если это число увеличить в 7 раз и к произведению прибавить 17, то получится 108. Какое число задумала Женя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3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3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3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3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3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3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омашнее зада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15920"/>
            <a:ext cx="8219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§18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83,286,287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j0292112"/>
          <p:cNvPicPr/>
          <p:nvPr/>
        </p:nvPicPr>
        <p:blipFill>
          <a:blip r:embed="rId1"/>
          <a:stretch/>
        </p:blipFill>
        <p:spPr>
          <a:xfrm>
            <a:off x="6516720" y="620640"/>
            <a:ext cx="1817640" cy="1801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j0292134"/>
          <p:cNvPicPr/>
          <p:nvPr/>
        </p:nvPicPr>
        <p:blipFill>
          <a:blip r:embed="rId2"/>
          <a:stretch/>
        </p:blipFill>
        <p:spPr>
          <a:xfrm>
            <a:off x="6327720" y="2997360"/>
            <a:ext cx="2341440" cy="2974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j0292122"/>
          <p:cNvPicPr/>
          <p:nvPr/>
        </p:nvPicPr>
        <p:blipFill>
          <a:blip r:embed="rId3"/>
          <a:stretch/>
        </p:blipFill>
        <p:spPr>
          <a:xfrm>
            <a:off x="324000" y="3284640"/>
            <a:ext cx="2879640" cy="2523960"/>
          </a:xfrm>
          <a:prstGeom prst="rect">
            <a:avLst/>
          </a:prstGeom>
          <a:ln w="0">
            <a:noFill/>
          </a:ln>
        </p:spPr>
      </p:pic>
      <p:sp>
        <p:nvSpPr>
          <p:cNvPr id="119" name="WordArt 8"/>
          <p:cNvSpPr txBox="1"/>
          <p:nvPr/>
        </p:nvSpPr>
        <p:spPr>
          <a:xfrm>
            <a:off x="2987640" y="1484280"/>
            <a:ext cx="51847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асибо за урок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        </a:t>
            </a: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ебята !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Устн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полнить деление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5 : 9 ;             0 : 67;         234 : 1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67 : 567;        34 :17;             а:а;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:0;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;        0:а;         с:1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3 :2;            24 : 5;         26 : 7.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63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Деление с остатко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9647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Задач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гости к бабушке пришли 4 внука. Бабушка решила угостить внуков конфетами. В вазочке было 23 конфеты. Сколько конфет достанется каждому внуку, если бабушка предложит поделить конфеты поровн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91520" cy="60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3 : 4 = 5 (3 остато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кая запись указывает, что в делимом  23 содержится  4 раза по 5 да еще 3 единицы, то ест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3      =     4         5     + 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"/>
          <p:cNvSpPr/>
          <p:nvPr/>
        </p:nvSpPr>
        <p:spPr>
          <a:xfrm>
            <a:off x="4284720" y="4292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11280" y="472428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лим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916360" y="4724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ли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427640" y="472428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пол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6012000" y="4724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а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авило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лимое  равно произведению  делителя и неполного частного, сложенному с остат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   =     b      n    +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-  дели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- дел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  -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полное част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-  остаток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таток  всегда  меньше делител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3276720" y="29242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Устн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йти делимое, ес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полное частное равно 7, остаток равен 3, а делитель – 6;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полное частное равно 11, остаток равен 1, а делитель – 9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полное частное равно 20, остаток равен 13, а делитель – 1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абота с учебнико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0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82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8.1 (Рабочая тетрадь,стр.4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11280" y="2924280"/>
          <a:ext cx="8281800" cy="2786040"/>
        </p:xfrm>
        <a:graphic>
          <a:graphicData uri="http://schemas.openxmlformats.org/drawingml/2006/table">
            <a:tbl>
              <a:tblPr/>
              <a:tblGrid>
                <a:gridCol w="2070000"/>
                <a:gridCol w="2071800"/>
                <a:gridCol w="2070000"/>
                <a:gridCol w="207000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Делимо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ител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лное частно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ток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pic>
        <p:nvPicPr>
          <p:cNvPr id="108" name="Picture 35" descr="j0089050"/>
          <p:cNvPicPr/>
          <p:nvPr/>
        </p:nvPicPr>
        <p:blipFill>
          <a:blip r:embed="rId1"/>
          <a:stretch/>
        </p:blipFill>
        <p:spPr>
          <a:xfrm>
            <a:off x="7164360" y="476280"/>
            <a:ext cx="15350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68360" y="549360"/>
          <a:ext cx="8281800" cy="5454720"/>
        </p:xfrm>
        <a:graphic>
          <a:graphicData uri="http://schemas.openxmlformats.org/drawingml/2006/table">
            <a:tbl>
              <a:tblPr/>
              <a:tblGrid>
                <a:gridCol w="2070000"/>
                <a:gridCol w="2071800"/>
                <a:gridCol w="2070000"/>
                <a:gridCol w="207000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Делимо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Делител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Неполное частно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Остаток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12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6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7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142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0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0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193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72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Задачи (устно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вашем классе 17 учеников. Вас построили в шеренги. Получилось несколько шеренг из 5 учеников и одна неполная шеренга. Сколько получилось полных шеренг и сколько человек в неполной шеренг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колько автомобилей грузоподъёмностью 5 тонн понадобится, чтобы перевезти за оди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йс 72 тонны груз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ое минимальное количество восьмиместных шлюпок должно быть на корабле, на котором находятся 54 пассажира и 12 членов экипаж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8:27:41Z</dcterms:created>
  <dc:creator>Светлана</dc:creator>
  <dc:description/>
  <dc:language>en-US</dc:language>
  <cp:lastModifiedBy>User</cp:lastModifiedBy>
  <dcterms:modified xsi:type="dcterms:W3CDTF">2010-12-18T19:10:07Z</dcterms:modified>
  <cp:revision>21</cp:revision>
  <dc:subject/>
  <dc:title>Деление с остатком</dc:title>
</cp:coreProperties>
</file>