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3.gif" ContentType="image/gif"/>
  <Override PartName="/ppt/media/image12.gif" ContentType="image/gif"/>
  <Override PartName="/ppt/media/image9.gif" ContentType="image/gif"/>
  <Override PartName="/ppt/media/image16.gif" ContentType="image/gif"/>
  <Override PartName="/ppt/media/image1.wmf" ContentType="image/x-wmf"/>
  <Override PartName="/ppt/media/image2.png" ContentType="image/png"/>
  <Override PartName="/ppt/media/image15.wmf" ContentType="image/x-wmf"/>
  <Override PartName="/ppt/media/image14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5855-2D4C-497B-B0A5-638DB202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BD5E-8BE5-48A7-BF9C-B35B8FC2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7D60-6FAF-4623-BCE9-241EB9AC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D64D-A336-444A-84E6-E7C49C93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115D-B8BC-48BB-8B0E-CA60B632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ADB2-0282-4B61-AC26-CE10119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6EA2-575E-4906-84A8-DBAD471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C5AE-0C84-4D92-B564-58E4ABA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9BD3-F9F0-48CF-8DF9-2FB8FD9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E11-2912-43BB-B8C8-D1722B1D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0E5-3B41-4808-93EA-0934167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99B5-BFCB-457D-99C2-D2463D89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E37A-14D2-4ACC-8DED-CAF3FB0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7F52-1CD0-4F49-BD76-754B7DE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79A4-2677-410B-8211-E476EF3C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7EE4-9447-4BB8-BA25-D93C17EE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E8FB-7AD4-4F6B-8C19-C42593AD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5F9C-0246-4B6A-B312-89DB768A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ADB3-B12D-42AF-996D-0711CAAD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3D03-6A2C-4B4B-B3B0-EC463C07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D824-1A3E-4C35-9D5E-34700CA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3160-1D8D-4EF9-BA3A-5ABF216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4581-3589-4F1B-9ABD-7038047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ECD1-DD34-461B-B5C8-4CB47E7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F146-DB1A-4F76-9B58-6B1674D9B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01E-049E-4D2E-AF90-362BACD27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00000" y="9698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1125360"/>
            <a:ext cx="3362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 УРОКА: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2276640"/>
            <a:ext cx="7562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Свойство углов треугольника."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им от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1      №2       №3       №4      №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0094" descr="Большие смайлики"/>
          <p:cNvPicPr/>
          <p:nvPr/>
        </p:nvPicPr>
        <p:blipFill>
          <a:blip r:embed="rId1"/>
          <a:stretch/>
        </p:blipFill>
        <p:spPr>
          <a:xfrm>
            <a:off x="900000" y="3645000"/>
            <a:ext cx="1008000" cy="771480"/>
          </a:xfrm>
          <a:prstGeom prst="rect">
            <a:avLst/>
          </a:prstGeom>
          <a:ln w="0">
            <a:noFill/>
          </a:ln>
        </p:spPr>
      </p:pic>
      <p:pic>
        <p:nvPicPr>
          <p:cNvPr id="156" name="00100" descr="Большие смайлики"/>
          <p:cNvPicPr/>
          <p:nvPr/>
        </p:nvPicPr>
        <p:blipFill>
          <a:blip r:embed="rId2"/>
          <a:stretch/>
        </p:blipFill>
        <p:spPr>
          <a:xfrm>
            <a:off x="2411280" y="371628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0094" descr="Большие смайлики"/>
          <p:cNvPicPr/>
          <p:nvPr/>
        </p:nvPicPr>
        <p:blipFill>
          <a:blip r:embed="rId3"/>
          <a:stretch/>
        </p:blipFill>
        <p:spPr>
          <a:xfrm>
            <a:off x="5076720" y="3716280"/>
            <a:ext cx="93528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00100" descr="Большие смайлики"/>
          <p:cNvPicPr/>
          <p:nvPr/>
        </p:nvPicPr>
        <p:blipFill>
          <a:blip r:embed="rId4"/>
          <a:stretch/>
        </p:blipFill>
        <p:spPr>
          <a:xfrm>
            <a:off x="3708360" y="371628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0094" descr="Большие смайлики"/>
          <p:cNvPicPr/>
          <p:nvPr/>
        </p:nvPicPr>
        <p:blipFill>
          <a:blip r:embed="rId5"/>
          <a:stretch/>
        </p:blipFill>
        <p:spPr>
          <a:xfrm>
            <a:off x="0" y="0"/>
            <a:ext cx="87624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00100" descr="Большие смайлики"/>
          <p:cNvPicPr/>
          <p:nvPr/>
        </p:nvPicPr>
        <p:blipFill>
          <a:blip r:embed="rId6"/>
          <a:stretch/>
        </p:blipFill>
        <p:spPr>
          <a:xfrm>
            <a:off x="6516720" y="371628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4941720"/>
            <a:ext cx="72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Решено  пять заданий - оценка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Решено четыре задания – оценка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Решено три  задания – оценк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Если треугольник существует, то найдите его третий уг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75444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Решим т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4365720"/>
          <a:ext cx="4038480" cy="186696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4508640"/>
                <a:ext cx="5760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11280" y="5084640"/>
                <a:ext cx="576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8360" y="5734080"/>
                <a:ext cx="647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332000" y="5589720"/>
            <a:ext cx="100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941720"/>
            <a:ext cx="100800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365720"/>
            <a:ext cx="1008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300720" y="4724280"/>
            <a:ext cx="2843280" cy="1951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20" y="36871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0" y="36583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25" descr="Большие смайлики"/>
          <p:cNvPicPr/>
          <p:nvPr/>
        </p:nvPicPr>
        <p:blipFill>
          <a:blip r:embed="rId2"/>
          <a:stretch/>
        </p:blipFill>
        <p:spPr>
          <a:xfrm>
            <a:off x="2195640" y="3357720"/>
            <a:ext cx="1009440" cy="1009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79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050920" y="1341360"/>
            <a:ext cx="59770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выучить правило  стр. 160, №582, № 5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393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До сви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Большие смайлики"/>
          <p:cNvPicPr/>
          <p:nvPr/>
        </p:nvPicPr>
        <p:blipFill>
          <a:blip r:embed="rId3"/>
          <a:stretch/>
        </p:blipFill>
        <p:spPr>
          <a:xfrm>
            <a:off x="3348000" y="4797360"/>
            <a:ext cx="1038240" cy="100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овторить виды треугольников и уг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формировать понятие о  свойстве углов треуголь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акрепить полученные знания при решении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174312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804000" y="5203800"/>
            <a:ext cx="1800360" cy="1654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96000" y="5805360"/>
            <a:ext cx="730080" cy="419400"/>
          </a:xfrm>
          <a:custGeom>
            <a:avLst/>
            <a:gdLst/>
            <a:ahLst/>
            <a:rect l="l" t="t" r="r" b="b"/>
            <a:pathLst>
              <a:path w="2026" h="1168">
                <a:moveTo>
                  <a:pt x="18574" y="16454"/>
                </a:moveTo>
                <a:cubicBezTo>
                  <a:pt x="18574" y="16398"/>
                  <a:pt x="18554" y="16281"/>
                  <a:pt x="18598" y="16264"/>
                </a:cubicBezTo>
                <a:cubicBezTo>
                  <a:pt x="18621" y="16264"/>
                  <a:pt x="18629" y="16264"/>
                  <a:pt x="18645" y="16264"/>
                </a:cubicBezTo>
                <a:cubicBezTo>
                  <a:pt x="18640" y="16258"/>
                  <a:pt x="18580" y="16172"/>
                  <a:pt x="18574" y="16169"/>
                </a:cubicBezTo>
                <a:cubicBezTo>
                  <a:pt x="18532" y="16150"/>
                  <a:pt x="18553" y="16172"/>
                  <a:pt x="18526" y="16145"/>
                </a:cubicBezTo>
                <a:cubicBezTo>
                  <a:pt x="18526" y="16185"/>
                  <a:pt x="18470" y="16217"/>
                  <a:pt x="18502" y="16240"/>
                </a:cubicBezTo>
                <a:cubicBezTo>
                  <a:pt x="18535" y="16263"/>
                  <a:pt x="18557" y="16228"/>
                  <a:pt x="18574" y="16288"/>
                </a:cubicBezTo>
                <a:cubicBezTo>
                  <a:pt x="18587" y="16334"/>
                  <a:pt x="18591" y="16360"/>
                  <a:pt x="18598" y="16407"/>
                </a:cubicBezTo>
                <a:cubicBezTo>
                  <a:pt x="18603" y="16438"/>
                  <a:pt x="18578" y="16429"/>
                  <a:pt x="18598" y="16454"/>
                </a:cubicBezTo>
                <a:cubicBezTo>
                  <a:pt x="18628" y="16490"/>
                  <a:pt x="18626" y="16521"/>
                  <a:pt x="18645" y="16550"/>
                </a:cubicBezTo>
                <a:cubicBezTo>
                  <a:pt x="18666" y="16581"/>
                  <a:pt x="18695" y="16582"/>
                  <a:pt x="18717" y="16597"/>
                </a:cubicBezTo>
                <a:cubicBezTo>
                  <a:pt x="18676" y="16618"/>
                  <a:pt x="18709" y="16628"/>
                  <a:pt x="18717" y="16573"/>
                </a:cubicBezTo>
                <a:cubicBezTo>
                  <a:pt x="18726" y="16512"/>
                  <a:pt x="18734" y="16413"/>
                  <a:pt x="18740" y="16383"/>
                </a:cubicBezTo>
                <a:cubicBezTo>
                  <a:pt x="18749" y="16336"/>
                  <a:pt x="18757" y="16346"/>
                  <a:pt x="18764" y="16312"/>
                </a:cubicBezTo>
                <a:cubicBezTo>
                  <a:pt x="18770" y="16283"/>
                  <a:pt x="18764" y="16246"/>
                  <a:pt x="18764" y="16216"/>
                </a:cubicBezTo>
                <a:cubicBezTo>
                  <a:pt x="18778" y="16239"/>
                  <a:pt x="18785" y="16237"/>
                  <a:pt x="18788" y="16288"/>
                </a:cubicBezTo>
                <a:cubicBezTo>
                  <a:pt x="18793" y="16375"/>
                  <a:pt x="18788" y="16463"/>
                  <a:pt x="18788" y="16550"/>
                </a:cubicBezTo>
                <a:cubicBezTo>
                  <a:pt x="18856" y="16508"/>
                  <a:pt x="18936" y="16481"/>
                  <a:pt x="19002" y="16454"/>
                </a:cubicBezTo>
                <a:cubicBezTo>
                  <a:pt x="19024" y="16433"/>
                  <a:pt x="19029" y="16425"/>
                  <a:pt x="19050" y="16431"/>
                </a:cubicBezTo>
                <a:cubicBezTo>
                  <a:pt x="19033" y="16403"/>
                  <a:pt x="19043" y="16394"/>
                  <a:pt x="19026" y="16359"/>
                </a:cubicBezTo>
                <a:cubicBezTo>
                  <a:pt x="19023" y="16352"/>
                  <a:pt x="19013" y="16310"/>
                  <a:pt x="19002" y="16288"/>
                </a:cubicBezTo>
                <a:cubicBezTo>
                  <a:pt x="18985" y="16253"/>
                  <a:pt x="18978" y="16267"/>
                  <a:pt x="18931" y="16264"/>
                </a:cubicBezTo>
                <a:cubicBezTo>
                  <a:pt x="18873" y="16261"/>
                  <a:pt x="18896" y="16275"/>
                  <a:pt x="18859" y="16312"/>
                </a:cubicBezTo>
                <a:cubicBezTo>
                  <a:pt x="18926" y="16334"/>
                  <a:pt x="18874" y="16308"/>
                  <a:pt x="18907" y="16359"/>
                </a:cubicBezTo>
                <a:cubicBezTo>
                  <a:pt x="18911" y="16365"/>
                  <a:pt x="18947" y="16399"/>
                  <a:pt x="18955" y="16407"/>
                </a:cubicBezTo>
                <a:cubicBezTo>
                  <a:pt x="18990" y="16442"/>
                  <a:pt x="18973" y="16457"/>
                  <a:pt x="18979" y="16502"/>
                </a:cubicBezTo>
                <a:cubicBezTo>
                  <a:pt x="18949" y="16477"/>
                  <a:pt x="18938" y="16485"/>
                  <a:pt x="18931" y="16431"/>
                </a:cubicBezTo>
                <a:cubicBezTo>
                  <a:pt x="18925" y="16385"/>
                  <a:pt x="18931" y="16334"/>
                  <a:pt x="18931" y="16288"/>
                </a:cubicBezTo>
                <a:cubicBezTo>
                  <a:pt x="18859" y="16288"/>
                  <a:pt x="18800" y="16300"/>
                  <a:pt x="18740" y="16312"/>
                </a:cubicBezTo>
                <a:cubicBezTo>
                  <a:pt x="18680" y="16324"/>
                  <a:pt x="18632" y="16317"/>
                  <a:pt x="18598" y="16335"/>
                </a:cubicBezTo>
                <a:cubicBezTo>
                  <a:pt x="18567" y="16352"/>
                  <a:pt x="18561" y="16386"/>
                  <a:pt x="18526" y="16383"/>
                </a:cubicBezTo>
                <a:cubicBezTo>
                  <a:pt x="18462" y="16378"/>
                  <a:pt x="18496" y="16349"/>
                  <a:pt x="18478" y="16312"/>
                </a:cubicBezTo>
                <a:cubicBezTo>
                  <a:pt x="18455" y="16312"/>
                  <a:pt x="18447" y="16312"/>
                  <a:pt x="18455" y="16288"/>
                </a:cubicBezTo>
                <a:cubicBezTo>
                  <a:pt x="18432" y="16327"/>
                  <a:pt x="18411" y="16357"/>
                  <a:pt x="18407" y="16407"/>
                </a:cubicBezTo>
                <a:cubicBezTo>
                  <a:pt x="18407" y="16415"/>
                  <a:pt x="18407" y="16423"/>
                  <a:pt x="18407" y="16431"/>
                </a:cubicBezTo>
                <a:cubicBezTo>
                  <a:pt x="18483" y="16355"/>
                  <a:pt x="18476" y="16303"/>
                  <a:pt x="18478" y="16192"/>
                </a:cubicBezTo>
                <a:cubicBezTo>
                  <a:pt x="18480" y="16097"/>
                  <a:pt x="18478" y="16002"/>
                  <a:pt x="18478" y="15907"/>
                </a:cubicBezTo>
                <a:cubicBezTo>
                  <a:pt x="18395" y="15907"/>
                  <a:pt x="18386" y="15924"/>
                  <a:pt x="18359" y="15859"/>
                </a:cubicBezTo>
                <a:cubicBezTo>
                  <a:pt x="18342" y="15819"/>
                  <a:pt x="18346" y="15784"/>
                  <a:pt x="18336" y="15740"/>
                </a:cubicBezTo>
                <a:cubicBezTo>
                  <a:pt x="18325" y="15691"/>
                  <a:pt x="18323" y="15659"/>
                  <a:pt x="18264" y="15669"/>
                </a:cubicBezTo>
                <a:cubicBezTo>
                  <a:pt x="18217" y="15677"/>
                  <a:pt x="18201" y="15690"/>
                  <a:pt x="18145" y="15692"/>
                </a:cubicBezTo>
                <a:cubicBezTo>
                  <a:pt x="18121" y="15692"/>
                  <a:pt x="18098" y="15692"/>
                  <a:pt x="18074" y="15692"/>
                </a:cubicBezTo>
                <a:cubicBezTo>
                  <a:pt x="18068" y="15629"/>
                  <a:pt x="18067" y="15604"/>
                  <a:pt x="18026" y="15550"/>
                </a:cubicBezTo>
                <a:cubicBezTo>
                  <a:pt x="18003" y="15519"/>
                  <a:pt x="18013" y="15437"/>
                  <a:pt x="17978" y="15454"/>
                </a:cubicBezTo>
                <a:cubicBezTo>
                  <a:pt x="17978" y="15478"/>
                  <a:pt x="17978" y="15486"/>
                  <a:pt x="17978" y="15502"/>
                </a:cubicBezTo>
              </a:path>
              <a:path w="2026" h="1168">
                <a:moveTo>
                  <a:pt x="18264" y="16240"/>
                </a:moveTo>
                <a:cubicBezTo>
                  <a:pt x="18264" y="16296"/>
                  <a:pt x="18264" y="16351"/>
                  <a:pt x="18264" y="16407"/>
                </a:cubicBezTo>
                <a:cubicBezTo>
                  <a:pt x="18274" y="16369"/>
                  <a:pt x="18304" y="16350"/>
                  <a:pt x="18312" y="16335"/>
                </a:cubicBezTo>
                <a:cubicBezTo>
                  <a:pt x="18340" y="16281"/>
                  <a:pt x="18283" y="16205"/>
                  <a:pt x="18312" y="16216"/>
                </a:cubicBezTo>
                <a:cubicBezTo>
                  <a:pt x="18335" y="16225"/>
                  <a:pt x="18382" y="16216"/>
                  <a:pt x="18407" y="16216"/>
                </a:cubicBezTo>
                <a:cubicBezTo>
                  <a:pt x="18371" y="16228"/>
                  <a:pt x="18387" y="16240"/>
                  <a:pt x="18336" y="16240"/>
                </a:cubicBezTo>
                <a:cubicBezTo>
                  <a:pt x="18272" y="16240"/>
                  <a:pt x="18209" y="16240"/>
                  <a:pt x="18145" y="16240"/>
                </a:cubicBezTo>
                <a:cubicBezTo>
                  <a:pt x="18240" y="16240"/>
                  <a:pt x="18336" y="16240"/>
                  <a:pt x="18431" y="16240"/>
                </a:cubicBezTo>
                <a:cubicBezTo>
                  <a:pt x="18431" y="16321"/>
                  <a:pt x="18432" y="16386"/>
                  <a:pt x="18455" y="16454"/>
                </a:cubicBezTo>
                <a:cubicBezTo>
                  <a:pt x="18464" y="16482"/>
                  <a:pt x="18450" y="16572"/>
                  <a:pt x="18502" y="16573"/>
                </a:cubicBezTo>
                <a:cubicBezTo>
                  <a:pt x="18545" y="16574"/>
                  <a:pt x="18469" y="16521"/>
                  <a:pt x="18431" y="16502"/>
                </a:cubicBezTo>
                <a:cubicBezTo>
                  <a:pt x="18402" y="16488"/>
                  <a:pt x="18393" y="16484"/>
                  <a:pt x="18359" y="16454"/>
                </a:cubicBezTo>
                <a:cubicBezTo>
                  <a:pt x="18335" y="16433"/>
                  <a:pt x="18327" y="16390"/>
                  <a:pt x="18312" y="16383"/>
                </a:cubicBezTo>
                <a:cubicBezTo>
                  <a:pt x="18288" y="16371"/>
                  <a:pt x="18279" y="16342"/>
                  <a:pt x="18264" y="16335"/>
                </a:cubicBezTo>
                <a:cubicBezTo>
                  <a:pt x="18260" y="16333"/>
                  <a:pt x="18192" y="16305"/>
                  <a:pt x="18193" y="16288"/>
                </a:cubicBezTo>
                <a:cubicBezTo>
                  <a:pt x="18198" y="16221"/>
                  <a:pt x="18243" y="16223"/>
                  <a:pt x="18264" y="16192"/>
                </a:cubicBezTo>
                <a:cubicBezTo>
                  <a:pt x="18264" y="16169"/>
                  <a:pt x="18264" y="16161"/>
                  <a:pt x="18288" y="16169"/>
                </a:cubicBezTo>
                <a:cubicBezTo>
                  <a:pt x="18241" y="16169"/>
                  <a:pt x="18209" y="16157"/>
                  <a:pt x="18193" y="16192"/>
                </a:cubicBezTo>
                <a:cubicBezTo>
                  <a:pt x="18182" y="16215"/>
                  <a:pt x="18142" y="16309"/>
                  <a:pt x="18169" y="16335"/>
                </a:cubicBezTo>
                <a:cubicBezTo>
                  <a:pt x="18195" y="16360"/>
                  <a:pt x="18193" y="16372"/>
                  <a:pt x="18193" y="16431"/>
                </a:cubicBezTo>
                <a:cubicBezTo>
                  <a:pt x="18193" y="16473"/>
                  <a:pt x="18199" y="16478"/>
                  <a:pt x="18217" y="16502"/>
                </a:cubicBezTo>
                <a:cubicBezTo>
                  <a:pt x="18241" y="16535"/>
                  <a:pt x="18240" y="16533"/>
                  <a:pt x="18240" y="16573"/>
                </a:cubicBezTo>
                <a:cubicBezTo>
                  <a:pt x="18229" y="16540"/>
                  <a:pt x="18250" y="16537"/>
                  <a:pt x="18217" y="16526"/>
                </a:cubicBezTo>
                <a:cubicBezTo>
                  <a:pt x="18170" y="16510"/>
                  <a:pt x="18154" y="16470"/>
                  <a:pt x="18121" y="16431"/>
                </a:cubicBezTo>
                <a:cubicBezTo>
                  <a:pt x="18095" y="16400"/>
                  <a:pt x="18041" y="16389"/>
                  <a:pt x="18026" y="16359"/>
                </a:cubicBezTo>
                <a:cubicBezTo>
                  <a:pt x="18014" y="16335"/>
                  <a:pt x="18004" y="16306"/>
                  <a:pt x="18002" y="16288"/>
                </a:cubicBezTo>
                <a:cubicBezTo>
                  <a:pt x="18002" y="16264"/>
                  <a:pt x="18002" y="16256"/>
                  <a:pt x="18002" y="16240"/>
                </a:cubicBezTo>
                <a:cubicBezTo>
                  <a:pt x="18002" y="16176"/>
                  <a:pt x="18002" y="16277"/>
                  <a:pt x="18002" y="16288"/>
                </a:cubicBezTo>
                <a:cubicBezTo>
                  <a:pt x="18002" y="16367"/>
                  <a:pt x="18002" y="16447"/>
                  <a:pt x="18002" y="16526"/>
                </a:cubicBezTo>
                <a:cubicBezTo>
                  <a:pt x="17991" y="16484"/>
                  <a:pt x="17966" y="16454"/>
                  <a:pt x="17955" y="16407"/>
                </a:cubicBezTo>
                <a:cubicBezTo>
                  <a:pt x="17945" y="16365"/>
                  <a:pt x="17935" y="16367"/>
                  <a:pt x="17931" y="16335"/>
                </a:cubicBezTo>
                <a:cubicBezTo>
                  <a:pt x="17924" y="16284"/>
                  <a:pt x="17919" y="16264"/>
                  <a:pt x="17907" y="16240"/>
                </a:cubicBezTo>
                <a:cubicBezTo>
                  <a:pt x="17863" y="16152"/>
                  <a:pt x="17954" y="16010"/>
                  <a:pt x="17883" y="15931"/>
                </a:cubicBezTo>
                <a:cubicBezTo>
                  <a:pt x="17855" y="15900"/>
                  <a:pt x="17859" y="15899"/>
                  <a:pt x="17859" y="15859"/>
                </a:cubicBezTo>
                <a:cubicBezTo>
                  <a:pt x="17818" y="15894"/>
                  <a:pt x="17817" y="15955"/>
                  <a:pt x="17764" y="15978"/>
                </a:cubicBezTo>
                <a:cubicBezTo>
                  <a:pt x="17738" y="15989"/>
                  <a:pt x="17720" y="15994"/>
                  <a:pt x="17716" y="16026"/>
                </a:cubicBezTo>
                <a:cubicBezTo>
                  <a:pt x="17709" y="16080"/>
                  <a:pt x="17728" y="16127"/>
                  <a:pt x="17740" y="16169"/>
                </a:cubicBezTo>
                <a:cubicBezTo>
                  <a:pt x="17757" y="16231"/>
                  <a:pt x="17756" y="16272"/>
                  <a:pt x="17788" y="16335"/>
                </a:cubicBezTo>
              </a:path>
              <a:path w="2026" h="1168">
                <a:moveTo>
                  <a:pt x="17978" y="16169"/>
                </a:moveTo>
                <a:cubicBezTo>
                  <a:pt x="18035" y="16169"/>
                  <a:pt x="18070" y="16179"/>
                  <a:pt x="18097" y="16192"/>
                </a:cubicBezTo>
                <a:cubicBezTo>
                  <a:pt x="18122" y="16204"/>
                  <a:pt x="18130" y="16232"/>
                  <a:pt x="18145" y="16240"/>
                </a:cubicBezTo>
                <a:cubicBezTo>
                  <a:pt x="18173" y="16254"/>
                  <a:pt x="18225" y="16280"/>
                  <a:pt x="18240" y="16288"/>
                </a:cubicBezTo>
                <a:cubicBezTo>
                  <a:pt x="18269" y="16305"/>
                  <a:pt x="18266" y="16312"/>
                  <a:pt x="18312" y="16312"/>
                </a:cubicBezTo>
                <a:cubicBezTo>
                  <a:pt x="18336" y="16312"/>
                  <a:pt x="18343" y="16312"/>
                  <a:pt x="18359" y="16312"/>
                </a:cubicBezTo>
                <a:cubicBezTo>
                  <a:pt x="18347" y="16274"/>
                  <a:pt x="18302" y="16292"/>
                  <a:pt x="18288" y="16264"/>
                </a:cubicBezTo>
                <a:cubicBezTo>
                  <a:pt x="18267" y="16222"/>
                  <a:pt x="18320" y="16149"/>
                  <a:pt x="18264" y="16121"/>
                </a:cubicBezTo>
                <a:cubicBezTo>
                  <a:pt x="18241" y="16109"/>
                  <a:pt x="18220" y="16076"/>
                  <a:pt x="18217" y="16050"/>
                </a:cubicBezTo>
                <a:cubicBezTo>
                  <a:pt x="18217" y="16026"/>
                  <a:pt x="18217" y="16018"/>
                  <a:pt x="18193" y="16026"/>
                </a:cubicBezTo>
                <a:cubicBezTo>
                  <a:pt x="18159" y="16034"/>
                  <a:pt x="18125" y="16042"/>
                  <a:pt x="18121" y="16073"/>
                </a:cubicBezTo>
                <a:cubicBezTo>
                  <a:pt x="18116" y="16112"/>
                  <a:pt x="18097" y="16125"/>
                  <a:pt x="18097" y="16169"/>
                </a:cubicBezTo>
                <a:cubicBezTo>
                  <a:pt x="18097" y="16207"/>
                  <a:pt x="18099" y="16253"/>
                  <a:pt x="18121" y="16264"/>
                </a:cubicBezTo>
                <a:cubicBezTo>
                  <a:pt x="18155" y="16281"/>
                  <a:pt x="18139" y="16292"/>
                  <a:pt x="18169" y="16312"/>
                </a:cubicBezTo>
                <a:cubicBezTo>
                  <a:pt x="18169" y="16236"/>
                  <a:pt x="18166" y="16164"/>
                  <a:pt x="18145" y="16121"/>
                </a:cubicBezTo>
                <a:cubicBezTo>
                  <a:pt x="18130" y="16091"/>
                  <a:pt x="18130" y="16075"/>
                  <a:pt x="18121" y="16050"/>
                </a:cubicBezTo>
                <a:cubicBezTo>
                  <a:pt x="18085" y="16062"/>
                  <a:pt x="18097" y="16078"/>
                  <a:pt x="18097" y="16121"/>
                </a:cubicBezTo>
                <a:cubicBezTo>
                  <a:pt x="18097" y="16170"/>
                  <a:pt x="18108" y="16177"/>
                  <a:pt x="18121" y="16216"/>
                </a:cubicBezTo>
                <a:cubicBezTo>
                  <a:pt x="18127" y="16234"/>
                  <a:pt x="18121" y="16269"/>
                  <a:pt x="18121" y="16288"/>
                </a:cubicBezTo>
              </a:path>
              <a:path w="2026" h="1168">
                <a:moveTo>
                  <a:pt x="19741" y="16216"/>
                </a:moveTo>
                <a:cubicBezTo>
                  <a:pt x="19708" y="16227"/>
                  <a:pt x="19698" y="16265"/>
                  <a:pt x="19693" y="16312"/>
                </a:cubicBezTo>
                <a:cubicBezTo>
                  <a:pt x="19692" y="16323"/>
                  <a:pt x="19693" y="16423"/>
                  <a:pt x="19693" y="16359"/>
                </a:cubicBezTo>
                <a:cubicBezTo>
                  <a:pt x="19693" y="16304"/>
                  <a:pt x="19714" y="16207"/>
                  <a:pt x="19669" y="16192"/>
                </a:cubicBezTo>
                <a:cubicBezTo>
                  <a:pt x="19669" y="16223"/>
                  <a:pt x="19655" y="16378"/>
                  <a:pt x="19693" y="16359"/>
                </a:cubicBezTo>
                <a:cubicBezTo>
                  <a:pt x="19729" y="16341"/>
                  <a:pt x="19717" y="16297"/>
                  <a:pt x="19717" y="16264"/>
                </a:cubicBezTo>
                <a:cubicBezTo>
                  <a:pt x="19717" y="16177"/>
                  <a:pt x="19717" y="16089"/>
                  <a:pt x="19717" y="16002"/>
                </a:cubicBezTo>
                <a:cubicBezTo>
                  <a:pt x="19711" y="16043"/>
                  <a:pt x="19707" y="16082"/>
                  <a:pt x="19693" y="16121"/>
                </a:cubicBezTo>
                <a:cubicBezTo>
                  <a:pt x="19675" y="16173"/>
                  <a:pt x="19669" y="16187"/>
                  <a:pt x="19669" y="16240"/>
                </a:cubicBezTo>
                <a:cubicBezTo>
                  <a:pt x="19669" y="16327"/>
                  <a:pt x="19669" y="16415"/>
                  <a:pt x="19669" y="16502"/>
                </a:cubicBezTo>
                <a:cubicBezTo>
                  <a:pt x="19669" y="16548"/>
                  <a:pt x="19669" y="16604"/>
                  <a:pt x="19669" y="16526"/>
                </a:cubicBezTo>
                <a:cubicBezTo>
                  <a:pt x="19669" y="16462"/>
                  <a:pt x="19683" y="16387"/>
                  <a:pt x="19645" y="16359"/>
                </a:cubicBezTo>
                <a:cubicBezTo>
                  <a:pt x="19592" y="16319"/>
                  <a:pt x="19641" y="16301"/>
                  <a:pt x="19621" y="16359"/>
                </a:cubicBezTo>
                <a:cubicBezTo>
                  <a:pt x="19601" y="16416"/>
                  <a:pt x="19600" y="16477"/>
                  <a:pt x="19550" y="16502"/>
                </a:cubicBezTo>
                <a:cubicBezTo>
                  <a:pt x="19550" y="16562"/>
                  <a:pt x="19550" y="16450"/>
                  <a:pt x="19550" y="16431"/>
                </a:cubicBezTo>
                <a:cubicBezTo>
                  <a:pt x="19550" y="16407"/>
                  <a:pt x="19550" y="16399"/>
                  <a:pt x="19550" y="16383"/>
                </a:cubicBezTo>
                <a:cubicBezTo>
                  <a:pt x="19550" y="16309"/>
                  <a:pt x="19550" y="16354"/>
                  <a:pt x="19550" y="16407"/>
                </a:cubicBezTo>
                <a:cubicBezTo>
                  <a:pt x="19550" y="16464"/>
                  <a:pt x="19571" y="16606"/>
                  <a:pt x="19526" y="16621"/>
                </a:cubicBezTo>
                <a:cubicBezTo>
                  <a:pt x="19500" y="16612"/>
                  <a:pt x="19483" y="16603"/>
                  <a:pt x="19479" y="16573"/>
                </a:cubicBezTo>
                <a:cubicBezTo>
                  <a:pt x="19471" y="16511"/>
                  <a:pt x="19470" y="16484"/>
                  <a:pt x="19455" y="16454"/>
                </a:cubicBezTo>
                <a:cubicBezTo>
                  <a:pt x="19420" y="16387"/>
                  <a:pt x="19460" y="16224"/>
                  <a:pt x="19479" y="16169"/>
                </a:cubicBezTo>
                <a:cubicBezTo>
                  <a:pt x="19482" y="16160"/>
                  <a:pt x="19479" y="16055"/>
                  <a:pt x="19479" y="16121"/>
                </a:cubicBezTo>
                <a:cubicBezTo>
                  <a:pt x="19514" y="16133"/>
                  <a:pt x="19502" y="16150"/>
                  <a:pt x="19502" y="16192"/>
                </a:cubicBezTo>
                <a:cubicBezTo>
                  <a:pt x="19502" y="16236"/>
                  <a:pt x="19463" y="16249"/>
                  <a:pt x="19455" y="16264"/>
                </a:cubicBezTo>
                <a:cubicBezTo>
                  <a:pt x="19441" y="16291"/>
                  <a:pt x="19420" y="16329"/>
                  <a:pt x="19407" y="16359"/>
                </a:cubicBezTo>
                <a:cubicBezTo>
                  <a:pt x="19394" y="16389"/>
                  <a:pt x="19365" y="16443"/>
                  <a:pt x="19360" y="16454"/>
                </a:cubicBezTo>
                <a:cubicBezTo>
                  <a:pt x="19337" y="16502"/>
                  <a:pt x="19392" y="16555"/>
                  <a:pt x="19336" y="16573"/>
                </a:cubicBezTo>
                <a:cubicBezTo>
                  <a:pt x="19312" y="16518"/>
                  <a:pt x="19312" y="16492"/>
                  <a:pt x="19312" y="16431"/>
                </a:cubicBezTo>
                <a:cubicBezTo>
                  <a:pt x="19312" y="16349"/>
                  <a:pt x="19313" y="16285"/>
                  <a:pt x="19336" y="16216"/>
                </a:cubicBezTo>
                <a:cubicBezTo>
                  <a:pt x="19347" y="16182"/>
                  <a:pt x="19388" y="16189"/>
                  <a:pt x="19407" y="16145"/>
                </a:cubicBezTo>
                <a:cubicBezTo>
                  <a:pt x="19407" y="16121"/>
                  <a:pt x="19407" y="16113"/>
                  <a:pt x="19383" y="16121"/>
                </a:cubicBezTo>
                <a:cubicBezTo>
                  <a:pt x="19350" y="16132"/>
                  <a:pt x="19303" y="16180"/>
                  <a:pt x="19264" y="16216"/>
                </a:cubicBezTo>
                <a:cubicBezTo>
                  <a:pt x="19246" y="16233"/>
                  <a:pt x="19195" y="16283"/>
                  <a:pt x="19193" y="16288"/>
                </a:cubicBezTo>
                <a:cubicBezTo>
                  <a:pt x="19169" y="16336"/>
                  <a:pt x="19193" y="16450"/>
                  <a:pt x="19193" y="16502"/>
                </a:cubicBezTo>
                <a:cubicBezTo>
                  <a:pt x="19202" y="16474"/>
                  <a:pt x="19245" y="16445"/>
                  <a:pt x="19288" y="16431"/>
                </a:cubicBezTo>
                <a:cubicBezTo>
                  <a:pt x="19325" y="16419"/>
                  <a:pt x="19377" y="16403"/>
                  <a:pt x="19407" y="16383"/>
                </a:cubicBezTo>
                <a:cubicBezTo>
                  <a:pt x="19474" y="16338"/>
                  <a:pt x="19385" y="16347"/>
                  <a:pt x="19407" y="16288"/>
                </a:cubicBezTo>
                <a:cubicBezTo>
                  <a:pt x="19422" y="16248"/>
                  <a:pt x="19431" y="16241"/>
                  <a:pt x="19431" y="16192"/>
                </a:cubicBezTo>
                <a:cubicBezTo>
                  <a:pt x="19431" y="16152"/>
                  <a:pt x="19349" y="16182"/>
                  <a:pt x="19383" y="16121"/>
                </a:cubicBezTo>
                <a:cubicBezTo>
                  <a:pt x="19407" y="16097"/>
                  <a:pt x="19415" y="16089"/>
                  <a:pt x="19431" y="16073"/>
                </a:cubicBezTo>
                <a:cubicBezTo>
                  <a:pt x="19480" y="16041"/>
                  <a:pt x="19455" y="16092"/>
                  <a:pt x="19455" y="16145"/>
                </a:cubicBezTo>
                <a:cubicBezTo>
                  <a:pt x="19455" y="16196"/>
                  <a:pt x="19443" y="16204"/>
                  <a:pt x="19407" y="16240"/>
                </a:cubicBezTo>
                <a:cubicBezTo>
                  <a:pt x="19376" y="16271"/>
                  <a:pt x="19373" y="16331"/>
                  <a:pt x="19336" y="16359"/>
                </a:cubicBezTo>
                <a:cubicBezTo>
                  <a:pt x="19308" y="16381"/>
                  <a:pt x="19312" y="16381"/>
                  <a:pt x="19312" y="16431"/>
                </a:cubicBezTo>
                <a:cubicBezTo>
                  <a:pt x="19245" y="16431"/>
                  <a:pt x="19240" y="16385"/>
                  <a:pt x="19193" y="16335"/>
                </a:cubicBezTo>
                <a:cubicBezTo>
                  <a:pt x="19175" y="16316"/>
                  <a:pt x="19126" y="16267"/>
                  <a:pt x="19121" y="16264"/>
                </a:cubicBezTo>
                <a:cubicBezTo>
                  <a:pt x="19100" y="16253"/>
                  <a:pt x="19077" y="16216"/>
                  <a:pt x="19074" y="16192"/>
                </a:cubicBezTo>
                <a:cubicBezTo>
                  <a:pt x="19067" y="16141"/>
                  <a:pt x="19098" y="16181"/>
                  <a:pt x="19098" y="16216"/>
                </a:cubicBezTo>
                <a:cubicBezTo>
                  <a:pt x="19098" y="16282"/>
                  <a:pt x="19071" y="16509"/>
                  <a:pt x="19121" y="16526"/>
                </a:cubicBezTo>
                <a:cubicBezTo>
                  <a:pt x="19143" y="16497"/>
                  <a:pt x="19165" y="16468"/>
                  <a:pt x="19169" y="16431"/>
                </a:cubicBezTo>
                <a:cubicBezTo>
                  <a:pt x="19176" y="16373"/>
                  <a:pt x="19154" y="16332"/>
                  <a:pt x="19193" y="16288"/>
                </a:cubicBezTo>
                <a:cubicBezTo>
                  <a:pt x="19228" y="16249"/>
                  <a:pt x="19240" y="16244"/>
                  <a:pt x="19240" y="16192"/>
                </a:cubicBezTo>
                <a:cubicBezTo>
                  <a:pt x="19240" y="16160"/>
                  <a:pt x="19240" y="16129"/>
                  <a:pt x="19240" y="16097"/>
                </a:cubicBezTo>
                <a:cubicBezTo>
                  <a:pt x="19240" y="16122"/>
                  <a:pt x="19240" y="16251"/>
                  <a:pt x="19240" y="16192"/>
                </a:cubicBezTo>
                <a:cubicBezTo>
                  <a:pt x="19240" y="16147"/>
                  <a:pt x="19260" y="16116"/>
                  <a:pt x="19264" y="16073"/>
                </a:cubicBezTo>
                <a:cubicBezTo>
                  <a:pt x="19269" y="16027"/>
                  <a:pt x="19278" y="16022"/>
                  <a:pt x="19288" y="16002"/>
                </a:cubicBezTo>
                <a:cubicBezTo>
                  <a:pt x="19301" y="15975"/>
                  <a:pt x="19306" y="15919"/>
                  <a:pt x="19312" y="15907"/>
                </a:cubicBezTo>
                <a:cubicBezTo>
                  <a:pt x="19312" y="15899"/>
                  <a:pt x="19312" y="15891"/>
                  <a:pt x="19312" y="15883"/>
                </a:cubicBezTo>
                <a:cubicBezTo>
                  <a:pt x="19295" y="15889"/>
                  <a:pt x="19253" y="15925"/>
                  <a:pt x="19240" y="15954"/>
                </a:cubicBezTo>
                <a:cubicBezTo>
                  <a:pt x="19228" y="15981"/>
                  <a:pt x="19206" y="15988"/>
                  <a:pt x="19193" y="16026"/>
                </a:cubicBezTo>
                <a:cubicBezTo>
                  <a:pt x="19182" y="16059"/>
                  <a:pt x="19151" y="16084"/>
                  <a:pt x="19145" y="16097"/>
                </a:cubicBezTo>
                <a:cubicBezTo>
                  <a:pt x="19129" y="16128"/>
                  <a:pt x="19121" y="16121"/>
                  <a:pt x="19121" y="16169"/>
                </a:cubicBezTo>
                <a:cubicBezTo>
                  <a:pt x="19121" y="16180"/>
                  <a:pt x="19107" y="16256"/>
                  <a:pt x="19098" y="16264"/>
                </a:cubicBezTo>
                <a:cubicBezTo>
                  <a:pt x="19046" y="16311"/>
                  <a:pt x="19041" y="16355"/>
                  <a:pt x="19002" y="16407"/>
                </a:cubicBezTo>
                <a:cubicBezTo>
                  <a:pt x="18975" y="16442"/>
                  <a:pt x="18988" y="16443"/>
                  <a:pt x="18955" y="164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75640" y="5805360"/>
            <a:ext cx="360360" cy="196920"/>
          </a:xfrm>
          <a:custGeom>
            <a:avLst/>
            <a:gdLst/>
            <a:ahLst/>
            <a:rect l="l" t="t" r="r" b="b"/>
            <a:pathLst>
              <a:path w="1001" h="548">
                <a:moveTo>
                  <a:pt x="24122" y="16407"/>
                </a:moveTo>
                <a:cubicBezTo>
                  <a:pt x="24114" y="16374"/>
                  <a:pt x="24088" y="16317"/>
                  <a:pt x="24074" y="16288"/>
                </a:cubicBezTo>
                <a:cubicBezTo>
                  <a:pt x="24051" y="16241"/>
                  <a:pt x="24035" y="16264"/>
                  <a:pt x="24027" y="16288"/>
                </a:cubicBezTo>
                <a:cubicBezTo>
                  <a:pt x="24027" y="16341"/>
                  <a:pt x="24021" y="16360"/>
                  <a:pt x="24051" y="16383"/>
                </a:cubicBezTo>
                <a:cubicBezTo>
                  <a:pt x="24076" y="16403"/>
                  <a:pt x="24074" y="16384"/>
                  <a:pt x="24074" y="16431"/>
                </a:cubicBezTo>
                <a:cubicBezTo>
                  <a:pt x="24074" y="16396"/>
                  <a:pt x="24081" y="16360"/>
                  <a:pt x="24098" y="16335"/>
                </a:cubicBezTo>
                <a:cubicBezTo>
                  <a:pt x="24125" y="16295"/>
                  <a:pt x="24126" y="16267"/>
                  <a:pt x="24146" y="16240"/>
                </a:cubicBezTo>
                <a:cubicBezTo>
                  <a:pt x="24167" y="16212"/>
                  <a:pt x="24170" y="16227"/>
                  <a:pt x="24170" y="16192"/>
                </a:cubicBezTo>
                <a:cubicBezTo>
                  <a:pt x="24170" y="16267"/>
                  <a:pt x="24167" y="16321"/>
                  <a:pt x="24146" y="16383"/>
                </a:cubicBezTo>
                <a:cubicBezTo>
                  <a:pt x="24136" y="16414"/>
                  <a:pt x="24146" y="16469"/>
                  <a:pt x="24146" y="16502"/>
                </a:cubicBezTo>
                <a:cubicBezTo>
                  <a:pt x="24118" y="16465"/>
                  <a:pt x="24142" y="16397"/>
                  <a:pt x="24098" y="16383"/>
                </a:cubicBezTo>
                <a:cubicBezTo>
                  <a:pt x="24082" y="16378"/>
                  <a:pt x="24041" y="16429"/>
                  <a:pt x="24027" y="16431"/>
                </a:cubicBezTo>
                <a:cubicBezTo>
                  <a:pt x="23983" y="16436"/>
                  <a:pt x="24012" y="16442"/>
                  <a:pt x="24003" y="16478"/>
                </a:cubicBezTo>
                <a:cubicBezTo>
                  <a:pt x="23989" y="16421"/>
                  <a:pt x="23954" y="16452"/>
                  <a:pt x="23932" y="16407"/>
                </a:cubicBezTo>
                <a:cubicBezTo>
                  <a:pt x="23923" y="16388"/>
                  <a:pt x="23914" y="16331"/>
                  <a:pt x="23908" y="16312"/>
                </a:cubicBezTo>
                <a:cubicBezTo>
                  <a:pt x="23890" y="16259"/>
                  <a:pt x="23920" y="16270"/>
                  <a:pt x="23955" y="16264"/>
                </a:cubicBezTo>
                <a:cubicBezTo>
                  <a:pt x="24005" y="16277"/>
                  <a:pt x="23999" y="16287"/>
                  <a:pt x="24003" y="16335"/>
                </a:cubicBezTo>
                <a:cubicBezTo>
                  <a:pt x="24007" y="16386"/>
                  <a:pt x="24022" y="16369"/>
                  <a:pt x="24027" y="16407"/>
                </a:cubicBezTo>
                <a:cubicBezTo>
                  <a:pt x="24032" y="16447"/>
                  <a:pt x="24081" y="16428"/>
                  <a:pt x="24098" y="16454"/>
                </a:cubicBezTo>
                <a:cubicBezTo>
                  <a:pt x="24098" y="16462"/>
                  <a:pt x="24098" y="16470"/>
                  <a:pt x="24098" y="16478"/>
                </a:cubicBezTo>
                <a:cubicBezTo>
                  <a:pt x="24098" y="16531"/>
                  <a:pt x="24100" y="16521"/>
                  <a:pt x="24051" y="16526"/>
                </a:cubicBezTo>
                <a:cubicBezTo>
                  <a:pt x="23987" y="16532"/>
                  <a:pt x="23939" y="16517"/>
                  <a:pt x="23908" y="16502"/>
                </a:cubicBezTo>
                <a:cubicBezTo>
                  <a:pt x="23869" y="16482"/>
                  <a:pt x="23894" y="16458"/>
                  <a:pt x="23860" y="16407"/>
                </a:cubicBezTo>
                <a:cubicBezTo>
                  <a:pt x="23839" y="16376"/>
                  <a:pt x="23830" y="16340"/>
                  <a:pt x="23812" y="16312"/>
                </a:cubicBezTo>
                <a:cubicBezTo>
                  <a:pt x="23800" y="16294"/>
                  <a:pt x="23758" y="16297"/>
                  <a:pt x="23741" y="16264"/>
                </a:cubicBezTo>
                <a:cubicBezTo>
                  <a:pt x="23728" y="16237"/>
                  <a:pt x="23805" y="16230"/>
                  <a:pt x="23812" y="16216"/>
                </a:cubicBezTo>
                <a:cubicBezTo>
                  <a:pt x="23826" y="16186"/>
                  <a:pt x="23871" y="16192"/>
                  <a:pt x="23836" y="16192"/>
                </a:cubicBezTo>
                <a:cubicBezTo>
                  <a:pt x="23755" y="16192"/>
                  <a:pt x="23669" y="16192"/>
                  <a:pt x="23622" y="16216"/>
                </a:cubicBezTo>
                <a:cubicBezTo>
                  <a:pt x="23601" y="16227"/>
                  <a:pt x="23556" y="16252"/>
                  <a:pt x="23551" y="16264"/>
                </a:cubicBezTo>
                <a:cubicBezTo>
                  <a:pt x="23537" y="16298"/>
                  <a:pt x="23531" y="16320"/>
                  <a:pt x="23527" y="16359"/>
                </a:cubicBezTo>
                <a:cubicBezTo>
                  <a:pt x="23519" y="16434"/>
                  <a:pt x="23508" y="16370"/>
                  <a:pt x="23479" y="16407"/>
                </a:cubicBezTo>
                <a:cubicBezTo>
                  <a:pt x="23479" y="16431"/>
                  <a:pt x="23479" y="16438"/>
                  <a:pt x="23479" y="16454"/>
                </a:cubicBezTo>
                <a:cubicBezTo>
                  <a:pt x="23513" y="16430"/>
                  <a:pt x="23534" y="16373"/>
                  <a:pt x="23574" y="16383"/>
                </a:cubicBezTo>
                <a:cubicBezTo>
                  <a:pt x="23580" y="16385"/>
                  <a:pt x="23574" y="16535"/>
                  <a:pt x="23574" y="16550"/>
                </a:cubicBezTo>
                <a:cubicBezTo>
                  <a:pt x="23574" y="16602"/>
                  <a:pt x="23574" y="16602"/>
                  <a:pt x="23574" y="16550"/>
                </a:cubicBezTo>
                <a:cubicBezTo>
                  <a:pt x="23574" y="16501"/>
                  <a:pt x="23588" y="16498"/>
                  <a:pt x="23598" y="16478"/>
                </a:cubicBezTo>
                <a:cubicBezTo>
                  <a:pt x="23611" y="16452"/>
                  <a:pt x="23608" y="16407"/>
                  <a:pt x="23622" y="16383"/>
                </a:cubicBezTo>
                <a:cubicBezTo>
                  <a:pt x="23628" y="16371"/>
                  <a:pt x="23642" y="16292"/>
                  <a:pt x="23646" y="16288"/>
                </a:cubicBezTo>
                <a:cubicBezTo>
                  <a:pt x="23660" y="16274"/>
                  <a:pt x="23692" y="16353"/>
                  <a:pt x="23693" y="16359"/>
                </a:cubicBezTo>
                <a:cubicBezTo>
                  <a:pt x="23699" y="16413"/>
                  <a:pt x="23693" y="16471"/>
                  <a:pt x="23693" y="16526"/>
                </a:cubicBezTo>
                <a:cubicBezTo>
                  <a:pt x="23693" y="16550"/>
                  <a:pt x="23693" y="16558"/>
                  <a:pt x="23693" y="16526"/>
                </a:cubicBezTo>
                <a:cubicBezTo>
                  <a:pt x="23676" y="16503"/>
                  <a:pt x="23670" y="16504"/>
                  <a:pt x="23670" y="16454"/>
                </a:cubicBezTo>
                <a:cubicBezTo>
                  <a:pt x="23670" y="16394"/>
                  <a:pt x="23679" y="16383"/>
                  <a:pt x="23646" y="16359"/>
                </a:cubicBezTo>
                <a:cubicBezTo>
                  <a:pt x="23638" y="16351"/>
                  <a:pt x="23630" y="16343"/>
                  <a:pt x="23622" y="16335"/>
                </a:cubicBezTo>
                <a:cubicBezTo>
                  <a:pt x="23564" y="16335"/>
                  <a:pt x="23586" y="16343"/>
                  <a:pt x="23551" y="16383"/>
                </a:cubicBezTo>
                <a:cubicBezTo>
                  <a:pt x="23513" y="16426"/>
                  <a:pt x="23454" y="16410"/>
                  <a:pt x="23408" y="16431"/>
                </a:cubicBezTo>
                <a:cubicBezTo>
                  <a:pt x="23398" y="16436"/>
                  <a:pt x="23335" y="16497"/>
                  <a:pt x="23289" y="16454"/>
                </a:cubicBezTo>
                <a:cubicBezTo>
                  <a:pt x="23312" y="16431"/>
                  <a:pt x="23320" y="16423"/>
                  <a:pt x="23336" y="16407"/>
                </a:cubicBezTo>
                <a:cubicBezTo>
                  <a:pt x="23389" y="16407"/>
                  <a:pt x="23379" y="16405"/>
                  <a:pt x="23384" y="16454"/>
                </a:cubicBezTo>
                <a:cubicBezTo>
                  <a:pt x="23389" y="16504"/>
                  <a:pt x="23405" y="16489"/>
                  <a:pt x="23408" y="16526"/>
                </a:cubicBezTo>
                <a:cubicBezTo>
                  <a:pt x="23410" y="16558"/>
                  <a:pt x="23434" y="16680"/>
                  <a:pt x="23431" y="16693"/>
                </a:cubicBezTo>
                <a:cubicBezTo>
                  <a:pt x="23431" y="16716"/>
                  <a:pt x="23431" y="16724"/>
                  <a:pt x="23408" y="16716"/>
                </a:cubicBezTo>
                <a:cubicBezTo>
                  <a:pt x="23392" y="16693"/>
                  <a:pt x="23363" y="16666"/>
                  <a:pt x="23360" y="16645"/>
                </a:cubicBezTo>
                <a:cubicBezTo>
                  <a:pt x="23354" y="16601"/>
                  <a:pt x="23383" y="16484"/>
                  <a:pt x="23336" y="16478"/>
                </a:cubicBezTo>
                <a:cubicBezTo>
                  <a:pt x="23300" y="16473"/>
                  <a:pt x="23304" y="16431"/>
                  <a:pt x="23289" y="16407"/>
                </a:cubicBezTo>
                <a:cubicBezTo>
                  <a:pt x="23268" y="16372"/>
                  <a:pt x="23251" y="16351"/>
                  <a:pt x="23241" y="16312"/>
                </a:cubicBezTo>
                <a:cubicBezTo>
                  <a:pt x="23225" y="16248"/>
                  <a:pt x="23267" y="16283"/>
                  <a:pt x="23289" y="16240"/>
                </a:cubicBezTo>
                <a:cubicBezTo>
                  <a:pt x="23302" y="16215"/>
                  <a:pt x="23302" y="16196"/>
                  <a:pt x="23336" y="16192"/>
                </a:cubicBezTo>
                <a:cubicBezTo>
                  <a:pt x="23378" y="16187"/>
                  <a:pt x="23358" y="16147"/>
                  <a:pt x="23384" y="16192"/>
                </a:cubicBezTo>
                <a:cubicBezTo>
                  <a:pt x="23421" y="16256"/>
                  <a:pt x="23359" y="16342"/>
                  <a:pt x="23408" y="16407"/>
                </a:cubicBezTo>
                <a:cubicBezTo>
                  <a:pt x="23408" y="16431"/>
                  <a:pt x="23408" y="16439"/>
                  <a:pt x="23408" y="16407"/>
                </a:cubicBezTo>
                <a:cubicBezTo>
                  <a:pt x="23405" y="16406"/>
                  <a:pt x="23339" y="16386"/>
                  <a:pt x="23336" y="16383"/>
                </a:cubicBezTo>
                <a:cubicBezTo>
                  <a:pt x="23316" y="16358"/>
                  <a:pt x="23325" y="16341"/>
                  <a:pt x="23312" y="16312"/>
                </a:cubicBezTo>
                <a:cubicBezTo>
                  <a:pt x="23312" y="16304"/>
                  <a:pt x="23312" y="16296"/>
                  <a:pt x="23312" y="16288"/>
                </a:cubicBezTo>
                <a:cubicBezTo>
                  <a:pt x="23303" y="16300"/>
                  <a:pt x="23274" y="16328"/>
                  <a:pt x="23265" y="16359"/>
                </a:cubicBezTo>
                <a:cubicBezTo>
                  <a:pt x="23263" y="16366"/>
                  <a:pt x="23232" y="16383"/>
                  <a:pt x="23217" y="16335"/>
                </a:cubicBezTo>
                <a:cubicBezTo>
                  <a:pt x="23208" y="16305"/>
                  <a:pt x="23196" y="16269"/>
                  <a:pt x="23193" y="16240"/>
                </a:cubicBezTo>
                <a:cubicBezTo>
                  <a:pt x="23187" y="16184"/>
                  <a:pt x="23173" y="16233"/>
                  <a:pt x="23193" y="16192"/>
                </a:cubicBezTo>
                <a:cubicBezTo>
                  <a:pt x="23243" y="16209"/>
                  <a:pt x="23198" y="16220"/>
                  <a:pt x="23193" y="16264"/>
                </a:cubicBezTo>
                <a:cubicBezTo>
                  <a:pt x="23188" y="16313"/>
                  <a:pt x="23177" y="16473"/>
                  <a:pt x="23217" y="16478"/>
                </a:cubicBezTo>
                <a:cubicBezTo>
                  <a:pt x="23256" y="16483"/>
                  <a:pt x="23235" y="16502"/>
                  <a:pt x="23289" y="16502"/>
                </a:cubicBezTo>
                <a:cubicBezTo>
                  <a:pt x="23297" y="16502"/>
                  <a:pt x="23304" y="16502"/>
                  <a:pt x="23312" y="16502"/>
                </a:cubicBezTo>
                <a:cubicBezTo>
                  <a:pt x="23305" y="16468"/>
                  <a:pt x="23289" y="16463"/>
                  <a:pt x="23289" y="16407"/>
                </a:cubicBezTo>
                <a:cubicBezTo>
                  <a:pt x="23289" y="16350"/>
                  <a:pt x="23305" y="16333"/>
                  <a:pt x="23312" y="16312"/>
                </a:cubicBezTo>
                <a:cubicBezTo>
                  <a:pt x="23324" y="16276"/>
                  <a:pt x="23333" y="16267"/>
                  <a:pt x="23336" y="16240"/>
                </a:cubicBezTo>
                <a:cubicBezTo>
                  <a:pt x="23341" y="16198"/>
                  <a:pt x="23317" y="16221"/>
                  <a:pt x="23289" y="162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54800" y="5743440"/>
            <a:ext cx="360360" cy="274680"/>
          </a:xfrm>
          <a:custGeom>
            <a:avLst/>
            <a:gdLst/>
            <a:ahLst/>
            <a:rect l="l" t="t" r="r" b="b"/>
            <a:pathLst>
              <a:path w="1001" h="763">
                <a:moveTo>
                  <a:pt x="18764" y="16169"/>
                </a:moveTo>
                <a:cubicBezTo>
                  <a:pt x="18800" y="16181"/>
                  <a:pt x="18788" y="16197"/>
                  <a:pt x="18788" y="16240"/>
                </a:cubicBezTo>
                <a:cubicBezTo>
                  <a:pt x="18788" y="16375"/>
                  <a:pt x="18788" y="16732"/>
                  <a:pt x="18788" y="16597"/>
                </a:cubicBezTo>
                <a:cubicBezTo>
                  <a:pt x="18788" y="16527"/>
                  <a:pt x="18793" y="16468"/>
                  <a:pt x="18812" y="16431"/>
                </a:cubicBezTo>
                <a:cubicBezTo>
                  <a:pt x="18843" y="16370"/>
                  <a:pt x="18812" y="16087"/>
                  <a:pt x="18812" y="16097"/>
                </a:cubicBezTo>
                <a:cubicBezTo>
                  <a:pt x="18812" y="16153"/>
                  <a:pt x="18812" y="16208"/>
                  <a:pt x="18812" y="16264"/>
                </a:cubicBezTo>
              </a:path>
              <a:path w="1001" h="763">
                <a:moveTo>
                  <a:pt x="18931" y="16288"/>
                </a:moveTo>
                <a:cubicBezTo>
                  <a:pt x="18931" y="16264"/>
                  <a:pt x="18931" y="16256"/>
                  <a:pt x="18931" y="16240"/>
                </a:cubicBezTo>
                <a:cubicBezTo>
                  <a:pt x="18931" y="16296"/>
                  <a:pt x="18931" y="16351"/>
                  <a:pt x="18931" y="16407"/>
                </a:cubicBezTo>
              </a:path>
              <a:path w="1001" h="763">
                <a:moveTo>
                  <a:pt x="18883" y="16478"/>
                </a:moveTo>
                <a:cubicBezTo>
                  <a:pt x="18883" y="16534"/>
                  <a:pt x="18883" y="16589"/>
                  <a:pt x="18883" y="16645"/>
                </a:cubicBezTo>
              </a:path>
              <a:path w="1001" h="763">
                <a:moveTo>
                  <a:pt x="18574" y="16169"/>
                </a:moveTo>
                <a:cubicBezTo>
                  <a:pt x="18657" y="16169"/>
                  <a:pt x="18585" y="16156"/>
                  <a:pt x="18574" y="16169"/>
                </a:cubicBezTo>
                <a:cubicBezTo>
                  <a:pt x="18548" y="16200"/>
                  <a:pt x="18574" y="16490"/>
                  <a:pt x="18574" y="16454"/>
                </a:cubicBezTo>
                <a:cubicBezTo>
                  <a:pt x="18597" y="16424"/>
                  <a:pt x="18619" y="16411"/>
                  <a:pt x="18621" y="16383"/>
                </a:cubicBezTo>
                <a:cubicBezTo>
                  <a:pt x="18626" y="16314"/>
                  <a:pt x="18626" y="16274"/>
                  <a:pt x="18645" y="16216"/>
                </a:cubicBezTo>
                <a:cubicBezTo>
                  <a:pt x="18649" y="16204"/>
                  <a:pt x="18645" y="16081"/>
                  <a:pt x="18645" y="16145"/>
                </a:cubicBezTo>
                <a:cubicBezTo>
                  <a:pt x="18645" y="16222"/>
                  <a:pt x="18676" y="16556"/>
                  <a:pt x="18621" y="16573"/>
                </a:cubicBezTo>
                <a:cubicBezTo>
                  <a:pt x="18599" y="16566"/>
                  <a:pt x="18577" y="16524"/>
                  <a:pt x="18574" y="16502"/>
                </a:cubicBezTo>
                <a:cubicBezTo>
                  <a:pt x="18568" y="16451"/>
                  <a:pt x="18562" y="16431"/>
                  <a:pt x="18550" y="16407"/>
                </a:cubicBezTo>
                <a:cubicBezTo>
                  <a:pt x="18538" y="16383"/>
                  <a:pt x="18509" y="16374"/>
                  <a:pt x="18502" y="16359"/>
                </a:cubicBezTo>
                <a:cubicBezTo>
                  <a:pt x="18487" y="16328"/>
                  <a:pt x="18443" y="16336"/>
                  <a:pt x="18431" y="16312"/>
                </a:cubicBezTo>
                <a:cubicBezTo>
                  <a:pt x="18413" y="16277"/>
                  <a:pt x="18423" y="16173"/>
                  <a:pt x="18455" y="16169"/>
                </a:cubicBezTo>
                <a:cubicBezTo>
                  <a:pt x="18529" y="16160"/>
                  <a:pt x="18473" y="16193"/>
                  <a:pt x="18502" y="16216"/>
                </a:cubicBezTo>
                <a:cubicBezTo>
                  <a:pt x="18526" y="16216"/>
                  <a:pt x="18534" y="16216"/>
                  <a:pt x="18526" y="16240"/>
                </a:cubicBezTo>
                <a:cubicBezTo>
                  <a:pt x="18526" y="16301"/>
                  <a:pt x="18514" y="16200"/>
                  <a:pt x="18502" y="16192"/>
                </a:cubicBezTo>
                <a:cubicBezTo>
                  <a:pt x="18485" y="16181"/>
                  <a:pt x="18446" y="16175"/>
                  <a:pt x="18431" y="16145"/>
                </a:cubicBezTo>
                <a:cubicBezTo>
                  <a:pt x="18427" y="16136"/>
                  <a:pt x="18366" y="16088"/>
                  <a:pt x="18359" y="16097"/>
                </a:cubicBezTo>
                <a:cubicBezTo>
                  <a:pt x="18346" y="16115"/>
                  <a:pt x="18323" y="16133"/>
                  <a:pt x="18288" y="16145"/>
                </a:cubicBezTo>
                <a:cubicBezTo>
                  <a:pt x="18252" y="16157"/>
                  <a:pt x="18264" y="16173"/>
                  <a:pt x="18264" y="16216"/>
                </a:cubicBezTo>
                <a:cubicBezTo>
                  <a:pt x="18264" y="16240"/>
                  <a:pt x="18264" y="16264"/>
                  <a:pt x="18264" y="16288"/>
                </a:cubicBezTo>
                <a:cubicBezTo>
                  <a:pt x="18251" y="16340"/>
                  <a:pt x="18244" y="16346"/>
                  <a:pt x="18264" y="16288"/>
                </a:cubicBezTo>
                <a:cubicBezTo>
                  <a:pt x="18275" y="16256"/>
                  <a:pt x="18278" y="16221"/>
                  <a:pt x="18288" y="16192"/>
                </a:cubicBezTo>
                <a:cubicBezTo>
                  <a:pt x="18299" y="16159"/>
                  <a:pt x="18327" y="16155"/>
                  <a:pt x="18336" y="16121"/>
                </a:cubicBezTo>
                <a:cubicBezTo>
                  <a:pt x="18348" y="16078"/>
                  <a:pt x="18338" y="16055"/>
                  <a:pt x="18383" y="16050"/>
                </a:cubicBezTo>
                <a:cubicBezTo>
                  <a:pt x="18391" y="16050"/>
                  <a:pt x="18399" y="16050"/>
                  <a:pt x="18407" y="16050"/>
                </a:cubicBezTo>
                <a:cubicBezTo>
                  <a:pt x="18435" y="16086"/>
                  <a:pt x="18431" y="16099"/>
                  <a:pt x="18431" y="16145"/>
                </a:cubicBezTo>
                <a:cubicBezTo>
                  <a:pt x="18431" y="16195"/>
                  <a:pt x="18431" y="16364"/>
                  <a:pt x="18431" y="16335"/>
                </a:cubicBezTo>
                <a:cubicBezTo>
                  <a:pt x="18431" y="16284"/>
                  <a:pt x="18449" y="16388"/>
                  <a:pt x="18455" y="16407"/>
                </a:cubicBezTo>
                <a:cubicBezTo>
                  <a:pt x="18458" y="16416"/>
                  <a:pt x="18455" y="16520"/>
                  <a:pt x="18455" y="16454"/>
                </a:cubicBezTo>
                <a:cubicBezTo>
                  <a:pt x="18429" y="16420"/>
                  <a:pt x="18397" y="16425"/>
                  <a:pt x="18383" y="16407"/>
                </a:cubicBezTo>
                <a:cubicBezTo>
                  <a:pt x="18376" y="16399"/>
                  <a:pt x="18360" y="16323"/>
                  <a:pt x="18359" y="16312"/>
                </a:cubicBezTo>
                <a:cubicBezTo>
                  <a:pt x="18354" y="16265"/>
                  <a:pt x="18364" y="16255"/>
                  <a:pt x="18336" y="16216"/>
                </a:cubicBezTo>
                <a:cubicBezTo>
                  <a:pt x="18336" y="16265"/>
                  <a:pt x="18322" y="16268"/>
                  <a:pt x="18312" y="16288"/>
                </a:cubicBezTo>
                <a:cubicBezTo>
                  <a:pt x="18289" y="16334"/>
                  <a:pt x="18324" y="16397"/>
                  <a:pt x="18336" y="16431"/>
                </a:cubicBezTo>
                <a:cubicBezTo>
                  <a:pt x="18350" y="16473"/>
                  <a:pt x="18326" y="16564"/>
                  <a:pt x="18359" y="16597"/>
                </a:cubicBezTo>
                <a:cubicBezTo>
                  <a:pt x="18390" y="16628"/>
                  <a:pt x="18389" y="16567"/>
                  <a:pt x="18407" y="16621"/>
                </a:cubicBezTo>
                <a:cubicBezTo>
                  <a:pt x="18407" y="16584"/>
                  <a:pt x="18422" y="16555"/>
                  <a:pt x="18383" y="16550"/>
                </a:cubicBezTo>
                <a:cubicBezTo>
                  <a:pt x="18343" y="16545"/>
                  <a:pt x="18366" y="16526"/>
                  <a:pt x="18312" y="16526"/>
                </a:cubicBezTo>
                <a:cubicBezTo>
                  <a:pt x="18287" y="16526"/>
                  <a:pt x="18217" y="16506"/>
                  <a:pt x="18193" y="16478"/>
                </a:cubicBezTo>
                <a:cubicBezTo>
                  <a:pt x="18182" y="16465"/>
                  <a:pt x="18134" y="16435"/>
                  <a:pt x="18121" y="16407"/>
                </a:cubicBezTo>
                <a:cubicBezTo>
                  <a:pt x="18096" y="16352"/>
                  <a:pt x="18114" y="16415"/>
                  <a:pt x="18121" y="16359"/>
                </a:cubicBezTo>
                <a:cubicBezTo>
                  <a:pt x="18127" y="16313"/>
                  <a:pt x="18114" y="16276"/>
                  <a:pt x="18169" y="16264"/>
                </a:cubicBezTo>
                <a:cubicBezTo>
                  <a:pt x="18213" y="16254"/>
                  <a:pt x="18201" y="16232"/>
                  <a:pt x="18217" y="16264"/>
                </a:cubicBezTo>
                <a:cubicBezTo>
                  <a:pt x="18217" y="16323"/>
                  <a:pt x="18207" y="16355"/>
                  <a:pt x="18193" y="16383"/>
                </a:cubicBezTo>
                <a:cubicBezTo>
                  <a:pt x="18179" y="16411"/>
                  <a:pt x="18202" y="16482"/>
                  <a:pt x="18217" y="16454"/>
                </a:cubicBezTo>
                <a:cubicBezTo>
                  <a:pt x="18217" y="16431"/>
                  <a:pt x="18217" y="16423"/>
                  <a:pt x="18193" y="16431"/>
                </a:cubicBezTo>
                <a:cubicBezTo>
                  <a:pt x="18166" y="16396"/>
                  <a:pt x="18163" y="16383"/>
                  <a:pt x="18145" y="16359"/>
                </a:cubicBezTo>
                <a:cubicBezTo>
                  <a:pt x="18121" y="16327"/>
                  <a:pt x="18101" y="16317"/>
                  <a:pt x="18097" y="16288"/>
                </a:cubicBezTo>
                <a:cubicBezTo>
                  <a:pt x="18092" y="16251"/>
                  <a:pt x="18073" y="16257"/>
                  <a:pt x="18050" y="16240"/>
                </a:cubicBezTo>
                <a:cubicBezTo>
                  <a:pt x="18035" y="16229"/>
                  <a:pt x="17985" y="16183"/>
                  <a:pt x="17978" y="16169"/>
                </a:cubicBezTo>
                <a:cubicBezTo>
                  <a:pt x="17955" y="16124"/>
                  <a:pt x="17999" y="16193"/>
                  <a:pt x="18002" y="16216"/>
                </a:cubicBezTo>
                <a:cubicBezTo>
                  <a:pt x="18005" y="16247"/>
                  <a:pt x="18002" y="16281"/>
                  <a:pt x="18002" y="16312"/>
                </a:cubicBezTo>
                <a:cubicBezTo>
                  <a:pt x="18002" y="16268"/>
                  <a:pt x="18022" y="16255"/>
                  <a:pt x="18026" y="16216"/>
                </a:cubicBezTo>
                <a:cubicBezTo>
                  <a:pt x="18030" y="16177"/>
                  <a:pt x="18050" y="16165"/>
                  <a:pt x="18050" y="16121"/>
                </a:cubicBezTo>
                <a:cubicBezTo>
                  <a:pt x="18050" y="16081"/>
                  <a:pt x="17991" y="16098"/>
                  <a:pt x="17978" y="16073"/>
                </a:cubicBezTo>
                <a:cubicBezTo>
                  <a:pt x="17974" y="16066"/>
                  <a:pt x="17978" y="15959"/>
                  <a:pt x="17978" y="16026"/>
                </a:cubicBezTo>
                <a:cubicBezTo>
                  <a:pt x="17978" y="16100"/>
                  <a:pt x="17975" y="16174"/>
                  <a:pt x="17955" y="16216"/>
                </a:cubicBezTo>
                <a:cubicBezTo>
                  <a:pt x="17936" y="16256"/>
                  <a:pt x="17945" y="16342"/>
                  <a:pt x="17931" y="16383"/>
                </a:cubicBezTo>
                <a:cubicBezTo>
                  <a:pt x="17922" y="16411"/>
                  <a:pt x="17945" y="16449"/>
                  <a:pt x="17955" y="16454"/>
                </a:cubicBezTo>
                <a:cubicBezTo>
                  <a:pt x="17992" y="16473"/>
                  <a:pt x="17967" y="16531"/>
                  <a:pt x="18026" y="16478"/>
                </a:cubicBezTo>
                <a:cubicBezTo>
                  <a:pt x="18051" y="16456"/>
                  <a:pt x="18071" y="16429"/>
                  <a:pt x="18074" y="16407"/>
                </a:cubicBezTo>
                <a:cubicBezTo>
                  <a:pt x="18079" y="16365"/>
                  <a:pt x="18082" y="16346"/>
                  <a:pt x="18050" y="16335"/>
                </a:cubicBezTo>
                <a:cubicBezTo>
                  <a:pt x="18050" y="16283"/>
                  <a:pt x="18050" y="16283"/>
                  <a:pt x="18050" y="16335"/>
                </a:cubicBezTo>
                <a:cubicBezTo>
                  <a:pt x="18050" y="16375"/>
                  <a:pt x="18050" y="16414"/>
                  <a:pt x="18050" y="16454"/>
                </a:cubicBezTo>
                <a:cubicBezTo>
                  <a:pt x="18043" y="16474"/>
                  <a:pt x="18026" y="16519"/>
                  <a:pt x="18026" y="16478"/>
                </a:cubicBezTo>
                <a:cubicBezTo>
                  <a:pt x="18026" y="16440"/>
                  <a:pt x="18050" y="16426"/>
                  <a:pt x="18050" y="16383"/>
                </a:cubicBezTo>
                <a:cubicBezTo>
                  <a:pt x="18050" y="16232"/>
                  <a:pt x="18050" y="15827"/>
                  <a:pt x="18050" y="15978"/>
                </a:cubicBezTo>
                <a:cubicBezTo>
                  <a:pt x="18050" y="16105"/>
                  <a:pt x="18050" y="16232"/>
                  <a:pt x="18050" y="16359"/>
                </a:cubicBezTo>
                <a:cubicBezTo>
                  <a:pt x="18014" y="16347"/>
                  <a:pt x="18026" y="16331"/>
                  <a:pt x="18026" y="16288"/>
                </a:cubicBezTo>
                <a:cubicBezTo>
                  <a:pt x="18026" y="16220"/>
                  <a:pt x="18019" y="16180"/>
                  <a:pt x="18002" y="16145"/>
                </a:cubicBezTo>
                <a:cubicBezTo>
                  <a:pt x="17989" y="16120"/>
                  <a:pt x="18002" y="16055"/>
                  <a:pt x="18002" y="16026"/>
                </a:cubicBezTo>
              </a:path>
              <a:path w="1001" h="763">
                <a:moveTo>
                  <a:pt x="18764" y="16454"/>
                </a:moveTo>
                <a:cubicBezTo>
                  <a:pt x="18792" y="16418"/>
                  <a:pt x="18788" y="16405"/>
                  <a:pt x="18788" y="16359"/>
                </a:cubicBezTo>
                <a:cubicBezTo>
                  <a:pt x="18788" y="16331"/>
                  <a:pt x="18788" y="16190"/>
                  <a:pt x="18788" y="16240"/>
                </a:cubicBezTo>
                <a:cubicBezTo>
                  <a:pt x="18788" y="16316"/>
                  <a:pt x="18786" y="16388"/>
                  <a:pt x="18764" y="16431"/>
                </a:cubicBezTo>
                <a:cubicBezTo>
                  <a:pt x="18745" y="16469"/>
                  <a:pt x="18751" y="16551"/>
                  <a:pt x="18740" y="16573"/>
                </a:cubicBezTo>
                <a:cubicBezTo>
                  <a:pt x="18724" y="16606"/>
                  <a:pt x="18766" y="16659"/>
                  <a:pt x="18740" y="16621"/>
                </a:cubicBezTo>
                <a:cubicBezTo>
                  <a:pt x="18724" y="16598"/>
                  <a:pt x="18661" y="16537"/>
                  <a:pt x="18645" y="16526"/>
                </a:cubicBezTo>
                <a:cubicBezTo>
                  <a:pt x="18622" y="16511"/>
                  <a:pt x="18587" y="16460"/>
                  <a:pt x="18574" y="16454"/>
                </a:cubicBezTo>
                <a:cubicBezTo>
                  <a:pt x="18566" y="16454"/>
                  <a:pt x="18558" y="16454"/>
                  <a:pt x="18550" y="16454"/>
                </a:cubicBezTo>
                <a:cubicBezTo>
                  <a:pt x="18539" y="16500"/>
                  <a:pt x="18497" y="16508"/>
                  <a:pt x="18478" y="16550"/>
                </a:cubicBezTo>
                <a:cubicBezTo>
                  <a:pt x="18467" y="16575"/>
                  <a:pt x="18439" y="16582"/>
                  <a:pt x="18431" y="16597"/>
                </a:cubicBezTo>
                <a:cubicBezTo>
                  <a:pt x="18412" y="16634"/>
                  <a:pt x="18371" y="16628"/>
                  <a:pt x="18336" y="16669"/>
                </a:cubicBezTo>
                <a:cubicBezTo>
                  <a:pt x="18316" y="16707"/>
                  <a:pt x="18318" y="16723"/>
                  <a:pt x="18288" y="16716"/>
                </a:cubicBezTo>
                <a:cubicBezTo>
                  <a:pt x="18288" y="16621"/>
                  <a:pt x="18288" y="16526"/>
                  <a:pt x="18288" y="16431"/>
                </a:cubicBezTo>
                <a:cubicBezTo>
                  <a:pt x="18234" y="16470"/>
                  <a:pt x="18266" y="16453"/>
                  <a:pt x="18240" y="16502"/>
                </a:cubicBezTo>
                <a:cubicBezTo>
                  <a:pt x="18223" y="16535"/>
                  <a:pt x="18159" y="16529"/>
                  <a:pt x="18145" y="16550"/>
                </a:cubicBezTo>
                <a:cubicBezTo>
                  <a:pt x="18137" y="16562"/>
                  <a:pt x="18128" y="16640"/>
                  <a:pt x="18121" y="16645"/>
                </a:cubicBezTo>
                <a:cubicBezTo>
                  <a:pt x="18067" y="16688"/>
                  <a:pt x="18122" y="16642"/>
                  <a:pt x="18097" y="16621"/>
                </a:cubicBezTo>
                <a:cubicBezTo>
                  <a:pt x="18071" y="16599"/>
                  <a:pt x="18074" y="16599"/>
                  <a:pt x="18074" y="16550"/>
                </a:cubicBezTo>
                <a:cubicBezTo>
                  <a:pt x="18074" y="16526"/>
                  <a:pt x="18074" y="16502"/>
                  <a:pt x="18074" y="16478"/>
                </a:cubicBezTo>
                <a:cubicBezTo>
                  <a:pt x="18074" y="16528"/>
                  <a:pt x="18079" y="16529"/>
                  <a:pt x="18050" y="16550"/>
                </a:cubicBezTo>
                <a:cubicBezTo>
                  <a:pt x="18013" y="16576"/>
                  <a:pt x="17989" y="16563"/>
                  <a:pt x="17978" y="16597"/>
                </a:cubicBezTo>
              </a:path>
              <a:path w="1001" h="763">
                <a:moveTo>
                  <a:pt x="18836" y="16335"/>
                </a:moveTo>
                <a:cubicBezTo>
                  <a:pt x="18836" y="16327"/>
                  <a:pt x="18836" y="16320"/>
                  <a:pt x="18836" y="16312"/>
                </a:cubicBezTo>
                <a:cubicBezTo>
                  <a:pt x="18810" y="16320"/>
                  <a:pt x="18792" y="16329"/>
                  <a:pt x="18788" y="16359"/>
                </a:cubicBezTo>
                <a:cubicBezTo>
                  <a:pt x="18783" y="16398"/>
                  <a:pt x="18764" y="16377"/>
                  <a:pt x="18764" y="16431"/>
                </a:cubicBezTo>
                <a:cubicBezTo>
                  <a:pt x="18764" y="16470"/>
                  <a:pt x="18743" y="16414"/>
                  <a:pt x="18740" y="16407"/>
                </a:cubicBezTo>
                <a:cubicBezTo>
                  <a:pt x="18730" y="16386"/>
                  <a:pt x="18720" y="16341"/>
                  <a:pt x="18717" y="16335"/>
                </a:cubicBezTo>
                <a:cubicBezTo>
                  <a:pt x="18705" y="16312"/>
                  <a:pt x="18705" y="16233"/>
                  <a:pt x="18693" y="16216"/>
                </a:cubicBezTo>
                <a:cubicBezTo>
                  <a:pt x="18669" y="16216"/>
                  <a:pt x="18661" y="16216"/>
                  <a:pt x="18669" y="16192"/>
                </a:cubicBezTo>
              </a:path>
              <a:path w="1001" h="763">
                <a:moveTo>
                  <a:pt x="18669" y="16454"/>
                </a:moveTo>
                <a:cubicBezTo>
                  <a:pt x="18667" y="16462"/>
                  <a:pt x="18648" y="16548"/>
                  <a:pt x="18645" y="16550"/>
                </a:cubicBezTo>
                <a:cubicBezTo>
                  <a:pt x="18618" y="16572"/>
                  <a:pt x="18605" y="16581"/>
                  <a:pt x="18574" y="16597"/>
                </a:cubicBezTo>
                <a:cubicBezTo>
                  <a:pt x="18558" y="16605"/>
                  <a:pt x="18516" y="16617"/>
                  <a:pt x="18502" y="16645"/>
                </a:cubicBezTo>
                <a:cubicBezTo>
                  <a:pt x="18491" y="16666"/>
                  <a:pt x="18484" y="16692"/>
                  <a:pt x="18478" y="16716"/>
                </a:cubicBezTo>
                <a:cubicBezTo>
                  <a:pt x="18437" y="16702"/>
                  <a:pt x="18474" y="16696"/>
                  <a:pt x="18478" y="16645"/>
                </a:cubicBezTo>
                <a:cubicBezTo>
                  <a:pt x="18485" y="16566"/>
                  <a:pt x="18485" y="16479"/>
                  <a:pt x="18455" y="16407"/>
                </a:cubicBezTo>
                <a:cubicBezTo>
                  <a:pt x="18495" y="16458"/>
                  <a:pt x="18502" y="16485"/>
                  <a:pt x="18502" y="16550"/>
                </a:cubicBezTo>
                <a:cubicBezTo>
                  <a:pt x="18502" y="16605"/>
                  <a:pt x="18502" y="16661"/>
                  <a:pt x="18502" y="16716"/>
                </a:cubicBezTo>
                <a:cubicBezTo>
                  <a:pt x="18466" y="16704"/>
                  <a:pt x="18478" y="16688"/>
                  <a:pt x="18478" y="16645"/>
                </a:cubicBezTo>
                <a:cubicBezTo>
                  <a:pt x="18478" y="16559"/>
                  <a:pt x="18469" y="16492"/>
                  <a:pt x="18455" y="16407"/>
                </a:cubicBezTo>
                <a:cubicBezTo>
                  <a:pt x="18444" y="16340"/>
                  <a:pt x="18428" y="16328"/>
                  <a:pt x="18407" y="16264"/>
                </a:cubicBezTo>
                <a:cubicBezTo>
                  <a:pt x="18393" y="16223"/>
                  <a:pt x="18396" y="16210"/>
                  <a:pt x="18359" y="161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5803920"/>
            <a:ext cx="136800" cy="179280"/>
          </a:xfrm>
          <a:custGeom>
            <a:avLst/>
            <a:gdLst/>
            <a:ahLst/>
            <a:rect l="l" t="t" r="r" b="b"/>
            <a:pathLst>
              <a:path w="382" h="501">
                <a:moveTo>
                  <a:pt x="23908" y="16431"/>
                </a:moveTo>
                <a:cubicBezTo>
                  <a:pt x="23908" y="16382"/>
                  <a:pt x="23922" y="16379"/>
                  <a:pt x="23932" y="16359"/>
                </a:cubicBezTo>
                <a:cubicBezTo>
                  <a:pt x="23948" y="16328"/>
                  <a:pt x="23955" y="16229"/>
                  <a:pt x="23955" y="16264"/>
                </a:cubicBezTo>
                <a:cubicBezTo>
                  <a:pt x="23955" y="16272"/>
                  <a:pt x="23955" y="16280"/>
                  <a:pt x="23955" y="16288"/>
                </a:cubicBezTo>
                <a:cubicBezTo>
                  <a:pt x="23955" y="16369"/>
                  <a:pt x="23969" y="16301"/>
                  <a:pt x="23955" y="16288"/>
                </a:cubicBezTo>
                <a:cubicBezTo>
                  <a:pt x="23930" y="16265"/>
                  <a:pt x="23868" y="16233"/>
                  <a:pt x="23860" y="16216"/>
                </a:cubicBezTo>
                <a:cubicBezTo>
                  <a:pt x="23842" y="16181"/>
                  <a:pt x="23856" y="16172"/>
                  <a:pt x="23836" y="16145"/>
                </a:cubicBezTo>
                <a:cubicBezTo>
                  <a:pt x="23816" y="16119"/>
                  <a:pt x="23768" y="16121"/>
                  <a:pt x="23812" y="16121"/>
                </a:cubicBezTo>
                <a:cubicBezTo>
                  <a:pt x="23838" y="16130"/>
                  <a:pt x="23856" y="16139"/>
                  <a:pt x="23860" y="16169"/>
                </a:cubicBezTo>
                <a:cubicBezTo>
                  <a:pt x="23874" y="16276"/>
                  <a:pt x="23848" y="16405"/>
                  <a:pt x="23884" y="16478"/>
                </a:cubicBezTo>
                <a:cubicBezTo>
                  <a:pt x="23904" y="16518"/>
                  <a:pt x="23860" y="16510"/>
                  <a:pt x="23908" y="16526"/>
                </a:cubicBezTo>
                <a:cubicBezTo>
                  <a:pt x="23931" y="16518"/>
                  <a:pt x="23952" y="16477"/>
                  <a:pt x="23955" y="16454"/>
                </a:cubicBezTo>
                <a:cubicBezTo>
                  <a:pt x="23960" y="16416"/>
                  <a:pt x="23955" y="16374"/>
                  <a:pt x="23955" y="16335"/>
                </a:cubicBezTo>
                <a:cubicBezTo>
                  <a:pt x="23977" y="16365"/>
                  <a:pt x="23999" y="16393"/>
                  <a:pt x="24003" y="16431"/>
                </a:cubicBezTo>
                <a:cubicBezTo>
                  <a:pt x="24006" y="16454"/>
                  <a:pt x="24003" y="16479"/>
                  <a:pt x="24003" y="16502"/>
                </a:cubicBezTo>
                <a:cubicBezTo>
                  <a:pt x="24003" y="16543"/>
                  <a:pt x="24023" y="16485"/>
                  <a:pt x="24027" y="16478"/>
                </a:cubicBezTo>
                <a:cubicBezTo>
                  <a:pt x="24055" y="16422"/>
                  <a:pt x="23988" y="16309"/>
                  <a:pt x="24051" y="16288"/>
                </a:cubicBezTo>
                <a:cubicBezTo>
                  <a:pt x="24058" y="16310"/>
                  <a:pt x="24059" y="16333"/>
                  <a:pt x="24074" y="16359"/>
                </a:cubicBezTo>
                <a:cubicBezTo>
                  <a:pt x="24090" y="16388"/>
                  <a:pt x="24105" y="16429"/>
                  <a:pt x="24122" y="16454"/>
                </a:cubicBezTo>
                <a:cubicBezTo>
                  <a:pt x="24153" y="16500"/>
                  <a:pt x="24133" y="16520"/>
                  <a:pt x="24146" y="16502"/>
                </a:cubicBezTo>
                <a:cubicBezTo>
                  <a:pt x="24175" y="16462"/>
                  <a:pt x="24170" y="16433"/>
                  <a:pt x="24170" y="16383"/>
                </a:cubicBezTo>
                <a:cubicBezTo>
                  <a:pt x="24170" y="16375"/>
                  <a:pt x="24170" y="16367"/>
                  <a:pt x="24170" y="16359"/>
                </a:cubicBezTo>
                <a:cubicBezTo>
                  <a:pt x="24139" y="16400"/>
                  <a:pt x="24146" y="16424"/>
                  <a:pt x="24146" y="16478"/>
                </a:cubicBezTo>
                <a:cubicBezTo>
                  <a:pt x="24146" y="16518"/>
                  <a:pt x="24146" y="16557"/>
                  <a:pt x="24146" y="16597"/>
                </a:cubicBezTo>
                <a:cubicBezTo>
                  <a:pt x="24118" y="16561"/>
                  <a:pt x="24122" y="16548"/>
                  <a:pt x="24122" y="16502"/>
                </a:cubicBezTo>
                <a:cubicBezTo>
                  <a:pt x="24122" y="16471"/>
                  <a:pt x="24098" y="16461"/>
                  <a:pt x="24098" y="16407"/>
                </a:cubicBezTo>
                <a:cubicBezTo>
                  <a:pt x="24098" y="16457"/>
                  <a:pt x="24098" y="16626"/>
                  <a:pt x="24098" y="16597"/>
                </a:cubicBezTo>
                <a:cubicBezTo>
                  <a:pt x="24098" y="16573"/>
                  <a:pt x="24098" y="16566"/>
                  <a:pt x="24098" y="16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8880" y="4843440"/>
            <a:ext cx="137880" cy="103320"/>
          </a:xfrm>
          <a:custGeom>
            <a:avLst/>
            <a:gdLst/>
            <a:ahLst/>
            <a:rect l="l" t="t" r="r" b="b"/>
            <a:pathLst>
              <a:path w="382" h="287">
                <a:moveTo>
                  <a:pt x="12025" y="13597"/>
                </a:moveTo>
                <a:cubicBezTo>
                  <a:pt x="12025" y="13585"/>
                  <a:pt x="12026" y="13444"/>
                  <a:pt x="12001" y="13478"/>
                </a:cubicBezTo>
                <a:cubicBezTo>
                  <a:pt x="11994" y="13487"/>
                  <a:pt x="12001" y="13537"/>
                  <a:pt x="12001" y="13549"/>
                </a:cubicBezTo>
                <a:cubicBezTo>
                  <a:pt x="12012" y="13549"/>
                  <a:pt x="12027" y="13523"/>
                  <a:pt x="12001" y="13502"/>
                </a:cubicBezTo>
                <a:cubicBezTo>
                  <a:pt x="11983" y="13488"/>
                  <a:pt x="11960" y="13457"/>
                  <a:pt x="11954" y="13502"/>
                </a:cubicBezTo>
                <a:cubicBezTo>
                  <a:pt x="11948" y="13551"/>
                  <a:pt x="11974" y="13606"/>
                  <a:pt x="11930" y="13621"/>
                </a:cubicBezTo>
                <a:cubicBezTo>
                  <a:pt x="11902" y="13584"/>
                  <a:pt x="11906" y="13572"/>
                  <a:pt x="11906" y="13525"/>
                </a:cubicBezTo>
                <a:cubicBezTo>
                  <a:pt x="11906" y="13495"/>
                  <a:pt x="11898" y="13462"/>
                  <a:pt x="11882" y="13454"/>
                </a:cubicBezTo>
                <a:cubicBezTo>
                  <a:pt x="11874" y="13454"/>
                  <a:pt x="11867" y="13454"/>
                  <a:pt x="11859" y="13454"/>
                </a:cubicBezTo>
                <a:cubicBezTo>
                  <a:pt x="11900" y="13454"/>
                  <a:pt x="11906" y="13460"/>
                  <a:pt x="11930" y="13478"/>
                </a:cubicBezTo>
                <a:cubicBezTo>
                  <a:pt x="11960" y="13500"/>
                  <a:pt x="11988" y="13521"/>
                  <a:pt x="12025" y="13525"/>
                </a:cubicBezTo>
                <a:cubicBezTo>
                  <a:pt x="12066" y="13529"/>
                  <a:pt x="12100" y="13502"/>
                  <a:pt x="12144" y="13502"/>
                </a:cubicBezTo>
                <a:cubicBezTo>
                  <a:pt x="12152" y="13502"/>
                  <a:pt x="12160" y="13502"/>
                  <a:pt x="12168" y="13502"/>
                </a:cubicBezTo>
                <a:cubicBezTo>
                  <a:pt x="12168" y="13562"/>
                  <a:pt x="12155" y="13622"/>
                  <a:pt x="12192" y="13668"/>
                </a:cubicBezTo>
                <a:cubicBezTo>
                  <a:pt x="12213" y="13693"/>
                  <a:pt x="12216" y="13759"/>
                  <a:pt x="12216" y="13716"/>
                </a:cubicBezTo>
                <a:cubicBezTo>
                  <a:pt x="12216" y="13667"/>
                  <a:pt x="12216" y="13493"/>
                  <a:pt x="12216" y="13525"/>
                </a:cubicBezTo>
                <a:cubicBezTo>
                  <a:pt x="12216" y="13549"/>
                  <a:pt x="12216" y="13557"/>
                  <a:pt x="12240" y="135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73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Tahoma"/>
              </a:rPr>
              <a:t>Как найти градусную меру стёртого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Tahoma"/>
              </a:rPr>
              <a:t>Сумма углов тре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Tahom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Tahoma"/>
              </a:rPr>
              <a:t>равна 18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Tahoma"/>
              </a:rPr>
              <a:t>18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-(6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+6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)=6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Tahoma"/>
              </a:rPr>
              <a:t>18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-(3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+4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)=110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7548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020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3213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164000" y="1341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372360" y="134136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91480" y="1762200"/>
            <a:ext cx="56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162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5080" y="2852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103720"/>
            <a:ext cx="2556000" cy="1754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736720" cy="1917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Ответьте на вопрос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уществует ли треугольник с двумя прямыми уг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уществует  ли треугольник с двумя тупыми уг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Измерив три  угла треугольника, получили данные100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60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50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озможно ли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О применении свойств треугольника в  строительст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9909993_if12" descr=" (185x250, 8Kb)"/>
          <p:cNvPicPr/>
          <p:nvPr/>
        </p:nvPicPr>
        <p:blipFill>
          <a:blip r:embed="rId1"/>
          <a:stretch/>
        </p:blipFill>
        <p:spPr>
          <a:xfrm>
            <a:off x="971640" y="1989000"/>
            <a:ext cx="1762200" cy="2381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1978200" cy="1997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856040"/>
            <a:ext cx="2916360" cy="2001960"/>
          </a:xfrm>
          <a:prstGeom prst="rect">
            <a:avLst/>
          </a:prstGeom>
          <a:ln w="0">
            <a:noFill/>
          </a:ln>
        </p:spPr>
      </p:pic>
      <p:pic>
        <p:nvPicPr>
          <p:cNvPr id="142" name="dvd" descr=""/>
          <p:cNvPicPr/>
          <p:nvPr/>
        </p:nvPicPr>
        <p:blipFill>
          <a:blip r:embed="rId4"/>
          <a:stretch/>
        </p:blipFill>
        <p:spPr>
          <a:xfrm>
            <a:off x="7885080" y="333360"/>
            <a:ext cx="752400" cy="571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Египетские  пирам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22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Египетский  треугольни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ешаем у  доски № 5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1590840" cy="13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4511520"/>
            <a:ext cx="3419640" cy="2346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79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Верно ли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остроугольный треугольник – это треугольник  у которого все  углы остр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рямоугольный  треугольник – это треугольник у  которого все  углы  прям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тупоугольный  треугольник – это треугольник  у которого все углы туп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тупоугольный  треугольник – это  треугольник у  которого  есть тупой уг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треугольник у которого ,  есть острый угол-это остроугольный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1116000" cy="8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7:03:52Z</dcterms:created>
  <dc:creator>asus</dc:creator>
  <dc:description/>
  <dc:language>en-US</dc:language>
  <cp:lastModifiedBy>asus</cp:lastModifiedBy>
  <dcterms:modified xsi:type="dcterms:W3CDTF">2010-02-01T15:01:28Z</dcterms:modified>
  <cp:revision>7</cp:revision>
  <dc:subject/>
  <dc:title>Слайд 1</dc:title>
</cp:coreProperties>
</file>