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8.png" ContentType="image/png"/>
  <Override PartName="/ppt/media/image18.wmf" ContentType="image/x-wmf"/>
  <Override PartName="/ppt/media/image17.gif" ContentType="image/gif"/>
  <Override PartName="/ppt/media/image16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png" ContentType="image/png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69E-2ED5-47B3-8764-CF1B384B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74E-0AC5-49BE-9130-3D4F669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86D-F3F3-4E56-84C9-03C36B16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4FD-2D22-49A5-9D84-7AA6482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AC6-16F6-45CD-AD57-A3469BB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FA1-DD26-4CD9-893C-FD6F110B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0D4-48CC-4235-B2C3-D4FA0A03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BCE-01C1-4DF8-818E-7C5C6B5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609-FB99-4BB1-8201-0FF1B28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146-FD12-48B3-8AA1-8CB611D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238-164A-45C7-994F-20FF26B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D60-1A0A-4180-8DC2-BA99C8C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AC2E-D545-46B0-BDEC-187BC70A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6237000"/>
            <a:ext cx="6400800" cy="2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ОЛНИЛА УЧИТЕЛЬ  ЛУГОВСКОЙ ШКОЛЫ:  Ерохина Александра Иванов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1445800">
            <a:off x="900000" y="632880"/>
            <a:ext cx="7128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 в школ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971640" y="2781360"/>
            <a:ext cx="74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рифметическая</a:t>
            </a:r>
            <a:endParaRPr b="0" lang="en-US" sz="16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огрессия</a:t>
            </a:r>
            <a:endParaRPr b="0" lang="en-US" sz="16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640" y="549360"/>
            <a:ext cx="74880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9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ведение итогов уро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484280"/>
            <a:ext cx="82803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этом уроке мы повторили следующи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арифметической прогрессии как последовательность с постоянной разностью соседних членов: а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улу общего члена арифметической прогрессии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d(n-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казательство того факта, что арифметическая прогрессия есть линейная функция натурального аргум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улу суммы первы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членов арифметической прогре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1943280" cy="16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4437000"/>
            <a:ext cx="4680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13360"/>
            <a:ext cx="511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нкт 15 – 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7(а), 477(а), 480(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ение основных форм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ленов арифмет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11280" y="260280"/>
            <a:ext cx="802944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урока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повторить материал по теме «Арифметическ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е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активизировать познавательную деятельность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Показать необходимость знания математики при решение жизненных, исторически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3132000" y="213372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31436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rcRect l="2359" t="18512" r="7568" b="47049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95280" y="2852640"/>
            <a:ext cx="705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2349360"/>
            <a:ext cx="84247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ятие числовой последовательности возникло и развивало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олго до создания учения о функциях. Сведения, связанные с прогрессиями, впервые встречаются в дошедших до нас документах Древней Греции. Уже 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еке до н.э. греки знали следующие прогрессии и их сумм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+3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…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12"/>
          <p:cNvGraphicFramePr/>
          <p:nvPr/>
        </p:nvGraphicFramePr>
        <p:xfrm>
          <a:off x="1692360" y="3357720"/>
          <a:ext cx="52056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357720"/>
                    <a:ext cx="5205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-360" y="3938760"/>
            <a:ext cx="3281400" cy="2187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 flipV="1">
            <a:off x="-56880" y="227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3860640"/>
            <a:ext cx="8642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+4+6+…+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(n+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 в английских и французских учебниках появились обозначения арифметической прогрессии. Некоторые формулы, относящиеся к прогрессиям, были известны китайским и индийским ученым. Например, Ариабхата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.) знал формулы для общего члена и суммы арифметической прогр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о «прогрессия» (лат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значает «движение вперед» (как и слово «прогресс»), встречается впервые у римского автора Боэ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начально под прогрессией понимали всякую числовую последовательность, например, последовательность натуральных чисел, их квадратов, ку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5949720"/>
            <a:ext cx="61128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549360"/>
            <a:ext cx="777528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нце средних веков и в начале нового времени этот термин  перестал быть общеупотребительным. 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ке ,например, Джон Грегорн употребляет вместо прогрессии термин «ряд»; другой видный английский математик Джон Валлис применяет для бесконечных рядов термин «бесконечные прогресс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5031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2588" t="6684" r="3662" b="3125"/>
          <a:stretch/>
        </p:blipFill>
        <p:spPr>
          <a:xfrm>
            <a:off x="0" y="-181080"/>
            <a:ext cx="954072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восточных странах Китае, Корее, Японии, Вьетнаме и других, люди едят при помощи палочек. Часто их делают из бамбука, древесины, слоновой кости и металла. В Китае такие палочки называют « Куайц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0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=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йд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  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= -0,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   -8; -6,5;…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4.   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-14,5; 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-9,5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MCj04044530000[1]"/>
          <p:cNvPicPr/>
          <p:nvPr/>
        </p:nvPicPr>
        <p:blipFill>
          <a:blip r:embed="rId2"/>
          <a:stretch/>
        </p:blipFill>
        <p:spPr>
          <a:xfrm>
            <a:off x="0" y="5661000"/>
            <a:ext cx="149544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Cj04044730000[1]"/>
          <p:cNvPicPr/>
          <p:nvPr/>
        </p:nvPicPr>
        <p:blipFill>
          <a:blip r:embed="rId3"/>
          <a:stretch/>
        </p:blipFill>
        <p:spPr>
          <a:xfrm>
            <a:off x="7020000" y="5661000"/>
            <a:ext cx="1879560" cy="933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3"/>
          <p:cNvSpPr/>
          <p:nvPr/>
        </p:nvSpPr>
        <p:spPr>
          <a:xfrm>
            <a:off x="539640" y="3141720"/>
            <a:ext cx="44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3429000"/>
          <a:ext cx="4174920" cy="638280"/>
        </p:xfrm>
        <a:graphic>
          <a:graphicData uri="http://schemas.openxmlformats.org/drawingml/2006/table">
            <a:tbl>
              <a:tblPr/>
              <a:tblGrid>
                <a:gridCol w="584280"/>
                <a:gridCol w="512640"/>
                <a:gridCol w="512640"/>
                <a:gridCol w="514440"/>
                <a:gridCol w="512640"/>
                <a:gridCol w="513000"/>
                <a:gridCol w="512640"/>
                <a:gridCol w="512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91"/>
          <p:cNvSpPr/>
          <p:nvPr/>
        </p:nvSpPr>
        <p:spPr>
          <a:xfrm>
            <a:off x="2556000" y="4724280"/>
            <a:ext cx="403200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2"/>
          <p:cNvSpPr/>
          <p:nvPr/>
        </p:nvSpPr>
        <p:spPr>
          <a:xfrm>
            <a:off x="2411280" y="4797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й из традиций является вручение палочек детям на 100-ый с момента рождения день и молодоженам в день сва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4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0" y="260280"/>
            <a:ext cx="820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333360"/>
            <a:ext cx="889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0" y="33336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3127" t="7683" r="3127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6757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пония – островное государство. Поэтому основу японской национальной кухни составляют блюда из море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1000080"/>
          <a:ext cx="6661080" cy="4583160"/>
        </p:xfrm>
        <a:graphic>
          <a:graphicData uri="http://schemas.openxmlformats.org/drawingml/2006/table">
            <a:tbl>
              <a:tblPr/>
              <a:tblGrid>
                <a:gridCol w="342720"/>
                <a:gridCol w="5187960"/>
                <a:gridCol w="1130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рифметической прогрессии 12-й член равен 17, а разность равна 2. Найдите ее первый чл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рифметической прогрессии  первый член равен 7, десятый  равен -11. Найдите разность этой прогре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рифметической прогрессии первый член равен 12.2, разность равна 0.4. Найдите номер члена этой прогрессии равного 30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второго и третьего членов арифметической прогрессии равна 20, а разность равна 2. Найдите ее первый чле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153" descr="MCj04125000000[1]"/>
          <p:cNvPicPr/>
          <p:nvPr/>
        </p:nvPicPr>
        <p:blipFill>
          <a:blip r:embed="rId2"/>
          <a:stretch/>
        </p:blipFill>
        <p:spPr>
          <a:xfrm rot="16636800">
            <a:off x="7500960" y="785520"/>
            <a:ext cx="1530360" cy="62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4" descr="MCj04125000000[1]"/>
          <p:cNvPicPr/>
          <p:nvPr/>
        </p:nvPicPr>
        <p:blipFill>
          <a:blip r:embed="rId3"/>
          <a:stretch/>
        </p:blipFill>
        <p:spPr>
          <a:xfrm>
            <a:off x="7000920" y="5929200"/>
            <a:ext cx="157320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3" descr="MCj04125000000[1]"/>
          <p:cNvPicPr/>
          <p:nvPr/>
        </p:nvPicPr>
        <p:blipFill>
          <a:blip r:embed="rId4"/>
          <a:stretch/>
        </p:blipFill>
        <p:spPr>
          <a:xfrm rot="16636800">
            <a:off x="7970760" y="2271600"/>
            <a:ext cx="1530360" cy="62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3" descr="MCj04125000000[1]"/>
          <p:cNvPicPr/>
          <p:nvPr/>
        </p:nvPicPr>
        <p:blipFill>
          <a:blip r:embed="rId5"/>
          <a:stretch/>
        </p:blipFill>
        <p:spPr>
          <a:xfrm rot="16636800">
            <a:off x="7000920" y="2128680"/>
            <a:ext cx="1530360" cy="62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3" descr="MCj04125000000[1]"/>
          <p:cNvPicPr/>
          <p:nvPr/>
        </p:nvPicPr>
        <p:blipFill>
          <a:blip r:embed="rId6"/>
          <a:stretch/>
        </p:blipFill>
        <p:spPr>
          <a:xfrm rot="16636800">
            <a:off x="7935840" y="4241520"/>
            <a:ext cx="1530360" cy="62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3" descr="MCj04125000000[1]"/>
          <p:cNvPicPr/>
          <p:nvPr/>
        </p:nvPicPr>
        <p:blipFill>
          <a:blip r:embed="rId7"/>
          <a:stretch/>
        </p:blipFill>
        <p:spPr>
          <a:xfrm rot="16636800">
            <a:off x="6929280" y="4271400"/>
            <a:ext cx="1530360" cy="625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5"/>
          <p:cNvSpPr/>
          <p:nvPr/>
        </p:nvSpPr>
        <p:spPr>
          <a:xfrm>
            <a:off x="8101080" y="692280"/>
            <a:ext cx="3585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7596360" y="1916280"/>
            <a:ext cx="3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8604360" y="2060640"/>
            <a:ext cx="28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7524720" y="609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 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524720" y="4149720"/>
            <a:ext cx="3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8532720" y="4149720"/>
            <a:ext cx="36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324000" y="6093000"/>
            <a:ext cx="64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ши -  рисовые котлетки, пропитанные соусом, на которые сверху положены кусочки сырой рыбы или креве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ейная функция натурального арг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7c80"/>
                </a:solidFill>
                <a:latin typeface="Arial"/>
              </a:rPr>
              <a:t>Арифметическая прогрессия является линейной функцией числового арг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=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+d(n-1)=d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+(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-d),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и мы получили линейную функцию 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от 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=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+b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, где а=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d, b=a</a:t>
            </a:r>
            <a:r>
              <a:rPr b="0" i="1" lang="en-US" sz="20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7c80"/>
                </a:solidFill>
                <a:latin typeface="Arial"/>
              </a:rPr>
              <a:t>-d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95280" y="26028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рифметическая прогресс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785880" y="3286080"/>
            <a:ext cx="3357360" cy="2406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41880" y="3645000"/>
            <a:ext cx="2562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1:52:02Z</dcterms:created>
  <dc:creator>Администратор</dc:creator>
  <dc:description/>
  <dc:language>en-US</dc:language>
  <cp:lastModifiedBy>Администратор</cp:lastModifiedBy>
  <dcterms:modified xsi:type="dcterms:W3CDTF">2008-03-18T14:23:23Z</dcterms:modified>
  <cp:revision>19</cp:revision>
  <dc:subject/>
  <dc:title>Слайд 1</dc:title>
</cp:coreProperties>
</file>