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1.jpeg" ContentType="image/jpeg"/>
  <Override PartName="/ppt/media/image9.jpeg" ContentType="image/jpeg"/>
  <Override PartName="/ppt/media/image8.gif" ContentType="image/gif"/>
  <Override PartName="/ppt/media/image18.jpeg" ContentType="image/jpeg"/>
  <Override PartName="/ppt/media/image19.wmf" ContentType="image/x-wmf"/>
  <Override PartName="/ppt/media/image7.gif" ContentType="image/gif"/>
  <Override PartName="/ppt/media/image10.jpeg" ContentType="image/jpeg"/>
  <Override PartName="/ppt/media/image6.gif" ContentType="image/gif"/>
  <Override PartName="/ppt/media/image5.gif" ContentType="image/gif"/>
  <Override PartName="/ppt/media/image12.png" ContentType="image/png"/>
  <Override PartName="/ppt/media/image24.jpeg" ContentType="image/jpeg"/>
  <Override PartName="/ppt/media/image1.jpeg" ContentType="image/jpeg"/>
  <Override PartName="/ppt/media/image4.wmf" ContentType="image/x-wmf"/>
  <Override PartName="/ppt/media/image22.gif" ContentType="image/gif"/>
  <Override PartName="/ppt/media/image14.png" ContentType="image/png"/>
  <Override PartName="/ppt/media/image21.gif" ContentType="image/gif"/>
  <Override PartName="/ppt/media/image23.png" ContentType="image/png"/>
  <Override PartName="/ppt/media/image20.gif" ContentType="image/gif"/>
  <Override PartName="/ppt/media/image3.gif" ContentType="image/gif"/>
  <Override PartName="/ppt/media/image17.png" ContentType="image/png"/>
  <Override PartName="/ppt/media/image16.png" ContentType="image/png"/>
  <Override PartName="/ppt/media/image15.jpeg" ContentType="image/jpeg"/>
  <Override PartName="/ppt/media/image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ACF9-75E4-4DA3-BCA1-8E85A2BF5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ECC4-558D-484A-AE3A-F696668D8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70E5-BA32-4AF5-8A0D-8B06E6403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699A-EDF7-47B2-9774-8CD040BDA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5CE3-EDF2-4C06-9316-9209E7A53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A034-C4D8-49CB-A3CE-180372270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6F55-A56C-450E-8B4D-0336BD1E6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812E-7D50-469C-AC55-619EE36DD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2D0B-D899-485C-BD5F-5A9A20F0F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19A2-6AAB-402B-8691-28DC69AA7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E99B-C333-4DB6-BD18-9EFA18306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C0AB-A9D9-41B0-9050-1E06B826C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752f"/>
            </a:gs>
            <a:gs pos="50000">
              <a:srgbClr val="66ff66"/>
            </a:gs>
            <a:gs pos="100000">
              <a:srgbClr val="2f75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AFEED-61F2-4623-BB1A-3304BFF0B41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752f"/>
            </a:gs>
            <a:gs pos="50000">
              <a:srgbClr val="66ff66"/>
            </a:gs>
            <a:gs pos="100000">
              <a:srgbClr val="2f75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80880" y="1066680"/>
            <a:ext cx="8077320" cy="171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Теорема Пифагор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371600" y="457200"/>
            <a:ext cx="1981080" cy="523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8 клас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6172200"/>
            <a:ext cx="2743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МОУ СОШ №9 г.Чехо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5562720"/>
            <a:ext cx="2590920" cy="61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Дудоладова Е.А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4114800" y="3110040"/>
            <a:ext cx="502920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752f"/>
            </a:gs>
            <a:gs pos="50000">
              <a:srgbClr val="66ff66"/>
            </a:gs>
            <a:gs pos="100000">
              <a:srgbClr val="2f75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"/>
          <p:cNvPicPr/>
          <p:nvPr/>
        </p:nvPicPr>
        <p:blipFill>
          <a:blip r:embed="rId1"/>
          <a:srcRect l="51682" t="48512" r="0" b="12685"/>
          <a:stretch/>
        </p:blipFill>
        <p:spPr>
          <a:xfrm>
            <a:off x="0" y="457200"/>
            <a:ext cx="4438800" cy="457200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 txBox="1"/>
          <p:nvPr/>
        </p:nvSpPr>
        <p:spPr>
          <a:xfrm>
            <a:off x="838080" y="380880"/>
            <a:ext cx="7715520" cy="5241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Доказательство теоремы Пифагор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343400" y="914400"/>
            <a:ext cx="4343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прямоугольном треугольнике квадрат гипотенузы равен сумме квадратов кате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724280" y="3505320"/>
            <a:ext cx="3657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rcRect l="0" t="71647" r="46519" b="0"/>
          <a:stretch/>
        </p:blipFill>
        <p:spPr>
          <a:xfrm>
            <a:off x="4114800" y="2743200"/>
            <a:ext cx="4800600" cy="32623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752f"/>
            </a:gs>
            <a:gs pos="50000">
              <a:srgbClr val="66ff66"/>
            </a:gs>
            <a:gs pos="100000">
              <a:srgbClr val="2f75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228600" y="14479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 txBox="1"/>
          <p:nvPr/>
        </p:nvSpPr>
        <p:spPr>
          <a:xfrm>
            <a:off x="2895480" y="533520"/>
            <a:ext cx="3314880" cy="523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ешение задач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(устно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295280" y="586728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Ответ: 10 с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2"/>
          <a:stretch/>
        </p:blipFill>
        <p:spPr>
          <a:xfrm>
            <a:off x="5224320" y="1447920"/>
            <a:ext cx="39196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9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752f"/>
            </a:gs>
            <a:gs pos="50000">
              <a:srgbClr val="66ff66"/>
            </a:gs>
            <a:gs pos="100000">
              <a:srgbClr val="2f75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4800600" y="3352680"/>
            <a:ext cx="4191120" cy="31435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289" name=""/>
          <p:cNvSpPr txBox="1"/>
          <p:nvPr/>
        </p:nvSpPr>
        <p:spPr>
          <a:xfrm>
            <a:off x="3429000" y="304920"/>
            <a:ext cx="1838160" cy="523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№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483(б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380880" y="838080"/>
            <a:ext cx="3203280" cy="4277880"/>
            <a:chOff x="380880" y="838080"/>
            <a:chExt cx="3203280" cy="4277880"/>
          </a:xfrm>
        </p:grpSpPr>
        <p:sp>
          <p:nvSpPr>
            <p:cNvPr id="291" name=""/>
            <p:cNvSpPr/>
            <p:nvPr/>
          </p:nvSpPr>
          <p:spPr>
            <a:xfrm>
              <a:off x="1737000" y="4656240"/>
              <a:ext cx="638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951560" y="2636640"/>
              <a:ext cx="63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80880" y="2710440"/>
              <a:ext cx="51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80880" y="838080"/>
              <a:ext cx="51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016440" y="4581000"/>
              <a:ext cx="567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29920" y="4582440"/>
              <a:ext cx="71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 flipH="1" flipV="1">
              <a:off x="744480" y="1137240"/>
              <a:ext cx="2413440" cy="3519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44480" y="1137600"/>
              <a:ext cx="0" cy="3519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44480" y="4657680"/>
              <a:ext cx="24134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0" name=""/>
          <p:cNvSpPr/>
          <p:nvPr/>
        </p:nvSpPr>
        <p:spPr>
          <a:xfrm>
            <a:off x="3429000" y="1295280"/>
            <a:ext cx="525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йдите гипотенузу прямоугольного треугольник по данным катетам а и в: а=5, в=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838080" y="563868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вет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6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0" y="0"/>
          <a:ext cx="304920" cy="228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30492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05" name=""/>
          <p:cNvGrpSpPr/>
          <p:nvPr/>
        </p:nvGrpSpPr>
        <p:grpSpPr>
          <a:xfrm>
            <a:off x="1905120" y="5562360"/>
            <a:ext cx="380520" cy="457200"/>
            <a:chOff x="1905120" y="5562360"/>
            <a:chExt cx="380520" cy="457200"/>
          </a:xfrm>
        </p:grpSpPr>
        <p:sp>
          <p:nvSpPr>
            <p:cNvPr id="306" name=""/>
            <p:cNvSpPr/>
            <p:nvPr/>
          </p:nvSpPr>
          <p:spPr>
            <a:xfrm>
              <a:off x="2047680" y="5562720"/>
              <a:ext cx="237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905120" y="5562720"/>
              <a:ext cx="95040" cy="456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 flipV="1">
              <a:off x="2000160" y="5562360"/>
              <a:ext cx="47160" cy="456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752f"/>
            </a:gs>
            <a:gs pos="50000">
              <a:srgbClr val="66ff66"/>
            </a:gs>
            <a:gs pos="100000">
              <a:srgbClr val="2f75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3429000" y="304920"/>
            <a:ext cx="2219400" cy="523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№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484(а,б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380880" y="914400"/>
            <a:ext cx="3203280" cy="4277520"/>
            <a:chOff x="380880" y="914400"/>
            <a:chExt cx="3203280" cy="4277520"/>
          </a:xfrm>
        </p:grpSpPr>
        <p:sp>
          <p:nvSpPr>
            <p:cNvPr id="311" name=""/>
            <p:cNvSpPr/>
            <p:nvPr/>
          </p:nvSpPr>
          <p:spPr>
            <a:xfrm>
              <a:off x="1737000" y="4732200"/>
              <a:ext cx="638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951560" y="2712960"/>
              <a:ext cx="63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880" y="2786400"/>
              <a:ext cx="51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80880" y="914400"/>
              <a:ext cx="51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016440" y="4656960"/>
              <a:ext cx="567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29920" y="4658400"/>
              <a:ext cx="71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 flipV="1">
              <a:off x="744480" y="1213920"/>
              <a:ext cx="2413440" cy="3519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44480" y="1213920"/>
              <a:ext cx="0" cy="3519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4733640"/>
              <a:ext cx="24134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3048120" y="1143000"/>
            <a:ext cx="57150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прямоугольном треугольник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катеты, с – гипотенуза. Найдит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есл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) а=12,с=13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) а=7,с=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09480" y="563868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твет: а) 5, б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4724280" y="3505320"/>
            <a:ext cx="4191120" cy="31431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323" name=""/>
          <p:cNvGrpSpPr/>
          <p:nvPr/>
        </p:nvGrpSpPr>
        <p:grpSpPr>
          <a:xfrm>
            <a:off x="3048120" y="5562360"/>
            <a:ext cx="380520" cy="457200"/>
            <a:chOff x="3048120" y="5562360"/>
            <a:chExt cx="380520" cy="457200"/>
          </a:xfrm>
        </p:grpSpPr>
        <p:sp>
          <p:nvSpPr>
            <p:cNvPr id="324" name=""/>
            <p:cNvSpPr/>
            <p:nvPr/>
          </p:nvSpPr>
          <p:spPr>
            <a:xfrm>
              <a:off x="3190680" y="5562720"/>
              <a:ext cx="237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048120" y="5562720"/>
              <a:ext cx="95040" cy="456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143160" y="5562360"/>
              <a:ext cx="47160" cy="456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752f"/>
            </a:gs>
            <a:gs pos="50000">
              <a:srgbClr val="66ff66"/>
            </a:gs>
            <a:gs pos="100000">
              <a:srgbClr val="2f75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3657600" y="228600"/>
            <a:ext cx="5334120" cy="65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Дано: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АВС – равнобедренный треугольник, АВ=ВС=17см, АС=16см, ВД – высо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айти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Решение: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1) В равнобедренном треугольнике высота, проведённая к основанию, является медианой, поэтому АД=АС:2=16:2=8(см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) АВД – прямоугольный треугольник. По теореме Пифагора: АВ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^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=А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^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+В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^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,откуда В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^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=22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к как В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0, то ВД=15с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твет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5с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533520" y="5181480"/>
            <a:ext cx="799920" cy="137160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2"/>
          <a:stretch/>
        </p:blipFill>
        <p:spPr>
          <a:xfrm>
            <a:off x="304920" y="228600"/>
            <a:ext cx="571320" cy="714240"/>
          </a:xfrm>
          <a:prstGeom prst="rect">
            <a:avLst/>
          </a:prstGeom>
          <a:ln w="0">
            <a:noFill/>
          </a:ln>
        </p:spPr>
      </p:pic>
      <p:grpSp>
        <p:nvGrpSpPr>
          <p:cNvPr id="330" name=""/>
          <p:cNvGrpSpPr/>
          <p:nvPr/>
        </p:nvGrpSpPr>
        <p:grpSpPr>
          <a:xfrm>
            <a:off x="304920" y="1219320"/>
            <a:ext cx="3733560" cy="3660120"/>
            <a:chOff x="304920" y="1219320"/>
            <a:chExt cx="3733560" cy="3660120"/>
          </a:xfrm>
        </p:grpSpPr>
        <p:sp>
          <p:nvSpPr>
            <p:cNvPr id="331" name=""/>
            <p:cNvSpPr/>
            <p:nvPr/>
          </p:nvSpPr>
          <p:spPr>
            <a:xfrm>
              <a:off x="304920" y="441972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752480" y="12193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24080" y="434376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676520" y="441972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905120" y="426744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905120" y="1676520"/>
              <a:ext cx="0" cy="2819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09480" y="4496040"/>
              <a:ext cx="2590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905120" y="1676520"/>
              <a:ext cx="1295280" cy="2819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>
              <a:off x="609120" y="1676520"/>
              <a:ext cx="1295640" cy="2819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2133720" y="4267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752f"/>
            </a:gs>
            <a:gs pos="50000">
              <a:srgbClr val="66ff66"/>
            </a:gs>
            <a:gs pos="100000">
              <a:srgbClr val="2f75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1" name=""/>
          <p:cNvGrpSpPr/>
          <p:nvPr/>
        </p:nvGrpSpPr>
        <p:grpSpPr>
          <a:xfrm>
            <a:off x="380880" y="1295280"/>
            <a:ext cx="3581280" cy="2872440"/>
            <a:chOff x="380880" y="1295280"/>
            <a:chExt cx="3581280" cy="2872440"/>
          </a:xfrm>
        </p:grpSpPr>
        <p:sp>
          <p:nvSpPr>
            <p:cNvPr id="342" name=""/>
            <p:cNvSpPr/>
            <p:nvPr/>
          </p:nvSpPr>
          <p:spPr>
            <a:xfrm>
              <a:off x="3581280" y="37080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590560" y="12952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80880" y="12952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80880" y="37080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33160" y="1697400"/>
              <a:ext cx="3124440" cy="209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 flipH="1" flipV="1">
              <a:off x="2743200" y="1697400"/>
              <a:ext cx="914400" cy="209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33160" y="1697400"/>
              <a:ext cx="2210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33160" y="1697400"/>
              <a:ext cx="0" cy="209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33160" y="3788280"/>
              <a:ext cx="3124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51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571680" cy="71460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/>
          <p:nvPr/>
        </p:nvSpPr>
        <p:spPr>
          <a:xfrm>
            <a:off x="4419720" y="1981080"/>
            <a:ext cx="441936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шение: 1) АВД – прямоугольный треугольник. По теореме Пифагора: В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^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=АВ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^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+А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^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, откуда АВ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^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=25. Так как АВ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0, то АВ=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(ABCD)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=((ВС+АД):2)АВ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(ABCD)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=((8+12):2)5=50(кв. с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вет: 50(кв.см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267080" y="304920"/>
            <a:ext cx="449604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Дано: АВСД –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ямоугольная трапеция, ВД=13см, АД=12см, ВС=8с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айти: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(ABC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2"/>
          <a:stretch/>
        </p:blipFill>
        <p:spPr>
          <a:xfrm>
            <a:off x="380880" y="5105520"/>
            <a:ext cx="102888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752f"/>
            </a:gs>
            <a:gs pos="50000">
              <a:srgbClr val="66ff66"/>
            </a:gs>
            <a:gs pos="100000">
              <a:srgbClr val="2f75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571320" cy="71424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0" y="4952880"/>
            <a:ext cx="952560" cy="190512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1371600" y="380880"/>
            <a:ext cx="678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снования равнобедренной трапеции равны 10 см и 18 см, а боковая сторона равна 5 см. Найдите площадь трапе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304920" y="1676520"/>
            <a:ext cx="5104800" cy="3459960"/>
            <a:chOff x="304920" y="1676520"/>
            <a:chExt cx="5104800" cy="3459960"/>
          </a:xfrm>
        </p:grpSpPr>
        <p:sp>
          <p:nvSpPr>
            <p:cNvPr id="359" name=""/>
            <p:cNvSpPr/>
            <p:nvPr/>
          </p:nvSpPr>
          <p:spPr>
            <a:xfrm>
              <a:off x="1221120" y="4676760"/>
              <a:ext cx="45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578760" y="4676760"/>
              <a:ext cx="587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429440" y="4676760"/>
              <a:ext cx="980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578760" y="1676520"/>
              <a:ext cx="718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155600" y="1676520"/>
              <a:ext cx="392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04920" y="4676760"/>
              <a:ext cx="58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155600" y="4462560"/>
              <a:ext cx="0" cy="21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904560" y="4462560"/>
              <a:ext cx="0" cy="21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155600" y="4462560"/>
              <a:ext cx="196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708360" y="4462560"/>
              <a:ext cx="196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708360" y="2104920"/>
              <a:ext cx="0" cy="25714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352160" y="2104920"/>
              <a:ext cx="0" cy="25714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01120" y="4676760"/>
              <a:ext cx="39924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708360" y="2104920"/>
              <a:ext cx="785160" cy="25714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352160" y="2104920"/>
              <a:ext cx="2356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 flipH="1">
              <a:off x="500760" y="2104920"/>
              <a:ext cx="850680" cy="25714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"/>
          <p:cNvSpPr/>
          <p:nvPr/>
        </p:nvSpPr>
        <p:spPr>
          <a:xfrm>
            <a:off x="4724280" y="1676520"/>
            <a:ext cx="441972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шение:1) 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=(АД-ВС):2, 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=(18-10):2=4 (см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) АВ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 прямоугольный треугольник. По теореме Пифагора: В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=3с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) Площадь трапеции равна произведению полусуммы оснований на высоту, т.е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(ABCD)=(10+18)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=42(кв.с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вет: 42 кв.с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752f"/>
            </a:gs>
            <a:gs pos="50000">
              <a:srgbClr val="66ff66"/>
            </a:gs>
            <a:gs pos="100000">
              <a:srgbClr val="2f75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2438280" y="304920"/>
            <a:ext cx="4172040" cy="523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5715000" y="4576680"/>
            <a:ext cx="3429000" cy="2281320"/>
          </a:xfrm>
          <a:prstGeom prst="rect">
            <a:avLst/>
          </a:prstGeom>
          <a:ln w="0">
            <a:noFill/>
          </a:ln>
        </p:spPr>
      </p:pic>
      <p:pic>
        <p:nvPicPr>
          <p:cNvPr id="378" name="" descr=""/>
          <p:cNvPicPr/>
          <p:nvPr/>
        </p:nvPicPr>
        <p:blipFill>
          <a:blip r:embed="rId2"/>
          <a:stretch/>
        </p:blipFill>
        <p:spPr>
          <a:xfrm>
            <a:off x="380880" y="990720"/>
            <a:ext cx="2830680" cy="42670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379" name=""/>
          <p:cNvSpPr/>
          <p:nvPr/>
        </p:nvSpPr>
        <p:spPr>
          <a:xfrm>
            <a:off x="3505320" y="838080"/>
            <a:ext cx="563868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.54, вопрос8; № 483(в,г), №484(в,г,д), 486(в)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Дополнительная задач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параллелограмме меньшая высота и меньшая сторона равны 9 см и   82 см соответственно. Большая диагональ 15 см. Найдите площадь параллелограм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4572000" y="2895480"/>
            <a:ext cx="457200" cy="380880"/>
            <a:chOff x="4572000" y="2895480"/>
            <a:chExt cx="457200" cy="380880"/>
          </a:xfrm>
        </p:grpSpPr>
        <p:sp>
          <p:nvSpPr>
            <p:cNvPr id="381" name=""/>
            <p:cNvSpPr/>
            <p:nvPr/>
          </p:nvSpPr>
          <p:spPr>
            <a:xfrm>
              <a:off x="4743360" y="2895480"/>
              <a:ext cx="285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72000" y="2895480"/>
              <a:ext cx="11412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 flipV="1">
              <a:off x="4686120" y="2895480"/>
              <a:ext cx="5688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752f"/>
            </a:gs>
            <a:gs pos="50000">
              <a:srgbClr val="66ff66"/>
            </a:gs>
            <a:gs pos="100000">
              <a:srgbClr val="2f75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2666880" y="304920"/>
            <a:ext cx="3438720" cy="523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ешение задач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2057400" y="914400"/>
            <a:ext cx="4638600" cy="523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о готовым чертежа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181480" cy="48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752f"/>
            </a:gs>
            <a:gs pos="50000">
              <a:srgbClr val="66ff66"/>
            </a:gs>
            <a:gs pos="100000">
              <a:srgbClr val="2f75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962520" y="6019920"/>
            <a:ext cx="1047600" cy="61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Рис.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895480" y="2666880"/>
            <a:ext cx="2819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895480" y="1523520"/>
            <a:ext cx="914400" cy="1143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9880" y="1523880"/>
            <a:ext cx="1828800" cy="1143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33920" y="1676520"/>
            <a:ext cx="15228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3886200" y="159984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95480" y="2666880"/>
            <a:ext cx="0" cy="2895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895480" y="2666880"/>
            <a:ext cx="2743200" cy="2895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124080" y="2666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2895120" y="2819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562720" y="24382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657600" y="12193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14600" y="2514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43200" y="55627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48120" y="1905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724280" y="22860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895480" y="487692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19720" y="16765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10080" y="3962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Найти: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BCD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29200" y="1676520"/>
            <a:ext cx="1676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648320" y="1676520"/>
          <a:ext cx="304560" cy="30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76520"/>
                    <a:ext cx="304560" cy="30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457200" y="304920"/>
            <a:ext cx="731880" cy="9144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2895480" y="2666880"/>
            <a:ext cx="2819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2895480" y="2666880"/>
            <a:ext cx="2743200" cy="2895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895480" y="2666880"/>
            <a:ext cx="0" cy="2895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895480" y="2666880"/>
            <a:ext cx="2819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2895480" y="2666880"/>
            <a:ext cx="2743200" cy="2895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2895480" y="1523520"/>
            <a:ext cx="914400" cy="1143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895480" y="2666880"/>
            <a:ext cx="0" cy="2895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895480" y="2666880"/>
            <a:ext cx="2819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2895480" y="2666880"/>
            <a:ext cx="2743200" cy="2895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19720" y="16765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2895480" y="1523520"/>
            <a:ext cx="914400" cy="1143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895480" y="2666880"/>
            <a:ext cx="0" cy="2895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895480" y="2666880"/>
            <a:ext cx="2819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2895480" y="2666880"/>
            <a:ext cx="2743200" cy="2895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895480" y="2666880"/>
            <a:ext cx="2819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2895480" y="2666880"/>
            <a:ext cx="2743200" cy="2895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895480" y="2666880"/>
            <a:ext cx="0" cy="2895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895480" y="2666880"/>
            <a:ext cx="2819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2895480" y="2666880"/>
            <a:ext cx="2743200" cy="2895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895480" y="1523520"/>
            <a:ext cx="914400" cy="1143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2666880"/>
            <a:ext cx="0" cy="2895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895480" y="2666880"/>
            <a:ext cx="2819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2895480" y="2666880"/>
            <a:ext cx="2743200" cy="2895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2895480" y="1523520"/>
            <a:ext cx="3124440" cy="4039200"/>
            <a:chOff x="2895480" y="1523520"/>
            <a:chExt cx="3124440" cy="4039200"/>
          </a:xfrm>
        </p:grpSpPr>
        <p:sp>
          <p:nvSpPr>
            <p:cNvPr id="96" name=""/>
            <p:cNvSpPr/>
            <p:nvPr/>
          </p:nvSpPr>
          <p:spPr>
            <a:xfrm>
              <a:off x="4419720" y="167652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2895480" y="1523520"/>
              <a:ext cx="914400" cy="1143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95480" y="2666880"/>
              <a:ext cx="0" cy="2895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895480" y="2666880"/>
              <a:ext cx="2819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 flipH="1">
            <a:off x="2895480" y="2666880"/>
            <a:ext cx="2743200" cy="2895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2895480" y="1523520"/>
            <a:ext cx="3124440" cy="4039200"/>
            <a:chOff x="2895480" y="1523520"/>
            <a:chExt cx="3124440" cy="4039200"/>
          </a:xfrm>
        </p:grpSpPr>
        <p:sp>
          <p:nvSpPr>
            <p:cNvPr id="102" name=""/>
            <p:cNvSpPr/>
            <p:nvPr/>
          </p:nvSpPr>
          <p:spPr>
            <a:xfrm>
              <a:off x="4419720" y="167652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>
              <a:off x="2895480" y="1523520"/>
              <a:ext cx="914400" cy="1143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895480" y="2666880"/>
              <a:ext cx="0" cy="2895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895480" y="2666880"/>
              <a:ext cx="2819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"/>
          <p:cNvSpPr/>
          <p:nvPr/>
        </p:nvSpPr>
        <p:spPr>
          <a:xfrm flipH="1">
            <a:off x="2895480" y="2666880"/>
            <a:ext cx="2743200" cy="2895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2895480" y="1523520"/>
            <a:ext cx="3124440" cy="4039200"/>
            <a:chOff x="2895480" y="1523520"/>
            <a:chExt cx="3124440" cy="4039200"/>
          </a:xfrm>
        </p:grpSpPr>
        <p:sp>
          <p:nvSpPr>
            <p:cNvPr id="108" name=""/>
            <p:cNvSpPr/>
            <p:nvPr/>
          </p:nvSpPr>
          <p:spPr>
            <a:xfrm>
              <a:off x="4419720" y="167652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flipV="1">
              <a:off x="2895480" y="1523520"/>
              <a:ext cx="914400" cy="1143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895480" y="2666880"/>
              <a:ext cx="0" cy="2895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895480" y="2666880"/>
              <a:ext cx="2819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 flipH="1">
            <a:off x="2895480" y="2666880"/>
            <a:ext cx="2743200" cy="2895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2895480" y="1523520"/>
            <a:ext cx="3124440" cy="4039200"/>
            <a:chOff x="2895480" y="1523520"/>
            <a:chExt cx="3124440" cy="4039200"/>
          </a:xfrm>
        </p:grpSpPr>
        <p:sp>
          <p:nvSpPr>
            <p:cNvPr id="114" name=""/>
            <p:cNvSpPr/>
            <p:nvPr/>
          </p:nvSpPr>
          <p:spPr>
            <a:xfrm>
              <a:off x="4419720" y="167652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2895480" y="1523520"/>
              <a:ext cx="914400" cy="1143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895480" y="2666880"/>
              <a:ext cx="0" cy="2895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895480" y="2666880"/>
              <a:ext cx="2819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 flipH="1">
            <a:off x="2895480" y="2666880"/>
            <a:ext cx="2743200" cy="2895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2895480" y="1523520"/>
            <a:ext cx="3124440" cy="4039200"/>
            <a:chOff x="2895480" y="1523520"/>
            <a:chExt cx="3124440" cy="4039200"/>
          </a:xfrm>
        </p:grpSpPr>
        <p:sp>
          <p:nvSpPr>
            <p:cNvPr id="120" name=""/>
            <p:cNvSpPr/>
            <p:nvPr/>
          </p:nvSpPr>
          <p:spPr>
            <a:xfrm>
              <a:off x="4419720" y="167652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>
              <a:off x="2895480" y="1523520"/>
              <a:ext cx="914400" cy="1143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895480" y="2666880"/>
              <a:ext cx="0" cy="2895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895480" y="2666880"/>
              <a:ext cx="2819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 flipH="1">
            <a:off x="2895480" y="2666880"/>
            <a:ext cx="2743200" cy="2895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2895480" y="1523520"/>
            <a:ext cx="3124440" cy="4039200"/>
            <a:chOff x="2895480" y="1523520"/>
            <a:chExt cx="3124440" cy="4039200"/>
          </a:xfrm>
        </p:grpSpPr>
        <p:sp>
          <p:nvSpPr>
            <p:cNvPr id="126" name=""/>
            <p:cNvSpPr/>
            <p:nvPr/>
          </p:nvSpPr>
          <p:spPr>
            <a:xfrm>
              <a:off x="4419720" y="167652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2895480" y="1523520"/>
              <a:ext cx="914400" cy="1143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95480" y="2666880"/>
              <a:ext cx="0" cy="2895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95480" y="2666880"/>
              <a:ext cx="2819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"/>
          <p:cNvSpPr/>
          <p:nvPr/>
        </p:nvSpPr>
        <p:spPr>
          <a:xfrm flipH="1">
            <a:off x="2895480" y="2666880"/>
            <a:ext cx="2743200" cy="2895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2895480" y="1523520"/>
            <a:ext cx="3124440" cy="4039200"/>
            <a:chOff x="2895480" y="1523520"/>
            <a:chExt cx="3124440" cy="4039200"/>
          </a:xfrm>
        </p:grpSpPr>
        <p:sp>
          <p:nvSpPr>
            <p:cNvPr id="132" name=""/>
            <p:cNvSpPr/>
            <p:nvPr/>
          </p:nvSpPr>
          <p:spPr>
            <a:xfrm>
              <a:off x="4419720" y="167652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>
              <a:off x="2895480" y="1523520"/>
              <a:ext cx="914400" cy="1143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895480" y="2666880"/>
              <a:ext cx="0" cy="2895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895480" y="2666880"/>
              <a:ext cx="2819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"/>
          <p:cNvSpPr/>
          <p:nvPr/>
        </p:nvSpPr>
        <p:spPr>
          <a:xfrm flipH="1">
            <a:off x="2895480" y="2666880"/>
            <a:ext cx="2743200" cy="2895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752f"/>
            </a:gs>
            <a:gs pos="50000">
              <a:srgbClr val="66ff66"/>
            </a:gs>
            <a:gs pos="100000">
              <a:srgbClr val="2f75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3962520" y="6019920"/>
            <a:ext cx="1047600" cy="61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Рис.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752480" y="3581280"/>
            <a:ext cx="5029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4038480" y="1676160"/>
            <a:ext cx="1905120" cy="1904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733920" y="3200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2004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96252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Найти:ß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52480" cy="106668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1752480" y="3581280"/>
            <a:ext cx="5029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4038480" y="1676160"/>
            <a:ext cx="1905120" cy="1904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267080" y="32004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52480" y="3581280"/>
            <a:ext cx="5029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4038480" y="1676160"/>
            <a:ext cx="1905120" cy="1904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733920" y="3200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267080" y="32004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752480" y="3581280"/>
            <a:ext cx="5029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4038480" y="1676160"/>
            <a:ext cx="1905120" cy="1904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752480" y="3581280"/>
            <a:ext cx="5029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4038480" y="1676160"/>
            <a:ext cx="1905120" cy="1904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752480" y="3581280"/>
            <a:ext cx="5029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4038480" y="1676160"/>
            <a:ext cx="1905120" cy="1904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1752480" y="1676160"/>
            <a:ext cx="5029200" cy="1905120"/>
            <a:chOff x="1752480" y="1676160"/>
            <a:chExt cx="5029200" cy="1905120"/>
          </a:xfrm>
        </p:grpSpPr>
        <p:sp>
          <p:nvSpPr>
            <p:cNvPr id="158" name=""/>
            <p:cNvSpPr/>
            <p:nvPr/>
          </p:nvSpPr>
          <p:spPr>
            <a:xfrm>
              <a:off x="1752480" y="3581280"/>
              <a:ext cx="5029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4038480" y="1676160"/>
              <a:ext cx="1905120" cy="1904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1752480" y="1676160"/>
            <a:ext cx="5029200" cy="1905120"/>
            <a:chOff x="1752480" y="1676160"/>
            <a:chExt cx="5029200" cy="1905120"/>
          </a:xfrm>
        </p:grpSpPr>
        <p:sp>
          <p:nvSpPr>
            <p:cNvPr id="161" name=""/>
            <p:cNvSpPr/>
            <p:nvPr/>
          </p:nvSpPr>
          <p:spPr>
            <a:xfrm>
              <a:off x="1752480" y="3581280"/>
              <a:ext cx="5029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038480" y="1676160"/>
              <a:ext cx="1905120" cy="1904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752f"/>
            </a:gs>
            <a:gs pos="50000">
              <a:srgbClr val="66ff66"/>
            </a:gs>
            <a:gs pos="100000">
              <a:srgbClr val="2f75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3962520" y="6019920"/>
            <a:ext cx="1047600" cy="61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Рис.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00200" y="3809880"/>
            <a:ext cx="6400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4800600" y="2133720"/>
            <a:ext cx="2666880" cy="1676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 flipV="1">
            <a:off x="1904760" y="1371240"/>
            <a:ext cx="2895480" cy="2438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114800" y="34290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648320" y="32767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257800" y="34290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962520" y="396252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Найти:ß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853920" cy="106668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1600200" y="3809880"/>
            <a:ext cx="6400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 flipV="1">
            <a:off x="1904760" y="1371240"/>
            <a:ext cx="2895480" cy="2438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600200" y="3809880"/>
            <a:ext cx="6400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 flipV="1">
            <a:off x="1904760" y="1371240"/>
            <a:ext cx="2895480" cy="2438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4800600" y="2133720"/>
            <a:ext cx="2666880" cy="1676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600200" y="3809880"/>
            <a:ext cx="6400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 flipV="1">
            <a:off x="1904760" y="1371240"/>
            <a:ext cx="2895480" cy="2438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114800" y="34290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4800600" y="2133720"/>
            <a:ext cx="2666880" cy="1676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3809880"/>
            <a:ext cx="6400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 flipV="1">
            <a:off x="1904760" y="1371240"/>
            <a:ext cx="2895480" cy="2438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114800" y="34290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800600" y="2133720"/>
            <a:ext cx="2666880" cy="1676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600200" y="3809880"/>
            <a:ext cx="6400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H="1" flipV="1">
            <a:off x="1904760" y="1371240"/>
            <a:ext cx="2895480" cy="2438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257800" y="34290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114800" y="34290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4800600" y="2133720"/>
            <a:ext cx="2666880" cy="1676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3809880"/>
            <a:ext cx="6400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1904760" y="1371240"/>
            <a:ext cx="2895480" cy="2438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1600200" y="1371240"/>
            <a:ext cx="6400800" cy="2438640"/>
            <a:chOff x="1600200" y="1371240"/>
            <a:chExt cx="6400800" cy="2438640"/>
          </a:xfrm>
        </p:grpSpPr>
        <p:sp>
          <p:nvSpPr>
            <p:cNvPr id="193" name=""/>
            <p:cNvSpPr/>
            <p:nvPr/>
          </p:nvSpPr>
          <p:spPr>
            <a:xfrm>
              <a:off x="4648320" y="327672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257800" y="34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114800" y="34290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4800600" y="2133720"/>
              <a:ext cx="2666880" cy="1676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600200" y="3809880"/>
              <a:ext cx="6400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 flipV="1">
              <a:off x="1904760" y="1371240"/>
              <a:ext cx="2895480" cy="2438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752f"/>
            </a:gs>
            <a:gs pos="50000">
              <a:srgbClr val="66ff66"/>
            </a:gs>
            <a:gs pos="100000">
              <a:srgbClr val="2f75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3962520" y="6019920"/>
            <a:ext cx="1047600" cy="61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Рис.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514600" y="1219320"/>
            <a:ext cx="4038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514600" y="1219320"/>
            <a:ext cx="0" cy="3504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553080" y="1219320"/>
            <a:ext cx="0" cy="3504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2514600" y="1219320"/>
            <a:ext cx="297180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486400" y="1219320"/>
            <a:ext cx="1066680" cy="259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657240" y="3809880"/>
            <a:ext cx="289548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514600" y="2133720"/>
            <a:ext cx="1143000" cy="259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209680" y="19051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34120" y="9144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553080" y="3657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46483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666880" y="1219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2514240" y="13716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2666880" y="45716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2514240" y="4572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1219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400800" y="13716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6400800" y="45716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400800" y="4572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514600" y="4724280"/>
            <a:ext cx="4038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124080" y="4648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019920" y="1143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38280" y="16765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6476760" y="42670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105520" y="4648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181480" y="4648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809880" y="1143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886200" y="1143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477120" y="21337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477120" y="22096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438280" y="34290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438280" y="35053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0" y="518148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Доказать: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NPK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- квадрат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754200" cy="94284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2514600" y="1219320"/>
            <a:ext cx="4038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14600" y="1219320"/>
            <a:ext cx="0" cy="3504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553080" y="1219320"/>
            <a:ext cx="0" cy="3504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514600" y="1219320"/>
            <a:ext cx="4038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514600" y="1219320"/>
            <a:ext cx="0" cy="3504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514600" y="4724280"/>
            <a:ext cx="4038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553080" y="1219320"/>
            <a:ext cx="0" cy="3504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514600" y="1219320"/>
            <a:ext cx="4038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514600" y="1219320"/>
            <a:ext cx="0" cy="3504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3657240" y="3809880"/>
            <a:ext cx="289548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514600" y="4724280"/>
            <a:ext cx="4038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553080" y="1219320"/>
            <a:ext cx="0" cy="3504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514600" y="1219320"/>
            <a:ext cx="4038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514600" y="1219320"/>
            <a:ext cx="0" cy="3504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486400" y="1219320"/>
            <a:ext cx="1066680" cy="259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3657240" y="3809880"/>
            <a:ext cx="289548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514600" y="4724280"/>
            <a:ext cx="4038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553080" y="1219320"/>
            <a:ext cx="0" cy="3504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514600" y="1219320"/>
            <a:ext cx="4038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514600" y="1219320"/>
            <a:ext cx="0" cy="3504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2514600" y="1219320"/>
            <a:ext cx="297180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486400" y="1219320"/>
            <a:ext cx="1066680" cy="259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3657240" y="3809880"/>
            <a:ext cx="289548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514600" y="4724280"/>
            <a:ext cx="4038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553080" y="1219320"/>
            <a:ext cx="0" cy="3504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14600" y="1219320"/>
            <a:ext cx="4038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514600" y="1219320"/>
            <a:ext cx="0" cy="3504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2514600" y="1219320"/>
            <a:ext cx="4038480" cy="3504960"/>
            <a:chOff x="2514600" y="1219320"/>
            <a:chExt cx="4038480" cy="3504960"/>
          </a:xfrm>
        </p:grpSpPr>
        <p:sp>
          <p:nvSpPr>
            <p:cNvPr id="262" name=""/>
            <p:cNvSpPr/>
            <p:nvPr/>
          </p:nvSpPr>
          <p:spPr>
            <a:xfrm>
              <a:off x="2514600" y="2133720"/>
              <a:ext cx="1143000" cy="2590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>
              <a:off x="2514600" y="1219320"/>
              <a:ext cx="297180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486400" y="1219320"/>
              <a:ext cx="1066680" cy="2590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3657240" y="3809880"/>
              <a:ext cx="289548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514600" y="4724280"/>
              <a:ext cx="4038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553080" y="1219320"/>
              <a:ext cx="0" cy="3504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514600" y="1219320"/>
              <a:ext cx="4038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514600" y="1219320"/>
              <a:ext cx="0" cy="3504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752f"/>
            </a:gs>
            <a:gs pos="50000">
              <a:srgbClr val="66ff66"/>
            </a:gs>
            <a:gs pos="100000">
              <a:srgbClr val="2f75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685800" y="304920"/>
            <a:ext cx="815328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Пребудет вечной истина, как скор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Её познает слабый человек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И ныне теорема Пифаг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Верна, как и в его далёкий в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4952880" y="3124080"/>
            <a:ext cx="3230640" cy="35625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685800" y="3048120"/>
            <a:ext cx="3286080" cy="36576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752f"/>
            </a:gs>
            <a:gs pos="50000">
              <a:srgbClr val="66ff66"/>
            </a:gs>
            <a:gs pos="100000">
              <a:srgbClr val="2f75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2362320" y="380880"/>
            <a:ext cx="4790880" cy="5241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Историческая справ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0" y="914400"/>
            <a:ext cx="59436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уществует замечательное соотношение между гипотенузой и катетами прямоугольного треугольника, справедливость которого была доказана древнегреческим философом и математиком Пифагором. Но изучение вавилонских клинописных таблиц и древних китайских рукописей показало, что это утверждение было известно задолго до Пифагора. Заслуга же Пифагора состояла в том, что он открыл доказательство этой теоре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5791320" y="1219320"/>
            <a:ext cx="3073320" cy="41907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752f"/>
            </a:gs>
            <a:gs pos="50000">
              <a:srgbClr val="66ff66"/>
            </a:gs>
            <a:gs pos="100000">
              <a:srgbClr val="2f75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0" y="11160"/>
            <a:ext cx="6629400" cy="68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казательство теоремы Пифагора учащиеся средних веков считали очень трудным и называли его «ослиный мост» или «бегство убогих», так как некоторые убогие ученики, не имевшие серьёзной математической подготовк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ежали от геометрии. Слабые ученики, заучившие теорему  наизусть, без понимания, и прозванные поэтому «ослами», были не в состоянии преодолеть теорему Пифагора, служившему для них вроде непреодолимого моста. Из-за чертежей, сопровождающих теорему Пифагора, учащиеся называли её также «ветряной мельницей», составляли стихи, вроде «Пифагоровы штаны на все стороны равны», рисовали карикату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5334120" y="1981080"/>
            <a:ext cx="3809880" cy="381024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2"/>
          <a:stretch/>
        </p:blipFill>
        <p:spPr>
          <a:xfrm>
            <a:off x="7007400" y="0"/>
            <a:ext cx="2136600" cy="26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9T18:44:42Z</dcterms:created>
  <dc:creator>Satellite</dc:creator>
  <dc:description/>
  <dc:language>en-US</dc:language>
  <cp:lastModifiedBy>Satellite</cp:lastModifiedBy>
  <dcterms:modified xsi:type="dcterms:W3CDTF">2010-12-19T18:15:36Z</dcterms:modified>
  <cp:revision>3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