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187-128D-4805-96C2-85CCC7FA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5C9-BAB4-4D11-A5AF-CEAB02EA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3EE-CABA-41A0-9566-26668F2A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E44-B218-40D3-A31D-CF7FF487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A54-4478-4155-B96C-944EABD2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BEA-0C60-4B76-91ED-02D8454A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456-41B9-47FD-9AB8-F9F793C6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50B-1D37-4D39-92EE-78C60BE7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A62-69E5-4C25-8AEC-A3131E82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A0E-3DFC-4ECF-9F9A-BA6D30F5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A31-6580-478C-AA59-F6B761E7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43D-7ABE-4A52-835A-83E11347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2EAA-C8A3-4FD8-B857-B45A35008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Презентация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к уроку по теме</a:t>
            </a:r>
            <a:br>
              <a:rPr sz="40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«Решение логарифмических уравнений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54100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учитель 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МОУ-СОШ №4 г. К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Григорьева  Ольга 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Решите у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5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320040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3048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реобразование уравнений, с использованием свойств логариф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2116080"/>
            <a:ext cx="71629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Решите у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600200"/>
          <a:ext cx="7924320" cy="4525560"/>
        </p:xfrm>
        <a:graphic>
          <a:graphicData uri="http://schemas.openxmlformats.org/drawingml/2006/table">
            <a:tbl>
              <a:tblPr/>
              <a:tblGrid>
                <a:gridCol w="792432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790960" cy="127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523880" y="4648320"/>
                <a:ext cx="59436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ариант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ариант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Решите у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Решите у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3600360"/>
            <a:ext cx="2210040" cy="514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219320" y="4486320"/>
                <a:ext cx="2819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95280" y="5432400"/>
            <a:ext cx="2971800" cy="345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57800" y="3581280"/>
            <a:ext cx="2514600" cy="587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105520" y="4419720"/>
                <a:ext cx="28954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181480" y="5400720"/>
            <a:ext cx="34290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ешить противоположный вариант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дготовить сообщение по те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« Логарифмы в природе и техни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. М. Никольский, М.К. Потапов, Н.Н. Решетников, А.В. Шев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« Алгебра и начала анализа 10». М. Просвещение» 20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.6.2 № 6.10,6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Arial"/>
              </a:rPr>
              <a:t>Логарифмические уравн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Повторить, обобщить и систематизировать материал по теме «Логарифмическая функц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Объяснить   способы решения логарифмических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Способствовать развитию навыков самостоятельной работы, самопроверки, самоконт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Развивать познавательный интерес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Создать условия для эффективной работы в группах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Составить соответствие между заданием и ответом к нему    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а)  Представьте число « а»  в виде логарифма по основанию « в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752480"/>
          <a:ext cx="8153280" cy="43736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Задание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твет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.      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= 2     b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.          0 =lg1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     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 = 0    b = 1,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.       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 = log</a:t>
                      </a: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       a = 1    b = √7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.          3 = log</a:t>
                      </a: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.     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а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= 3    b = 2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.       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1 = log</a:t>
                      </a: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√7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√7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.      a = 0    b = 10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E.          2 = log</a:t>
                      </a: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.      a = 2    b =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F.          0 = log</a:t>
                      </a: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,05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240"/>
                <a:gridCol w="1371600"/>
                <a:gridCol w="1371240"/>
                <a:gridCol w="137196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Найдите область определения функц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649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Задание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твет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.   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log</a:t>
                      </a: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(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+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.         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X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&lt;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    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log</a:t>
                      </a: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2-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   X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&l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    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log</a:t>
                      </a: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,05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(-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  &lt;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&lt; 9,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≠ 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.    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log</a:t>
                      </a: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x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√(9-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  X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&gt; -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Дж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Неп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1550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-16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File:John Napier.jpg"/>
          <p:cNvPicPr/>
          <p:nvPr/>
        </p:nvPicPr>
        <p:blipFill>
          <a:blip r:embed="rId1"/>
          <a:stretch/>
        </p:blipFill>
        <p:spPr>
          <a:xfrm>
            <a:off x="457200" y="304920"/>
            <a:ext cx="5240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Решение  уравнения по определению логариф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882800"/>
            <a:ext cx="701028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12-12-15T10:25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