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DC5C-891D-4CE1-B15D-EDD1842450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0563-63A3-4D91-9A60-6264635E8F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A002-B6F9-4129-A232-B8C2B71E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CDCC-68CF-484A-8970-806D9787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BB5-BBF3-4A42-ABDE-11EDD569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A10-ECC4-4A85-9C22-60B4901A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3FD-700A-4A52-B22F-B9F8FE2A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FF52-77B8-4FF7-B8FC-672F0E13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617-0868-459E-BF3E-FA3DA15E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64A-E58C-415D-B6EF-775003FE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0CC4-32A6-4ACE-9F10-72D72747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D4C-17EF-4E81-A9EF-E69DBC4C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AD40-8239-46F0-ABBC-B81DEC33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65E-14B8-4799-836C-55FAD0F5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8754-6334-48DC-A098-4535A4ECC6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ffff"/>
                </a:solidFill>
                <a:latin typeface="Arial"/>
              </a:rPr>
              <a:t>Многогранники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rcRect l="0" t="2888" r="0" b="0"/>
          <a:stretch/>
        </p:blipFill>
        <p:spPr>
          <a:xfrm>
            <a:off x="914400" y="2133720"/>
            <a:ext cx="663588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Arial"/>
              </a:rPr>
              <a:t>Алгоритм решения задач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числение площади полной поверх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исать формулу площади полной поверх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исать формулу площади осн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исать формулу площади боковой поверх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ть необходимые изме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числить площадь полной поверх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числение объ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Записать формулу объе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Записать формулу площади осн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Выполнить необходимые изме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Вычислить объ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производственным содержанием по профессии «Штукатур. Отделочник. Плиточник.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Рисунок 3" descr="P3160222.JPG"/>
          <p:cNvPicPr/>
          <p:nvPr/>
        </p:nvPicPr>
        <p:blipFill>
          <a:blip r:embed="rId1"/>
          <a:stretch/>
        </p:blipFill>
        <p:spPr>
          <a:xfrm>
            <a:off x="1295280" y="2590920"/>
            <a:ext cx="60962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Решение задач</a:t>
            </a:r>
            <a:br>
              <a:rPr sz="4400"/>
            </a:br>
            <a:r>
              <a:rPr b="0" lang="ru-RU" sz="3600" spc="-1" strike="noStrike">
                <a:solidFill>
                  <a:srgbClr val="ccffff"/>
                </a:solidFill>
                <a:latin typeface="Arial"/>
              </a:rPr>
              <a:t>№1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следует выписать на складе светло-голубой краски для окраски панели помещения размером 7x6,5м, если высота панели равна 2м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таблицам характеристики пигментов находим укрывистость данной краски. Она составляет 100 г/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219320" y="4419720"/>
            <a:ext cx="6095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ение: Панели помещения представляют собой боковую поверхность прямой призмы, поэтому площадь находим по формуле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•h,гд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•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(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,5+7)•2•2=54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обходимое количество краски: 54•100=5400(г)=5,4(к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"/>
              </a:rPr>
              <a:t>№</a:t>
            </a:r>
            <a:r>
              <a:rPr b="0" lang="ru-RU" sz="3600" spc="-1" strike="noStrike">
                <a:solidFill>
                  <a:srgbClr val="cc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количество пасты, идущей на клеевую окраску гобелена высотой 0,7м для 10 служебных комнат, следует выдать бригаде, если расход пасты 24кг на 10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ru-RU" sz="2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 Развертка комнаты дана на рисунке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Рисунок 3" descr="shashkiy_clip_image002"/>
          <p:cNvPicPr/>
          <p:nvPr/>
        </p:nvPicPr>
        <p:blipFill>
          <a:blip r:embed="rId1"/>
          <a:stretch/>
        </p:blipFill>
        <p:spPr>
          <a:xfrm>
            <a:off x="2971800" y="3809880"/>
            <a:ext cx="24764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ение: по рисунку определим размеры помещения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5000мм=5м;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2400мм=2,4м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2700мм=2,7м,определим площадь поверхности, которую надо оклеить,для этого воспользуемся формулой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•h,гд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•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=(5+2,4)•2•2,7=39,9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ход на 10 комнат: 10•24•39,96=9590,4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762120" y="-40680"/>
            <a:ext cx="761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При несоблюдении нормы толщины штукатурного намета допускается перерасход сырья и денег. Подсчитайте, на сколько увеличится стоимость штукатурных работ (рис.1), если толщину штукатурного намета увеличить на 2мм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Примечание. Стоим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 штукатурного намета на 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поверхности составляет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0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ру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Рисунок 2" descr="shashkiy_clip_image002"/>
          <p:cNvPicPr/>
          <p:nvPr/>
        </p:nvPicPr>
        <p:blipFill>
          <a:blip r:embed="rId1"/>
          <a:stretch/>
        </p:blipFill>
        <p:spPr>
          <a:xfrm>
            <a:off x="2514600" y="4038480"/>
            <a:ext cx="41911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380880" y="326520"/>
            <a:ext cx="8305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Воспользуемся вычислениями задачи №2. Площадь оштукатуренной поверхности равна 39,96 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Стоимость работ составит : 39,96•150=5994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Если намёт увеличить на 2мм=0,002м,то стоимость увеличится на: 5994•0,002=11,988руб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181480" y="3733920"/>
            <a:ext cx="38005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533520" y="1066680"/>
            <a:ext cx="8076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ите необходимое по норме время и расценку для облицовки глазурованной плиткой 150x150мм откосов оконного проема размером 4x2м, если ширина откоса 25см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609480" y="685800"/>
            <a:ext cx="7925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ш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яем площадь облицовки: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S = 2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4+2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•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0,25 = 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 сборника ЕНИР находим, что на облицовку 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оса требуется 2,9чел-ч, тогда на облицовку 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буется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2,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•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3=8,7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чел-ч. Расценка на 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лицованного откоса 176руб., тогда на 3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 :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176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3= 52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б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Норма времени равна 8,7чел-ч; расценка 528руб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209680" y="3809880"/>
            <a:ext cx="36576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             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вариант                       2 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в          6в                    1б             6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а          7а                    2б             7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в          8а                    3а             8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б          9б                    4в             9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а         10в                   5в            10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ffff"/>
                </a:solidFill>
                <a:latin typeface="Arial"/>
              </a:rPr>
              <a:t>Правильная призма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1"/>
          <a:srcRect l="0" t="0" r="4253" b="0"/>
          <a:stretch/>
        </p:blipFill>
        <p:spPr>
          <a:xfrm>
            <a:off x="914400" y="1447920"/>
            <a:ext cx="6858000" cy="51814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Arial"/>
              </a:rPr>
              <a:t>Алгоритм решения задач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числение площади полной поверх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Записать формулу площади полной поверх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Записать формулу площади осн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Записать формулу площади боковой поверхности.                                    4.Выполнить необходимые измерения и найти площадь осн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Измерить стороны основания, найти его периметр и измерить боковое ребро. Найти площадь боковой поверх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Вычислить площадь полной поверх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числение объ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2437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исать формулу объе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2437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исать формулу площади осн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2437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ть необходимые измерения и найти площадь осн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2437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рить высоту (боковое ребро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2437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числить объ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Усеченная пирамид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719440" y="2149560"/>
            <a:ext cx="370512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Arial"/>
              </a:rPr>
              <a:t>Алгоритм решения задач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90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числение площади полной поверх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Записать формулу площади полной поверх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Записать формулу площади основ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Записать формулу площади боковой поверх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Выполнить необходимые измерения и найти площади основ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Выполнить необходимые измерения и найти площадь боковой      поверх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Найти площадь полной поверх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числение объ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исать формулу объе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исать формулу площади основ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ть необходимые изме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ти объ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ffff"/>
                </a:solidFill>
                <a:latin typeface="Arial"/>
              </a:rPr>
              <a:t>Наклонная призма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220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Arial"/>
              </a:rPr>
              <a:t>Алгоритм решения задач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числение площади полной поверх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исать формулу площади полной поверх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исать формулу площади осн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исать формулу площади боковой поверх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ть необходимые изме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ти периметр сечения, построенного перпендикулярно боковому реб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числить площадь полной поверх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числение объ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Записать формулу объе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Записать формулу площади осн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Выполнить необходимые изме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Вычислить объ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ffff"/>
                </a:solidFill>
                <a:latin typeface="Arial"/>
              </a:rPr>
              <a:t>Правильная пирамида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1192" r="0" b="0"/>
          <a:stretch/>
        </p:blipFill>
        <p:spPr>
          <a:xfrm>
            <a:off x="1066680" y="1752480"/>
            <a:ext cx="66279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5-23T13:19:4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