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move the slide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C2F7-35BB-46CF-86FB-AA96C5138F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97FE-5CBF-44FB-B15D-27FC18C55F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8E2-B499-4535-B520-CED6BF69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5E7-0FBB-4757-B613-E996210A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3B1B1-3A9F-4229-BCE3-F6E9548F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FF970-62FB-44A3-A5E7-0DF414C1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94E55-2052-4467-9B81-9534EEE9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47319-542D-4A2E-B5D1-CE67FFD5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72E87-8DE4-4945-9A5C-E707813D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4044E-C2A1-4EEA-9B94-2818E132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919D8-B4E8-4EFC-BC28-7C1A19AD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6C6A3-D0BE-4EC1-9CC6-B998057D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70A4F-1D14-4CFC-9092-3C98E007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244F5-E3A8-4F55-930C-69A661B4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59E-F816-44D4-934A-63C7F3A1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6704C-2838-41CC-9F0D-ADF25158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F0563-F00A-4402-86EF-46A3786F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F138A-8C5F-4696-830D-3A140F15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8895B-8E1A-48B7-B3AF-D0F26E7A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7870B-CC31-477A-99AF-FC1981B0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057EE-A30F-4148-A6EB-336FEB54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F016E-1EAD-4310-94A2-A0D8F441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11A70-7CD1-48F7-8E2E-76ECEAA7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B8DD8-FCB8-43A8-9ACE-CD916598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2BE8C-BD97-4F20-BA2A-0F977459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077-E8D9-4724-9ABF-DBC91947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A55CA-C0C0-4963-99B5-3C8A5921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7C5B8-1A9A-43BC-B7F5-FE276211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1C301-2DC8-4616-9A8C-4AC3144F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35C92-DAE3-47C7-8100-3201557D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B8F83-4119-4CB9-85CE-16874911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1D702-56B1-4614-B138-FDD730B6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8CD47-8772-4EE7-A727-9B1F67D1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19668-99C5-4716-B4D7-1B9F58D6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CC19B-5A2F-44E3-BA27-472D3A0F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67A8A-D327-4433-B638-A3887781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C3A8-EECC-4048-8F98-376AC91B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8FDA2-BF2B-470F-92D1-D74D1499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5828D-B049-4454-BB3D-503A53B5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AC497-FB08-4EC6-80CE-0A6353D0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4EF6-A6DF-4E4E-8812-903B5BE7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4F39-CE32-432C-B294-9D23AD7C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BDAD-62B1-4FB4-8562-16DED68E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B4D6-0FBE-4409-8217-E6A1ADCD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518B-0B8B-4F80-AC8F-457D31B9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2069-78B4-4E86-88D4-AF1053BD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718A-0306-4551-8292-3317F14B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3B3F-B074-49DC-99B4-7651EC0E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C565-9881-41A0-8CBF-451069A4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D473-AF64-49D2-9C23-09C75B33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DC37-6BD7-4DED-B1C5-A9B502C8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A2BE-2A04-46F5-8470-6F9B4CFB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8F64A-F08B-4BF3-A76D-810931A3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7B5B-5611-40B1-A4A6-6F5228E7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DC0C0-C49A-45E0-8EF7-EBF051E6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4675-34C2-4D02-97FA-7873EF62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4BE73-1D21-4217-A26C-F31C568B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6F7-7181-4933-9E0D-857F1333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602E-42AB-4A79-8C38-77301077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C655-1E3A-41A7-B717-D1C1E0D5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D159B-6B77-42C4-B7B2-3C575C16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4821-10A7-4AED-9EF9-C28F0EB5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2EDC9-FB8F-4A53-B0EE-C2531935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2E9A-58CC-479F-A746-A3E25F83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89107-E216-41CF-BBAB-15A32CCD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27720-D423-4940-8D2F-94EB987A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EC19-4719-4ABF-A123-2F040B77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678B-602F-43A3-83B4-4E3FC7BE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05E-C0FB-4957-9CD7-C1E91330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697DF-82E7-4D46-9E97-1ABA05B1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E6046-6907-4D6A-A300-30E6C438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0B827-14A0-4656-AF28-0DAE46D4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4A861-7516-45CD-A96F-73A5B3CF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6F8D0-6317-4A17-ADAB-3190FF10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05FFD-16D3-4D4F-B81E-890E51B7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E47C1-762E-4F34-A7FF-4ABDC57D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B2D70-C2CF-4BE7-865C-65A4BE08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23DC-0AF4-408A-81D0-1A3F70CF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1CE30-3353-47B9-8A1C-042693A3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07B-C7E4-42F7-A77B-0A8B2C3C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02E95-DE8A-4E31-ADE3-39821DD4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D1DC-E526-4EC1-9400-53FFC9AD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E56B3-5C90-43FD-9E8E-280AA3E5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393BA-266A-4D9C-8AB8-F1096076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19070-AB49-4C11-A075-6F224167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6C144-DF37-4C3B-8ABE-A3131F8A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6F204-4C98-4BBB-A0CC-063B8AAC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41318-2AAA-468E-AC67-039F6A95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622D4-F241-4BD0-9B55-620B6FF6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13832-AD88-4EB2-8C22-7A40B48E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E1A-84A5-4A6A-B327-C10B3E23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871F5-283C-482B-8B8E-7142128C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EEB26-E3C2-4A44-A86B-1585CED9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83381-1D0D-43DA-86D8-EB959F3E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995B4-037C-4992-B5AC-3EEF2882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7F1DA-29EB-45DC-8744-C1FEE9A3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73AE5-8BE3-41B2-A1A1-C4C97CCE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1A63E-FD9F-4BCC-B842-1FE4401B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8D1C0-964A-4A40-98D5-6A8FEDF0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A8351-B9D6-48E8-8DF7-E01A614F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99E88-8E2A-4A67-9EEB-A2316E13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A83-9908-47E0-B3DF-E55D8AE7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AE4BE-DBA7-49D0-A896-FAC9D301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4ADD2-962C-4421-A6F9-714F1EC4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46720-0365-445D-B695-F8E12337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6683F-98E6-46E2-9232-65BFD920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4F6BC-CE62-4C8B-A70C-B35D8373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552DB-8958-4C59-B7F5-106EC3C4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C0A57-7936-4DF4-8F5E-FED4C3DD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91DAC-AEA9-40DC-A84E-A10CCEEB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0C3F2-8471-45B6-BE6F-CA5EEE15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64D2C-9270-4660-91BE-9E5BA7FA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D67-2C74-4078-92A3-02B6F1ED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856AD-6F88-49B7-B531-1BC81EA0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8AE07-86CB-48FE-AE38-B0C8E8C6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20D99-D347-40FE-82B7-A8CF5AA9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ECE96-7E72-4AF5-9BF6-2777696C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BA7B4-5C25-4627-9977-33A45165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DA05C-E957-4D1C-ACB4-A4F7581A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03937-C7B2-45B9-BCA9-72194D66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4AAE7-11DB-4BF6-9F42-CADE2DBF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8B801-7090-4A8C-A28A-A55A1B55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EF677-1696-4679-B902-962FCCEA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493-E202-4EE0-8533-AA465274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927E1-BCE9-4A05-83AB-4B1DE875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590D1-77AC-4682-9ED4-221E43A2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7EC3D-EF3C-4186-AD7C-07ACF2C6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902D5-35FF-48FA-86F3-CFEF0303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8AA94-21F5-4DD9-B9F8-29A9E8DA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97363-BF52-426B-A57B-937E42E1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B0DD3-6E96-4887-82DA-FFCAAEA9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BFD25-3F51-4B20-8658-C6746F46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D7C8A-237C-4A5B-9117-B81E771E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70C78-6A4D-4BB3-98D7-81787114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07EA-B729-41EC-A7EB-7D81A6B71C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0D32-EBFB-47E4-A053-F93D3BA7ED9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7A7F-A3F1-4D8B-84FC-1F46B75503E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E551-5ECD-4E3D-A126-D749A87D9B8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H:\графика\asadal\scool\scool\38 [Converted].png"/>
          <p:cNvPicPr/>
          <p:nvPr/>
        </p:nvPicPr>
        <p:blipFill>
          <a:blip r:embed="rId6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:\графика\asadal\scool\scool\23\10101010.png"/>
          <p:cNvPicPr/>
          <p:nvPr/>
        </p:nvPicPr>
        <p:blipFill>
          <a:blip r:embed="rId7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6D60-F790-43A0-ADAE-9D07A1A99CB8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4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3F3A-68B4-426D-80E1-6E98665688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9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AE41-F8F8-4CB5-A67D-6DA53550F29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23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A0A8-4563-40D8-85EF-52AD7EA58F3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8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2F69-25CE-4375-A86C-B20F3978A27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4B85-3607-47A5-81D7-702290AC3AF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6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390B-CE90-490A-A02B-13EB3205B3F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hyperlink" Target="file:///4_1_30_t.gsp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WordArt 2"/>
          <p:cNvSpPr txBox="1"/>
          <p:nvPr/>
        </p:nvSpPr>
        <p:spPr>
          <a:xfrm>
            <a:off x="971640" y="836640"/>
            <a:ext cx="7345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метр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 класс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9" name="WordArt 3"/>
          <p:cNvSpPr txBox="1"/>
          <p:nvPr/>
        </p:nvSpPr>
        <p:spPr>
          <a:xfrm>
            <a:off x="684360" y="2637000"/>
            <a:ext cx="7848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мма углов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еугольника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Line 2"/>
          <p:cNvSpPr/>
          <p:nvPr/>
        </p:nvSpPr>
        <p:spPr>
          <a:xfrm>
            <a:off x="395280" y="5805360"/>
            <a:ext cx="835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Line 3"/>
          <p:cNvSpPr/>
          <p:nvPr/>
        </p:nvSpPr>
        <p:spPr>
          <a:xfrm flipV="1">
            <a:off x="395280" y="2852640"/>
            <a:ext cx="3456000" cy="29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ine 4"/>
          <p:cNvSpPr/>
          <p:nvPr/>
        </p:nvSpPr>
        <p:spPr>
          <a:xfrm>
            <a:off x="3851280" y="2852640"/>
            <a:ext cx="4897440" cy="29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250920" y="587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3635280" y="220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8388360" y="59500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900000" y="5300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7358040" y="5300640"/>
            <a:ext cx="8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3635280" y="2997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Oval 11"/>
          <p:cNvSpPr/>
          <p:nvPr/>
        </p:nvSpPr>
        <p:spPr>
          <a:xfrm>
            <a:off x="324000" y="5734080"/>
            <a:ext cx="144360" cy="14436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Oval 12"/>
          <p:cNvSpPr/>
          <p:nvPr/>
        </p:nvSpPr>
        <p:spPr>
          <a:xfrm>
            <a:off x="3780000" y="2781360"/>
            <a:ext cx="144360" cy="14292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Oval 13"/>
          <p:cNvSpPr/>
          <p:nvPr/>
        </p:nvSpPr>
        <p:spPr>
          <a:xfrm>
            <a:off x="8675640" y="5734080"/>
            <a:ext cx="144360" cy="14292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77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770" fill="hold"/>
                                        <p:tgtEl>
                                          <p:spTgt spid="6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Line 2"/>
          <p:cNvSpPr/>
          <p:nvPr/>
        </p:nvSpPr>
        <p:spPr>
          <a:xfrm flipV="1">
            <a:off x="684360" y="5733720"/>
            <a:ext cx="6767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Line 3"/>
          <p:cNvSpPr/>
          <p:nvPr/>
        </p:nvSpPr>
        <p:spPr>
          <a:xfrm flipV="1">
            <a:off x="684360" y="1197000"/>
            <a:ext cx="3166920" cy="46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Line 4"/>
          <p:cNvSpPr/>
          <p:nvPr/>
        </p:nvSpPr>
        <p:spPr>
          <a:xfrm>
            <a:off x="3851280" y="1197000"/>
            <a:ext cx="360036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Line 5"/>
          <p:cNvSpPr/>
          <p:nvPr/>
        </p:nvSpPr>
        <p:spPr>
          <a:xfrm>
            <a:off x="2411280" y="3213000"/>
            <a:ext cx="14472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Line 6"/>
          <p:cNvSpPr/>
          <p:nvPr/>
        </p:nvSpPr>
        <p:spPr>
          <a:xfrm flipH="1">
            <a:off x="5292360" y="3068640"/>
            <a:ext cx="14292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Line 7"/>
          <p:cNvSpPr/>
          <p:nvPr/>
        </p:nvSpPr>
        <p:spPr>
          <a:xfrm>
            <a:off x="4211640" y="5734080"/>
            <a:ext cx="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 Box 8"/>
          <p:cNvSpPr/>
          <p:nvPr/>
        </p:nvSpPr>
        <p:spPr>
          <a:xfrm>
            <a:off x="250920" y="5877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3708360" y="62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 Box 10"/>
          <p:cNvSpPr/>
          <p:nvPr/>
        </p:nvSpPr>
        <p:spPr>
          <a:xfrm>
            <a:off x="7451640" y="5589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1042920" y="5229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3708360" y="14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6516720" y="51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14"/>
          <p:cNvSpPr/>
          <p:nvPr/>
        </p:nvSpPr>
        <p:spPr>
          <a:xfrm>
            <a:off x="3780000" y="1125360"/>
            <a:ext cx="144360" cy="14292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15"/>
          <p:cNvSpPr/>
          <p:nvPr/>
        </p:nvSpPr>
        <p:spPr>
          <a:xfrm>
            <a:off x="611280" y="5805360"/>
            <a:ext cx="144360" cy="14292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16"/>
          <p:cNvSpPr/>
          <p:nvPr/>
        </p:nvSpPr>
        <p:spPr>
          <a:xfrm>
            <a:off x="7380360" y="5661000"/>
            <a:ext cx="142920" cy="144360"/>
          </a:xfrm>
          <a:prstGeom prst="ellipse">
            <a:avLst/>
          </a:prstGeom>
          <a:solidFill>
            <a:srgbClr val="4e3b30"/>
          </a:solidFill>
          <a:ln w="93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500"/>
                            </p:stCondLst>
                            <p:childTnLst>
                              <p:par>
                                <p:cTn id="6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77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77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1" dur="77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3" dur="77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77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770" fill="hold"/>
                                        <p:tgtEl>
                                          <p:spTgt spid="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0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2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77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770" fill="hold"/>
                                        <p:tgtEl>
                                          <p:spTgt spid="6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1" dur="77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Line 2"/>
          <p:cNvSpPr/>
          <p:nvPr/>
        </p:nvSpPr>
        <p:spPr>
          <a:xfrm>
            <a:off x="900000" y="5516640"/>
            <a:ext cx="475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Line 3"/>
          <p:cNvSpPr/>
          <p:nvPr/>
        </p:nvSpPr>
        <p:spPr>
          <a:xfrm flipV="1">
            <a:off x="5651640" y="691920"/>
            <a:ext cx="0" cy="482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Line 4"/>
          <p:cNvSpPr/>
          <p:nvPr/>
        </p:nvSpPr>
        <p:spPr>
          <a:xfrm flipH="1">
            <a:off x="899640" y="692280"/>
            <a:ext cx="4751640" cy="482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Line 5"/>
          <p:cNvSpPr/>
          <p:nvPr/>
        </p:nvSpPr>
        <p:spPr>
          <a:xfrm>
            <a:off x="3276720" y="544500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Line 6"/>
          <p:cNvSpPr/>
          <p:nvPr/>
        </p:nvSpPr>
        <p:spPr>
          <a:xfrm flipV="1">
            <a:off x="5580000" y="3357720"/>
            <a:ext cx="144360" cy="7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Line 7"/>
          <p:cNvSpPr/>
          <p:nvPr/>
        </p:nvSpPr>
        <p:spPr>
          <a:xfrm flipH="1">
            <a:off x="4932360" y="494172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Line 8"/>
          <p:cNvSpPr/>
          <p:nvPr/>
        </p:nvSpPr>
        <p:spPr>
          <a:xfrm>
            <a:off x="4932360" y="494172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611280" y="551664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10"/>
          <p:cNvSpPr/>
          <p:nvPr/>
        </p:nvSpPr>
        <p:spPr>
          <a:xfrm>
            <a:off x="5724360" y="260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11"/>
          <p:cNvSpPr/>
          <p:nvPr/>
        </p:nvSpPr>
        <p:spPr>
          <a:xfrm>
            <a:off x="5724360" y="522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1476360" y="4869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5219640" y="112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Oval 14"/>
          <p:cNvSpPr/>
          <p:nvPr/>
        </p:nvSpPr>
        <p:spPr>
          <a:xfrm>
            <a:off x="5580000" y="620640"/>
            <a:ext cx="144360" cy="14436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Oval 15"/>
          <p:cNvSpPr/>
          <p:nvPr/>
        </p:nvSpPr>
        <p:spPr>
          <a:xfrm>
            <a:off x="826920" y="5445000"/>
            <a:ext cx="144720" cy="14472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Oval 16"/>
          <p:cNvSpPr/>
          <p:nvPr/>
        </p:nvSpPr>
        <p:spPr>
          <a:xfrm>
            <a:off x="5580000" y="5445000"/>
            <a:ext cx="144360" cy="14472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5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50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500"/>
                            </p:stCondLst>
                            <p:childTnLst>
                              <p:par>
                                <p:cTn id="7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77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4" dur="770" fill="hold"/>
                                        <p:tgtEl>
                                          <p:spTgt spid="6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6" dur="77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8" dur="77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77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3" dur="770" fill="hold"/>
                                        <p:tgtEl>
                                          <p:spTgt spid="6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5" dur="77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7" dur="77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Line 2"/>
          <p:cNvSpPr/>
          <p:nvPr/>
        </p:nvSpPr>
        <p:spPr>
          <a:xfrm>
            <a:off x="1258920" y="5661000"/>
            <a:ext cx="511344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Line 3"/>
          <p:cNvSpPr/>
          <p:nvPr/>
        </p:nvSpPr>
        <p:spPr>
          <a:xfrm flipV="1">
            <a:off x="1258920" y="333000"/>
            <a:ext cx="2808360" cy="532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Line 4"/>
          <p:cNvSpPr/>
          <p:nvPr/>
        </p:nvSpPr>
        <p:spPr>
          <a:xfrm>
            <a:off x="4067280" y="404640"/>
            <a:ext cx="2305080" cy="532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Line 5"/>
          <p:cNvSpPr/>
          <p:nvPr/>
        </p:nvSpPr>
        <p:spPr>
          <a:xfrm flipH="1">
            <a:off x="5148000" y="3141720"/>
            <a:ext cx="21564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Line 6"/>
          <p:cNvSpPr/>
          <p:nvPr/>
        </p:nvSpPr>
        <p:spPr>
          <a:xfrm>
            <a:off x="2484360" y="3068640"/>
            <a:ext cx="21600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611280" y="551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4140360" y="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6443640" y="537372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3780000" y="76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1692360" y="5013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5724360" y="501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Oval 13"/>
          <p:cNvSpPr/>
          <p:nvPr/>
        </p:nvSpPr>
        <p:spPr>
          <a:xfrm>
            <a:off x="3995640" y="333360"/>
            <a:ext cx="144720" cy="14292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Oval 14"/>
          <p:cNvSpPr/>
          <p:nvPr/>
        </p:nvSpPr>
        <p:spPr>
          <a:xfrm>
            <a:off x="1187280" y="5589720"/>
            <a:ext cx="144720" cy="14436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Oval 15"/>
          <p:cNvSpPr/>
          <p:nvPr/>
        </p:nvSpPr>
        <p:spPr>
          <a:xfrm>
            <a:off x="6300720" y="5661000"/>
            <a:ext cx="142920" cy="14436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500"/>
                            </p:stCondLst>
                            <p:childTnLst>
                              <p:par>
                                <p:cTn id="7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300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5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77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7" dur="770" fill="hold"/>
                                        <p:tgtEl>
                                          <p:spTgt spid="6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1" dur="77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77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6" dur="770" fill="hold"/>
                                        <p:tgtEl>
                                          <p:spTgt spid="6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8" dur="77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0" dur="77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Line 2"/>
          <p:cNvSpPr/>
          <p:nvPr/>
        </p:nvSpPr>
        <p:spPr>
          <a:xfrm flipV="1">
            <a:off x="755640" y="5660640"/>
            <a:ext cx="756144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Line 3"/>
          <p:cNvSpPr/>
          <p:nvPr/>
        </p:nvSpPr>
        <p:spPr>
          <a:xfrm flipV="1">
            <a:off x="4500720" y="1989000"/>
            <a:ext cx="0" cy="36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Line 4"/>
          <p:cNvSpPr/>
          <p:nvPr/>
        </p:nvSpPr>
        <p:spPr>
          <a:xfrm flipH="1">
            <a:off x="755280" y="1989000"/>
            <a:ext cx="3745080" cy="374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Line 5"/>
          <p:cNvSpPr/>
          <p:nvPr/>
        </p:nvSpPr>
        <p:spPr>
          <a:xfrm>
            <a:off x="4500720" y="1989000"/>
            <a:ext cx="3816360" cy="36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Line 6"/>
          <p:cNvSpPr/>
          <p:nvPr/>
        </p:nvSpPr>
        <p:spPr>
          <a:xfrm>
            <a:off x="2556000" y="558972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Line 7"/>
          <p:cNvSpPr/>
          <p:nvPr/>
        </p:nvSpPr>
        <p:spPr>
          <a:xfrm>
            <a:off x="6084720" y="558972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Line 8"/>
          <p:cNvSpPr/>
          <p:nvPr/>
        </p:nvSpPr>
        <p:spPr>
          <a:xfrm flipH="1">
            <a:off x="4067280" y="522936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Line 9"/>
          <p:cNvSpPr/>
          <p:nvPr/>
        </p:nvSpPr>
        <p:spPr>
          <a:xfrm>
            <a:off x="4067280" y="5229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179280" y="544500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 Box 11"/>
          <p:cNvSpPr/>
          <p:nvPr/>
        </p:nvSpPr>
        <p:spPr>
          <a:xfrm>
            <a:off x="4356000" y="141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 Box 12"/>
          <p:cNvSpPr/>
          <p:nvPr/>
        </p:nvSpPr>
        <p:spPr>
          <a:xfrm>
            <a:off x="8317080" y="530064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 Box 13"/>
          <p:cNvSpPr/>
          <p:nvPr/>
        </p:nvSpPr>
        <p:spPr>
          <a:xfrm>
            <a:off x="4211640" y="5661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 Box 14"/>
          <p:cNvSpPr/>
          <p:nvPr/>
        </p:nvSpPr>
        <p:spPr>
          <a:xfrm>
            <a:off x="1116000" y="522936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40˚˚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4067280" y="2276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4500720" y="2276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7451640" y="5084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18"/>
          <p:cNvSpPr/>
          <p:nvPr/>
        </p:nvSpPr>
        <p:spPr>
          <a:xfrm>
            <a:off x="684360" y="5661000"/>
            <a:ext cx="142560" cy="14436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val 19"/>
          <p:cNvSpPr/>
          <p:nvPr/>
        </p:nvSpPr>
        <p:spPr>
          <a:xfrm>
            <a:off x="4427640" y="1916280"/>
            <a:ext cx="144360" cy="14436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20"/>
          <p:cNvSpPr/>
          <p:nvPr/>
        </p:nvSpPr>
        <p:spPr>
          <a:xfrm>
            <a:off x="8244000" y="5589720"/>
            <a:ext cx="144360" cy="14436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21"/>
          <p:cNvSpPr/>
          <p:nvPr/>
        </p:nvSpPr>
        <p:spPr>
          <a:xfrm>
            <a:off x="4427640" y="5589720"/>
            <a:ext cx="144360" cy="14436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slow">
    <p:wipe dir="d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8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500"/>
                            </p:stCondLst>
                            <p:childTnLst>
                              <p:par>
                                <p:cTn id="8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400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45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500"/>
                            </p:stCondLst>
                            <p:childTnLst>
                              <p:par>
                                <p:cTn id="8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60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6500"/>
                            </p:stCondLst>
                            <p:childTnLst>
                              <p:par>
                                <p:cTn id="8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77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2" dur="770" fill="hold"/>
                                        <p:tgtEl>
                                          <p:spTgt spid="6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4" dur="77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6" dur="77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77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1" dur="770" fill="hold"/>
                                        <p:tgtEl>
                                          <p:spTgt spid="6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3" dur="77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5" dur="77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77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0" dur="77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2" dur="77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4" dur="77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Line 2"/>
          <p:cNvSpPr/>
          <p:nvPr/>
        </p:nvSpPr>
        <p:spPr>
          <a:xfrm flipH="1">
            <a:off x="1908000" y="2205000"/>
            <a:ext cx="1944720" cy="29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Line 3"/>
          <p:cNvSpPr/>
          <p:nvPr/>
        </p:nvSpPr>
        <p:spPr>
          <a:xfrm>
            <a:off x="1908000" y="5157720"/>
            <a:ext cx="338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Line 4"/>
          <p:cNvSpPr/>
          <p:nvPr/>
        </p:nvSpPr>
        <p:spPr>
          <a:xfrm flipH="1" flipV="1">
            <a:off x="3851280" y="2205000"/>
            <a:ext cx="1441440" cy="29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Line 5"/>
          <p:cNvSpPr/>
          <p:nvPr/>
        </p:nvSpPr>
        <p:spPr>
          <a:xfrm>
            <a:off x="1332000" y="2205000"/>
            <a:ext cx="568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1332000" y="1628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3708360" y="1628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6372360" y="162864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1476360" y="5013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5292720" y="501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468360" y="549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Укажите:</a:t>
            </a: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2195640" y="69228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ару внутренних накрест лежащих угл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2195640" y="112536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ару внутренних односторонних угл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Oval 14"/>
          <p:cNvSpPr/>
          <p:nvPr/>
        </p:nvSpPr>
        <p:spPr>
          <a:xfrm>
            <a:off x="3780000" y="2133720"/>
            <a:ext cx="144360" cy="14292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Oval 15"/>
          <p:cNvSpPr/>
          <p:nvPr/>
        </p:nvSpPr>
        <p:spPr>
          <a:xfrm>
            <a:off x="1835280" y="5084640"/>
            <a:ext cx="144360" cy="14472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Oval 16"/>
          <p:cNvSpPr/>
          <p:nvPr/>
        </p:nvSpPr>
        <p:spPr>
          <a:xfrm>
            <a:off x="5219640" y="5084640"/>
            <a:ext cx="144360" cy="14472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Line 2"/>
          <p:cNvSpPr/>
          <p:nvPr/>
        </p:nvSpPr>
        <p:spPr>
          <a:xfrm>
            <a:off x="2411280" y="907920"/>
            <a:ext cx="576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3"/>
          <p:cNvSpPr/>
          <p:nvPr/>
        </p:nvSpPr>
        <p:spPr>
          <a:xfrm flipH="1">
            <a:off x="755280" y="907920"/>
            <a:ext cx="165564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4"/>
          <p:cNvSpPr/>
          <p:nvPr/>
        </p:nvSpPr>
        <p:spPr>
          <a:xfrm flipV="1">
            <a:off x="755640" y="4508640"/>
            <a:ext cx="576108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6516720" y="907920"/>
            <a:ext cx="1655640" cy="36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Line 6"/>
          <p:cNvSpPr/>
          <p:nvPr/>
        </p:nvSpPr>
        <p:spPr>
          <a:xfrm flipH="1" flipV="1">
            <a:off x="2411280" y="907920"/>
            <a:ext cx="4105440" cy="36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755640" y="907560"/>
            <a:ext cx="7416720" cy="367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2268360" y="12682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47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2843280" y="98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45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3635280" y="5734080"/>
            <a:ext cx="41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684360" y="530064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пределите, какие стороны у четырехугольника ВЕ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FG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параллельны. Ответ обоснуй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250920" y="4437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2195640" y="333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8028000" y="260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6659640" y="465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5651640" y="4149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45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 Box 17"/>
          <p:cNvSpPr/>
          <p:nvPr/>
        </p:nvSpPr>
        <p:spPr>
          <a:xfrm>
            <a:off x="6156360" y="3789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46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Oval 18"/>
          <p:cNvSpPr/>
          <p:nvPr/>
        </p:nvSpPr>
        <p:spPr>
          <a:xfrm>
            <a:off x="2340000" y="836640"/>
            <a:ext cx="144360" cy="144360"/>
          </a:xfrm>
          <a:prstGeom prst="ellipse">
            <a:avLst/>
          </a:prstGeom>
          <a:solidFill>
            <a:srgbClr val="4e3b30"/>
          </a:solidFill>
          <a:ln w="93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Oval 19"/>
          <p:cNvSpPr/>
          <p:nvPr/>
        </p:nvSpPr>
        <p:spPr>
          <a:xfrm>
            <a:off x="684360" y="4508640"/>
            <a:ext cx="144360" cy="14436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Oval 20"/>
          <p:cNvSpPr/>
          <p:nvPr/>
        </p:nvSpPr>
        <p:spPr>
          <a:xfrm>
            <a:off x="6443640" y="4437000"/>
            <a:ext cx="142920" cy="14436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Oval 21"/>
          <p:cNvSpPr/>
          <p:nvPr/>
        </p:nvSpPr>
        <p:spPr>
          <a:xfrm>
            <a:off x="8101080" y="836640"/>
            <a:ext cx="142920" cy="14436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Line 2"/>
          <p:cNvSpPr/>
          <p:nvPr/>
        </p:nvSpPr>
        <p:spPr>
          <a:xfrm flipH="1">
            <a:off x="971280" y="692280"/>
            <a:ext cx="2376360" cy="33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Line 3"/>
          <p:cNvSpPr/>
          <p:nvPr/>
        </p:nvSpPr>
        <p:spPr>
          <a:xfrm flipH="1">
            <a:off x="4500360" y="907920"/>
            <a:ext cx="309564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4"/>
          <p:cNvSpPr/>
          <p:nvPr/>
        </p:nvSpPr>
        <p:spPr>
          <a:xfrm>
            <a:off x="1332000" y="907920"/>
            <a:ext cx="6553080" cy="374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611280" y="177336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755640" y="33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3995640" y="4869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7020000" y="836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248436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2124000" y="155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2556000" y="1916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12"/>
          <p:cNvSpPr/>
          <p:nvPr/>
        </p:nvSpPr>
        <p:spPr>
          <a:xfrm>
            <a:off x="291636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13"/>
          <p:cNvSpPr/>
          <p:nvPr/>
        </p:nvSpPr>
        <p:spPr>
          <a:xfrm>
            <a:off x="550872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14"/>
          <p:cNvSpPr/>
          <p:nvPr/>
        </p:nvSpPr>
        <p:spPr>
          <a:xfrm>
            <a:off x="601200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15"/>
          <p:cNvSpPr/>
          <p:nvPr/>
        </p:nvSpPr>
        <p:spPr>
          <a:xfrm>
            <a:off x="529272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5724360" y="3645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5076720" y="508464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Найдите все углы, если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||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и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ے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75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wipe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Line 2"/>
          <p:cNvSpPr/>
          <p:nvPr/>
        </p:nvSpPr>
        <p:spPr>
          <a:xfrm>
            <a:off x="1908000" y="1125360"/>
            <a:ext cx="482472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Line 3"/>
          <p:cNvSpPr/>
          <p:nvPr/>
        </p:nvSpPr>
        <p:spPr>
          <a:xfrm>
            <a:off x="684360" y="3573360"/>
            <a:ext cx="431928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Line 4"/>
          <p:cNvSpPr/>
          <p:nvPr/>
        </p:nvSpPr>
        <p:spPr>
          <a:xfrm flipH="1">
            <a:off x="1763280" y="404640"/>
            <a:ext cx="3745080" cy="496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6300720" y="1773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4716360" y="4149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5435640" y="47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4284720" y="1700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298764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5219640" y="3933720"/>
            <a:ext cx="39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Найдите углы </a:t>
            </a:r>
            <a:r>
              <a:rPr b="1" lang="el-GR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и </a:t>
            </a:r>
            <a:r>
              <a:rPr b="1" lang="el-GR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β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, образованные при пересечении параллельных прямых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секущей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, если  </a:t>
            </a:r>
            <a:r>
              <a:rPr b="1" lang="el-GR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больше </a:t>
            </a:r>
            <a:r>
              <a:rPr b="1" lang="el-GR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β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в 5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Line 2"/>
          <p:cNvSpPr/>
          <p:nvPr/>
        </p:nvSpPr>
        <p:spPr>
          <a:xfrm>
            <a:off x="2268360" y="1989000"/>
            <a:ext cx="518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ine 3"/>
          <p:cNvSpPr/>
          <p:nvPr/>
        </p:nvSpPr>
        <p:spPr>
          <a:xfrm flipH="1">
            <a:off x="2916000" y="1989000"/>
            <a:ext cx="165564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ine 4"/>
          <p:cNvSpPr/>
          <p:nvPr/>
        </p:nvSpPr>
        <p:spPr>
          <a:xfrm>
            <a:off x="2916360" y="5445000"/>
            <a:ext cx="46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Line 5"/>
          <p:cNvSpPr/>
          <p:nvPr/>
        </p:nvSpPr>
        <p:spPr>
          <a:xfrm flipH="1" flipV="1">
            <a:off x="4572000" y="1989000"/>
            <a:ext cx="295272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2484360" y="522936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4356000" y="1341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7596360" y="5084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2050920" y="1413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3995640" y="198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4427640" y="2133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12"/>
          <p:cNvSpPr/>
          <p:nvPr/>
        </p:nvSpPr>
        <p:spPr>
          <a:xfrm>
            <a:off x="4932360" y="198900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3059280" y="5013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6877080" y="49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3348000" y="2349360"/>
            <a:ext cx="7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5508720" y="2205000"/>
            <a:ext cx="8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324000" y="549360"/>
            <a:ext cx="86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айдите углы треугольника АВС, если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||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Oval 18"/>
          <p:cNvSpPr/>
          <p:nvPr/>
        </p:nvSpPr>
        <p:spPr>
          <a:xfrm>
            <a:off x="4500720" y="1916280"/>
            <a:ext cx="142560" cy="14436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Oval 19"/>
          <p:cNvSpPr/>
          <p:nvPr/>
        </p:nvSpPr>
        <p:spPr>
          <a:xfrm>
            <a:off x="2843280" y="5373720"/>
            <a:ext cx="144360" cy="14292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Oval 20"/>
          <p:cNvSpPr/>
          <p:nvPr/>
        </p:nvSpPr>
        <p:spPr>
          <a:xfrm>
            <a:off x="7451640" y="5373720"/>
            <a:ext cx="144720" cy="14292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5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Line 2"/>
          <p:cNvSpPr/>
          <p:nvPr/>
        </p:nvSpPr>
        <p:spPr>
          <a:xfrm flipH="1">
            <a:off x="755640" y="836640"/>
            <a:ext cx="244800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Line 3"/>
          <p:cNvSpPr/>
          <p:nvPr/>
        </p:nvSpPr>
        <p:spPr>
          <a:xfrm>
            <a:off x="755640" y="5445000"/>
            <a:ext cx="561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Line 4"/>
          <p:cNvSpPr/>
          <p:nvPr/>
        </p:nvSpPr>
        <p:spPr>
          <a:xfrm flipH="1" flipV="1">
            <a:off x="3203640" y="836280"/>
            <a:ext cx="316872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3203640" y="836640"/>
            <a:ext cx="266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2700360" y="33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611280" y="5516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6372360" y="530064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5364000" y="260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3419640" y="907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3059280" y="105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971640" y="501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13"/>
          <p:cNvSpPr/>
          <p:nvPr/>
        </p:nvSpPr>
        <p:spPr>
          <a:xfrm>
            <a:off x="5651640" y="49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 Box 14"/>
          <p:cNvSpPr/>
          <p:nvPr/>
        </p:nvSpPr>
        <p:spPr>
          <a:xfrm>
            <a:off x="3924360" y="11253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 Box 15"/>
          <p:cNvSpPr/>
          <p:nvPr/>
        </p:nvSpPr>
        <p:spPr>
          <a:xfrm>
            <a:off x="1403280" y="4724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 Box 16"/>
          <p:cNvSpPr/>
          <p:nvPr/>
        </p:nvSpPr>
        <p:spPr>
          <a:xfrm>
            <a:off x="5219640" y="170028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Найдите углы 2 и 4 треугольника М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, если МР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||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Oval 17"/>
          <p:cNvSpPr/>
          <p:nvPr/>
        </p:nvSpPr>
        <p:spPr>
          <a:xfrm>
            <a:off x="3132000" y="765000"/>
            <a:ext cx="144720" cy="14292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Oval 18"/>
          <p:cNvSpPr/>
          <p:nvPr/>
        </p:nvSpPr>
        <p:spPr>
          <a:xfrm>
            <a:off x="684360" y="5373720"/>
            <a:ext cx="142560" cy="14292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Oval 19"/>
          <p:cNvSpPr/>
          <p:nvPr/>
        </p:nvSpPr>
        <p:spPr>
          <a:xfrm>
            <a:off x="6300720" y="5373720"/>
            <a:ext cx="142920" cy="14292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5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598" name="Содержимое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242560" cy="4705560"/>
          </a:xfrm>
          <a:prstGeom prst="rect">
            <a:avLst/>
          </a:prstGeom>
          <a:ln w="0">
            <a:noFill/>
          </a:ln>
        </p:spPr>
      </p:pic>
      <p:pic>
        <p:nvPicPr>
          <p:cNvPr id="599" name="Рисунок 6" descr="znak10[1].jpg"/>
          <p:cNvPicPr/>
          <p:nvPr/>
        </p:nvPicPr>
        <p:blipFill>
          <a:blip r:embed="rId2"/>
          <a:stretch/>
        </p:blipFill>
        <p:spPr>
          <a:xfrm>
            <a:off x="3429000" y="3143160"/>
            <a:ext cx="2158920" cy="22860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7"/>
          <p:cNvSpPr/>
          <p:nvPr/>
        </p:nvSpPr>
        <p:spPr>
          <a:xfrm>
            <a:off x="4714920" y="607212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309dd"/>
                </a:solidFill>
                <a:uFillTx/>
                <a:latin typeface="Calibri"/>
              </a:rPr>
              <a:t>Таким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образом</a:t>
            </a:r>
            <a:r>
              <a:rPr b="0" lang="ru-RU" sz="3200" spc="-1" strike="noStrike" u="sng">
                <a:solidFill>
                  <a:srgbClr val="1309dd"/>
                </a:solidFill>
                <a:uFillTx/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Line 2"/>
          <p:cNvSpPr/>
          <p:nvPr/>
        </p:nvSpPr>
        <p:spPr>
          <a:xfrm flipH="1">
            <a:off x="1331640" y="1484280"/>
            <a:ext cx="6840360" cy="453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Line 3"/>
          <p:cNvSpPr/>
          <p:nvPr/>
        </p:nvSpPr>
        <p:spPr>
          <a:xfrm flipV="1">
            <a:off x="1332000" y="5950080"/>
            <a:ext cx="691344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Line 4"/>
          <p:cNvSpPr/>
          <p:nvPr/>
        </p:nvSpPr>
        <p:spPr>
          <a:xfrm flipH="1" flipV="1">
            <a:off x="8172000" y="1484280"/>
            <a:ext cx="71640" cy="446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Line 5"/>
          <p:cNvSpPr/>
          <p:nvPr/>
        </p:nvSpPr>
        <p:spPr>
          <a:xfrm flipH="1">
            <a:off x="7740720" y="551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Line 6"/>
          <p:cNvSpPr/>
          <p:nvPr/>
        </p:nvSpPr>
        <p:spPr>
          <a:xfrm>
            <a:off x="7740720" y="551664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900000" y="602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8028000" y="836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8317080" y="5805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2124000" y="544500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7667640" y="177336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324000" y="476280"/>
            <a:ext cx="691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Уст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Найдите неизвестный уго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Oval 13"/>
          <p:cNvSpPr/>
          <p:nvPr/>
        </p:nvSpPr>
        <p:spPr>
          <a:xfrm>
            <a:off x="1332000" y="5950080"/>
            <a:ext cx="144360" cy="14292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Oval 14"/>
          <p:cNvSpPr/>
          <p:nvPr/>
        </p:nvSpPr>
        <p:spPr>
          <a:xfrm>
            <a:off x="8101080" y="1413000"/>
            <a:ext cx="142920" cy="14436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Oval 15"/>
          <p:cNvSpPr/>
          <p:nvPr/>
        </p:nvSpPr>
        <p:spPr>
          <a:xfrm>
            <a:off x="8101080" y="5805360"/>
            <a:ext cx="216000" cy="216000"/>
          </a:xfrm>
          <a:prstGeom prst="ellipse">
            <a:avLst/>
          </a:prstGeom>
          <a:solidFill>
            <a:srgbClr val="4e3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500"/>
                            </p:stCondLst>
                            <p:childTnLst>
                              <p:par>
                                <p:cTn id="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500"/>
                            </p:stCondLst>
                            <p:childTnLst>
                              <p:par>
                                <p:cTn id="4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77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770" fill="hold"/>
                                        <p:tgtEl>
                                          <p:spTgt spid="6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8:50:20Z</dcterms:created>
  <dc:creator>Admin</dc:creator>
  <dc:description/>
  <dc:language>en-US</dc:language>
  <cp:lastModifiedBy>asus</cp:lastModifiedBy>
  <dcterms:modified xsi:type="dcterms:W3CDTF">2009-11-30T08:29:55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