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3BB-84EC-4E2A-9338-739AFF6C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A62-D83F-4B09-B07B-7CC5D937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A385-2F2F-4E67-89CB-9A53216D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6339-3AD7-4181-BF51-6A65A1A0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01A-4F01-4FD8-8DA8-51BD550F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CBB-606D-45B4-9F82-BEFAF5FE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A4F5-4564-49E6-9CB1-605FAA77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8CD-6D9A-45DB-87C4-6BC80D90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5E6-DBD9-4BFD-8333-C42E7D38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2FF-A9E3-4A45-A57B-4E854B01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AAB-EF2B-41C5-923F-25745BC6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7ED-417B-4388-9462-148BCDEC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F99E-4650-4234-8C3E-4D534CDE79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втор проекта Винская Л. 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43000" y="457200"/>
            <a:ext cx="6629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математика в школе</a:t>
            </a:r>
            <a:endParaRPr b="1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143000" y="320040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ожение рациональных чисел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152280" y="2492280"/>
            <a:ext cx="8667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рганизационный момент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Проверка домашнего зада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Устная работ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Изучение нового материал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Закреплени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Итог урок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2124000" y="260280"/>
            <a:ext cx="489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 урока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971640" y="1052640"/>
            <a:ext cx="7345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чить умножать отрицательные числа и числа с разными знакам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работка практических навык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WordArt 9"/>
          <p:cNvSpPr txBox="1"/>
          <p:nvPr/>
        </p:nvSpPr>
        <p:spPr>
          <a:xfrm>
            <a:off x="3203640" y="2492280"/>
            <a:ext cx="2314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ан урока: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66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6600cc"/>
                </a:solidFill>
                <a:uFillTx/>
                <a:latin typeface="Times New Roman"/>
              </a:rPr>
              <a:t>№</a:t>
            </a:r>
            <a:r>
              <a:rPr b="1" i="1" lang="ru-RU" sz="3600" spc="-1" strike="noStrike" u="sng">
                <a:solidFill>
                  <a:srgbClr val="6600cc"/>
                </a:solidFill>
                <a:uFillTx/>
                <a:latin typeface="Times New Roman"/>
              </a:rPr>
              <a:t>11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4-(-13)-(-12)=24+13+12=4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33-16-(-11)=-33-16+11=3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4,3-5,4-2,6=-(4,3+5,4+2,6)=-12,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,7-(-2)-(-1,5)=4,7+2+1,5=8,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762120" y="380880"/>
            <a:ext cx="7772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верка домашнего задания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7720" y="228240"/>
            <a:ext cx="815364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Times New Roman"/>
              </a:rPr>
              <a:t>№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Times New Roman"/>
              </a:rPr>
              <a:t>11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Пусть Х кг гвоздей было во втором ящике,тогда в первом- 0,8Х кг, а в третьем-0,3Х кг гвоздей.По условию задачи в трёх   ящиках 21 кг гвозд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ляем уравне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+0,8Х+0,3Х=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,1Х=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=21:2,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=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,8Х=8,     0,3Х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:в первом ящике было 8 кг, во втором- 10 кг, а в третьем-3 кг гвозд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равни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а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3,5+2.9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3,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,9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8,7-0,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8,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0,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ычисли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а) 0,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       б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⅞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г) 1,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16,3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   е) 0,1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1,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       з) 2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¼·⅔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∕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127160" y="-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1295280" y="30492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07932" dir="18900000" blurRad="0" rotWithShape="0">
                    <a:srgbClr val="990000"/>
                  </a:outerShdw>
                </a:effectLst>
                <a:latin typeface="Impact"/>
              </a:rPr>
              <a:t>Устная работа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07932" dir="189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Чтобы перемножить два числа с разными знаками, надо перемножить модули этих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чисел и поставить перед полученным 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числом знак «-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1,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,3=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,3)=-0,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-0,3)=-(1,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,3)=-0,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Чтобы перемножить два отрицательных числа, надо перемножить их моду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3,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-9)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3,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·|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,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=28,8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оче -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-1,1)=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,1=8,8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1295280" y="228600"/>
            <a:ext cx="5838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учение нового    материала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38080" y="457200"/>
            <a:ext cx="7391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-457200" y="0"/>
            <a:ext cx="9601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WordArt 10"/>
          <p:cNvSpPr txBox="1"/>
          <p:nvPr/>
        </p:nvSpPr>
        <p:spPr>
          <a:xfrm>
            <a:off x="1676520" y="152280"/>
            <a:ext cx="5410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Закрепление </a:t>
            </a:r>
            <a:endParaRPr b="1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1447920" y="2438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2362320" y="1905120"/>
            <a:ext cx="6629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123( а-е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1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121(а-м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3" descr="AG00030_"/>
          <p:cNvPicPr/>
          <p:nvPr/>
        </p:nvPicPr>
        <p:blipFill>
          <a:blip r:embed="rId3"/>
          <a:stretch/>
        </p:blipFill>
        <p:spPr>
          <a:xfrm>
            <a:off x="6858000" y="4724280"/>
            <a:ext cx="14288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3"/>
          <p:cNvSpPr txBox="1"/>
          <p:nvPr/>
        </p:nvSpPr>
        <p:spPr>
          <a:xfrm>
            <a:off x="2286000" y="457200"/>
            <a:ext cx="4419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тог урок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57200" y="2362320"/>
            <a:ext cx="76201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перемножить два отрицательных числа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перемножить числа с разными знаками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ставление оценок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6"/>
          <p:cNvGraphicFramePr/>
          <p:nvPr/>
        </p:nvGraphicFramePr>
        <p:xfrm>
          <a:off x="7010280" y="4495680"/>
          <a:ext cx="1278000" cy="13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4495680"/>
                    <a:ext cx="127800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066680" y="30492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609480" y="152280"/>
            <a:ext cx="7772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омашнее задание: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124080" y="3429000"/>
            <a:ext cx="6019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. 3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14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14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14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5"/>
          <p:cNvGraphicFramePr/>
          <p:nvPr/>
        </p:nvGraphicFramePr>
        <p:xfrm>
          <a:off x="5715000" y="3276720"/>
          <a:ext cx="310356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276720"/>
                    <a:ext cx="31035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3:41:52Z</dcterms:created>
  <dc:creator>Ученик</dc:creator>
  <dc:description/>
  <dc:language>en-US</dc:language>
  <cp:lastModifiedBy>User</cp:lastModifiedBy>
  <dcterms:modified xsi:type="dcterms:W3CDTF">2008-03-19T07:17:17Z</dcterms:modified>
  <cp:revision>11</cp:revision>
  <dc:subject/>
  <dc:title>Презентация PowerPoint</dc:title>
</cp:coreProperties>
</file>