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179-BF15-4D06-A1AA-595A4149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0045-AAA0-4B66-88B7-5021092F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89E-1C0A-4FCF-9B5A-CEEEB092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873-C2F2-4EB1-8A05-DEE43C7F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66A8-CC58-48BC-B584-C2797958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6B83-3345-43A2-A7F9-5D2CB3FB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EADD-EB91-4E8D-9D24-CD321A0C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FF21-C03D-4F6D-89F1-8D65319D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85F0-C684-4846-B8CC-A8050092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1C92-CABA-4E6E-98F8-A089E347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61FB-0109-4F18-9FD0-FB562036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3D8-9DE5-4169-8B7D-F7BF5925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CE9B-363F-465F-B9FF-CB02F72F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124E-8C67-40EF-9A2E-90FFD0A2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6A56-D698-45EB-BBD8-340FB045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18B7-9373-43E4-915E-B15AA7F7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BCFB-2D6C-4C16-B1D5-6E8B1408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8A6-5AA8-463C-95C5-2579AC36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130-1998-41C9-80D7-1292F349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B83-9C39-4B8E-AB65-B98B8E88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46A-1711-423C-92C4-F626654D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229-777D-4DC3-8A6D-C98BDDE1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8AD-42B0-49EA-839E-8C05217D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7BF-C840-432F-8492-AAEA6FBB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4F34-9FA3-4CEF-9197-A9C5292493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40ED-6980-4858-8CC4-8766E44EA5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tuit.ru/" TargetMode="External"/><Relationship Id="rId3" Type="http://schemas.openxmlformats.org/officeDocument/2006/relationships/hyperlink" Target="http://www.geometr.info/" TargetMode="External"/><Relationship Id="rId4" Type="http://schemas.openxmlformats.org/officeDocument/2006/relationships/hyperlink" Target="http://www.krugosvet.ru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Тригонометрические функции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y=sin x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, 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y= cos 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360" y="3715920"/>
            <a:ext cx="39607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Урок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по алгебре и началам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в 10 кла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62373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Учитель математики Бутылин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350532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амостоятельная рабо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3980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ариант 1.                                                    Вариант 2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1.Найти градусную меру угла, выраженного в радианах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2.Найти координаты точки, полученной поворотом точки Р(1;0) на угол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3. Найти все углы (в радианах), на которые нужно повернуть точку Р(1;0), чтобы получить точку с координатами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) (0;-1)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б) (1;0)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) (-1;0)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б) (0;1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4. Вычислить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s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   б) 2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n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(-                           а)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s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   б) 2с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s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(-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5. Упростить выражение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4356000" y="2205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476360" y="2205000"/>
                <a:ext cx="295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П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627280" y="2205000"/>
                <a:ext cx="295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П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932360" y="2205000"/>
                <a:ext cx="333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П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084720" y="2205000"/>
                <a:ext cx="295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П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4356000" y="292428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708200" y="2924280"/>
                <a:ext cx="1206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П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П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781280" y="3429000"/>
                <a:ext cx="6350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754520" y="2924280"/>
                <a:ext cx="12034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П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П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859280" y="3357720"/>
                <a:ext cx="9270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П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4356000" y="4221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1763640" y="4869000"/>
                <a:ext cx="3430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П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132000" y="4797360"/>
                <a:ext cx="9352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4356000" y="4869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580000" y="4869000"/>
                <a:ext cx="3524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П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7020000" y="4797360"/>
                <a:ext cx="220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7308720" y="4797360"/>
                <a:ext cx="7812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4356000" y="5589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1627200" y="5589720"/>
                <a:ext cx="10634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724360" y="5661000"/>
                <a:ext cx="1079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403280" y="1916280"/>
            <a:ext cx="6264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350532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Координаты точек </a:t>
            </a:r>
            <a:br>
              <a:rPr sz="3400"/>
            </a:b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на единичной окружно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050920" y="1988640"/>
            <a:ext cx="5257800" cy="3745080"/>
            <a:chOff x="2050920" y="1988640"/>
            <a:chExt cx="5257800" cy="3745080"/>
          </a:xfrm>
        </p:grpSpPr>
        <p:sp>
          <p:nvSpPr>
            <p:cNvPr id="91" name=""/>
            <p:cNvSpPr/>
            <p:nvPr/>
          </p:nvSpPr>
          <p:spPr>
            <a:xfrm>
              <a:off x="2843280" y="2421000"/>
              <a:ext cx="3024000" cy="302400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356000" y="1988640"/>
              <a:ext cx="0" cy="374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0920" y="393372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356000" y="2565360"/>
            <a:ext cx="1511280" cy="1368360"/>
            <a:chOff x="4356000" y="2565360"/>
            <a:chExt cx="1511280" cy="1368360"/>
          </a:xfrm>
        </p:grpSpPr>
        <p:grpSp>
          <p:nvGrpSpPr>
            <p:cNvPr id="95" name=""/>
            <p:cNvGrpSpPr/>
            <p:nvPr/>
          </p:nvGrpSpPr>
          <p:grpSpPr>
            <a:xfrm>
              <a:off x="4356000" y="2565360"/>
              <a:ext cx="1511280" cy="1368360"/>
              <a:chOff x="4356000" y="2565360"/>
              <a:chExt cx="1511280" cy="136836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4356000" y="2781360"/>
                <a:ext cx="1152720" cy="1152360"/>
                <a:chOff x="4356000" y="2781360"/>
                <a:chExt cx="1152720" cy="11523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364000" y="2781360"/>
                  <a:ext cx="144720" cy="14292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435640" y="2924280"/>
                  <a:ext cx="0" cy="100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>
                  <a:off x="4356000" y="2852640"/>
                  <a:ext cx="100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5508720" y="256536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flipV="1">
              <a:off x="4356000" y="2852280"/>
              <a:ext cx="107964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284720" y="1989000"/>
            <a:ext cx="574560" cy="503280"/>
            <a:chOff x="4284720" y="1989000"/>
            <a:chExt cx="574560" cy="503280"/>
          </a:xfrm>
        </p:grpSpPr>
        <p:sp>
          <p:nvSpPr>
            <p:cNvPr id="103" name=""/>
            <p:cNvSpPr/>
            <p:nvPr/>
          </p:nvSpPr>
          <p:spPr>
            <a:xfrm>
              <a:off x="4284720" y="2349360"/>
              <a:ext cx="142920" cy="14292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00720" y="198900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700360" y="2637000"/>
            <a:ext cx="576360" cy="368280"/>
            <a:chOff x="2700360" y="2637000"/>
            <a:chExt cx="576360" cy="368280"/>
          </a:xfrm>
        </p:grpSpPr>
        <p:sp>
          <p:nvSpPr>
            <p:cNvPr id="106" name=""/>
            <p:cNvSpPr/>
            <p:nvPr/>
          </p:nvSpPr>
          <p:spPr>
            <a:xfrm>
              <a:off x="3132000" y="2852640"/>
              <a:ext cx="144720" cy="14472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00360" y="2637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484360" y="3645000"/>
            <a:ext cx="432000" cy="368280"/>
            <a:chOff x="2484360" y="3645000"/>
            <a:chExt cx="432000" cy="368280"/>
          </a:xfrm>
        </p:grpSpPr>
        <p:sp>
          <p:nvSpPr>
            <p:cNvPr id="109" name=""/>
            <p:cNvSpPr/>
            <p:nvPr/>
          </p:nvSpPr>
          <p:spPr>
            <a:xfrm>
              <a:off x="2771640" y="3860640"/>
              <a:ext cx="144720" cy="14472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84360" y="364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24360" y="4221000"/>
            <a:ext cx="503280" cy="368280"/>
            <a:chOff x="5724360" y="4221000"/>
            <a:chExt cx="503280" cy="368280"/>
          </a:xfrm>
        </p:grpSpPr>
        <p:sp>
          <p:nvSpPr>
            <p:cNvPr id="112" name=""/>
            <p:cNvSpPr/>
            <p:nvPr/>
          </p:nvSpPr>
          <p:spPr>
            <a:xfrm>
              <a:off x="5724360" y="4292640"/>
              <a:ext cx="144720" cy="14436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7280" y="4221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284720" y="5373720"/>
            <a:ext cx="501480" cy="368280"/>
            <a:chOff x="4284720" y="5373720"/>
            <a:chExt cx="501480" cy="368280"/>
          </a:xfrm>
        </p:grpSpPr>
        <p:sp>
          <p:nvSpPr>
            <p:cNvPr id="115" name=""/>
            <p:cNvSpPr/>
            <p:nvPr/>
          </p:nvSpPr>
          <p:spPr>
            <a:xfrm>
              <a:off x="4284720" y="5373720"/>
              <a:ext cx="144360" cy="14436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7640" y="537372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19640" y="2133720"/>
            <a:ext cx="360360" cy="503280"/>
            <a:chOff x="3419640" y="2133720"/>
            <a:chExt cx="360360" cy="503280"/>
          </a:xfrm>
        </p:grpSpPr>
        <p:sp>
          <p:nvSpPr>
            <p:cNvPr id="118" name=""/>
            <p:cNvSpPr/>
            <p:nvPr/>
          </p:nvSpPr>
          <p:spPr>
            <a:xfrm>
              <a:off x="3635280" y="2492280"/>
              <a:ext cx="144720" cy="14472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19640" y="213372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843280" y="4797360"/>
            <a:ext cx="433440" cy="512640"/>
            <a:chOff x="2843280" y="4797360"/>
            <a:chExt cx="433440" cy="512640"/>
          </a:xfrm>
        </p:grpSpPr>
        <p:sp>
          <p:nvSpPr>
            <p:cNvPr id="121" name=""/>
            <p:cNvSpPr/>
            <p:nvPr/>
          </p:nvSpPr>
          <p:spPr>
            <a:xfrm>
              <a:off x="3132000" y="4797360"/>
              <a:ext cx="144720" cy="14436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43280" y="4941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508720" y="17002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А(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cos 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α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, sin 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α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4824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Свойства функции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y=sin x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6985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пределена на всем множестве действительных чисел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∊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меет множеством значений отрезок [-1;1]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четна, поэтому ее график симметричен относительно начала координа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ериодична с наименьшим положительным периодом 2П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Функция возрастает на отрезке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-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],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убывает на отрезке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прерывна на множестве действительных чисел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284720" y="4292640"/>
            <a:ext cx="2216160" cy="682560"/>
            <a:chOff x="4284720" y="4292640"/>
            <a:chExt cx="2216160" cy="682560"/>
          </a:xfrm>
        </p:grpSpPr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4284720" y="4581360"/>
                  <a:ext cx="20304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П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6300720" y="4292640"/>
                  <a:ext cx="20016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П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5940360" y="4292640"/>
                  <a:ext cx="20016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П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4716360" y="4581360"/>
                  <a:ext cx="26676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П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5940360" y="404280"/>
            <a:ext cx="2952720" cy="2087640"/>
            <a:chOff x="5940360" y="404280"/>
            <a:chExt cx="2952720" cy="2087640"/>
          </a:xfrm>
        </p:grpSpPr>
        <p:grpSp>
          <p:nvGrpSpPr>
            <p:cNvPr id="134" name=""/>
            <p:cNvGrpSpPr/>
            <p:nvPr/>
          </p:nvGrpSpPr>
          <p:grpSpPr>
            <a:xfrm>
              <a:off x="5940360" y="404280"/>
              <a:ext cx="2952720" cy="2087640"/>
              <a:chOff x="5940360" y="404280"/>
              <a:chExt cx="2952720" cy="2087640"/>
            </a:xfrm>
          </p:grpSpPr>
          <p:sp>
            <p:nvSpPr>
              <p:cNvPr id="135" name=""/>
              <p:cNvSpPr/>
              <p:nvPr/>
            </p:nvSpPr>
            <p:spPr>
              <a:xfrm>
                <a:off x="6385320" y="645120"/>
                <a:ext cx="1698120" cy="1685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7234920" y="404280"/>
                <a:ext cx="0" cy="20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940360" y="1488600"/>
                <a:ext cx="2952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7451640" y="981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32720" y="981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24720" y="1628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32720" y="1628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66"/>
                </a:solidFill>
                <a:latin typeface="Verdana"/>
              </a:rPr>
              <a:t>Функция </a:t>
            </a: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y=sin 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973080" y="3224160"/>
            <a:ext cx="8040600" cy="1290600"/>
          </a:xfrm>
          <a:custGeom>
            <a:avLst/>
            <a:gdLst/>
            <a:ahLst/>
            <a:rect l="l" t="t" r="r" b="b"/>
            <a:pathLst>
              <a:path w="5065" h="813">
                <a:moveTo>
                  <a:pt x="0" y="602"/>
                </a:moveTo>
                <a:cubicBezTo>
                  <a:pt x="113" y="509"/>
                  <a:pt x="393" y="0"/>
                  <a:pt x="676" y="35"/>
                </a:cubicBezTo>
                <a:cubicBezTo>
                  <a:pt x="987" y="44"/>
                  <a:pt x="1403" y="813"/>
                  <a:pt x="1700" y="812"/>
                </a:cubicBezTo>
                <a:cubicBezTo>
                  <a:pt x="1997" y="811"/>
                  <a:pt x="2469" y="44"/>
                  <a:pt x="2761" y="44"/>
                </a:cubicBezTo>
                <a:cubicBezTo>
                  <a:pt x="3053" y="44"/>
                  <a:pt x="3488" y="803"/>
                  <a:pt x="3785" y="803"/>
                </a:cubicBezTo>
                <a:cubicBezTo>
                  <a:pt x="4082" y="803"/>
                  <a:pt x="4461" y="44"/>
                  <a:pt x="4699" y="44"/>
                </a:cubicBezTo>
                <a:cubicBezTo>
                  <a:pt x="4937" y="44"/>
                  <a:pt x="4989" y="218"/>
                  <a:pt x="5065" y="264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19640" y="4005360"/>
            <a:ext cx="2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26920" y="3284640"/>
            <a:ext cx="8317080" cy="1224000"/>
            <a:chOff x="826920" y="3284640"/>
            <a:chExt cx="8317080" cy="1224000"/>
          </a:xfrm>
        </p:grpSpPr>
        <p:sp>
          <p:nvSpPr>
            <p:cNvPr id="146" name=""/>
            <p:cNvSpPr/>
            <p:nvPr/>
          </p:nvSpPr>
          <p:spPr>
            <a:xfrm>
              <a:off x="900000" y="3284640"/>
              <a:ext cx="8244000" cy="0"/>
            </a:xfrm>
            <a:prstGeom prst="line">
              <a:avLst/>
            </a:prstGeom>
            <a:ln w="1908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6920" y="4508640"/>
              <a:ext cx="8066160" cy="0"/>
            </a:xfrm>
            <a:prstGeom prst="line">
              <a:avLst/>
            </a:prstGeom>
            <a:ln w="1908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187280" y="3860640"/>
            <a:ext cx="6624720" cy="73080"/>
            <a:chOff x="1187280" y="3860640"/>
            <a:chExt cx="6624720" cy="73080"/>
          </a:xfrm>
        </p:grpSpPr>
        <p:sp>
          <p:nvSpPr>
            <p:cNvPr id="149" name=""/>
            <p:cNvSpPr/>
            <p:nvPr/>
          </p:nvSpPr>
          <p:spPr>
            <a:xfrm>
              <a:off x="4500720" y="3860640"/>
              <a:ext cx="7128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84720" y="3860640"/>
              <a:ext cx="7164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71640" y="3860640"/>
              <a:ext cx="7164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40720" y="3860640"/>
              <a:ext cx="7128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87280" y="3860640"/>
              <a:ext cx="7164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979640" y="3284640"/>
            <a:ext cx="6551640" cy="73080"/>
            <a:chOff x="1979640" y="3284640"/>
            <a:chExt cx="6551640" cy="73080"/>
          </a:xfrm>
        </p:grpSpPr>
        <p:sp>
          <p:nvSpPr>
            <p:cNvPr id="155" name=""/>
            <p:cNvSpPr/>
            <p:nvPr/>
          </p:nvSpPr>
          <p:spPr>
            <a:xfrm>
              <a:off x="5292720" y="3284640"/>
              <a:ext cx="71280" cy="730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59640" y="3284640"/>
              <a:ext cx="71640" cy="730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79640" y="3284640"/>
              <a:ext cx="71280" cy="730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635280" y="4437000"/>
            <a:ext cx="3384720" cy="73080"/>
            <a:chOff x="3635280" y="4437000"/>
            <a:chExt cx="3384720" cy="73080"/>
          </a:xfrm>
        </p:grpSpPr>
        <p:sp>
          <p:nvSpPr>
            <p:cNvPr id="159" name=""/>
            <p:cNvSpPr/>
            <p:nvPr/>
          </p:nvSpPr>
          <p:spPr>
            <a:xfrm>
              <a:off x="3635280" y="4437000"/>
              <a:ext cx="71640" cy="73080"/>
            </a:xfrm>
            <a:prstGeom prst="flowChartConnector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48360" y="4437000"/>
              <a:ext cx="71640" cy="73080"/>
            </a:xfrm>
            <a:prstGeom prst="flowChartConnector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284720" y="306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1844640"/>
            <a:ext cx="9144000" cy="4063680"/>
            <a:chOff x="0" y="1844640"/>
            <a:chExt cx="9144000" cy="4063680"/>
          </a:xfrm>
        </p:grpSpPr>
        <p:grpSp>
          <p:nvGrpSpPr>
            <p:cNvPr id="169" name=""/>
            <p:cNvGrpSpPr/>
            <p:nvPr/>
          </p:nvGrpSpPr>
          <p:grpSpPr>
            <a:xfrm>
              <a:off x="826920" y="1906560"/>
              <a:ext cx="7417080" cy="3960720"/>
              <a:chOff x="826920" y="1906560"/>
              <a:chExt cx="7417080" cy="3960720"/>
            </a:xfrm>
          </p:grpSpPr>
          <p:sp>
            <p:nvSpPr>
              <p:cNvPr id="170" name=""/>
              <p:cNvSpPr/>
              <p:nvPr/>
            </p:nvSpPr>
            <p:spPr>
              <a:xfrm flipV="1">
                <a:off x="4500720" y="1906560"/>
                <a:ext cx="0" cy="396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26920" y="3850920"/>
                <a:ext cx="741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3490920" y="1844640"/>
                  <a:ext cx="2151000" cy="40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8028000" y="39956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40360" y="1906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40360" y="44989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40360" y="3924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5219640" y="3850920"/>
                  <a:ext cx="16200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6012000" y="3995640"/>
                  <a:ext cx="142560" cy="1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6804000" y="3850920"/>
                  <a:ext cx="23832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7740720" y="3924000"/>
                  <a:ext cx="228600" cy="1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3492360" y="3850920"/>
                  <a:ext cx="27648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2" name=""/>
            <p:cNvSpPr/>
            <p:nvPr/>
          </p:nvSpPr>
          <p:spPr>
            <a:xfrm>
              <a:off x="0" y="33480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2627280" y="3995640"/>
                  <a:ext cx="257040" cy="1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4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84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Постройте графики функций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y=sin x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+1,      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y=sin x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-3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y=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 -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in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973080" y="3224160"/>
            <a:ext cx="8040600" cy="1290600"/>
          </a:xfrm>
          <a:custGeom>
            <a:avLst/>
            <a:gdLst/>
            <a:ahLst/>
            <a:rect l="l" t="t" r="r" b="b"/>
            <a:pathLst>
              <a:path w="5065" h="813">
                <a:moveTo>
                  <a:pt x="0" y="602"/>
                </a:moveTo>
                <a:cubicBezTo>
                  <a:pt x="113" y="509"/>
                  <a:pt x="393" y="0"/>
                  <a:pt x="676" y="35"/>
                </a:cubicBezTo>
                <a:cubicBezTo>
                  <a:pt x="987" y="44"/>
                  <a:pt x="1403" y="813"/>
                  <a:pt x="1700" y="812"/>
                </a:cubicBezTo>
                <a:cubicBezTo>
                  <a:pt x="1997" y="811"/>
                  <a:pt x="2469" y="44"/>
                  <a:pt x="2761" y="44"/>
                </a:cubicBezTo>
                <a:cubicBezTo>
                  <a:pt x="3053" y="44"/>
                  <a:pt x="3488" y="803"/>
                  <a:pt x="3785" y="803"/>
                </a:cubicBezTo>
                <a:cubicBezTo>
                  <a:pt x="4082" y="803"/>
                  <a:pt x="4461" y="44"/>
                  <a:pt x="4699" y="44"/>
                </a:cubicBezTo>
                <a:cubicBezTo>
                  <a:pt x="4937" y="44"/>
                  <a:pt x="4989" y="218"/>
                  <a:pt x="5065" y="264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19640" y="4005360"/>
            <a:ext cx="2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26920" y="3284640"/>
            <a:ext cx="8317080" cy="1224000"/>
            <a:chOff x="826920" y="3284640"/>
            <a:chExt cx="8317080" cy="1224000"/>
          </a:xfrm>
        </p:grpSpPr>
        <p:sp>
          <p:nvSpPr>
            <p:cNvPr id="189" name=""/>
            <p:cNvSpPr/>
            <p:nvPr/>
          </p:nvSpPr>
          <p:spPr>
            <a:xfrm>
              <a:off x="900000" y="3284640"/>
              <a:ext cx="8244000" cy="0"/>
            </a:xfrm>
            <a:prstGeom prst="line">
              <a:avLst/>
            </a:prstGeom>
            <a:ln w="1908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6920" y="4508640"/>
              <a:ext cx="8066160" cy="0"/>
            </a:xfrm>
            <a:prstGeom prst="line">
              <a:avLst/>
            </a:prstGeom>
            <a:ln w="1908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87280" y="3860640"/>
            <a:ext cx="6624720" cy="73080"/>
            <a:chOff x="1187280" y="3860640"/>
            <a:chExt cx="6624720" cy="73080"/>
          </a:xfrm>
        </p:grpSpPr>
        <p:sp>
          <p:nvSpPr>
            <p:cNvPr id="192" name=""/>
            <p:cNvSpPr/>
            <p:nvPr/>
          </p:nvSpPr>
          <p:spPr>
            <a:xfrm>
              <a:off x="4500720" y="3860640"/>
              <a:ext cx="7128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84720" y="3860640"/>
              <a:ext cx="7164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71640" y="3860640"/>
              <a:ext cx="7164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40720" y="3860640"/>
              <a:ext cx="7128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87280" y="3860640"/>
              <a:ext cx="7164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979640" y="3284640"/>
            <a:ext cx="6551640" cy="73080"/>
            <a:chOff x="1979640" y="3284640"/>
            <a:chExt cx="6551640" cy="73080"/>
          </a:xfrm>
        </p:grpSpPr>
        <p:sp>
          <p:nvSpPr>
            <p:cNvPr id="198" name=""/>
            <p:cNvSpPr/>
            <p:nvPr/>
          </p:nvSpPr>
          <p:spPr>
            <a:xfrm>
              <a:off x="5292720" y="3284640"/>
              <a:ext cx="71280" cy="730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59640" y="3284640"/>
              <a:ext cx="71640" cy="730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79640" y="3284640"/>
              <a:ext cx="71280" cy="730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635280" y="4437000"/>
            <a:ext cx="3384720" cy="73080"/>
            <a:chOff x="3635280" y="4437000"/>
            <a:chExt cx="3384720" cy="73080"/>
          </a:xfrm>
        </p:grpSpPr>
        <p:sp>
          <p:nvSpPr>
            <p:cNvPr id="202" name=""/>
            <p:cNvSpPr/>
            <p:nvPr/>
          </p:nvSpPr>
          <p:spPr>
            <a:xfrm>
              <a:off x="3635280" y="4437000"/>
              <a:ext cx="71640" cy="73080"/>
            </a:xfrm>
            <a:prstGeom prst="flowChartConnector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48360" y="4437000"/>
              <a:ext cx="71640" cy="73080"/>
            </a:xfrm>
            <a:prstGeom prst="flowChartConnector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284720" y="306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9272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1844640"/>
            <a:ext cx="9144000" cy="4063680"/>
            <a:chOff x="0" y="1844640"/>
            <a:chExt cx="9144000" cy="4063680"/>
          </a:xfrm>
        </p:grpSpPr>
        <p:grpSp>
          <p:nvGrpSpPr>
            <p:cNvPr id="212" name=""/>
            <p:cNvGrpSpPr/>
            <p:nvPr/>
          </p:nvGrpSpPr>
          <p:grpSpPr>
            <a:xfrm>
              <a:off x="826920" y="1906560"/>
              <a:ext cx="7417080" cy="3960720"/>
              <a:chOff x="826920" y="1906560"/>
              <a:chExt cx="7417080" cy="396072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500720" y="1906560"/>
                <a:ext cx="0" cy="396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26920" y="3850920"/>
                <a:ext cx="741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490920" y="1844640"/>
                  <a:ext cx="2151000" cy="40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216" name=""/>
            <p:cNvSpPr/>
            <p:nvPr/>
          </p:nvSpPr>
          <p:spPr>
            <a:xfrm>
              <a:off x="8028000" y="39956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40360" y="1906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40360" y="44989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0360" y="3924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5219640" y="3850920"/>
                  <a:ext cx="16200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6012000" y="3995640"/>
                  <a:ext cx="142560" cy="1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6804000" y="3850920"/>
                  <a:ext cx="23832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7740720" y="3924000"/>
                  <a:ext cx="228600" cy="1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3492360" y="3850920"/>
                  <a:ext cx="27648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"/>
            <p:cNvSpPr/>
            <p:nvPr/>
          </p:nvSpPr>
          <p:spPr>
            <a:xfrm>
              <a:off x="0" y="33480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2627280" y="3995640"/>
                  <a:ext cx="257040" cy="1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Постройте графики функций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y=sin 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+  ),      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y=sin 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- 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y=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l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in x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973080" y="3224160"/>
            <a:ext cx="8040600" cy="1290600"/>
          </a:xfrm>
          <a:custGeom>
            <a:avLst/>
            <a:gdLst/>
            <a:ahLst/>
            <a:rect l="l" t="t" r="r" b="b"/>
            <a:pathLst>
              <a:path w="5065" h="813">
                <a:moveTo>
                  <a:pt x="0" y="602"/>
                </a:moveTo>
                <a:cubicBezTo>
                  <a:pt x="113" y="509"/>
                  <a:pt x="393" y="0"/>
                  <a:pt x="676" y="35"/>
                </a:cubicBezTo>
                <a:cubicBezTo>
                  <a:pt x="987" y="44"/>
                  <a:pt x="1403" y="813"/>
                  <a:pt x="1700" y="812"/>
                </a:cubicBezTo>
                <a:cubicBezTo>
                  <a:pt x="1997" y="811"/>
                  <a:pt x="2469" y="44"/>
                  <a:pt x="2761" y="44"/>
                </a:cubicBezTo>
                <a:cubicBezTo>
                  <a:pt x="3053" y="44"/>
                  <a:pt x="3488" y="803"/>
                  <a:pt x="3785" y="803"/>
                </a:cubicBezTo>
                <a:cubicBezTo>
                  <a:pt x="4082" y="803"/>
                  <a:pt x="4461" y="44"/>
                  <a:pt x="4699" y="44"/>
                </a:cubicBezTo>
                <a:cubicBezTo>
                  <a:pt x="4937" y="44"/>
                  <a:pt x="4989" y="218"/>
                  <a:pt x="5065" y="264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19640" y="4005360"/>
            <a:ext cx="2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826920" y="3284640"/>
            <a:ext cx="8317080" cy="1224000"/>
            <a:chOff x="826920" y="3284640"/>
            <a:chExt cx="8317080" cy="1224000"/>
          </a:xfrm>
        </p:grpSpPr>
        <p:sp>
          <p:nvSpPr>
            <p:cNvPr id="232" name=""/>
            <p:cNvSpPr/>
            <p:nvPr/>
          </p:nvSpPr>
          <p:spPr>
            <a:xfrm>
              <a:off x="900000" y="3284640"/>
              <a:ext cx="8244000" cy="0"/>
            </a:xfrm>
            <a:prstGeom prst="line">
              <a:avLst/>
            </a:prstGeom>
            <a:ln w="1908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26920" y="4508640"/>
              <a:ext cx="8066160" cy="0"/>
            </a:xfrm>
            <a:prstGeom prst="line">
              <a:avLst/>
            </a:prstGeom>
            <a:ln w="1908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187280" y="3860640"/>
            <a:ext cx="6624720" cy="73080"/>
            <a:chOff x="1187280" y="3860640"/>
            <a:chExt cx="6624720" cy="73080"/>
          </a:xfrm>
        </p:grpSpPr>
        <p:sp>
          <p:nvSpPr>
            <p:cNvPr id="235" name=""/>
            <p:cNvSpPr/>
            <p:nvPr/>
          </p:nvSpPr>
          <p:spPr>
            <a:xfrm>
              <a:off x="4500720" y="3860640"/>
              <a:ext cx="7128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84720" y="3860640"/>
              <a:ext cx="7164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71640" y="3860640"/>
              <a:ext cx="7164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40720" y="3860640"/>
              <a:ext cx="7128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87280" y="3860640"/>
              <a:ext cx="7164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979640" y="3284640"/>
            <a:ext cx="6551640" cy="73080"/>
            <a:chOff x="1979640" y="3284640"/>
            <a:chExt cx="6551640" cy="73080"/>
          </a:xfrm>
        </p:grpSpPr>
        <p:sp>
          <p:nvSpPr>
            <p:cNvPr id="241" name=""/>
            <p:cNvSpPr/>
            <p:nvPr/>
          </p:nvSpPr>
          <p:spPr>
            <a:xfrm>
              <a:off x="5292720" y="3284640"/>
              <a:ext cx="71280" cy="730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59640" y="3284640"/>
              <a:ext cx="71640" cy="730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79640" y="3284640"/>
              <a:ext cx="71280" cy="730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635280" y="4437000"/>
            <a:ext cx="3384720" cy="73080"/>
            <a:chOff x="3635280" y="4437000"/>
            <a:chExt cx="3384720" cy="73080"/>
          </a:xfrm>
        </p:grpSpPr>
        <p:sp>
          <p:nvSpPr>
            <p:cNvPr id="245" name=""/>
            <p:cNvSpPr/>
            <p:nvPr/>
          </p:nvSpPr>
          <p:spPr>
            <a:xfrm>
              <a:off x="3635280" y="4437000"/>
              <a:ext cx="71640" cy="73080"/>
            </a:xfrm>
            <a:prstGeom prst="flowChartConnector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48360" y="4437000"/>
              <a:ext cx="71640" cy="73080"/>
            </a:xfrm>
            <a:prstGeom prst="flowChartConnector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284720" y="306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9272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0" y="1844640"/>
            <a:ext cx="9144000" cy="4063680"/>
            <a:chOff x="0" y="1844640"/>
            <a:chExt cx="9144000" cy="4063680"/>
          </a:xfrm>
        </p:grpSpPr>
        <p:grpSp>
          <p:nvGrpSpPr>
            <p:cNvPr id="255" name=""/>
            <p:cNvGrpSpPr/>
            <p:nvPr/>
          </p:nvGrpSpPr>
          <p:grpSpPr>
            <a:xfrm>
              <a:off x="826920" y="1906560"/>
              <a:ext cx="7417080" cy="3960720"/>
              <a:chOff x="826920" y="1906560"/>
              <a:chExt cx="7417080" cy="3960720"/>
            </a:xfrm>
          </p:grpSpPr>
          <p:sp>
            <p:nvSpPr>
              <p:cNvPr id="256" name=""/>
              <p:cNvSpPr/>
              <p:nvPr/>
            </p:nvSpPr>
            <p:spPr>
              <a:xfrm flipV="1">
                <a:off x="4500720" y="1906560"/>
                <a:ext cx="0" cy="396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6920" y="3850920"/>
                <a:ext cx="741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3490920" y="1844640"/>
                  <a:ext cx="2151000" cy="40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259" name=""/>
            <p:cNvSpPr/>
            <p:nvPr/>
          </p:nvSpPr>
          <p:spPr>
            <a:xfrm>
              <a:off x="8028000" y="39956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40360" y="1906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40360" y="44989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40360" y="3924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5219640" y="3850920"/>
                  <a:ext cx="16200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6012000" y="3995640"/>
                  <a:ext cx="142560" cy="1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6804000" y="3850920"/>
                  <a:ext cx="23832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740720" y="3924000"/>
                  <a:ext cx="228600" cy="1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3492360" y="3850920"/>
                  <a:ext cx="27648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0" y="33480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2627280" y="3995640"/>
                  <a:ext cx="257040" cy="1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967200" y="765000"/>
                <a:ext cx="295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П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6877080" y="692280"/>
                <a:ext cx="331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66"/>
                </a:solidFill>
                <a:latin typeface="Verdana"/>
              </a:rPr>
              <a:t>Функция </a:t>
            </a: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y=sin x</a:t>
            </a:r>
            <a:r>
              <a:rPr b="0" lang="ru-RU" sz="3800" spc="-1" strike="noStrike">
                <a:solidFill>
                  <a:srgbClr val="003366"/>
                </a:solidFill>
                <a:latin typeface="Verdana"/>
              </a:rPr>
              <a:t> и </a:t>
            </a: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y=cos 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973080" y="3224160"/>
            <a:ext cx="8040600" cy="1290600"/>
          </a:xfrm>
          <a:custGeom>
            <a:avLst/>
            <a:gdLst/>
            <a:ahLst/>
            <a:rect l="l" t="t" r="r" b="b"/>
            <a:pathLst>
              <a:path w="5065" h="813">
                <a:moveTo>
                  <a:pt x="0" y="602"/>
                </a:moveTo>
                <a:cubicBezTo>
                  <a:pt x="113" y="509"/>
                  <a:pt x="393" y="0"/>
                  <a:pt x="676" y="35"/>
                </a:cubicBezTo>
                <a:cubicBezTo>
                  <a:pt x="987" y="44"/>
                  <a:pt x="1403" y="813"/>
                  <a:pt x="1700" y="812"/>
                </a:cubicBezTo>
                <a:cubicBezTo>
                  <a:pt x="1997" y="811"/>
                  <a:pt x="2469" y="44"/>
                  <a:pt x="2761" y="44"/>
                </a:cubicBezTo>
                <a:cubicBezTo>
                  <a:pt x="3053" y="44"/>
                  <a:pt x="3488" y="803"/>
                  <a:pt x="3785" y="803"/>
                </a:cubicBezTo>
                <a:cubicBezTo>
                  <a:pt x="4082" y="803"/>
                  <a:pt x="4461" y="44"/>
                  <a:pt x="4699" y="44"/>
                </a:cubicBezTo>
                <a:cubicBezTo>
                  <a:pt x="4937" y="44"/>
                  <a:pt x="4989" y="218"/>
                  <a:pt x="5065" y="264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19640" y="4005360"/>
            <a:ext cx="2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826920" y="3284640"/>
            <a:ext cx="8317080" cy="1224000"/>
            <a:chOff x="826920" y="3284640"/>
            <a:chExt cx="8317080" cy="1224000"/>
          </a:xfrm>
        </p:grpSpPr>
        <p:sp>
          <p:nvSpPr>
            <p:cNvPr id="279" name=""/>
            <p:cNvSpPr/>
            <p:nvPr/>
          </p:nvSpPr>
          <p:spPr>
            <a:xfrm>
              <a:off x="900000" y="3284640"/>
              <a:ext cx="8244000" cy="0"/>
            </a:xfrm>
            <a:prstGeom prst="line">
              <a:avLst/>
            </a:prstGeom>
            <a:ln w="1908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6920" y="4508640"/>
              <a:ext cx="8066160" cy="0"/>
            </a:xfrm>
            <a:prstGeom prst="line">
              <a:avLst/>
            </a:prstGeom>
            <a:ln w="1908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187280" y="3860640"/>
            <a:ext cx="6624720" cy="73080"/>
            <a:chOff x="1187280" y="3860640"/>
            <a:chExt cx="6624720" cy="73080"/>
          </a:xfrm>
        </p:grpSpPr>
        <p:sp>
          <p:nvSpPr>
            <p:cNvPr id="282" name=""/>
            <p:cNvSpPr/>
            <p:nvPr/>
          </p:nvSpPr>
          <p:spPr>
            <a:xfrm>
              <a:off x="4500720" y="3860640"/>
              <a:ext cx="7128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84720" y="3860640"/>
              <a:ext cx="7164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71640" y="3860640"/>
              <a:ext cx="7164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40720" y="3860640"/>
              <a:ext cx="7128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87280" y="3860640"/>
              <a:ext cx="7164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979640" y="3284640"/>
            <a:ext cx="6551640" cy="73080"/>
            <a:chOff x="1979640" y="3284640"/>
            <a:chExt cx="6551640" cy="73080"/>
          </a:xfrm>
        </p:grpSpPr>
        <p:sp>
          <p:nvSpPr>
            <p:cNvPr id="288" name=""/>
            <p:cNvSpPr/>
            <p:nvPr/>
          </p:nvSpPr>
          <p:spPr>
            <a:xfrm>
              <a:off x="5292720" y="3284640"/>
              <a:ext cx="71280" cy="730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459640" y="3284640"/>
              <a:ext cx="71640" cy="730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79640" y="3284640"/>
              <a:ext cx="71280" cy="730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3635280" y="4437000"/>
            <a:ext cx="3384720" cy="73080"/>
            <a:chOff x="3635280" y="4437000"/>
            <a:chExt cx="3384720" cy="73080"/>
          </a:xfrm>
        </p:grpSpPr>
        <p:sp>
          <p:nvSpPr>
            <p:cNvPr id="292" name=""/>
            <p:cNvSpPr/>
            <p:nvPr/>
          </p:nvSpPr>
          <p:spPr>
            <a:xfrm>
              <a:off x="3635280" y="4437000"/>
              <a:ext cx="71640" cy="73080"/>
            </a:xfrm>
            <a:prstGeom prst="flowChartConnector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48360" y="4437000"/>
              <a:ext cx="71640" cy="73080"/>
            </a:xfrm>
            <a:prstGeom prst="flowChartConnector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284720" y="306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9272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0" y="1844640"/>
            <a:ext cx="9144000" cy="4063680"/>
            <a:chOff x="0" y="1844640"/>
            <a:chExt cx="9144000" cy="4063680"/>
          </a:xfrm>
        </p:grpSpPr>
        <p:grpSp>
          <p:nvGrpSpPr>
            <p:cNvPr id="302" name=""/>
            <p:cNvGrpSpPr/>
            <p:nvPr/>
          </p:nvGrpSpPr>
          <p:grpSpPr>
            <a:xfrm>
              <a:off x="826920" y="1906560"/>
              <a:ext cx="7417080" cy="3960720"/>
              <a:chOff x="826920" y="1906560"/>
              <a:chExt cx="7417080" cy="396072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4500720" y="1906560"/>
                <a:ext cx="0" cy="396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26920" y="3850920"/>
                <a:ext cx="741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3490920" y="1844640"/>
                  <a:ext cx="2151000" cy="40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306" name=""/>
            <p:cNvSpPr/>
            <p:nvPr/>
          </p:nvSpPr>
          <p:spPr>
            <a:xfrm>
              <a:off x="8028000" y="39956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40360" y="1906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40360" y="44989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40360" y="3924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5219640" y="3850920"/>
                  <a:ext cx="16200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6012000" y="3995640"/>
                  <a:ext cx="142560" cy="1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6804000" y="3850920"/>
                  <a:ext cx="23832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7740720" y="3924000"/>
                  <a:ext cx="228600" cy="1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3492360" y="3850920"/>
                  <a:ext cx="27648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5" name=""/>
            <p:cNvSpPr/>
            <p:nvPr/>
          </p:nvSpPr>
          <p:spPr>
            <a:xfrm>
              <a:off x="0" y="33480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2627280" y="3995640"/>
                  <a:ext cx="257040" cy="1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7" name=""/>
          <p:cNvSpPr/>
          <p:nvPr/>
        </p:nvSpPr>
        <p:spPr>
          <a:xfrm>
            <a:off x="971640" y="3213000"/>
            <a:ext cx="8040600" cy="1290600"/>
          </a:xfrm>
          <a:custGeom>
            <a:avLst/>
            <a:gdLst/>
            <a:ahLst/>
            <a:rect l="l" t="t" r="r" b="b"/>
            <a:pathLst>
              <a:path w="5065" h="813">
                <a:moveTo>
                  <a:pt x="0" y="602"/>
                </a:moveTo>
                <a:cubicBezTo>
                  <a:pt x="113" y="509"/>
                  <a:pt x="393" y="0"/>
                  <a:pt x="676" y="35"/>
                </a:cubicBezTo>
                <a:cubicBezTo>
                  <a:pt x="987" y="44"/>
                  <a:pt x="1403" y="813"/>
                  <a:pt x="1700" y="812"/>
                </a:cubicBezTo>
                <a:cubicBezTo>
                  <a:pt x="1997" y="811"/>
                  <a:pt x="2469" y="44"/>
                  <a:pt x="2761" y="44"/>
                </a:cubicBezTo>
                <a:cubicBezTo>
                  <a:pt x="3053" y="44"/>
                  <a:pt x="3488" y="803"/>
                  <a:pt x="3785" y="803"/>
                </a:cubicBezTo>
                <a:cubicBezTo>
                  <a:pt x="4082" y="803"/>
                  <a:pt x="4461" y="44"/>
                  <a:pt x="4699" y="44"/>
                </a:cubicBezTo>
                <a:cubicBezTo>
                  <a:pt x="4937" y="44"/>
                  <a:pt x="4989" y="218"/>
                  <a:pt x="5065" y="264"/>
                </a:cubicBezTo>
              </a:path>
            </a:pathLst>
          </a:custGeom>
          <a:noFill/>
          <a:ln w="284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24360" y="1989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in 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( 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+x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=c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6588000" y="1989000"/>
                <a:ext cx="2001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42 0.00046 L -0.09965 0.00093 E">
                                      <p:cBhvr>
                                        <p:cTn id="252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66"/>
                </a:solidFill>
                <a:latin typeface="Verdana"/>
              </a:rPr>
              <a:t>Функция </a:t>
            </a: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y=cos 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973080" y="3224160"/>
            <a:ext cx="8040600" cy="1290600"/>
          </a:xfrm>
          <a:custGeom>
            <a:avLst/>
            <a:gdLst/>
            <a:ahLst/>
            <a:rect l="l" t="t" r="r" b="b"/>
            <a:pathLst>
              <a:path w="5065" h="813">
                <a:moveTo>
                  <a:pt x="0" y="602"/>
                </a:moveTo>
                <a:cubicBezTo>
                  <a:pt x="113" y="509"/>
                  <a:pt x="393" y="0"/>
                  <a:pt x="676" y="35"/>
                </a:cubicBezTo>
                <a:cubicBezTo>
                  <a:pt x="987" y="44"/>
                  <a:pt x="1403" y="813"/>
                  <a:pt x="1700" y="812"/>
                </a:cubicBezTo>
                <a:cubicBezTo>
                  <a:pt x="1997" y="811"/>
                  <a:pt x="2469" y="44"/>
                  <a:pt x="2761" y="44"/>
                </a:cubicBezTo>
                <a:cubicBezTo>
                  <a:pt x="3053" y="44"/>
                  <a:pt x="3488" y="803"/>
                  <a:pt x="3785" y="803"/>
                </a:cubicBezTo>
                <a:cubicBezTo>
                  <a:pt x="4082" y="803"/>
                  <a:pt x="4461" y="44"/>
                  <a:pt x="4699" y="44"/>
                </a:cubicBezTo>
                <a:cubicBezTo>
                  <a:pt x="4937" y="44"/>
                  <a:pt x="4989" y="218"/>
                  <a:pt x="5065" y="264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4005360"/>
            <a:ext cx="2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26920" y="3284640"/>
            <a:ext cx="8317080" cy="1224000"/>
            <a:chOff x="826920" y="3284640"/>
            <a:chExt cx="8317080" cy="1224000"/>
          </a:xfrm>
        </p:grpSpPr>
        <p:sp>
          <p:nvSpPr>
            <p:cNvPr id="325" name=""/>
            <p:cNvSpPr/>
            <p:nvPr/>
          </p:nvSpPr>
          <p:spPr>
            <a:xfrm>
              <a:off x="900000" y="3284640"/>
              <a:ext cx="8244000" cy="0"/>
            </a:xfrm>
            <a:prstGeom prst="line">
              <a:avLst/>
            </a:prstGeom>
            <a:ln w="1908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6920" y="4508640"/>
              <a:ext cx="8066160" cy="0"/>
            </a:xfrm>
            <a:prstGeom prst="line">
              <a:avLst/>
            </a:prstGeom>
            <a:ln w="1908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187280" y="3860640"/>
            <a:ext cx="6624720" cy="73080"/>
            <a:chOff x="1187280" y="3860640"/>
            <a:chExt cx="6624720" cy="73080"/>
          </a:xfrm>
        </p:grpSpPr>
        <p:sp>
          <p:nvSpPr>
            <p:cNvPr id="328" name=""/>
            <p:cNvSpPr/>
            <p:nvPr/>
          </p:nvSpPr>
          <p:spPr>
            <a:xfrm>
              <a:off x="4500720" y="3860640"/>
              <a:ext cx="7128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84720" y="3860640"/>
              <a:ext cx="7164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71640" y="3860640"/>
              <a:ext cx="7164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40720" y="3860640"/>
              <a:ext cx="7128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87280" y="3860640"/>
              <a:ext cx="71640" cy="7308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979640" y="3284640"/>
            <a:ext cx="6551640" cy="73080"/>
            <a:chOff x="1979640" y="3284640"/>
            <a:chExt cx="6551640" cy="73080"/>
          </a:xfrm>
        </p:grpSpPr>
        <p:sp>
          <p:nvSpPr>
            <p:cNvPr id="334" name=""/>
            <p:cNvSpPr/>
            <p:nvPr/>
          </p:nvSpPr>
          <p:spPr>
            <a:xfrm>
              <a:off x="5292720" y="3284640"/>
              <a:ext cx="71280" cy="730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459640" y="3284640"/>
              <a:ext cx="71640" cy="730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79640" y="3284640"/>
              <a:ext cx="71280" cy="730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635280" y="4437000"/>
            <a:ext cx="3384720" cy="73080"/>
            <a:chOff x="3635280" y="4437000"/>
            <a:chExt cx="3384720" cy="73080"/>
          </a:xfrm>
        </p:grpSpPr>
        <p:sp>
          <p:nvSpPr>
            <p:cNvPr id="338" name=""/>
            <p:cNvSpPr/>
            <p:nvPr/>
          </p:nvSpPr>
          <p:spPr>
            <a:xfrm>
              <a:off x="3635280" y="4437000"/>
              <a:ext cx="71640" cy="73080"/>
            </a:xfrm>
            <a:prstGeom prst="flowChartConnector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48360" y="4437000"/>
              <a:ext cx="71640" cy="73080"/>
            </a:xfrm>
            <a:prstGeom prst="flowChartConnector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284720" y="306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29272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826920" y="1916280"/>
            <a:ext cx="9144000" cy="4063680"/>
            <a:chOff x="826920" y="1916280"/>
            <a:chExt cx="9144000" cy="4063680"/>
          </a:xfrm>
        </p:grpSpPr>
        <p:grpSp>
          <p:nvGrpSpPr>
            <p:cNvPr id="348" name=""/>
            <p:cNvGrpSpPr/>
            <p:nvPr/>
          </p:nvGrpSpPr>
          <p:grpSpPr>
            <a:xfrm>
              <a:off x="1653840" y="1978200"/>
              <a:ext cx="7417080" cy="3960720"/>
              <a:chOff x="1653840" y="1978200"/>
              <a:chExt cx="7417080" cy="3960720"/>
            </a:xfrm>
          </p:grpSpPr>
          <p:sp>
            <p:nvSpPr>
              <p:cNvPr id="349" name=""/>
              <p:cNvSpPr/>
              <p:nvPr/>
            </p:nvSpPr>
            <p:spPr>
              <a:xfrm flipV="1">
                <a:off x="5327640" y="1978200"/>
                <a:ext cx="0" cy="396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653840" y="3922560"/>
                <a:ext cx="741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4317840" y="1916280"/>
                  <a:ext cx="2151000" cy="40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352" name=""/>
            <p:cNvSpPr/>
            <p:nvPr/>
          </p:nvSpPr>
          <p:spPr>
            <a:xfrm>
              <a:off x="8854920" y="406728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67280" y="1978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67280" y="45705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67280" y="3995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6046560" y="3922560"/>
                  <a:ext cx="16200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6838920" y="4067280"/>
                  <a:ext cx="142560" cy="1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7630920" y="3922560"/>
                  <a:ext cx="23832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8567640" y="3995640"/>
                  <a:ext cx="228600" cy="1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4319280" y="3922560"/>
                  <a:ext cx="27648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61" name=""/>
            <p:cNvSpPr/>
            <p:nvPr/>
          </p:nvSpPr>
          <p:spPr>
            <a:xfrm>
              <a:off x="826920" y="3419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3454200" y="4067280"/>
                  <a:ext cx="257040" cy="1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012000" y="177336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тройте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y=cos x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-2,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y=-lcos 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010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Ссылки в интернет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-science.sources.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.wikipedia.or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intuit.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geometr.inf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www.krugosvet.ru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игонометрические функции.истор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referat.ru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рия тригонометр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06:24:52Z</dcterms:created>
  <dc:creator>Елена Владимировна</dc:creator>
  <dc:description/>
  <dc:language>en-US</dc:language>
  <cp:lastModifiedBy>Бутылин Кирилл</cp:lastModifiedBy>
  <dcterms:modified xsi:type="dcterms:W3CDTF">2010-12-19T19:04:48Z</dcterms:modified>
  <cp:revision>19</cp:revision>
  <dc:subject/>
  <dc:title>Тригонометрические функции  y=sin x, y= cos x</dc:title>
</cp:coreProperties>
</file>