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D16E-4B1B-44DD-8B2F-9F27FD24C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95C4-F0B5-462C-998C-4D8DAD0A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nstant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6576-56D8-4433-822B-09C83387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6825-3C30-41B7-95F6-0D5F77AC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075D-E758-4716-B606-29F550B1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1CCD-030F-4D9E-94A9-A82120E7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8BBA-FF8C-49AF-A65B-FAA1BCA2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8CC0-10B0-4616-9E7D-895E3D88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3960-A282-4E01-A936-419E79D6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7067-7F5B-4B84-956D-769AEEF0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0CA5-7599-4859-A2C4-7C6FFE35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8DA2-CC79-462D-AA78-55D7E9B1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3D1A-4AAC-48BE-B8CD-C7511E3B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FBDB-381B-4E16-B1C1-9928B57C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E48B-893B-4A92-B7DC-C97811B1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9E1A-9F5E-400B-A6EA-309C72E97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27B3-0565-466B-9A5B-354EE16A7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1A15-A115-4C17-BC79-8A376CE3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0E5F-DD82-47EC-9B39-AC477009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93D1-0F6F-4589-8FEB-9ACE0194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8FFD-6B7A-4FBA-B3DD-70383D46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F2BD-58CD-4ADE-B086-600DC64F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8192-B73F-46A9-AEDC-0E733D2B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06E2-D826-4CD0-86E6-871649F8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9F5C-FC67-4052-A5DD-4708E328D0A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E6C6-DCCD-499A-9340-FE3935309E2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2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6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5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Constantia"/>
              </a:rPr>
              <a:t>Квадратичная функция</a:t>
            </a:r>
            <a:endParaRPr b="0" lang="en-US" sz="60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5A68-9AEA-44BD-AC4F-85030FBF9D0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1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nstantia"/>
              </a:rPr>
              <a:t>Положительные и отрицательные значения функции</a:t>
            </a:r>
            <a:endParaRPr b="0" lang="en-US" sz="4000" spc="-1" strike="noStrike">
              <a:solidFill>
                <a:srgbClr val="ffffcc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nstantia"/>
              </a:rPr>
              <a:t>Положительные</a:t>
            </a:r>
            <a:endParaRPr b="0" lang="en-US" sz="2800" spc="-1" strike="noStrike">
              <a:solidFill>
                <a:srgbClr val="eaeaea"/>
              </a:solidFill>
              <a:latin typeface="Constant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nstantia"/>
              </a:rPr>
              <a:t>(выше оси ох)</a:t>
            </a:r>
            <a:endParaRPr b="0" lang="en-US" sz="28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nstantia"/>
              </a:rPr>
              <a:t>Отрицательные</a:t>
            </a:r>
            <a:endParaRPr b="0" lang="en-US" sz="2800" spc="-1" strike="noStrike">
              <a:solidFill>
                <a:srgbClr val="eaeaea"/>
              </a:solidFill>
              <a:latin typeface="Constant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nstantia"/>
              </a:rPr>
              <a:t>(ниже оси ох)</a:t>
            </a:r>
            <a:endParaRPr b="0" lang="en-US" sz="28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2340000" y="4581360"/>
            <a:ext cx="324000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3" name="Line 9"/>
          <p:cNvSpPr/>
          <p:nvPr/>
        </p:nvSpPr>
        <p:spPr>
          <a:xfrm flipV="1">
            <a:off x="3780000" y="2852640"/>
            <a:ext cx="0" cy="36007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Freeform 10"/>
          <p:cNvSpPr/>
          <p:nvPr/>
        </p:nvSpPr>
        <p:spPr>
          <a:xfrm>
            <a:off x="3419640" y="2997360"/>
            <a:ext cx="360360" cy="1512720"/>
          </a:xfrm>
          <a:prstGeom prst="pie">
            <a:avLst/>
          </a:prstGeom>
          <a:solidFill>
            <a:srgbClr val="ff0066"/>
          </a:solidFill>
          <a:ln w="572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Freeform 11"/>
          <p:cNvSpPr/>
          <p:nvPr/>
        </p:nvSpPr>
        <p:spPr>
          <a:xfrm>
            <a:off x="3780000" y="4508640"/>
            <a:ext cx="936360" cy="874440"/>
          </a:xfrm>
          <a:prstGeom prst="pie">
            <a:avLst/>
          </a:pr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6" name="Freeform 12"/>
          <p:cNvSpPr/>
          <p:nvPr/>
        </p:nvSpPr>
        <p:spPr>
          <a:xfrm>
            <a:off x="4716360" y="2637000"/>
            <a:ext cx="503280" cy="1909440"/>
          </a:xfrm>
          <a:prstGeom prst="pie">
            <a:avLst/>
          </a:prstGeom>
          <a:noFill/>
          <a:ln w="572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Rectangle 13"/>
          <p:cNvSpPr/>
          <p:nvPr/>
        </p:nvSpPr>
        <p:spPr>
          <a:xfrm>
            <a:off x="5239440" y="45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х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3934800" y="270828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Rectangle 15"/>
          <p:cNvSpPr/>
          <p:nvPr/>
        </p:nvSpPr>
        <p:spPr>
          <a:xfrm>
            <a:off x="3470040" y="45133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4652640" y="4581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Rectangle 17"/>
          <p:cNvSpPr/>
          <p:nvPr/>
        </p:nvSpPr>
        <p:spPr>
          <a:xfrm>
            <a:off x="4004640" y="4581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4211640" y="4508640"/>
            <a:ext cx="0" cy="144360"/>
          </a:xfrm>
          <a:prstGeom prst="line">
            <a:avLst/>
          </a:prstGeom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AutoShape 19">
            <a:hlinkClick r:id="" action="ppaction://hlinkshowjump?jump=nextslide"/>
          </p:cNvPr>
          <p:cNvSpPr/>
          <p:nvPr/>
        </p:nvSpPr>
        <p:spPr>
          <a:xfrm>
            <a:off x="539640" y="5950080"/>
            <a:ext cx="1042920" cy="576000"/>
          </a:xfrm>
          <a:custGeom>
            <a:avLst/>
            <a:gdLst>
              <a:gd name="textAreaLeft" fmla="*/ 37080 w 1042920"/>
              <a:gd name="textAreaRight" fmla="*/ 1005840 w 1042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9099" h="21600">
                <a:moveTo>
                  <a:pt x="0" y="0"/>
                </a:moveTo>
                <a:lnTo>
                  <a:pt x="39099" y="0"/>
                </a:lnTo>
                <a:lnTo>
                  <a:pt x="39099" y="21600"/>
                </a:lnTo>
                <a:lnTo>
                  <a:pt x="0" y="21600"/>
                </a:lnTo>
                <a:close/>
              </a:path>
              <a:path fill="lightenLess" w="39099" h="21600">
                <a:moveTo>
                  <a:pt x="0" y="0"/>
                </a:moveTo>
                <a:lnTo>
                  <a:pt x="39099" y="0"/>
                </a:lnTo>
                <a:lnTo>
                  <a:pt x="37699" y="1400"/>
                </a:lnTo>
                <a:lnTo>
                  <a:pt x="1400" y="1400"/>
                </a:lnTo>
                <a:close/>
              </a:path>
              <a:path fill="darken" w="39099" h="21600">
                <a:moveTo>
                  <a:pt x="39099" y="0"/>
                </a:moveTo>
                <a:lnTo>
                  <a:pt x="39099" y="21600"/>
                </a:lnTo>
                <a:lnTo>
                  <a:pt x="37699" y="20200"/>
                </a:lnTo>
                <a:lnTo>
                  <a:pt x="37699" y="1400"/>
                </a:lnTo>
                <a:close/>
              </a:path>
              <a:path fill="darkenLess" w="39099" h="21600">
                <a:moveTo>
                  <a:pt x="39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99" y="20200"/>
                </a:lnTo>
                <a:close/>
              </a:path>
              <a:path fill="lighten" w="39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99" h="21600">
                <a:moveTo>
                  <a:pt x="12543" y="3794"/>
                </a:moveTo>
                <a:lnTo>
                  <a:pt x="26556" y="10800"/>
                </a:lnTo>
                <a:lnTo>
                  <a:pt x="12543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3419640" y="2997360"/>
            <a:ext cx="360360" cy="1584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" name="Line 21"/>
          <p:cNvSpPr/>
          <p:nvPr/>
        </p:nvSpPr>
        <p:spPr>
          <a:xfrm flipH="1">
            <a:off x="4716000" y="2852640"/>
            <a:ext cx="505080" cy="1728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Freeform 22"/>
          <p:cNvSpPr/>
          <p:nvPr/>
        </p:nvSpPr>
        <p:spPr>
          <a:xfrm>
            <a:off x="3780000" y="4508640"/>
            <a:ext cx="936360" cy="865080"/>
          </a:xfrm>
          <a:prstGeom prst="pie">
            <a:avLst/>
          </a:pr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AutoShape 23">
            <a:hlinkClick r:id="rId1" action="ppaction://hlinksldjump"/>
          </p:cNvPr>
          <p:cNvSpPr/>
          <p:nvPr/>
        </p:nvSpPr>
        <p:spPr>
          <a:xfrm>
            <a:off x="7164360" y="5805360"/>
            <a:ext cx="1042920" cy="611280"/>
          </a:xfrm>
          <a:custGeom>
            <a:avLst/>
            <a:gdLst>
              <a:gd name="textAreaLeft" fmla="*/ 39600 w 1042920"/>
              <a:gd name="textAreaRight" fmla="*/ 1003320 w 10429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36843" h="21600">
                <a:moveTo>
                  <a:pt x="0" y="0"/>
                </a:moveTo>
                <a:lnTo>
                  <a:pt x="36843" y="0"/>
                </a:lnTo>
                <a:lnTo>
                  <a:pt x="36843" y="21600"/>
                </a:lnTo>
                <a:lnTo>
                  <a:pt x="0" y="21600"/>
                </a:lnTo>
                <a:close/>
              </a:path>
              <a:path fill="lightenLess" w="36843" h="21600">
                <a:moveTo>
                  <a:pt x="0" y="0"/>
                </a:moveTo>
                <a:lnTo>
                  <a:pt x="36843" y="0"/>
                </a:lnTo>
                <a:lnTo>
                  <a:pt x="35443" y="1400"/>
                </a:lnTo>
                <a:lnTo>
                  <a:pt x="1400" y="1400"/>
                </a:lnTo>
                <a:close/>
              </a:path>
              <a:path fill="darken" w="36843" h="21600">
                <a:moveTo>
                  <a:pt x="36843" y="0"/>
                </a:moveTo>
                <a:lnTo>
                  <a:pt x="36843" y="21600"/>
                </a:lnTo>
                <a:lnTo>
                  <a:pt x="35443" y="20200"/>
                </a:lnTo>
                <a:lnTo>
                  <a:pt x="35443" y="1400"/>
                </a:lnTo>
                <a:close/>
              </a:path>
              <a:path fill="darkenLess" w="36843" h="21600">
                <a:moveTo>
                  <a:pt x="36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3" y="20200"/>
                </a:lnTo>
                <a:close/>
              </a:path>
              <a:path fill="lighten" w="36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3" h="21600">
                <a:moveTo>
                  <a:pt x="1842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6843" h="21600">
                <a:moveTo>
                  <a:pt x="19527" y="14281"/>
                </a:moveTo>
                <a:lnTo>
                  <a:pt x="19527" y="12323"/>
                </a:lnTo>
                <a:cubicBezTo>
                  <a:pt x="19527" y="11496"/>
                  <a:pt x="19858" y="10800"/>
                  <a:pt x="20458" y="10800"/>
                </a:cubicBezTo>
                <a:cubicBezTo>
                  <a:pt x="21590" y="10800"/>
                  <a:pt x="22486" y="9434"/>
                  <a:pt x="22486" y="7849"/>
                </a:cubicBezTo>
                <a:cubicBezTo>
                  <a:pt x="22486" y="5534"/>
                  <a:pt x="20632" y="3794"/>
                  <a:pt x="18422" y="3794"/>
                </a:cubicBezTo>
                <a:cubicBezTo>
                  <a:pt x="16211" y="3794"/>
                  <a:pt x="14540" y="5534"/>
                  <a:pt x="14540" y="7849"/>
                </a:cubicBezTo>
                <a:lnTo>
                  <a:pt x="16394" y="7849"/>
                </a:lnTo>
                <a:cubicBezTo>
                  <a:pt x="16394" y="6709"/>
                  <a:pt x="17316" y="5821"/>
                  <a:pt x="18422" y="5821"/>
                </a:cubicBezTo>
                <a:cubicBezTo>
                  <a:pt x="19527" y="5821"/>
                  <a:pt x="20458" y="6709"/>
                  <a:pt x="20458" y="7849"/>
                </a:cubicBezTo>
                <a:cubicBezTo>
                  <a:pt x="20458" y="8589"/>
                  <a:pt x="19988" y="9320"/>
                  <a:pt x="19527" y="9320"/>
                </a:cubicBezTo>
                <a:cubicBezTo>
                  <a:pt x="18422" y="9320"/>
                  <a:pt x="17316" y="10800"/>
                  <a:pt x="17316" y="12323"/>
                </a:cubicBezTo>
                <a:lnTo>
                  <a:pt x="17316" y="14281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8" name="Line 24"/>
          <p:cNvSpPr/>
          <p:nvPr/>
        </p:nvSpPr>
        <p:spPr>
          <a:xfrm>
            <a:off x="2340000" y="4581360"/>
            <a:ext cx="144000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Line 25"/>
          <p:cNvSpPr/>
          <p:nvPr/>
        </p:nvSpPr>
        <p:spPr>
          <a:xfrm>
            <a:off x="4716360" y="4581360"/>
            <a:ext cx="79236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Line 26"/>
          <p:cNvSpPr/>
          <p:nvPr/>
        </p:nvSpPr>
        <p:spPr>
          <a:xfrm>
            <a:off x="3780000" y="4581360"/>
            <a:ext cx="93636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" name="Номер слайда 2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1F8D-1CC5-4E42-AD32-3003441F277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92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192" fill="hold"/>
                                        <p:tgtEl>
                                          <p:spTgt spid="2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192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192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nstantia"/>
              </a:rPr>
              <a:t>Схема построения графика</a:t>
            </a:r>
            <a:endParaRPr b="0" lang="en-US" sz="4400" spc="-1" strike="noStrike">
              <a:solidFill>
                <a:srgbClr val="ffffcc"/>
              </a:solidFill>
              <a:latin typeface="Constant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Constantia"/>
                <a:hlinkClick r:id="rId1" action="ppaction://hlinksldjump"/>
              </a:rPr>
              <a:t>Определить направление «ветвей»</a:t>
            </a: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Constantia"/>
                <a:hlinkClick r:id="rId2" action="ppaction://hlinksldjump"/>
              </a:rPr>
              <a:t>Координаты вершины параболы</a:t>
            </a: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Constantia"/>
                <a:hlinkClick r:id="rId3" action="ppaction://hlinksldjump"/>
              </a:rPr>
              <a:t>Написать уравнение оси симметрии</a:t>
            </a: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Constantia"/>
                <a:hlinkClick r:id="rId4" action="ppaction://hlinksldjump"/>
              </a:rPr>
              <a:t>Найти нули функции</a:t>
            </a: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nstantia"/>
              </a:rPr>
              <a:t>Построить еще несколько точек</a:t>
            </a: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nstantia"/>
              </a:rPr>
              <a:t>Провести через полученные точки параболу</a:t>
            </a: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684360" y="6165720"/>
            <a:ext cx="1042920" cy="405000"/>
          </a:xfrm>
          <a:custGeom>
            <a:avLst/>
            <a:gdLst>
              <a:gd name="textAreaLeft" fmla="*/ 25920 w 1042920"/>
              <a:gd name="textAreaRight" fmla="*/ 1017000 w 104292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55592" h="21600">
                <a:moveTo>
                  <a:pt x="0" y="0"/>
                </a:moveTo>
                <a:lnTo>
                  <a:pt x="55592" y="0"/>
                </a:lnTo>
                <a:lnTo>
                  <a:pt x="55592" y="21600"/>
                </a:lnTo>
                <a:lnTo>
                  <a:pt x="0" y="21600"/>
                </a:lnTo>
                <a:close/>
              </a:path>
              <a:path fill="lightenLess" w="55592" h="21600">
                <a:moveTo>
                  <a:pt x="0" y="0"/>
                </a:moveTo>
                <a:lnTo>
                  <a:pt x="55592" y="0"/>
                </a:lnTo>
                <a:lnTo>
                  <a:pt x="54192" y="1400"/>
                </a:lnTo>
                <a:lnTo>
                  <a:pt x="1400" y="1400"/>
                </a:lnTo>
                <a:close/>
              </a:path>
              <a:path fill="darken" w="55592" h="21600">
                <a:moveTo>
                  <a:pt x="55592" y="0"/>
                </a:moveTo>
                <a:lnTo>
                  <a:pt x="55592" y="21600"/>
                </a:lnTo>
                <a:lnTo>
                  <a:pt x="54192" y="20200"/>
                </a:lnTo>
                <a:lnTo>
                  <a:pt x="54192" y="1400"/>
                </a:lnTo>
                <a:close/>
              </a:path>
              <a:path fill="darkenLess" w="55592" h="21600">
                <a:moveTo>
                  <a:pt x="5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92" y="20200"/>
                </a:lnTo>
                <a:close/>
              </a:path>
              <a:path fill="lighten" w="5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92" h="21600">
                <a:moveTo>
                  <a:pt x="20790" y="3794"/>
                </a:moveTo>
                <a:lnTo>
                  <a:pt x="34803" y="10800"/>
                </a:lnTo>
                <a:lnTo>
                  <a:pt x="20790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49AE-7E07-4BF3-96C1-80AEB4382DF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Constantia"/>
              </a:rPr>
              <a:t>Координаты вершины параболы</a:t>
            </a:r>
            <a:endParaRPr b="0" lang="en-US" sz="5100" spc="-1" strike="noStrike">
              <a:solidFill>
                <a:srgbClr val="ffffcc"/>
              </a:solidFill>
              <a:latin typeface="Constanti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-360" y="4088880"/>
            <a:ext cx="3141720" cy="10414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001920" y="4088880"/>
            <a:ext cx="3141720" cy="1041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9" name="Object 18"/>
              <p:cNvSpPr txBox="1"/>
              <p:nvPr/>
            </p:nvSpPr>
            <p:spPr>
              <a:xfrm>
                <a:off x="6227640" y="1052640"/>
                <a:ext cx="183996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Rectangle 19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213336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22"/>
              <p:cNvSpPr txBox="1"/>
              <p:nvPr/>
            </p:nvSpPr>
            <p:spPr>
              <a:xfrm>
                <a:off x="1476360" y="2565360"/>
                <a:ext cx="4738680" cy="15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в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у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AutoShape 23"/>
          <p:cNvSpPr/>
          <p:nvPr/>
        </p:nvSpPr>
        <p:spPr>
          <a:xfrm>
            <a:off x="395280" y="5950080"/>
            <a:ext cx="1042920" cy="576000"/>
          </a:xfrm>
          <a:custGeom>
            <a:avLst/>
            <a:gdLst>
              <a:gd name="textAreaLeft" fmla="*/ 37080 w 1042920"/>
              <a:gd name="textAreaRight" fmla="*/ 1005840 w 1042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9099" h="21600">
                <a:moveTo>
                  <a:pt x="0" y="0"/>
                </a:moveTo>
                <a:lnTo>
                  <a:pt x="39099" y="0"/>
                </a:lnTo>
                <a:lnTo>
                  <a:pt x="39099" y="21600"/>
                </a:lnTo>
                <a:lnTo>
                  <a:pt x="0" y="21600"/>
                </a:lnTo>
                <a:close/>
              </a:path>
              <a:path fill="lightenLess" w="39099" h="21600">
                <a:moveTo>
                  <a:pt x="0" y="0"/>
                </a:moveTo>
                <a:lnTo>
                  <a:pt x="39099" y="0"/>
                </a:lnTo>
                <a:lnTo>
                  <a:pt x="37699" y="1400"/>
                </a:lnTo>
                <a:lnTo>
                  <a:pt x="1400" y="1400"/>
                </a:lnTo>
                <a:close/>
              </a:path>
              <a:path fill="darken" w="39099" h="21600">
                <a:moveTo>
                  <a:pt x="39099" y="0"/>
                </a:moveTo>
                <a:lnTo>
                  <a:pt x="39099" y="21600"/>
                </a:lnTo>
                <a:lnTo>
                  <a:pt x="37699" y="20200"/>
                </a:lnTo>
                <a:lnTo>
                  <a:pt x="37699" y="1400"/>
                </a:lnTo>
                <a:close/>
              </a:path>
              <a:path fill="darkenLess" w="39099" h="21600">
                <a:moveTo>
                  <a:pt x="39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99" y="20200"/>
                </a:lnTo>
                <a:close/>
              </a:path>
              <a:path fill="lighten" w="39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99" h="21600">
                <a:moveTo>
                  <a:pt x="12543" y="3794"/>
                </a:moveTo>
                <a:lnTo>
                  <a:pt x="26556" y="10800"/>
                </a:lnTo>
                <a:lnTo>
                  <a:pt x="12543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AutoShape 24"/>
          <p:cNvSpPr/>
          <p:nvPr/>
        </p:nvSpPr>
        <p:spPr>
          <a:xfrm>
            <a:off x="7308720" y="5950080"/>
            <a:ext cx="1043280" cy="576000"/>
          </a:xfrm>
          <a:custGeom>
            <a:avLst/>
            <a:gdLst>
              <a:gd name="textAreaLeft" fmla="*/ 37080 w 1043280"/>
              <a:gd name="textAreaRight" fmla="*/ 1006200 w 1043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9112" h="21600">
                <a:moveTo>
                  <a:pt x="0" y="0"/>
                </a:moveTo>
                <a:lnTo>
                  <a:pt x="39112" y="0"/>
                </a:lnTo>
                <a:lnTo>
                  <a:pt x="39112" y="21600"/>
                </a:lnTo>
                <a:lnTo>
                  <a:pt x="0" y="21600"/>
                </a:lnTo>
                <a:close/>
              </a:path>
              <a:path fill="lightenLess" w="39112" h="21600">
                <a:moveTo>
                  <a:pt x="0" y="0"/>
                </a:moveTo>
                <a:lnTo>
                  <a:pt x="39112" y="0"/>
                </a:lnTo>
                <a:lnTo>
                  <a:pt x="37712" y="1400"/>
                </a:lnTo>
                <a:lnTo>
                  <a:pt x="1400" y="1400"/>
                </a:lnTo>
                <a:close/>
              </a:path>
              <a:path fill="darken" w="39112" h="21600">
                <a:moveTo>
                  <a:pt x="39112" y="0"/>
                </a:moveTo>
                <a:lnTo>
                  <a:pt x="39112" y="21600"/>
                </a:lnTo>
                <a:lnTo>
                  <a:pt x="37712" y="20200"/>
                </a:lnTo>
                <a:lnTo>
                  <a:pt x="37712" y="1400"/>
                </a:lnTo>
                <a:close/>
              </a:path>
              <a:path fill="darkenLess" w="39112" h="21600">
                <a:moveTo>
                  <a:pt x="391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12" y="20200"/>
                </a:lnTo>
                <a:close/>
              </a:path>
              <a:path fill="lighten" w="391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12" h="21600">
                <a:moveTo>
                  <a:pt x="1955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9112" h="21600">
                <a:moveTo>
                  <a:pt x="20661" y="14281"/>
                </a:moveTo>
                <a:lnTo>
                  <a:pt x="20661" y="12323"/>
                </a:lnTo>
                <a:cubicBezTo>
                  <a:pt x="20661" y="11496"/>
                  <a:pt x="20992" y="10800"/>
                  <a:pt x="21593" y="10800"/>
                </a:cubicBezTo>
                <a:cubicBezTo>
                  <a:pt x="22724" y="10800"/>
                  <a:pt x="23621" y="9434"/>
                  <a:pt x="23621" y="7849"/>
                </a:cubicBezTo>
                <a:cubicBezTo>
                  <a:pt x="23621" y="5534"/>
                  <a:pt x="21767" y="3794"/>
                  <a:pt x="19556" y="3794"/>
                </a:cubicBezTo>
                <a:cubicBezTo>
                  <a:pt x="17345" y="3794"/>
                  <a:pt x="15674" y="5534"/>
                  <a:pt x="15674" y="7849"/>
                </a:cubicBezTo>
                <a:lnTo>
                  <a:pt x="17528" y="7849"/>
                </a:lnTo>
                <a:cubicBezTo>
                  <a:pt x="17528" y="6709"/>
                  <a:pt x="18451" y="5821"/>
                  <a:pt x="19556" y="5821"/>
                </a:cubicBezTo>
                <a:cubicBezTo>
                  <a:pt x="20661" y="5821"/>
                  <a:pt x="21593" y="6709"/>
                  <a:pt x="21593" y="7849"/>
                </a:cubicBezTo>
                <a:cubicBezTo>
                  <a:pt x="21593" y="8589"/>
                  <a:pt x="21123" y="9320"/>
                  <a:pt x="20661" y="9320"/>
                </a:cubicBezTo>
                <a:cubicBezTo>
                  <a:pt x="19556" y="9320"/>
                  <a:pt x="18451" y="10800"/>
                  <a:pt x="18451" y="12323"/>
                </a:cubicBezTo>
                <a:lnTo>
                  <a:pt x="18451" y="14281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Номер слайда 10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EC22-A8E6-4B0E-B506-F743F3E4A1A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6" name="AutoShape 23"/>
          <p:cNvSpPr/>
          <p:nvPr/>
        </p:nvSpPr>
        <p:spPr>
          <a:xfrm>
            <a:off x="1643040" y="6000840"/>
            <a:ext cx="1042920" cy="576000"/>
          </a:xfrm>
          <a:custGeom>
            <a:avLst/>
            <a:gdLst>
              <a:gd name="textAreaLeft" fmla="*/ 37080 w 1042920"/>
              <a:gd name="textAreaRight" fmla="*/ 1005840 w 1042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9099" h="21600">
                <a:moveTo>
                  <a:pt x="0" y="0"/>
                </a:moveTo>
                <a:lnTo>
                  <a:pt x="39099" y="0"/>
                </a:lnTo>
                <a:lnTo>
                  <a:pt x="39099" y="21600"/>
                </a:lnTo>
                <a:lnTo>
                  <a:pt x="0" y="21600"/>
                </a:lnTo>
                <a:close/>
              </a:path>
              <a:path fill="lightenLess" w="39099" h="21600">
                <a:moveTo>
                  <a:pt x="0" y="0"/>
                </a:moveTo>
                <a:lnTo>
                  <a:pt x="39099" y="0"/>
                </a:lnTo>
                <a:lnTo>
                  <a:pt x="37699" y="1400"/>
                </a:lnTo>
                <a:lnTo>
                  <a:pt x="1400" y="1400"/>
                </a:lnTo>
                <a:close/>
              </a:path>
              <a:path fill="darken" w="39099" h="21600">
                <a:moveTo>
                  <a:pt x="39099" y="0"/>
                </a:moveTo>
                <a:lnTo>
                  <a:pt x="39099" y="21600"/>
                </a:lnTo>
                <a:lnTo>
                  <a:pt x="37699" y="20200"/>
                </a:lnTo>
                <a:lnTo>
                  <a:pt x="37699" y="1400"/>
                </a:lnTo>
                <a:close/>
              </a:path>
              <a:path fill="darkenLess" w="39099" h="21600">
                <a:moveTo>
                  <a:pt x="39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99" y="20200"/>
                </a:lnTo>
                <a:close/>
              </a:path>
              <a:path fill="lighten" w="39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99" h="21600">
                <a:moveTo>
                  <a:pt x="12543" y="3794"/>
                </a:moveTo>
                <a:lnTo>
                  <a:pt x="26556" y="10800"/>
                </a:lnTo>
                <a:lnTo>
                  <a:pt x="12543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nstantia"/>
            </a:endParaRPr>
          </a:p>
        </p:txBody>
      </p:sp>
      <p:grpSp>
        <p:nvGrpSpPr>
          <p:cNvPr id="258" name="Organization Chart 19"/>
          <p:cNvGrpSpPr/>
          <p:nvPr/>
        </p:nvGrpSpPr>
        <p:grpSpPr>
          <a:xfrm>
            <a:off x="468360" y="1557360"/>
            <a:ext cx="3389040" cy="4463280"/>
            <a:chOff x="468360" y="1557360"/>
            <a:chExt cx="3389040" cy="4463280"/>
          </a:xfrm>
        </p:grpSpPr>
        <p:cxnSp>
          <p:nvCxnSpPr>
            <p:cNvPr id="259" name="_s5124"/>
            <p:cNvCxnSpPr>
              <a:stCxn id="260" idx="1"/>
              <a:endCxn id="261" idx="2"/>
            </p:cNvCxnSpPr>
            <p:nvPr/>
          </p:nvCxnSpPr>
          <p:spPr>
            <a:xfrm rot="10800000">
              <a:off x="1143000" y="2364840"/>
              <a:ext cx="1362960" cy="325152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62" name="_s5125"/>
            <p:cNvCxnSpPr>
              <a:stCxn id="263" idx="1"/>
              <a:endCxn id="261" idx="2"/>
            </p:cNvCxnSpPr>
            <p:nvPr/>
          </p:nvCxnSpPr>
          <p:spPr>
            <a:xfrm rot="10800000">
              <a:off x="1143000" y="2365560"/>
              <a:ext cx="1362960" cy="203292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64" name="_s5126"/>
            <p:cNvCxnSpPr>
              <a:stCxn id="265" idx="1"/>
              <a:endCxn id="261" idx="2"/>
            </p:cNvCxnSpPr>
            <p:nvPr/>
          </p:nvCxnSpPr>
          <p:spPr>
            <a:xfrm rot="10800000">
              <a:off x="1143000" y="2364840"/>
              <a:ext cx="1362960" cy="814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261" name="_s5127"/>
            <p:cNvSpPr/>
            <p:nvPr/>
          </p:nvSpPr>
          <p:spPr>
            <a:xfrm>
              <a:off x="468360" y="1557360"/>
              <a:ext cx="1351080" cy="8082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aeaea"/>
                  </a:solidFill>
                  <a:latin typeface="Verdana"/>
                </a:rPr>
                <a:t>   </a:t>
              </a:r>
              <a:r>
                <a:rPr b="0" lang="en-US" sz="2700" spc="-1" strike="noStrike">
                  <a:solidFill>
                    <a:srgbClr val="eaeaea"/>
                  </a:solidFill>
                  <a:latin typeface="Verdana"/>
                </a:rPr>
                <a:t>а      0</a:t>
              </a:r>
              <a:r>
                <a:rPr b="0" lang="en-US" sz="21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5" name="_s5128"/>
            <p:cNvSpPr/>
            <p:nvPr/>
          </p:nvSpPr>
          <p:spPr>
            <a:xfrm>
              <a:off x="2506320" y="2775600"/>
              <a:ext cx="1351080" cy="8082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aeaea"/>
                  </a:solidFill>
                  <a:latin typeface="Verdana"/>
                </a:rPr>
                <a:t>Д      0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3" name="_s5129"/>
            <p:cNvSpPr/>
            <p:nvPr/>
          </p:nvSpPr>
          <p:spPr>
            <a:xfrm>
              <a:off x="2506320" y="3994200"/>
              <a:ext cx="1351080" cy="8082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aeaea"/>
                  </a:solidFill>
                  <a:latin typeface="Verdana"/>
                </a:rPr>
                <a:t>Д =0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60" name="_s5130"/>
            <p:cNvSpPr/>
            <p:nvPr/>
          </p:nvSpPr>
          <p:spPr>
            <a:xfrm>
              <a:off x="2506320" y="5212440"/>
              <a:ext cx="1351080" cy="80820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aeaea"/>
                  </a:solidFill>
                  <a:latin typeface="Verdana"/>
                </a:rPr>
                <a:t>Д      0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66" name="Line 27"/>
          <p:cNvSpPr/>
          <p:nvPr/>
        </p:nvSpPr>
        <p:spPr>
          <a:xfrm>
            <a:off x="1042920" y="1844640"/>
            <a:ext cx="216000" cy="144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7" name="Line 28"/>
          <p:cNvSpPr/>
          <p:nvPr/>
        </p:nvSpPr>
        <p:spPr>
          <a:xfrm flipH="1">
            <a:off x="1042920" y="1989000"/>
            <a:ext cx="216000" cy="144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8" name="Line 29"/>
          <p:cNvSpPr/>
          <p:nvPr/>
        </p:nvSpPr>
        <p:spPr>
          <a:xfrm>
            <a:off x="3143160" y="3000240"/>
            <a:ext cx="216000" cy="142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Line 30"/>
          <p:cNvSpPr/>
          <p:nvPr/>
        </p:nvSpPr>
        <p:spPr>
          <a:xfrm flipH="1">
            <a:off x="3142800" y="3143160"/>
            <a:ext cx="142920" cy="2160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Line 31"/>
          <p:cNvSpPr/>
          <p:nvPr/>
        </p:nvSpPr>
        <p:spPr>
          <a:xfrm flipH="1">
            <a:off x="3142800" y="5500800"/>
            <a:ext cx="142920" cy="144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1" name="Line 32"/>
          <p:cNvSpPr/>
          <p:nvPr/>
        </p:nvSpPr>
        <p:spPr>
          <a:xfrm>
            <a:off x="3143160" y="5643720"/>
            <a:ext cx="216000" cy="72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Line 54"/>
          <p:cNvSpPr/>
          <p:nvPr/>
        </p:nvSpPr>
        <p:spPr>
          <a:xfrm>
            <a:off x="4284720" y="4292640"/>
            <a:ext cx="431964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" name="Line 55"/>
          <p:cNvSpPr/>
          <p:nvPr/>
        </p:nvSpPr>
        <p:spPr>
          <a:xfrm flipV="1">
            <a:off x="6300720" y="1844640"/>
            <a:ext cx="0" cy="43927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4" name="Rectangle 56"/>
          <p:cNvSpPr/>
          <p:nvPr/>
        </p:nvSpPr>
        <p:spPr>
          <a:xfrm>
            <a:off x="8470440" y="43099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х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Rectangle 57"/>
          <p:cNvSpPr/>
          <p:nvPr/>
        </p:nvSpPr>
        <p:spPr>
          <a:xfrm>
            <a:off x="5946120" y="166860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6" name="Freeform 58"/>
          <p:cNvSpPr/>
          <p:nvPr/>
        </p:nvSpPr>
        <p:spPr>
          <a:xfrm>
            <a:off x="7164360" y="1052640"/>
            <a:ext cx="1441440" cy="3251160"/>
          </a:xfrm>
          <a:prstGeom prst="pie">
            <a:avLst/>
          </a:pr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7" name="AutoShape 59">
            <a:hlinkClick r:id="" action="ppaction://hlinkshowjump?jump=nextslide"/>
          </p:cNvPr>
          <p:cNvSpPr/>
          <p:nvPr/>
        </p:nvSpPr>
        <p:spPr>
          <a:xfrm>
            <a:off x="7596360" y="6093000"/>
            <a:ext cx="1042920" cy="475920"/>
          </a:xfrm>
          <a:custGeom>
            <a:avLst/>
            <a:gdLst>
              <a:gd name="textAreaLeft" fmla="*/ 30600 w 1042920"/>
              <a:gd name="textAreaRight" fmla="*/ 1012320 w 104292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47314" h="21600">
                <a:moveTo>
                  <a:pt x="0" y="0"/>
                </a:moveTo>
                <a:lnTo>
                  <a:pt x="47314" y="0"/>
                </a:lnTo>
                <a:lnTo>
                  <a:pt x="47314" y="21600"/>
                </a:lnTo>
                <a:lnTo>
                  <a:pt x="0" y="21600"/>
                </a:lnTo>
                <a:close/>
              </a:path>
              <a:path fill="lightenLess" w="47314" h="21600">
                <a:moveTo>
                  <a:pt x="0" y="0"/>
                </a:moveTo>
                <a:lnTo>
                  <a:pt x="47314" y="0"/>
                </a:lnTo>
                <a:lnTo>
                  <a:pt x="45914" y="1400"/>
                </a:lnTo>
                <a:lnTo>
                  <a:pt x="1400" y="1400"/>
                </a:lnTo>
                <a:close/>
              </a:path>
              <a:path fill="darken" w="47314" h="21600">
                <a:moveTo>
                  <a:pt x="47314" y="0"/>
                </a:moveTo>
                <a:lnTo>
                  <a:pt x="47314" y="21600"/>
                </a:lnTo>
                <a:lnTo>
                  <a:pt x="45914" y="20200"/>
                </a:lnTo>
                <a:lnTo>
                  <a:pt x="45914" y="1400"/>
                </a:lnTo>
                <a:close/>
              </a:path>
              <a:path fill="darkenLess" w="47314" h="21600">
                <a:moveTo>
                  <a:pt x="473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14" y="20200"/>
                </a:lnTo>
                <a:close/>
              </a:path>
              <a:path fill="lighten" w="473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14" h="21600">
                <a:moveTo>
                  <a:pt x="16651" y="3794"/>
                </a:moveTo>
                <a:lnTo>
                  <a:pt x="30664" y="10800"/>
                </a:lnTo>
                <a:lnTo>
                  <a:pt x="16651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Freeform 60"/>
          <p:cNvSpPr/>
          <p:nvPr/>
        </p:nvSpPr>
        <p:spPr>
          <a:xfrm>
            <a:off x="5219640" y="3284640"/>
            <a:ext cx="1297080" cy="316872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9" name="Freeform 61"/>
          <p:cNvSpPr/>
          <p:nvPr/>
        </p:nvSpPr>
        <p:spPr>
          <a:xfrm>
            <a:off x="4067280" y="1484280"/>
            <a:ext cx="1150920" cy="2462400"/>
          </a:xfrm>
          <a:prstGeom prst="pie">
            <a:avLst/>
          </a:prstGeom>
          <a:noFill/>
          <a:ln w="381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0" name="Rectangle 62"/>
          <p:cNvSpPr/>
          <p:nvPr/>
        </p:nvSpPr>
        <p:spPr>
          <a:xfrm>
            <a:off x="3811320" y="1639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Rectangle 63"/>
          <p:cNvSpPr/>
          <p:nvPr/>
        </p:nvSpPr>
        <p:spPr>
          <a:xfrm>
            <a:off x="5086080" y="4941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2" name="Rectangle 64"/>
          <p:cNvSpPr/>
          <p:nvPr/>
        </p:nvSpPr>
        <p:spPr>
          <a:xfrm>
            <a:off x="6990840" y="1857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3" name="Номер слайда 20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8FFD-F58A-430D-8D84-6B61417D77D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nstantia"/>
            </a:endParaRPr>
          </a:p>
        </p:txBody>
      </p:sp>
      <p:grpSp>
        <p:nvGrpSpPr>
          <p:cNvPr id="285" name="Organization Chart 7"/>
          <p:cNvGrpSpPr/>
          <p:nvPr/>
        </p:nvGrpSpPr>
        <p:grpSpPr>
          <a:xfrm>
            <a:off x="5219640" y="1589040"/>
            <a:ext cx="3420720" cy="4463280"/>
            <a:chOff x="5219640" y="1589040"/>
            <a:chExt cx="3420720" cy="4463280"/>
          </a:xfrm>
        </p:grpSpPr>
        <p:cxnSp>
          <p:nvCxnSpPr>
            <p:cNvPr id="286" name="_s6148"/>
            <p:cNvCxnSpPr>
              <a:stCxn id="287" idx="3"/>
              <a:endCxn id="288" idx="2"/>
            </p:cNvCxnSpPr>
            <p:nvPr/>
          </p:nvCxnSpPr>
          <p:spPr>
            <a:xfrm flipV="1">
              <a:off x="7272000" y="2399760"/>
              <a:ext cx="342720" cy="32468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89" name="_s6149"/>
            <p:cNvCxnSpPr>
              <a:stCxn id="290" idx="3"/>
              <a:endCxn id="288" idx="2"/>
            </p:cNvCxnSpPr>
            <p:nvPr/>
          </p:nvCxnSpPr>
          <p:spPr>
            <a:xfrm flipV="1">
              <a:off x="7272000" y="2400120"/>
              <a:ext cx="342720" cy="2029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291" name="_s6150"/>
            <p:cNvCxnSpPr>
              <a:stCxn id="292" idx="3"/>
              <a:endCxn id="288" idx="2"/>
            </p:cNvCxnSpPr>
            <p:nvPr/>
          </p:nvCxnSpPr>
          <p:spPr>
            <a:xfrm flipV="1">
              <a:off x="7272000" y="2400120"/>
              <a:ext cx="342720" cy="8121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288" name="_s6151"/>
            <p:cNvSpPr/>
            <p:nvPr/>
          </p:nvSpPr>
          <p:spPr>
            <a:xfrm>
              <a:off x="6588000" y="1589040"/>
              <a:ext cx="2052360" cy="8114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Verdana"/>
                </a:rPr>
                <a:t>а      0</a:t>
              </a: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2" name="_s6152"/>
            <p:cNvSpPr/>
            <p:nvPr/>
          </p:nvSpPr>
          <p:spPr>
            <a:xfrm>
              <a:off x="5219640" y="2806200"/>
              <a:ext cx="2052360" cy="8114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eaeaea"/>
                  </a:solidFill>
                  <a:latin typeface="Verdana"/>
                </a:rPr>
                <a:t>Д      0</a:t>
              </a:r>
              <a:endParaRPr b="0" lang="en-US" sz="17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90" name="_s6153"/>
            <p:cNvSpPr/>
            <p:nvPr/>
          </p:nvSpPr>
          <p:spPr>
            <a:xfrm>
              <a:off x="5219640" y="4023720"/>
              <a:ext cx="2052360" cy="8114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eaeaea"/>
                  </a:solidFill>
                  <a:latin typeface="Verdana"/>
                </a:rPr>
                <a:t>Д=0</a:t>
              </a:r>
              <a:endParaRPr b="0" lang="en-US" sz="17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87" name="_s6154"/>
            <p:cNvSpPr/>
            <p:nvPr/>
          </p:nvSpPr>
          <p:spPr>
            <a:xfrm>
              <a:off x="5219640" y="5240880"/>
              <a:ext cx="2052360" cy="8114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eaeaea"/>
                  </a:solidFill>
                  <a:latin typeface="Verdana"/>
                </a:rPr>
                <a:t>Д     0</a:t>
              </a:r>
              <a:endParaRPr b="0" lang="en-US" sz="17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93" name="Line 15"/>
          <p:cNvSpPr/>
          <p:nvPr/>
        </p:nvSpPr>
        <p:spPr>
          <a:xfrm>
            <a:off x="7524720" y="1989000"/>
            <a:ext cx="216000" cy="144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4" name="Line 16"/>
          <p:cNvSpPr/>
          <p:nvPr/>
        </p:nvSpPr>
        <p:spPr>
          <a:xfrm flipV="1">
            <a:off x="7524720" y="1916280"/>
            <a:ext cx="216000" cy="712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5" name="Line 17"/>
          <p:cNvSpPr/>
          <p:nvPr/>
        </p:nvSpPr>
        <p:spPr>
          <a:xfrm>
            <a:off x="6156360" y="3141720"/>
            <a:ext cx="144360" cy="142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Line 18"/>
          <p:cNvSpPr/>
          <p:nvPr/>
        </p:nvSpPr>
        <p:spPr>
          <a:xfrm flipH="1">
            <a:off x="6084360" y="3284640"/>
            <a:ext cx="217800" cy="73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7" name="Line 19"/>
          <p:cNvSpPr/>
          <p:nvPr/>
        </p:nvSpPr>
        <p:spPr>
          <a:xfrm flipH="1">
            <a:off x="6156360" y="5516640"/>
            <a:ext cx="216000" cy="144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8" name="Line 20"/>
          <p:cNvSpPr/>
          <p:nvPr/>
        </p:nvSpPr>
        <p:spPr>
          <a:xfrm>
            <a:off x="6156360" y="5661000"/>
            <a:ext cx="216000" cy="144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Line 21"/>
          <p:cNvSpPr/>
          <p:nvPr/>
        </p:nvSpPr>
        <p:spPr>
          <a:xfrm>
            <a:off x="539640" y="4076640"/>
            <a:ext cx="381636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0" name="Line 22"/>
          <p:cNvSpPr/>
          <p:nvPr/>
        </p:nvSpPr>
        <p:spPr>
          <a:xfrm flipV="1">
            <a:off x="2268360" y="1773360"/>
            <a:ext cx="0" cy="42480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1" name="Rectangle 23"/>
          <p:cNvSpPr/>
          <p:nvPr/>
        </p:nvSpPr>
        <p:spPr>
          <a:xfrm>
            <a:off x="4178520" y="4049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Х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Rectangle 24"/>
          <p:cNvSpPr/>
          <p:nvPr/>
        </p:nvSpPr>
        <p:spPr>
          <a:xfrm>
            <a:off x="1853640" y="153828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3" name="Freeform 25"/>
          <p:cNvSpPr/>
          <p:nvPr/>
        </p:nvSpPr>
        <p:spPr>
          <a:xfrm>
            <a:off x="900000" y="1700280"/>
            <a:ext cx="2232000" cy="297648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4" name="AutoShape 26"/>
          <p:cNvSpPr/>
          <p:nvPr/>
        </p:nvSpPr>
        <p:spPr>
          <a:xfrm>
            <a:off x="395280" y="5950080"/>
            <a:ext cx="1042920" cy="576000"/>
          </a:xfrm>
          <a:custGeom>
            <a:avLst/>
            <a:gdLst>
              <a:gd name="textAreaLeft" fmla="*/ 37080 w 1042920"/>
              <a:gd name="textAreaRight" fmla="*/ 1005840 w 1042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9099" h="21600">
                <a:moveTo>
                  <a:pt x="0" y="0"/>
                </a:moveTo>
                <a:lnTo>
                  <a:pt x="39099" y="0"/>
                </a:lnTo>
                <a:lnTo>
                  <a:pt x="39099" y="21600"/>
                </a:lnTo>
                <a:lnTo>
                  <a:pt x="0" y="21600"/>
                </a:lnTo>
                <a:close/>
              </a:path>
              <a:path fill="lightenLess" w="39099" h="21600">
                <a:moveTo>
                  <a:pt x="0" y="0"/>
                </a:moveTo>
                <a:lnTo>
                  <a:pt x="39099" y="0"/>
                </a:lnTo>
                <a:lnTo>
                  <a:pt x="37699" y="1400"/>
                </a:lnTo>
                <a:lnTo>
                  <a:pt x="1400" y="1400"/>
                </a:lnTo>
                <a:close/>
              </a:path>
              <a:path fill="darken" w="39099" h="21600">
                <a:moveTo>
                  <a:pt x="39099" y="0"/>
                </a:moveTo>
                <a:lnTo>
                  <a:pt x="39099" y="21600"/>
                </a:lnTo>
                <a:lnTo>
                  <a:pt x="37699" y="20200"/>
                </a:lnTo>
                <a:lnTo>
                  <a:pt x="37699" y="1400"/>
                </a:lnTo>
                <a:close/>
              </a:path>
              <a:path fill="darkenLess" w="39099" h="21600">
                <a:moveTo>
                  <a:pt x="39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99" y="20200"/>
                </a:lnTo>
                <a:close/>
              </a:path>
              <a:path fill="lighten" w="39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99" h="21600">
                <a:moveTo>
                  <a:pt x="12543" y="3794"/>
                </a:moveTo>
                <a:lnTo>
                  <a:pt x="26556" y="10800"/>
                </a:lnTo>
                <a:lnTo>
                  <a:pt x="12543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5" name="Freeform 27"/>
          <p:cNvSpPr/>
          <p:nvPr/>
        </p:nvSpPr>
        <p:spPr>
          <a:xfrm>
            <a:off x="826920" y="4076640"/>
            <a:ext cx="1081080" cy="1871640"/>
          </a:xfrm>
          <a:prstGeom prst="pie">
            <a:avLst/>
          </a:pr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6" name="Freeform 28"/>
          <p:cNvSpPr/>
          <p:nvPr/>
        </p:nvSpPr>
        <p:spPr>
          <a:xfrm>
            <a:off x="2916360" y="4365720"/>
            <a:ext cx="1081080" cy="2388960"/>
          </a:xfrm>
          <a:prstGeom prst="pie">
            <a:avLst/>
          </a:prstGeom>
          <a:noFill/>
          <a:ln w="381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7" name="Rectangle 29"/>
          <p:cNvSpPr/>
          <p:nvPr/>
        </p:nvSpPr>
        <p:spPr>
          <a:xfrm>
            <a:off x="1228320" y="2147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8" name="Rectangle 30"/>
          <p:cNvSpPr/>
          <p:nvPr/>
        </p:nvSpPr>
        <p:spPr>
          <a:xfrm>
            <a:off x="691560" y="5065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9" name="Rectangle 31"/>
          <p:cNvSpPr/>
          <p:nvPr/>
        </p:nvSpPr>
        <p:spPr>
          <a:xfrm>
            <a:off x="3943080" y="4978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0" name="Номер слайда 20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4E08-3AFC-42BF-839C-A59658C9D1F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nstantia"/>
              </a:rPr>
              <a:t>Найти нули функции</a:t>
            </a:r>
            <a:endParaRPr b="0" lang="en-US" sz="4400" spc="-1" strike="noStrike">
              <a:solidFill>
                <a:srgbClr val="ffffcc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6"/>
              <p:cNvSpPr txBox="1"/>
              <p:nvPr/>
            </p:nvSpPr>
            <p:spPr>
              <a:xfrm>
                <a:off x="1500120" y="1785960"/>
                <a:ext cx="5500800" cy="36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х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3" name=""/>
          <p:cNvSpPr txBox="1"/>
          <p:nvPr/>
        </p:nvSpPr>
        <p:spPr>
          <a:xfrm>
            <a:off x="2771280" y="6748560"/>
            <a:ext cx="4038840" cy="1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314" name="AutoShape 9"/>
          <p:cNvSpPr/>
          <p:nvPr/>
        </p:nvSpPr>
        <p:spPr>
          <a:xfrm>
            <a:off x="395280" y="6021360"/>
            <a:ext cx="1042920" cy="538200"/>
          </a:xfrm>
          <a:custGeom>
            <a:avLst/>
            <a:gdLst>
              <a:gd name="textAreaLeft" fmla="*/ 34560 w 1042920"/>
              <a:gd name="textAreaRight" fmla="*/ 1008360 w 10429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1843" h="21600">
                <a:moveTo>
                  <a:pt x="0" y="0"/>
                </a:moveTo>
                <a:lnTo>
                  <a:pt x="41843" y="0"/>
                </a:lnTo>
                <a:lnTo>
                  <a:pt x="41843" y="21600"/>
                </a:lnTo>
                <a:lnTo>
                  <a:pt x="0" y="21600"/>
                </a:lnTo>
                <a:close/>
              </a:path>
              <a:path fill="lightenLess" w="41843" h="21600">
                <a:moveTo>
                  <a:pt x="0" y="0"/>
                </a:moveTo>
                <a:lnTo>
                  <a:pt x="41843" y="0"/>
                </a:lnTo>
                <a:lnTo>
                  <a:pt x="40443" y="1400"/>
                </a:lnTo>
                <a:lnTo>
                  <a:pt x="1400" y="1400"/>
                </a:lnTo>
                <a:close/>
              </a:path>
              <a:path fill="darken" w="41843" h="21600">
                <a:moveTo>
                  <a:pt x="41843" y="0"/>
                </a:moveTo>
                <a:lnTo>
                  <a:pt x="41843" y="21600"/>
                </a:lnTo>
                <a:lnTo>
                  <a:pt x="40443" y="20200"/>
                </a:lnTo>
                <a:lnTo>
                  <a:pt x="40443" y="1400"/>
                </a:lnTo>
                <a:close/>
              </a:path>
              <a:path fill="darkenLess" w="41843" h="21600">
                <a:moveTo>
                  <a:pt x="41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43" y="20200"/>
                </a:lnTo>
                <a:close/>
              </a:path>
              <a:path fill="lighten" w="41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843" h="21600">
                <a:moveTo>
                  <a:pt x="13915" y="3794"/>
                </a:moveTo>
                <a:lnTo>
                  <a:pt x="27928" y="10800"/>
                </a:lnTo>
                <a:lnTo>
                  <a:pt x="13915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5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4314-D957-4629-9C1D-F9EEF13FC31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nstantia"/>
              </a:rPr>
              <a:t>Определить направление ветвей параболы</a:t>
            </a:r>
            <a:endParaRPr b="0" lang="en-US" sz="4000" spc="-1" strike="noStrike">
              <a:solidFill>
                <a:srgbClr val="ffffcc"/>
              </a:solidFill>
              <a:latin typeface="Constanti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57200" y="251892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18" name="Object 6"/>
              <p:cNvSpPr txBox="1"/>
              <p:nvPr/>
            </p:nvSpPr>
            <p:spPr>
              <a:xfrm>
                <a:off x="1643040" y="1989000"/>
                <a:ext cx="6143760" cy="379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9" name="AutoShape 9"/>
          <p:cNvSpPr/>
          <p:nvPr/>
        </p:nvSpPr>
        <p:spPr>
          <a:xfrm>
            <a:off x="611280" y="602136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776" h="21600">
                <a:moveTo>
                  <a:pt x="10382" y="3794"/>
                </a:moveTo>
                <a:lnTo>
                  <a:pt x="24394" y="10800"/>
                </a:lnTo>
                <a:lnTo>
                  <a:pt x="10382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0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35CF-EA0D-4E0D-AFBE-A668F82D228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nstantia"/>
              </a:rPr>
              <a:t>Указать промежутки возрастания и убывания функции</a:t>
            </a:r>
            <a:endParaRPr b="0" lang="en-US" sz="4000" spc="-1" strike="noStrike">
              <a:solidFill>
                <a:srgbClr val="ffffcc"/>
              </a:solidFill>
              <a:latin typeface="Constantia"/>
            </a:endParaRPr>
          </a:p>
        </p:txBody>
      </p:sp>
      <p:sp>
        <p:nvSpPr>
          <p:cNvPr id="322" name="Line 4"/>
          <p:cNvSpPr/>
          <p:nvPr/>
        </p:nvSpPr>
        <p:spPr>
          <a:xfrm>
            <a:off x="684360" y="4076640"/>
            <a:ext cx="324000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3" name="Line 5"/>
          <p:cNvSpPr/>
          <p:nvPr/>
        </p:nvSpPr>
        <p:spPr>
          <a:xfrm flipV="1">
            <a:off x="2195640" y="2276640"/>
            <a:ext cx="0" cy="367344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4" name="Line 6"/>
          <p:cNvSpPr/>
          <p:nvPr/>
        </p:nvSpPr>
        <p:spPr>
          <a:xfrm>
            <a:off x="4932360" y="4076640"/>
            <a:ext cx="345600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5" name="Line 7"/>
          <p:cNvSpPr/>
          <p:nvPr/>
        </p:nvSpPr>
        <p:spPr>
          <a:xfrm flipV="1">
            <a:off x="6732720" y="2204640"/>
            <a:ext cx="0" cy="374508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Rectangle 8"/>
          <p:cNvSpPr/>
          <p:nvPr/>
        </p:nvSpPr>
        <p:spPr>
          <a:xfrm>
            <a:off x="3695040" y="40575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х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7" name="Rectangle 9"/>
          <p:cNvSpPr/>
          <p:nvPr/>
        </p:nvSpPr>
        <p:spPr>
          <a:xfrm>
            <a:off x="8238600" y="40291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х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8" name="Rectangle 10"/>
          <p:cNvSpPr/>
          <p:nvPr/>
        </p:nvSpPr>
        <p:spPr>
          <a:xfrm>
            <a:off x="2353680" y="214308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9" name="Rectangle 11"/>
          <p:cNvSpPr/>
          <p:nvPr/>
        </p:nvSpPr>
        <p:spPr>
          <a:xfrm>
            <a:off x="6814440" y="213372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0" name="Rectangle 12"/>
          <p:cNvSpPr/>
          <p:nvPr/>
        </p:nvSpPr>
        <p:spPr>
          <a:xfrm>
            <a:off x="2277720" y="4076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1" name="Rectangle 13"/>
          <p:cNvSpPr/>
          <p:nvPr/>
        </p:nvSpPr>
        <p:spPr>
          <a:xfrm>
            <a:off x="6381360" y="364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2" name="Freeform 14"/>
          <p:cNvSpPr/>
          <p:nvPr/>
        </p:nvSpPr>
        <p:spPr>
          <a:xfrm>
            <a:off x="1187280" y="3141720"/>
            <a:ext cx="2737080" cy="2388960"/>
          </a:xfrm>
          <a:prstGeom prst="pie">
            <a:avLst/>
          </a:pr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3" name="Freeform 15"/>
          <p:cNvSpPr/>
          <p:nvPr/>
        </p:nvSpPr>
        <p:spPr>
          <a:xfrm>
            <a:off x="5148360" y="2637000"/>
            <a:ext cx="2160360" cy="283176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4" name="Rectangle 16"/>
          <p:cNvSpPr/>
          <p:nvPr/>
        </p:nvSpPr>
        <p:spPr>
          <a:xfrm>
            <a:off x="1427400" y="36450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-2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Rectangle 17"/>
          <p:cNvSpPr/>
          <p:nvPr/>
        </p:nvSpPr>
        <p:spPr>
          <a:xfrm>
            <a:off x="2420640" y="364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6" name="Rectangle 18"/>
          <p:cNvSpPr/>
          <p:nvPr/>
        </p:nvSpPr>
        <p:spPr>
          <a:xfrm>
            <a:off x="3141360" y="3645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7" name="Rectangle 19"/>
          <p:cNvSpPr/>
          <p:nvPr/>
        </p:nvSpPr>
        <p:spPr>
          <a:xfrm>
            <a:off x="5172480" y="4076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-6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6036120" y="4076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-2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9" name="Rectangle 21"/>
          <p:cNvSpPr/>
          <p:nvPr/>
        </p:nvSpPr>
        <p:spPr>
          <a:xfrm>
            <a:off x="6813000" y="4076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0" name="Line 22"/>
          <p:cNvSpPr/>
          <p:nvPr/>
        </p:nvSpPr>
        <p:spPr>
          <a:xfrm flipV="1">
            <a:off x="2556000" y="4005000"/>
            <a:ext cx="0" cy="144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1" name="Line 23"/>
          <p:cNvSpPr/>
          <p:nvPr/>
        </p:nvSpPr>
        <p:spPr>
          <a:xfrm>
            <a:off x="6156360" y="4005360"/>
            <a:ext cx="0" cy="144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2" name="AutoShape 24"/>
          <p:cNvSpPr/>
          <p:nvPr/>
        </p:nvSpPr>
        <p:spPr>
          <a:xfrm>
            <a:off x="611280" y="5950080"/>
            <a:ext cx="1042920" cy="476280"/>
          </a:xfrm>
          <a:custGeom>
            <a:avLst/>
            <a:gdLst>
              <a:gd name="textAreaLeft" fmla="*/ 30600 w 1042920"/>
              <a:gd name="textAreaRight" fmla="*/ 1012320 w 1042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7279" h="21600">
                <a:moveTo>
                  <a:pt x="0" y="0"/>
                </a:moveTo>
                <a:lnTo>
                  <a:pt x="47279" y="0"/>
                </a:lnTo>
                <a:lnTo>
                  <a:pt x="47279" y="21600"/>
                </a:lnTo>
                <a:lnTo>
                  <a:pt x="0" y="21600"/>
                </a:lnTo>
                <a:close/>
              </a:path>
              <a:path fill="lightenLess" w="47279" h="21600">
                <a:moveTo>
                  <a:pt x="0" y="0"/>
                </a:moveTo>
                <a:lnTo>
                  <a:pt x="47279" y="0"/>
                </a:lnTo>
                <a:lnTo>
                  <a:pt x="45879" y="1400"/>
                </a:lnTo>
                <a:lnTo>
                  <a:pt x="1400" y="1400"/>
                </a:lnTo>
                <a:close/>
              </a:path>
              <a:path fill="darken" w="47279" h="21600">
                <a:moveTo>
                  <a:pt x="47279" y="0"/>
                </a:moveTo>
                <a:lnTo>
                  <a:pt x="47279" y="21600"/>
                </a:lnTo>
                <a:lnTo>
                  <a:pt x="45879" y="20200"/>
                </a:lnTo>
                <a:lnTo>
                  <a:pt x="45879" y="1400"/>
                </a:lnTo>
                <a:close/>
              </a:path>
              <a:path fill="darkenLess" w="47279" h="21600">
                <a:moveTo>
                  <a:pt x="47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879" y="20200"/>
                </a:lnTo>
                <a:close/>
              </a:path>
              <a:path fill="lighten" w="47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279" h="21600">
                <a:moveTo>
                  <a:pt x="16633" y="3794"/>
                </a:moveTo>
                <a:lnTo>
                  <a:pt x="30646" y="10800"/>
                </a:lnTo>
                <a:lnTo>
                  <a:pt x="16633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3" name="Номер слайда 2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DA1C-FBA1-470A-9244-DD70A3AF6CD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5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nstantia"/>
              </a:rPr>
              <a:t>Указать промежутки, на которых функция принимает положительные и отрицательные значения</a:t>
            </a:r>
            <a:endParaRPr b="0" lang="en-US" sz="4000" spc="-1" strike="noStrike">
              <a:solidFill>
                <a:srgbClr val="ffffcc"/>
              </a:solidFill>
              <a:latin typeface="Constantia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755640" y="4581360"/>
            <a:ext cx="324000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4859280" y="4653000"/>
            <a:ext cx="338472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7" name="Line 6"/>
          <p:cNvSpPr/>
          <p:nvPr/>
        </p:nvSpPr>
        <p:spPr>
          <a:xfrm flipV="1">
            <a:off x="2124000" y="2997000"/>
            <a:ext cx="0" cy="287964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8" name="Line 7"/>
          <p:cNvSpPr/>
          <p:nvPr/>
        </p:nvSpPr>
        <p:spPr>
          <a:xfrm flipV="1">
            <a:off x="6659640" y="3068280"/>
            <a:ext cx="0" cy="302436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6320880" y="458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0" name="Rectangle 9"/>
          <p:cNvSpPr/>
          <p:nvPr/>
        </p:nvSpPr>
        <p:spPr>
          <a:xfrm>
            <a:off x="1734840" y="458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1" name="Rectangle 10"/>
          <p:cNvSpPr/>
          <p:nvPr/>
        </p:nvSpPr>
        <p:spPr>
          <a:xfrm>
            <a:off x="6177600" y="2924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1631520" y="285264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3794760" y="4572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х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4" name="Rectangle 13"/>
          <p:cNvSpPr/>
          <p:nvPr/>
        </p:nvSpPr>
        <p:spPr>
          <a:xfrm>
            <a:off x="8040960" y="4653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Х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5" name="Freeform 14"/>
          <p:cNvSpPr/>
          <p:nvPr/>
        </p:nvSpPr>
        <p:spPr>
          <a:xfrm>
            <a:off x="1403280" y="3716280"/>
            <a:ext cx="1440000" cy="1955880"/>
          </a:xfrm>
          <a:prstGeom prst="pie">
            <a:avLst/>
          </a:pr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6" name="Freeform 15"/>
          <p:cNvSpPr/>
          <p:nvPr/>
        </p:nvSpPr>
        <p:spPr>
          <a:xfrm>
            <a:off x="5003640" y="3141720"/>
            <a:ext cx="2232360" cy="245916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7" name="Rectangle 16"/>
          <p:cNvSpPr/>
          <p:nvPr/>
        </p:nvSpPr>
        <p:spPr>
          <a:xfrm>
            <a:off x="5820120" y="46530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-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8" name="Rectangle 17"/>
          <p:cNvSpPr/>
          <p:nvPr/>
        </p:nvSpPr>
        <p:spPr>
          <a:xfrm>
            <a:off x="5076720" y="465300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-6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9" name="Rectangle 18"/>
          <p:cNvSpPr/>
          <p:nvPr/>
        </p:nvSpPr>
        <p:spPr>
          <a:xfrm>
            <a:off x="2493360" y="4221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0" name="Rectangle 19"/>
          <p:cNvSpPr/>
          <p:nvPr/>
        </p:nvSpPr>
        <p:spPr>
          <a:xfrm>
            <a:off x="1283040" y="42210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-2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6012000" y="4508640"/>
            <a:ext cx="0" cy="215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2" name="AutoShape 21"/>
          <p:cNvSpPr/>
          <p:nvPr/>
        </p:nvSpPr>
        <p:spPr>
          <a:xfrm>
            <a:off x="539640" y="6021360"/>
            <a:ext cx="1042920" cy="576360"/>
          </a:xfrm>
          <a:custGeom>
            <a:avLst/>
            <a:gdLst>
              <a:gd name="textAreaLeft" fmla="*/ 37080 w 1042920"/>
              <a:gd name="textAreaRight" fmla="*/ 1005840 w 1042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9074" h="21600">
                <a:moveTo>
                  <a:pt x="0" y="0"/>
                </a:moveTo>
                <a:lnTo>
                  <a:pt x="39074" y="0"/>
                </a:lnTo>
                <a:lnTo>
                  <a:pt x="39074" y="21600"/>
                </a:lnTo>
                <a:lnTo>
                  <a:pt x="0" y="21600"/>
                </a:lnTo>
                <a:close/>
              </a:path>
              <a:path fill="lightenLess" w="39074" h="21600">
                <a:moveTo>
                  <a:pt x="0" y="0"/>
                </a:moveTo>
                <a:lnTo>
                  <a:pt x="39074" y="0"/>
                </a:lnTo>
                <a:lnTo>
                  <a:pt x="37674" y="1400"/>
                </a:lnTo>
                <a:lnTo>
                  <a:pt x="1400" y="1400"/>
                </a:lnTo>
                <a:close/>
              </a:path>
              <a:path fill="darken" w="39074" h="21600">
                <a:moveTo>
                  <a:pt x="39074" y="0"/>
                </a:moveTo>
                <a:lnTo>
                  <a:pt x="39074" y="21600"/>
                </a:lnTo>
                <a:lnTo>
                  <a:pt x="37674" y="20200"/>
                </a:lnTo>
                <a:lnTo>
                  <a:pt x="37674" y="1400"/>
                </a:lnTo>
                <a:close/>
              </a:path>
              <a:path fill="darkenLess" w="39074" h="21600">
                <a:moveTo>
                  <a:pt x="390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74" y="20200"/>
                </a:lnTo>
                <a:close/>
              </a:path>
              <a:path fill="lighten" w="390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74" h="21600">
                <a:moveTo>
                  <a:pt x="12531" y="3794"/>
                </a:moveTo>
                <a:lnTo>
                  <a:pt x="26544" y="10800"/>
                </a:lnTo>
                <a:lnTo>
                  <a:pt x="12531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3" name="Номер слайда 2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D20A-8E5B-4851-B607-2EA4F5DE95D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nstantia"/>
              </a:rPr>
              <a:t>Найти координаты вершины параболы</a:t>
            </a:r>
            <a:endParaRPr b="0" lang="en-US" sz="4000" spc="-1" strike="noStrike">
              <a:solidFill>
                <a:srgbClr val="ffffcc"/>
              </a:solidFill>
              <a:latin typeface="Constanti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457200" y="251892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66" name="Object 6"/>
              <p:cNvSpPr txBox="1"/>
              <p:nvPr/>
            </p:nvSpPr>
            <p:spPr>
              <a:xfrm>
                <a:off x="2000160" y="1928880"/>
                <a:ext cx="5500800" cy="31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7" name="AutoShape 8"/>
          <p:cNvSpPr/>
          <p:nvPr/>
        </p:nvSpPr>
        <p:spPr>
          <a:xfrm>
            <a:off x="684360" y="5805360"/>
            <a:ext cx="1042920" cy="64800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4757" h="21600">
                <a:moveTo>
                  <a:pt x="0" y="0"/>
                </a:moveTo>
                <a:lnTo>
                  <a:pt x="34757" y="0"/>
                </a:lnTo>
                <a:lnTo>
                  <a:pt x="34757" y="21600"/>
                </a:lnTo>
                <a:lnTo>
                  <a:pt x="0" y="21600"/>
                </a:lnTo>
                <a:close/>
              </a:path>
              <a:path fill="lightenLess" w="34757" h="21600">
                <a:moveTo>
                  <a:pt x="0" y="0"/>
                </a:moveTo>
                <a:lnTo>
                  <a:pt x="34757" y="0"/>
                </a:lnTo>
                <a:lnTo>
                  <a:pt x="33357" y="1400"/>
                </a:lnTo>
                <a:lnTo>
                  <a:pt x="1400" y="1400"/>
                </a:lnTo>
                <a:close/>
              </a:path>
              <a:path fill="darken" w="34757" h="21600">
                <a:moveTo>
                  <a:pt x="34757" y="0"/>
                </a:moveTo>
                <a:lnTo>
                  <a:pt x="34757" y="21600"/>
                </a:lnTo>
                <a:lnTo>
                  <a:pt x="33357" y="20200"/>
                </a:lnTo>
                <a:lnTo>
                  <a:pt x="33357" y="1400"/>
                </a:lnTo>
                <a:close/>
              </a:path>
              <a:path fill="darkenLess" w="34757" h="21600">
                <a:moveTo>
                  <a:pt x="34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57" y="20200"/>
                </a:lnTo>
                <a:close/>
              </a:path>
              <a:path fill="lighten" w="34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757" h="21600">
                <a:moveTo>
                  <a:pt x="10372" y="3794"/>
                </a:moveTo>
                <a:lnTo>
                  <a:pt x="24385" y="10800"/>
                </a:lnTo>
                <a:lnTo>
                  <a:pt x="10372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8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1E4C-CCBB-4DFC-BF78-28F951054C2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Constantia"/>
              </a:rPr>
              <a:t>определение</a:t>
            </a:r>
            <a:endParaRPr b="0" lang="en-US" sz="5700" spc="-1" strike="noStrike">
              <a:solidFill>
                <a:srgbClr val="ffffcc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26920" y="1699920"/>
            <a:ext cx="7632720" cy="4537080"/>
          </a:xfrm>
          <a:prstGeom prst="rect">
            <a:avLst/>
          </a:prstGeom>
          <a:noFill/>
          <a:ln w="38160">
            <a:solidFill>
              <a:srgbClr val="eaeaea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nstantia"/>
              </a:rPr>
              <a:t>Функция      </a:t>
            </a:r>
            <a:endParaRPr b="0" lang="en-US" sz="3600" spc="-1" strike="noStrike">
              <a:solidFill>
                <a:srgbClr val="eaeaea"/>
              </a:solidFill>
              <a:latin typeface="Constanti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nstantia"/>
              </a:rPr>
              <a:t>                  </a:t>
            </a:r>
            <a:endParaRPr b="0" lang="en-US" sz="3600" spc="-1" strike="noStrike">
              <a:solidFill>
                <a:srgbClr val="eaeaea"/>
              </a:solidFill>
              <a:latin typeface="Constanti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nstantia"/>
              </a:rPr>
              <a:t>а, в, с - заданные числа, а=0, х -действительная переменная, называется </a:t>
            </a:r>
            <a:r>
              <a:rPr b="0" lang="en-US" sz="3600" spc="-1" strike="noStrike">
                <a:solidFill>
                  <a:srgbClr val="ff0066"/>
                </a:solidFill>
                <a:latin typeface="Constantia"/>
              </a:rPr>
              <a:t>квадратичной функцией</a:t>
            </a:r>
            <a:endParaRPr b="0" lang="en-US" sz="3600" spc="-1" strike="noStrike">
              <a:solidFill>
                <a:srgbClr val="eaeaea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9"/>
              <p:cNvSpPr txBox="1"/>
              <p:nvPr/>
            </p:nvSpPr>
            <p:spPr>
              <a:xfrm>
                <a:off x="3348000" y="2276640"/>
                <a:ext cx="31687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вх</m:t>
                    </m:r>
                    <m:r>
                      <m:t xml:space="preserve">+</m:t>
                    </m:r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Line 11"/>
          <p:cNvSpPr/>
          <p:nvPr/>
        </p:nvSpPr>
        <p:spPr>
          <a:xfrm flipH="1" flipV="1">
            <a:off x="-572040" y="6357600"/>
            <a:ext cx="119160" cy="14292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AutoShape 13">
            <a:hlinkClick r:id="rId1" action="ppaction://hlinksldjump"/>
          </p:cNvPr>
          <p:cNvSpPr/>
          <p:nvPr/>
        </p:nvSpPr>
        <p:spPr>
          <a:xfrm>
            <a:off x="7451640" y="5950080"/>
            <a:ext cx="1042920" cy="610920"/>
          </a:xfrm>
          <a:custGeom>
            <a:avLst/>
            <a:gdLst>
              <a:gd name="textAreaLeft" fmla="*/ 39600 w 1042920"/>
              <a:gd name="textAreaRight" fmla="*/ 1003320 w 1042920"/>
              <a:gd name="textAreaTop" fmla="*/ 39600 h 610920"/>
              <a:gd name="textAreaBottom" fmla="*/ 571320 h 610920"/>
            </a:gdLst>
            <a:ahLst/>
            <a:rect l="textAreaLeft" t="textAreaTop" r="textAreaRight" b="textAreaBottom"/>
            <a:pathLst>
              <a:path w="36865" h="21600">
                <a:moveTo>
                  <a:pt x="0" y="0"/>
                </a:moveTo>
                <a:lnTo>
                  <a:pt x="36865" y="0"/>
                </a:lnTo>
                <a:lnTo>
                  <a:pt x="36865" y="21600"/>
                </a:lnTo>
                <a:lnTo>
                  <a:pt x="0" y="21600"/>
                </a:lnTo>
                <a:close/>
              </a:path>
              <a:path fill="lightenLess" w="36865" h="21600">
                <a:moveTo>
                  <a:pt x="0" y="0"/>
                </a:moveTo>
                <a:lnTo>
                  <a:pt x="36865" y="0"/>
                </a:lnTo>
                <a:lnTo>
                  <a:pt x="35465" y="1400"/>
                </a:lnTo>
                <a:lnTo>
                  <a:pt x="1400" y="1400"/>
                </a:lnTo>
                <a:close/>
              </a:path>
              <a:path fill="darken" w="36865" h="21600">
                <a:moveTo>
                  <a:pt x="36865" y="0"/>
                </a:moveTo>
                <a:lnTo>
                  <a:pt x="36865" y="21600"/>
                </a:lnTo>
                <a:lnTo>
                  <a:pt x="35465" y="20200"/>
                </a:lnTo>
                <a:lnTo>
                  <a:pt x="35465" y="1400"/>
                </a:lnTo>
                <a:close/>
              </a:path>
              <a:path fill="darkenLess" w="36865" h="21600">
                <a:moveTo>
                  <a:pt x="36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65" y="20200"/>
                </a:lnTo>
                <a:close/>
              </a:path>
              <a:path fill="lighten" w="36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65" h="21600">
                <a:moveTo>
                  <a:pt x="1843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6865" h="21600">
                <a:moveTo>
                  <a:pt x="19538" y="14281"/>
                </a:moveTo>
                <a:lnTo>
                  <a:pt x="19538" y="12323"/>
                </a:lnTo>
                <a:cubicBezTo>
                  <a:pt x="19538" y="11496"/>
                  <a:pt x="19869" y="10800"/>
                  <a:pt x="20469" y="10800"/>
                </a:cubicBezTo>
                <a:cubicBezTo>
                  <a:pt x="21601" y="10800"/>
                  <a:pt x="22497" y="9434"/>
                  <a:pt x="22497" y="7849"/>
                </a:cubicBezTo>
                <a:cubicBezTo>
                  <a:pt x="22497" y="5534"/>
                  <a:pt x="20643" y="3794"/>
                  <a:pt x="18433" y="3794"/>
                </a:cubicBezTo>
                <a:cubicBezTo>
                  <a:pt x="16222" y="3794"/>
                  <a:pt x="14551" y="5534"/>
                  <a:pt x="14551" y="7849"/>
                </a:cubicBezTo>
                <a:lnTo>
                  <a:pt x="16405" y="7849"/>
                </a:lnTo>
                <a:cubicBezTo>
                  <a:pt x="16405" y="6709"/>
                  <a:pt x="17327" y="5821"/>
                  <a:pt x="18433" y="5821"/>
                </a:cubicBezTo>
                <a:cubicBezTo>
                  <a:pt x="19538" y="5821"/>
                  <a:pt x="20469" y="6709"/>
                  <a:pt x="20469" y="7849"/>
                </a:cubicBezTo>
                <a:cubicBezTo>
                  <a:pt x="20469" y="8589"/>
                  <a:pt x="19999" y="9320"/>
                  <a:pt x="19538" y="9320"/>
                </a:cubicBezTo>
                <a:cubicBezTo>
                  <a:pt x="18433" y="9320"/>
                  <a:pt x="17327" y="10800"/>
                  <a:pt x="17327" y="12323"/>
                </a:cubicBezTo>
                <a:lnTo>
                  <a:pt x="17327" y="14281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Номер слайда 8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86DE-822E-4678-B3A4-927FBD0B593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nstantia"/>
              </a:rPr>
              <a:t>Построить график функции</a:t>
            </a:r>
            <a:endParaRPr b="0" lang="en-US" sz="4400" spc="-1" strike="noStrike">
              <a:solidFill>
                <a:srgbClr val="ffffcc"/>
              </a:solidFill>
              <a:latin typeface="Constantia"/>
            </a:endParaRPr>
          </a:p>
        </p:txBody>
      </p:sp>
      <p:sp>
        <p:nvSpPr>
          <p:cNvPr id="370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125F-DF68-4E5A-8519-14040A37DBD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6"/>
              <p:cNvSpPr txBox="1"/>
              <p:nvPr/>
            </p:nvSpPr>
            <p:spPr>
              <a:xfrm>
                <a:off x="2000160" y="1928880"/>
                <a:ext cx="5500800" cy="31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nstantia"/>
              </a:rPr>
              <a:t>Какие функции являются квадратичными?</a:t>
            </a:r>
            <a:endParaRPr b="0" lang="en-US" sz="4000" spc="-1" strike="noStrike">
              <a:solidFill>
                <a:srgbClr val="ffffcc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0"/>
              <p:cNvSpPr txBox="1"/>
              <p:nvPr/>
            </p:nvSpPr>
            <p:spPr>
              <a:xfrm>
                <a:off x="3059280" y="1844640"/>
                <a:ext cx="2881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24160" y="1599840"/>
            <a:ext cx="3284280" cy="2189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33400" y="3941280"/>
            <a:ext cx="3284640" cy="2189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-360" y="1833120"/>
            <a:ext cx="6095880" cy="4064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-360" y="1916280"/>
            <a:ext cx="6840360" cy="4063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5024160" y="3941280"/>
            <a:ext cx="3284280" cy="2189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9" name="Object 18"/>
              <p:cNvSpPr txBox="1"/>
              <p:nvPr/>
            </p:nvSpPr>
            <p:spPr>
              <a:xfrm>
                <a:off x="2987640" y="2924280"/>
                <a:ext cx="23763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Rectangle 19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20"/>
              <p:cNvSpPr txBox="1"/>
              <p:nvPr/>
            </p:nvSpPr>
            <p:spPr>
              <a:xfrm>
                <a:off x="3059280" y="3860640"/>
                <a:ext cx="280800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Rectangle 2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22"/>
              <p:cNvSpPr txBox="1"/>
              <p:nvPr/>
            </p:nvSpPr>
            <p:spPr>
              <a:xfrm>
                <a:off x="2987640" y="4653000"/>
                <a:ext cx="33130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Номер слайда 1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F1EC-65A2-4A64-AE73-064DB5AC351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nstantia"/>
              </a:rPr>
              <a:t>свойства</a:t>
            </a:r>
            <a:endParaRPr b="0" lang="en-US" sz="4400" spc="-1" strike="noStrike">
              <a:solidFill>
                <a:srgbClr val="ffffcc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Constantia"/>
                <a:hlinkClick r:id="rId1" action="ppaction://hlinksldjump"/>
              </a:rPr>
              <a:t>График</a:t>
            </a: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Constantia"/>
                <a:hlinkClick r:id="rId2" action="ppaction://hlinksldjump"/>
              </a:rPr>
              <a:t>Направление «ветвей»</a:t>
            </a: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Constantia"/>
                <a:hlinkClick r:id="rId3" action="ppaction://hlinksldjump"/>
              </a:rPr>
              <a:t>Ось симметрии</a:t>
            </a: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Constantia"/>
                <a:hlinkClick r:id="rId4" action="ppaction://hlinksldjump"/>
              </a:rPr>
              <a:t>Нули функции</a:t>
            </a: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Constantia"/>
                <a:hlinkClick r:id="rId5" action="ppaction://hlinksldjump"/>
              </a:rPr>
              <a:t>Возрастание, убывание функции</a:t>
            </a: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c85e"/>
                </a:solidFill>
                <a:uFillTx/>
                <a:latin typeface="Constantia"/>
                <a:hlinkClick r:id="rId6" action="ppaction://hlinksldjump"/>
              </a:rPr>
              <a:t>Положительные, отрицательные значения функции</a:t>
            </a: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137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DCA2-224B-42AB-955F-954F2CE1201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28400" y="357120"/>
            <a:ext cx="871524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nstantia"/>
              </a:rPr>
              <a:t>Графиком квадратичной функции является </a:t>
            </a:r>
            <a:r>
              <a:rPr b="0" lang="en-US" sz="3600" spc="-1" strike="noStrike">
                <a:solidFill>
                  <a:srgbClr val="ff0066"/>
                </a:solidFill>
                <a:latin typeface="Constantia"/>
              </a:rPr>
              <a:t>парабола</a:t>
            </a:r>
            <a:endParaRPr b="0" lang="en-US" sz="3600" spc="-1" strike="noStrike">
              <a:solidFill>
                <a:srgbClr val="eaeaea"/>
              </a:solidFill>
              <a:latin typeface="Constantia"/>
            </a:endParaRPr>
          </a:p>
        </p:txBody>
      </p:sp>
      <p:grpSp>
        <p:nvGrpSpPr>
          <p:cNvPr id="140" name="Organization Chart 12"/>
          <p:cNvGrpSpPr/>
          <p:nvPr/>
        </p:nvGrpSpPr>
        <p:grpSpPr>
          <a:xfrm>
            <a:off x="468360" y="1714680"/>
            <a:ext cx="8208360" cy="5024520"/>
            <a:chOff x="468360" y="1714680"/>
            <a:chExt cx="8208360" cy="5024520"/>
          </a:xfrm>
        </p:grpSpPr>
        <p:cxnSp>
          <p:nvCxnSpPr>
            <p:cNvPr id="141" name="_s3076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5506200" y="2789640"/>
              <a:ext cx="1005480" cy="2873520"/>
            </a:xfrm>
            <a:prstGeom prst="bentConnector3">
              <a:avLst>
                <a:gd name="adj1" fmla="val 12786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4" name="_s3077"/>
            <p:cNvCxnSpPr>
              <a:stCxn id="145" idx="0"/>
              <a:endCxn id="143" idx="2"/>
            </p:cNvCxnSpPr>
            <p:nvPr/>
          </p:nvCxnSpPr>
          <p:spPr>
            <a:xfrm flipV="1">
              <a:off x="4572720" y="3723840"/>
              <a:ext cx="3600" cy="10054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146" name="_s3078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2633400" y="2790000"/>
              <a:ext cx="1005480" cy="2873520"/>
            </a:xfrm>
            <a:prstGeom prst="bentConnector3">
              <a:avLst>
                <a:gd name="adj1" fmla="val 12786"/>
              </a:avLst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143" name="_s3079"/>
            <p:cNvSpPr/>
            <p:nvPr/>
          </p:nvSpPr>
          <p:spPr>
            <a:xfrm>
              <a:off x="3341160" y="1714680"/>
              <a:ext cx="2462400" cy="200988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eaeaea"/>
                  </a:solidFill>
                  <a:latin typeface="Verdana"/>
                </a:rPr>
                <a:t>парабола</a:t>
              </a:r>
              <a:endParaRPr b="0" lang="en-US" sz="21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7" name="_s3080"/>
            <p:cNvSpPr/>
            <p:nvPr/>
          </p:nvSpPr>
          <p:spPr>
            <a:xfrm>
              <a:off x="468360" y="4729320"/>
              <a:ext cx="2462400" cy="200988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5" name="_s3081"/>
            <p:cNvSpPr/>
            <p:nvPr/>
          </p:nvSpPr>
          <p:spPr>
            <a:xfrm>
              <a:off x="3341160" y="4729320"/>
              <a:ext cx="2462400" cy="200988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2" name="_s3082"/>
            <p:cNvSpPr/>
            <p:nvPr/>
          </p:nvSpPr>
          <p:spPr>
            <a:xfrm>
              <a:off x="6214320" y="4729320"/>
              <a:ext cx="2462400" cy="200988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48" name="Line 20"/>
          <p:cNvSpPr/>
          <p:nvPr/>
        </p:nvSpPr>
        <p:spPr>
          <a:xfrm>
            <a:off x="684360" y="6165720"/>
            <a:ext cx="194292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" name="Line 21"/>
          <p:cNvSpPr/>
          <p:nvPr/>
        </p:nvSpPr>
        <p:spPr>
          <a:xfrm flipV="1">
            <a:off x="1547640" y="5157720"/>
            <a:ext cx="0" cy="14400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Freeform 22"/>
          <p:cNvSpPr/>
          <p:nvPr/>
        </p:nvSpPr>
        <p:spPr>
          <a:xfrm>
            <a:off x="971640" y="5445000"/>
            <a:ext cx="792000" cy="1008360"/>
          </a:xfrm>
          <a:prstGeom prst="pie">
            <a:avLst/>
          </a:prstGeom>
          <a:noFill/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3564000" y="5805360"/>
            <a:ext cx="208764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Line 24"/>
          <p:cNvSpPr/>
          <p:nvPr/>
        </p:nvSpPr>
        <p:spPr>
          <a:xfrm flipV="1">
            <a:off x="4500720" y="5084640"/>
            <a:ext cx="0" cy="151128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Freeform 25"/>
          <p:cNvSpPr/>
          <p:nvPr/>
        </p:nvSpPr>
        <p:spPr>
          <a:xfrm>
            <a:off x="4067280" y="4941720"/>
            <a:ext cx="865080" cy="876600"/>
          </a:xfrm>
          <a:prstGeom prst="pie">
            <a:avLst/>
          </a:prstGeom>
          <a:noFill/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6372360" y="5877000"/>
            <a:ext cx="194472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Line 27"/>
          <p:cNvSpPr/>
          <p:nvPr/>
        </p:nvSpPr>
        <p:spPr>
          <a:xfrm flipV="1">
            <a:off x="7380360" y="5013000"/>
            <a:ext cx="0" cy="158436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Freeform 28"/>
          <p:cNvSpPr/>
          <p:nvPr/>
        </p:nvSpPr>
        <p:spPr>
          <a:xfrm>
            <a:off x="7380360" y="5445000"/>
            <a:ext cx="504720" cy="1165320"/>
          </a:xfrm>
          <a:prstGeom prst="pie">
            <a:avLst/>
          </a:prstGeom>
          <a:noFill/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AutoShape 29">
            <a:hlinkClick r:id="" action="ppaction://hlinkshowjump?jump=previousslide"/>
          </p:cNvPr>
          <p:cNvSpPr/>
          <p:nvPr/>
        </p:nvSpPr>
        <p:spPr>
          <a:xfrm>
            <a:off x="7885080" y="4076640"/>
            <a:ext cx="1042920" cy="576360"/>
          </a:xfrm>
          <a:custGeom>
            <a:avLst/>
            <a:gdLst>
              <a:gd name="textAreaLeft" fmla="*/ 37080 w 1042920"/>
              <a:gd name="textAreaRight" fmla="*/ 1005840 w 1042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9074" h="21600">
                <a:moveTo>
                  <a:pt x="0" y="0"/>
                </a:moveTo>
                <a:lnTo>
                  <a:pt x="39074" y="0"/>
                </a:lnTo>
                <a:lnTo>
                  <a:pt x="39074" y="21600"/>
                </a:lnTo>
                <a:lnTo>
                  <a:pt x="0" y="21600"/>
                </a:lnTo>
                <a:close/>
              </a:path>
              <a:path fill="lightenLess" w="39074" h="21600">
                <a:moveTo>
                  <a:pt x="0" y="0"/>
                </a:moveTo>
                <a:lnTo>
                  <a:pt x="39074" y="0"/>
                </a:lnTo>
                <a:lnTo>
                  <a:pt x="37674" y="1400"/>
                </a:lnTo>
                <a:lnTo>
                  <a:pt x="1400" y="1400"/>
                </a:lnTo>
                <a:close/>
              </a:path>
              <a:path fill="darken" w="39074" h="21600">
                <a:moveTo>
                  <a:pt x="39074" y="0"/>
                </a:moveTo>
                <a:lnTo>
                  <a:pt x="39074" y="21600"/>
                </a:lnTo>
                <a:lnTo>
                  <a:pt x="37674" y="20200"/>
                </a:lnTo>
                <a:lnTo>
                  <a:pt x="37674" y="1400"/>
                </a:lnTo>
                <a:close/>
              </a:path>
              <a:path fill="darkenLess" w="39074" h="21600">
                <a:moveTo>
                  <a:pt x="390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74" y="20200"/>
                </a:lnTo>
                <a:close/>
              </a:path>
              <a:path fill="lighten" w="390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74" h="21600">
                <a:moveTo>
                  <a:pt x="12531" y="3794"/>
                </a:moveTo>
                <a:lnTo>
                  <a:pt x="26544" y="10800"/>
                </a:lnTo>
                <a:lnTo>
                  <a:pt x="12531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Номер слайда 1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4529-2752-4FF9-8119-5FCFEC5BD44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nstantia"/>
              </a:rPr>
              <a:t>Направление «ветвей» параболы</a:t>
            </a:r>
            <a:endParaRPr b="0" lang="en-US" sz="4000" spc="-1" strike="noStrike">
              <a:solidFill>
                <a:srgbClr val="ffffcc"/>
              </a:solidFill>
              <a:latin typeface="Constanti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4360" y="1052640"/>
            <a:ext cx="4038480" cy="51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nstantia"/>
              </a:rPr>
              <a:t>Если а   0, то «ветви» параболы направлены вверх  </a:t>
            </a:r>
            <a:endParaRPr b="0" lang="en-US" sz="2800" spc="-1" strike="noStrike">
              <a:solidFill>
                <a:srgbClr val="eaeaea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nstantia"/>
              </a:rPr>
              <a:t>Если а     0, то «ветви» параболы направлены вниз</a:t>
            </a:r>
            <a:endParaRPr b="0" lang="en-US" sz="24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826920" y="4869000"/>
            <a:ext cx="338472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Line 8"/>
          <p:cNvSpPr/>
          <p:nvPr/>
        </p:nvSpPr>
        <p:spPr>
          <a:xfrm flipV="1">
            <a:off x="2484360" y="3213000"/>
            <a:ext cx="0" cy="31687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Freeform 9"/>
          <p:cNvSpPr/>
          <p:nvPr/>
        </p:nvSpPr>
        <p:spPr>
          <a:xfrm>
            <a:off x="1403280" y="3429000"/>
            <a:ext cx="1440000" cy="2448000"/>
          </a:xfrm>
          <a:prstGeom prst="pie">
            <a:avLst/>
          </a:prstGeom>
          <a:noFill/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5148360" y="4941720"/>
            <a:ext cx="302400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Line 11"/>
          <p:cNvSpPr/>
          <p:nvPr/>
        </p:nvSpPr>
        <p:spPr>
          <a:xfrm flipV="1">
            <a:off x="6732720" y="3141720"/>
            <a:ext cx="0" cy="32400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Freeform 12"/>
          <p:cNvSpPr/>
          <p:nvPr/>
        </p:nvSpPr>
        <p:spPr>
          <a:xfrm>
            <a:off x="6084720" y="3716280"/>
            <a:ext cx="1368720" cy="2160720"/>
          </a:xfrm>
          <a:prstGeom prst="pie">
            <a:avLst/>
          </a:prstGeom>
          <a:noFill/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AutoShape 13">
            <a:hlinkClick r:id="rId1" action="ppaction://hlinksldjump"/>
          </p:cNvPr>
          <p:cNvSpPr/>
          <p:nvPr/>
        </p:nvSpPr>
        <p:spPr>
          <a:xfrm>
            <a:off x="179280" y="6093000"/>
            <a:ext cx="1042920" cy="477720"/>
          </a:xfrm>
          <a:custGeom>
            <a:avLst/>
            <a:gdLst>
              <a:gd name="textAreaLeft" fmla="*/ 30960 w 1042920"/>
              <a:gd name="textAreaRight" fmla="*/ 1011960 w 104292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47136" h="21600">
                <a:moveTo>
                  <a:pt x="0" y="0"/>
                </a:moveTo>
                <a:lnTo>
                  <a:pt x="47136" y="0"/>
                </a:lnTo>
                <a:lnTo>
                  <a:pt x="47136" y="21600"/>
                </a:lnTo>
                <a:lnTo>
                  <a:pt x="0" y="21600"/>
                </a:lnTo>
                <a:close/>
              </a:path>
              <a:path fill="lightenLess" w="47136" h="21600">
                <a:moveTo>
                  <a:pt x="0" y="0"/>
                </a:moveTo>
                <a:lnTo>
                  <a:pt x="47136" y="0"/>
                </a:lnTo>
                <a:lnTo>
                  <a:pt x="45736" y="1400"/>
                </a:lnTo>
                <a:lnTo>
                  <a:pt x="1400" y="1400"/>
                </a:lnTo>
                <a:close/>
              </a:path>
              <a:path fill="darken" w="47136" h="21600">
                <a:moveTo>
                  <a:pt x="47136" y="0"/>
                </a:moveTo>
                <a:lnTo>
                  <a:pt x="47136" y="21600"/>
                </a:lnTo>
                <a:lnTo>
                  <a:pt x="45736" y="20200"/>
                </a:lnTo>
                <a:lnTo>
                  <a:pt x="45736" y="1400"/>
                </a:lnTo>
                <a:close/>
              </a:path>
              <a:path fill="darkenLess" w="47136" h="21600">
                <a:moveTo>
                  <a:pt x="471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736" y="20200"/>
                </a:lnTo>
                <a:close/>
              </a:path>
              <a:path fill="lighten" w="471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136" h="21600">
                <a:moveTo>
                  <a:pt x="16562" y="3794"/>
                </a:moveTo>
                <a:lnTo>
                  <a:pt x="30575" y="10800"/>
                </a:lnTo>
                <a:lnTo>
                  <a:pt x="16562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5000760" y="5621400"/>
            <a:ext cx="46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170" name="Line 17"/>
          <p:cNvSpPr/>
          <p:nvPr/>
        </p:nvSpPr>
        <p:spPr>
          <a:xfrm>
            <a:off x="2214720" y="1214280"/>
            <a:ext cx="144360" cy="142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Line 18"/>
          <p:cNvSpPr/>
          <p:nvPr/>
        </p:nvSpPr>
        <p:spPr>
          <a:xfrm flipH="1">
            <a:off x="2214720" y="1357200"/>
            <a:ext cx="142560" cy="144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Line 19"/>
          <p:cNvSpPr/>
          <p:nvPr/>
        </p:nvSpPr>
        <p:spPr>
          <a:xfrm flipH="1">
            <a:off x="6071760" y="1714680"/>
            <a:ext cx="144360" cy="1425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Line 20"/>
          <p:cNvSpPr/>
          <p:nvPr/>
        </p:nvSpPr>
        <p:spPr>
          <a:xfrm>
            <a:off x="6072120" y="1857240"/>
            <a:ext cx="144360" cy="73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Rectangle 21"/>
          <p:cNvSpPr/>
          <p:nvPr/>
        </p:nvSpPr>
        <p:spPr>
          <a:xfrm>
            <a:off x="4042800" y="48276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х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Rectangle 22"/>
          <p:cNvSpPr/>
          <p:nvPr/>
        </p:nvSpPr>
        <p:spPr>
          <a:xfrm>
            <a:off x="8076600" y="48816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х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6438240" y="293220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Rectangle 25"/>
          <p:cNvSpPr/>
          <p:nvPr/>
        </p:nvSpPr>
        <p:spPr>
          <a:xfrm>
            <a:off x="2148840" y="298440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Rectangle 26"/>
          <p:cNvSpPr/>
          <p:nvPr/>
        </p:nvSpPr>
        <p:spPr>
          <a:xfrm>
            <a:off x="2214000" y="4788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Rectangle 27"/>
          <p:cNvSpPr/>
          <p:nvPr/>
        </p:nvSpPr>
        <p:spPr>
          <a:xfrm>
            <a:off x="6422760" y="4908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AutoShape 28">
            <a:hlinkClick r:id="rId2" action="ppaction://hlinksldjump"/>
          </p:cNvPr>
          <p:cNvSpPr/>
          <p:nvPr/>
        </p:nvSpPr>
        <p:spPr>
          <a:xfrm>
            <a:off x="7740720" y="6093000"/>
            <a:ext cx="1042920" cy="54900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000"/>
              <a:gd name="textAreaBottom" fmla="*/ 513720 h 549000"/>
            </a:gdLst>
            <a:ahLst/>
            <a:rect l="textAreaLeft" t="textAreaTop" r="textAreaRight" b="textAreaBottom"/>
            <a:pathLst>
              <a:path w="41020" h="21600">
                <a:moveTo>
                  <a:pt x="0" y="0"/>
                </a:moveTo>
                <a:lnTo>
                  <a:pt x="41020" y="0"/>
                </a:lnTo>
                <a:lnTo>
                  <a:pt x="41020" y="21600"/>
                </a:lnTo>
                <a:lnTo>
                  <a:pt x="0" y="21600"/>
                </a:lnTo>
                <a:close/>
              </a:path>
              <a:path fill="lightenLess" w="41020" h="21600">
                <a:moveTo>
                  <a:pt x="0" y="0"/>
                </a:moveTo>
                <a:lnTo>
                  <a:pt x="41020" y="0"/>
                </a:lnTo>
                <a:lnTo>
                  <a:pt x="39620" y="1400"/>
                </a:lnTo>
                <a:lnTo>
                  <a:pt x="1400" y="1400"/>
                </a:lnTo>
                <a:close/>
              </a:path>
              <a:path fill="darken" w="41020" h="21600">
                <a:moveTo>
                  <a:pt x="41020" y="0"/>
                </a:moveTo>
                <a:lnTo>
                  <a:pt x="41020" y="21600"/>
                </a:lnTo>
                <a:lnTo>
                  <a:pt x="39620" y="20200"/>
                </a:lnTo>
                <a:lnTo>
                  <a:pt x="39620" y="1400"/>
                </a:lnTo>
                <a:close/>
              </a:path>
              <a:path fill="darkenLess" w="41020" h="21600">
                <a:moveTo>
                  <a:pt x="41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0" y="20200"/>
                </a:lnTo>
                <a:close/>
              </a:path>
              <a:path fill="lighten" w="41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0" h="21600">
                <a:moveTo>
                  <a:pt x="2051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1020" h="21600">
                <a:moveTo>
                  <a:pt x="21615" y="14281"/>
                </a:moveTo>
                <a:lnTo>
                  <a:pt x="21615" y="12323"/>
                </a:lnTo>
                <a:cubicBezTo>
                  <a:pt x="21615" y="11496"/>
                  <a:pt x="21946" y="10800"/>
                  <a:pt x="22547" y="10800"/>
                </a:cubicBezTo>
                <a:cubicBezTo>
                  <a:pt x="23678" y="10800"/>
                  <a:pt x="24575" y="9434"/>
                  <a:pt x="24575" y="7849"/>
                </a:cubicBezTo>
                <a:cubicBezTo>
                  <a:pt x="24575" y="5534"/>
                  <a:pt x="22721" y="3794"/>
                  <a:pt x="20510" y="3794"/>
                </a:cubicBezTo>
                <a:cubicBezTo>
                  <a:pt x="18299" y="3794"/>
                  <a:pt x="16628" y="5534"/>
                  <a:pt x="16628" y="7849"/>
                </a:cubicBezTo>
                <a:lnTo>
                  <a:pt x="18482" y="7849"/>
                </a:lnTo>
                <a:cubicBezTo>
                  <a:pt x="18482" y="6709"/>
                  <a:pt x="19405" y="5821"/>
                  <a:pt x="20510" y="5821"/>
                </a:cubicBezTo>
                <a:cubicBezTo>
                  <a:pt x="21615" y="5821"/>
                  <a:pt x="22547" y="6709"/>
                  <a:pt x="22547" y="7849"/>
                </a:cubicBezTo>
                <a:cubicBezTo>
                  <a:pt x="22547" y="8589"/>
                  <a:pt x="22077" y="9320"/>
                  <a:pt x="21615" y="9320"/>
                </a:cubicBezTo>
                <a:cubicBezTo>
                  <a:pt x="20510" y="9320"/>
                  <a:pt x="19405" y="10800"/>
                  <a:pt x="19405" y="12323"/>
                </a:cubicBezTo>
                <a:lnTo>
                  <a:pt x="19405" y="14281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Номер слайда 2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A670-B605-424A-92F9-64B1A0F59B3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AutoShape 13">
            <a:hlinkClick r:id="rId3" action="ppaction://hlinksldjump"/>
          </p:cNvPr>
          <p:cNvSpPr/>
          <p:nvPr/>
        </p:nvSpPr>
        <p:spPr>
          <a:xfrm>
            <a:off x="1428840" y="6143760"/>
            <a:ext cx="1042920" cy="477720"/>
          </a:xfrm>
          <a:custGeom>
            <a:avLst/>
            <a:gdLst>
              <a:gd name="textAreaLeft" fmla="*/ 30960 w 1042920"/>
              <a:gd name="textAreaRight" fmla="*/ 1011960 w 104292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47136" h="21600">
                <a:moveTo>
                  <a:pt x="0" y="0"/>
                </a:moveTo>
                <a:lnTo>
                  <a:pt x="47136" y="0"/>
                </a:lnTo>
                <a:lnTo>
                  <a:pt x="47136" y="21600"/>
                </a:lnTo>
                <a:lnTo>
                  <a:pt x="0" y="21600"/>
                </a:lnTo>
                <a:close/>
              </a:path>
              <a:path fill="lightenLess" w="47136" h="21600">
                <a:moveTo>
                  <a:pt x="0" y="0"/>
                </a:moveTo>
                <a:lnTo>
                  <a:pt x="47136" y="0"/>
                </a:lnTo>
                <a:lnTo>
                  <a:pt x="45736" y="1400"/>
                </a:lnTo>
                <a:lnTo>
                  <a:pt x="1400" y="1400"/>
                </a:lnTo>
                <a:close/>
              </a:path>
              <a:path fill="darken" w="47136" h="21600">
                <a:moveTo>
                  <a:pt x="47136" y="0"/>
                </a:moveTo>
                <a:lnTo>
                  <a:pt x="47136" y="21600"/>
                </a:lnTo>
                <a:lnTo>
                  <a:pt x="45736" y="20200"/>
                </a:lnTo>
                <a:lnTo>
                  <a:pt x="45736" y="1400"/>
                </a:lnTo>
                <a:close/>
              </a:path>
              <a:path fill="darkenLess" w="47136" h="21600">
                <a:moveTo>
                  <a:pt x="471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736" y="20200"/>
                </a:lnTo>
                <a:close/>
              </a:path>
              <a:path fill="lighten" w="471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136" h="21600">
                <a:moveTo>
                  <a:pt x="16562" y="3794"/>
                </a:moveTo>
                <a:lnTo>
                  <a:pt x="30575" y="10800"/>
                </a:lnTo>
                <a:lnTo>
                  <a:pt x="16562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Constantia"/>
              </a:rPr>
              <a:t>Ось симметрии</a:t>
            </a:r>
            <a:endParaRPr b="0" lang="en-US" sz="5100" spc="-1" strike="noStrike">
              <a:solidFill>
                <a:srgbClr val="ffffcc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0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nstantia"/>
              </a:rPr>
              <a:t>Ось симметрии проходит через вершину параболы и параллельна оси ординат </a:t>
            </a:r>
            <a:endParaRPr b="0" lang="en-US" sz="3600" spc="-1" strike="noStrike">
              <a:solidFill>
                <a:srgbClr val="eaeaea"/>
              </a:solidFill>
              <a:latin typeface="Constanti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1835280" y="5084640"/>
            <a:ext cx="57610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Line 7"/>
          <p:cNvSpPr/>
          <p:nvPr/>
        </p:nvSpPr>
        <p:spPr>
          <a:xfrm flipV="1">
            <a:off x="4284720" y="3213000"/>
            <a:ext cx="71280" cy="345600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Freeform 8"/>
          <p:cNvSpPr/>
          <p:nvPr/>
        </p:nvSpPr>
        <p:spPr>
          <a:xfrm>
            <a:off x="3059280" y="3500280"/>
            <a:ext cx="1441440" cy="2808360"/>
          </a:xfrm>
          <a:prstGeom prst="pie">
            <a:avLst/>
          </a:prstGeom>
          <a:noFill/>
          <a:ln w="381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3780000" y="3429000"/>
            <a:ext cx="0" cy="3168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541640" y="49928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х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4006080" y="299736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AutoShape 12">
            <a:hlinkClick r:id="rId1" action="ppaction://hlinksldjump"/>
          </p:cNvPr>
          <p:cNvSpPr/>
          <p:nvPr/>
        </p:nvSpPr>
        <p:spPr>
          <a:xfrm>
            <a:off x="179280" y="5950080"/>
            <a:ext cx="1042920" cy="576000"/>
          </a:xfrm>
          <a:custGeom>
            <a:avLst/>
            <a:gdLst>
              <a:gd name="textAreaLeft" fmla="*/ 37080 w 1042920"/>
              <a:gd name="textAreaRight" fmla="*/ 1005840 w 1042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9099" h="21600">
                <a:moveTo>
                  <a:pt x="0" y="0"/>
                </a:moveTo>
                <a:lnTo>
                  <a:pt x="39099" y="0"/>
                </a:lnTo>
                <a:lnTo>
                  <a:pt x="39099" y="21600"/>
                </a:lnTo>
                <a:lnTo>
                  <a:pt x="0" y="21600"/>
                </a:lnTo>
                <a:close/>
              </a:path>
              <a:path fill="lightenLess" w="39099" h="21600">
                <a:moveTo>
                  <a:pt x="0" y="0"/>
                </a:moveTo>
                <a:lnTo>
                  <a:pt x="39099" y="0"/>
                </a:lnTo>
                <a:lnTo>
                  <a:pt x="37699" y="1400"/>
                </a:lnTo>
                <a:lnTo>
                  <a:pt x="1400" y="1400"/>
                </a:lnTo>
                <a:close/>
              </a:path>
              <a:path fill="darken" w="39099" h="21600">
                <a:moveTo>
                  <a:pt x="39099" y="0"/>
                </a:moveTo>
                <a:lnTo>
                  <a:pt x="39099" y="21600"/>
                </a:lnTo>
                <a:lnTo>
                  <a:pt x="37699" y="20200"/>
                </a:lnTo>
                <a:lnTo>
                  <a:pt x="37699" y="1400"/>
                </a:lnTo>
                <a:close/>
              </a:path>
              <a:path fill="darkenLess" w="39099" h="21600">
                <a:moveTo>
                  <a:pt x="39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99" y="20200"/>
                </a:lnTo>
                <a:close/>
              </a:path>
              <a:path fill="lighten" w="39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99" h="21600">
                <a:moveTo>
                  <a:pt x="12543" y="3794"/>
                </a:moveTo>
                <a:lnTo>
                  <a:pt x="26556" y="10800"/>
                </a:lnTo>
                <a:lnTo>
                  <a:pt x="12543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4293720" y="5013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Номер слайда 1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8BDD-71DE-4BB9-9C84-D26F6628DC3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AutoShape 12">
            <a:hlinkClick r:id="rId2" action="ppaction://hlinksldjump"/>
          </p:cNvPr>
          <p:cNvSpPr/>
          <p:nvPr/>
        </p:nvSpPr>
        <p:spPr>
          <a:xfrm>
            <a:off x="1428840" y="6000840"/>
            <a:ext cx="1042920" cy="576000"/>
          </a:xfrm>
          <a:custGeom>
            <a:avLst/>
            <a:gdLst>
              <a:gd name="textAreaLeft" fmla="*/ 37080 w 1042920"/>
              <a:gd name="textAreaRight" fmla="*/ 1005840 w 1042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9099" h="21600">
                <a:moveTo>
                  <a:pt x="0" y="0"/>
                </a:moveTo>
                <a:lnTo>
                  <a:pt x="39099" y="0"/>
                </a:lnTo>
                <a:lnTo>
                  <a:pt x="39099" y="21600"/>
                </a:lnTo>
                <a:lnTo>
                  <a:pt x="0" y="21600"/>
                </a:lnTo>
                <a:close/>
              </a:path>
              <a:path fill="lightenLess" w="39099" h="21600">
                <a:moveTo>
                  <a:pt x="0" y="0"/>
                </a:moveTo>
                <a:lnTo>
                  <a:pt x="39099" y="0"/>
                </a:lnTo>
                <a:lnTo>
                  <a:pt x="37699" y="1400"/>
                </a:lnTo>
                <a:lnTo>
                  <a:pt x="1400" y="1400"/>
                </a:lnTo>
                <a:close/>
              </a:path>
              <a:path fill="darken" w="39099" h="21600">
                <a:moveTo>
                  <a:pt x="39099" y="0"/>
                </a:moveTo>
                <a:lnTo>
                  <a:pt x="39099" y="21600"/>
                </a:lnTo>
                <a:lnTo>
                  <a:pt x="37699" y="20200"/>
                </a:lnTo>
                <a:lnTo>
                  <a:pt x="37699" y="1400"/>
                </a:lnTo>
                <a:close/>
              </a:path>
              <a:path fill="darkenLess" w="39099" h="21600">
                <a:moveTo>
                  <a:pt x="39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99" y="20200"/>
                </a:lnTo>
                <a:close/>
              </a:path>
              <a:path fill="lighten" w="39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99" h="21600">
                <a:moveTo>
                  <a:pt x="12543" y="3794"/>
                </a:moveTo>
                <a:lnTo>
                  <a:pt x="26556" y="10800"/>
                </a:lnTo>
                <a:lnTo>
                  <a:pt x="12543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268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Constantia"/>
              </a:rPr>
              <a:t>Нули функции</a:t>
            </a:r>
            <a:endParaRPr b="0" lang="en-US" sz="5700" spc="-1" strike="noStrike">
              <a:solidFill>
                <a:srgbClr val="ffffcc"/>
              </a:solidFill>
              <a:latin typeface="Constant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1483920"/>
            <a:ext cx="68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Constantia"/>
              </a:rPr>
              <a:t>Те значения х, при которых функция принимает значение, равное 0, называют нулями функции.</a:t>
            </a:r>
            <a:endParaRPr b="0" lang="en-US" sz="36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197" name="AutoShape 5">
            <a:hlinkClick r:id="rId1" action="ppaction://hlinksldjump"/>
          </p:cNvPr>
          <p:cNvSpPr/>
          <p:nvPr/>
        </p:nvSpPr>
        <p:spPr>
          <a:xfrm>
            <a:off x="539640" y="5877000"/>
            <a:ext cx="1042920" cy="504720"/>
          </a:xfrm>
          <a:custGeom>
            <a:avLst/>
            <a:gdLst>
              <a:gd name="textAreaLeft" fmla="*/ 32400 w 1042920"/>
              <a:gd name="textAreaRight" fmla="*/ 1010520 w 104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4616" h="21600">
                <a:moveTo>
                  <a:pt x="0" y="0"/>
                </a:moveTo>
                <a:lnTo>
                  <a:pt x="44616" y="0"/>
                </a:lnTo>
                <a:lnTo>
                  <a:pt x="44616" y="21600"/>
                </a:lnTo>
                <a:lnTo>
                  <a:pt x="0" y="21600"/>
                </a:lnTo>
                <a:close/>
              </a:path>
              <a:path fill="lightenLess" w="44616" h="21600">
                <a:moveTo>
                  <a:pt x="0" y="0"/>
                </a:moveTo>
                <a:lnTo>
                  <a:pt x="44616" y="0"/>
                </a:lnTo>
                <a:lnTo>
                  <a:pt x="43216" y="1400"/>
                </a:lnTo>
                <a:lnTo>
                  <a:pt x="1400" y="1400"/>
                </a:lnTo>
                <a:close/>
              </a:path>
              <a:path fill="darken" w="44616" h="21600">
                <a:moveTo>
                  <a:pt x="44616" y="0"/>
                </a:moveTo>
                <a:lnTo>
                  <a:pt x="44616" y="21600"/>
                </a:lnTo>
                <a:lnTo>
                  <a:pt x="43216" y="20200"/>
                </a:lnTo>
                <a:lnTo>
                  <a:pt x="43216" y="1400"/>
                </a:lnTo>
                <a:close/>
              </a:path>
              <a:path fill="darkenLess" w="44616" h="21600">
                <a:moveTo>
                  <a:pt x="44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16" y="20200"/>
                </a:lnTo>
                <a:close/>
              </a:path>
              <a:path fill="lighten" w="44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16" h="21600">
                <a:moveTo>
                  <a:pt x="15302" y="3794"/>
                </a:moveTo>
                <a:lnTo>
                  <a:pt x="29315" y="10800"/>
                </a:lnTo>
                <a:lnTo>
                  <a:pt x="15302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AutoShape 6">
            <a:hlinkClick r:id="rId2" action="ppaction://hlinksldjump"/>
          </p:cNvPr>
          <p:cNvSpPr/>
          <p:nvPr/>
        </p:nvSpPr>
        <p:spPr>
          <a:xfrm>
            <a:off x="7093080" y="5877000"/>
            <a:ext cx="1042920" cy="538200"/>
          </a:xfrm>
          <a:custGeom>
            <a:avLst/>
            <a:gdLst>
              <a:gd name="textAreaLeft" fmla="*/ 34560 w 1042920"/>
              <a:gd name="textAreaRight" fmla="*/ 1008360 w 104292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41843" h="21600">
                <a:moveTo>
                  <a:pt x="0" y="0"/>
                </a:moveTo>
                <a:lnTo>
                  <a:pt x="41843" y="0"/>
                </a:lnTo>
                <a:lnTo>
                  <a:pt x="41843" y="21600"/>
                </a:lnTo>
                <a:lnTo>
                  <a:pt x="0" y="21600"/>
                </a:lnTo>
                <a:close/>
              </a:path>
              <a:path fill="lightenLess" w="41843" h="21600">
                <a:moveTo>
                  <a:pt x="0" y="0"/>
                </a:moveTo>
                <a:lnTo>
                  <a:pt x="41843" y="0"/>
                </a:lnTo>
                <a:lnTo>
                  <a:pt x="40443" y="1400"/>
                </a:lnTo>
                <a:lnTo>
                  <a:pt x="1400" y="1400"/>
                </a:lnTo>
                <a:close/>
              </a:path>
              <a:path fill="darken" w="41843" h="21600">
                <a:moveTo>
                  <a:pt x="41843" y="0"/>
                </a:moveTo>
                <a:lnTo>
                  <a:pt x="41843" y="21600"/>
                </a:lnTo>
                <a:lnTo>
                  <a:pt x="40443" y="20200"/>
                </a:lnTo>
                <a:lnTo>
                  <a:pt x="40443" y="1400"/>
                </a:lnTo>
                <a:close/>
              </a:path>
              <a:path fill="darkenLess" w="41843" h="21600">
                <a:moveTo>
                  <a:pt x="41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43" y="20200"/>
                </a:lnTo>
                <a:close/>
              </a:path>
              <a:path fill="lighten" w="41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843" h="21600">
                <a:moveTo>
                  <a:pt x="2092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1843" h="21600">
                <a:moveTo>
                  <a:pt x="22027" y="14281"/>
                </a:moveTo>
                <a:lnTo>
                  <a:pt x="22027" y="12323"/>
                </a:lnTo>
                <a:cubicBezTo>
                  <a:pt x="22027" y="11496"/>
                  <a:pt x="22358" y="10800"/>
                  <a:pt x="22958" y="10800"/>
                </a:cubicBezTo>
                <a:cubicBezTo>
                  <a:pt x="24090" y="10800"/>
                  <a:pt x="24986" y="9434"/>
                  <a:pt x="24986" y="7849"/>
                </a:cubicBezTo>
                <a:cubicBezTo>
                  <a:pt x="24986" y="5534"/>
                  <a:pt x="23132" y="3794"/>
                  <a:pt x="20921" y="3794"/>
                </a:cubicBezTo>
                <a:cubicBezTo>
                  <a:pt x="18711" y="3794"/>
                  <a:pt x="17040" y="5534"/>
                  <a:pt x="17040" y="7849"/>
                </a:cubicBezTo>
                <a:lnTo>
                  <a:pt x="18893" y="7849"/>
                </a:lnTo>
                <a:cubicBezTo>
                  <a:pt x="18893" y="6709"/>
                  <a:pt x="19816" y="5821"/>
                  <a:pt x="20921" y="5821"/>
                </a:cubicBezTo>
                <a:cubicBezTo>
                  <a:pt x="22027" y="5821"/>
                  <a:pt x="22958" y="6709"/>
                  <a:pt x="22958" y="7849"/>
                </a:cubicBezTo>
                <a:cubicBezTo>
                  <a:pt x="22958" y="8589"/>
                  <a:pt x="22488" y="9320"/>
                  <a:pt x="22027" y="9320"/>
                </a:cubicBezTo>
                <a:cubicBezTo>
                  <a:pt x="20921" y="9320"/>
                  <a:pt x="19816" y="10800"/>
                  <a:pt x="19816" y="12323"/>
                </a:cubicBezTo>
                <a:lnTo>
                  <a:pt x="19816" y="14281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D934-155D-49BF-B238-E668F78C679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AutoShape 5">
            <a:hlinkClick r:id="rId3" action="ppaction://hlinksldjump"/>
          </p:cNvPr>
          <p:cNvSpPr/>
          <p:nvPr/>
        </p:nvSpPr>
        <p:spPr>
          <a:xfrm>
            <a:off x="1785960" y="5929200"/>
            <a:ext cx="1042920" cy="505080"/>
          </a:xfrm>
          <a:custGeom>
            <a:avLst/>
            <a:gdLst>
              <a:gd name="textAreaLeft" fmla="*/ 32400 w 1042920"/>
              <a:gd name="textAreaRight" fmla="*/ 1010520 w 104292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44585" h="21600">
                <a:moveTo>
                  <a:pt x="0" y="0"/>
                </a:moveTo>
                <a:lnTo>
                  <a:pt x="44585" y="0"/>
                </a:lnTo>
                <a:lnTo>
                  <a:pt x="44585" y="21600"/>
                </a:lnTo>
                <a:lnTo>
                  <a:pt x="0" y="21600"/>
                </a:lnTo>
                <a:close/>
              </a:path>
              <a:path fill="lightenLess" w="44585" h="21600">
                <a:moveTo>
                  <a:pt x="0" y="0"/>
                </a:moveTo>
                <a:lnTo>
                  <a:pt x="44585" y="0"/>
                </a:lnTo>
                <a:lnTo>
                  <a:pt x="43185" y="1400"/>
                </a:lnTo>
                <a:lnTo>
                  <a:pt x="1400" y="1400"/>
                </a:lnTo>
                <a:close/>
              </a:path>
              <a:path fill="darken" w="44585" h="21600">
                <a:moveTo>
                  <a:pt x="44585" y="0"/>
                </a:moveTo>
                <a:lnTo>
                  <a:pt x="44585" y="21600"/>
                </a:lnTo>
                <a:lnTo>
                  <a:pt x="43185" y="20200"/>
                </a:lnTo>
                <a:lnTo>
                  <a:pt x="43185" y="1400"/>
                </a:lnTo>
                <a:close/>
              </a:path>
              <a:path fill="darkenLess" w="44585" h="21600">
                <a:moveTo>
                  <a:pt x="44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185" y="20200"/>
                </a:lnTo>
                <a:close/>
              </a:path>
              <a:path fill="lighten" w="44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585" h="21600">
                <a:moveTo>
                  <a:pt x="15286" y="3794"/>
                </a:moveTo>
                <a:lnTo>
                  <a:pt x="29299" y="10800"/>
                </a:lnTo>
                <a:lnTo>
                  <a:pt x="15286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Constantia"/>
              </a:rPr>
              <a:t>Возрастание и убывание функции</a:t>
            </a:r>
            <a:endParaRPr b="0" lang="en-US" sz="5100" spc="-1" strike="noStrike">
              <a:solidFill>
                <a:srgbClr val="ffffcc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240" y="1700280"/>
            <a:ext cx="70880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Constantia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2050920" y="4292640"/>
            <a:ext cx="468180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Line 7"/>
          <p:cNvSpPr/>
          <p:nvPr/>
        </p:nvSpPr>
        <p:spPr>
          <a:xfrm flipV="1">
            <a:off x="4427640" y="2565360"/>
            <a:ext cx="0" cy="33847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Freeform 8"/>
          <p:cNvSpPr/>
          <p:nvPr/>
        </p:nvSpPr>
        <p:spPr>
          <a:xfrm>
            <a:off x="3348000" y="2637000"/>
            <a:ext cx="1657440" cy="2976480"/>
          </a:xfrm>
          <a:prstGeom prst="pie">
            <a:avLst/>
          </a:prstGeom>
          <a:noFill/>
          <a:ln w="5724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6525720" y="43657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х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4031640" y="237960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3318120" y="42670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-4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4572000" y="4292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3948480" y="4292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-2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4140360" y="4221000"/>
            <a:ext cx="0" cy="144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AutoShape 15">
            <a:hlinkClick r:id="rId1" action="ppaction://hlinksldjump"/>
          </p:cNvPr>
          <p:cNvSpPr/>
          <p:nvPr/>
        </p:nvSpPr>
        <p:spPr>
          <a:xfrm>
            <a:off x="395280" y="5734080"/>
            <a:ext cx="1042920" cy="539640"/>
          </a:xfrm>
          <a:custGeom>
            <a:avLst/>
            <a:gdLst>
              <a:gd name="textAreaLeft" fmla="*/ 34920 w 1042920"/>
              <a:gd name="textAreaRight" fmla="*/ 1008000 w 1042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1731" h="21600">
                <a:moveTo>
                  <a:pt x="0" y="0"/>
                </a:moveTo>
                <a:lnTo>
                  <a:pt x="41731" y="0"/>
                </a:lnTo>
                <a:lnTo>
                  <a:pt x="41731" y="21600"/>
                </a:lnTo>
                <a:lnTo>
                  <a:pt x="0" y="21600"/>
                </a:lnTo>
                <a:close/>
              </a:path>
              <a:path fill="lightenLess" w="41731" h="21600">
                <a:moveTo>
                  <a:pt x="0" y="0"/>
                </a:moveTo>
                <a:lnTo>
                  <a:pt x="41731" y="0"/>
                </a:lnTo>
                <a:lnTo>
                  <a:pt x="40331" y="1400"/>
                </a:lnTo>
                <a:lnTo>
                  <a:pt x="1400" y="1400"/>
                </a:lnTo>
                <a:close/>
              </a:path>
              <a:path fill="darken" w="41731" h="21600">
                <a:moveTo>
                  <a:pt x="41731" y="0"/>
                </a:moveTo>
                <a:lnTo>
                  <a:pt x="41731" y="21600"/>
                </a:lnTo>
                <a:lnTo>
                  <a:pt x="40331" y="20200"/>
                </a:lnTo>
                <a:lnTo>
                  <a:pt x="40331" y="1400"/>
                </a:lnTo>
                <a:close/>
              </a:path>
              <a:path fill="darkenLess" w="41731" h="21600">
                <a:moveTo>
                  <a:pt x="41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31" y="20200"/>
                </a:lnTo>
                <a:close/>
              </a:path>
              <a:path fill="lighten" w="41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731" h="21600">
                <a:moveTo>
                  <a:pt x="13859" y="3794"/>
                </a:moveTo>
                <a:lnTo>
                  <a:pt x="27872" y="10800"/>
                </a:lnTo>
                <a:lnTo>
                  <a:pt x="1385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Line 16"/>
          <p:cNvSpPr/>
          <p:nvPr/>
        </p:nvSpPr>
        <p:spPr>
          <a:xfrm>
            <a:off x="2050920" y="4221000"/>
            <a:ext cx="2089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Line 17"/>
          <p:cNvSpPr/>
          <p:nvPr/>
        </p:nvSpPr>
        <p:spPr>
          <a:xfrm>
            <a:off x="4140360" y="4221000"/>
            <a:ext cx="259236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Freeform 18"/>
          <p:cNvSpPr/>
          <p:nvPr/>
        </p:nvSpPr>
        <p:spPr>
          <a:xfrm>
            <a:off x="3419640" y="2781360"/>
            <a:ext cx="720720" cy="2808360"/>
          </a:xfrm>
          <a:prstGeom prst="pie">
            <a:avLst/>
          </a:pr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Freeform 19"/>
          <p:cNvSpPr/>
          <p:nvPr/>
        </p:nvSpPr>
        <p:spPr>
          <a:xfrm>
            <a:off x="4140360" y="2708280"/>
            <a:ext cx="792000" cy="2881440"/>
          </a:xfrm>
          <a:prstGeom prst="pie">
            <a:avLst/>
          </a:prstGeom>
          <a:noFill/>
          <a:ln w="381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AutoShape 20">
            <a:hlinkClick r:id="rId2" action="ppaction://hlinksldjump"/>
          </p:cNvPr>
          <p:cNvSpPr/>
          <p:nvPr/>
        </p:nvSpPr>
        <p:spPr>
          <a:xfrm>
            <a:off x="7380360" y="566100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776" h="21600">
                <a:moveTo>
                  <a:pt x="1738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4776" h="21600">
                <a:moveTo>
                  <a:pt x="18493" y="14281"/>
                </a:moveTo>
                <a:lnTo>
                  <a:pt x="18493" y="12323"/>
                </a:lnTo>
                <a:cubicBezTo>
                  <a:pt x="18493" y="11496"/>
                  <a:pt x="18824" y="10800"/>
                  <a:pt x="19425" y="10800"/>
                </a:cubicBezTo>
                <a:cubicBezTo>
                  <a:pt x="20556" y="10800"/>
                  <a:pt x="21453" y="9434"/>
                  <a:pt x="21453" y="7849"/>
                </a:cubicBezTo>
                <a:cubicBezTo>
                  <a:pt x="21453" y="5534"/>
                  <a:pt x="19599" y="3794"/>
                  <a:pt x="17388" y="3794"/>
                </a:cubicBezTo>
                <a:cubicBezTo>
                  <a:pt x="15177" y="3794"/>
                  <a:pt x="13506" y="5534"/>
                  <a:pt x="13506" y="7849"/>
                </a:cubicBezTo>
                <a:lnTo>
                  <a:pt x="15360" y="7849"/>
                </a:lnTo>
                <a:cubicBezTo>
                  <a:pt x="15360" y="6709"/>
                  <a:pt x="16283" y="5821"/>
                  <a:pt x="17388" y="5821"/>
                </a:cubicBezTo>
                <a:cubicBezTo>
                  <a:pt x="18493" y="5821"/>
                  <a:pt x="19425" y="6709"/>
                  <a:pt x="19425" y="7849"/>
                </a:cubicBezTo>
                <a:cubicBezTo>
                  <a:pt x="19425" y="8589"/>
                  <a:pt x="18955" y="9320"/>
                  <a:pt x="18493" y="9320"/>
                </a:cubicBezTo>
                <a:cubicBezTo>
                  <a:pt x="17388" y="9320"/>
                  <a:pt x="16283" y="10800"/>
                  <a:pt x="16283" y="12323"/>
                </a:cubicBezTo>
                <a:lnTo>
                  <a:pt x="16283" y="14281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Номер слайда 18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F48B-1358-4B87-98C0-0C16DD36FAE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08:48:48Z</dcterms:created>
  <dc:creator>Будылина Г.А.</dc:creator>
  <dc:description>учитель математики высшей категории  МОУ СОШ № 7 г. Лобня</dc:description>
  <dc:language>en-US</dc:language>
  <cp:lastModifiedBy>User</cp:lastModifiedBy>
  <dcterms:modified xsi:type="dcterms:W3CDTF">2008-03-13T12:13:23Z</dcterms:modified>
  <cp:revision>27</cp:revision>
  <dc:subject>Урок обобщения</dc:subject>
  <dc:title>Квадратичная функция</dc:title>
</cp:coreProperties>
</file>