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DF0-C461-4F38-89FD-C1B86E9D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BF0-192A-496B-9F35-C3B08CA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4DD-15B8-478E-9E84-69E45219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BD1-E9DE-4062-9F38-80E9C3C8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A99E-7158-46F0-AB66-6710D1CA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1B1D-0F92-4677-9054-A497C061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A4FD-877D-4256-A230-B72DF6AA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4B94-B9F6-440C-B96A-B66C4DFC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7CB6-AC73-465F-B66E-5FC407D3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09DE-6E73-4FCD-BFCA-28AF783D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103A-243A-42F4-BE1A-554A7DF3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A4A-C060-472E-83D8-E81448D3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845-8387-4017-947C-D0B9E218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1E9-AD5F-49A9-94D1-F1FBBCFA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1AB8-D15B-46D5-AD07-EC4DC89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ACF2-26CA-410C-AB16-B90BC2E6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E127-63E0-4D12-B1EF-28DA5F49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979-3FCB-4312-9D6F-FEBEBD9D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C87-549C-415D-A8D5-7FC74C4A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B2-CD46-4870-A737-A308314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0F5-E7CF-4183-A1B4-1F2D571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585-472C-4818-AC1D-1539DF8F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0D3-05BC-4075-8CE6-34D3200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EFA-B24F-485F-A3A5-ED465847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D6C3-1F7D-4773-90A4-ED80C66CA1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02CE-8317-4A26-B74C-31ADB71A3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сновные понятия «Теории вероятностей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и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бытия могут бы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356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стове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озм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уча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3735360"/>
            <a:ext cx="388800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совмес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зависи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ивополож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989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49228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3068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8360" y="3789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08360" y="4292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08360" y="4869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остоверн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35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ытие называется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стоверным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оно наступает всегда, при любом испыта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ятность достоверного события всегда равна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имеры достоверн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724280"/>
            <a:ext cx="1368360" cy="5050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92" h="21600">
                <a:moveTo>
                  <a:pt x="0" y="0"/>
                </a:moveTo>
                <a:lnTo>
                  <a:pt x="58492" y="0"/>
                </a:lnTo>
                <a:lnTo>
                  <a:pt x="58492" y="21600"/>
                </a:lnTo>
                <a:lnTo>
                  <a:pt x="0" y="21600"/>
                </a:lnTo>
                <a:close/>
              </a:path>
              <a:path fill="lightenLess" w="58492" h="21600">
                <a:moveTo>
                  <a:pt x="0" y="0"/>
                </a:moveTo>
                <a:lnTo>
                  <a:pt x="58492" y="0"/>
                </a:lnTo>
                <a:lnTo>
                  <a:pt x="57092" y="1400"/>
                </a:lnTo>
                <a:lnTo>
                  <a:pt x="1400" y="1400"/>
                </a:lnTo>
                <a:close/>
              </a:path>
              <a:path fill="darken" w="58492" h="21600">
                <a:moveTo>
                  <a:pt x="58492" y="0"/>
                </a:moveTo>
                <a:lnTo>
                  <a:pt x="58492" y="21600"/>
                </a:lnTo>
                <a:lnTo>
                  <a:pt x="57092" y="20200"/>
                </a:lnTo>
                <a:lnTo>
                  <a:pt x="57092" y="1400"/>
                </a:lnTo>
                <a:close/>
              </a:path>
              <a:path fill="darkenLess" w="58492" h="21600">
                <a:moveTo>
                  <a:pt x="58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92" y="20200"/>
                </a:lnTo>
                <a:close/>
              </a:path>
              <a:path fill="lighten" w="58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достоверных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игральном кубике выпадет меньше семи оч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ле лета наступит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евозможн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628280"/>
            <a:ext cx="8570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ытие называют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возмож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если  оно не наступает никогда, то есть благоприятных исходов для него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оятность невозможного события равна 0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имеры невозможн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невозможных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989000"/>
            <a:ext cx="71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дение монеты на ре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адение на игральной кости семер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лучайн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бытие называется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лучайны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если при одних и тех же условиях оно может как произойти, так и не произой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Примеры случайн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4292640"/>
            <a:ext cx="1224000" cy="57636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5856" h="21600">
                <a:moveTo>
                  <a:pt x="0" y="0"/>
                </a:moveTo>
                <a:lnTo>
                  <a:pt x="45856" y="0"/>
                </a:lnTo>
                <a:lnTo>
                  <a:pt x="45856" y="21600"/>
                </a:lnTo>
                <a:lnTo>
                  <a:pt x="0" y="21600"/>
                </a:lnTo>
                <a:close/>
              </a:path>
              <a:path fill="lightenLess" w="45856" h="21600">
                <a:moveTo>
                  <a:pt x="0" y="0"/>
                </a:moveTo>
                <a:lnTo>
                  <a:pt x="45856" y="0"/>
                </a:lnTo>
                <a:lnTo>
                  <a:pt x="44456" y="1400"/>
                </a:lnTo>
                <a:lnTo>
                  <a:pt x="1400" y="1400"/>
                </a:lnTo>
                <a:close/>
              </a:path>
              <a:path fill="darken" w="45856" h="21600">
                <a:moveTo>
                  <a:pt x="45856" y="0"/>
                </a:moveTo>
                <a:lnTo>
                  <a:pt x="45856" y="21600"/>
                </a:lnTo>
                <a:lnTo>
                  <a:pt x="44456" y="20200"/>
                </a:lnTo>
                <a:lnTo>
                  <a:pt x="44456" y="1400"/>
                </a:lnTo>
                <a:close/>
              </a:path>
              <a:path fill="darkenLess" w="45856" h="21600">
                <a:moveTo>
                  <a:pt x="458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56" y="20200"/>
                </a:lnTo>
                <a:close/>
              </a:path>
              <a:path fill="lighten" w="458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случайных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19280" y="2060640"/>
            <a:ext cx="61214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адение на игральном кубике четного числа оч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адение орла при бросании моне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игрышное сочетание чисел на карточках русского ло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есовместн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совместны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они не могут наступить одновременно, или, на языке множеств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меры несовместн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50864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несовместных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133720"/>
            <a:ext cx="6769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бросании двух кубиков выпадение нечетной суммы очков и равных чисел на обоих куби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короба с разноцветными шарами вытащить 2 шара. Несовместными будут события: оба шара красные и оба шара си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езависим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зависимым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вероятность их произведения равна произведению их вероятностей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меры независим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149720"/>
            <a:ext cx="1224000" cy="431640"/>
          </a:xfrm>
          <a:custGeom>
            <a:avLst/>
            <a:gdLst>
              <a:gd name="textAreaLeft" fmla="*/ 27720 w 1224000"/>
              <a:gd name="textAreaRight" fmla="*/ 1196280 w 122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18" h="21600">
                <a:moveTo>
                  <a:pt x="0" y="0"/>
                </a:moveTo>
                <a:lnTo>
                  <a:pt x="61218" y="0"/>
                </a:lnTo>
                <a:lnTo>
                  <a:pt x="61218" y="21600"/>
                </a:lnTo>
                <a:lnTo>
                  <a:pt x="0" y="21600"/>
                </a:lnTo>
                <a:close/>
              </a:path>
              <a:path fill="lightenLess" w="61218" h="21600">
                <a:moveTo>
                  <a:pt x="0" y="0"/>
                </a:moveTo>
                <a:lnTo>
                  <a:pt x="61218" y="0"/>
                </a:lnTo>
                <a:lnTo>
                  <a:pt x="59818" y="1400"/>
                </a:lnTo>
                <a:lnTo>
                  <a:pt x="1400" y="1400"/>
                </a:lnTo>
                <a:close/>
              </a:path>
              <a:path fill="darken" w="61218" h="21600">
                <a:moveTo>
                  <a:pt x="61218" y="0"/>
                </a:moveTo>
                <a:lnTo>
                  <a:pt x="61218" y="21600"/>
                </a:lnTo>
                <a:lnTo>
                  <a:pt x="59818" y="20200"/>
                </a:lnTo>
                <a:lnTo>
                  <a:pt x="59818" y="1400"/>
                </a:lnTo>
                <a:close/>
              </a:path>
              <a:path fill="darkenLess" w="61218" h="21600">
                <a:moveTo>
                  <a:pt x="61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18" y="20200"/>
                </a:lnTo>
                <a:close/>
              </a:path>
              <a:path fill="lighten" w="61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ория и  практ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96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ди играют с кубиком, в "орла или решку", во всевозможные лотереи  поскольку уверены в том, что эти игры справедливы, т.е. возможный результат каждого события имеет одинаковую вероятность – в противном случае эти игры просто бы не существовали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8098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независимых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1989000"/>
            <a:ext cx="6840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обоих  кубах выпадет шестер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подбрасывании  двух монет выпадут два ор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вытаскивании двух шаров из урны оба шара будут крас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отивоположные событ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5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ждым событием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вяз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ивоположное событ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щее в том, что событ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ет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положные события, очевидно, несовмест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вероятностей противоположных событий равн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римеры противоположных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653000"/>
            <a:ext cx="1223640" cy="431640"/>
          </a:xfrm>
          <a:custGeom>
            <a:avLst/>
            <a:gdLst>
              <a:gd name="textAreaLeft" fmla="*/ 27720 w 1223640"/>
              <a:gd name="textAreaRight" fmla="*/ 1195920 w 122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61200" h="21600">
                <a:moveTo>
                  <a:pt x="0" y="0"/>
                </a:moveTo>
                <a:lnTo>
                  <a:pt x="61200" y="0"/>
                </a:lnTo>
                <a:lnTo>
                  <a:pt x="61200" y="21600"/>
                </a:lnTo>
                <a:lnTo>
                  <a:pt x="0" y="21600"/>
                </a:lnTo>
                <a:close/>
              </a:path>
              <a:path fill="lightenLess" w="61200" h="21600">
                <a:moveTo>
                  <a:pt x="0" y="0"/>
                </a:moveTo>
                <a:lnTo>
                  <a:pt x="61200" y="0"/>
                </a:lnTo>
                <a:lnTo>
                  <a:pt x="59800" y="1400"/>
                </a:lnTo>
                <a:lnTo>
                  <a:pt x="1400" y="1400"/>
                </a:lnTo>
                <a:close/>
              </a:path>
              <a:path fill="darken" w="61200" h="21600">
                <a:moveTo>
                  <a:pt x="61200" y="0"/>
                </a:moveTo>
                <a:lnTo>
                  <a:pt x="61200" y="21600"/>
                </a:lnTo>
                <a:lnTo>
                  <a:pt x="59800" y="20200"/>
                </a:lnTo>
                <a:lnTo>
                  <a:pt x="59800" y="1400"/>
                </a:lnTo>
                <a:close/>
              </a:path>
              <a:path fill="darkenLess" w="61200" h="21600">
                <a:moveTo>
                  <a:pt x="61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0" y="20200"/>
                </a:lnTo>
                <a:close/>
              </a:path>
              <a:path fill="lighten" w="61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римеры противоположных событ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916280"/>
            <a:ext cx="6697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убике выпадет четное число и на кубике выпадет нечетное чи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ета упала орлом вверх и монета упала вверх реш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ампа горит и лампа не го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меры задач на вычислени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оятностей случайных событ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61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а д а ч а  № 1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росаются два кубика. Найти вероятность того, что сумма выпавших очков равна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 е ш е н и 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859360" y="1599840"/>
            <a:ext cx="3284640" cy="2189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456000" cy="2146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414972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1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 н а ч а л 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95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Бросаются два кубика. Найти вероятность того, что сумма выпавших очков равна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924000" y="1599840"/>
            <a:ext cx="482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 каждого бросания – это пара чисел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числа о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Поэтому все поле событий состоит из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х6 = 3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4360" y="3500280"/>
            <a:ext cx="3166920" cy="214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ешение задачи № 1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 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приятным исходом для рассматриваемого события является любая пара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для котор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считаем, сколькими способами число 6 можно представить в виде суммы двух натуральных чисел от 1 до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можно сделать пятью следующими способ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= 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5 = 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4 = 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3 = 4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2 = 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ероятность заданного события равна 5/3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427640" y="1557360"/>
          <a:ext cx="3890880" cy="3924360"/>
        </p:xfrm>
        <a:graphic>
          <a:graphicData uri="http://schemas.openxmlformats.org/drawingml/2006/table">
            <a:tbl>
              <a:tblPr/>
              <a:tblGrid>
                <a:gridCol w="556920"/>
                <a:gridCol w="555840"/>
                <a:gridCol w="555480"/>
                <a:gridCol w="555480"/>
                <a:gridCol w="555840"/>
                <a:gridCol w="555480"/>
                <a:gridCol w="555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меры задач на вычислени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оятностей случайных событ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6626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а д а ч а  № 2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 стрелок делает 80% попаданий, а другой (при тех же условиях стрельбы) 70%. Найти вероятность поражения цели, если оба стрелка стреляют в нее одновременно. Цель считается пораженной при попадании в нее хотя бы одной их двух пу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(1 спосо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(2 спосо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(3 способ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859360" y="1599840"/>
            <a:ext cx="3284640" cy="2189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422100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4360" y="472428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522936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1 спосо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448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стрелок делает 80% попаданий, а другой (при тех же условиях стрельбы) 70%. Найти вероятность поражения цели, если оба стрелка стреляют в нее одновременно. Цель считается пораженной при попадании в нее хотя бы одной их двух пу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1557360"/>
            <a:ext cx="554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устим, что производится 100 двойных выстрелов. Примерно в 80 из них цель будет поражена первым стрелком. Остается около 20 выстрелов, в которых этот стрелок даст промах. Так как второй стрелок поражает в среднем 70 раз из 100 выстрелов и, значит, 7 раз из 10 выстрелов, то мы можем ожидать, что в тех 20 выстрелах, в которых первый стрелок даст промах, второму удастся поразить цель примерно 14 раз. Таким образом, при всей сотне выстрелов цель окажется пораженной 80 + 14 = 94 раза. Вероятность поражения цели при одновременной стрельбе этих двух стрелков равна поэтому 94%, или 0,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2 спосо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66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стрелок делает 80% попаданий, а другой (при тех же условиях стрельбы) 70%. Найти вероятность поражения цели, если оба стрелка стреляют в нее одновременно. Цель считается пораженной при попадании в нее хотя бы одной их двух пу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058920" y="1599840"/>
            <a:ext cx="5475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поп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го стрелка 0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стрелка  0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п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го стрелк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0,8 = 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стрел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будет поражена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й стрелок попадет, а второй нет  0,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∙0,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0,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й стрелок попадет, а первый нет  0,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∙0,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0,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а стрелка попадут                                0,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∙0,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0,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 цель будет поражена с вероятност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24 + 0,14 + 0,56 = 0,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3 способ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2448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стрелок делает 80% попаданий, а другой (при тех же условиях стрельбы) 70%. Найти вероятность поражения цели, если оба стрелка стреляют в нее одновременно. Цель считается пораженной при попадании в нее хотя бы одной их двух пу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484280"/>
            <a:ext cx="576108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поп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го стрелка 0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стрелка  0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ероятност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п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го стрелка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0,8 = 0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торого стрел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 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,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удет поражена,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стрелк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дут              0,2∙0,3 = 0,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цел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дет пораж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вероят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- 0,06 = 0,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Теория и  практи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11640" y="1599840"/>
            <a:ext cx="432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подброшенная на ваших глазах реальная монета 100 раз или хотя бы 10 подряд упала "орлом" вверх, то вы можете быть уверены, что она "неправильная", возможно, фальшивая – у нее явно смещен центр тяж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1972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ловная вероят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640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ной вероятностью события В при услови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 отнош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635280" y="4653000"/>
            <a:ext cx="518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роятность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бытия В в новых условиях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когда уже известно, что событие А произош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5640" y="2565360"/>
                <a:ext cx="3240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В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Р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∩</m:t>
                        </m:r>
                        <m:r>
                          <m:t xml:space="preserve">В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Р</m:t>
                        </m:r>
                        <m:r>
                          <m:t xml:space="preserve">(</m:t>
                        </m:r>
                        <m:r>
                          <m:t xml:space="preserve">А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словная вероятнос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777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Формула вычисл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вероят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бытия В при условии, что произош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бытие А, но могло иметь место еще  и событие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мер использования такой обобщенной форму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ассмотрен дал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19280" y="3429000"/>
            <a:ext cx="563400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римеры задач на вычисление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ероятностей случайных событ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275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 а д а ч а  № 3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усть в некотором классе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учеников, из н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   "отличника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"твердых хорошистов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"троечников"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 остальные   2 – "отстающие"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веряя контрольную работу, учитель поставил 5 за одну работу, которая оказалась неподписанной. Прав ли он, считая, что она принадлежит "отличнику", если вероятность получения пятерки соответственно рав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личник     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орошист    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роечник      0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стающий   0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 е ш е н и е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5157720"/>
            <a:ext cx="1152720" cy="432000"/>
          </a:xfrm>
          <a:custGeom>
            <a:avLst/>
            <a:gdLst>
              <a:gd name="textAreaLeft" fmla="*/ 27720 w 1152720"/>
              <a:gd name="textAreaRight" fmla="*/ 1125000 w 1152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7606" h="21600">
                <a:moveTo>
                  <a:pt x="0" y="0"/>
                </a:moveTo>
                <a:lnTo>
                  <a:pt x="57606" y="0"/>
                </a:lnTo>
                <a:lnTo>
                  <a:pt x="57606" y="21600"/>
                </a:lnTo>
                <a:lnTo>
                  <a:pt x="0" y="21600"/>
                </a:lnTo>
                <a:close/>
              </a:path>
              <a:path fill="lightenLess" w="57606" h="21600">
                <a:moveTo>
                  <a:pt x="0" y="0"/>
                </a:moveTo>
                <a:lnTo>
                  <a:pt x="57606" y="0"/>
                </a:lnTo>
                <a:lnTo>
                  <a:pt x="56206" y="1400"/>
                </a:lnTo>
                <a:lnTo>
                  <a:pt x="1400" y="1400"/>
                </a:lnTo>
                <a:close/>
              </a:path>
              <a:path fill="darken" w="57606" h="21600">
                <a:moveTo>
                  <a:pt x="57606" y="0"/>
                </a:moveTo>
                <a:lnTo>
                  <a:pt x="57606" y="21600"/>
                </a:lnTo>
                <a:lnTo>
                  <a:pt x="56206" y="20200"/>
                </a:lnTo>
                <a:lnTo>
                  <a:pt x="56206" y="1400"/>
                </a:lnTo>
                <a:close/>
              </a:path>
              <a:path fill="darkenLess" w="57606" h="21600">
                <a:moveTo>
                  <a:pt x="57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6" y="20200"/>
                </a:lnTo>
                <a:close/>
              </a:path>
              <a:path fill="lighten" w="57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47960" y="251424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3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 н а ч а л 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064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обыти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тавленная пятерка за "анонимную" рабо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надо найти условную вероятность событи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бытие, при котором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одписанная работа принадлежит одному из отлич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ва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означены события, при котор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ятерку получил соответств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"хорошист", "троечник" и "отстающи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73593" r="1634" b="13188"/>
          <a:stretch/>
        </p:blipFill>
        <p:spPr>
          <a:xfrm>
            <a:off x="539640" y="3645000"/>
            <a:ext cx="7920000" cy="119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3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 продолж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95640" y="1599840"/>
            <a:ext cx="453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24360" y="2060640"/>
                <a:ext cx="13683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508720" y="3645000"/>
                <a:ext cx="12952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16360" y="2852640"/>
                <a:ext cx="1368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372360" y="4437000"/>
                <a:ext cx="1295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39640" y="1484280"/>
            <a:ext cx="295272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услов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еников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   "отличника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хорошистов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   "троечников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   "отстающие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подписанная работа принадлеж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ному из отлич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- одному из хорошистов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одному из троечников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одному из отстающи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3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 продолже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148360" y="3284640"/>
                <a:ext cx="320508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8360" y="4076640"/>
                <a:ext cx="336060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4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148360" y="4941720"/>
                <a:ext cx="338616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148360" y="5661000"/>
                <a:ext cx="33242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39640" y="1484280"/>
            <a:ext cx="2952720" cy="39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 услов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чеников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   "отличника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хорошистов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    "троечников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    "отстающие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подписанная работа принадлеж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дному из отлич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- одному из хорошистов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одному из троечников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- одному из отстающих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1773360"/>
            <a:ext cx="50403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ывая то, что анонимную работу написал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только один ученик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ссмотрим вероятность  того, ч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 напис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лич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хорошист,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троечник и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отст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 напис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хорошис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 напис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роечни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 написа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тстающ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Решение задачи №3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 окончани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73593" r="1634" b="13188"/>
          <a:stretch/>
        </p:blipFill>
        <p:spPr>
          <a:xfrm>
            <a:off x="684360" y="1916280"/>
            <a:ext cx="7489800" cy="129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042920" y="3284640"/>
                <a:ext cx="936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С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364000" y="3357720"/>
                <a:ext cx="863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132000" y="3284640"/>
                <a:ext cx="863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020000" y="3284640"/>
                <a:ext cx="865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826920" y="4005360"/>
                <a:ext cx="3095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9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7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26920" y="4437000"/>
                <a:ext cx="302436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4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59280" y="4005360"/>
                <a:ext cx="3097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9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859280" y="4437000"/>
                <a:ext cx="30258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⋅</m:t>
                    </m:r>
                    <m:r>
                      <m:t xml:space="preserve">0,3</m:t>
                    </m:r>
                    <m:r>
                      <m:t xml:space="preserve">⋅</m:t>
                    </m:r>
                    <m:r>
                      <m:t xml:space="preserve">0,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84360" y="4724280"/>
                <a:ext cx="7488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0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0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4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8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1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763640" y="1484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тавим полученные значения в форму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атематические мод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модель "монета"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адение "орла" или "решки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ет одинаковую вероятность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8360" y="1599840"/>
            <a:ext cx="3386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 заре зарождения теории вероятностей были скептики –исследователи, сомневавшиеся в этом вполне очевидном для нас факте и очень много раз  подбрасывали монету, но всегда убеждались, что "орел" выпадает в половине случа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5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оличество выпадений "орла" при многократном подбрасывания мон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006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 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первы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00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брос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 99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раз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вторых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00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бросан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 00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раз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ля всех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 00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бросан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В любом случае частота выпа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"орла" была очень близка к половине.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атематические модел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978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ая модель «игральная кость»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адение каждой гр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многократном бросании ку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одинаковую вероятнос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04080" y="3284640"/>
            <a:ext cx="24984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обытия и испыт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ом исследования в теории вероятностей являются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собы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появляющиеся при определенных условиях, которые можно воспроизводить неограниченное количество раз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ое осуществление этих условий называют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испы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63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и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римеры испытаний и событий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599840"/>
            <a:ext cx="3889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спы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бросание игральной 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5080" y="1599840"/>
            <a:ext cx="3889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бы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ыпадение шестерк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падение четного числа 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9480" y="3884400"/>
            <a:ext cx="3889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спыта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звешивание тела на аналитических ве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5080" y="3884400"/>
            <a:ext cx="388944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быт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ошибка измерения не превзойдет заранее задан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ероятность случайного событи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епень объективной возмож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случайного события можно измерять чис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число называ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роятностью случайного события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оло этого числа группируются относительные частоты данного случайного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4:42:10Z</dcterms:created>
  <dc:creator>Светочка</dc:creator>
  <dc:description/>
  <dc:language>en-US</dc:language>
  <cp:lastModifiedBy>Мама</cp:lastModifiedBy>
  <dcterms:modified xsi:type="dcterms:W3CDTF">2011-11-21T03:34:50Z</dcterms:modified>
  <cp:revision>43</cp:revision>
  <dc:subject/>
  <dc:title>Из истории «Теории вероятностей»</dc:title>
</cp:coreProperties>
</file>