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3.wmf" ContentType="image/x-wmf"/>
  <Override PartName="/ppt/media/image56.png" ContentType="image/png"/>
  <Override PartName="/ppt/media/image119.wmf" ContentType="image/x-wmf"/>
  <Override PartName="/ppt/media/image118.wmf" ContentType="image/x-wmf"/>
  <Override PartName="/ppt/media/image116.wmf" ContentType="image/x-wmf"/>
  <Override PartName="/ppt/media/image114.wmf" ContentType="image/x-wmf"/>
  <Override PartName="/ppt/media/image47.png" ContentType="image/png"/>
  <Override PartName="/ppt/media/image113.wmf" ContentType="image/x-wmf"/>
  <Override PartName="/ppt/media/image46.png" ContentType="image/png"/>
  <Override PartName="/ppt/media/image112.wmf" ContentType="image/x-wmf"/>
  <Override PartName="/ppt/media/image45.png" ContentType="image/png"/>
  <Override PartName="/ppt/media/image111.wmf" ContentType="image/x-wmf"/>
  <Override PartName="/ppt/media/image44.png" ContentType="image/png"/>
  <Override PartName="/ppt/media/image107.wmf" ContentType="image/x-wmf"/>
  <Override PartName="/ppt/media/image10.wmf" ContentType="image/x-wmf"/>
  <Override PartName="/ppt/media/image7.wmf" ContentType="image/x-wmf"/>
  <Override PartName="/ppt/media/image4.png" ContentType="image/png"/>
  <Override PartName="/ppt/media/image49.wmf" ContentType="image/x-wmf"/>
  <Override PartName="/ppt/media/image12.wmf" ContentType="image/x-wmf"/>
  <Override PartName="/ppt/media/image1.png" ContentType="image/png"/>
  <Override PartName="/ppt/media/image132.wmf" ContentType="image/x-wmf"/>
  <Override PartName="/ppt/media/image81.png" ContentType="image/png"/>
  <Override PartName="/ppt/media/image13.png" ContentType="image/png"/>
  <Override PartName="/ppt/media/image32.png" ContentType="image/png"/>
  <Override PartName="/ppt/media/image2.png" ContentType="image/png"/>
  <Override PartName="/ppt/media/image8.png" ContentType="image/png"/>
  <Override PartName="/ppt/media/image41.wmf" ContentType="image/x-wmf"/>
  <Override PartName="/ppt/media/image16.png" ContentType="image/png"/>
  <Override PartName="/ppt/media/image84.png" ContentType="image/png"/>
  <Override PartName="/ppt/media/image138.wmf" ContentType="image/x-wmf"/>
  <Override PartName="/ppt/media/image80.png" ContentType="image/png"/>
  <Override PartName="/ppt/media/image3.png" ContentType="image/png"/>
  <Override PartName="/ppt/media/image100.wmf" ContentType="image/x-wmf"/>
  <Override PartName="/ppt/media/image33.png" ContentType="image/png"/>
  <Override PartName="/ppt/media/image108.wmf" ContentType="image/x-wmf"/>
  <Override PartName="/ppt/media/image11.wmf" ContentType="image/x-wmf"/>
  <Override PartName="/ppt/media/image54.png" ContentType="image/png"/>
  <Override PartName="/ppt/media/image48.wmf" ContentType="image/x-wmf"/>
  <Override PartName="/ppt/media/image129.wmf" ContentType="image/x-wmf"/>
  <Override PartName="/ppt/media/image75.png" ContentType="image/png"/>
  <Override PartName="/ppt/media/image131.wmf" ContentType="image/x-wmf"/>
  <Override PartName="/ppt/media/image109.png" ContentType="image/png"/>
  <Override PartName="/ppt/media/image128.wmf" ContentType="image/x-wmf"/>
  <Override PartName="/ppt/media/image74.png" ContentType="image/png"/>
  <Override PartName="/ppt/media/image130.png" ContentType="image/png"/>
  <Override PartName="/ppt/media/image79.png" ContentType="image/png"/>
  <Override PartName="/ppt/media/image42.png" ContentType="image/png"/>
  <Override PartName="/ppt/media/image139.png" ContentType="image/png"/>
  <Override PartName="/ppt/media/image135.png" ContentType="image/png"/>
  <Override PartName="/ppt/media/image127.wmf" ContentType="image/x-wmf"/>
  <Override PartName="/ppt/media/image30.wmf" ContentType="image/x-wmf"/>
  <Override PartName="/ppt/media/image43.png" ContentType="image/png"/>
  <Override PartName="/ppt/media/image9.wmf" ContentType="image/x-wmf"/>
  <Override PartName="/ppt/media/image39.wmf" ContentType="image/x-wmf"/>
  <Override PartName="/ppt/media/image133.png" ContentType="image/png"/>
  <Override PartName="/ppt/media/image78.png" ContentType="image/png"/>
  <Override PartName="/ppt/media/image35.wmf" ContentType="image/x-wmf"/>
  <Override PartName="/ppt/media/image53.wmf" ContentType="image/x-wmf"/>
  <Override PartName="/ppt/media/image136.png" ContentType="image/png"/>
  <Override PartName="/ppt/media/image98.png" ContentType="image/png"/>
  <Override PartName="/ppt/media/image55.wmf" ContentType="image/x-wmf"/>
  <Override PartName="/ppt/media/image25.png" ContentType="image/png"/>
  <Override PartName="/ppt/media/image93.png" ContentType="image/png"/>
  <Override PartName="/ppt/media/image50.wmf" ContentType="image/x-wmf"/>
  <Override PartName="/ppt/media/image137.png" ContentType="image/png"/>
  <Override PartName="/ppt/media/image40.png" ContentType="image/png"/>
  <Override PartName="/ppt/media/image73.png" ContentType="image/png"/>
  <Override PartName="/ppt/media/image140.wmf" ContentType="image/x-wmf"/>
  <Override PartName="/ppt/media/image21.png" ContentType="image/png"/>
  <Override PartName="/ppt/media/image89.wmf" ContentType="image/x-wmf"/>
  <Override PartName="/ppt/media/image52.png" ContentType="image/png"/>
  <Override PartName="/ppt/media/image134.png" ContentType="image/png"/>
  <Override PartName="/ppt/media/image51.wmf" ContentType="image/x-wmf"/>
  <Override PartName="/ppt/media/image29.png" ContentType="image/png"/>
  <Override PartName="/ppt/media/image94.png" ContentType="image/png"/>
  <Override PartName="/ppt/media/image38.wmf" ContentType="image/x-wmf"/>
  <Override PartName="/ppt/media/image77.png" ContentType="image/png"/>
  <Override PartName="/ppt/media/image34.wmf" ContentType="image/x-wmf"/>
  <Override PartName="/ppt/media/image36.png" ContentType="image/png"/>
  <Override PartName="/ppt/media/image6.png" ContentType="image/png"/>
  <Override PartName="/ppt/media/image83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14.png" ContentType="image/png"/>
  <Override PartName="/ppt/media/image82.png" ContentType="image/png"/>
  <Override PartName="/ppt/media/image31.png" ContentType="image/png"/>
  <Override PartName="/ppt/media/image15.wmf" ContentType="image/x-wmf"/>
  <Override PartName="/ppt/media/image57.wmf" ContentType="image/x-wmf"/>
  <Override PartName="/ppt/media/image20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24.wmf" ContentType="image/x-wmf"/>
  <Override PartName="/ppt/media/image67.png" ContentType="image/png"/>
  <Override PartName="/ppt/media/image26.wmf" ContentType="image/x-wmf"/>
  <Override PartName="/ppt/media/image69.png" ContentType="image/png"/>
  <Override PartName="/ppt/media/image120.png" ContentType="image/png"/>
  <Override PartName="/ppt/media/image27.wmf" ContentType="image/x-wmf"/>
  <Override PartName="/ppt/media/image121.png" ContentType="image/png"/>
  <Override PartName="/ppt/media/image122.png" ContentType="image/png"/>
  <Override PartName="/ppt/media/image60.wmf" ContentType="image/x-wmf"/>
  <Override PartName="/ppt/media/image61.png" ContentType="image/png"/>
  <Override PartName="/ppt/media/image115.wmf" ContentType="image/x-wmf"/>
  <Override PartName="/ppt/media/image62.wmf" ContentType="image/x-wmf"/>
  <Override PartName="/ppt/media/image63.png" ContentType="image/png"/>
  <Override PartName="/ppt/media/image117.wmf" ContentType="image/x-wmf"/>
  <Override PartName="/ppt/media/image64.wmf" ContentType="image/x-wmf"/>
  <Override PartName="/ppt/media/image65.wmf" ContentType="image/x-wmf"/>
  <Override PartName="/ppt/media/image66.png" ContentType="image/png"/>
  <Override PartName="/ppt/media/image68.png" ContentType="image/png"/>
  <Override PartName="/ppt/media/image70.png" ContentType="image/png"/>
  <Override PartName="/ppt/media/image124.wmf" ContentType="image/x-wmf"/>
  <Override PartName="/ppt/media/image71.png" ContentType="image/png"/>
  <Override PartName="/ppt/media/image58.png" ContentType="image/png"/>
  <Override PartName="/ppt/media/image125.wmf" ContentType="image/x-wmf"/>
  <Override PartName="/ppt/media/image72.png" ContentType="image/png"/>
  <Override PartName="/ppt/media/image59.png" ContentType="image/png"/>
  <Override PartName="/ppt/media/image126.wmf" ContentType="image/x-wmf"/>
  <Override PartName="/ppt/media/image76.png" ContentType="image/png"/>
  <Override PartName="/ppt/media/image18.png" ContentType="image/png"/>
  <Override PartName="/ppt/media/image86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23.png" ContentType="image/png"/>
  <Override PartName="/ppt/media/image91.png" ContentType="image/png"/>
  <Override PartName="/ppt/media/image92.png" ContentType="image/png"/>
  <Override PartName="/ppt/media/image95.png" ContentType="image/png"/>
  <Override PartName="/ppt/media/image28.wmf" ContentType="image/x-wmf"/>
  <Override PartName="/ppt/media/image96.wmf" ContentType="image/x-wmf"/>
  <Override PartName="/ppt/media/image97.wmf" ContentType="image/x-wmf"/>
  <Override PartName="/ppt/media/image99.png" ContentType="image/png"/>
  <Override PartName="/ppt/media/image101.wmf" ContentType="image/x-wmf"/>
  <Override PartName="/ppt/media/image102.png" ContentType="image/png"/>
  <Override PartName="/ppt/media/image103.png" ContentType="image/png"/>
  <Override PartName="/ppt/media/image37.png" ContentType="image/png"/>
  <Override PartName="/ppt/media/image104.wmf" ContentType="image/x-wmf"/>
  <Override PartName="/ppt/media/image105.wmf" ContentType="image/x-wmf"/>
  <Override PartName="/ppt/media/image10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9B11-FC65-4E38-9489-8955CFC6A6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1B5B-8F71-4E09-AF35-0801A16E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B0BD-250E-416A-9483-9544D58B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3D05-91A4-4B87-9B8A-76E73D645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79EC-948F-4E2E-AA6A-837F4B14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208B-EE8E-4BFE-91AC-CE642C53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9458-C9C8-44E2-8C41-C8A14A63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FEB0-A019-4E79-A328-40E11D74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BB68-7E53-46FC-B183-1384019C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168C-B0B7-4536-BFD6-1676078D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C6A5-D37B-49CC-9358-CFAAA354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B8FF-D4B3-4C46-8594-8A34FD3A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4746-B405-485B-A148-6674BD70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ACE6-7C5D-46BE-ACBD-4F1E74B06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image" Target="../media/image5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3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wmf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image" Target="../media/image58.png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0.wmf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2.wmf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5.wmf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7.wmf"/><Relationship Id="rId5" Type="http://schemas.openxmlformats.org/officeDocument/2006/relationships/image" Target="../media/image98.png"/><Relationship Id="rId6" Type="http://schemas.openxmlformats.org/officeDocument/2006/relationships/image" Target="../media/image9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0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01.wmf"/><Relationship Id="rId11" Type="http://schemas.openxmlformats.org/officeDocument/2006/relationships/image" Target="../media/image102.png"/><Relationship Id="rId1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5.wmf"/><Relationship Id="rId6" Type="http://schemas.openxmlformats.org/officeDocument/2006/relationships/image" Target="../media/image106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0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08.wmf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image" Target="../media/image1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2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14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15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16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17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18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19.wmf"/><Relationship Id="rId2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20.png"/><Relationship Id="rId2" Type="http://schemas.openxmlformats.org/officeDocument/2006/relationships/image" Target="../media/image121.png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28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29.wmf"/><Relationship Id="rId16" Type="http://schemas.openxmlformats.org/officeDocument/2006/relationships/image" Target="../media/image130.png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31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32.wmf"/><Relationship Id="rId2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33.png"/><Relationship Id="rId2" Type="http://schemas.openxmlformats.org/officeDocument/2006/relationships/image" Target="../media/image134.png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35.png"/><Relationship Id="rId2" Type="http://schemas.openxmlformats.org/officeDocument/2006/relationships/image" Target="../media/image136.png"/><Relationship Id="rId3" Type="http://schemas.openxmlformats.org/officeDocument/2006/relationships/image" Target="../media/image13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38.wmf"/><Relationship Id="rId6" Type="http://schemas.openxmlformats.org/officeDocument/2006/relationships/image" Target="../media/image139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140.wm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419720" y="1295280"/>
            <a:ext cx="47242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оказательство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кажем, что медиа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очке пересечени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лятся в отношени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: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3772080" cy="3120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280" y="5335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Теорема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аны треугольника пересекаются в одной точке и делятся в этой точке в отношении 2 : 1, считая от верши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09480" y="1447920"/>
            <a:ext cx="8534520" cy="3419640"/>
            <a:chOff x="609480" y="1447920"/>
            <a:chExt cx="8534520" cy="3419640"/>
          </a:xfrm>
        </p:grpSpPr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609480" y="1447920"/>
              <a:ext cx="3772080" cy="31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419720" y="2743200"/>
              <a:ext cx="4724280" cy="21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середина отрез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огд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средняя линия 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Следовательно, прямы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араллельны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4572000"/>
            <a:ext cx="9144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 ка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:1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о по теореме о пропорциональных отрезках получим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: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05320"/>
            <a:ext cx="9144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огично доказывается, что медиа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очке пересечения делятся в отношении 2:1. Значит, все медианы пересекаются в одной точке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елятся в этой точке в отношении 2 : 1, считая от верши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Медианы треуголь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52280" y="60948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кажите, что медиана треугольника делит его площадь пополам, а три медианы треугольника делят его на шесть треугольников одинаковой площад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3408480" cy="2900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876920" y="1828800"/>
            <a:ext cx="3408120" cy="28796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Упражнение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2280" y="6858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щадь треугольни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а 1. Найдите площадь треугольника, стороны которого равны медианам треугольни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пражнение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3408480" cy="28688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152280" y="1981080"/>
            <a:ext cx="8991720" cy="3568680"/>
            <a:chOff x="152280" y="1981080"/>
            <a:chExt cx="8991720" cy="3568680"/>
          </a:xfrm>
        </p:grpSpPr>
        <p:sp>
          <p:nvSpPr>
            <p:cNvPr id="116" name=""/>
            <p:cNvSpPr/>
            <p:nvPr/>
          </p:nvSpPr>
          <p:spPr>
            <a:xfrm>
              <a:off x="3809880" y="2133720"/>
              <a:ext cx="53341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а продолжении отрез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ложим равный ему отрезок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152280" y="1981080"/>
              <a:ext cx="3408480" cy="345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3886200" y="2895480"/>
              <a:ext cx="52578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тороны 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M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ны две трети медиан, а его площадь равна одной третьей. Следовательно, площадь треугольника, стороны которого равны медианам 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равна три четвертых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04920" y="5791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Отве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52280" y="533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Теорема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иссектриса угла треугольника делит противоположную сторону на части, пропорциональные прилежащим сторон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Биссектрисы треуголь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2084400" cy="167616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685800" y="1752480"/>
            <a:ext cx="8458200" cy="2738520"/>
            <a:chOff x="685800" y="1752480"/>
            <a:chExt cx="8458200" cy="2738520"/>
          </a:xfrm>
        </p:grpSpPr>
        <p:sp>
          <p:nvSpPr>
            <p:cNvPr id="124" name=""/>
            <p:cNvSpPr/>
            <p:nvPr/>
          </p:nvSpPr>
          <p:spPr>
            <a:xfrm>
              <a:off x="3581280" y="1752480"/>
              <a:ext cx="55627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Доказательство.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D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биссектриса 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кажем, что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B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Проведем прямую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параллельную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D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В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угол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равен угл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Следовательно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По теорем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о пропорциональных отрезках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B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E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685800" y="1981080"/>
              <a:ext cx="2276640" cy="250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280" y="60948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рямоугольном тре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ямой,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3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Найдите угол между биссектрис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медиан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го треуголь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4495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твет. 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ru-RU" sz="2400" spc="-1" strike="noStrike" baseline="30000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пражнение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666880" y="2057400"/>
            <a:ext cx="376236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2280" y="609480"/>
            <a:ext cx="8991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угольни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6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Найдите угол между биссектрисам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го треуголь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4495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Ответ. 12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пражнение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294012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280" y="533520"/>
            <a:ext cx="8991720" cy="23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сть в тре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 AC =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 =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кажите, что для биссектрис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роведенной из 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ет место формул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’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отрезки на которые биссектриса делит сторон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657600" y="1371600"/>
          <a:ext cx="2176560" cy="5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371600"/>
                    <a:ext cx="217656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52280" y="2438280"/>
            <a:ext cx="3408480" cy="289080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0" y="2514600"/>
            <a:ext cx="9144000" cy="4017960"/>
            <a:chOff x="0" y="2514600"/>
            <a:chExt cx="9144000" cy="4017960"/>
          </a:xfrm>
        </p:grpSpPr>
        <p:sp>
          <p:nvSpPr>
            <p:cNvPr id="139" name=""/>
            <p:cNvSpPr/>
            <p:nvPr/>
          </p:nvSpPr>
          <p:spPr>
            <a:xfrm>
              <a:off x="3581280" y="2514600"/>
              <a:ext cx="5562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Доказательство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По теореме косинусов, примененной к треугольника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D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D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имеем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5305320"/>
              <a:ext cx="9067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Умножим первое равенство н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’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торое н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’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сложим полученные равенства. Делая тождественные преобразования, получим равенство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1" name=""/>
            <p:cNvGraphicFramePr/>
            <p:nvPr/>
          </p:nvGraphicFramePr>
          <p:xfrm>
            <a:off x="2666880" y="6019920"/>
            <a:ext cx="1959120" cy="512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666880" y="6019920"/>
                      <a:ext cx="1959120" cy="51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3" name=""/>
            <p:cNvGraphicFramePr/>
            <p:nvPr/>
          </p:nvGraphicFramePr>
          <p:xfrm>
            <a:off x="4278240" y="3733920"/>
            <a:ext cx="4170600" cy="515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278240" y="3733920"/>
                      <a:ext cx="4170600" cy="51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"/>
            <p:cNvGraphicFramePr/>
            <p:nvPr/>
          </p:nvGraphicFramePr>
          <p:xfrm>
            <a:off x="4240080" y="4267080"/>
            <a:ext cx="4243680" cy="5158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240080" y="4267080"/>
                      <a:ext cx="4243680" cy="51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пражнение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52280" y="68580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ре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 AC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Найдите биссектрис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пражнение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110040" cy="175104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609480" y="4235400"/>
            <a:ext cx="3048120" cy="825480"/>
            <a:chOff x="609480" y="4235400"/>
            <a:chExt cx="3048120" cy="825480"/>
          </a:xfrm>
        </p:grpSpPr>
        <p:sp>
          <p:nvSpPr>
            <p:cNvPr id="152" name=""/>
            <p:cNvSpPr/>
            <p:nvPr/>
          </p:nvSpPr>
          <p:spPr>
            <a:xfrm>
              <a:off x="609480" y="44197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Ответ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3" name=""/>
            <p:cNvGraphicFramePr/>
            <p:nvPr/>
          </p:nvGraphicFramePr>
          <p:xfrm>
            <a:off x="1681200" y="4235400"/>
            <a:ext cx="825480" cy="825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81200" y="4235400"/>
                      <a:ext cx="825480" cy="82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2280" y="68580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ре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 AC = BC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дите биссектрис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пражнение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44197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твет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809880" y="1447920"/>
            <a:ext cx="13575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52280" y="68580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ре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 AC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дите биссектрису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пражнение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4197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твет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282096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2280" y="68580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ре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 AC = 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биссектриса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 = C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дит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пражнение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352680" y="1752480"/>
            <a:ext cx="2062440" cy="252108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609480" y="4267080"/>
            <a:ext cx="3048120" cy="768600"/>
            <a:chOff x="609480" y="4267080"/>
            <a:chExt cx="3048120" cy="768600"/>
          </a:xfrm>
        </p:grpSpPr>
        <p:sp>
          <p:nvSpPr>
            <p:cNvPr id="167" name=""/>
            <p:cNvSpPr/>
            <p:nvPr/>
          </p:nvSpPr>
          <p:spPr>
            <a:xfrm>
              <a:off x="609480" y="44197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Ответ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8" name=""/>
            <p:cNvGraphicFramePr/>
            <p:nvPr/>
          </p:nvGraphicFramePr>
          <p:xfrm>
            <a:off x="1600200" y="4267080"/>
            <a:ext cx="888840" cy="768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0200" y="4267080"/>
                      <a:ext cx="888840" cy="76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280" y="53352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кажите, что если для сторон тре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неравенств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 &gt; 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 медиан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M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жит ближе к сторон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.е.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M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ньше угл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пражнение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2939760" cy="248904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990720" y="1752480"/>
            <a:ext cx="8153280" cy="4464000"/>
            <a:chOff x="990720" y="1752480"/>
            <a:chExt cx="8153280" cy="4464000"/>
          </a:xfrm>
        </p:grpSpPr>
        <p:sp>
          <p:nvSpPr>
            <p:cNvPr id="61" name=""/>
            <p:cNvSpPr/>
            <p:nvPr/>
          </p:nvSpPr>
          <p:spPr>
            <a:xfrm>
              <a:off x="4191120" y="1752480"/>
              <a:ext cx="4952880" cy="41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Доказательство.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одолжим медиан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M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отложим отрезок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ный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MD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M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ны по двум сторонам и углу между ними. Следовательно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 = B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ак как против меньшей стороны треугольника лежит меньший угол, то угол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D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меньше угл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Значит, угол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M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меньше угл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M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990720" y="1828800"/>
              <a:ext cx="2939760" cy="4387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52280" y="60948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кажите, что биссектриса угла треугольника делит его площадь на части, пропорциональные прилежащим сторона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408120" cy="29005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52280" y="4495680"/>
            <a:ext cx="8686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оказательство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треугольник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сота, проведенная из 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бщая, а сторо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сятся как сторо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овательно, площади треугольник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сятся как сторо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пражнение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280" y="68580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ре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 AC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биссектриса. Найдите площадь треугольни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пражнение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110040" cy="1751040"/>
          </a:xfrm>
          <a:prstGeom prst="rect">
            <a:avLst/>
          </a:prstGeom>
          <a:ln w="0">
            <a:noFill/>
          </a:ln>
        </p:spPr>
      </p:pic>
      <p:grpSp>
        <p:nvGrpSpPr>
          <p:cNvPr id="177" name=""/>
          <p:cNvGrpSpPr/>
          <p:nvPr/>
        </p:nvGrpSpPr>
        <p:grpSpPr>
          <a:xfrm>
            <a:off x="609480" y="4267080"/>
            <a:ext cx="3048120" cy="762120"/>
            <a:chOff x="609480" y="4267080"/>
            <a:chExt cx="3048120" cy="762120"/>
          </a:xfrm>
        </p:grpSpPr>
        <p:sp>
          <p:nvSpPr>
            <p:cNvPr id="178" name=""/>
            <p:cNvSpPr/>
            <p:nvPr/>
          </p:nvSpPr>
          <p:spPr>
            <a:xfrm>
              <a:off x="609480" y="44197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Ответ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9" name=""/>
            <p:cNvGraphicFramePr/>
            <p:nvPr/>
          </p:nvGraphicFramePr>
          <p:xfrm>
            <a:off x="1828800" y="4267080"/>
            <a:ext cx="528480" cy="762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8800" y="4267080"/>
                      <a:ext cx="52848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52280" y="685800"/>
            <a:ext cx="89917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сть в тре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 AB =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 =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 =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кажите, что биссектрис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елится точкой пересечения биссектрис в отношении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+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считая от вершин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пражнение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971800" y="1905120"/>
            <a:ext cx="3259080" cy="258264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304920" y="1905120"/>
            <a:ext cx="8839080" cy="4501800"/>
            <a:chOff x="304920" y="1905120"/>
            <a:chExt cx="8839080" cy="4501800"/>
          </a:xfrm>
        </p:grpSpPr>
        <p:sp>
          <p:nvSpPr>
            <p:cNvPr id="185" name=""/>
            <p:cNvSpPr/>
            <p:nvPr/>
          </p:nvSpPr>
          <p:spPr>
            <a:xfrm>
              <a:off x="304920" y="4648320"/>
              <a:ext cx="8839080" cy="17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Доказательство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оведем прямую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’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параллельную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огд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’B = A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 = b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’ = b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’B = a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ак как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 = b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о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 = 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+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 + 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/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2"/>
            <a:stretch/>
          </p:blipFill>
          <p:spPr>
            <a:xfrm>
              <a:off x="2971800" y="1905120"/>
              <a:ext cx="3259080" cy="258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ысоты треугольни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80880"/>
            <a:ext cx="8991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еорем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ямоугольном треугольнике перпендикуляр, опущенный из прямого угла на гипотенузу, есть среднее геометрическое проекций катетов на гипотенуз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ним геометрическим двух положительных чисел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ывается положительное числ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вадрат которого раве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.е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743200" y="2743200"/>
          <a:ext cx="83808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743200"/>
                    <a:ext cx="8380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1" name=""/>
          <p:cNvGrpSpPr/>
          <p:nvPr/>
        </p:nvGrpSpPr>
        <p:grpSpPr>
          <a:xfrm>
            <a:off x="0" y="5105520"/>
            <a:ext cx="9144000" cy="1595880"/>
            <a:chOff x="0" y="5105520"/>
            <a:chExt cx="9144000" cy="1595880"/>
          </a:xfrm>
        </p:grpSpPr>
        <p:sp>
          <p:nvSpPr>
            <p:cNvPr id="192" name=""/>
            <p:cNvSpPr/>
            <p:nvPr/>
          </p:nvSpPr>
          <p:spPr>
            <a:xfrm>
              <a:off x="0" y="5105520"/>
              <a:ext cx="914400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Доказательство.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еугольники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C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и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DB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подобны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ледовательно,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или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D</a:t>
              </a:r>
              <a:r>
                <a:rPr b="0" lang="ru-RU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D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т.е.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D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является средним геометрическим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и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D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3" name=""/>
            <p:cNvGraphicFramePr/>
            <p:nvPr/>
          </p:nvGraphicFramePr>
          <p:xfrm>
            <a:off x="2590920" y="5562720"/>
            <a:ext cx="1295280" cy="736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90920" y="5562720"/>
                      <a:ext cx="129528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4038480" y="3352680"/>
            <a:ext cx="32004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Упражнение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60948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треугольник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C AB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C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йдите высоту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48006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. 2,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Упражнение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280" y="60948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треугольник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C AB =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C = BC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йдите высоту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48006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.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4,8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пражнение</a:t>
            </a: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60948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треугольник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C AB =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C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йдите высоту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09480" y="4724280"/>
            <a:ext cx="7391520" cy="838440"/>
            <a:chOff x="609480" y="4724280"/>
            <a:chExt cx="7391520" cy="838440"/>
          </a:xfrm>
        </p:grpSpPr>
        <p:sp>
          <p:nvSpPr>
            <p:cNvPr id="205" name=""/>
            <p:cNvSpPr/>
            <p:nvPr/>
          </p:nvSpPr>
          <p:spPr>
            <a:xfrm>
              <a:off x="609480" y="4800600"/>
              <a:ext cx="739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Ответ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6" name=""/>
            <p:cNvGraphicFramePr/>
            <p:nvPr/>
          </p:nvGraphicFramePr>
          <p:xfrm>
            <a:off x="1752480" y="4724280"/>
            <a:ext cx="727200" cy="838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4724280"/>
                      <a:ext cx="727200" cy="8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пражнение</a:t>
            </a: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609480"/>
            <a:ext cx="883944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треугольник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C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ведены высот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кажите, что треугольник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C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об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971800" y="2286000"/>
            <a:ext cx="3044880" cy="22874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990720" y="4800600"/>
            <a:ext cx="7391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Доказательство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еугольни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ямоугольные и имеют общий угол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Следовательно, они подобны по двум угла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пражнение</a:t>
            </a: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609480"/>
            <a:ext cx="883944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треугольник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C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ведены высот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кажите, что угл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C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в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3044880" cy="2287440"/>
          </a:xfrm>
          <a:prstGeom prst="rect">
            <a:avLst/>
          </a:prstGeom>
          <a:ln w="0">
            <a:noFill/>
          </a:ln>
        </p:spPr>
      </p:pic>
      <p:grpSp>
        <p:nvGrpSpPr>
          <p:cNvPr id="215" name=""/>
          <p:cNvGrpSpPr/>
          <p:nvPr/>
        </p:nvGrpSpPr>
        <p:grpSpPr>
          <a:xfrm>
            <a:off x="304920" y="1676520"/>
            <a:ext cx="8839080" cy="3449520"/>
            <a:chOff x="304920" y="1676520"/>
            <a:chExt cx="8839080" cy="3449520"/>
          </a:xfrm>
        </p:grpSpPr>
        <p:sp>
          <p:nvSpPr>
            <p:cNvPr id="216" name=""/>
            <p:cNvSpPr/>
            <p:nvPr/>
          </p:nvSpPr>
          <p:spPr>
            <a:xfrm>
              <a:off x="3505320" y="1752480"/>
              <a:ext cx="5638680" cy="234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Доказательство.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Окружность с диаметром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пройдет через точки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. Вписанные углы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C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C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опираются на одну дугу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Следовательно, они равны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304920" y="1676520"/>
              <a:ext cx="3044880" cy="344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"/>
          <p:cNvSpPr/>
          <p:nvPr/>
        </p:nvSpPr>
        <p:spPr>
          <a:xfrm>
            <a:off x="3505320" y="4038480"/>
            <a:ext cx="5638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ля доказательства равенства углов можно было бы воспользоваться тем, что стороны данных углов перпендикуляр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пражнение</a:t>
            </a: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609480"/>
            <a:ext cx="883944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треугольник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C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ведены высот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кажите, что угл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в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3044880" cy="2287440"/>
          </a:xfrm>
          <a:prstGeom prst="rect">
            <a:avLst/>
          </a:prstGeom>
          <a:ln w="0">
            <a:noFill/>
          </a:ln>
        </p:spPr>
      </p:pic>
      <p:grpSp>
        <p:nvGrpSpPr>
          <p:cNvPr id="222" name=""/>
          <p:cNvGrpSpPr/>
          <p:nvPr/>
        </p:nvGrpSpPr>
        <p:grpSpPr>
          <a:xfrm>
            <a:off x="0" y="1676520"/>
            <a:ext cx="9144000" cy="5149440"/>
            <a:chOff x="0" y="1676520"/>
            <a:chExt cx="9144000" cy="5149440"/>
          </a:xfrm>
        </p:grpSpPr>
        <p:sp>
          <p:nvSpPr>
            <p:cNvPr id="223" name=""/>
            <p:cNvSpPr/>
            <p:nvPr/>
          </p:nvSpPr>
          <p:spPr>
            <a:xfrm>
              <a:off x="0" y="5334120"/>
              <a:ext cx="9144000" cy="149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Доказательство.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Окружность с диаметром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пройдет через точки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. Вписанные углы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BB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опираются на одну дугу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Следовательно, они равны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" descr=""/>
            <p:cNvPicPr/>
            <p:nvPr/>
          </p:nvPicPr>
          <p:blipFill>
            <a:blip r:embed="rId2"/>
            <a:stretch/>
          </p:blipFill>
          <p:spPr>
            <a:xfrm>
              <a:off x="3049560" y="1676520"/>
              <a:ext cx="3044880" cy="3449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2280" y="5335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кажите, что медиан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M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угольни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ньше полусуммы сторон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пражнение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2939760" cy="248904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990720" y="1752480"/>
            <a:ext cx="8153280" cy="4464000"/>
            <a:chOff x="990720" y="1752480"/>
            <a:chExt cx="8153280" cy="4464000"/>
          </a:xfrm>
        </p:grpSpPr>
        <p:sp>
          <p:nvSpPr>
            <p:cNvPr id="67" name=""/>
            <p:cNvSpPr/>
            <p:nvPr/>
          </p:nvSpPr>
          <p:spPr>
            <a:xfrm>
              <a:off x="4191120" y="1752480"/>
              <a:ext cx="4952880" cy="41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Доказательство.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одолжим медиан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M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отложим отрезок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ный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MD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M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ны по двум сторонам и углу между ними. Следовательно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 = B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силу неравенства треугольника, сторон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D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меньше суммы сторон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Значит, медиан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M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меньше полусуммы сторон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990720" y="1828800"/>
              <a:ext cx="2939760" cy="4387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пражнение</a:t>
            </a: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609480"/>
            <a:ext cx="883944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треугольник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C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ведены высот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кажите, что угл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C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в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4724280"/>
            <a:ext cx="91440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Доказательство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вен 9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минус угол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вен 9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минус угол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 как углы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вны (см. предыдущую задачу), то равны и углы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048120" y="1828800"/>
            <a:ext cx="304488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пражнение</a:t>
            </a: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2280" y="609480"/>
            <a:ext cx="88394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треугольник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C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ведены высот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кажите, что треугольник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C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обен треугольнику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4724280"/>
            <a:ext cx="914400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Доказательство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глы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вны (см. предыдущую задачу). Угол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еугольников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щий. Следовательно, данные треугольники подобны по двум угла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304488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пражнение</a:t>
            </a: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280" y="380880"/>
            <a:ext cx="883944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треугольник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едены высоты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кажите, что угол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вен угл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.е. биссектриса треугольни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ежит на высоте треугольни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962520" y="2209680"/>
            <a:ext cx="3044880" cy="2489400"/>
          </a:xfrm>
          <a:prstGeom prst="rect">
            <a:avLst/>
          </a:prstGeom>
          <a:ln w="0">
            <a:noFill/>
          </a:ln>
        </p:spPr>
      </p:pic>
      <p:grpSp>
        <p:nvGrpSpPr>
          <p:cNvPr id="236" name=""/>
          <p:cNvGrpSpPr/>
          <p:nvPr/>
        </p:nvGrpSpPr>
        <p:grpSpPr>
          <a:xfrm>
            <a:off x="76320" y="2057400"/>
            <a:ext cx="9067680" cy="4626000"/>
            <a:chOff x="76320" y="2057400"/>
            <a:chExt cx="9067680" cy="4626000"/>
          </a:xfrm>
        </p:grpSpPr>
        <p:sp>
          <p:nvSpPr>
            <p:cNvPr id="237" name=""/>
            <p:cNvSpPr/>
            <p:nvPr/>
          </p:nvSpPr>
          <p:spPr>
            <a:xfrm>
              <a:off x="76320" y="5715000"/>
              <a:ext cx="906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Доказательство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Имеют место равенства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2"/>
            <a:stretch/>
          </p:blipFill>
          <p:spPr>
            <a:xfrm>
              <a:off x="3809880" y="2057400"/>
              <a:ext cx="3676680" cy="35971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39" name=""/>
            <p:cNvGraphicFramePr/>
            <p:nvPr/>
          </p:nvGraphicFramePr>
          <p:xfrm>
            <a:off x="1981080" y="6248520"/>
            <a:ext cx="5029200" cy="434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81080" y="6248520"/>
                      <a:ext cx="5029200" cy="43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пражнение</a:t>
            </a: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280" y="609480"/>
            <a:ext cx="883944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остроугольном треугольник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едены высоты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го углы равны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Найдите углы треугольни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3044880" cy="248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"/>
          <p:cNvGraphicFramePr/>
          <p:nvPr/>
        </p:nvGraphicFramePr>
        <p:xfrm>
          <a:off x="5562720" y="1143000"/>
          <a:ext cx="990360" cy="43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62720" y="1143000"/>
                    <a:ext cx="9903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6" name=""/>
          <p:cNvGrpSpPr/>
          <p:nvPr/>
        </p:nvGrpSpPr>
        <p:grpSpPr>
          <a:xfrm>
            <a:off x="76320" y="5410080"/>
            <a:ext cx="9067680" cy="520560"/>
            <a:chOff x="76320" y="5410080"/>
            <a:chExt cx="9067680" cy="520560"/>
          </a:xfrm>
        </p:grpSpPr>
        <p:sp>
          <p:nvSpPr>
            <p:cNvPr id="247" name=""/>
            <p:cNvSpPr/>
            <p:nvPr/>
          </p:nvSpPr>
          <p:spPr>
            <a:xfrm>
              <a:off x="76320" y="5410080"/>
              <a:ext cx="906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Ответ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8" name=""/>
            <p:cNvGraphicFramePr/>
            <p:nvPr/>
          </p:nvGraphicFramePr>
          <p:xfrm>
            <a:off x="1219320" y="5486400"/>
            <a:ext cx="2995560" cy="434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4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219320" y="5486400"/>
                      <a:ext cx="2995560" cy="43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пражнение</a:t>
            </a: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533520"/>
            <a:ext cx="8991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еорема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радиус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кружности, вписанной в треугольник, имеет место форму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высоты треугольни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276720" y="1447920"/>
          <a:ext cx="2171520" cy="83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447920"/>
                    <a:ext cx="217152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5943600" y="1066680"/>
            <a:ext cx="3044880" cy="2467080"/>
          </a:xfrm>
          <a:prstGeom prst="rect">
            <a:avLst/>
          </a:prstGeom>
          <a:ln w="0">
            <a:noFill/>
          </a:ln>
        </p:spPr>
      </p:pic>
      <p:grpSp>
        <p:nvGrpSpPr>
          <p:cNvPr id="255" name=""/>
          <p:cNvGrpSpPr/>
          <p:nvPr/>
        </p:nvGrpSpPr>
        <p:grpSpPr>
          <a:xfrm>
            <a:off x="0" y="3657600"/>
            <a:ext cx="9144000" cy="2022480"/>
            <a:chOff x="0" y="3657600"/>
            <a:chExt cx="9144000" cy="2022480"/>
          </a:xfrm>
        </p:grpSpPr>
        <p:sp>
          <p:nvSpPr>
            <p:cNvPr id="256" name=""/>
            <p:cNvSpPr/>
            <p:nvPr/>
          </p:nvSpPr>
          <p:spPr>
            <a:xfrm>
              <a:off x="0" y="3657600"/>
              <a:ext cx="9144000" cy="20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Доказательство.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Пусть стороны треугольника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BC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равны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Для площади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треугольника имеют место равенства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Из которых следует требуемая формула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7" name=""/>
            <p:cNvGraphicFramePr/>
            <p:nvPr/>
          </p:nvGraphicFramePr>
          <p:xfrm>
            <a:off x="1752480" y="4572000"/>
            <a:ext cx="6858000" cy="512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5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752480" y="4572000"/>
                      <a:ext cx="6858000" cy="51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пражнение</a:t>
            </a: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2280" y="38088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окажите, что точки, симметричные точке пересечения высот треугольника относительно его сторон, лежат на окружности, описанной около этого треугольни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3259080" cy="303696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304920" y="1752480"/>
            <a:ext cx="8839080" cy="4498200"/>
            <a:chOff x="304920" y="1752480"/>
            <a:chExt cx="8839080" cy="4498200"/>
          </a:xfrm>
        </p:grpSpPr>
        <p:sp>
          <p:nvSpPr>
            <p:cNvPr id="263" name=""/>
            <p:cNvSpPr/>
            <p:nvPr/>
          </p:nvSpPr>
          <p:spPr>
            <a:xfrm>
              <a:off x="3657600" y="1981080"/>
              <a:ext cx="53341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Доказательство.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Для точки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, симметричной точке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пересечения высот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треугольника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B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имее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64" name=""/>
            <p:cNvGraphicFramePr/>
            <p:nvPr/>
          </p:nvGraphicFramePr>
          <p:xfrm>
            <a:off x="3809880" y="3886200"/>
            <a:ext cx="5257800" cy="430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9880" y="3886200"/>
                      <a:ext cx="5257800" cy="43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6" name=""/>
            <p:cNvSpPr/>
            <p:nvPr/>
          </p:nvSpPr>
          <p:spPr>
            <a:xfrm>
              <a:off x="457200" y="4876920"/>
              <a:ext cx="86868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Следовательно, точка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’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принадлежит описанной окружности. Аналогично, описанной окружности принадлежат остальные две симметричные точки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7" name="" descr=""/>
            <p:cNvPicPr/>
            <p:nvPr/>
          </p:nvPicPr>
          <p:blipFill>
            <a:blip r:embed="rId4"/>
            <a:stretch/>
          </p:blipFill>
          <p:spPr>
            <a:xfrm>
              <a:off x="304920" y="1752480"/>
              <a:ext cx="3259080" cy="3036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кружность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280" y="380880"/>
            <a:ext cx="89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еорема 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 с вершиной внутри круга измеряется полусуммой дуг, на которые опираются данный угол и вертикальный с ним уго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0" y="4210200"/>
            <a:ext cx="8991720" cy="2851920"/>
            <a:chOff x="0" y="4210200"/>
            <a:chExt cx="8991720" cy="2851920"/>
          </a:xfrm>
        </p:grpSpPr>
        <p:sp>
          <p:nvSpPr>
            <p:cNvPr id="271" name=""/>
            <p:cNvSpPr/>
            <p:nvPr/>
          </p:nvSpPr>
          <p:spPr>
            <a:xfrm>
              <a:off x="0" y="4210200"/>
              <a:ext cx="8991720" cy="285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Доказательство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.</a:t>
              </a:r>
              <a:r>
                <a:rPr b="1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ссмотрим угол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СВ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с вершиной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внутри круга и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очками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и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на окружности. Пусть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В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– точки пересечения с окружностью сторон вертикального к нему угла. Проведем хорд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B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гол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СВ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является внешним углом 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В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Следовательно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B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Углы, стоящие в правой части равенства измеряются половинами соответствующих дуг, что и завершает доказательство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2" name=""/>
            <p:cNvGraphicFramePr/>
            <p:nvPr/>
          </p:nvGraphicFramePr>
          <p:xfrm>
            <a:off x="5029200" y="5791320"/>
            <a:ext cx="266760" cy="253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29200" y="5791320"/>
                      <a:ext cx="266760" cy="25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4" name=""/>
            <p:cNvGraphicFramePr/>
            <p:nvPr/>
          </p:nvGraphicFramePr>
          <p:xfrm>
            <a:off x="6400800" y="5791320"/>
            <a:ext cx="266760" cy="253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00800" y="5791320"/>
                      <a:ext cx="266760" cy="25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6" name=""/>
            <p:cNvGraphicFramePr/>
            <p:nvPr/>
          </p:nvGraphicFramePr>
          <p:xfrm>
            <a:off x="7772400" y="5791320"/>
            <a:ext cx="266760" cy="253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772400" y="5791320"/>
                      <a:ext cx="266760" cy="25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78" name="" descr=""/>
          <p:cNvPicPr/>
          <p:nvPr/>
        </p:nvPicPr>
        <p:blipFill>
          <a:blip r:embed="rId7"/>
          <a:stretch/>
        </p:blipFill>
        <p:spPr>
          <a:xfrm>
            <a:off x="3429000" y="1676520"/>
            <a:ext cx="234000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кружность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808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Теорема 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 между касательной к окружности и хордой, проведенной через точку касания, измеряется половиной дуги окружности, заключенной внутри этого уг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2265480" cy="4672080"/>
          </a:xfrm>
          <a:prstGeom prst="rect">
            <a:avLst/>
          </a:prstGeom>
          <a:ln w="0">
            <a:noFill/>
          </a:ln>
        </p:spPr>
      </p:pic>
      <p:grpSp>
        <p:nvGrpSpPr>
          <p:cNvPr id="282" name=""/>
          <p:cNvGrpSpPr/>
          <p:nvPr/>
        </p:nvGrpSpPr>
        <p:grpSpPr>
          <a:xfrm>
            <a:off x="2438280" y="1676520"/>
            <a:ext cx="6705720" cy="5184000"/>
            <a:chOff x="2438280" y="1676520"/>
            <a:chExt cx="6705720" cy="5184000"/>
          </a:xfrm>
        </p:grpSpPr>
        <p:sp>
          <p:nvSpPr>
            <p:cNvPr id="283" name=""/>
            <p:cNvSpPr/>
            <p:nvPr/>
          </p:nvSpPr>
          <p:spPr>
            <a:xfrm>
              <a:off x="2895480" y="1676520"/>
              <a:ext cx="6248520" cy="48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Доказательство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.</a:t>
              </a:r>
              <a:r>
                <a:rPr b="1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усть угол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B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образован касательной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хордой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кружности. Если этот угол – прямой, то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диаметр окружности и, следовательно, угол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B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меряется половиной дуги полуокружности, заключенной внутри этого угла. Если угол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B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острый, то проведем диаметр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D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Имеем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B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D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–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D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Угол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D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измеряется половиной дуг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BD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окружности. Угол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D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измеряется половиной дуг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D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окружности. Следовательно, их разность (угол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B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измеряется половиной дуг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B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окружности, заключенной внутри этого угла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4" name=""/>
            <p:cNvGraphicFramePr/>
            <p:nvPr/>
          </p:nvGraphicFramePr>
          <p:xfrm>
            <a:off x="3962520" y="4343400"/>
            <a:ext cx="266760" cy="254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962520" y="4343400"/>
                      <a:ext cx="26676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6" name=""/>
            <p:cNvSpPr/>
            <p:nvPr/>
          </p:nvSpPr>
          <p:spPr>
            <a:xfrm>
              <a:off x="2438280" y="6400800"/>
              <a:ext cx="670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Самостоятельно рассмотрите случай тупого угла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7" name=""/>
            <p:cNvGraphicFramePr/>
            <p:nvPr/>
          </p:nvGraphicFramePr>
          <p:xfrm>
            <a:off x="5257800" y="4343400"/>
            <a:ext cx="266760" cy="254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8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257800" y="4343400"/>
                      <a:ext cx="26676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9" name=""/>
            <p:cNvGraphicFramePr/>
            <p:nvPr/>
          </p:nvGraphicFramePr>
          <p:xfrm>
            <a:off x="6477120" y="4343400"/>
            <a:ext cx="266760" cy="2541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9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77120" y="4343400"/>
                      <a:ext cx="26676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кружность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808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еорема 3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 с вершиной вне круга, стороны которого пересекают окружность, измеряется полуразностью дуг окружности, заключенных внутри этого уг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874960" cy="2563920"/>
          </a:xfrm>
          <a:prstGeom prst="rect">
            <a:avLst/>
          </a:prstGeom>
          <a:ln w="0">
            <a:noFill/>
          </a:ln>
        </p:spPr>
      </p:pic>
      <p:grpSp>
        <p:nvGrpSpPr>
          <p:cNvPr id="294" name=""/>
          <p:cNvGrpSpPr/>
          <p:nvPr/>
        </p:nvGrpSpPr>
        <p:grpSpPr>
          <a:xfrm>
            <a:off x="0" y="4210200"/>
            <a:ext cx="9144000" cy="2917800"/>
            <a:chOff x="0" y="4210200"/>
            <a:chExt cx="9144000" cy="2917800"/>
          </a:xfrm>
        </p:grpSpPr>
        <p:sp>
          <p:nvSpPr>
            <p:cNvPr id="295" name=""/>
            <p:cNvSpPr/>
            <p:nvPr/>
          </p:nvSpPr>
          <p:spPr>
            <a:xfrm>
              <a:off x="0" y="4210200"/>
              <a:ext cx="9144000" cy="29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Доказательство</a:t>
              </a: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.</a:t>
              </a:r>
              <a:r>
                <a:rPr b="1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ссмотрим угол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B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с вершиной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не окружности и точкам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на окружности. Пусть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В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– точки пересечения с окружностью сторон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Проведем хорд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гол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В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является внешним углом 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Следовательно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B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A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Углы, стоящие в правой части равенства измеряются половинами соответствующих дуг, что и завершает доказательство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6" name=""/>
            <p:cNvGraphicFramePr/>
            <p:nvPr/>
          </p:nvGraphicFramePr>
          <p:xfrm>
            <a:off x="2209680" y="5810400"/>
            <a:ext cx="266760" cy="253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09680" y="5810400"/>
                      <a:ext cx="266760" cy="25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8" name=""/>
            <p:cNvGraphicFramePr/>
            <p:nvPr/>
          </p:nvGraphicFramePr>
          <p:xfrm>
            <a:off x="3429000" y="5810400"/>
            <a:ext cx="266760" cy="253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9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429000" y="5810400"/>
                      <a:ext cx="266760" cy="25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0" name=""/>
            <p:cNvGraphicFramePr/>
            <p:nvPr/>
          </p:nvGraphicFramePr>
          <p:xfrm>
            <a:off x="4648320" y="5810400"/>
            <a:ext cx="266760" cy="2538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648320" y="5810400"/>
                      <a:ext cx="266760" cy="25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кружность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609480"/>
            <a:ext cx="8915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Теорема 4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изведение отрезков любой хорды, проведенной через внутреннюю точку круга, равно произведению отрезков диаметра, проведенного через ту же точк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52280" y="2895480"/>
            <a:ext cx="2527560" cy="297180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2895480" y="2743200"/>
            <a:ext cx="6248520" cy="2933640"/>
            <a:chOff x="2895480" y="2743200"/>
            <a:chExt cx="6248520" cy="2933640"/>
          </a:xfrm>
        </p:grpSpPr>
        <p:sp>
          <p:nvSpPr>
            <p:cNvPr id="306" name=""/>
            <p:cNvSpPr/>
            <p:nvPr/>
          </p:nvSpPr>
          <p:spPr>
            <a:xfrm>
              <a:off x="2895480" y="2743200"/>
              <a:ext cx="6248520" cy="287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Доказательство</a:t>
              </a: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.</a:t>
              </a:r>
              <a:r>
                <a:rPr b="0" lang="ru-RU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усть дан круг с центром в точке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хорда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и диаметр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D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есекаются в точке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кажем, что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еугольники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E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и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BE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подобны. Следовательно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начит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7" name=""/>
            <p:cNvGraphicFramePr/>
            <p:nvPr/>
          </p:nvGraphicFramePr>
          <p:xfrm>
            <a:off x="3124080" y="4952880"/>
            <a:ext cx="1371600" cy="723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124080" y="4952880"/>
                      <a:ext cx="137160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9" name=""/>
            <p:cNvGraphicFramePr/>
            <p:nvPr/>
          </p:nvGraphicFramePr>
          <p:xfrm>
            <a:off x="3581280" y="4114800"/>
            <a:ext cx="2971800" cy="404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1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581280" y="4114800"/>
                      <a:ext cx="2971800" cy="40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1" name=""/>
            <p:cNvGraphicFramePr/>
            <p:nvPr/>
          </p:nvGraphicFramePr>
          <p:xfrm>
            <a:off x="5943600" y="5181480"/>
            <a:ext cx="2971800" cy="405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943600" y="5181480"/>
                      <a:ext cx="2971800" cy="40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2280" y="6858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теты прямоугольного треугольника равны 3 и 4. Найдите медиану этого треугольника, проведенную из вершины прямого уг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пражнение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743200" y="2133720"/>
            <a:ext cx="3110040" cy="1814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0880" y="4572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Отве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кружность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04920" y="6094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еорем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роизведение отрезков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E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екущей, проведенной к окружности из внешней 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вно квадрату отрез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асательн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352680" y="2133720"/>
            <a:ext cx="2971800" cy="24937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28600" y="49528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Доказательство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еугольни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A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CB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обны. Следовательно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E = 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чит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BE = C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2280" y="609480"/>
            <a:ext cx="883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исанные угл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B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соответственно 36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2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угол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разованный пересекающимися хордам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5562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6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3581280" y="2743200"/>
            <a:ext cx="22669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2280" y="609480"/>
            <a:ext cx="883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разованный пересекающимися хордам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ности, равен 54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исанный угол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B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ен 34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вписанный угол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5562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2743200"/>
            <a:ext cx="22669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2280" y="609480"/>
            <a:ext cx="883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ности составляют соответственно 7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38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угол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разованный пересекающимися хордам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5562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5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581280" y="2743200"/>
            <a:ext cx="22669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2280" y="609480"/>
            <a:ext cx="883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угол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вписанные угл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B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ираются на дуги окружности, градусные величины которых равны соответственно 118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38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3520" y="5562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335592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60948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B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ен 4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Градусная величина дуг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ружности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а 124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угол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520" y="5562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335592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52280" y="60948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B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ен 4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Градусная величина дуг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ности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а 38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угол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5562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1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335592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280" y="60948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угол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вписанный угол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B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ен 6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угол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B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ен 8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5562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4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3276720" y="2133720"/>
            <a:ext cx="273024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609480"/>
            <a:ext cx="883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д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ягивает дугу окружности в 9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угол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этой хордой и касательной к окружности, проведенной через точку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3520" y="5562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6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3505320" y="2666880"/>
            <a:ext cx="2709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2280" y="609480"/>
            <a:ext cx="883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 между хордой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асательной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 окружности равен 3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градусную величину дуги, стягиваемую хордой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3520" y="5562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3276720" y="2514600"/>
            <a:ext cx="274320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" y="380988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казательств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из того, что центром окружности, описанной около прямоугольного треугольника, является середина гипотенуз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53352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кажите, что 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ана прямоугольного треугольника, проведенная из вершины прямого угла, равна половине гипотенузы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3962520" cy="21034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пражнение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280" y="609480"/>
            <a:ext cx="883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конц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и окружности в 6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едены касательны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угол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" y="47242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8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3048120" y="2209680"/>
            <a:ext cx="259056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2280" y="609480"/>
            <a:ext cx="883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ательны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окружности образуют угол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авный 12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градусную величину дуг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тягиваемую точками кас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47242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8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429000" y="2590920"/>
            <a:ext cx="259092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52280" y="609480"/>
            <a:ext cx="883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д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ягивает дугу окружности в 44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углы, которые образует эта хорда с касательными к окружности, проведенными через ее конц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" y="47242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352680" y="2895480"/>
            <a:ext cx="272412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280" y="609480"/>
            <a:ext cx="883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угол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его сторон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аются окружности, а дуг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B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ности, заключенная внутри этого угла, равна 13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" y="47242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8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344016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2280" y="609480"/>
            <a:ext cx="883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ен 5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Его сторон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аются окружности. Найдите градусную величину дуг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B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ности, заключенной внутри этого угл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" y="47242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8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3200400" y="2743200"/>
            <a:ext cx="344016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2280" y="609480"/>
            <a:ext cx="883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угол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его сторон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аются окружности, а дуг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B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ности, заключенная внутри этого угла, равна 23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57200" y="47242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3048120" y="2514600"/>
            <a:ext cx="365580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2280" y="609480"/>
            <a:ext cx="883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ен 48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Его сторон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аются окружности. Найдите градусную величину дуг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ружности, заключенной внутри этого уг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" y="47242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28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3124080" y="2819520"/>
            <a:ext cx="365616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52280" y="609480"/>
            <a:ext cx="883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гол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писана окружность. Точки касания делят окружность на дуги, градусные величины которых относятся как 5:4. Найдите величину угл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" y="47242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34732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52280" y="609480"/>
            <a:ext cx="883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ность разделена точкам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дуги, градусные величины которых относятся как 11 : 3 : 4. Через точк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едены касательные до их взаимного пересечения. Найдите углы образовавшегося треугольн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7200" y="5715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6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4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2438280" y="3124080"/>
            <a:ext cx="462780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52280" y="60948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величину угл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" y="5715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12444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2280" y="533520"/>
            <a:ext cx="8991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сть в тре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 AB =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 =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 =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кажите, что для медиа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роведенной из 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ет место форму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048120" y="1447920"/>
          <a:ext cx="327636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447920"/>
                    <a:ext cx="327636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3387600" cy="282564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0" y="2362320"/>
            <a:ext cx="9144000" cy="3987720"/>
            <a:chOff x="0" y="2362320"/>
            <a:chExt cx="9144000" cy="3987720"/>
          </a:xfrm>
        </p:grpSpPr>
        <p:sp>
          <p:nvSpPr>
            <p:cNvPr id="82" name=""/>
            <p:cNvSpPr/>
            <p:nvPr/>
          </p:nvSpPr>
          <p:spPr>
            <a:xfrm>
              <a:off x="3581280" y="2362320"/>
              <a:ext cx="5562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Доказательство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По теореме косинусов, примененной к треугольника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D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D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имеем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" name=""/>
            <p:cNvGraphicFramePr/>
            <p:nvPr/>
          </p:nvGraphicFramePr>
          <p:xfrm>
            <a:off x="4038480" y="4343400"/>
            <a:ext cx="4500720" cy="905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038480" y="4343400"/>
                      <a:ext cx="4500720" cy="90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5" name=""/>
            <p:cNvGraphicFramePr/>
            <p:nvPr/>
          </p:nvGraphicFramePr>
          <p:xfrm>
            <a:off x="3962520" y="3505320"/>
            <a:ext cx="4475160" cy="904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962520" y="3505320"/>
                      <a:ext cx="4475160" cy="90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" name=""/>
            <p:cNvSpPr/>
            <p:nvPr/>
          </p:nvSpPr>
          <p:spPr>
            <a:xfrm>
              <a:off x="0" y="5334120"/>
              <a:ext cx="90676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Складывая эти равенства, получим равенств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из которого непосредственно следует искомая формула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8" name=""/>
            <p:cNvGraphicFramePr/>
            <p:nvPr/>
          </p:nvGraphicFramePr>
          <p:xfrm>
            <a:off x="6095880" y="5105520"/>
            <a:ext cx="2692440" cy="9046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95880" y="5105520"/>
                      <a:ext cx="2692440" cy="90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пражнение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2280" y="60948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величину угл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57200" y="5715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327672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52280" y="609480"/>
            <a:ext cx="883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геометрическое место точек, из которых данный отрезок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ден под данным углом, т. е. таких точек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которых угол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ен данному угл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0" y="2514600"/>
            <a:ext cx="9144000" cy="4132080"/>
            <a:chOff x="0" y="2514600"/>
            <a:chExt cx="9144000" cy="4132080"/>
          </a:xfrm>
        </p:grpSpPr>
        <p:sp>
          <p:nvSpPr>
            <p:cNvPr id="400" name=""/>
            <p:cNvSpPr/>
            <p:nvPr/>
          </p:nvSpPr>
          <p:spPr>
            <a:xfrm>
              <a:off x="0" y="5638680"/>
              <a:ext cx="9144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уги двух окружностей одинакового радиуса, опирающихся на отрезок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без точек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и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1" name="" descr=""/>
            <p:cNvPicPr/>
            <p:nvPr/>
          </p:nvPicPr>
          <p:blipFill>
            <a:blip r:embed="rId1"/>
            <a:stretch/>
          </p:blipFill>
          <p:spPr>
            <a:xfrm>
              <a:off x="3352680" y="2514600"/>
              <a:ext cx="2168640" cy="3100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" y="53352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геометрическое место вершин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ямоугольных треугольников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данной гипотенузой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0" y="2286000"/>
            <a:ext cx="9144000" cy="3918960"/>
            <a:chOff x="0" y="2286000"/>
            <a:chExt cx="9144000" cy="3918960"/>
          </a:xfrm>
        </p:grpSpPr>
        <p:sp>
          <p:nvSpPr>
            <p:cNvPr id="405" name=""/>
            <p:cNvSpPr/>
            <p:nvPr/>
          </p:nvSpPr>
          <p:spPr>
            <a:xfrm>
              <a:off x="0" y="5257800"/>
              <a:ext cx="9144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кружность с диаметром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за исключением точек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и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3124080" y="2286000"/>
              <a:ext cx="2874960" cy="2909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6320" y="266688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ГМТ, лежащих вне окружности с диаметром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не принадлежащих прямой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2280" y="533520"/>
            <a:ext cx="883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анных точек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геометрическое место точек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которых угол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а) острый; б) туп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76320" y="2743200"/>
            <a:ext cx="8742240" cy="3080160"/>
            <a:chOff x="76320" y="2743200"/>
            <a:chExt cx="8742240" cy="3080160"/>
          </a:xfrm>
        </p:grpSpPr>
        <p:pic>
          <p:nvPicPr>
            <p:cNvPr id="411" name="" descr=""/>
            <p:cNvPicPr/>
            <p:nvPr/>
          </p:nvPicPr>
          <p:blipFill>
            <a:blip r:embed="rId1"/>
            <a:stretch/>
          </p:blipFill>
          <p:spPr>
            <a:xfrm>
              <a:off x="5943600" y="2743200"/>
              <a:ext cx="2874960" cy="28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76320" y="4267080"/>
              <a:ext cx="5715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) ГМТ, лежащих внутри окружности с диаметром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и не принадлежащих отрезку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2280" y="60948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й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отметьте точку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которой отрезок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ден под наибольшим угл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011400" y="1890720"/>
            <a:ext cx="3119400" cy="3079800"/>
          </a:xfrm>
          <a:prstGeom prst="rect">
            <a:avLst/>
          </a:prstGeom>
          <a:ln w="0">
            <a:noFill/>
          </a:ln>
        </p:spPr>
      </p:pic>
      <p:grpSp>
        <p:nvGrpSpPr>
          <p:cNvPr id="416" name=""/>
          <p:cNvGrpSpPr/>
          <p:nvPr/>
        </p:nvGrpSpPr>
        <p:grpSpPr>
          <a:xfrm>
            <a:off x="304920" y="1905120"/>
            <a:ext cx="8686800" cy="3705480"/>
            <a:chOff x="304920" y="1905120"/>
            <a:chExt cx="8686800" cy="3705480"/>
          </a:xfrm>
        </p:grpSpPr>
        <p:sp>
          <p:nvSpPr>
            <p:cNvPr id="417" name=""/>
            <p:cNvSpPr/>
            <p:nvPr/>
          </p:nvSpPr>
          <p:spPr>
            <a:xfrm>
              <a:off x="304920" y="5029200"/>
              <a:ext cx="868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2"/>
            <a:stretch/>
          </p:blipFill>
          <p:spPr>
            <a:xfrm>
              <a:off x="3048120" y="1905120"/>
              <a:ext cx="3119400" cy="3079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2280" y="60948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й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отметьте точку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которой отрезок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ден под наибольшим угл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3119400" cy="3079800"/>
          </a:xfrm>
          <a:prstGeom prst="rect">
            <a:avLst/>
          </a:prstGeom>
          <a:ln w="0">
            <a:noFill/>
          </a:ln>
        </p:spPr>
      </p:pic>
      <p:grpSp>
        <p:nvGrpSpPr>
          <p:cNvPr id="422" name=""/>
          <p:cNvGrpSpPr/>
          <p:nvPr/>
        </p:nvGrpSpPr>
        <p:grpSpPr>
          <a:xfrm>
            <a:off x="304920" y="1981080"/>
            <a:ext cx="8686800" cy="3629520"/>
            <a:chOff x="304920" y="1981080"/>
            <a:chExt cx="8686800" cy="3629520"/>
          </a:xfrm>
        </p:grpSpPr>
        <p:sp>
          <p:nvSpPr>
            <p:cNvPr id="423" name=""/>
            <p:cNvSpPr/>
            <p:nvPr/>
          </p:nvSpPr>
          <p:spPr>
            <a:xfrm>
              <a:off x="304920" y="5029200"/>
              <a:ext cx="868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4" name="" descr=""/>
            <p:cNvPicPr/>
            <p:nvPr/>
          </p:nvPicPr>
          <p:blipFill>
            <a:blip r:embed="rId2"/>
            <a:stretch/>
          </p:blipFill>
          <p:spPr>
            <a:xfrm>
              <a:off x="2971800" y="1981080"/>
              <a:ext cx="3119400" cy="3079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2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2280" y="762120"/>
            <a:ext cx="89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усть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D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хорды окружности, пересекающиеся в точк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Докажите, что треугольни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E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DE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об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2778120" cy="2752560"/>
          </a:xfrm>
          <a:prstGeom prst="rect">
            <a:avLst/>
          </a:prstGeom>
          <a:ln w="0">
            <a:noFill/>
          </a:ln>
        </p:spPr>
      </p:pic>
      <p:grpSp>
        <p:nvGrpSpPr>
          <p:cNvPr id="428" name=""/>
          <p:cNvGrpSpPr/>
          <p:nvPr/>
        </p:nvGrpSpPr>
        <p:grpSpPr>
          <a:xfrm>
            <a:off x="0" y="2133720"/>
            <a:ext cx="9144000" cy="3842640"/>
            <a:chOff x="0" y="2133720"/>
            <a:chExt cx="9144000" cy="3842640"/>
          </a:xfrm>
        </p:grpSpPr>
        <p:sp>
          <p:nvSpPr>
            <p:cNvPr id="429" name=""/>
            <p:cNvSpPr/>
            <p:nvPr/>
          </p:nvSpPr>
          <p:spPr>
            <a:xfrm>
              <a:off x="3200400" y="2133720"/>
              <a:ext cx="5943600" cy="24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Доказательство:</a:t>
              </a:r>
              <a:r>
                <a:rPr b="0" lang="ru-RU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Угол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треугольника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BE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равен углу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треугольника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DE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, как вписанные углы, опирающиеся на одну дугу окружности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Аналогично, угол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равен углу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0" y="5029200"/>
              <a:ext cx="9144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Следовательно, треугольники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BE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DE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подобны по первому признаку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8600" y="7621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йдит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44197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8156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274320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2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8600" y="7621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йдит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8156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2743200" cy="2460600"/>
          </a:xfrm>
          <a:prstGeom prst="rect">
            <a:avLst/>
          </a:prstGeom>
          <a:ln w="0">
            <a:noFill/>
          </a:ln>
        </p:spPr>
      </p:pic>
      <p:grpSp>
        <p:nvGrpSpPr>
          <p:cNvPr id="440" name=""/>
          <p:cNvGrpSpPr/>
          <p:nvPr/>
        </p:nvGrpSpPr>
        <p:grpSpPr>
          <a:xfrm>
            <a:off x="380880" y="4267080"/>
            <a:ext cx="8458200" cy="912960"/>
            <a:chOff x="380880" y="4267080"/>
            <a:chExt cx="8458200" cy="912960"/>
          </a:xfrm>
        </p:grpSpPr>
        <p:sp>
          <p:nvSpPr>
            <p:cNvPr id="441" name=""/>
            <p:cNvSpPr/>
            <p:nvPr/>
          </p:nvSpPr>
          <p:spPr>
            <a:xfrm>
              <a:off x="380880" y="4419720"/>
              <a:ext cx="845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32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3200" spc="-1" strike="noStrike">
                  <a:solidFill>
                    <a:srgbClr val="00cc99"/>
                  </a:solidFill>
                  <a:latin typeface="Times New Roman"/>
                </a:rPr>
                <a:t>   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42" name=""/>
            <p:cNvGraphicFramePr/>
            <p:nvPr/>
          </p:nvGraphicFramePr>
          <p:xfrm>
            <a:off x="1828800" y="4267080"/>
            <a:ext cx="506520" cy="912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8800" y="4267080"/>
                      <a:ext cx="506520" cy="9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2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8600" y="7621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йдит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0880" y="44197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48156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274320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280" y="5335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кажите, что сумма квадратов диагоналей параллелограмма равна сумме квадратов всех его сторо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0" y="3581280"/>
            <a:ext cx="9144000" cy="1381680"/>
            <a:chOff x="0" y="3581280"/>
            <a:chExt cx="9144000" cy="1381680"/>
          </a:xfrm>
        </p:grpSpPr>
        <p:sp>
          <p:nvSpPr>
            <p:cNvPr id="93" name=""/>
            <p:cNvSpPr/>
            <p:nvPr/>
          </p:nvSpPr>
          <p:spPr>
            <a:xfrm>
              <a:off x="0" y="3581280"/>
              <a:ext cx="914400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Доказательство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Отрезок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O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является медианой 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D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Из предыдущей задачи следует равенств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Что и требовалось доказать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4" name=""/>
            <p:cNvGraphicFramePr/>
            <p:nvPr/>
          </p:nvGraphicFramePr>
          <p:xfrm>
            <a:off x="5791320" y="3962520"/>
            <a:ext cx="2738160" cy="439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91320" y="3962520"/>
                      <a:ext cx="2738160" cy="4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Упражнение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438280" y="1295280"/>
            <a:ext cx="418968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28600" y="7621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йдит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0880" y="44197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8156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274320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3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28600" y="54100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K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F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K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F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K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K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E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K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52280" y="533520"/>
            <a:ext cx="883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биссектриса треугольни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писанного в окружность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секает окружность в точк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ая  соединена отрезками с вершина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еугольника. Найдите подобные треугольн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3048120" y="2209680"/>
            <a:ext cx="302400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3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8600" y="563868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H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M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MD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2280" y="533520"/>
            <a:ext cx="883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кружность вписан остроугольный треугольник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его высота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иаметр окружности, который пересекает сторону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точк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очк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единена с вершинам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еугольника. Найдите подобные треугольни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3429000" y="3276720"/>
            <a:ext cx="243684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04920" y="60948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рез внешнюю точк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кружности проведены две прямые, пересекающая окружность соответственно в точках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кажите, что треугольни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E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E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об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91120" y="2362320"/>
            <a:ext cx="4952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Доказательство: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еугольни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E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вен угл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еугольни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ак вписанные углы, опирающиеся на одну дугу окруж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их треугольников общ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152280" y="2438280"/>
            <a:ext cx="4006800" cy="265752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0" y="5791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548640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довательно, треугольни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E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E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обны по первому признаку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3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04920" y="6094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рез внешнюю точк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кружности проведены две прямые, пересекающая окружность соответственно в точках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кажите, чт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CE = 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3814560" cy="2868480"/>
          </a:xfrm>
          <a:prstGeom prst="rect">
            <a:avLst/>
          </a:prstGeom>
          <a:ln w="0">
            <a:noFill/>
          </a:ln>
        </p:spPr>
      </p:pic>
      <p:grpSp>
        <p:nvGrpSpPr>
          <p:cNvPr id="471" name=""/>
          <p:cNvGrpSpPr/>
          <p:nvPr/>
        </p:nvGrpSpPr>
        <p:grpSpPr>
          <a:xfrm>
            <a:off x="304920" y="2133720"/>
            <a:ext cx="8839080" cy="2868480"/>
            <a:chOff x="304920" y="2133720"/>
            <a:chExt cx="8839080" cy="2868480"/>
          </a:xfrm>
        </p:grpSpPr>
        <p:sp>
          <p:nvSpPr>
            <p:cNvPr id="472" name=""/>
            <p:cNvSpPr/>
            <p:nvPr/>
          </p:nvSpPr>
          <p:spPr>
            <a:xfrm>
              <a:off x="4191120" y="2362320"/>
              <a:ext cx="49528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Доказательство:</a:t>
              </a:r>
              <a:r>
                <a:rPr b="0" lang="ru-RU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Треугольники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DE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CE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подобны.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Значит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E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E = BE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3" name="" descr=""/>
            <p:cNvPicPr/>
            <p:nvPr/>
          </p:nvPicPr>
          <p:blipFill>
            <a:blip r:embed="rId2"/>
            <a:stretch/>
          </p:blipFill>
          <p:spPr>
            <a:xfrm>
              <a:off x="304920" y="2133720"/>
              <a:ext cx="3814560" cy="28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3886200" y="3733920"/>
              <a:ext cx="525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E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·CE = B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·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3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8600" y="7621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44197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48156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2664000" y="1996920"/>
            <a:ext cx="3814560" cy="28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3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04920" y="60948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рез внешнюю точк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кружности проведены прямая, пересекающая окружность в точках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и касательна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точка касания). Докажите, что треугольни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A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CB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об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2971800" cy="24937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429000" y="2590920"/>
            <a:ext cx="5715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Доказательство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треугольников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A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C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щий. Углы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E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BE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вны, как углы, опирающиеся на одну хорду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довательно, треугольни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A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CB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об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3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28600" y="7621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0880" y="44197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48156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380376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152280" y="4572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ямая касается окружностей радиус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очках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Известно, что расстояние между центрами окружностей равн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ричем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+ 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йдит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380880" y="6172200"/>
            <a:ext cx="7239240" cy="536040"/>
            <a:chOff x="380880" y="6172200"/>
            <a:chExt cx="7239240" cy="536040"/>
          </a:xfrm>
        </p:grpSpPr>
        <p:sp>
          <p:nvSpPr>
            <p:cNvPr id="491" name=""/>
            <p:cNvSpPr/>
            <p:nvPr/>
          </p:nvSpPr>
          <p:spPr>
            <a:xfrm>
              <a:off x="380880" y="6248520"/>
              <a:ext cx="723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Ответ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или                  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92" name=""/>
            <p:cNvGraphicFramePr/>
            <p:nvPr/>
          </p:nvGraphicFramePr>
          <p:xfrm>
            <a:off x="1447920" y="6172200"/>
            <a:ext cx="1778040" cy="495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6172200"/>
                      <a:ext cx="1778040" cy="49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4" name=""/>
            <p:cNvGraphicFramePr/>
            <p:nvPr/>
          </p:nvGraphicFramePr>
          <p:xfrm>
            <a:off x="3962520" y="6172200"/>
            <a:ext cx="1778040" cy="495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62520" y="6172200"/>
                      <a:ext cx="1778040" cy="49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96" name=""/>
          <p:cNvGrpSpPr/>
          <p:nvPr/>
        </p:nvGrpSpPr>
        <p:grpSpPr>
          <a:xfrm>
            <a:off x="152280" y="1523880"/>
            <a:ext cx="8686800" cy="2832120"/>
            <a:chOff x="152280" y="1523880"/>
            <a:chExt cx="8686800" cy="2832120"/>
          </a:xfrm>
        </p:grpSpPr>
        <p:sp>
          <p:nvSpPr>
            <p:cNvPr id="497" name=""/>
            <p:cNvSpPr/>
            <p:nvPr/>
          </p:nvSpPr>
          <p:spPr>
            <a:xfrm>
              <a:off x="152280" y="1523880"/>
              <a:ext cx="868680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Решение.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центр окружности радиус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центр окружности радиус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Возможны два случая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внешняя касательная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внутренняя касательная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8" name="" descr=""/>
            <p:cNvPicPr/>
            <p:nvPr/>
          </p:nvPicPr>
          <p:blipFill>
            <a:blip r:embed="rId5"/>
            <a:stretch/>
          </p:blipFill>
          <p:spPr>
            <a:xfrm>
              <a:off x="1371600" y="3048120"/>
              <a:ext cx="5149800" cy="130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9" name=""/>
          <p:cNvGrpSpPr/>
          <p:nvPr/>
        </p:nvGrpSpPr>
        <p:grpSpPr>
          <a:xfrm>
            <a:off x="152280" y="2819520"/>
            <a:ext cx="8818560" cy="1657800"/>
            <a:chOff x="152280" y="2819520"/>
            <a:chExt cx="8818560" cy="1657800"/>
          </a:xfrm>
        </p:grpSpPr>
        <p:pic>
          <p:nvPicPr>
            <p:cNvPr id="500" name="" descr=""/>
            <p:cNvPicPr/>
            <p:nvPr/>
          </p:nvPicPr>
          <p:blipFill>
            <a:blip r:embed="rId6"/>
            <a:stretch/>
          </p:blipFill>
          <p:spPr>
            <a:xfrm>
              <a:off x="6705720" y="2895480"/>
              <a:ext cx="2265120" cy="13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152280" y="2819520"/>
              <a:ext cx="6400800" cy="165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первом случае (рис. 1) через точк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оведем прямую, параллельную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и обозначи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ее точку пересечения с прямой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огда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02" name=""/>
            <p:cNvGraphicFramePr/>
            <p:nvPr/>
          </p:nvGraphicFramePr>
          <p:xfrm>
            <a:off x="2514600" y="3886200"/>
            <a:ext cx="3924360" cy="507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0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14600" y="3886200"/>
                      <a:ext cx="392436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04" name=""/>
          <p:cNvGrpSpPr/>
          <p:nvPr/>
        </p:nvGrpSpPr>
        <p:grpSpPr>
          <a:xfrm>
            <a:off x="152280" y="4648320"/>
            <a:ext cx="8894880" cy="1657800"/>
            <a:chOff x="152280" y="4648320"/>
            <a:chExt cx="8894880" cy="1657800"/>
          </a:xfrm>
        </p:grpSpPr>
        <p:sp>
          <p:nvSpPr>
            <p:cNvPr id="505" name=""/>
            <p:cNvSpPr/>
            <p:nvPr/>
          </p:nvSpPr>
          <p:spPr>
            <a:xfrm>
              <a:off x="152280" y="4648320"/>
              <a:ext cx="6400800" cy="165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о втором случае (рис. 2) через точк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оведем прямую, параллельную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и обозначи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ее точку пересечения с прямой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огда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06" name=""/>
            <p:cNvGraphicFramePr/>
            <p:nvPr/>
          </p:nvGraphicFramePr>
          <p:xfrm>
            <a:off x="2508120" y="5715000"/>
            <a:ext cx="3936960" cy="507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08120" y="5715000"/>
                      <a:ext cx="393696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08" name="" descr=""/>
            <p:cNvPicPr/>
            <p:nvPr/>
          </p:nvPicPr>
          <p:blipFill>
            <a:blip r:embed="rId11"/>
            <a:stretch/>
          </p:blipFill>
          <p:spPr>
            <a:xfrm>
              <a:off x="6781680" y="4648320"/>
              <a:ext cx="2265480" cy="144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3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52280" y="304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рапеция с основаниями 14 и 40 вписана в окружность радиуса 25. Найдите высоту трапе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52280" y="990720"/>
            <a:ext cx="8991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Решение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усть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BCD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трапеция, вписанная в окружность с центром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радиусом 25. Возможны два случая: основания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D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апеции расположены по одну сторону от центр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ания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D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положены по разные стороны от центр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52280" y="2133720"/>
            <a:ext cx="8831520" cy="2133360"/>
            <a:chOff x="152280" y="2133720"/>
            <a:chExt cx="8831520" cy="2133360"/>
          </a:xfrm>
        </p:grpSpPr>
        <p:sp>
          <p:nvSpPr>
            <p:cNvPr id="513" name=""/>
            <p:cNvSpPr/>
            <p:nvPr/>
          </p:nvSpPr>
          <p:spPr>
            <a:xfrm>
              <a:off x="152280" y="2285640"/>
              <a:ext cx="68580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 первом случае (рис. 1) через точку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роведем прямую, перпендикулярную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, и обозначим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ее точки пересечения соответственно с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B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Тогда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ысота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Q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трапеции равна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Q – OP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. Имеем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Q =                           OP =                           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Q =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4" name="" descr=""/>
            <p:cNvPicPr/>
            <p:nvPr/>
          </p:nvPicPr>
          <p:blipFill>
            <a:blip r:embed="rId1"/>
            <a:stretch/>
          </p:blipFill>
          <p:spPr>
            <a:xfrm>
              <a:off x="7162920" y="2133720"/>
              <a:ext cx="1820880" cy="2133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15" name=""/>
            <p:cNvGraphicFramePr/>
            <p:nvPr/>
          </p:nvGraphicFramePr>
          <p:xfrm>
            <a:off x="4572000" y="3200040"/>
            <a:ext cx="1625760" cy="393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1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72000" y="3200040"/>
                      <a:ext cx="162576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7" name=""/>
            <p:cNvGraphicFramePr/>
            <p:nvPr/>
          </p:nvGraphicFramePr>
          <p:xfrm>
            <a:off x="228600" y="3504960"/>
            <a:ext cx="1714680" cy="367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1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28600" y="3504960"/>
                      <a:ext cx="1714680" cy="36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19" name=""/>
          <p:cNvGrpSpPr/>
          <p:nvPr/>
        </p:nvGrpSpPr>
        <p:grpSpPr>
          <a:xfrm>
            <a:off x="152280" y="4191120"/>
            <a:ext cx="8866440" cy="2406600"/>
            <a:chOff x="152280" y="4191120"/>
            <a:chExt cx="8866440" cy="2406600"/>
          </a:xfrm>
        </p:grpSpPr>
        <p:sp>
          <p:nvSpPr>
            <p:cNvPr id="520" name=""/>
            <p:cNvSpPr/>
            <p:nvPr/>
          </p:nvSpPr>
          <p:spPr>
            <a:xfrm>
              <a:off x="152280" y="4191120"/>
              <a:ext cx="678204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о втором случае (рис. 2) через точку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роведем прямую, перпендикулярную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, и обозначим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Q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ее точки пересечения соответственно с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B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Тогда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ысота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Q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трапеции равна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Q + OP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. Имеем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Q =                           OP =                           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ледовательно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Q =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9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1" name="" descr=""/>
            <p:cNvPicPr/>
            <p:nvPr/>
          </p:nvPicPr>
          <p:blipFill>
            <a:blip r:embed="rId6"/>
            <a:stretch/>
          </p:blipFill>
          <p:spPr>
            <a:xfrm>
              <a:off x="7010280" y="4267080"/>
              <a:ext cx="2008440" cy="23306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22" name=""/>
            <p:cNvGraphicFramePr/>
            <p:nvPr/>
          </p:nvGraphicFramePr>
          <p:xfrm>
            <a:off x="4572000" y="5105520"/>
            <a:ext cx="1625760" cy="393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2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72000" y="5105520"/>
                      <a:ext cx="162576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4" name=""/>
            <p:cNvGraphicFramePr/>
            <p:nvPr/>
          </p:nvGraphicFramePr>
          <p:xfrm>
            <a:off x="228600" y="5410080"/>
            <a:ext cx="1714680" cy="368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2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8600" y="5410080"/>
                      <a:ext cx="171468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26" name=""/>
          <p:cNvSpPr/>
          <p:nvPr/>
        </p:nvSpPr>
        <p:spPr>
          <a:xfrm>
            <a:off x="228600" y="5943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Ответ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9 или 3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3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2280" y="68580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ороны треугольника равны 11, 12 и 13. Найдите медиану, проведенную к большей сторо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пражнение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4572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Отве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,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152280" y="304920"/>
            <a:ext cx="868680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кружности с центрам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ересекаются в точках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Известно, что угол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вен 9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угол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вен 6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йдите радиусы окружносте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152280" y="1295280"/>
            <a:ext cx="8991720" cy="5454720"/>
            <a:chOff x="152280" y="1295280"/>
            <a:chExt cx="8991720" cy="5454720"/>
          </a:xfrm>
        </p:grpSpPr>
        <p:sp>
          <p:nvSpPr>
            <p:cNvPr id="530" name=""/>
            <p:cNvSpPr/>
            <p:nvPr/>
          </p:nvSpPr>
          <p:spPr>
            <a:xfrm>
              <a:off x="152280" y="1295280"/>
              <a:ext cx="8991720" cy="18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Times New Roman"/>
                </a:rPr>
                <a:t>Решение.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озможны два случая: точки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расположены по разные стороны от прямой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точки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расположены по одну сторону от прямой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. Обозначим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радиус окружности с центром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Тогда радиус окружности с центром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будет равен          . Обозначим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точку пересечения прямых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. Тогда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 =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 =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1" name="" descr=""/>
            <p:cNvPicPr/>
            <p:nvPr/>
          </p:nvPicPr>
          <p:blipFill>
            <a:blip r:embed="rId1"/>
            <a:stretch/>
          </p:blipFill>
          <p:spPr>
            <a:xfrm>
              <a:off x="5867280" y="2590920"/>
              <a:ext cx="3056040" cy="20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" descr=""/>
            <p:cNvPicPr/>
            <p:nvPr/>
          </p:nvPicPr>
          <p:blipFill>
            <a:blip r:embed="rId2"/>
            <a:stretch/>
          </p:blipFill>
          <p:spPr>
            <a:xfrm>
              <a:off x="6477120" y="4724280"/>
              <a:ext cx="2179440" cy="20257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33" name=""/>
            <p:cNvGraphicFramePr/>
            <p:nvPr/>
          </p:nvGraphicFramePr>
          <p:xfrm>
            <a:off x="2895480" y="2209680"/>
            <a:ext cx="482760" cy="330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95480" y="2209680"/>
                      <a:ext cx="48276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5" name=""/>
            <p:cNvGraphicFramePr/>
            <p:nvPr/>
          </p:nvGraphicFramePr>
          <p:xfrm>
            <a:off x="2057400" y="2514600"/>
            <a:ext cx="749160" cy="330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3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057400" y="2514600"/>
                      <a:ext cx="749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7" name=""/>
            <p:cNvGraphicFramePr/>
            <p:nvPr/>
          </p:nvGraphicFramePr>
          <p:xfrm>
            <a:off x="3670200" y="2514600"/>
            <a:ext cx="723960" cy="330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3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670200" y="2514600"/>
                      <a:ext cx="7239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39" name=""/>
          <p:cNvGrpSpPr/>
          <p:nvPr/>
        </p:nvGrpSpPr>
        <p:grpSpPr>
          <a:xfrm>
            <a:off x="228600" y="2895480"/>
            <a:ext cx="5867280" cy="978120"/>
            <a:chOff x="228600" y="2895480"/>
            <a:chExt cx="5867280" cy="978120"/>
          </a:xfrm>
        </p:grpSpPr>
        <p:sp>
          <p:nvSpPr>
            <p:cNvPr id="540" name=""/>
            <p:cNvSpPr/>
            <p:nvPr/>
          </p:nvSpPr>
          <p:spPr>
            <a:xfrm>
              <a:off x="228600" y="2895480"/>
              <a:ext cx="58672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 первом случае (рис.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и, следовательно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41" name=""/>
            <p:cNvGraphicFramePr/>
            <p:nvPr/>
          </p:nvGraphicFramePr>
          <p:xfrm>
            <a:off x="3048120" y="2895480"/>
            <a:ext cx="2057400" cy="330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4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048120" y="2895480"/>
                      <a:ext cx="205740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3" name=""/>
            <p:cNvGraphicFramePr/>
            <p:nvPr/>
          </p:nvGraphicFramePr>
          <p:xfrm>
            <a:off x="2286000" y="3200400"/>
            <a:ext cx="3378240" cy="673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4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286000" y="3200400"/>
                      <a:ext cx="3378240" cy="6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45" name=""/>
          <p:cNvGrpSpPr/>
          <p:nvPr/>
        </p:nvGrpSpPr>
        <p:grpSpPr>
          <a:xfrm>
            <a:off x="152280" y="4191120"/>
            <a:ext cx="5867640" cy="1326240"/>
            <a:chOff x="152280" y="4191120"/>
            <a:chExt cx="5867640" cy="1326240"/>
          </a:xfrm>
        </p:grpSpPr>
        <p:sp>
          <p:nvSpPr>
            <p:cNvPr id="546" name=""/>
            <p:cNvSpPr/>
            <p:nvPr/>
          </p:nvSpPr>
          <p:spPr>
            <a:xfrm>
              <a:off x="152280" y="4191120"/>
              <a:ext cx="586764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о втором случае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(рис.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и, следовательно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47" name=""/>
            <p:cNvGraphicFramePr/>
            <p:nvPr/>
          </p:nvGraphicFramePr>
          <p:xfrm>
            <a:off x="3054240" y="4191120"/>
            <a:ext cx="2044800" cy="330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4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054240" y="4191120"/>
                      <a:ext cx="204480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9" name=""/>
            <p:cNvGraphicFramePr/>
            <p:nvPr/>
          </p:nvGraphicFramePr>
          <p:xfrm>
            <a:off x="2203560" y="4495680"/>
            <a:ext cx="3390840" cy="6732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50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203560" y="4495680"/>
                      <a:ext cx="3390840" cy="6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51" name=""/>
          <p:cNvGrpSpPr/>
          <p:nvPr/>
        </p:nvGrpSpPr>
        <p:grpSpPr>
          <a:xfrm>
            <a:off x="228600" y="5257800"/>
            <a:ext cx="6172200" cy="1359000"/>
            <a:chOff x="228600" y="5257800"/>
            <a:chExt cx="6172200" cy="1359000"/>
          </a:xfrm>
        </p:grpSpPr>
        <p:sp>
          <p:nvSpPr>
            <p:cNvPr id="552" name=""/>
            <p:cNvSpPr/>
            <p:nvPr/>
          </p:nvSpPr>
          <p:spPr>
            <a:xfrm>
              <a:off x="228600" y="5410080"/>
              <a:ext cx="6172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Ответ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ил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3" name=""/>
            <p:cNvGraphicFramePr/>
            <p:nvPr/>
          </p:nvGraphicFramePr>
          <p:xfrm>
            <a:off x="1327320" y="5257800"/>
            <a:ext cx="3162240" cy="6732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5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327320" y="5257800"/>
                      <a:ext cx="3162240" cy="6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5" name=""/>
            <p:cNvGraphicFramePr/>
            <p:nvPr/>
          </p:nvGraphicFramePr>
          <p:xfrm>
            <a:off x="1333440" y="5943600"/>
            <a:ext cx="3162240" cy="6732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56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333440" y="5943600"/>
                      <a:ext cx="3162240" cy="6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152280" y="304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коло треугольни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исана окружность с центром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O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6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В 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писана окружность с центром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Найдите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M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52280" y="2133720"/>
            <a:ext cx="6096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ервом случае (рис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мма угл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угольни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а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Так ка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M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M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иссектрисы этих углов, то сумма угл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M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M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, следовательно,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M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28600" y="60199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твет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ли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52280" y="1371600"/>
            <a:ext cx="8991720" cy="4987800"/>
            <a:chOff x="152280" y="1371600"/>
            <a:chExt cx="8991720" cy="4987800"/>
          </a:xfrm>
        </p:grpSpPr>
        <p:sp>
          <p:nvSpPr>
            <p:cNvPr id="562" name=""/>
            <p:cNvSpPr/>
            <p:nvPr/>
          </p:nvSpPr>
          <p:spPr>
            <a:xfrm>
              <a:off x="152280" y="1371600"/>
              <a:ext cx="8991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Решение.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озможны два случая расположения вершины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3" name="" descr=""/>
            <p:cNvPicPr/>
            <p:nvPr/>
          </p:nvPicPr>
          <p:blipFill>
            <a:blip r:embed="rId1"/>
            <a:stretch/>
          </p:blipFill>
          <p:spPr>
            <a:xfrm>
              <a:off x="6629400" y="1905120"/>
              <a:ext cx="2008080" cy="23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" descr=""/>
            <p:cNvPicPr/>
            <p:nvPr/>
          </p:nvPicPr>
          <p:blipFill>
            <a:blip r:embed="rId2"/>
            <a:stretch/>
          </p:blipFill>
          <p:spPr>
            <a:xfrm>
              <a:off x="6400800" y="4419720"/>
              <a:ext cx="2340000" cy="193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5" name=""/>
          <p:cNvSpPr/>
          <p:nvPr/>
        </p:nvSpPr>
        <p:spPr>
          <a:xfrm>
            <a:off x="152280" y="4038480"/>
            <a:ext cx="6096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 втором случае (рис.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мма угл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угольни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Так ка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M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M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иссектрисы этих углов, то сумма угл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M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M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, следовательно,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M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4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52280" y="3808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писан в окружность радиуса 12. Известно, чт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дит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152280" y="1066680"/>
            <a:ext cx="8991720" cy="1852560"/>
            <a:chOff x="152280" y="1066680"/>
            <a:chExt cx="8991720" cy="1852560"/>
          </a:xfrm>
        </p:grpSpPr>
        <p:sp>
          <p:nvSpPr>
            <p:cNvPr id="569" name=""/>
            <p:cNvSpPr/>
            <p:nvPr/>
          </p:nvSpPr>
          <p:spPr>
            <a:xfrm>
              <a:off x="152280" y="1143000"/>
              <a:ext cx="89917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Times New Roman"/>
                </a:rPr>
                <a:t>Решение.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о теореме синусов                                  Откуда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озможны два случая расположения вершины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треугольника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B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0" name="" descr=""/>
            <p:cNvPicPr/>
            <p:nvPr/>
          </p:nvPicPr>
          <p:blipFill>
            <a:blip r:embed="rId1"/>
            <a:stretch/>
          </p:blipFill>
          <p:spPr>
            <a:xfrm>
              <a:off x="1752480" y="1981080"/>
              <a:ext cx="5578560" cy="9381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71" name=""/>
            <p:cNvGraphicFramePr/>
            <p:nvPr/>
          </p:nvGraphicFramePr>
          <p:xfrm>
            <a:off x="3657600" y="1066680"/>
            <a:ext cx="1943280" cy="609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7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657600" y="1066680"/>
                      <a:ext cx="194328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3" name=""/>
            <p:cNvGraphicFramePr/>
            <p:nvPr/>
          </p:nvGraphicFramePr>
          <p:xfrm>
            <a:off x="7696080" y="1066680"/>
            <a:ext cx="1016280" cy="609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7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696080" y="1066680"/>
                      <a:ext cx="101628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5" name=""/>
            <p:cNvGraphicFramePr/>
            <p:nvPr/>
          </p:nvGraphicFramePr>
          <p:xfrm>
            <a:off x="6553080" y="1066680"/>
            <a:ext cx="1054080" cy="6098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7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553080" y="1066680"/>
                      <a:ext cx="105408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77" name=""/>
          <p:cNvGrpSpPr/>
          <p:nvPr/>
        </p:nvGrpSpPr>
        <p:grpSpPr>
          <a:xfrm>
            <a:off x="228600" y="2971800"/>
            <a:ext cx="8915400" cy="2157480"/>
            <a:chOff x="228600" y="2971800"/>
            <a:chExt cx="8915400" cy="2157480"/>
          </a:xfrm>
        </p:grpSpPr>
        <p:sp>
          <p:nvSpPr>
            <p:cNvPr id="578" name=""/>
            <p:cNvSpPr/>
            <p:nvPr/>
          </p:nvSpPr>
          <p:spPr>
            <a:xfrm>
              <a:off x="228600" y="2971800"/>
              <a:ext cx="891540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Опустим перпендикуляр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H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на прямую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Тогда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BH = AB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in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 =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о теореме Пифагора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H =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H =                          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 первом случае (рис.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C =                    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о втором случае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рис. 2)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C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79" name=""/>
            <p:cNvGraphicFramePr/>
            <p:nvPr/>
          </p:nvGraphicFramePr>
          <p:xfrm>
            <a:off x="2133720" y="3276720"/>
            <a:ext cx="1523880" cy="3934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8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33720" y="3276720"/>
                      <a:ext cx="15238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1" name=""/>
            <p:cNvGraphicFramePr/>
            <p:nvPr/>
          </p:nvGraphicFramePr>
          <p:xfrm>
            <a:off x="4362480" y="3289320"/>
            <a:ext cx="1485720" cy="3682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582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362480" y="3289320"/>
                      <a:ext cx="148572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3" name=""/>
            <p:cNvGraphicFramePr/>
            <p:nvPr/>
          </p:nvGraphicFramePr>
          <p:xfrm>
            <a:off x="5715000" y="3733920"/>
            <a:ext cx="1155600" cy="3301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584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715000" y="3733920"/>
                      <a:ext cx="115560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5" name=""/>
            <p:cNvGraphicFramePr/>
            <p:nvPr/>
          </p:nvGraphicFramePr>
          <p:xfrm>
            <a:off x="914400" y="3733920"/>
            <a:ext cx="1155600" cy="3301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586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914400" y="3733920"/>
                      <a:ext cx="115560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87" name="" descr=""/>
            <p:cNvPicPr/>
            <p:nvPr/>
          </p:nvPicPr>
          <p:blipFill>
            <a:blip r:embed="rId16"/>
            <a:stretch/>
          </p:blipFill>
          <p:spPr>
            <a:xfrm>
              <a:off x="1676520" y="4191120"/>
              <a:ext cx="5578200" cy="93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8" name=""/>
          <p:cNvGrpSpPr/>
          <p:nvPr/>
        </p:nvGrpSpPr>
        <p:grpSpPr>
          <a:xfrm>
            <a:off x="228600" y="5638680"/>
            <a:ext cx="6172200" cy="459720"/>
            <a:chOff x="228600" y="5638680"/>
            <a:chExt cx="6172200" cy="459720"/>
          </a:xfrm>
        </p:grpSpPr>
        <p:sp>
          <p:nvSpPr>
            <p:cNvPr id="589" name=""/>
            <p:cNvSpPr/>
            <p:nvPr/>
          </p:nvSpPr>
          <p:spPr>
            <a:xfrm>
              <a:off x="228600" y="5638680"/>
              <a:ext cx="61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Ответ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или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0" name=""/>
            <p:cNvGraphicFramePr/>
            <p:nvPr/>
          </p:nvGraphicFramePr>
          <p:xfrm>
            <a:off x="1238400" y="5715000"/>
            <a:ext cx="1117440" cy="3301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9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238400" y="5715000"/>
                      <a:ext cx="111744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2" name=""/>
            <p:cNvGraphicFramePr/>
            <p:nvPr/>
          </p:nvGraphicFramePr>
          <p:xfrm>
            <a:off x="3200400" y="5715000"/>
            <a:ext cx="1155600" cy="3301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9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200400" y="5715000"/>
                      <a:ext cx="115560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4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152280" y="5335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ямые, содержащие высоты треугольни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секаются в точ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вестно, чт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 = 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дите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04920" y="457200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ервом случае (рис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ак вписанные углы, опирающиеся на равные дуги. Следовательно,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4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Во втором случае (рис.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13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80880" y="5943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твет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ли 13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52280" y="1295280"/>
            <a:ext cx="8991720" cy="3241800"/>
            <a:chOff x="152280" y="1295280"/>
            <a:chExt cx="8991720" cy="3241800"/>
          </a:xfrm>
        </p:grpSpPr>
        <p:sp>
          <p:nvSpPr>
            <p:cNvPr id="599" name=""/>
            <p:cNvSpPr/>
            <p:nvPr/>
          </p:nvSpPr>
          <p:spPr>
            <a:xfrm>
              <a:off x="152280" y="1295280"/>
              <a:ext cx="899172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Решение.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– высоты тре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пишем окружности н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как на диаметрах. Они пройдут через точ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озможны два случая расположения точ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0" name="" descr=""/>
            <p:cNvPicPr/>
            <p:nvPr/>
          </p:nvPicPr>
          <p:blipFill>
            <a:blip r:embed="rId1"/>
            <a:stretch/>
          </p:blipFill>
          <p:spPr>
            <a:xfrm>
              <a:off x="2209680" y="2438280"/>
              <a:ext cx="1752840" cy="209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" descr=""/>
            <p:cNvPicPr/>
            <p:nvPr/>
          </p:nvPicPr>
          <p:blipFill>
            <a:blip r:embed="rId2"/>
            <a:stretch/>
          </p:blipFill>
          <p:spPr>
            <a:xfrm>
              <a:off x="4724280" y="2438280"/>
              <a:ext cx="1741680" cy="207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4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0" y="304920"/>
            <a:ext cx="91440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ре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едены высот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нтр вписанной окружности. Известно, чт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2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дите радиус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кружности, описанной около треугольни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152280" y="1371600"/>
            <a:ext cx="8991720" cy="5121360"/>
            <a:chOff x="152280" y="1371600"/>
            <a:chExt cx="8991720" cy="5121360"/>
          </a:xfrm>
        </p:grpSpPr>
        <p:sp>
          <p:nvSpPr>
            <p:cNvPr id="605" name=""/>
            <p:cNvSpPr/>
            <p:nvPr/>
          </p:nvSpPr>
          <p:spPr>
            <a:xfrm>
              <a:off x="152280" y="1371600"/>
              <a:ext cx="899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Решение.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озможны два случая расположения отрез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6" name="" descr=""/>
            <p:cNvPicPr/>
            <p:nvPr/>
          </p:nvPicPr>
          <p:blipFill>
            <a:blip r:embed="rId1"/>
            <a:stretch/>
          </p:blipFill>
          <p:spPr>
            <a:xfrm>
              <a:off x="7086600" y="1828800"/>
              <a:ext cx="1720800" cy="21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" descr=""/>
            <p:cNvPicPr/>
            <p:nvPr/>
          </p:nvPicPr>
          <p:blipFill>
            <a:blip r:embed="rId2"/>
            <a:stretch/>
          </p:blipFill>
          <p:spPr>
            <a:xfrm>
              <a:off x="7162920" y="4267080"/>
              <a:ext cx="1752480" cy="222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8" name=""/>
          <p:cNvGrpSpPr/>
          <p:nvPr/>
        </p:nvGrpSpPr>
        <p:grpSpPr>
          <a:xfrm>
            <a:off x="228600" y="1828800"/>
            <a:ext cx="8915400" cy="2490840"/>
            <a:chOff x="228600" y="1828800"/>
            <a:chExt cx="8915400" cy="2490840"/>
          </a:xfrm>
        </p:grpSpPr>
        <p:grpSp>
          <p:nvGrpSpPr>
            <p:cNvPr id="609" name=""/>
            <p:cNvGrpSpPr/>
            <p:nvPr/>
          </p:nvGrpSpPr>
          <p:grpSpPr>
            <a:xfrm>
              <a:off x="228600" y="1828800"/>
              <a:ext cx="8915400" cy="2490840"/>
              <a:chOff x="228600" y="1828800"/>
              <a:chExt cx="8915400" cy="2490840"/>
            </a:xfrm>
          </p:grpSpPr>
          <p:sp>
            <p:nvSpPr>
              <p:cNvPr id="610" name=""/>
              <p:cNvSpPr/>
              <p:nvPr/>
            </p:nvSpPr>
            <p:spPr>
              <a:xfrm>
                <a:off x="228600" y="1905120"/>
                <a:ext cx="6705720" cy="24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На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C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как на диаметре, опишем окружность с центром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.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Треугольник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равносторонний. Следовательно, сумма углов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P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и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PC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равна 120</a:t>
                </a:r>
                <a:r>
                  <a:rPr b="0" lang="ru-RU" sz="2000" spc="-1" strike="noStrike" baseline="30000">
                    <a:solidFill>
                      <a:srgbClr val="000000"/>
                    </a:solidFill>
                    <a:latin typeface="Times New Roman"/>
                  </a:rPr>
                  <a:t>о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В первом случае (рис.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)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треугольники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PC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и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PB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равнобедренные. Следовательно, сумма углов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и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равна 120</a:t>
                </a:r>
                <a:r>
                  <a:rPr b="0" lang="ru-RU" sz="2000" spc="-1" strike="noStrike" baseline="30000">
                    <a:solidFill>
                      <a:srgbClr val="000000"/>
                    </a:solidFill>
                    <a:latin typeface="Times New Roman"/>
                  </a:rPr>
                  <a:t>о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. Так как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O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и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– биссектрисы, то угол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OC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равен 120</a:t>
                </a:r>
                <a:r>
                  <a:rPr b="0" lang="ru-RU" sz="2000" spc="-1" strike="noStrike" baseline="30000">
                    <a:solidFill>
                      <a:srgbClr val="000000"/>
                    </a:solidFill>
                    <a:latin typeface="Times New Roman"/>
                  </a:rPr>
                  <a:t>о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. По теореме синусов находим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 =         .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1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53400" y="1828800"/>
                <a:ext cx="2190600" cy="219384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612" name=""/>
            <p:cNvGraphicFramePr/>
            <p:nvPr/>
          </p:nvGraphicFramePr>
          <p:xfrm>
            <a:off x="2666880" y="3809880"/>
            <a:ext cx="457200" cy="330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1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666880" y="3809880"/>
                      <a:ext cx="45720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14" name=""/>
          <p:cNvGrpSpPr/>
          <p:nvPr/>
        </p:nvGrpSpPr>
        <p:grpSpPr>
          <a:xfrm>
            <a:off x="304920" y="4267080"/>
            <a:ext cx="8839080" cy="2225880"/>
            <a:chOff x="304920" y="4267080"/>
            <a:chExt cx="8839080" cy="2225880"/>
          </a:xfrm>
        </p:grpSpPr>
        <p:pic>
          <p:nvPicPr>
            <p:cNvPr id="615" name="" descr=""/>
            <p:cNvPicPr/>
            <p:nvPr/>
          </p:nvPicPr>
          <p:blipFill>
            <a:blip r:embed="rId6"/>
            <a:stretch/>
          </p:blipFill>
          <p:spPr>
            <a:xfrm>
              <a:off x="6921360" y="4267080"/>
              <a:ext cx="2222640" cy="222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304920" y="4267080"/>
              <a:ext cx="65530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о втором случае (рис. 2) сумма углов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равна 60</a:t>
              </a:r>
              <a:r>
                <a:rPr b="0" lang="ru-RU" sz="2000" spc="-1" strike="noStrike" baseline="30000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. Так как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O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O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– биссектрисы, то угол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OC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равен 150</a:t>
              </a:r>
              <a:r>
                <a:rPr b="0" lang="ru-RU" sz="2000" spc="-1" strike="noStrike" baseline="30000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. По теореме синусов находим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= 24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380880" y="5943600"/>
            <a:ext cx="6172200" cy="459720"/>
            <a:chOff x="380880" y="5943600"/>
            <a:chExt cx="6172200" cy="459720"/>
          </a:xfrm>
        </p:grpSpPr>
        <p:sp>
          <p:nvSpPr>
            <p:cNvPr id="618" name=""/>
            <p:cNvSpPr/>
            <p:nvPr/>
          </p:nvSpPr>
          <p:spPr>
            <a:xfrm>
              <a:off x="380880" y="5943600"/>
              <a:ext cx="61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Ответ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  или 24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19" name=""/>
            <p:cNvGraphicFramePr/>
            <p:nvPr/>
          </p:nvGraphicFramePr>
          <p:xfrm>
            <a:off x="1447920" y="5943600"/>
            <a:ext cx="546120" cy="393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2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447920" y="5943600"/>
                      <a:ext cx="54612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280" y="6858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равнобедренном треугольнике боковые стороны равны 4. Найдите основание этого треугольника, если медиана, проведенная к боковой стороне, равна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пражнение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8120" y="2057400"/>
            <a:ext cx="2543040" cy="238428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380880" y="4495680"/>
            <a:ext cx="2819520" cy="547920"/>
            <a:chOff x="380880" y="4495680"/>
            <a:chExt cx="2819520" cy="547920"/>
          </a:xfrm>
        </p:grpSpPr>
        <p:sp>
          <p:nvSpPr>
            <p:cNvPr id="105" name=""/>
            <p:cNvSpPr/>
            <p:nvPr/>
          </p:nvSpPr>
          <p:spPr>
            <a:xfrm>
              <a:off x="380880" y="457200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Ответ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6" name=""/>
            <p:cNvGraphicFramePr/>
            <p:nvPr/>
          </p:nvGraphicFramePr>
          <p:xfrm>
            <a:off x="1371600" y="4495680"/>
            <a:ext cx="793800" cy="547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71600" y="4495680"/>
                      <a:ext cx="793800" cy="54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8:24:28Z</dcterms:created>
  <dc:creator>*</dc:creator>
  <dc:description/>
  <dc:language>en-US</dc:language>
  <cp:lastModifiedBy>*</cp:lastModifiedBy>
  <dcterms:modified xsi:type="dcterms:W3CDTF">2012-03-07T04:23:49Z</dcterms:modified>
  <cp:revision>38</cp:revision>
  <dc:subject/>
  <dc:title>Презентация PowerPoint</dc:title>
</cp:coreProperties>
</file>