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49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4.wmf" ContentType="image/x-wmf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31.png" ContentType="image/png"/>
  <Override PartName="/ppt/media/image71.wmf" ContentType="image/x-wmf"/>
  <Override PartName="/ppt/media/image68.png" ContentType="image/png"/>
  <Override PartName="/ppt/media/image29.wmf" ContentType="image/x-wmf"/>
  <Override PartName="/ppt/media/image15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8.png" ContentType="image/png"/>
  <Override PartName="/ppt/media/image77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75.png" ContentType="image/png"/>
  <Override PartName="/ppt/media/image74.wmf" ContentType="image/x-wmf"/>
  <Override PartName="/ppt/media/image26.png" ContentType="image/png"/>
  <Override PartName="/ppt/media/image66.wmf" ContentType="image/x-wmf"/>
  <Override PartName="/ppt/media/image63.png" ContentType="image/png"/>
  <Override PartName="/ppt/media/image72.png" ContentType="image/png"/>
  <Override PartName="/ppt/media/image58.png" ContentType="image/png"/>
  <Override PartName="/ppt/media/image3.wmf" ContentType="image/x-wmf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7.wmf" ContentType="image/x-wmf"/>
  <Override PartName="/ppt/media/image27.png" ContentType="image/png"/>
  <Override PartName="/ppt/media/image65.png" ContentType="image/png"/>
  <Override PartName="/ppt/media/image64.png" ContentType="image/png"/>
  <Override PartName="/ppt/media/image33.wmf" ContentType="image/x-wmf"/>
  <Override PartName="/ppt/media/image76.png" ContentType="image/png"/>
  <Override PartName="/ppt/media/image30.wmf" ContentType="image/x-wmf"/>
  <Override PartName="/ppt/media/image73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8.png" ContentType="image/png"/>
  <Override PartName="/ppt/media/image36.png" ContentType="image/png"/>
  <Override PartName="/ppt/media/image18.png" ContentType="image/png"/>
  <Override PartName="/ppt/media/image40.wmf" ContentType="image/x-wmf"/>
  <Override PartName="/ppt/media/image6.png" ContentType="image/png"/>
  <Override PartName="/ppt/media/image11.png" ContentType="image/png"/>
  <Override PartName="/ppt/media/image51.wmf" ContentType="image/x-wmf"/>
  <Override PartName="/ppt/media/image48.png" ContentType="image/png"/>
  <Override PartName="/ppt/media/image70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FC4-3A35-4467-8E97-11D32F02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F2E-DAE6-4F92-AE5B-F2C12165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5AF-4A84-4FF3-9C91-628E72B7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944-D9B5-47C2-BC30-615F3920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0D6-5068-4E1B-B0DF-27BEB47E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6EB-D568-4725-B9B5-7B796D5B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E96-64E5-475D-B5BF-27969BD3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B86-4E22-4FC6-8646-64AB70D9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47E-2DC7-4028-B221-4D48DE21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113-75C7-4393-A110-EC6430E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9B3-DF66-4F4B-930E-78CDE76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333-87D6-4D6D-91A7-7284E6B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F42-4BAD-4280-9112-949477DBD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7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1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ой этому отрезку и отстоящей от него на расстояние, равное 2. Найдите площадь поверхности вращени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1219320" cy="15922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57200" y="1905120"/>
            <a:ext cx="8381880" cy="3629520"/>
            <a:chOff x="457200" y="1905120"/>
            <a:chExt cx="8381880" cy="3629520"/>
          </a:xfrm>
        </p:grpSpPr>
        <p:sp>
          <p:nvSpPr>
            <p:cNvPr id="44" name=""/>
            <p:cNvSpPr/>
            <p:nvPr/>
          </p:nvSpPr>
          <p:spPr>
            <a:xfrm>
              <a:off x="457200" y="43434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вращения является боковая поверхность цилиндра, радиус основания которого равен 2, образующая равна 1. Площадь этой поверхности равна 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733920" y="1905120"/>
              <a:ext cx="2224080" cy="159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" name=""/>
            <p:cNvGraphicFramePr/>
            <p:nvPr/>
          </p:nvGraphicFramePr>
          <p:xfrm>
            <a:off x="7924680" y="5181480"/>
            <a:ext cx="27936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2468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3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жащей с ним в одной плоскости и отстоящей от конц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 на расстояния 1 и 2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119700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457200" y="2133720"/>
            <a:ext cx="8381880" cy="3400920"/>
            <a:chOff x="457200" y="2133720"/>
            <a:chExt cx="8381880" cy="3400920"/>
          </a:xfrm>
        </p:grpSpPr>
        <p:sp>
          <p:nvSpPr>
            <p:cNvPr id="107" name=""/>
            <p:cNvSpPr/>
            <p:nvPr/>
          </p:nvSpPr>
          <p:spPr>
            <a:xfrm>
              <a:off x="457200" y="43434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боковая поверхность усеченного конуса, образующая которого равна 3, радиусы оснований равны 1 и 2. Ее площадь равна 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6248520" y="51814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52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2743200" y="2133720"/>
              <a:ext cx="2212920" cy="190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2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жащей с ним в одной плоскости, отстоящей от ближайшего кон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равное 1, и образующей с этим отрезком угол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1230480" cy="15922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457200" y="2514600"/>
            <a:ext cx="8381880" cy="3020040"/>
            <a:chOff x="457200" y="2514600"/>
            <a:chExt cx="8381880" cy="3020040"/>
          </a:xfrm>
        </p:grpSpPr>
        <p:graphicFrame>
          <p:nvGraphicFramePr>
            <p:cNvPr id="114" name=""/>
            <p:cNvGraphicFramePr/>
            <p:nvPr/>
          </p:nvGraphicFramePr>
          <p:xfrm>
            <a:off x="6248520" y="51814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52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"/>
            <p:cNvGrpSpPr/>
            <p:nvPr/>
          </p:nvGrpSpPr>
          <p:grpSpPr>
            <a:xfrm>
              <a:off x="457200" y="2514600"/>
              <a:ext cx="8381880" cy="3020040"/>
              <a:chOff x="457200" y="2514600"/>
              <a:chExt cx="8381880" cy="3020040"/>
            </a:xfrm>
          </p:grpSpPr>
          <p:sp>
            <p:nvSpPr>
              <p:cNvPr id="117" name=""/>
              <p:cNvSpPr/>
              <p:nvPr/>
            </p:nvSpPr>
            <p:spPr>
              <a:xfrm>
                <a:off x="457200" y="4343400"/>
                <a:ext cx="8381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Ответ.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скомой поверхностью является боковая поверхность усеченного конуса, образующая которого равна 2, радиусы оснований равны 1 и 2. Ее площадь равна 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19520" y="2514600"/>
                <a:ext cx="2244600" cy="1339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04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боковой поверхности цилиндра, полученного вращением единичного квадра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1849680" cy="16970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57200" y="1676520"/>
            <a:ext cx="8381880" cy="4086720"/>
            <a:chOff x="457200" y="1676520"/>
            <a:chExt cx="8381880" cy="4086720"/>
          </a:xfrm>
        </p:grpSpPr>
        <p:sp>
          <p:nvSpPr>
            <p:cNvPr id="122" name=""/>
            <p:cNvSpPr/>
            <p:nvPr/>
          </p:nvSpPr>
          <p:spPr>
            <a:xfrm>
              <a:off x="457200" y="45720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й цилиндр изображен на рисунке. Радиус его основания и образующая равны 1. Площадь боковой поверхности этого цилиндра равна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5334120" y="54100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2057400" y="1676520"/>
              <a:ext cx="3276720" cy="188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вращения прямо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рон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круг прямой, проходящей через середины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158920" cy="18874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57200" y="1905120"/>
            <a:ext cx="8381880" cy="3858120"/>
            <a:chOff x="457200" y="1905120"/>
            <a:chExt cx="8381880" cy="3858120"/>
          </a:xfrm>
        </p:grpSpPr>
        <p:sp>
          <p:nvSpPr>
            <p:cNvPr id="129" name=""/>
            <p:cNvSpPr/>
            <p:nvPr/>
          </p:nvSpPr>
          <p:spPr>
            <a:xfrm>
              <a:off x="457200" y="45720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является цилиндр, радиус основания которого равен 2, а образующая равна 3. Его площадь поверхности равна 2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3429000" y="54100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900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3124080" y="1905120"/>
              <a:ext cx="2514600" cy="202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тела, полученного вращением единичного квадра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прямой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165744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57200" y="1905120"/>
            <a:ext cx="8381880" cy="3863880"/>
            <a:chOff x="457200" y="1905120"/>
            <a:chExt cx="8381880" cy="3863880"/>
          </a:xfrm>
        </p:grpSpPr>
        <p:sp>
          <p:nvSpPr>
            <p:cNvPr id="136" name=""/>
            <p:cNvSpPr/>
            <p:nvPr/>
          </p:nvSpPr>
          <p:spPr>
            <a:xfrm>
              <a:off x="457200" y="45720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объединение двух конусов, радиусы оснований которого и высоты равны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Его площадь поверхности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4800600" y="5334120"/>
            <a:ext cx="609480" cy="43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00600" y="5334120"/>
                      <a:ext cx="60948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7670880" y="4952880"/>
            <a:ext cx="787320" cy="438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70880" y="4952880"/>
                      <a:ext cx="7873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3352680" y="1905120"/>
              <a:ext cx="1828800" cy="168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ого вращением прямоуго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тет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1666800" cy="16128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228600" y="2057400"/>
            <a:ext cx="8686800" cy="3735360"/>
            <a:chOff x="228600" y="2057400"/>
            <a:chExt cx="8686800" cy="3735360"/>
          </a:xfrm>
        </p:grpSpPr>
        <p:sp>
          <p:nvSpPr>
            <p:cNvPr id="145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й конус изображен на рисунке. Радиус его основания равен 1, а образующая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лощадь поверхности этого конуса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5562720" y="4952880"/>
            <a:ext cx="4381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62720" y="4952880"/>
                      <a:ext cx="4381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4572000" y="5334120"/>
            <a:ext cx="1168560" cy="458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334120"/>
                      <a:ext cx="116856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0" name="" descr=""/>
            <p:cNvPicPr/>
            <p:nvPr/>
          </p:nvPicPr>
          <p:blipFill>
            <a:blip r:embed="rId6"/>
            <a:stretch/>
          </p:blipFill>
          <p:spPr>
            <a:xfrm>
              <a:off x="2133720" y="2057400"/>
              <a:ext cx="3124080" cy="164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лной поверх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енного вращением равносторонне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роной 1 вокруг прямой, содержащей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го треугольн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1901880" cy="1719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228600" y="2286000"/>
            <a:ext cx="8686800" cy="3477240"/>
            <a:chOff x="228600" y="2286000"/>
            <a:chExt cx="8686800" cy="3477240"/>
          </a:xfrm>
        </p:grpSpPr>
        <p:sp>
          <p:nvSpPr>
            <p:cNvPr id="154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й конус изображен на рисунке. Радиус его основания равен 0,5, а образующая равна 1. Площадь полной поверхности этого конуса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4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4724280" y="54100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2428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276720" y="2286000"/>
              <a:ext cx="228744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304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вращения равносторонне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роной 1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1901880" cy="15811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228600" y="1676520"/>
            <a:ext cx="8686800" cy="4086720"/>
            <a:chOff x="228600" y="1676520"/>
            <a:chExt cx="8686800" cy="4086720"/>
          </a:xfrm>
        </p:grpSpPr>
        <p:sp>
          <p:nvSpPr>
            <p:cNvPr id="161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е тело вращения составлено из двух конусов с общим основанием, радиус которого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а высоты – 0,5. Его площадь поверхности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5943600" y="4952880"/>
            <a:ext cx="679320" cy="38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43600" y="4952880"/>
                      <a:ext cx="679320" cy="3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572000" y="5334120"/>
            <a:ext cx="523800" cy="388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334120"/>
                      <a:ext cx="52380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3352680" y="1676520"/>
              <a:ext cx="1967040" cy="281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равнобедренной трапец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боковыми сторон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ми 1, и основани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ми соответственно 2 и 1, вокруг прямой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404800" cy="11066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228600" y="2166840"/>
            <a:ext cx="8686800" cy="3596400"/>
            <a:chOff x="228600" y="2166840"/>
            <a:chExt cx="8686800" cy="3596400"/>
          </a:xfrm>
        </p:grpSpPr>
        <p:graphicFrame>
          <p:nvGraphicFramePr>
            <p:cNvPr id="170" name=""/>
            <p:cNvGraphicFramePr/>
            <p:nvPr/>
          </p:nvGraphicFramePr>
          <p:xfrm>
            <a:off x="1752480" y="4952880"/>
            <a:ext cx="689040" cy="459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4952880"/>
                      <a:ext cx="689040" cy="4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цилиндр с радиусом основания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высотой 1, на основаниях которого достроены конусы, высотой 0,5. Его объем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5410080" y="5410080"/>
            <a:ext cx="279360" cy="30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3048120" y="2166840"/>
              <a:ext cx="242244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прямоугольной трапец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снования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ми соответственно 2 и 1, меньшей боковой стороной, равной 1, вокруг прямой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04920" y="2286000"/>
            <a:ext cx="8686800" cy="3705840"/>
            <a:chOff x="304920" y="2286000"/>
            <a:chExt cx="8686800" cy="3705840"/>
          </a:xfrm>
        </p:grpSpPr>
        <p:sp>
          <p:nvSpPr>
            <p:cNvPr id="179" name=""/>
            <p:cNvSpPr/>
            <p:nvPr/>
          </p:nvSpPr>
          <p:spPr>
            <a:xfrm>
              <a:off x="304920" y="48006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цилиндр с радиусом основания и высотой, равными 1, на основании которого достроен конус, высотой 1. Его объем рав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6172200" y="5562720"/>
            <a:ext cx="812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5562720"/>
                      <a:ext cx="812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3048120" y="2286000"/>
              <a:ext cx="2514600" cy="212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1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пендикулярной этому отрезку и отстоящей от ближайшего его кон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равное 2 (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в одной плоскости)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6999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57200" y="2209680"/>
            <a:ext cx="8381880" cy="3324960"/>
            <a:chOff x="457200" y="2209680"/>
            <a:chExt cx="8381880" cy="3324960"/>
          </a:xfrm>
        </p:grpSpPr>
        <p:sp>
          <p:nvSpPr>
            <p:cNvPr id="51" name=""/>
            <p:cNvSpPr/>
            <p:nvPr/>
          </p:nvSpPr>
          <p:spPr>
            <a:xfrm>
              <a:off x="457200" y="43434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кольцо, внутренний радиус которого равен 2, а внешний – 3. Площадь этого кольца равна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2209680" y="2209680"/>
              <a:ext cx="3259080" cy="159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" name=""/>
            <p:cNvGraphicFramePr/>
            <p:nvPr/>
          </p:nvGraphicFramePr>
          <p:xfrm>
            <a:off x="2514600" y="5181480"/>
            <a:ext cx="27936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правильного шести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стороной 1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158920" cy="18349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04920" y="1905120"/>
            <a:ext cx="8686800" cy="4452480"/>
            <a:chOff x="304920" y="1905120"/>
            <a:chExt cx="8686800" cy="4452480"/>
          </a:xfrm>
        </p:grpSpPr>
        <p:sp>
          <p:nvSpPr>
            <p:cNvPr id="186" name=""/>
            <p:cNvSpPr/>
            <p:nvPr/>
          </p:nvSpPr>
          <p:spPr>
            <a:xfrm>
              <a:off x="304920" y="4800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е тело вращения состоит из цилиндра, радиус основания которого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а высота равна 1 и двух конусов с основаниями радиус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высотой 0,5. Его объем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1219320" y="6019920"/>
            <a:ext cx="279360" cy="30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6019920"/>
                      <a:ext cx="2793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"/>
            <p:cNvGraphicFramePr/>
            <p:nvPr/>
          </p:nvGraphicFramePr>
          <p:xfrm>
            <a:off x="4572000" y="5562720"/>
            <a:ext cx="762120" cy="43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562720"/>
                      <a:ext cx="76212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3886200" y="5181480"/>
            <a:ext cx="762120" cy="435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5181480"/>
                      <a:ext cx="762120" cy="4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3048120" y="1905120"/>
              <a:ext cx="2361960" cy="200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много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ображенного на рисунке и составленного из трех единичных квадратов,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646280" cy="150804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28600" y="2057400"/>
            <a:ext cx="8686800" cy="3340080"/>
            <a:chOff x="228600" y="2057400"/>
            <a:chExt cx="8686800" cy="3340080"/>
          </a:xfrm>
        </p:grpSpPr>
        <p:sp>
          <p:nvSpPr>
            <p:cNvPr id="197" name=""/>
            <p:cNvSpPr/>
            <p:nvPr/>
          </p:nvSpPr>
          <p:spPr>
            <a:xfrm>
              <a:off x="228600" y="457200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е тело вращения состоит из двух цилиндров с основаниями радиусов 2 и 1, высотой 1. Его объем равен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8001000" y="502920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01000" y="502920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0" name="" descr=""/>
            <p:cNvPicPr/>
            <p:nvPr/>
          </p:nvPicPr>
          <p:blipFill>
            <a:blip r:embed="rId4"/>
            <a:stretch/>
          </p:blipFill>
          <p:spPr>
            <a:xfrm>
              <a:off x="2819520" y="2057400"/>
              <a:ext cx="2778120" cy="149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много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ображенного на рисунке и составленного из четырех единичных квадратов,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середины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362320" cy="16876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228600" y="2209680"/>
            <a:ext cx="8686800" cy="3553560"/>
            <a:chOff x="228600" y="2209680"/>
            <a:chExt cx="8686800" cy="3553560"/>
          </a:xfrm>
        </p:grpSpPr>
        <p:sp>
          <p:nvSpPr>
            <p:cNvPr id="204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е тело вращения составлено из двух цилиндров высотой 1 и радиусами оснований 1,5 и 0,5. Его объем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685800" y="54100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7" name="" descr=""/>
            <p:cNvPicPr/>
            <p:nvPr/>
          </p:nvPicPr>
          <p:blipFill>
            <a:blip r:embed="rId4"/>
            <a:stretch/>
          </p:blipFill>
          <p:spPr>
            <a:xfrm>
              <a:off x="3124080" y="2209680"/>
              <a:ext cx="243864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много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G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ображенного на рисунке и составленного из пяти единичных квадратов,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середины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351160" cy="168768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228600" y="2057400"/>
            <a:ext cx="8686800" cy="4071600"/>
            <a:chOff x="228600" y="2057400"/>
            <a:chExt cx="8686800" cy="4071600"/>
          </a:xfrm>
        </p:grpSpPr>
        <p:sp>
          <p:nvSpPr>
            <p:cNvPr id="211" name=""/>
            <p:cNvSpPr/>
            <p:nvPr/>
          </p:nvSpPr>
          <p:spPr>
            <a:xfrm>
              <a:off x="228600" y="4572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. 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Искомое тело вращения является цилиндром с радиусом основания 1,5 и высотой 2, из которого вырезан цилиндр с радиусом основания 0,5 и высотой 1. Его объем равен 4,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838080" y="5791320"/>
            <a:ext cx="279360" cy="30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8080" y="5791320"/>
                      <a:ext cx="2793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3352680" y="2057400"/>
              <a:ext cx="2438640" cy="19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304920"/>
            <a:ext cx="8534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373480" cy="2067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228600" y="1523880"/>
            <a:ext cx="8686800" cy="4239360"/>
            <a:chOff x="228600" y="1523880"/>
            <a:chExt cx="8686800" cy="4239360"/>
          </a:xfrm>
        </p:grpSpPr>
        <p:sp>
          <p:nvSpPr>
            <p:cNvPr id="218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цилиндр, радиус основания которого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а высота равна 1. Его объем равен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" name=""/>
            <p:cNvGraphicFramePr/>
            <p:nvPr/>
          </p:nvGraphicFramePr>
          <p:xfrm>
            <a:off x="3809880" y="4952880"/>
            <a:ext cx="4381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4952880"/>
                      <a:ext cx="4381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"/>
            <p:cNvGraphicFramePr/>
            <p:nvPr/>
          </p:nvGraphicFramePr>
          <p:xfrm>
            <a:off x="1295280" y="5410080"/>
            <a:ext cx="279360" cy="30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9528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3" name="" descr=""/>
            <p:cNvPicPr/>
            <p:nvPr/>
          </p:nvPicPr>
          <p:blipFill>
            <a:blip r:embed="rId6"/>
            <a:stretch/>
          </p:blipFill>
          <p:spPr>
            <a:xfrm>
              <a:off x="1752480" y="1523880"/>
              <a:ext cx="4572000" cy="204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304920"/>
            <a:ext cx="8534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правильной тре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052720" cy="2129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228600" y="1754280"/>
            <a:ext cx="8686800" cy="3643200"/>
            <a:chOff x="228600" y="1754280"/>
            <a:chExt cx="8686800" cy="3643200"/>
          </a:xfrm>
        </p:grpSpPr>
        <p:sp>
          <p:nvSpPr>
            <p:cNvPr id="227" name=""/>
            <p:cNvSpPr/>
            <p:nvPr/>
          </p:nvSpPr>
          <p:spPr>
            <a:xfrm>
              <a:off x="228600" y="457200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цилиндр, радиус основания и высота которого равны 1. Его объем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7543800" y="502920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502920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2286000" y="1754280"/>
              <a:ext cx="3352680" cy="20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30492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373480" cy="20034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228600" y="1981080"/>
            <a:ext cx="8686800" cy="3782160"/>
            <a:chOff x="228600" y="1981080"/>
            <a:chExt cx="8686800" cy="3782160"/>
          </a:xfrm>
        </p:grpSpPr>
        <p:sp>
          <p:nvSpPr>
            <p:cNvPr id="234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цилиндр, радиус основания которого равен 2, а высота равна 1. Его объем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533520" y="54100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1752480" y="1981080"/>
              <a:ext cx="4343400" cy="201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правильной четырехугольной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вокруг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держащей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пирами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307960" cy="1771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228600" y="2133720"/>
            <a:ext cx="8915400" cy="3819960"/>
            <a:chOff x="228600" y="2133720"/>
            <a:chExt cx="8915400" cy="3819960"/>
          </a:xfrm>
        </p:grpSpPr>
        <p:sp>
          <p:nvSpPr>
            <p:cNvPr id="241" name=""/>
            <p:cNvSpPr/>
            <p:nvPr/>
          </p:nvSpPr>
          <p:spPr>
            <a:xfrm>
              <a:off x="228600" y="4572000"/>
              <a:ext cx="8915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конус, радиус основания и высота которого равны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о объем рав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5029200" y="4952880"/>
            <a:ext cx="75096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9200" y="4952880"/>
                      <a:ext cx="7509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514600" y="5486400"/>
            <a:ext cx="1001880" cy="417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14600" y="5486400"/>
                      <a:ext cx="100188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3276720" y="2133720"/>
              <a:ext cx="2319120" cy="187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304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единичного тетраэд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298960" cy="211932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228600" y="1523880"/>
            <a:ext cx="8915400" cy="4239360"/>
            <a:chOff x="228600" y="1523880"/>
            <a:chExt cx="8915400" cy="4239360"/>
          </a:xfrm>
        </p:grpSpPr>
        <p:sp>
          <p:nvSpPr>
            <p:cNvPr id="250" name=""/>
            <p:cNvSpPr/>
            <p:nvPr/>
          </p:nvSpPr>
          <p:spPr>
            <a:xfrm>
              <a:off x="228600" y="457200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. 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 Искомое тело вращения составлено из двух конусов с общим основанием радиуса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высотой 0,5. Его объем равен 0,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4048200" y="4952880"/>
            <a:ext cx="73008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48200" y="4952880"/>
                      <a:ext cx="73008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838080" y="5410080"/>
            <a:ext cx="281160" cy="30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38080" y="5410080"/>
                      <a:ext cx="2811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5" name="" descr=""/>
            <p:cNvPicPr/>
            <p:nvPr/>
          </p:nvPicPr>
          <p:blipFill>
            <a:blip r:embed="rId6"/>
            <a:stretch/>
          </p:blipFill>
          <p:spPr>
            <a:xfrm>
              <a:off x="3048120" y="1523880"/>
              <a:ext cx="2414520" cy="266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тела вращения единичного правильного октаэд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S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'S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1966680" cy="212904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28600" y="1600200"/>
            <a:ext cx="8915400" cy="4163040"/>
            <a:chOff x="228600" y="1600200"/>
            <a:chExt cx="8915400" cy="4163040"/>
          </a:xfrm>
        </p:grpSpPr>
        <p:sp>
          <p:nvSpPr>
            <p:cNvPr id="259" name=""/>
            <p:cNvSpPr/>
            <p:nvPr/>
          </p:nvSpPr>
          <p:spPr>
            <a:xfrm>
              <a:off x="228600" y="457200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е тело вращения состоит из двух конусов с общим основанием радиуса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высотами, равными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Его объем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2971800" y="4952880"/>
            <a:ext cx="75096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4952880"/>
                      <a:ext cx="7509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66680" y="5334120"/>
            <a:ext cx="876600" cy="417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6680" y="5334120"/>
                      <a:ext cx="87660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"/>
            <p:cNvGraphicFramePr/>
            <p:nvPr/>
          </p:nvGraphicFramePr>
          <p:xfrm>
            <a:off x="6629400" y="4952880"/>
            <a:ext cx="750960" cy="417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29400" y="4952880"/>
                      <a:ext cx="7509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6" name="" descr=""/>
            <p:cNvPicPr/>
            <p:nvPr/>
          </p:nvPicPr>
          <p:blipFill>
            <a:blip r:embed="rId8"/>
            <a:stretch/>
          </p:blipFill>
          <p:spPr>
            <a:xfrm>
              <a:off x="3505320" y="1600200"/>
              <a:ext cx="199692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2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пендикулярной этому отрезку и проходящей через его середину. Найдите площадь поверхности вра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1208160" cy="15922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457200" y="1981080"/>
            <a:ext cx="8381880" cy="3187800"/>
            <a:chOff x="457200" y="1981080"/>
            <a:chExt cx="8381880" cy="3187800"/>
          </a:xfrm>
        </p:grpSpPr>
        <p:sp>
          <p:nvSpPr>
            <p:cNvPr id="58" name=""/>
            <p:cNvSpPr/>
            <p:nvPr/>
          </p:nvSpPr>
          <p:spPr>
            <a:xfrm>
              <a:off x="457200" y="43434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круг радиуса 1. Его площадь равн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971800" y="1981080"/>
              <a:ext cx="2832120" cy="1317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" name=""/>
            <p:cNvGraphicFramePr/>
            <p:nvPr/>
          </p:nvGraphicFramePr>
          <p:xfrm>
            <a:off x="2590920" y="4800600"/>
            <a:ext cx="27936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480060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вугранные углы многогранника, изображенного на рисунке, прямые. Найдите объем тела вращения этого многогранн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190600" cy="216216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228600" y="1752480"/>
            <a:ext cx="8686800" cy="4010760"/>
            <a:chOff x="228600" y="1752480"/>
            <a:chExt cx="8686800" cy="4010760"/>
          </a:xfrm>
        </p:grpSpPr>
        <p:sp>
          <p:nvSpPr>
            <p:cNvPr id="270" name=""/>
            <p:cNvSpPr/>
            <p:nvPr/>
          </p:nvSpPr>
          <p:spPr>
            <a:xfrm>
              <a:off x="22860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ым телом вращения является цилиндр, радиус основания которого равен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а высота равна 2. Его объем равен 1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3733920" y="4952880"/>
            <a:ext cx="4381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4952880"/>
                      <a:ext cx="4381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1447920" y="5410080"/>
            <a:ext cx="279360" cy="30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54100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75" name="" descr=""/>
            <p:cNvPicPr/>
            <p:nvPr/>
          </p:nvPicPr>
          <p:blipFill>
            <a:blip r:embed="rId6"/>
            <a:stretch/>
          </p:blipFill>
          <p:spPr>
            <a:xfrm>
              <a:off x="2819520" y="1752480"/>
              <a:ext cx="2590560" cy="254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2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пендикулярной этому отрезку и проходящей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273320" cy="15922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57200" y="2209680"/>
            <a:ext cx="8381880" cy="2959200"/>
            <a:chOff x="457200" y="2209680"/>
            <a:chExt cx="8381880" cy="2959200"/>
          </a:xfrm>
        </p:grpSpPr>
        <p:sp>
          <p:nvSpPr>
            <p:cNvPr id="65" name=""/>
            <p:cNvSpPr/>
            <p:nvPr/>
          </p:nvSpPr>
          <p:spPr>
            <a:xfrm>
              <a:off x="457200" y="43434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круг радиуса 2. Его площадь равна 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895480" y="2209680"/>
              <a:ext cx="2190960" cy="1592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7" name=""/>
            <p:cNvGraphicFramePr/>
            <p:nvPr/>
          </p:nvGraphicFramePr>
          <p:xfrm>
            <a:off x="2743200" y="4800600"/>
            <a:ext cx="27936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480060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3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пендикулярной этому отрезку и проходящей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лящей этот отрезок в отношении 1:2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1677960" cy="15940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57200" y="2209680"/>
            <a:ext cx="8381880" cy="2959200"/>
            <a:chOff x="457200" y="2209680"/>
            <a:chExt cx="8381880" cy="2959200"/>
          </a:xfrm>
        </p:grpSpPr>
        <p:sp>
          <p:nvSpPr>
            <p:cNvPr id="72" name=""/>
            <p:cNvSpPr/>
            <p:nvPr/>
          </p:nvSpPr>
          <p:spPr>
            <a:xfrm>
              <a:off x="457200" y="43434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круг радиуса 2. Его площадь равна 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2743200" y="480060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480060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3048120" y="2209680"/>
              <a:ext cx="2201760" cy="159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2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разующей с этим отрезком угол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822240" cy="1592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457200" y="1981080"/>
            <a:ext cx="8381880" cy="3553560"/>
            <a:chOff x="457200" y="1981080"/>
            <a:chExt cx="8381880" cy="3553560"/>
          </a:xfrm>
        </p:grpSpPr>
        <p:sp>
          <p:nvSpPr>
            <p:cNvPr id="79" name=""/>
            <p:cNvSpPr/>
            <p:nvPr/>
          </p:nvSpPr>
          <p:spPr>
            <a:xfrm>
              <a:off x="457200" y="43434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боковая поверхность конуса, образующая которого равна 2, радиус основания равен 1. Ее площадь равна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267080" y="51814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276720" y="1981080"/>
              <a:ext cx="1625400" cy="220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3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тстоящей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равное 2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1325520" cy="1592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57200" y="2057400"/>
            <a:ext cx="8381880" cy="3477240"/>
            <a:chOff x="457200" y="2057400"/>
            <a:chExt cx="8381880" cy="3477240"/>
          </a:xfrm>
        </p:grpSpPr>
        <p:sp>
          <p:nvSpPr>
            <p:cNvPr id="86" name=""/>
            <p:cNvSpPr/>
            <p:nvPr/>
          </p:nvSpPr>
          <p:spPr>
            <a:xfrm>
              <a:off x="457200" y="43434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ой поверхностью является боковая поверхность конуса, образующая которого равна 3, радиус основания равен 2. Ее площадь равна 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4267080" y="51814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2793960" y="2057400"/>
              <a:ext cx="2201760" cy="18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2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середину этого отрезка и образующей с ним угол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вра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855720" cy="1592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457200" y="2057400"/>
            <a:ext cx="8381880" cy="3477240"/>
            <a:chOff x="457200" y="2057400"/>
            <a:chExt cx="8381880" cy="3477240"/>
          </a:xfrm>
        </p:grpSpPr>
        <p:sp>
          <p:nvSpPr>
            <p:cNvPr id="93" name=""/>
            <p:cNvSpPr/>
            <p:nvPr/>
          </p:nvSpPr>
          <p:spPr>
            <a:xfrm>
              <a:off x="457200" y="434340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ая поверхность составлена из двух боковых поверхностей конусов, образующие которых равны 1, а радиусы оснований – 0,5. Ее площадь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6324480" y="5181480"/>
            <a:ext cx="279360" cy="304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24480" y="5181480"/>
                      <a:ext cx="27936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3962520" y="2057400"/>
              <a:ext cx="1036440" cy="149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3049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ы 3 вращается вокруг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лящей этот отрезок в отношении 1:2 и образующей с ним угол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вра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10908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457200" y="2362320"/>
            <a:ext cx="8381880" cy="3538080"/>
            <a:chOff x="457200" y="2362320"/>
            <a:chExt cx="8381880" cy="3538080"/>
          </a:xfrm>
        </p:grpSpPr>
        <p:sp>
          <p:nvSpPr>
            <p:cNvPr id="100" name=""/>
            <p:cNvSpPr/>
            <p:nvPr/>
          </p:nvSpPr>
          <p:spPr>
            <a:xfrm>
              <a:off x="457200" y="4343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комая поверхность составлена из двух боковых поверхностей конусов, образующие которых равны 2 и 1, а радиусы оснований равны соответственно 1 и  0,5. Ее площадь равна 2,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1752480" y="5562720"/>
            <a:ext cx="279360" cy="30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5562720"/>
                      <a:ext cx="2793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3809880" y="2362320"/>
              <a:ext cx="1197000" cy="160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11-17T03:50:05Z</dcterms:modified>
  <cp:revision>23</cp:revision>
  <dc:subject/>
  <dc:title>Презентация PowerPoint</dc:title>
</cp:coreProperties>
</file>