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png" ContentType="image/png"/>
  <Override PartName="/ppt/media/image124.wmf" ContentType="image/x-wmf"/>
  <Override PartName="/ppt/media/image122.wmf" ContentType="image/x-wmf"/>
  <Override PartName="/ppt/media/image55.png" ContentType="image/png"/>
  <Override PartName="/ppt/media/image120.wmf" ContentType="image/x-wmf"/>
  <Override PartName="/ppt/media/image53.png" ContentType="image/png"/>
  <Override PartName="/ppt/media/image119.png" ContentType="image/png"/>
  <Override PartName="/ppt/media/image114.wmf" ContentType="image/x-wmf"/>
  <Override PartName="/ppt/media/image112.wmf" ContentType="image/x-wmf"/>
  <Override PartName="/ppt/media/image108.png" ContentType="image/png"/>
  <Override PartName="/ppt/media/image106.png" ContentType="image/png"/>
  <Override PartName="/ppt/media/image105.wmf" ContentType="image/x-wmf"/>
  <Override PartName="/ppt/media/image38.png" ContentType="image/png"/>
  <Override PartName="/ppt/media/image104.png" ContentType="image/png"/>
  <Override PartName="/ppt/media/image76.png" ContentType="image/png"/>
  <Override PartName="/ppt/media/image33.wmf" ContentType="image/x-wmf"/>
  <Override PartName="/ppt/media/image110.png" ContentType="image/png"/>
  <Override PartName="/ppt/media/image4.wmf" ContentType="image/x-wmf"/>
  <Override PartName="/ppt/media/image16.wmf" ContentType="image/x-wmf"/>
  <Override PartName="/ppt/media/image28.wmf" ContentType="image/x-wmf"/>
  <Override PartName="/ppt/media/image15.wmf" ContentType="image/x-wmf"/>
  <Override PartName="/ppt/media/image11.wmf" ContentType="image/x-wmf"/>
  <Override PartName="/ppt/media/image48.wmf" ContentType="image/x-wmf"/>
  <Override PartName="/ppt/media/image30.wmf" ContentType="image/x-wmf"/>
  <Override PartName="/ppt/media/image8.wmf" ContentType="image/x-wmf"/>
  <Override PartName="/ppt/media/image40.png" ContentType="image/png"/>
  <Override PartName="/ppt/media/image137.png" ContentType="image/png"/>
  <Override PartName="/ppt/media/image121.png" ContentType="image/png"/>
  <Override PartName="/ppt/media/image5.png" ContentType="image/png"/>
  <Override PartName="/ppt/media/image109.wmf" ContentType="image/x-wmf"/>
  <Override PartName="/ppt/media/image12.wmf" ContentType="image/x-wmf"/>
  <Override PartName="/ppt/media/image3.wmf" ContentType="image/x-wmf"/>
  <Override PartName="/ppt/media/image88.png" ContentType="image/png"/>
  <Override PartName="/ppt/media/image45.wmf" ContentType="image/x-wmf"/>
  <Override PartName="/ppt/media/image31.wmf" ContentType="image/x-wmf"/>
  <Override PartName="/ppt/media/image128.wmf" ContentType="image/x-wmf"/>
  <Override PartName="/ppt/media/image6.wmf" ContentType="image/x-wmf"/>
  <Override PartName="/ppt/media/image32.wmf" ContentType="image/x-wmf"/>
  <Override PartName="/ppt/media/image34.png" ContentType="image/png"/>
  <Override PartName="/ppt/media/image36.png" ContentType="image/png"/>
  <Override PartName="/ppt/media/image129.png" ContentType="image/png"/>
  <Override PartName="/ppt/media/image130.png" ContentType="image/png"/>
  <Override PartName="/ppt/media/image79.png" ContentType="image/png"/>
  <Override PartName="/ppt/media/image10.png" ContentType="image/png"/>
  <Override PartName="/ppt/media/image78.wmf" ContentType="image/x-wmf"/>
  <Override PartName="/ppt/media/image50.wmf" ContentType="image/x-wmf"/>
  <Override PartName="/ppt/media/image133.png" ContentType="image/png"/>
  <Override PartName="/ppt/media/image39.wmf" ContentType="image/x-wmf"/>
  <Override PartName="/ppt/media/image135.png" ContentType="image/png"/>
  <Override PartName="/ppt/media/image138.png" ContentType="image/png"/>
  <Override PartName="/ppt/media/image132.png" ContentType="image/png"/>
  <Override PartName="/ppt/media/image46.png" ContentType="image/png"/>
  <Override PartName="/ppt/media/image75.png" ContentType="image/png"/>
  <Override PartName="/ppt/media/image142.wmf" ContentType="image/x-wmf"/>
  <Override PartName="/ppt/media/image139.png" ContentType="image/png"/>
  <Override PartName="/ppt/media/image42.png" ContentType="image/png"/>
  <Override PartName="/ppt/media/image141.png" ContentType="image/png"/>
  <Override PartName="/ppt/media/image47.wmf" ContentType="image/x-wmf"/>
  <Override PartName="/ppt/media/image56.png" ContentType="image/png"/>
  <Override PartName="/ppt/media/image13.wmf" ContentType="image/x-wmf"/>
  <Override PartName="/ppt/media/image41.wmf" ContentType="image/x-wmf"/>
  <Override PartName="/ppt/media/image7.png" ContentType="image/png"/>
  <Override PartName="/ppt/media/image84.png" ContentType="image/png"/>
  <Override PartName="/ppt/media/image140.wmf" ContentType="image/x-wmf"/>
  <Override PartName="/ppt/media/image89.wmf" ContentType="image/x-wmf"/>
  <Override PartName="/ppt/media/image60.wmf" ContentType="image/x-wmf"/>
  <Override PartName="/ppt/media/image143.png" ContentType="image/png"/>
  <Override PartName="/ppt/media/image100.wmf" ContentType="image/x-wmf"/>
  <Override PartName="/ppt/media/image71.wmf" ContentType="image/x-wmf"/>
  <Override PartName="/ppt/media/image52.png" ContentType="image/png"/>
  <Override PartName="/ppt/media/image107.wmf" ContentType="image/x-wmf"/>
  <Override PartName="/ppt/media/image37.png" ContentType="image/png"/>
  <Override PartName="/ppt/media/image51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136.wmf" ContentType="image/x-wmf"/>
  <Override PartName="/ppt/media/image69.png" ContentType="image/png"/>
  <Override PartName="/ppt/media/image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29.wmf" ContentType="image/x-wmf"/>
  <Override PartName="/ppt/media/image26.wmf" ContentType="image/x-wmf"/>
  <Override PartName="/ppt/media/image94.wmf" ContentType="image/x-wmf"/>
  <Override PartName="/ppt/media/image123.png" ContentType="image/png"/>
  <Override PartName="/ppt/media/image1.png" ContentType="image/png"/>
  <Override PartName="/ppt/media/image54.wmf" ContentType="image/x-wmf"/>
  <Override PartName="/ppt/media/image97.png" ContentType="image/png"/>
  <Override PartName="/ppt/media/image57.wmf" ContentType="image/x-wmf"/>
  <Override PartName="/ppt/media/image113.png" ContentType="image/png"/>
  <Override PartName="/ppt/media/image58.wmf" ContentType="image/x-wmf"/>
  <Override PartName="/ppt/media/image21.wmf" ContentType="image/x-wmf"/>
  <Override PartName="/ppt/media/image118.wmf" ContentType="image/x-wmf"/>
  <Override PartName="/ppt/media/image64.png" ContentType="image/png"/>
  <Override PartName="/ppt/media/image131.wmf" ContentType="image/x-wmf"/>
  <Override PartName="/ppt/media/image20.png" ContentType="image/png"/>
  <Override PartName="/ppt/media/image117.png" ContentType="image/png"/>
  <Override PartName="/ppt/media/image59.wmf" ContentType="image/x-wmf"/>
  <Override PartName="/ppt/media/image22.wmf" ContentType="image/x-wmf"/>
  <Override PartName="/ppt/media/image91.wmf" ContentType="image/x-wmf"/>
  <Override PartName="/ppt/media/image23.wmf" ContentType="image/x-wmf"/>
  <Override PartName="/ppt/media/image24.wmf" ContentType="image/x-wmf"/>
  <Override PartName="/ppt/media/image67.png" ContentType="image/png"/>
  <Override PartName="/ppt/media/image134.wmf" ContentType="image/x-wmf"/>
  <Override PartName="/ppt/media/image80.png" ContentType="image/png"/>
  <Override PartName="/ppt/media/image61.wmf" ContentType="image/x-wmf"/>
  <Override PartName="/ppt/media/image62.png" ContentType="image/png"/>
  <Override PartName="/ppt/media/image49.png" ContentType="image/png"/>
  <Override PartName="/ppt/media/image116.wmf" ContentType="image/x-wmf"/>
  <Override PartName="/ppt/media/image63.png" ContentType="image/png"/>
  <Override PartName="/ppt/media/image65.wmf" ContentType="image/x-wmf"/>
  <Override PartName="/ppt/media/image66.wmf" ContentType="image/x-wmf"/>
  <Override PartName="/ppt/media/image68.wmf" ContentType="image/x-wmf"/>
  <Override PartName="/ppt/media/image70.wmf" ContentType="image/x-wmf"/>
  <Override PartName="/ppt/media/image72.wmf" ContentType="image/x-wmf"/>
  <Override PartName="/ppt/media/image101.png" ContentType="image/png"/>
  <Override PartName="/ppt/media/image73.wmf" ContentType="image/x-wmf"/>
  <Override PartName="/ppt/media/image74.wmf" ContentType="image/x-wmf"/>
  <Override PartName="/ppt/media/image103.png" ContentType="image/png"/>
  <Override PartName="/ppt/media/image77.png" ContentType="image/png"/>
  <Override PartName="/ppt/media/image81.png" ContentType="image/png"/>
  <Override PartName="/ppt/media/image82.wmf" ContentType="image/x-wmf"/>
  <Override PartName="/ppt/media/image111.png" ContentType="image/png"/>
  <Override PartName="/ppt/media/image83.png" ContentType="image/png"/>
  <Override PartName="/ppt/media/image17.png" ContentType="image/png"/>
  <Override PartName="/ppt/media/image85.png" ContentType="image/png"/>
  <Override PartName="/ppt/media/image18.wmf" ContentType="image/x-wmf"/>
  <Override PartName="/ppt/media/image86.wmf" ContentType="image/x-wmf"/>
  <Override PartName="/ppt/media/image115.png" ContentType="image/png"/>
  <Override PartName="/ppt/media/image19.wmf" ContentType="image/x-wmf"/>
  <Override PartName="/ppt/media/image87.wmf" ContentType="image/x-wmf"/>
  <Override PartName="/ppt/media/image92.png" ContentType="image/png"/>
  <Override PartName="/ppt/media/image27.wmf" ContentType="image/x-wmf"/>
  <Override PartName="/ppt/media/image95.wmf" ContentType="image/x-wmf"/>
  <Override PartName="/ppt/media/image96.png" ContentType="image/png"/>
  <Override PartName="/ppt/media/image98.wmf" ContentType="image/x-wmf"/>
  <Override PartName="/ppt/media/image127.png" ContentType="image/png"/>
  <Override PartName="/ppt/media/image99.png" ContentType="image/png"/>
  <Override PartName="/ppt/media/image102.wmf" ContentType="image/x-wmf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682-3636-465A-9653-1FE4E627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229-7778-4BBB-AA8C-3382A513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8A6-92AA-4AD3-821E-08FAF71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BC4-7CBF-42DC-B10A-7B0BD504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A67-9F5A-4B53-B25B-200CD5E9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0A2-AFA7-40F5-94BB-CF0F0676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E6F-B573-4DD8-80AD-E1EBD27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460-47B3-40EC-9E1E-2A38E349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41E-722A-4603-A6F3-89DA6F1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429-0457-4A5D-85BD-20DCC9F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039-25B4-4FE2-8725-8E0EC88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6CC-FAAC-4167-82DD-CFDCB06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D3F-8AEF-400A-88F9-46122FBA9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1.wmf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4.wmf"/><Relationship Id="rId12" Type="http://schemas.openxmlformats.org/officeDocument/2006/relationships/image" Target="../media/image75.png"/><Relationship Id="rId13" Type="http://schemas.openxmlformats.org/officeDocument/2006/relationships/image" Target="../media/image76.png"/><Relationship Id="rId1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8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6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wmf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9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0.wmf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2.wmf"/><Relationship Id="rId5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7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9.wmf"/><Relationship Id="rId5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2.wmf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4.wmf"/><Relationship Id="rId5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6.wmf"/><Relationship Id="rId5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8.wmf"/><Relationship Id="rId5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0.wmf"/><Relationship Id="rId4" Type="http://schemas.openxmlformats.org/officeDocument/2006/relationships/image" Target="../media/image121.png"/><Relationship Id="rId5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2.wmf"/><Relationship Id="rId4" Type="http://schemas.openxmlformats.org/officeDocument/2006/relationships/image" Target="../media/image123.png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image" Target="../media/image125.png"/><Relationship Id="rId5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6.wmf"/><Relationship Id="rId4" Type="http://schemas.openxmlformats.org/officeDocument/2006/relationships/image" Target="../media/image12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8.wmf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1.wmf"/><Relationship Id="rId4" Type="http://schemas.openxmlformats.org/officeDocument/2006/relationships/image" Target="../media/image132.png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4.wmf"/><Relationship Id="rId5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6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37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38.pn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0.wmf"/><Relationship Id="rId4" Type="http://schemas.openxmlformats.org/officeDocument/2006/relationships/image" Target="../media/image141.png"/><Relationship Id="rId5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2.wmf"/><Relationship Id="rId4" Type="http://schemas.openxmlformats.org/officeDocument/2006/relationships/image" Target="../media/image14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4.wmf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2.wmf"/><Relationship Id="rId1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09480" y="4572000"/>
            <a:ext cx="2667240" cy="459720"/>
            <a:chOff x="609480" y="4572000"/>
            <a:chExt cx="2667240" cy="459720"/>
          </a:xfrm>
        </p:grpSpPr>
        <p:sp>
          <p:nvSpPr>
            <p:cNvPr id="45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"/>
            <p:cNvGraphicFramePr/>
            <p:nvPr/>
          </p:nvGraphicFramePr>
          <p:xfrm>
            <a:off x="1676520" y="4572000"/>
            <a:ext cx="419040" cy="385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572000"/>
                      <a:ext cx="41904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тетраэд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го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79840" y="1635120"/>
            <a:ext cx="2298600" cy="2119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94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0,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22989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308320" cy="1749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2276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30832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4191120" y="3892680"/>
            <a:ext cx="4038480" cy="787320"/>
            <a:chOff x="4191120" y="3892680"/>
            <a:chExt cx="4038480" cy="787320"/>
          </a:xfrm>
        </p:grpSpPr>
        <p:graphicFrame>
          <p:nvGraphicFramePr>
            <p:cNvPr id="156" name=""/>
            <p:cNvGraphicFramePr/>
            <p:nvPr/>
          </p:nvGraphicFramePr>
          <p:xfrm>
            <a:off x="7467480" y="3892680"/>
            <a:ext cx="5511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467480" y="3892680"/>
                      <a:ext cx="5511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4191120" y="40384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295280" y="2103480"/>
            <a:ext cx="7696440" cy="1857240"/>
            <a:chOff x="1295280" y="2103480"/>
            <a:chExt cx="7696440" cy="1857240"/>
          </a:xfrm>
        </p:grpSpPr>
        <p:sp>
          <p:nvSpPr>
            <p:cNvPr id="160" name=""/>
            <p:cNvSpPr/>
            <p:nvPr/>
          </p:nvSpPr>
          <p:spPr>
            <a:xfrm>
              <a:off x="3975120" y="2103480"/>
              <a:ext cx="50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чением является равнобедренный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E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295280" y="2209680"/>
              <a:ext cx="2308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4114800" y="3352680"/>
            <a:ext cx="4952880" cy="459720"/>
            <a:chOff x="4114800" y="3352680"/>
            <a:chExt cx="4952880" cy="459720"/>
          </a:xfrm>
        </p:grpSpPr>
        <p:graphicFrame>
          <p:nvGraphicFramePr>
            <p:cNvPr id="163" name=""/>
            <p:cNvGraphicFramePr/>
            <p:nvPr/>
          </p:nvGraphicFramePr>
          <p:xfrm>
            <a:off x="4978440" y="3403440"/>
            <a:ext cx="4190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78440" y="3403440"/>
                      <a:ext cx="4190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4114800" y="335268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 =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0,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30796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676520" y="1947960"/>
            <a:ext cx="7467480" cy="2106360"/>
            <a:chOff x="1676520" y="1947960"/>
            <a:chExt cx="7467480" cy="2106360"/>
          </a:xfrm>
        </p:grpSpPr>
        <p:sp>
          <p:nvSpPr>
            <p:cNvPr id="169" name=""/>
            <p:cNvSpPr/>
            <p:nvPr/>
          </p:nvSpPr>
          <p:spPr>
            <a:xfrm>
              <a:off x="4441680" y="1947960"/>
              <a:ext cx="470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чением является равнобедренная трапец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E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1676520" y="2209680"/>
              <a:ext cx="2307960" cy="18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665600" y="4572000"/>
            <a:ext cx="4191120" cy="800280"/>
            <a:chOff x="4665600" y="4572000"/>
            <a:chExt cx="4191120" cy="800280"/>
          </a:xfrm>
        </p:grpSpPr>
        <p:graphicFrame>
          <p:nvGraphicFramePr>
            <p:cNvPr id="172" name=""/>
            <p:cNvGraphicFramePr/>
            <p:nvPr/>
          </p:nvGraphicFramePr>
          <p:xfrm>
            <a:off x="7924680" y="4572000"/>
            <a:ext cx="774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24680" y="4572000"/>
                      <a:ext cx="774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665600" y="469116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72000" y="3124080"/>
            <a:ext cx="4343400" cy="1549440"/>
            <a:chOff x="4572000" y="3124080"/>
            <a:chExt cx="4343400" cy="1549440"/>
          </a:xfrm>
        </p:grpSpPr>
        <p:graphicFrame>
          <p:nvGraphicFramePr>
            <p:cNvPr id="176" name=""/>
            <p:cNvGraphicFramePr/>
            <p:nvPr/>
          </p:nvGraphicFramePr>
          <p:xfrm>
            <a:off x="6934320" y="3886200"/>
            <a:ext cx="63504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3886200"/>
                      <a:ext cx="6350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4572000" y="3124080"/>
              <a:ext cx="4343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основа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 соответственно 1 и 0,5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30832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09480" y="4343400"/>
            <a:ext cx="2667240" cy="800280"/>
            <a:chOff x="609480" y="4343400"/>
            <a:chExt cx="2667240" cy="800280"/>
          </a:xfrm>
        </p:grpSpPr>
        <p:sp>
          <p:nvSpPr>
            <p:cNvPr id="182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676520" y="4343400"/>
            <a:ext cx="58392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4343400"/>
                      <a:ext cx="58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971800" y="2209680"/>
            <a:ext cx="2308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30796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173480" y="4267080"/>
            <a:ext cx="3962520" cy="787680"/>
            <a:chOff x="4173480" y="4267080"/>
            <a:chExt cx="3962520" cy="787680"/>
          </a:xfrm>
        </p:grpSpPr>
        <p:graphicFrame>
          <p:nvGraphicFramePr>
            <p:cNvPr id="189" name=""/>
            <p:cNvGraphicFramePr/>
            <p:nvPr/>
          </p:nvGraphicFramePr>
          <p:xfrm>
            <a:off x="7467480" y="4267080"/>
            <a:ext cx="53352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467480" y="4267080"/>
                      <a:ext cx="5335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4173480" y="44197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14800" y="2819520"/>
            <a:ext cx="5029200" cy="1485720"/>
            <a:chOff x="4114800" y="2819520"/>
            <a:chExt cx="5029200" cy="1485720"/>
          </a:xfrm>
        </p:grpSpPr>
        <p:graphicFrame>
          <p:nvGraphicFramePr>
            <p:cNvPr id="193" name=""/>
            <p:cNvGraphicFramePr/>
            <p:nvPr/>
          </p:nvGraphicFramePr>
          <p:xfrm>
            <a:off x="6324480" y="3505320"/>
            <a:ext cx="148608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24480" y="3505320"/>
                      <a:ext cx="14860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4114800" y="2819520"/>
              <a:ext cx="5029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диагона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ого перпендикулярны и равны соответствен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219320" y="1865160"/>
            <a:ext cx="7924680" cy="1943280"/>
            <a:chOff x="1219320" y="1865160"/>
            <a:chExt cx="7924680" cy="1943280"/>
          </a:xfrm>
        </p:grpSpPr>
        <p:sp>
          <p:nvSpPr>
            <p:cNvPr id="197" name=""/>
            <p:cNvSpPr/>
            <p:nvPr/>
          </p:nvSpPr>
          <p:spPr>
            <a:xfrm>
              <a:off x="4038480" y="186516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четырех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F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1219320" y="2057400"/>
              <a:ext cx="2307960" cy="17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араллельное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307960" cy="17496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80880" y="3956040"/>
            <a:ext cx="8305920" cy="800280"/>
            <a:chOff x="380880" y="3956040"/>
            <a:chExt cx="8305920" cy="800280"/>
          </a:xfrm>
        </p:grpSpPr>
        <p:graphicFrame>
          <p:nvGraphicFramePr>
            <p:cNvPr id="202" name=""/>
            <p:cNvGraphicFramePr/>
            <p:nvPr/>
          </p:nvGraphicFramePr>
          <p:xfrm>
            <a:off x="3594240" y="3956040"/>
            <a:ext cx="66024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94240" y="3956040"/>
                      <a:ext cx="660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380880" y="411480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19320" y="1865160"/>
            <a:ext cx="7924680" cy="2113200"/>
            <a:chOff x="1219320" y="1865160"/>
            <a:chExt cx="7924680" cy="2113200"/>
          </a:xfrm>
        </p:grpSpPr>
        <p:sp>
          <p:nvSpPr>
            <p:cNvPr id="206" name=""/>
            <p:cNvSpPr/>
            <p:nvPr/>
          </p:nvSpPr>
          <p:spPr>
            <a:xfrm>
              <a:off x="4038480" y="1865160"/>
              <a:ext cx="510552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четырех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F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диагона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торого перпендикулярны и равны соответствен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7378560" y="2971800"/>
            <a:ext cx="151128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378560" y="2971800"/>
                      <a:ext cx="1511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1219320" y="2057400"/>
              <a:ext cx="2307960" cy="17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 основания которой равны 1, а боко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ра равн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74320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1295280" y="4876920"/>
            <a:ext cx="5105520" cy="799920"/>
            <a:chOff x="1295280" y="4876920"/>
            <a:chExt cx="5105520" cy="799920"/>
          </a:xfrm>
        </p:grpSpPr>
        <p:sp>
          <p:nvSpPr>
            <p:cNvPr id="213" name=""/>
            <p:cNvSpPr/>
            <p:nvPr/>
          </p:nvSpPr>
          <p:spPr>
            <a:xfrm>
              <a:off x="1295280" y="502920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2362320" y="4876920"/>
            <a:ext cx="66024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4876920"/>
                      <a:ext cx="6602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048120" y="205740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ирами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 основания которой равны 1, а боко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ра равн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287440" cy="207792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609480" y="1484280"/>
            <a:ext cx="8534520" cy="2762280"/>
            <a:chOff x="609480" y="1484280"/>
            <a:chExt cx="8534520" cy="2762280"/>
          </a:xfrm>
        </p:grpSpPr>
        <p:sp>
          <p:nvSpPr>
            <p:cNvPr id="220" name=""/>
            <p:cNvSpPr/>
            <p:nvPr/>
          </p:nvSpPr>
          <p:spPr>
            <a:xfrm>
              <a:off x="3581280" y="1484280"/>
              <a:ext cx="5562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шести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609480" y="1905120"/>
              <a:ext cx="2606760" cy="23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0" y="5943600"/>
            <a:ext cx="8839080" cy="787320"/>
            <a:chOff x="0" y="5943600"/>
            <a:chExt cx="8839080" cy="787320"/>
          </a:xfrm>
        </p:grpSpPr>
        <p:graphicFrame>
          <p:nvGraphicFramePr>
            <p:cNvPr id="223" name=""/>
            <p:cNvGraphicFramePr/>
            <p:nvPr/>
          </p:nvGraphicFramePr>
          <p:xfrm>
            <a:off x="5486400" y="5943600"/>
            <a:ext cx="92700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5943600"/>
                      <a:ext cx="9270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0" y="609588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площадь сечения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0" y="2286000"/>
            <a:ext cx="9144000" cy="2774880"/>
            <a:chOff x="0" y="2286000"/>
            <a:chExt cx="9144000" cy="2774880"/>
          </a:xfrm>
        </p:grpSpPr>
        <p:grpSp>
          <p:nvGrpSpPr>
            <p:cNvPr id="227" name=""/>
            <p:cNvGrpSpPr/>
            <p:nvPr/>
          </p:nvGrpSpPr>
          <p:grpSpPr>
            <a:xfrm>
              <a:off x="0" y="2286000"/>
              <a:ext cx="9144000" cy="2774880"/>
              <a:chOff x="0" y="2286000"/>
              <a:chExt cx="9144000" cy="2774880"/>
            </a:xfrm>
          </p:grpSpPr>
          <p:sp>
            <p:nvSpPr>
              <p:cNvPr id="228" name=""/>
              <p:cNvSpPr/>
              <p:nvPr/>
            </p:nvSpPr>
            <p:spPr>
              <a:xfrm>
                <a:off x="3505320" y="2286000"/>
                <a:ext cx="5638680" cy="12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Его площадь равна площади трапеци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минус удвоенная площадь треугольник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4419720"/>
                <a:ext cx="899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Площадь трапеции рав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05320" y="3429000"/>
                <a:ext cx="563868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роны основания трапеции равны 3 и 0,5. Высот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ав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1" name=""/>
              <p:cNvGraphicFramePr/>
              <p:nvPr/>
            </p:nvGraphicFramePr>
            <p:xfrm>
              <a:off x="3581280" y="4260960"/>
              <a:ext cx="825480" cy="799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4260960"/>
                        <a:ext cx="825480" cy="79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33" name=""/>
            <p:cNvGraphicFramePr/>
            <p:nvPr/>
          </p:nvGraphicFramePr>
          <p:xfrm>
            <a:off x="6553080" y="3740040"/>
            <a:ext cx="660600" cy="787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3080" y="3740040"/>
                      <a:ext cx="660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5" name=""/>
          <p:cNvGrpSpPr/>
          <p:nvPr/>
        </p:nvGrpSpPr>
        <p:grpSpPr>
          <a:xfrm>
            <a:off x="0" y="4876920"/>
            <a:ext cx="8966160" cy="1584360"/>
            <a:chOff x="0" y="4876920"/>
            <a:chExt cx="8966160" cy="1584360"/>
          </a:xfrm>
        </p:grpSpPr>
        <p:graphicFrame>
          <p:nvGraphicFramePr>
            <p:cNvPr id="236" name=""/>
            <p:cNvGraphicFramePr/>
            <p:nvPr/>
          </p:nvGraphicFramePr>
          <p:xfrm>
            <a:off x="8305920" y="4876920"/>
            <a:ext cx="66024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5920" y="4876920"/>
                      <a:ext cx="66024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0" y="5029200"/>
              <a:ext cx="891540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опущенная на сторо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площадь равна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2666880" y="5410080"/>
            <a:ext cx="660600" cy="800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66880" y="5410080"/>
                      <a:ext cx="660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08440" y="1863720"/>
            <a:ext cx="1849320" cy="1876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094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0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1849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09480" y="4419720"/>
            <a:ext cx="2667240" cy="792000"/>
            <a:chOff x="609480" y="4419720"/>
            <a:chExt cx="2667240" cy="792000"/>
          </a:xfrm>
        </p:grpSpPr>
        <p:sp>
          <p:nvSpPr>
            <p:cNvPr id="51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600200" y="4419720"/>
            <a:ext cx="476280" cy="79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419720"/>
                      <a:ext cx="47628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514600" y="1611360"/>
            <a:ext cx="2416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08440" y="1863720"/>
            <a:ext cx="1849320" cy="187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184968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609480" y="4419720"/>
            <a:ext cx="2667240" cy="787320"/>
            <a:chOff x="609480" y="4419720"/>
            <a:chExt cx="2667240" cy="787320"/>
          </a:xfrm>
        </p:grpSpPr>
        <p:sp>
          <p:nvSpPr>
            <p:cNvPr id="249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1600200" y="4419720"/>
            <a:ext cx="44460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441972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908440" y="1863720"/>
            <a:ext cx="184932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609480" y="4419720"/>
            <a:ext cx="2667240" cy="799920"/>
            <a:chOff x="609480" y="4419720"/>
            <a:chExt cx="2667240" cy="799920"/>
          </a:xfrm>
        </p:grpSpPr>
        <p:sp>
          <p:nvSpPr>
            <p:cNvPr id="255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6" name=""/>
            <p:cNvGraphicFramePr/>
            <p:nvPr/>
          </p:nvGraphicFramePr>
          <p:xfrm>
            <a:off x="1549440" y="4419720"/>
            <a:ext cx="72396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49440" y="4419720"/>
                      <a:ext cx="7239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895480" y="1828800"/>
            <a:ext cx="1849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908440" y="1863720"/>
            <a:ext cx="184932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609480" y="4419720"/>
            <a:ext cx="2667240" cy="799920"/>
            <a:chOff x="609480" y="4419720"/>
            <a:chExt cx="2667240" cy="799920"/>
          </a:xfrm>
        </p:grpSpPr>
        <p:sp>
          <p:nvSpPr>
            <p:cNvPr id="262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1606680" y="4419720"/>
            <a:ext cx="60948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6680" y="4419720"/>
                      <a:ext cx="609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895480" y="1828800"/>
            <a:ext cx="18496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тре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1849680" cy="187632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2971800" y="4419720"/>
            <a:ext cx="6172200" cy="1143000"/>
            <a:chOff x="2971800" y="4419720"/>
            <a:chExt cx="6172200" cy="1143000"/>
          </a:xfrm>
        </p:grpSpPr>
        <p:graphicFrame>
          <p:nvGraphicFramePr>
            <p:cNvPr id="269" name=""/>
            <p:cNvGraphicFramePr/>
            <p:nvPr/>
          </p:nvGraphicFramePr>
          <p:xfrm>
            <a:off x="5334120" y="4876920"/>
            <a:ext cx="39672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4876920"/>
                      <a:ext cx="3967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"/>
            <p:cNvSpPr/>
            <p:nvPr/>
          </p:nvSpPr>
          <p:spPr>
            <a:xfrm>
              <a:off x="2971800" y="4419720"/>
              <a:ext cx="6172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оро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 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. Его площадь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2" name=""/>
            <p:cNvGraphicFramePr/>
            <p:nvPr/>
          </p:nvGraphicFramePr>
          <p:xfrm>
            <a:off x="8001000" y="4419720"/>
            <a:ext cx="457200" cy="43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01000" y="4419720"/>
                      <a:ext cx="45720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8381880" y="4876920"/>
            <a:ext cx="576360" cy="685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1880" y="4876920"/>
                      <a:ext cx="5763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0" y="5840280"/>
            <a:ext cx="9144000" cy="704880"/>
            <a:chOff x="0" y="5840280"/>
            <a:chExt cx="9144000" cy="704880"/>
          </a:xfrm>
        </p:grpSpPr>
        <p:sp>
          <p:nvSpPr>
            <p:cNvPr id="277" name=""/>
            <p:cNvSpPr/>
            <p:nvPr/>
          </p:nvSpPr>
          <p:spPr>
            <a:xfrm>
              <a:off x="0" y="59436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8" name=""/>
            <p:cNvGraphicFramePr/>
            <p:nvPr/>
          </p:nvGraphicFramePr>
          <p:xfrm>
            <a:off x="3195720" y="5840280"/>
            <a:ext cx="684000" cy="704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95720" y="5840280"/>
                      <a:ext cx="68400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"/>
          <p:cNvGrpSpPr/>
          <p:nvPr/>
        </p:nvGrpSpPr>
        <p:grpSpPr>
          <a:xfrm>
            <a:off x="0" y="5334120"/>
            <a:ext cx="9144000" cy="704880"/>
            <a:chOff x="0" y="5334120"/>
            <a:chExt cx="9144000" cy="704880"/>
          </a:xfrm>
        </p:grpSpPr>
        <p:sp>
          <p:nvSpPr>
            <p:cNvPr id="281" name=""/>
            <p:cNvSpPr/>
            <p:nvPr/>
          </p:nvSpPr>
          <p:spPr>
            <a:xfrm>
              <a:off x="0" y="541008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щади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Q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рав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6149880" y="5334120"/>
            <a:ext cx="576360" cy="704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149880" y="5334120"/>
                      <a:ext cx="57636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4" name=""/>
          <p:cNvGrpSpPr/>
          <p:nvPr/>
        </p:nvGrpSpPr>
        <p:grpSpPr>
          <a:xfrm>
            <a:off x="609480" y="1676520"/>
            <a:ext cx="8382240" cy="3016080"/>
            <a:chOff x="609480" y="1676520"/>
            <a:chExt cx="8382240" cy="3016080"/>
          </a:xfrm>
        </p:grpSpPr>
        <p:sp>
          <p:nvSpPr>
            <p:cNvPr id="285" name=""/>
            <p:cNvSpPr/>
            <p:nvPr/>
          </p:nvSpPr>
          <p:spPr>
            <a:xfrm>
              <a:off x="2895480" y="1828800"/>
              <a:ext cx="6096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ечением является пяти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2"/>
            <a:stretch/>
          </p:blipFill>
          <p:spPr>
            <a:xfrm>
              <a:off x="609480" y="1676520"/>
              <a:ext cx="1847880" cy="301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609480" y="1676520"/>
            <a:ext cx="8382240" cy="3016080"/>
            <a:chOff x="609480" y="1676520"/>
            <a:chExt cx="8382240" cy="3016080"/>
          </a:xfrm>
        </p:grpSpPr>
        <p:sp>
          <p:nvSpPr>
            <p:cNvPr id="288" name=""/>
            <p:cNvSpPr/>
            <p:nvPr/>
          </p:nvSpPr>
          <p:spPr>
            <a:xfrm>
              <a:off x="2971800" y="2590920"/>
              <a:ext cx="601992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единим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середи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пятиугольника равна разности площади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суммы площадей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3"/>
            <a:stretch/>
          </p:blipFill>
          <p:spPr>
            <a:xfrm>
              <a:off x="609480" y="1676520"/>
              <a:ext cx="1847880" cy="30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609480" y="4572000"/>
            <a:ext cx="2667240" cy="459720"/>
            <a:chOff x="609480" y="4572000"/>
            <a:chExt cx="2667240" cy="459720"/>
          </a:xfrm>
        </p:grpSpPr>
        <p:sp>
          <p:nvSpPr>
            <p:cNvPr id="293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1600200" y="457200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57200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094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276720" y="220968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09480" y="4572000"/>
            <a:ext cx="2667240" cy="459720"/>
            <a:chOff x="609480" y="4572000"/>
            <a:chExt cx="2667240" cy="459720"/>
          </a:xfrm>
        </p:grpSpPr>
        <p:sp>
          <p:nvSpPr>
            <p:cNvPr id="305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1600200" y="457200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457200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09480" y="4375080"/>
            <a:ext cx="2667240" cy="787320"/>
            <a:chOff x="609480" y="4375080"/>
            <a:chExt cx="2667240" cy="787320"/>
          </a:xfrm>
        </p:grpSpPr>
        <p:sp>
          <p:nvSpPr>
            <p:cNvPr id="311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1581120" y="4375080"/>
            <a:ext cx="4446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81120" y="437508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094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4920"/>
            <a:ext cx="861048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609480" y="4375080"/>
            <a:ext cx="2667240" cy="787320"/>
            <a:chOff x="609480" y="4375080"/>
            <a:chExt cx="2667240" cy="787320"/>
          </a:xfrm>
        </p:grpSpPr>
        <p:sp>
          <p:nvSpPr>
            <p:cNvPr id="323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4" name=""/>
            <p:cNvGraphicFramePr/>
            <p:nvPr/>
          </p:nvGraphicFramePr>
          <p:xfrm>
            <a:off x="1568520" y="4375080"/>
            <a:ext cx="46980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8520" y="4375080"/>
                      <a:ext cx="469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09480" y="4343400"/>
            <a:ext cx="2667240" cy="787320"/>
            <a:chOff x="609480" y="4343400"/>
            <a:chExt cx="2667240" cy="787320"/>
          </a:xfrm>
        </p:grpSpPr>
        <p:sp>
          <p:nvSpPr>
            <p:cNvPr id="58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676520" y="4343400"/>
            <a:ext cx="4572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4343400"/>
                      <a:ext cx="4572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1593720"/>
            <a:ext cx="24382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304920"/>
            <a:ext cx="861048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у реб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609480" y="4375080"/>
            <a:ext cx="2667240" cy="787320"/>
            <a:chOff x="609480" y="4375080"/>
            <a:chExt cx="2667240" cy="787320"/>
          </a:xfrm>
        </p:grpSpPr>
        <p:sp>
          <p:nvSpPr>
            <p:cNvPr id="329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1511280" y="437508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11280" y="437508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609480" y="4572000"/>
            <a:ext cx="2667240" cy="459720"/>
            <a:chOff x="609480" y="4572000"/>
            <a:chExt cx="2667240" cy="459720"/>
          </a:xfrm>
        </p:grpSpPr>
        <p:sp>
          <p:nvSpPr>
            <p:cNvPr id="336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7" name=""/>
            <p:cNvGraphicFramePr/>
            <p:nvPr/>
          </p:nvGraphicFramePr>
          <p:xfrm>
            <a:off x="1593720" y="4572000"/>
            <a:ext cx="41940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93720" y="4572000"/>
                      <a:ext cx="4194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609480" y="4419720"/>
            <a:ext cx="2667240" cy="787320"/>
            <a:chOff x="609480" y="4419720"/>
            <a:chExt cx="2667240" cy="787320"/>
          </a:xfrm>
        </p:grpSpPr>
        <p:sp>
          <p:nvSpPr>
            <p:cNvPr id="343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1676520" y="4419720"/>
            <a:ext cx="6094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4419720"/>
                      <a:ext cx="6094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3276720" y="2286000"/>
            <a:ext cx="23731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3049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правильной шестиугольной призм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е ребра которой равны 1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373480" cy="2003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838080" y="2193840"/>
            <a:ext cx="8305920" cy="2095560"/>
            <a:chOff x="838080" y="2193840"/>
            <a:chExt cx="8305920" cy="2095560"/>
          </a:xfrm>
        </p:grpSpPr>
        <p:sp>
          <p:nvSpPr>
            <p:cNvPr id="350" name=""/>
            <p:cNvSpPr/>
            <p:nvPr/>
          </p:nvSpPr>
          <p:spPr>
            <a:xfrm>
              <a:off x="3733920" y="2193840"/>
              <a:ext cx="541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шестиугольник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" descr=""/>
            <p:cNvPicPr/>
            <p:nvPr/>
          </p:nvPicPr>
          <p:blipFill>
            <a:blip r:embed="rId2"/>
            <a:stretch/>
          </p:blipFill>
          <p:spPr>
            <a:xfrm>
              <a:off x="838080" y="2286000"/>
              <a:ext cx="2373480" cy="20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"/>
          <p:cNvGrpSpPr/>
          <p:nvPr/>
        </p:nvGrpSpPr>
        <p:grpSpPr>
          <a:xfrm>
            <a:off x="3733920" y="2971800"/>
            <a:ext cx="5410080" cy="2859840"/>
            <a:chOff x="3733920" y="2971800"/>
            <a:chExt cx="5410080" cy="2859840"/>
          </a:xfrm>
        </p:grpSpPr>
        <p:sp>
          <p:nvSpPr>
            <p:cNvPr id="353" name=""/>
            <p:cNvSpPr/>
            <p:nvPr/>
          </p:nvSpPr>
          <p:spPr>
            <a:xfrm>
              <a:off x="3733920" y="2971800"/>
              <a:ext cx="5410080" cy="28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го плоскость образует угол с плоскость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косинус которого 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основания призмы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4" name=""/>
            <p:cNvGraphicFramePr/>
            <p:nvPr/>
          </p:nvGraphicFramePr>
          <p:xfrm>
            <a:off x="4648320" y="3657600"/>
            <a:ext cx="522000" cy="7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3657600"/>
                      <a:ext cx="5220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8381880" y="4114800"/>
            <a:ext cx="642960" cy="762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1880" y="4114800"/>
                      <a:ext cx="64296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62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828800" y="4952880"/>
            <a:ext cx="55872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2880"/>
                      <a:ext cx="5587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69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" name=""/>
            <p:cNvGraphicFramePr/>
            <p:nvPr/>
          </p:nvGraphicFramePr>
          <p:xfrm>
            <a:off x="1828800" y="4959360"/>
            <a:ext cx="55872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9360"/>
                      <a:ext cx="5587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76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1905120" y="495288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83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4" name=""/>
            <p:cNvGraphicFramePr/>
            <p:nvPr/>
          </p:nvGraphicFramePr>
          <p:xfrm>
            <a:off x="1828800" y="4952880"/>
            <a:ext cx="55872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2880"/>
                      <a:ext cx="5587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90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1" name=""/>
            <p:cNvGraphicFramePr/>
            <p:nvPr/>
          </p:nvGraphicFramePr>
          <p:xfrm>
            <a:off x="1828800" y="4959360"/>
            <a:ext cx="55872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9360"/>
                      <a:ext cx="5587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396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397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8" name=""/>
            <p:cNvGraphicFramePr/>
            <p:nvPr/>
          </p:nvGraphicFramePr>
          <p:xfrm>
            <a:off x="1905120" y="495288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09480" y="4419720"/>
            <a:ext cx="2667240" cy="787320"/>
            <a:chOff x="609480" y="4419720"/>
            <a:chExt cx="2667240" cy="787320"/>
          </a:xfrm>
        </p:grpSpPr>
        <p:sp>
          <p:nvSpPr>
            <p:cNvPr id="65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1663560" y="4419720"/>
            <a:ext cx="4701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63560" y="4419720"/>
                      <a:ext cx="4701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14600" y="1535040"/>
            <a:ext cx="2406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04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5" name=""/>
            <p:cNvGraphicFramePr/>
            <p:nvPr/>
          </p:nvGraphicFramePr>
          <p:xfrm>
            <a:off x="1828800" y="4959360"/>
            <a:ext cx="55872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9360"/>
                      <a:ext cx="5587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11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1828800" y="4952880"/>
            <a:ext cx="55872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952880"/>
                      <a:ext cx="5587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18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9" name=""/>
            <p:cNvGraphicFramePr/>
            <p:nvPr/>
          </p:nvGraphicFramePr>
          <p:xfrm>
            <a:off x="1905120" y="495288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25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6" name=""/>
            <p:cNvGraphicFramePr/>
            <p:nvPr/>
          </p:nvGraphicFramePr>
          <p:xfrm>
            <a:off x="1816200" y="4959360"/>
            <a:ext cx="584280" cy="380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16200" y="4959360"/>
                      <a:ext cx="5842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32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3" name=""/>
            <p:cNvGraphicFramePr/>
            <p:nvPr/>
          </p:nvGraphicFramePr>
          <p:xfrm>
            <a:off x="1905120" y="495288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39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0" name=""/>
            <p:cNvGraphicFramePr/>
            <p:nvPr/>
          </p:nvGraphicFramePr>
          <p:xfrm>
            <a:off x="1905120" y="4952880"/>
            <a:ext cx="4064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590920" cy="245448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914400" y="4876920"/>
            <a:ext cx="2133720" cy="459720"/>
            <a:chOff x="914400" y="4876920"/>
            <a:chExt cx="2133720" cy="459720"/>
          </a:xfrm>
        </p:grpSpPr>
        <p:sp>
          <p:nvSpPr>
            <p:cNvPr id="445" name=""/>
            <p:cNvSpPr/>
            <p:nvPr/>
          </p:nvSpPr>
          <p:spPr>
            <a:xfrm>
              <a:off x="9144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6" name=""/>
            <p:cNvGraphicFramePr/>
            <p:nvPr/>
          </p:nvGraphicFramePr>
          <p:xfrm>
            <a:off x="1987560" y="4927680"/>
            <a:ext cx="55872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7560" y="4927680"/>
                      <a:ext cx="5587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2895480" y="1752480"/>
            <a:ext cx="25909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1460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52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3" name=""/>
            <p:cNvGraphicFramePr/>
            <p:nvPr/>
          </p:nvGraphicFramePr>
          <p:xfrm>
            <a:off x="1962000" y="4952880"/>
            <a:ext cx="55908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62000" y="4952880"/>
                      <a:ext cx="5590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3048120" y="1981080"/>
            <a:ext cx="25146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1460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38080" y="4756320"/>
            <a:ext cx="2210040" cy="787320"/>
            <a:chOff x="838080" y="4756320"/>
            <a:chExt cx="2210040" cy="787320"/>
          </a:xfrm>
        </p:grpSpPr>
        <p:sp>
          <p:nvSpPr>
            <p:cNvPr id="459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0" name=""/>
            <p:cNvGraphicFramePr/>
            <p:nvPr/>
          </p:nvGraphicFramePr>
          <p:xfrm>
            <a:off x="2013120" y="4756320"/>
            <a:ext cx="4572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13120" y="4756320"/>
                      <a:ext cx="4572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3048120" y="1981080"/>
            <a:ext cx="25146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1460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66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1949400" y="4959360"/>
            <a:ext cx="5842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49400" y="4959360"/>
                      <a:ext cx="5842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3048120" y="1981080"/>
            <a:ext cx="2514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у ребр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63512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80880" y="1600200"/>
            <a:ext cx="8763120" cy="1982880"/>
            <a:chOff x="380880" y="1600200"/>
            <a:chExt cx="8763120" cy="1982880"/>
          </a:xfrm>
        </p:grpSpPr>
        <p:sp>
          <p:nvSpPr>
            <p:cNvPr id="72" name=""/>
            <p:cNvSpPr/>
            <p:nvPr/>
          </p:nvSpPr>
          <p:spPr>
            <a:xfrm>
              <a:off x="2819520" y="1673280"/>
              <a:ext cx="6324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равнобедренная трапец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E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80880" y="1600200"/>
              <a:ext cx="2340000" cy="198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380880" y="3505320"/>
            <a:ext cx="8610840" cy="2280600"/>
            <a:chOff x="380880" y="3505320"/>
            <a:chExt cx="8610840" cy="2280600"/>
          </a:xfrm>
        </p:grpSpPr>
        <p:sp>
          <p:nvSpPr>
            <p:cNvPr id="75" name=""/>
            <p:cNvSpPr/>
            <p:nvPr/>
          </p:nvSpPr>
          <p:spPr>
            <a:xfrm>
              <a:off x="380880" y="3657600"/>
              <a:ext cx="86108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основа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4343400" y="3505320"/>
            <a:ext cx="128268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505320"/>
                      <a:ext cx="12826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971800" y="4038480"/>
            <a:ext cx="685800" cy="78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1800" y="4038480"/>
                      <a:ext cx="6858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3657600" y="4648320"/>
            <a:ext cx="419040" cy="73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57600" y="464832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1460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73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4" name=""/>
            <p:cNvGraphicFramePr/>
            <p:nvPr/>
          </p:nvGraphicFramePr>
          <p:xfrm>
            <a:off x="2038320" y="4952880"/>
            <a:ext cx="4064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38320" y="4952880"/>
                      <a:ext cx="406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3048120" y="1981080"/>
            <a:ext cx="2514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2857320" cy="2187720"/>
          </a:xfrm>
          <a:prstGeom prst="rect">
            <a:avLst/>
          </a:prstGeom>
          <a:ln w="0">
            <a:noFill/>
          </a:ln>
        </p:spPr>
      </p:pic>
      <p:grpSp>
        <p:nvGrpSpPr>
          <p:cNvPr id="479" name=""/>
          <p:cNvGrpSpPr/>
          <p:nvPr/>
        </p:nvGrpSpPr>
        <p:grpSpPr>
          <a:xfrm>
            <a:off x="838080" y="4952880"/>
            <a:ext cx="2210040" cy="459720"/>
            <a:chOff x="838080" y="4952880"/>
            <a:chExt cx="2210040" cy="459720"/>
          </a:xfrm>
        </p:grpSpPr>
        <p:sp>
          <p:nvSpPr>
            <p:cNvPr id="480" name=""/>
            <p:cNvSpPr/>
            <p:nvPr/>
          </p:nvSpPr>
          <p:spPr>
            <a:xfrm>
              <a:off x="838080" y="4952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1" name=""/>
            <p:cNvGraphicFramePr/>
            <p:nvPr/>
          </p:nvGraphicFramePr>
          <p:xfrm>
            <a:off x="1905120" y="4952880"/>
            <a:ext cx="6728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4952880"/>
                      <a:ext cx="6728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819520" y="2209680"/>
            <a:ext cx="2960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2971800" cy="22748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047760" cy="228888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914400" y="4724280"/>
            <a:ext cx="2133720" cy="787680"/>
            <a:chOff x="914400" y="4724280"/>
            <a:chExt cx="2133720" cy="787680"/>
          </a:xfrm>
        </p:grpSpPr>
        <p:sp>
          <p:nvSpPr>
            <p:cNvPr id="488" name=""/>
            <p:cNvSpPr/>
            <p:nvPr/>
          </p:nvSpPr>
          <p:spPr>
            <a:xfrm>
              <a:off x="9144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9" name=""/>
            <p:cNvGraphicFramePr/>
            <p:nvPr/>
          </p:nvGraphicFramePr>
          <p:xfrm>
            <a:off x="1905120" y="4724280"/>
            <a:ext cx="723960" cy="78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724280"/>
                      <a:ext cx="7239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914400" y="4673520"/>
            <a:ext cx="2133720" cy="787320"/>
            <a:chOff x="914400" y="4673520"/>
            <a:chExt cx="2133720" cy="787320"/>
          </a:xfrm>
        </p:grpSpPr>
        <p:sp>
          <p:nvSpPr>
            <p:cNvPr id="495" name=""/>
            <p:cNvSpPr/>
            <p:nvPr/>
          </p:nvSpPr>
          <p:spPr>
            <a:xfrm>
              <a:off x="9144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6" name=""/>
            <p:cNvGraphicFramePr/>
            <p:nvPr/>
          </p:nvGraphicFramePr>
          <p:xfrm>
            <a:off x="1968480" y="4673520"/>
            <a:ext cx="58428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467352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9144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огран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ного на рисунке, все двугранные углы которого прямы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е чере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425680" cy="2384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914400" y="4876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438640" cy="2384280"/>
          </a:xfrm>
          <a:prstGeom prst="rect">
            <a:avLst/>
          </a:prstGeom>
          <a:ln w="0">
            <a:noFill/>
          </a:ln>
        </p:spPr>
      </p:pic>
      <p:grpSp>
        <p:nvGrpSpPr>
          <p:cNvPr id="508" name=""/>
          <p:cNvGrpSpPr/>
          <p:nvPr/>
        </p:nvGrpSpPr>
        <p:grpSpPr>
          <a:xfrm>
            <a:off x="914400" y="4876920"/>
            <a:ext cx="2133720" cy="459720"/>
            <a:chOff x="914400" y="4876920"/>
            <a:chExt cx="2133720" cy="459720"/>
          </a:xfrm>
        </p:grpSpPr>
        <p:sp>
          <p:nvSpPr>
            <p:cNvPr id="509" name=""/>
            <p:cNvSpPr/>
            <p:nvPr/>
          </p:nvSpPr>
          <p:spPr>
            <a:xfrm>
              <a:off x="9144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0" name=""/>
            <p:cNvGraphicFramePr/>
            <p:nvPr/>
          </p:nvGraphicFramePr>
          <p:xfrm>
            <a:off x="1917720" y="4927680"/>
            <a:ext cx="6984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17720" y="4927680"/>
                      <a:ext cx="698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3124080" y="2057400"/>
            <a:ext cx="24368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04920" y="304920"/>
            <a:ext cx="8610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многогранника, изображенного на рисунке, все двугранные углы которого прямые, проходящее чере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438640" cy="238428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914400" y="4749840"/>
            <a:ext cx="2133720" cy="736560"/>
            <a:chOff x="914400" y="4749840"/>
            <a:chExt cx="2133720" cy="736560"/>
          </a:xfrm>
        </p:grpSpPr>
        <p:sp>
          <p:nvSpPr>
            <p:cNvPr id="516" name=""/>
            <p:cNvSpPr/>
            <p:nvPr/>
          </p:nvSpPr>
          <p:spPr>
            <a:xfrm>
              <a:off x="9144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7" name=""/>
            <p:cNvGraphicFramePr/>
            <p:nvPr/>
          </p:nvGraphicFramePr>
          <p:xfrm>
            <a:off x="1994040" y="4749840"/>
            <a:ext cx="54612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94040" y="4749840"/>
                      <a:ext cx="5461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3124080" y="2057400"/>
            <a:ext cx="24368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14600" y="1611360"/>
            <a:ext cx="2416320" cy="20462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9480" y="4419720"/>
            <a:ext cx="2667240" cy="787320"/>
            <a:chOff x="609480" y="4419720"/>
            <a:chExt cx="2667240" cy="787320"/>
          </a:xfrm>
        </p:grpSpPr>
        <p:sp>
          <p:nvSpPr>
            <p:cNvPr id="86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1676520" y="4419720"/>
            <a:ext cx="583920" cy="78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19720"/>
                      <a:ext cx="5839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04920" y="1600200"/>
            <a:ext cx="8839080" cy="2025720"/>
            <a:chOff x="304920" y="1600200"/>
            <a:chExt cx="8839080" cy="2025720"/>
          </a:xfrm>
        </p:grpSpPr>
        <p:graphicFrame>
          <p:nvGraphicFramePr>
            <p:cNvPr id="92" name=""/>
            <p:cNvGraphicFramePr/>
            <p:nvPr/>
          </p:nvGraphicFramePr>
          <p:xfrm>
            <a:off x="3429000" y="2895480"/>
            <a:ext cx="368280" cy="60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2895480"/>
                      <a:ext cx="3682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" name=""/>
            <p:cNvGrpSpPr/>
            <p:nvPr/>
          </p:nvGrpSpPr>
          <p:grpSpPr>
            <a:xfrm>
              <a:off x="304920" y="1600200"/>
              <a:ext cx="8839080" cy="2025720"/>
              <a:chOff x="304920" y="1600200"/>
              <a:chExt cx="8839080" cy="2025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4920" y="1600200"/>
                <a:ext cx="8839080" cy="2025720"/>
                <a:chOff x="304920" y="1600200"/>
                <a:chExt cx="8839080" cy="202572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4920" y="1600200"/>
                  <a:ext cx="2382840" cy="202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3048120" y="1600200"/>
                  <a:ext cx="6095880" cy="174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3300"/>
                      </a:solidFill>
                      <a:latin typeface="Times New Roman"/>
                    </a:rPr>
                    <a:t>Решение.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Сечением является трапеция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EFG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Ее основания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G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и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F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равны соответственно        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и         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8" name=""/>
              <p:cNvGraphicFramePr/>
              <p:nvPr/>
            </p:nvGraphicFramePr>
            <p:xfrm>
              <a:off x="4419720" y="2895480"/>
              <a:ext cx="368280" cy="609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19720" y="2895480"/>
                        <a:ext cx="368280" cy="60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0" name=""/>
          <p:cNvGrpSpPr/>
          <p:nvPr/>
        </p:nvGrpSpPr>
        <p:grpSpPr>
          <a:xfrm>
            <a:off x="152280" y="1600200"/>
            <a:ext cx="8763120" cy="3895560"/>
            <a:chOff x="152280" y="1600200"/>
            <a:chExt cx="8763120" cy="3895560"/>
          </a:xfrm>
        </p:grpSpPr>
        <p:sp>
          <p:nvSpPr>
            <p:cNvPr id="101" name=""/>
            <p:cNvSpPr/>
            <p:nvPr/>
          </p:nvSpPr>
          <p:spPr>
            <a:xfrm>
              <a:off x="152280" y="3809880"/>
              <a:ext cx="876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я нахождения ее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смотрим равнобедренный 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E = AG =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 =      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сота, опущенная на сторо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 . Следовательно, высот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а         . Площадь сечения равна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5029200" y="4869000"/>
            <a:ext cx="571680" cy="618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4869000"/>
                      <a:ext cx="571680" cy="61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380880" y="1600200"/>
              <a:ext cx="2340000" cy="1982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5562720" y="4114800"/>
            <a:ext cx="368280" cy="609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562720" y="4114800"/>
                      <a:ext cx="368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6858000" y="4114800"/>
            <a:ext cx="368280" cy="609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58000" y="4114800"/>
                      <a:ext cx="368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4524480" y="4495680"/>
            <a:ext cx="465120" cy="6098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524480" y="4495680"/>
                      <a:ext cx="465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1019160" y="4876920"/>
            <a:ext cx="571680" cy="6188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019160" y="4876920"/>
                      <a:ext cx="571680" cy="61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верш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71144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57200" y="1219320"/>
            <a:ext cx="8686800" cy="2608200"/>
            <a:chOff x="457200" y="1219320"/>
            <a:chExt cx="8686800" cy="2608200"/>
          </a:xfrm>
        </p:grpSpPr>
        <p:sp>
          <p:nvSpPr>
            <p:cNvPr id="116" name=""/>
            <p:cNvSpPr/>
            <p:nvPr/>
          </p:nvSpPr>
          <p:spPr>
            <a:xfrm>
              <a:off x="3657600" y="1219320"/>
              <a:ext cx="5486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Сечением является пяти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457200" y="1676520"/>
              <a:ext cx="3227400" cy="215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733920" y="1905120"/>
            <a:ext cx="5410080" cy="2438280"/>
            <a:chOff x="3733920" y="1905120"/>
            <a:chExt cx="5410080" cy="2438280"/>
          </a:xfrm>
        </p:grpSpPr>
        <p:sp>
          <p:nvSpPr>
            <p:cNvPr id="119" name=""/>
            <p:cNvSpPr/>
            <p:nvPr/>
          </p:nvSpPr>
          <p:spPr>
            <a:xfrm>
              <a:off x="4952880" y="37339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лощадь сечения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733920" y="1905120"/>
              <a:ext cx="5410080" cy="2438280"/>
              <a:chOff x="3733920" y="1905120"/>
              <a:chExt cx="5410080" cy="243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3733920" y="1905120"/>
                <a:ext cx="54100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Его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лоскость образует с плоскостью гран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гол, косинус которого равен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лощадь пятиугольник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FC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авн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2" name=""/>
              <p:cNvGraphicFramePr/>
              <p:nvPr/>
            </p:nvGraphicFramePr>
            <p:xfrm>
              <a:off x="4648320" y="2590920"/>
              <a:ext cx="685800" cy="674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648320" y="2590920"/>
                        <a:ext cx="685800" cy="674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" name=""/>
              <p:cNvGraphicFramePr/>
              <p:nvPr/>
            </p:nvGraphicFramePr>
            <p:xfrm>
              <a:off x="4648320" y="3581280"/>
              <a:ext cx="328320" cy="762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648320" y="3581280"/>
                        <a:ext cx="328320" cy="762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" name=""/>
              <p:cNvGraphicFramePr/>
              <p:nvPr/>
            </p:nvGraphicFramePr>
            <p:xfrm>
              <a:off x="8153280" y="3505320"/>
              <a:ext cx="825480" cy="787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153280" y="3505320"/>
                        <a:ext cx="82548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8" name=""/>
          <p:cNvGrpSpPr/>
          <p:nvPr/>
        </p:nvGrpSpPr>
        <p:grpSpPr>
          <a:xfrm>
            <a:off x="152280" y="4267080"/>
            <a:ext cx="8839440" cy="2566800"/>
            <a:chOff x="152280" y="4267080"/>
            <a:chExt cx="8839440" cy="2566800"/>
          </a:xfrm>
        </p:grpSpPr>
        <p:sp>
          <p:nvSpPr>
            <p:cNvPr id="129" name=""/>
            <p:cNvSpPr/>
            <p:nvPr/>
          </p:nvSpPr>
          <p:spPr>
            <a:xfrm>
              <a:off x="152280" y="4267080"/>
              <a:ext cx="8839440" cy="25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ожно было бы найти площадь пятиугольника как разность площади треугольни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суммы площадей треугольников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E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Q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вна       . Сторон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вна         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лощадь треугольни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вна          . Площади треугольников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E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QG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9 раз меньше площади треугольни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ледовательно, площадь пятиугольника равн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4419720" y="4876920"/>
            <a:ext cx="48096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9720" y="4876920"/>
                      <a:ext cx="480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010280" y="4876920"/>
            <a:ext cx="4809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0280" y="4876920"/>
                      <a:ext cx="480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191120" y="5410080"/>
            <a:ext cx="561960" cy="62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91120" y="5410080"/>
                      <a:ext cx="5619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334120" y="6172200"/>
            <a:ext cx="64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34120" y="6172200"/>
                      <a:ext cx="64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304920"/>
            <a:ext cx="8610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сечение единичного куб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е через середины ребе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площад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65360" y="1635120"/>
            <a:ext cx="2340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609480" y="4419720"/>
            <a:ext cx="2667240" cy="787320"/>
            <a:chOff x="609480" y="4419720"/>
            <a:chExt cx="2667240" cy="787320"/>
          </a:xfrm>
        </p:grpSpPr>
        <p:sp>
          <p:nvSpPr>
            <p:cNvPr id="141" name=""/>
            <p:cNvSpPr/>
            <p:nvPr/>
          </p:nvSpPr>
          <p:spPr>
            <a:xfrm>
              <a:off x="609480" y="45720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1606680" y="4419720"/>
            <a:ext cx="72360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6680" y="4419720"/>
                      <a:ext cx="723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514600" y="1600200"/>
            <a:ext cx="2400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2-03-04T07:19:00Z</dcterms:modified>
  <cp:revision>28</cp:revision>
  <dc:subject/>
  <dc:title>Презентация PowerPoint</dc:title>
</cp:coreProperties>
</file>